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7.gif" ContentType="image/gif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4F80-E129-437A-A0AE-660F1D929EB8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0" i="1" lang="ru-RU" sz="9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F138-7C99-441C-A8F8-555E50D3EC3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Иноска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Ясность оценки геро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Антропоморф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ыстр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Ди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легчённая ком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EE37-51CE-4F26-A705-3AF992B7CB6C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Герои 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Традиционные т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Лиса – хитр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Волк – глуп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Заяц - трусли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CD5E-A389-4F07-88CF-568B85CD1DC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Лиса и жураве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рона и ра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Кошкин д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Семеро козля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лк и л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3790-58CD-4126-8C8A-71BE9B01F47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E74F-88C7-4EC7-A967-FAD920FD933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анекд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окуч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заг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и-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2146-F5FE-4B77-8FC2-1E2350F70A3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Отсутствие фант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Реальные конфли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очное раз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мысловой акцент-развя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Жестокий юм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695C-6283-4461-856A-B686E0195B4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хитё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удач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урак в глазах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благоро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0514-7767-476A-B1BD-4F054116375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Иванушка-дурач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Солдатская сказ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ша из топ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Реп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к мужик гуся дели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4699-5082-4BBF-A233-2FEBC44F0E6A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802F-90AD-4272-AA82-705C7ED7FD2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са –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ушка –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стьянин – б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а - зая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5746-3A3C-4B3F-8608-87C45DD2CF5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ка – древнейший народный жанр литературы фантастического характера, имеющий целью нравоучение или разв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EA83-5601-42DB-A403-CE7CECA7585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казка – несколько слов, которые «вводят» в сказочную атм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н – помогает начать сказку, называет героев и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овка – завершает пов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206B-636A-4090-8B1E-10A921344C4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реувеличение действий и поступков геро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ос не по дням, а по часа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 возник вдруг мост кольцом, да дворец с крыльц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6F58-24C3-4CC7-833D-67FA5244C26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ине мор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брый молодец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асна деви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Ясный соко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D7F9-AEE8-493C-A4BF-E168A7EAE3E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F7A8-9EFC-4196-A4C3-7D91E9BB45A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езентация подготовл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мендеевой Н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ОУ СОШ №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.Улья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7E1E-54C6-4A29-993B-623C6CE963D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о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еобычность обстан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Особая манера пов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ариативность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Автор колле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6754-9DFF-44C1-A78D-8140E16AFD0A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002E-9361-45C8-81E4-EBE9DD64E37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3579-EC3E-4505-8E81-9BCE1B6EAB0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Наличие ч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Столкновение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Опис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AFA6-9E07-4A05-9BBA-18E7C1D6DDF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Деление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Борьба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Вымышлен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Обыч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18C8-96F4-4445-9A42-BE7B164463F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Василиса Прекрас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Гуси-лебед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Сестрица Алёнушка и братец Иван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Белая уто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По щучьему веле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3DF5-C36D-4B00-8F97-AC0E8D97E5B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ки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1CE3-A86B-47FC-B3D0-D5664F84345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39D-FF0B-43EF-BAE0-A5359A73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2F1-3BB3-4AFE-9138-A962BA75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16D-3C59-455F-95A5-A226465C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DC9-01BB-4F15-BA7B-8AB0F369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DA87-313D-4D88-B476-2FB91BC9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EDF8-B99D-41A5-BC00-0BD9C8D3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B7AA-00C9-4755-A0D9-51D07567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4287-CDC6-435F-9460-BC703D9D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3B95-2E11-42B1-A46B-12BFAF3D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184C-1F9E-4473-A39D-685D1597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A194-9CD2-425F-BFB3-9E982EBD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CAB-6555-4D4A-BE6E-A709D097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19B7-D62A-48F4-9F98-422CB4C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C35D-1C8D-4830-8A25-A17733C9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F431-CB85-4805-991A-E05F7E54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D7F8-E38C-4E80-A46F-4803A50E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F20D-72EC-449E-B5C2-2FB84960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7C07-7AEB-4BFD-B8AA-44908CA4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4F70E-D4B3-4DAF-B0A8-3EBE0D16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5D10-2740-4A53-B5F2-37A9D168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06094-D016-4A8D-8F7C-1028AEFA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08977-E28C-4D68-B9A5-FFD22F15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A33-FF00-4A3C-8BE2-5CF777AF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6B92-E7B5-42BC-990C-6CCE8A66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7CAD-0723-498C-AB41-1034C71C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28B9-6CAB-4F8E-9233-9AF1F2C3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430D-57BA-4FE7-BF79-6D4B023C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6F6C-80F8-4A48-88E1-0F43117E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2ACB-A065-47AA-8BC4-80C50FE7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2A73-63B7-43F1-A848-935B9C31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D7A8C-CD61-419B-BDC6-FF70A1A2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F6D3-BAD6-4A22-BCF4-03D20CB5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C9899-C63C-491C-9D05-36F08AD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0D3-964B-4312-B2C1-DA57032C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09483-B3E9-472D-9863-2B6B660A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88C6-A3D4-45CA-85E5-35BB54E7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297D-8412-4E2A-AC9A-749AF53C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5DC98-9D75-4A43-88A6-C52E5CEF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B475B-1475-4D9D-834B-E19A9892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29EF0-4039-4FB3-86D3-D20C5E1E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D23B-72CC-4980-86E6-63FA503C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6BF74-170B-4D9E-9087-980DB8F9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9762-B981-4218-A4E8-E5F7409D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3F6-3E44-4A7A-8CA0-FE9F1936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07B-30A6-4747-9BE7-AEAF19E1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178-2B97-4280-A665-FFB432A3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41A-C010-40F9-8A7D-2EDBCB00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8D7-F93D-476D-BC0E-7B682717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0CAA-3D3D-4FEC-95AD-B2A7C1DC9AB2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1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D837-2980-4BF4-96BB-10F3CDA79F1C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E65C-81E3-43D4-A10E-3C35A75751F2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31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CBE7-187A-4CD6-AE6C-F99E1DB2BB74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6C53-431A-408E-9151-C6E24DD71ACD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1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AE1B-A136-4AF0-A4E5-3E7D2732316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234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35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236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245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246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55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64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73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82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92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301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310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319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320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329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338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347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5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56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57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66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75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84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93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94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403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412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421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9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430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442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4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5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6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448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449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52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55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58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61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64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67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70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72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447E-A406-411D-8D4F-2494EB7A1D74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31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1697-BF0C-4F59-8D11-D267058C2E3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17.jpeg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12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image" Target="../media/image15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95280" y="6858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2" name="Picture 4" descr="D:\графика\фотографии\Иллюстрация к сказке 3.jpg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681440"/>
          </a:xfrm>
          <a:prstGeom prst="rect">
            <a:avLst/>
          </a:prstGeom>
          <a:ln w="0">
            <a:noFill/>
          </a:ln>
        </p:spPr>
      </p:pic>
      <p:sp>
        <p:nvSpPr>
          <p:cNvPr id="5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1066680" y="9144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914400" y="2895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носказательность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сность оценки герое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нтропоморфизм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Быстродейств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иалог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легчённая композици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>
            <a:off x="6488280" y="3460680"/>
            <a:ext cx="1774800" cy="1690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3353" h="3195">
                <a:moveTo>
                  <a:pt x="732" y="411"/>
                </a:moveTo>
                <a:lnTo>
                  <a:pt x="693" y="271"/>
                </a:lnTo>
                <a:lnTo>
                  <a:pt x="768" y="162"/>
                </a:lnTo>
                <a:lnTo>
                  <a:pt x="946" y="110"/>
                </a:lnTo>
                <a:lnTo>
                  <a:pt x="1228" y="72"/>
                </a:lnTo>
                <a:lnTo>
                  <a:pt x="1436" y="0"/>
                </a:lnTo>
                <a:lnTo>
                  <a:pt x="1544" y="8"/>
                </a:lnTo>
                <a:lnTo>
                  <a:pt x="1620" y="72"/>
                </a:lnTo>
                <a:lnTo>
                  <a:pt x="1632" y="206"/>
                </a:lnTo>
                <a:lnTo>
                  <a:pt x="1992" y="322"/>
                </a:lnTo>
                <a:lnTo>
                  <a:pt x="2476" y="521"/>
                </a:lnTo>
                <a:lnTo>
                  <a:pt x="2728" y="669"/>
                </a:lnTo>
                <a:lnTo>
                  <a:pt x="2798" y="728"/>
                </a:lnTo>
                <a:lnTo>
                  <a:pt x="2892" y="592"/>
                </a:lnTo>
                <a:lnTo>
                  <a:pt x="2994" y="547"/>
                </a:lnTo>
                <a:lnTo>
                  <a:pt x="3112" y="547"/>
                </a:lnTo>
                <a:lnTo>
                  <a:pt x="3245" y="650"/>
                </a:lnTo>
                <a:lnTo>
                  <a:pt x="3340" y="1016"/>
                </a:lnTo>
                <a:lnTo>
                  <a:pt x="3353" y="1337"/>
                </a:lnTo>
                <a:lnTo>
                  <a:pt x="3345" y="1710"/>
                </a:lnTo>
                <a:lnTo>
                  <a:pt x="3258" y="1915"/>
                </a:lnTo>
                <a:lnTo>
                  <a:pt x="3175" y="2013"/>
                </a:lnTo>
                <a:lnTo>
                  <a:pt x="3068" y="2064"/>
                </a:lnTo>
                <a:lnTo>
                  <a:pt x="3000" y="2262"/>
                </a:lnTo>
                <a:lnTo>
                  <a:pt x="3049" y="2450"/>
                </a:lnTo>
                <a:lnTo>
                  <a:pt x="3019" y="2552"/>
                </a:lnTo>
                <a:lnTo>
                  <a:pt x="2949" y="2603"/>
                </a:lnTo>
                <a:lnTo>
                  <a:pt x="2848" y="2598"/>
                </a:lnTo>
                <a:lnTo>
                  <a:pt x="2772" y="2571"/>
                </a:lnTo>
                <a:lnTo>
                  <a:pt x="1797" y="2739"/>
                </a:lnTo>
                <a:lnTo>
                  <a:pt x="1305" y="3073"/>
                </a:lnTo>
                <a:lnTo>
                  <a:pt x="1279" y="3157"/>
                </a:lnTo>
                <a:lnTo>
                  <a:pt x="1204" y="3195"/>
                </a:lnTo>
                <a:lnTo>
                  <a:pt x="1110" y="3182"/>
                </a:lnTo>
                <a:lnTo>
                  <a:pt x="1072" y="3125"/>
                </a:lnTo>
                <a:lnTo>
                  <a:pt x="1083" y="3041"/>
                </a:lnTo>
                <a:lnTo>
                  <a:pt x="1140" y="2977"/>
                </a:lnTo>
                <a:lnTo>
                  <a:pt x="1210" y="2963"/>
                </a:lnTo>
                <a:lnTo>
                  <a:pt x="1260" y="2990"/>
                </a:lnTo>
                <a:lnTo>
                  <a:pt x="1525" y="2707"/>
                </a:lnTo>
                <a:lnTo>
                  <a:pt x="1121" y="2643"/>
                </a:lnTo>
                <a:lnTo>
                  <a:pt x="1059" y="2694"/>
                </a:lnTo>
                <a:lnTo>
                  <a:pt x="983" y="2707"/>
                </a:lnTo>
                <a:lnTo>
                  <a:pt x="926" y="2649"/>
                </a:lnTo>
                <a:lnTo>
                  <a:pt x="926" y="2560"/>
                </a:lnTo>
                <a:lnTo>
                  <a:pt x="951" y="2494"/>
                </a:lnTo>
                <a:lnTo>
                  <a:pt x="1028" y="2462"/>
                </a:lnTo>
                <a:lnTo>
                  <a:pt x="1097" y="2494"/>
                </a:lnTo>
                <a:lnTo>
                  <a:pt x="1146" y="2552"/>
                </a:lnTo>
                <a:lnTo>
                  <a:pt x="1480" y="2560"/>
                </a:lnTo>
                <a:lnTo>
                  <a:pt x="1286" y="2360"/>
                </a:lnTo>
                <a:lnTo>
                  <a:pt x="1204" y="2379"/>
                </a:lnTo>
                <a:lnTo>
                  <a:pt x="1129" y="2315"/>
                </a:lnTo>
                <a:lnTo>
                  <a:pt x="1121" y="2232"/>
                </a:lnTo>
                <a:lnTo>
                  <a:pt x="1178" y="2173"/>
                </a:lnTo>
                <a:lnTo>
                  <a:pt x="1273" y="2153"/>
                </a:lnTo>
                <a:lnTo>
                  <a:pt x="1330" y="2200"/>
                </a:lnTo>
                <a:lnTo>
                  <a:pt x="1342" y="2289"/>
                </a:lnTo>
                <a:lnTo>
                  <a:pt x="1789" y="2481"/>
                </a:lnTo>
                <a:lnTo>
                  <a:pt x="1897" y="2437"/>
                </a:lnTo>
                <a:lnTo>
                  <a:pt x="1802" y="2262"/>
                </a:lnTo>
                <a:lnTo>
                  <a:pt x="1607" y="2225"/>
                </a:lnTo>
                <a:lnTo>
                  <a:pt x="1519" y="2147"/>
                </a:lnTo>
                <a:lnTo>
                  <a:pt x="1556" y="1993"/>
                </a:lnTo>
                <a:lnTo>
                  <a:pt x="1664" y="1781"/>
                </a:lnTo>
                <a:lnTo>
                  <a:pt x="1569" y="1710"/>
                </a:lnTo>
                <a:lnTo>
                  <a:pt x="1417" y="1813"/>
                </a:lnTo>
                <a:lnTo>
                  <a:pt x="1242" y="1872"/>
                </a:lnTo>
                <a:lnTo>
                  <a:pt x="1059" y="1872"/>
                </a:lnTo>
                <a:lnTo>
                  <a:pt x="857" y="1743"/>
                </a:lnTo>
                <a:lnTo>
                  <a:pt x="643" y="1497"/>
                </a:lnTo>
                <a:lnTo>
                  <a:pt x="176" y="1363"/>
                </a:lnTo>
                <a:lnTo>
                  <a:pt x="119" y="1395"/>
                </a:lnTo>
                <a:lnTo>
                  <a:pt x="64" y="1382"/>
                </a:lnTo>
                <a:lnTo>
                  <a:pt x="19" y="1337"/>
                </a:lnTo>
                <a:lnTo>
                  <a:pt x="0" y="1280"/>
                </a:lnTo>
                <a:lnTo>
                  <a:pt x="38" y="1222"/>
                </a:lnTo>
                <a:lnTo>
                  <a:pt x="101" y="1197"/>
                </a:lnTo>
                <a:lnTo>
                  <a:pt x="171" y="1216"/>
                </a:lnTo>
                <a:lnTo>
                  <a:pt x="208" y="1280"/>
                </a:lnTo>
                <a:lnTo>
                  <a:pt x="537" y="1325"/>
                </a:lnTo>
                <a:lnTo>
                  <a:pt x="467" y="1067"/>
                </a:lnTo>
                <a:lnTo>
                  <a:pt x="378" y="978"/>
                </a:lnTo>
                <a:lnTo>
                  <a:pt x="378" y="894"/>
                </a:lnTo>
                <a:lnTo>
                  <a:pt x="440" y="862"/>
                </a:lnTo>
                <a:lnTo>
                  <a:pt x="529" y="862"/>
                </a:lnTo>
                <a:lnTo>
                  <a:pt x="567" y="926"/>
                </a:lnTo>
                <a:lnTo>
                  <a:pt x="548" y="997"/>
                </a:lnTo>
                <a:lnTo>
                  <a:pt x="681" y="1260"/>
                </a:lnTo>
                <a:lnTo>
                  <a:pt x="757" y="1080"/>
                </a:lnTo>
                <a:lnTo>
                  <a:pt x="732" y="1029"/>
                </a:lnTo>
                <a:lnTo>
                  <a:pt x="732" y="984"/>
                </a:lnTo>
                <a:lnTo>
                  <a:pt x="768" y="939"/>
                </a:lnTo>
                <a:lnTo>
                  <a:pt x="819" y="913"/>
                </a:lnTo>
                <a:lnTo>
                  <a:pt x="882" y="939"/>
                </a:lnTo>
                <a:lnTo>
                  <a:pt x="926" y="990"/>
                </a:lnTo>
                <a:lnTo>
                  <a:pt x="907" y="1061"/>
                </a:lnTo>
                <a:lnTo>
                  <a:pt x="869" y="1099"/>
                </a:lnTo>
                <a:lnTo>
                  <a:pt x="833" y="1107"/>
                </a:lnTo>
                <a:lnTo>
                  <a:pt x="801" y="1363"/>
                </a:lnTo>
                <a:lnTo>
                  <a:pt x="1172" y="1537"/>
                </a:lnTo>
                <a:lnTo>
                  <a:pt x="1355" y="1325"/>
                </a:lnTo>
                <a:lnTo>
                  <a:pt x="814" y="739"/>
                </a:lnTo>
                <a:lnTo>
                  <a:pt x="687" y="560"/>
                </a:lnTo>
                <a:lnTo>
                  <a:pt x="687" y="483"/>
                </a:lnTo>
                <a:lnTo>
                  <a:pt x="73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>
            <a:off x="7236000" y="3568680"/>
            <a:ext cx="936360" cy="920880"/>
          </a:xfrm>
          <a:custGeom>
            <a:avLst/>
            <a:gdLst>
              <a:gd name="textAreaLeft" fmla="*/ 0 w 936360"/>
              <a:gd name="textAreaRight" fmla="*/ 936720 w 9363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771" h="1739">
                <a:moveTo>
                  <a:pt x="205" y="0"/>
                </a:moveTo>
                <a:lnTo>
                  <a:pt x="237" y="9"/>
                </a:lnTo>
                <a:lnTo>
                  <a:pt x="275" y="20"/>
                </a:lnTo>
                <a:lnTo>
                  <a:pt x="325" y="36"/>
                </a:lnTo>
                <a:lnTo>
                  <a:pt x="385" y="54"/>
                </a:lnTo>
                <a:lnTo>
                  <a:pt x="453" y="76"/>
                </a:lnTo>
                <a:lnTo>
                  <a:pt x="490" y="87"/>
                </a:lnTo>
                <a:lnTo>
                  <a:pt x="528" y="100"/>
                </a:lnTo>
                <a:lnTo>
                  <a:pt x="568" y="114"/>
                </a:lnTo>
                <a:lnTo>
                  <a:pt x="608" y="128"/>
                </a:lnTo>
                <a:lnTo>
                  <a:pt x="650" y="143"/>
                </a:lnTo>
                <a:lnTo>
                  <a:pt x="692" y="157"/>
                </a:lnTo>
                <a:lnTo>
                  <a:pt x="736" y="172"/>
                </a:lnTo>
                <a:lnTo>
                  <a:pt x="778" y="188"/>
                </a:lnTo>
                <a:lnTo>
                  <a:pt x="822" y="204"/>
                </a:lnTo>
                <a:lnTo>
                  <a:pt x="864" y="220"/>
                </a:lnTo>
                <a:lnTo>
                  <a:pt x="907" y="236"/>
                </a:lnTo>
                <a:lnTo>
                  <a:pt x="948" y="252"/>
                </a:lnTo>
                <a:lnTo>
                  <a:pt x="988" y="269"/>
                </a:lnTo>
                <a:lnTo>
                  <a:pt x="1028" y="287"/>
                </a:lnTo>
                <a:lnTo>
                  <a:pt x="1067" y="303"/>
                </a:lnTo>
                <a:lnTo>
                  <a:pt x="1104" y="319"/>
                </a:lnTo>
                <a:lnTo>
                  <a:pt x="1139" y="337"/>
                </a:lnTo>
                <a:lnTo>
                  <a:pt x="1171" y="354"/>
                </a:lnTo>
                <a:lnTo>
                  <a:pt x="1203" y="370"/>
                </a:lnTo>
                <a:lnTo>
                  <a:pt x="1230" y="386"/>
                </a:lnTo>
                <a:lnTo>
                  <a:pt x="1257" y="402"/>
                </a:lnTo>
                <a:lnTo>
                  <a:pt x="1283" y="418"/>
                </a:lnTo>
                <a:lnTo>
                  <a:pt x="1306" y="436"/>
                </a:lnTo>
                <a:lnTo>
                  <a:pt x="1330" y="453"/>
                </a:lnTo>
                <a:lnTo>
                  <a:pt x="1351" y="469"/>
                </a:lnTo>
                <a:lnTo>
                  <a:pt x="1373" y="487"/>
                </a:lnTo>
                <a:lnTo>
                  <a:pt x="1392" y="503"/>
                </a:lnTo>
                <a:lnTo>
                  <a:pt x="1411" y="520"/>
                </a:lnTo>
                <a:lnTo>
                  <a:pt x="1429" y="539"/>
                </a:lnTo>
                <a:lnTo>
                  <a:pt x="1446" y="557"/>
                </a:lnTo>
                <a:lnTo>
                  <a:pt x="1462" y="574"/>
                </a:lnTo>
                <a:lnTo>
                  <a:pt x="1478" y="592"/>
                </a:lnTo>
                <a:lnTo>
                  <a:pt x="1493" y="609"/>
                </a:lnTo>
                <a:lnTo>
                  <a:pt x="1508" y="627"/>
                </a:lnTo>
                <a:lnTo>
                  <a:pt x="1519" y="644"/>
                </a:lnTo>
                <a:lnTo>
                  <a:pt x="1532" y="662"/>
                </a:lnTo>
                <a:lnTo>
                  <a:pt x="1543" y="679"/>
                </a:lnTo>
                <a:lnTo>
                  <a:pt x="1556" y="697"/>
                </a:lnTo>
                <a:lnTo>
                  <a:pt x="1566" y="716"/>
                </a:lnTo>
                <a:lnTo>
                  <a:pt x="1576" y="733"/>
                </a:lnTo>
                <a:lnTo>
                  <a:pt x="1585" y="750"/>
                </a:lnTo>
                <a:lnTo>
                  <a:pt x="1595" y="767"/>
                </a:lnTo>
                <a:lnTo>
                  <a:pt x="1604" y="785"/>
                </a:lnTo>
                <a:lnTo>
                  <a:pt x="1613" y="801"/>
                </a:lnTo>
                <a:lnTo>
                  <a:pt x="1620" y="819"/>
                </a:lnTo>
                <a:lnTo>
                  <a:pt x="1629" y="836"/>
                </a:lnTo>
                <a:lnTo>
                  <a:pt x="1636" y="853"/>
                </a:lnTo>
                <a:lnTo>
                  <a:pt x="1643" y="869"/>
                </a:lnTo>
                <a:lnTo>
                  <a:pt x="1650" y="886"/>
                </a:lnTo>
                <a:lnTo>
                  <a:pt x="1658" y="902"/>
                </a:lnTo>
                <a:lnTo>
                  <a:pt x="1665" y="918"/>
                </a:lnTo>
                <a:lnTo>
                  <a:pt x="1674" y="934"/>
                </a:lnTo>
                <a:lnTo>
                  <a:pt x="1699" y="1008"/>
                </a:lnTo>
                <a:lnTo>
                  <a:pt x="1710" y="1054"/>
                </a:lnTo>
                <a:lnTo>
                  <a:pt x="1720" y="1102"/>
                </a:lnTo>
                <a:lnTo>
                  <a:pt x="1736" y="1205"/>
                </a:lnTo>
                <a:lnTo>
                  <a:pt x="1750" y="1310"/>
                </a:lnTo>
                <a:lnTo>
                  <a:pt x="1771" y="1561"/>
                </a:lnTo>
                <a:lnTo>
                  <a:pt x="1608" y="1739"/>
                </a:lnTo>
                <a:lnTo>
                  <a:pt x="1604" y="1731"/>
                </a:lnTo>
                <a:lnTo>
                  <a:pt x="1592" y="1707"/>
                </a:lnTo>
                <a:lnTo>
                  <a:pt x="1583" y="1689"/>
                </a:lnTo>
                <a:lnTo>
                  <a:pt x="1573" y="1670"/>
                </a:lnTo>
                <a:lnTo>
                  <a:pt x="1561" y="1647"/>
                </a:lnTo>
                <a:lnTo>
                  <a:pt x="1556" y="1634"/>
                </a:lnTo>
                <a:lnTo>
                  <a:pt x="1548" y="1621"/>
                </a:lnTo>
                <a:lnTo>
                  <a:pt x="1541" y="1608"/>
                </a:lnTo>
                <a:lnTo>
                  <a:pt x="1534" y="1593"/>
                </a:lnTo>
                <a:lnTo>
                  <a:pt x="1525" y="1578"/>
                </a:lnTo>
                <a:lnTo>
                  <a:pt x="1516" y="1562"/>
                </a:lnTo>
                <a:lnTo>
                  <a:pt x="1509" y="1546"/>
                </a:lnTo>
                <a:lnTo>
                  <a:pt x="1499" y="1530"/>
                </a:lnTo>
                <a:lnTo>
                  <a:pt x="1490" y="1513"/>
                </a:lnTo>
                <a:lnTo>
                  <a:pt x="1481" y="1497"/>
                </a:lnTo>
                <a:lnTo>
                  <a:pt x="1471" y="1479"/>
                </a:lnTo>
                <a:lnTo>
                  <a:pt x="1461" y="1460"/>
                </a:lnTo>
                <a:lnTo>
                  <a:pt x="1449" y="1443"/>
                </a:lnTo>
                <a:lnTo>
                  <a:pt x="1440" y="1424"/>
                </a:lnTo>
                <a:lnTo>
                  <a:pt x="1429" y="1406"/>
                </a:lnTo>
                <a:lnTo>
                  <a:pt x="1417" y="1387"/>
                </a:lnTo>
                <a:lnTo>
                  <a:pt x="1405" y="1367"/>
                </a:lnTo>
                <a:lnTo>
                  <a:pt x="1394" y="1348"/>
                </a:lnTo>
                <a:lnTo>
                  <a:pt x="1382" y="1329"/>
                </a:lnTo>
                <a:lnTo>
                  <a:pt x="1370" y="1309"/>
                </a:lnTo>
                <a:lnTo>
                  <a:pt x="1357" y="1290"/>
                </a:lnTo>
                <a:lnTo>
                  <a:pt x="1346" y="1269"/>
                </a:lnTo>
                <a:lnTo>
                  <a:pt x="1333" y="1250"/>
                </a:lnTo>
                <a:lnTo>
                  <a:pt x="1321" y="1230"/>
                </a:lnTo>
                <a:lnTo>
                  <a:pt x="1308" y="1211"/>
                </a:lnTo>
                <a:lnTo>
                  <a:pt x="1295" y="1191"/>
                </a:lnTo>
                <a:lnTo>
                  <a:pt x="1281" y="1172"/>
                </a:lnTo>
                <a:lnTo>
                  <a:pt x="1268" y="1151"/>
                </a:lnTo>
                <a:lnTo>
                  <a:pt x="1255" y="1132"/>
                </a:lnTo>
                <a:lnTo>
                  <a:pt x="1241" y="1113"/>
                </a:lnTo>
                <a:lnTo>
                  <a:pt x="1228" y="1096"/>
                </a:lnTo>
                <a:lnTo>
                  <a:pt x="1213" y="1076"/>
                </a:lnTo>
                <a:lnTo>
                  <a:pt x="1200" y="1057"/>
                </a:lnTo>
                <a:lnTo>
                  <a:pt x="1185" y="1041"/>
                </a:lnTo>
                <a:lnTo>
                  <a:pt x="1171" y="1023"/>
                </a:lnTo>
                <a:lnTo>
                  <a:pt x="1158" y="1006"/>
                </a:lnTo>
                <a:lnTo>
                  <a:pt x="1143" y="988"/>
                </a:lnTo>
                <a:lnTo>
                  <a:pt x="1130" y="972"/>
                </a:lnTo>
                <a:lnTo>
                  <a:pt x="1115" y="956"/>
                </a:lnTo>
                <a:lnTo>
                  <a:pt x="1099" y="940"/>
                </a:lnTo>
                <a:lnTo>
                  <a:pt x="1071" y="911"/>
                </a:lnTo>
                <a:lnTo>
                  <a:pt x="1058" y="896"/>
                </a:lnTo>
                <a:lnTo>
                  <a:pt x="1044" y="883"/>
                </a:lnTo>
                <a:lnTo>
                  <a:pt x="1029" y="871"/>
                </a:lnTo>
                <a:lnTo>
                  <a:pt x="1016" y="858"/>
                </a:lnTo>
                <a:lnTo>
                  <a:pt x="987" y="836"/>
                </a:lnTo>
                <a:lnTo>
                  <a:pt x="958" y="818"/>
                </a:lnTo>
                <a:lnTo>
                  <a:pt x="930" y="800"/>
                </a:lnTo>
                <a:lnTo>
                  <a:pt x="899" y="783"/>
                </a:lnTo>
                <a:lnTo>
                  <a:pt x="866" y="765"/>
                </a:lnTo>
                <a:lnTo>
                  <a:pt x="832" y="748"/>
                </a:lnTo>
                <a:lnTo>
                  <a:pt x="797" y="730"/>
                </a:lnTo>
                <a:lnTo>
                  <a:pt x="761" y="713"/>
                </a:lnTo>
                <a:lnTo>
                  <a:pt x="723" y="695"/>
                </a:lnTo>
                <a:lnTo>
                  <a:pt x="685" y="679"/>
                </a:lnTo>
                <a:lnTo>
                  <a:pt x="644" y="662"/>
                </a:lnTo>
                <a:lnTo>
                  <a:pt x="605" y="644"/>
                </a:lnTo>
                <a:lnTo>
                  <a:pt x="565" y="628"/>
                </a:lnTo>
                <a:lnTo>
                  <a:pt x="526" y="612"/>
                </a:lnTo>
                <a:lnTo>
                  <a:pt x="485" y="596"/>
                </a:lnTo>
                <a:lnTo>
                  <a:pt x="446" y="581"/>
                </a:lnTo>
                <a:lnTo>
                  <a:pt x="406" y="567"/>
                </a:lnTo>
                <a:lnTo>
                  <a:pt x="367" y="551"/>
                </a:lnTo>
                <a:lnTo>
                  <a:pt x="331" y="539"/>
                </a:lnTo>
                <a:lnTo>
                  <a:pt x="294" y="525"/>
                </a:lnTo>
                <a:lnTo>
                  <a:pt x="259" y="513"/>
                </a:lnTo>
                <a:lnTo>
                  <a:pt x="224" y="500"/>
                </a:lnTo>
                <a:lnTo>
                  <a:pt x="161" y="479"/>
                </a:lnTo>
                <a:lnTo>
                  <a:pt x="107" y="460"/>
                </a:lnTo>
                <a:lnTo>
                  <a:pt x="62" y="446"/>
                </a:lnTo>
                <a:lnTo>
                  <a:pt x="29" y="434"/>
                </a:lnTo>
                <a:lnTo>
                  <a:pt x="0" y="424"/>
                </a:lnTo>
                <a:lnTo>
                  <a:pt x="17" y="376"/>
                </a:lnTo>
                <a:lnTo>
                  <a:pt x="112" y="396"/>
                </a:lnTo>
                <a:lnTo>
                  <a:pt x="160" y="408"/>
                </a:lnTo>
                <a:lnTo>
                  <a:pt x="217" y="423"/>
                </a:lnTo>
                <a:lnTo>
                  <a:pt x="281" y="439"/>
                </a:lnTo>
                <a:lnTo>
                  <a:pt x="350" y="458"/>
                </a:lnTo>
                <a:lnTo>
                  <a:pt x="424" y="479"/>
                </a:lnTo>
                <a:lnTo>
                  <a:pt x="503" y="503"/>
                </a:lnTo>
                <a:lnTo>
                  <a:pt x="542" y="517"/>
                </a:lnTo>
                <a:lnTo>
                  <a:pt x="583" y="530"/>
                </a:lnTo>
                <a:lnTo>
                  <a:pt x="624" y="545"/>
                </a:lnTo>
                <a:lnTo>
                  <a:pt x="666" y="560"/>
                </a:lnTo>
                <a:lnTo>
                  <a:pt x="707" y="576"/>
                </a:lnTo>
                <a:lnTo>
                  <a:pt x="748" y="592"/>
                </a:lnTo>
                <a:lnTo>
                  <a:pt x="790" y="609"/>
                </a:lnTo>
                <a:lnTo>
                  <a:pt x="831" y="627"/>
                </a:lnTo>
                <a:lnTo>
                  <a:pt x="872" y="643"/>
                </a:lnTo>
                <a:lnTo>
                  <a:pt x="913" y="663"/>
                </a:lnTo>
                <a:lnTo>
                  <a:pt x="952" y="682"/>
                </a:lnTo>
                <a:lnTo>
                  <a:pt x="991" y="702"/>
                </a:lnTo>
                <a:lnTo>
                  <a:pt x="1029" y="723"/>
                </a:lnTo>
                <a:lnTo>
                  <a:pt x="1066" y="748"/>
                </a:lnTo>
                <a:lnTo>
                  <a:pt x="1085" y="761"/>
                </a:lnTo>
                <a:lnTo>
                  <a:pt x="1102" y="774"/>
                </a:lnTo>
                <a:lnTo>
                  <a:pt x="1118" y="787"/>
                </a:lnTo>
                <a:lnTo>
                  <a:pt x="1136" y="801"/>
                </a:lnTo>
                <a:lnTo>
                  <a:pt x="1153" y="816"/>
                </a:lnTo>
                <a:lnTo>
                  <a:pt x="1171" y="832"/>
                </a:lnTo>
                <a:lnTo>
                  <a:pt x="1187" y="847"/>
                </a:lnTo>
                <a:lnTo>
                  <a:pt x="1203" y="864"/>
                </a:lnTo>
                <a:lnTo>
                  <a:pt x="1219" y="879"/>
                </a:lnTo>
                <a:lnTo>
                  <a:pt x="1233" y="896"/>
                </a:lnTo>
                <a:lnTo>
                  <a:pt x="1249" y="914"/>
                </a:lnTo>
                <a:lnTo>
                  <a:pt x="1264" y="930"/>
                </a:lnTo>
                <a:lnTo>
                  <a:pt x="1279" y="947"/>
                </a:lnTo>
                <a:lnTo>
                  <a:pt x="1295" y="965"/>
                </a:lnTo>
                <a:lnTo>
                  <a:pt x="1308" y="982"/>
                </a:lnTo>
                <a:lnTo>
                  <a:pt x="1322" y="1001"/>
                </a:lnTo>
                <a:lnTo>
                  <a:pt x="1335" y="1019"/>
                </a:lnTo>
                <a:lnTo>
                  <a:pt x="1349" y="1038"/>
                </a:lnTo>
                <a:lnTo>
                  <a:pt x="1363" y="1055"/>
                </a:lnTo>
                <a:lnTo>
                  <a:pt x="1375" y="1074"/>
                </a:lnTo>
                <a:lnTo>
                  <a:pt x="1388" y="1093"/>
                </a:lnTo>
                <a:lnTo>
                  <a:pt x="1400" y="1111"/>
                </a:lnTo>
                <a:lnTo>
                  <a:pt x="1411" y="1129"/>
                </a:lnTo>
                <a:lnTo>
                  <a:pt x="1423" y="1147"/>
                </a:lnTo>
                <a:lnTo>
                  <a:pt x="1435" y="1166"/>
                </a:lnTo>
                <a:lnTo>
                  <a:pt x="1446" y="1185"/>
                </a:lnTo>
                <a:lnTo>
                  <a:pt x="1455" y="1202"/>
                </a:lnTo>
                <a:lnTo>
                  <a:pt x="1467" y="1221"/>
                </a:lnTo>
                <a:lnTo>
                  <a:pt x="1477" y="1239"/>
                </a:lnTo>
                <a:lnTo>
                  <a:pt x="1487" y="1256"/>
                </a:lnTo>
                <a:lnTo>
                  <a:pt x="1496" y="1274"/>
                </a:lnTo>
                <a:lnTo>
                  <a:pt x="1506" y="1291"/>
                </a:lnTo>
                <a:lnTo>
                  <a:pt x="1515" y="1309"/>
                </a:lnTo>
                <a:lnTo>
                  <a:pt x="1522" y="1325"/>
                </a:lnTo>
                <a:lnTo>
                  <a:pt x="1532" y="1342"/>
                </a:lnTo>
                <a:lnTo>
                  <a:pt x="1540" y="1358"/>
                </a:lnTo>
                <a:lnTo>
                  <a:pt x="1547" y="1373"/>
                </a:lnTo>
                <a:lnTo>
                  <a:pt x="1554" y="1389"/>
                </a:lnTo>
                <a:lnTo>
                  <a:pt x="1561" y="1403"/>
                </a:lnTo>
                <a:lnTo>
                  <a:pt x="1569" y="1418"/>
                </a:lnTo>
                <a:lnTo>
                  <a:pt x="1575" y="1433"/>
                </a:lnTo>
                <a:lnTo>
                  <a:pt x="1580" y="1446"/>
                </a:lnTo>
                <a:lnTo>
                  <a:pt x="1591" y="1471"/>
                </a:lnTo>
                <a:lnTo>
                  <a:pt x="1610" y="1516"/>
                </a:lnTo>
                <a:lnTo>
                  <a:pt x="1624" y="1549"/>
                </a:lnTo>
                <a:lnTo>
                  <a:pt x="1634" y="1578"/>
                </a:lnTo>
                <a:lnTo>
                  <a:pt x="1693" y="1482"/>
                </a:lnTo>
                <a:lnTo>
                  <a:pt x="1687" y="1452"/>
                </a:lnTo>
                <a:lnTo>
                  <a:pt x="1674" y="1370"/>
                </a:lnTo>
                <a:lnTo>
                  <a:pt x="1662" y="1315"/>
                </a:lnTo>
                <a:lnTo>
                  <a:pt x="1649" y="1250"/>
                </a:lnTo>
                <a:lnTo>
                  <a:pt x="1639" y="1214"/>
                </a:lnTo>
                <a:lnTo>
                  <a:pt x="1629" y="1179"/>
                </a:lnTo>
                <a:lnTo>
                  <a:pt x="1618" y="1141"/>
                </a:lnTo>
                <a:lnTo>
                  <a:pt x="1607" y="1103"/>
                </a:lnTo>
                <a:lnTo>
                  <a:pt x="1592" y="1065"/>
                </a:lnTo>
                <a:lnTo>
                  <a:pt x="1578" y="1025"/>
                </a:lnTo>
                <a:lnTo>
                  <a:pt x="1563" y="985"/>
                </a:lnTo>
                <a:lnTo>
                  <a:pt x="1545" y="944"/>
                </a:lnTo>
                <a:lnTo>
                  <a:pt x="1537" y="925"/>
                </a:lnTo>
                <a:lnTo>
                  <a:pt x="1528" y="904"/>
                </a:lnTo>
                <a:lnTo>
                  <a:pt x="1516" y="885"/>
                </a:lnTo>
                <a:lnTo>
                  <a:pt x="1508" y="864"/>
                </a:lnTo>
                <a:lnTo>
                  <a:pt x="1496" y="844"/>
                </a:lnTo>
                <a:lnTo>
                  <a:pt x="1486" y="825"/>
                </a:lnTo>
                <a:lnTo>
                  <a:pt x="1474" y="804"/>
                </a:lnTo>
                <a:lnTo>
                  <a:pt x="1462" y="785"/>
                </a:lnTo>
                <a:lnTo>
                  <a:pt x="1451" y="767"/>
                </a:lnTo>
                <a:lnTo>
                  <a:pt x="1439" y="746"/>
                </a:lnTo>
                <a:lnTo>
                  <a:pt x="1426" y="729"/>
                </a:lnTo>
                <a:lnTo>
                  <a:pt x="1413" y="710"/>
                </a:lnTo>
                <a:lnTo>
                  <a:pt x="1400" y="692"/>
                </a:lnTo>
                <a:lnTo>
                  <a:pt x="1385" y="673"/>
                </a:lnTo>
                <a:lnTo>
                  <a:pt x="1370" y="656"/>
                </a:lnTo>
                <a:lnTo>
                  <a:pt x="1356" y="638"/>
                </a:lnTo>
                <a:lnTo>
                  <a:pt x="1341" y="622"/>
                </a:lnTo>
                <a:lnTo>
                  <a:pt x="1325" y="605"/>
                </a:lnTo>
                <a:lnTo>
                  <a:pt x="1308" y="590"/>
                </a:lnTo>
                <a:lnTo>
                  <a:pt x="1293" y="574"/>
                </a:lnTo>
                <a:lnTo>
                  <a:pt x="1276" y="560"/>
                </a:lnTo>
                <a:lnTo>
                  <a:pt x="1257" y="545"/>
                </a:lnTo>
                <a:lnTo>
                  <a:pt x="1239" y="530"/>
                </a:lnTo>
                <a:lnTo>
                  <a:pt x="1222" y="517"/>
                </a:lnTo>
                <a:lnTo>
                  <a:pt x="1203" y="504"/>
                </a:lnTo>
                <a:lnTo>
                  <a:pt x="1182" y="492"/>
                </a:lnTo>
                <a:lnTo>
                  <a:pt x="1163" y="479"/>
                </a:lnTo>
                <a:lnTo>
                  <a:pt x="1143" y="466"/>
                </a:lnTo>
                <a:lnTo>
                  <a:pt x="1123" y="455"/>
                </a:lnTo>
                <a:lnTo>
                  <a:pt x="1102" y="441"/>
                </a:lnTo>
                <a:lnTo>
                  <a:pt x="1061" y="418"/>
                </a:lnTo>
                <a:lnTo>
                  <a:pt x="1019" y="396"/>
                </a:lnTo>
                <a:lnTo>
                  <a:pt x="975" y="373"/>
                </a:lnTo>
                <a:lnTo>
                  <a:pt x="931" y="353"/>
                </a:lnTo>
                <a:lnTo>
                  <a:pt x="888" y="331"/>
                </a:lnTo>
                <a:lnTo>
                  <a:pt x="843" y="312"/>
                </a:lnTo>
                <a:lnTo>
                  <a:pt x="799" y="293"/>
                </a:lnTo>
                <a:lnTo>
                  <a:pt x="755" y="272"/>
                </a:lnTo>
                <a:lnTo>
                  <a:pt x="711" y="255"/>
                </a:lnTo>
                <a:lnTo>
                  <a:pt x="668" y="237"/>
                </a:lnTo>
                <a:lnTo>
                  <a:pt x="625" y="221"/>
                </a:lnTo>
                <a:lnTo>
                  <a:pt x="583" y="207"/>
                </a:lnTo>
                <a:lnTo>
                  <a:pt x="542" y="191"/>
                </a:lnTo>
                <a:lnTo>
                  <a:pt x="503" y="178"/>
                </a:lnTo>
                <a:lnTo>
                  <a:pt x="465" y="165"/>
                </a:lnTo>
                <a:lnTo>
                  <a:pt x="392" y="141"/>
                </a:lnTo>
                <a:lnTo>
                  <a:pt x="328" y="121"/>
                </a:lnTo>
                <a:lnTo>
                  <a:pt x="272" y="103"/>
                </a:lnTo>
                <a:lnTo>
                  <a:pt x="192" y="81"/>
                </a:lnTo>
                <a:lnTo>
                  <a:pt x="163" y="73"/>
                </a:lnTo>
                <a:lnTo>
                  <a:pt x="205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2" name="Freeform 10"/>
          <p:cNvSpPr/>
          <p:nvPr/>
        </p:nvSpPr>
        <p:spPr>
          <a:xfrm>
            <a:off x="6826320" y="3673440"/>
            <a:ext cx="387360" cy="520560"/>
          </a:xfrm>
          <a:custGeom>
            <a:avLst/>
            <a:gdLst>
              <a:gd name="textAreaLeft" fmla="*/ 0 w 387360"/>
              <a:gd name="textAreaRight" fmla="*/ 387720 w 3873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2" h="986">
                <a:moveTo>
                  <a:pt x="87" y="0"/>
                </a:moveTo>
                <a:lnTo>
                  <a:pt x="46" y="21"/>
                </a:lnTo>
                <a:lnTo>
                  <a:pt x="0" y="110"/>
                </a:lnTo>
                <a:lnTo>
                  <a:pt x="13" y="182"/>
                </a:lnTo>
                <a:lnTo>
                  <a:pt x="32" y="221"/>
                </a:lnTo>
                <a:lnTo>
                  <a:pt x="51" y="259"/>
                </a:lnTo>
                <a:lnTo>
                  <a:pt x="92" y="319"/>
                </a:lnTo>
                <a:lnTo>
                  <a:pt x="108" y="342"/>
                </a:lnTo>
                <a:lnTo>
                  <a:pt x="304" y="577"/>
                </a:lnTo>
                <a:lnTo>
                  <a:pt x="685" y="986"/>
                </a:lnTo>
                <a:lnTo>
                  <a:pt x="732" y="908"/>
                </a:lnTo>
                <a:lnTo>
                  <a:pt x="720" y="900"/>
                </a:lnTo>
                <a:lnTo>
                  <a:pt x="691" y="873"/>
                </a:lnTo>
                <a:lnTo>
                  <a:pt x="672" y="854"/>
                </a:lnTo>
                <a:lnTo>
                  <a:pt x="649" y="835"/>
                </a:lnTo>
                <a:lnTo>
                  <a:pt x="624" y="810"/>
                </a:lnTo>
                <a:lnTo>
                  <a:pt x="598" y="784"/>
                </a:lnTo>
                <a:lnTo>
                  <a:pt x="570" y="759"/>
                </a:lnTo>
                <a:lnTo>
                  <a:pt x="539" y="731"/>
                </a:lnTo>
                <a:lnTo>
                  <a:pt x="510" y="701"/>
                </a:lnTo>
                <a:lnTo>
                  <a:pt x="482" y="672"/>
                </a:lnTo>
                <a:lnTo>
                  <a:pt x="453" y="644"/>
                </a:lnTo>
                <a:lnTo>
                  <a:pt x="427" y="615"/>
                </a:lnTo>
                <a:lnTo>
                  <a:pt x="404" y="590"/>
                </a:lnTo>
                <a:lnTo>
                  <a:pt x="382" y="564"/>
                </a:lnTo>
                <a:lnTo>
                  <a:pt x="360" y="536"/>
                </a:lnTo>
                <a:lnTo>
                  <a:pt x="337" y="511"/>
                </a:lnTo>
                <a:lnTo>
                  <a:pt x="312" y="482"/>
                </a:lnTo>
                <a:lnTo>
                  <a:pt x="287" y="453"/>
                </a:lnTo>
                <a:lnTo>
                  <a:pt x="262" y="422"/>
                </a:lnTo>
                <a:lnTo>
                  <a:pt x="237" y="393"/>
                </a:lnTo>
                <a:lnTo>
                  <a:pt x="213" y="364"/>
                </a:lnTo>
                <a:lnTo>
                  <a:pt x="188" y="335"/>
                </a:lnTo>
                <a:lnTo>
                  <a:pt x="164" y="306"/>
                </a:lnTo>
                <a:lnTo>
                  <a:pt x="144" y="279"/>
                </a:lnTo>
                <a:lnTo>
                  <a:pt x="108" y="231"/>
                </a:lnTo>
                <a:lnTo>
                  <a:pt x="73" y="166"/>
                </a:lnTo>
                <a:lnTo>
                  <a:pt x="78" y="134"/>
                </a:lnTo>
                <a:lnTo>
                  <a:pt x="97" y="110"/>
                </a:lnTo>
                <a:lnTo>
                  <a:pt x="124" y="91"/>
                </a:lnTo>
                <a:lnTo>
                  <a:pt x="8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Freeform 11"/>
          <p:cNvSpPr/>
          <p:nvPr/>
        </p:nvSpPr>
        <p:spPr>
          <a:xfrm>
            <a:off x="7947000" y="3740040"/>
            <a:ext cx="343080" cy="866880"/>
          </a:xfrm>
          <a:custGeom>
            <a:avLst/>
            <a:gdLst>
              <a:gd name="textAreaLeft" fmla="*/ 0 w 343080"/>
              <a:gd name="textAreaRight" fmla="*/ 343440 w 34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7">
                <a:moveTo>
                  <a:pt x="0" y="176"/>
                </a:moveTo>
                <a:lnTo>
                  <a:pt x="12" y="162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8" y="80"/>
                </a:lnTo>
                <a:lnTo>
                  <a:pt x="117" y="57"/>
                </a:lnTo>
                <a:lnTo>
                  <a:pt x="147" y="35"/>
                </a:lnTo>
                <a:lnTo>
                  <a:pt x="184" y="19"/>
                </a:lnTo>
                <a:lnTo>
                  <a:pt x="219" y="6"/>
                </a:lnTo>
                <a:lnTo>
                  <a:pt x="299" y="0"/>
                </a:lnTo>
                <a:lnTo>
                  <a:pt x="384" y="30"/>
                </a:lnTo>
                <a:lnTo>
                  <a:pt x="429" y="61"/>
                </a:lnTo>
                <a:lnTo>
                  <a:pt x="449" y="83"/>
                </a:lnTo>
                <a:lnTo>
                  <a:pt x="473" y="108"/>
                </a:lnTo>
                <a:lnTo>
                  <a:pt x="547" y="232"/>
                </a:lnTo>
                <a:lnTo>
                  <a:pt x="575" y="305"/>
                </a:lnTo>
                <a:lnTo>
                  <a:pt x="600" y="383"/>
                </a:lnTo>
                <a:lnTo>
                  <a:pt x="629" y="554"/>
                </a:lnTo>
                <a:lnTo>
                  <a:pt x="645" y="727"/>
                </a:lnTo>
                <a:lnTo>
                  <a:pt x="649" y="854"/>
                </a:lnTo>
                <a:lnTo>
                  <a:pt x="645" y="1026"/>
                </a:lnTo>
                <a:lnTo>
                  <a:pt x="629" y="1169"/>
                </a:lnTo>
                <a:lnTo>
                  <a:pt x="610" y="1243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4" y="1456"/>
                </a:lnTo>
                <a:lnTo>
                  <a:pt x="490" y="1484"/>
                </a:lnTo>
                <a:lnTo>
                  <a:pt x="471" y="1504"/>
                </a:lnTo>
                <a:lnTo>
                  <a:pt x="451" y="1526"/>
                </a:lnTo>
                <a:lnTo>
                  <a:pt x="417" y="1559"/>
                </a:lnTo>
                <a:lnTo>
                  <a:pt x="368" y="1596"/>
                </a:lnTo>
                <a:lnTo>
                  <a:pt x="295" y="1637"/>
                </a:lnTo>
                <a:lnTo>
                  <a:pt x="287" y="1558"/>
                </a:lnTo>
                <a:lnTo>
                  <a:pt x="346" y="1520"/>
                </a:lnTo>
                <a:lnTo>
                  <a:pt x="384" y="1481"/>
                </a:lnTo>
                <a:lnTo>
                  <a:pt x="419" y="1434"/>
                </a:lnTo>
                <a:lnTo>
                  <a:pt x="454" y="1376"/>
                </a:lnTo>
                <a:lnTo>
                  <a:pt x="487" y="1303"/>
                </a:lnTo>
                <a:lnTo>
                  <a:pt x="515" y="1213"/>
                </a:lnTo>
                <a:lnTo>
                  <a:pt x="537" y="1103"/>
                </a:lnTo>
                <a:lnTo>
                  <a:pt x="543" y="975"/>
                </a:lnTo>
                <a:lnTo>
                  <a:pt x="547" y="834"/>
                </a:lnTo>
                <a:lnTo>
                  <a:pt x="525" y="564"/>
                </a:lnTo>
                <a:lnTo>
                  <a:pt x="503" y="420"/>
                </a:lnTo>
                <a:lnTo>
                  <a:pt x="486" y="356"/>
                </a:lnTo>
                <a:lnTo>
                  <a:pt x="467" y="294"/>
                </a:lnTo>
                <a:lnTo>
                  <a:pt x="445" y="239"/>
                </a:lnTo>
                <a:lnTo>
                  <a:pt x="419" y="192"/>
                </a:lnTo>
                <a:lnTo>
                  <a:pt x="390" y="153"/>
                </a:lnTo>
                <a:lnTo>
                  <a:pt x="374" y="138"/>
                </a:lnTo>
                <a:lnTo>
                  <a:pt x="357" y="125"/>
                </a:lnTo>
                <a:lnTo>
                  <a:pt x="321" y="106"/>
                </a:lnTo>
                <a:lnTo>
                  <a:pt x="290" y="96"/>
                </a:lnTo>
                <a:lnTo>
                  <a:pt x="234" y="96"/>
                </a:lnTo>
                <a:lnTo>
                  <a:pt x="187" y="121"/>
                </a:lnTo>
                <a:lnTo>
                  <a:pt x="149" y="157"/>
                </a:lnTo>
                <a:lnTo>
                  <a:pt x="102" y="239"/>
                </a:lnTo>
                <a:lnTo>
                  <a:pt x="86" y="283"/>
                </a:lnTo>
                <a:lnTo>
                  <a:pt x="0" y="176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Freeform 12"/>
          <p:cNvSpPr/>
          <p:nvPr/>
        </p:nvSpPr>
        <p:spPr>
          <a:xfrm>
            <a:off x="7013520" y="3630600"/>
            <a:ext cx="292320" cy="46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50" h="876">
                <a:moveTo>
                  <a:pt x="133" y="645"/>
                </a:moveTo>
                <a:lnTo>
                  <a:pt x="141" y="653"/>
                </a:lnTo>
                <a:lnTo>
                  <a:pt x="163" y="675"/>
                </a:lnTo>
                <a:lnTo>
                  <a:pt x="178" y="690"/>
                </a:lnTo>
                <a:lnTo>
                  <a:pt x="197" y="707"/>
                </a:lnTo>
                <a:lnTo>
                  <a:pt x="216" y="723"/>
                </a:lnTo>
                <a:lnTo>
                  <a:pt x="239" y="742"/>
                </a:lnTo>
                <a:lnTo>
                  <a:pt x="261" y="757"/>
                </a:lnTo>
                <a:lnTo>
                  <a:pt x="284" y="773"/>
                </a:lnTo>
                <a:lnTo>
                  <a:pt x="331" y="798"/>
                </a:lnTo>
                <a:lnTo>
                  <a:pt x="376" y="809"/>
                </a:lnTo>
                <a:lnTo>
                  <a:pt x="417" y="801"/>
                </a:lnTo>
                <a:lnTo>
                  <a:pt x="446" y="779"/>
                </a:lnTo>
                <a:lnTo>
                  <a:pt x="465" y="750"/>
                </a:lnTo>
                <a:lnTo>
                  <a:pt x="473" y="680"/>
                </a:lnTo>
                <a:lnTo>
                  <a:pt x="455" y="613"/>
                </a:lnTo>
                <a:lnTo>
                  <a:pt x="430" y="557"/>
                </a:lnTo>
                <a:lnTo>
                  <a:pt x="420" y="546"/>
                </a:lnTo>
                <a:lnTo>
                  <a:pt x="401" y="530"/>
                </a:lnTo>
                <a:lnTo>
                  <a:pt x="378" y="511"/>
                </a:lnTo>
                <a:lnTo>
                  <a:pt x="349" y="490"/>
                </a:lnTo>
                <a:lnTo>
                  <a:pt x="314" y="468"/>
                </a:lnTo>
                <a:lnTo>
                  <a:pt x="277" y="444"/>
                </a:lnTo>
                <a:lnTo>
                  <a:pt x="239" y="416"/>
                </a:lnTo>
                <a:lnTo>
                  <a:pt x="200" y="387"/>
                </a:lnTo>
                <a:lnTo>
                  <a:pt x="162" y="356"/>
                </a:lnTo>
                <a:lnTo>
                  <a:pt x="125" y="325"/>
                </a:lnTo>
                <a:lnTo>
                  <a:pt x="106" y="309"/>
                </a:lnTo>
                <a:lnTo>
                  <a:pt x="90" y="293"/>
                </a:lnTo>
                <a:lnTo>
                  <a:pt x="74" y="276"/>
                </a:lnTo>
                <a:lnTo>
                  <a:pt x="60" y="258"/>
                </a:lnTo>
                <a:lnTo>
                  <a:pt x="16" y="191"/>
                </a:lnTo>
                <a:lnTo>
                  <a:pt x="0" y="121"/>
                </a:lnTo>
                <a:lnTo>
                  <a:pt x="18" y="63"/>
                </a:lnTo>
                <a:lnTo>
                  <a:pt x="35" y="43"/>
                </a:lnTo>
                <a:lnTo>
                  <a:pt x="57" y="25"/>
                </a:lnTo>
                <a:lnTo>
                  <a:pt x="85" y="12"/>
                </a:lnTo>
                <a:lnTo>
                  <a:pt x="115" y="5"/>
                </a:lnTo>
                <a:lnTo>
                  <a:pt x="179" y="0"/>
                </a:lnTo>
                <a:lnTo>
                  <a:pt x="311" y="34"/>
                </a:lnTo>
                <a:lnTo>
                  <a:pt x="359" y="69"/>
                </a:lnTo>
                <a:lnTo>
                  <a:pt x="388" y="116"/>
                </a:lnTo>
                <a:lnTo>
                  <a:pt x="391" y="203"/>
                </a:lnTo>
                <a:lnTo>
                  <a:pt x="375" y="239"/>
                </a:lnTo>
                <a:lnTo>
                  <a:pt x="347" y="263"/>
                </a:lnTo>
                <a:lnTo>
                  <a:pt x="312" y="277"/>
                </a:lnTo>
                <a:lnTo>
                  <a:pt x="271" y="279"/>
                </a:lnTo>
                <a:lnTo>
                  <a:pt x="182" y="238"/>
                </a:lnTo>
                <a:lnTo>
                  <a:pt x="147" y="202"/>
                </a:lnTo>
                <a:lnTo>
                  <a:pt x="128" y="171"/>
                </a:lnTo>
                <a:lnTo>
                  <a:pt x="127" y="123"/>
                </a:lnTo>
                <a:lnTo>
                  <a:pt x="149" y="94"/>
                </a:lnTo>
                <a:lnTo>
                  <a:pt x="163" y="85"/>
                </a:lnTo>
                <a:lnTo>
                  <a:pt x="233" y="94"/>
                </a:lnTo>
                <a:lnTo>
                  <a:pt x="216" y="107"/>
                </a:lnTo>
                <a:lnTo>
                  <a:pt x="188" y="139"/>
                </a:lnTo>
                <a:lnTo>
                  <a:pt x="182" y="177"/>
                </a:lnTo>
                <a:lnTo>
                  <a:pt x="198" y="193"/>
                </a:lnTo>
                <a:lnTo>
                  <a:pt x="233" y="207"/>
                </a:lnTo>
                <a:lnTo>
                  <a:pt x="298" y="207"/>
                </a:lnTo>
                <a:lnTo>
                  <a:pt x="318" y="170"/>
                </a:lnTo>
                <a:lnTo>
                  <a:pt x="306" y="121"/>
                </a:lnTo>
                <a:lnTo>
                  <a:pt x="292" y="100"/>
                </a:lnTo>
                <a:lnTo>
                  <a:pt x="273" y="81"/>
                </a:lnTo>
                <a:lnTo>
                  <a:pt x="251" y="69"/>
                </a:lnTo>
                <a:lnTo>
                  <a:pt x="223" y="59"/>
                </a:lnTo>
                <a:lnTo>
                  <a:pt x="163" y="54"/>
                </a:lnTo>
                <a:lnTo>
                  <a:pt x="111" y="70"/>
                </a:lnTo>
                <a:lnTo>
                  <a:pt x="85" y="116"/>
                </a:lnTo>
                <a:lnTo>
                  <a:pt x="83" y="142"/>
                </a:lnTo>
                <a:lnTo>
                  <a:pt x="85" y="165"/>
                </a:lnTo>
                <a:lnTo>
                  <a:pt x="104" y="209"/>
                </a:lnTo>
                <a:lnTo>
                  <a:pt x="121" y="229"/>
                </a:lnTo>
                <a:lnTo>
                  <a:pt x="146" y="254"/>
                </a:lnTo>
                <a:lnTo>
                  <a:pt x="176" y="280"/>
                </a:lnTo>
                <a:lnTo>
                  <a:pt x="214" y="314"/>
                </a:lnTo>
                <a:lnTo>
                  <a:pt x="236" y="331"/>
                </a:lnTo>
                <a:lnTo>
                  <a:pt x="261" y="349"/>
                </a:lnTo>
                <a:lnTo>
                  <a:pt x="287" y="368"/>
                </a:lnTo>
                <a:lnTo>
                  <a:pt x="315" y="385"/>
                </a:lnTo>
                <a:lnTo>
                  <a:pt x="343" y="404"/>
                </a:lnTo>
                <a:lnTo>
                  <a:pt x="373" y="426"/>
                </a:lnTo>
                <a:lnTo>
                  <a:pt x="401" y="446"/>
                </a:lnTo>
                <a:lnTo>
                  <a:pt x="429" y="470"/>
                </a:lnTo>
                <a:lnTo>
                  <a:pt x="454" y="492"/>
                </a:lnTo>
                <a:lnTo>
                  <a:pt x="478" y="518"/>
                </a:lnTo>
                <a:lnTo>
                  <a:pt x="519" y="569"/>
                </a:lnTo>
                <a:lnTo>
                  <a:pt x="550" y="694"/>
                </a:lnTo>
                <a:lnTo>
                  <a:pt x="541" y="755"/>
                </a:lnTo>
                <a:lnTo>
                  <a:pt x="525" y="802"/>
                </a:lnTo>
                <a:lnTo>
                  <a:pt x="499" y="836"/>
                </a:lnTo>
                <a:lnTo>
                  <a:pt x="471" y="859"/>
                </a:lnTo>
                <a:lnTo>
                  <a:pt x="438" y="872"/>
                </a:lnTo>
                <a:lnTo>
                  <a:pt x="404" y="876"/>
                </a:lnTo>
                <a:lnTo>
                  <a:pt x="338" y="871"/>
                </a:lnTo>
                <a:lnTo>
                  <a:pt x="273" y="841"/>
                </a:lnTo>
                <a:lnTo>
                  <a:pt x="239" y="823"/>
                </a:lnTo>
                <a:lnTo>
                  <a:pt x="207" y="799"/>
                </a:lnTo>
                <a:lnTo>
                  <a:pt x="178" y="779"/>
                </a:lnTo>
                <a:lnTo>
                  <a:pt x="153" y="758"/>
                </a:lnTo>
                <a:lnTo>
                  <a:pt x="133" y="742"/>
                </a:lnTo>
                <a:lnTo>
                  <a:pt x="133" y="6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5" name="Freeform 13"/>
          <p:cNvSpPr/>
          <p:nvPr/>
        </p:nvSpPr>
        <p:spPr>
          <a:xfrm>
            <a:off x="7061040" y="4603680"/>
            <a:ext cx="147960" cy="152640"/>
          </a:xfrm>
          <a:custGeom>
            <a:avLst/>
            <a:gdLst>
              <a:gd name="textAreaLeft" fmla="*/ 0 w 147960"/>
              <a:gd name="textAreaRight" fmla="*/ 147960 w 147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78" h="288">
                <a:moveTo>
                  <a:pt x="269" y="194"/>
                </a:moveTo>
                <a:lnTo>
                  <a:pt x="273" y="175"/>
                </a:lnTo>
                <a:lnTo>
                  <a:pt x="278" y="150"/>
                </a:lnTo>
                <a:lnTo>
                  <a:pt x="276" y="124"/>
                </a:lnTo>
                <a:lnTo>
                  <a:pt x="272" y="101"/>
                </a:lnTo>
                <a:lnTo>
                  <a:pt x="261" y="78"/>
                </a:lnTo>
                <a:lnTo>
                  <a:pt x="248" y="56"/>
                </a:lnTo>
                <a:lnTo>
                  <a:pt x="234" y="37"/>
                </a:lnTo>
                <a:lnTo>
                  <a:pt x="215" y="22"/>
                </a:lnTo>
                <a:lnTo>
                  <a:pt x="193" y="11"/>
                </a:lnTo>
                <a:lnTo>
                  <a:pt x="170" y="2"/>
                </a:lnTo>
                <a:lnTo>
                  <a:pt x="145" y="0"/>
                </a:lnTo>
                <a:lnTo>
                  <a:pt x="121" y="0"/>
                </a:lnTo>
                <a:lnTo>
                  <a:pt x="98" y="5"/>
                </a:lnTo>
                <a:lnTo>
                  <a:pt x="75" y="15"/>
                </a:lnTo>
                <a:lnTo>
                  <a:pt x="54" y="28"/>
                </a:lnTo>
                <a:lnTo>
                  <a:pt x="37" y="46"/>
                </a:lnTo>
                <a:lnTo>
                  <a:pt x="22" y="66"/>
                </a:lnTo>
                <a:lnTo>
                  <a:pt x="11" y="88"/>
                </a:lnTo>
                <a:lnTo>
                  <a:pt x="3" y="111"/>
                </a:lnTo>
                <a:lnTo>
                  <a:pt x="0" y="137"/>
                </a:lnTo>
                <a:lnTo>
                  <a:pt x="2" y="162"/>
                </a:lnTo>
                <a:lnTo>
                  <a:pt x="6" y="185"/>
                </a:lnTo>
                <a:lnTo>
                  <a:pt x="15" y="210"/>
                </a:lnTo>
                <a:lnTo>
                  <a:pt x="28" y="231"/>
                </a:lnTo>
                <a:lnTo>
                  <a:pt x="44" y="250"/>
                </a:lnTo>
                <a:lnTo>
                  <a:pt x="63" y="264"/>
                </a:lnTo>
                <a:lnTo>
                  <a:pt x="85" y="274"/>
                </a:lnTo>
                <a:lnTo>
                  <a:pt x="107" y="285"/>
                </a:lnTo>
                <a:lnTo>
                  <a:pt x="130" y="288"/>
                </a:lnTo>
                <a:lnTo>
                  <a:pt x="155" y="286"/>
                </a:lnTo>
                <a:lnTo>
                  <a:pt x="181" y="282"/>
                </a:lnTo>
                <a:lnTo>
                  <a:pt x="206" y="269"/>
                </a:lnTo>
                <a:lnTo>
                  <a:pt x="231" y="248"/>
                </a:lnTo>
                <a:lnTo>
                  <a:pt x="180" y="210"/>
                </a:lnTo>
                <a:lnTo>
                  <a:pt x="156" y="222"/>
                </a:lnTo>
                <a:lnTo>
                  <a:pt x="145" y="225"/>
                </a:lnTo>
                <a:lnTo>
                  <a:pt x="130" y="225"/>
                </a:lnTo>
                <a:lnTo>
                  <a:pt x="117" y="222"/>
                </a:lnTo>
                <a:lnTo>
                  <a:pt x="105" y="218"/>
                </a:lnTo>
                <a:lnTo>
                  <a:pt x="94" y="209"/>
                </a:lnTo>
                <a:lnTo>
                  <a:pt x="82" y="200"/>
                </a:lnTo>
                <a:lnTo>
                  <a:pt x="75" y="188"/>
                </a:lnTo>
                <a:lnTo>
                  <a:pt x="66" y="177"/>
                </a:lnTo>
                <a:lnTo>
                  <a:pt x="62" y="162"/>
                </a:lnTo>
                <a:lnTo>
                  <a:pt x="59" y="149"/>
                </a:lnTo>
                <a:lnTo>
                  <a:pt x="60" y="134"/>
                </a:lnTo>
                <a:lnTo>
                  <a:pt x="63" y="120"/>
                </a:lnTo>
                <a:lnTo>
                  <a:pt x="69" y="108"/>
                </a:lnTo>
                <a:lnTo>
                  <a:pt x="75" y="95"/>
                </a:lnTo>
                <a:lnTo>
                  <a:pt x="84" y="85"/>
                </a:lnTo>
                <a:lnTo>
                  <a:pt x="94" y="75"/>
                </a:lnTo>
                <a:lnTo>
                  <a:pt x="105" y="69"/>
                </a:lnTo>
                <a:lnTo>
                  <a:pt x="119" y="65"/>
                </a:lnTo>
                <a:lnTo>
                  <a:pt x="133" y="62"/>
                </a:lnTo>
                <a:lnTo>
                  <a:pt x="146" y="62"/>
                </a:lnTo>
                <a:lnTo>
                  <a:pt x="161" y="65"/>
                </a:lnTo>
                <a:lnTo>
                  <a:pt x="173" y="69"/>
                </a:lnTo>
                <a:lnTo>
                  <a:pt x="184" y="76"/>
                </a:lnTo>
                <a:lnTo>
                  <a:pt x="196" y="86"/>
                </a:lnTo>
                <a:lnTo>
                  <a:pt x="203" y="97"/>
                </a:lnTo>
                <a:lnTo>
                  <a:pt x="210" y="110"/>
                </a:lnTo>
                <a:lnTo>
                  <a:pt x="216" y="123"/>
                </a:lnTo>
                <a:lnTo>
                  <a:pt x="218" y="137"/>
                </a:lnTo>
                <a:lnTo>
                  <a:pt x="216" y="152"/>
                </a:lnTo>
                <a:lnTo>
                  <a:pt x="215" y="171"/>
                </a:lnTo>
                <a:lnTo>
                  <a:pt x="269" y="19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6" name="Freeform 14"/>
          <p:cNvSpPr/>
          <p:nvPr/>
        </p:nvSpPr>
        <p:spPr>
          <a:xfrm>
            <a:off x="7175520" y="468144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8" h="265">
                <a:moveTo>
                  <a:pt x="1193" y="23"/>
                </a:moveTo>
                <a:lnTo>
                  <a:pt x="474" y="158"/>
                </a:lnTo>
                <a:lnTo>
                  <a:pt x="46" y="0"/>
                </a:lnTo>
                <a:lnTo>
                  <a:pt x="0" y="22"/>
                </a:lnTo>
                <a:lnTo>
                  <a:pt x="458" y="265"/>
                </a:lnTo>
                <a:lnTo>
                  <a:pt x="1358" y="101"/>
                </a:lnTo>
                <a:lnTo>
                  <a:pt x="1193" y="2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Freeform 15"/>
          <p:cNvSpPr/>
          <p:nvPr/>
        </p:nvSpPr>
        <p:spPr>
          <a:xfrm>
            <a:off x="6953400" y="477684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77" y="139"/>
                </a:moveTo>
                <a:lnTo>
                  <a:pt x="274" y="111"/>
                </a:lnTo>
                <a:lnTo>
                  <a:pt x="266" y="86"/>
                </a:lnTo>
                <a:lnTo>
                  <a:pt x="254" y="65"/>
                </a:lnTo>
                <a:lnTo>
                  <a:pt x="239" y="46"/>
                </a:lnTo>
                <a:lnTo>
                  <a:pt x="222" y="28"/>
                </a:lnTo>
                <a:lnTo>
                  <a:pt x="200" y="15"/>
                </a:lnTo>
                <a:lnTo>
                  <a:pt x="180" y="6"/>
                </a:lnTo>
                <a:lnTo>
                  <a:pt x="153" y="2"/>
                </a:lnTo>
                <a:lnTo>
                  <a:pt x="130" y="0"/>
                </a:lnTo>
                <a:lnTo>
                  <a:pt x="107" y="3"/>
                </a:lnTo>
                <a:lnTo>
                  <a:pt x="83" y="14"/>
                </a:lnTo>
                <a:lnTo>
                  <a:pt x="63" y="24"/>
                </a:lnTo>
                <a:lnTo>
                  <a:pt x="44" y="40"/>
                </a:lnTo>
                <a:lnTo>
                  <a:pt x="28" y="57"/>
                </a:lnTo>
                <a:lnTo>
                  <a:pt x="15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0" y="202"/>
                </a:lnTo>
                <a:lnTo>
                  <a:pt x="24" y="225"/>
                </a:lnTo>
                <a:lnTo>
                  <a:pt x="38" y="244"/>
                </a:lnTo>
                <a:lnTo>
                  <a:pt x="56" y="261"/>
                </a:lnTo>
                <a:lnTo>
                  <a:pt x="76" y="273"/>
                </a:lnTo>
                <a:lnTo>
                  <a:pt x="99" y="283"/>
                </a:lnTo>
                <a:lnTo>
                  <a:pt x="123" y="288"/>
                </a:lnTo>
                <a:lnTo>
                  <a:pt x="148" y="288"/>
                </a:lnTo>
                <a:lnTo>
                  <a:pt x="171" y="285"/>
                </a:lnTo>
                <a:lnTo>
                  <a:pt x="194" y="277"/>
                </a:lnTo>
                <a:lnTo>
                  <a:pt x="216" y="266"/>
                </a:lnTo>
                <a:lnTo>
                  <a:pt x="237" y="248"/>
                </a:lnTo>
                <a:lnTo>
                  <a:pt x="253" y="226"/>
                </a:lnTo>
                <a:lnTo>
                  <a:pt x="269" y="188"/>
                </a:lnTo>
                <a:lnTo>
                  <a:pt x="210" y="180"/>
                </a:lnTo>
                <a:lnTo>
                  <a:pt x="190" y="207"/>
                </a:lnTo>
                <a:lnTo>
                  <a:pt x="180" y="216"/>
                </a:lnTo>
                <a:lnTo>
                  <a:pt x="167" y="222"/>
                </a:lnTo>
                <a:lnTo>
                  <a:pt x="153" y="225"/>
                </a:lnTo>
                <a:lnTo>
                  <a:pt x="140" y="226"/>
                </a:lnTo>
                <a:lnTo>
                  <a:pt x="126" y="225"/>
                </a:lnTo>
                <a:lnTo>
                  <a:pt x="113" y="222"/>
                </a:lnTo>
                <a:lnTo>
                  <a:pt x="101" y="216"/>
                </a:lnTo>
                <a:lnTo>
                  <a:pt x="89" y="207"/>
                </a:lnTo>
                <a:lnTo>
                  <a:pt x="79" y="199"/>
                </a:lnTo>
                <a:lnTo>
                  <a:pt x="70" y="186"/>
                </a:lnTo>
                <a:lnTo>
                  <a:pt x="64" y="174"/>
                </a:lnTo>
                <a:lnTo>
                  <a:pt x="62" y="159"/>
                </a:lnTo>
                <a:lnTo>
                  <a:pt x="62" y="145"/>
                </a:lnTo>
                <a:lnTo>
                  <a:pt x="62" y="132"/>
                </a:lnTo>
                <a:lnTo>
                  <a:pt x="64" y="117"/>
                </a:lnTo>
                <a:lnTo>
                  <a:pt x="70" y="104"/>
                </a:lnTo>
                <a:lnTo>
                  <a:pt x="78" y="94"/>
                </a:lnTo>
                <a:lnTo>
                  <a:pt x="88" y="83"/>
                </a:lnTo>
                <a:lnTo>
                  <a:pt x="99" y="73"/>
                </a:lnTo>
                <a:lnTo>
                  <a:pt x="111" y="69"/>
                </a:lnTo>
                <a:lnTo>
                  <a:pt x="124" y="65"/>
                </a:lnTo>
                <a:lnTo>
                  <a:pt x="139" y="62"/>
                </a:lnTo>
                <a:lnTo>
                  <a:pt x="150" y="63"/>
                </a:lnTo>
                <a:lnTo>
                  <a:pt x="165" y="67"/>
                </a:lnTo>
                <a:lnTo>
                  <a:pt x="178" y="73"/>
                </a:lnTo>
                <a:lnTo>
                  <a:pt x="190" y="82"/>
                </a:lnTo>
                <a:lnTo>
                  <a:pt x="199" y="92"/>
                </a:lnTo>
                <a:lnTo>
                  <a:pt x="206" y="102"/>
                </a:lnTo>
                <a:lnTo>
                  <a:pt x="212" y="117"/>
                </a:lnTo>
                <a:lnTo>
                  <a:pt x="216" y="139"/>
                </a:lnTo>
                <a:lnTo>
                  <a:pt x="277" y="13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Freeform 16"/>
          <p:cNvSpPr/>
          <p:nvPr/>
        </p:nvSpPr>
        <p:spPr>
          <a:xfrm>
            <a:off x="7039080" y="5037120"/>
            <a:ext cx="147600" cy="149400"/>
          </a:xfrm>
          <a:custGeom>
            <a:avLst/>
            <a:gdLst>
              <a:gd name="textAreaLeft" fmla="*/ 0 w 147600"/>
              <a:gd name="textAreaRight" fmla="*/ 147960 w 147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77" h="284">
                <a:moveTo>
                  <a:pt x="244" y="49"/>
                </a:moveTo>
                <a:lnTo>
                  <a:pt x="231" y="36"/>
                </a:lnTo>
                <a:lnTo>
                  <a:pt x="210" y="21"/>
                </a:lnTo>
                <a:lnTo>
                  <a:pt x="188" y="10"/>
                </a:lnTo>
                <a:lnTo>
                  <a:pt x="165" y="4"/>
                </a:lnTo>
                <a:lnTo>
                  <a:pt x="142" y="0"/>
                </a:lnTo>
                <a:lnTo>
                  <a:pt x="117" y="3"/>
                </a:lnTo>
                <a:lnTo>
                  <a:pt x="93" y="8"/>
                </a:lnTo>
                <a:lnTo>
                  <a:pt x="72" y="19"/>
                </a:lnTo>
                <a:lnTo>
                  <a:pt x="51" y="33"/>
                </a:lnTo>
                <a:lnTo>
                  <a:pt x="34" y="49"/>
                </a:lnTo>
                <a:lnTo>
                  <a:pt x="19" y="70"/>
                </a:lnTo>
                <a:lnTo>
                  <a:pt x="9" y="93"/>
                </a:lnTo>
                <a:lnTo>
                  <a:pt x="2" y="118"/>
                </a:lnTo>
                <a:lnTo>
                  <a:pt x="0" y="142"/>
                </a:lnTo>
                <a:lnTo>
                  <a:pt x="0" y="167"/>
                </a:lnTo>
                <a:lnTo>
                  <a:pt x="6" y="192"/>
                </a:lnTo>
                <a:lnTo>
                  <a:pt x="16" y="215"/>
                </a:lnTo>
                <a:lnTo>
                  <a:pt x="31" y="236"/>
                </a:lnTo>
                <a:lnTo>
                  <a:pt x="47" y="253"/>
                </a:lnTo>
                <a:lnTo>
                  <a:pt x="66" y="269"/>
                </a:lnTo>
                <a:lnTo>
                  <a:pt x="89" y="279"/>
                </a:lnTo>
                <a:lnTo>
                  <a:pt x="111" y="284"/>
                </a:lnTo>
                <a:lnTo>
                  <a:pt x="136" y="284"/>
                </a:lnTo>
                <a:lnTo>
                  <a:pt x="161" y="284"/>
                </a:lnTo>
                <a:lnTo>
                  <a:pt x="184" y="282"/>
                </a:lnTo>
                <a:lnTo>
                  <a:pt x="206" y="272"/>
                </a:lnTo>
                <a:lnTo>
                  <a:pt x="225" y="258"/>
                </a:lnTo>
                <a:lnTo>
                  <a:pt x="242" y="240"/>
                </a:lnTo>
                <a:lnTo>
                  <a:pt x="257" y="221"/>
                </a:lnTo>
                <a:lnTo>
                  <a:pt x="267" y="196"/>
                </a:lnTo>
                <a:lnTo>
                  <a:pt x="276" y="172"/>
                </a:lnTo>
                <a:lnTo>
                  <a:pt x="277" y="144"/>
                </a:lnTo>
                <a:lnTo>
                  <a:pt x="267" y="102"/>
                </a:lnTo>
                <a:lnTo>
                  <a:pt x="216" y="131"/>
                </a:lnTo>
                <a:lnTo>
                  <a:pt x="215" y="164"/>
                </a:lnTo>
                <a:lnTo>
                  <a:pt x="210" y="177"/>
                </a:lnTo>
                <a:lnTo>
                  <a:pt x="203" y="191"/>
                </a:lnTo>
                <a:lnTo>
                  <a:pt x="194" y="201"/>
                </a:lnTo>
                <a:lnTo>
                  <a:pt x="184" y="211"/>
                </a:lnTo>
                <a:lnTo>
                  <a:pt x="172" y="218"/>
                </a:lnTo>
                <a:lnTo>
                  <a:pt x="161" y="224"/>
                </a:lnTo>
                <a:lnTo>
                  <a:pt x="147" y="227"/>
                </a:lnTo>
                <a:lnTo>
                  <a:pt x="131" y="227"/>
                </a:lnTo>
                <a:lnTo>
                  <a:pt x="120" y="224"/>
                </a:lnTo>
                <a:lnTo>
                  <a:pt x="105" y="218"/>
                </a:lnTo>
                <a:lnTo>
                  <a:pt x="93" y="212"/>
                </a:lnTo>
                <a:lnTo>
                  <a:pt x="83" y="204"/>
                </a:lnTo>
                <a:lnTo>
                  <a:pt x="75" y="192"/>
                </a:lnTo>
                <a:lnTo>
                  <a:pt x="67" y="180"/>
                </a:lnTo>
                <a:lnTo>
                  <a:pt x="61" y="167"/>
                </a:lnTo>
                <a:lnTo>
                  <a:pt x="60" y="154"/>
                </a:lnTo>
                <a:lnTo>
                  <a:pt x="58" y="138"/>
                </a:lnTo>
                <a:lnTo>
                  <a:pt x="61" y="125"/>
                </a:lnTo>
                <a:lnTo>
                  <a:pt x="66" y="112"/>
                </a:lnTo>
                <a:lnTo>
                  <a:pt x="73" y="99"/>
                </a:lnTo>
                <a:lnTo>
                  <a:pt x="80" y="87"/>
                </a:lnTo>
                <a:lnTo>
                  <a:pt x="92" y="78"/>
                </a:lnTo>
                <a:lnTo>
                  <a:pt x="104" y="70"/>
                </a:lnTo>
                <a:lnTo>
                  <a:pt x="117" y="65"/>
                </a:lnTo>
                <a:lnTo>
                  <a:pt x="130" y="64"/>
                </a:lnTo>
                <a:lnTo>
                  <a:pt x="145" y="64"/>
                </a:lnTo>
                <a:lnTo>
                  <a:pt x="158" y="65"/>
                </a:lnTo>
                <a:lnTo>
                  <a:pt x="171" y="70"/>
                </a:lnTo>
                <a:lnTo>
                  <a:pt x="182" y="77"/>
                </a:lnTo>
                <a:lnTo>
                  <a:pt x="197" y="94"/>
                </a:lnTo>
                <a:lnTo>
                  <a:pt x="244" y="4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9" name="Freeform 17"/>
          <p:cNvSpPr/>
          <p:nvPr/>
        </p:nvSpPr>
        <p:spPr>
          <a:xfrm>
            <a:off x="7067520" y="4713120"/>
            <a:ext cx="298440" cy="142920"/>
          </a:xfrm>
          <a:custGeom>
            <a:avLst/>
            <a:gdLst>
              <a:gd name="textAreaLeft" fmla="*/ 0 w 298440"/>
              <a:gd name="textAreaRight" fmla="*/ 298800 w 29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3" h="270">
                <a:moveTo>
                  <a:pt x="0" y="255"/>
                </a:moveTo>
                <a:lnTo>
                  <a:pt x="563" y="270"/>
                </a:lnTo>
                <a:lnTo>
                  <a:pt x="163" y="0"/>
                </a:lnTo>
                <a:lnTo>
                  <a:pt x="156" y="38"/>
                </a:lnTo>
                <a:lnTo>
                  <a:pt x="305" y="188"/>
                </a:lnTo>
                <a:lnTo>
                  <a:pt x="18" y="216"/>
                </a:lnTo>
                <a:lnTo>
                  <a:pt x="0" y="25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0" name="Freeform 18"/>
          <p:cNvSpPr/>
          <p:nvPr/>
        </p:nvSpPr>
        <p:spPr>
          <a:xfrm>
            <a:off x="7067520" y="4870440"/>
            <a:ext cx="291960" cy="216000"/>
          </a:xfrm>
          <a:custGeom>
            <a:avLst/>
            <a:gdLst>
              <a:gd name="textAreaLeft" fmla="*/ 0 w 291960"/>
              <a:gd name="textAreaRight" fmla="*/ 292320 w 291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51" h="408">
                <a:moveTo>
                  <a:pt x="0" y="0"/>
                </a:moveTo>
                <a:lnTo>
                  <a:pt x="551" y="60"/>
                </a:lnTo>
                <a:lnTo>
                  <a:pt x="139" y="408"/>
                </a:lnTo>
                <a:lnTo>
                  <a:pt x="123" y="360"/>
                </a:lnTo>
                <a:lnTo>
                  <a:pt x="365" y="105"/>
                </a:lnTo>
                <a:lnTo>
                  <a:pt x="21" y="4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Freeform 19"/>
          <p:cNvSpPr/>
          <p:nvPr/>
        </p:nvSpPr>
        <p:spPr>
          <a:xfrm>
            <a:off x="6753240" y="4011480"/>
            <a:ext cx="146160" cy="181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7" h="342">
                <a:moveTo>
                  <a:pt x="0" y="0"/>
                </a:moveTo>
                <a:lnTo>
                  <a:pt x="192" y="342"/>
                </a:lnTo>
                <a:lnTo>
                  <a:pt x="277" y="78"/>
                </a:lnTo>
                <a:lnTo>
                  <a:pt x="246" y="68"/>
                </a:lnTo>
                <a:lnTo>
                  <a:pt x="172" y="196"/>
                </a:lnTo>
                <a:lnTo>
                  <a:pt x="40" y="3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2" name="Freeform 20"/>
          <p:cNvSpPr/>
          <p:nvPr/>
        </p:nvSpPr>
        <p:spPr>
          <a:xfrm>
            <a:off x="6667560" y="392112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8" h="235">
                <a:moveTo>
                  <a:pt x="185" y="220"/>
                </a:moveTo>
                <a:lnTo>
                  <a:pt x="204" y="208"/>
                </a:lnTo>
                <a:lnTo>
                  <a:pt x="219" y="194"/>
                </a:lnTo>
                <a:lnTo>
                  <a:pt x="231" y="176"/>
                </a:lnTo>
                <a:lnTo>
                  <a:pt x="241" y="157"/>
                </a:lnTo>
                <a:lnTo>
                  <a:pt x="247" y="138"/>
                </a:lnTo>
                <a:lnTo>
                  <a:pt x="248" y="118"/>
                </a:lnTo>
                <a:lnTo>
                  <a:pt x="247" y="96"/>
                </a:lnTo>
                <a:lnTo>
                  <a:pt x="241" y="77"/>
                </a:lnTo>
                <a:lnTo>
                  <a:pt x="231" y="58"/>
                </a:lnTo>
                <a:lnTo>
                  <a:pt x="219" y="41"/>
                </a:lnTo>
                <a:lnTo>
                  <a:pt x="204" y="26"/>
                </a:lnTo>
                <a:lnTo>
                  <a:pt x="185" y="16"/>
                </a:lnTo>
                <a:lnTo>
                  <a:pt x="166" y="6"/>
                </a:lnTo>
                <a:lnTo>
                  <a:pt x="145" y="0"/>
                </a:lnTo>
                <a:lnTo>
                  <a:pt x="124" y="0"/>
                </a:lnTo>
                <a:lnTo>
                  <a:pt x="101" y="0"/>
                </a:lnTo>
                <a:lnTo>
                  <a:pt x="82" y="6"/>
                </a:lnTo>
                <a:lnTo>
                  <a:pt x="63" y="16"/>
                </a:lnTo>
                <a:lnTo>
                  <a:pt x="45" y="26"/>
                </a:lnTo>
                <a:lnTo>
                  <a:pt x="28" y="42"/>
                </a:lnTo>
                <a:lnTo>
                  <a:pt x="16" y="58"/>
                </a:lnTo>
                <a:lnTo>
                  <a:pt x="8" y="77"/>
                </a:lnTo>
                <a:lnTo>
                  <a:pt x="2" y="98"/>
                </a:lnTo>
                <a:lnTo>
                  <a:pt x="0" y="118"/>
                </a:lnTo>
                <a:lnTo>
                  <a:pt x="2" y="138"/>
                </a:lnTo>
                <a:lnTo>
                  <a:pt x="8" y="157"/>
                </a:lnTo>
                <a:lnTo>
                  <a:pt x="18" y="176"/>
                </a:lnTo>
                <a:lnTo>
                  <a:pt x="29" y="194"/>
                </a:lnTo>
                <a:lnTo>
                  <a:pt x="45" y="208"/>
                </a:lnTo>
                <a:lnTo>
                  <a:pt x="63" y="220"/>
                </a:lnTo>
                <a:lnTo>
                  <a:pt x="83" y="230"/>
                </a:lnTo>
                <a:lnTo>
                  <a:pt x="107" y="235"/>
                </a:lnTo>
                <a:lnTo>
                  <a:pt x="143" y="233"/>
                </a:lnTo>
                <a:lnTo>
                  <a:pt x="126" y="185"/>
                </a:lnTo>
                <a:lnTo>
                  <a:pt x="96" y="178"/>
                </a:lnTo>
                <a:lnTo>
                  <a:pt x="86" y="173"/>
                </a:lnTo>
                <a:lnTo>
                  <a:pt x="76" y="168"/>
                </a:lnTo>
                <a:lnTo>
                  <a:pt x="69" y="157"/>
                </a:lnTo>
                <a:lnTo>
                  <a:pt x="63" y="149"/>
                </a:lnTo>
                <a:lnTo>
                  <a:pt x="57" y="137"/>
                </a:lnTo>
                <a:lnTo>
                  <a:pt x="56" y="125"/>
                </a:lnTo>
                <a:lnTo>
                  <a:pt x="54" y="114"/>
                </a:lnTo>
                <a:lnTo>
                  <a:pt x="56" y="103"/>
                </a:lnTo>
                <a:lnTo>
                  <a:pt x="59" y="92"/>
                </a:lnTo>
                <a:lnTo>
                  <a:pt x="66" y="80"/>
                </a:lnTo>
                <a:lnTo>
                  <a:pt x="72" y="73"/>
                </a:lnTo>
                <a:lnTo>
                  <a:pt x="82" y="64"/>
                </a:lnTo>
                <a:lnTo>
                  <a:pt x="94" y="57"/>
                </a:lnTo>
                <a:lnTo>
                  <a:pt x="102" y="52"/>
                </a:lnTo>
                <a:lnTo>
                  <a:pt x="115" y="51"/>
                </a:lnTo>
                <a:lnTo>
                  <a:pt x="127" y="51"/>
                </a:lnTo>
                <a:lnTo>
                  <a:pt x="139" y="52"/>
                </a:lnTo>
                <a:lnTo>
                  <a:pt x="150" y="55"/>
                </a:lnTo>
                <a:lnTo>
                  <a:pt x="162" y="61"/>
                </a:lnTo>
                <a:lnTo>
                  <a:pt x="172" y="68"/>
                </a:lnTo>
                <a:lnTo>
                  <a:pt x="181" y="77"/>
                </a:lnTo>
                <a:lnTo>
                  <a:pt x="187" y="86"/>
                </a:lnTo>
                <a:lnTo>
                  <a:pt x="191" y="98"/>
                </a:lnTo>
                <a:lnTo>
                  <a:pt x="194" y="109"/>
                </a:lnTo>
                <a:lnTo>
                  <a:pt x="194" y="121"/>
                </a:lnTo>
                <a:lnTo>
                  <a:pt x="193" y="133"/>
                </a:lnTo>
                <a:lnTo>
                  <a:pt x="188" y="144"/>
                </a:lnTo>
                <a:lnTo>
                  <a:pt x="184" y="154"/>
                </a:lnTo>
                <a:lnTo>
                  <a:pt x="175" y="165"/>
                </a:lnTo>
                <a:lnTo>
                  <a:pt x="159" y="175"/>
                </a:lnTo>
                <a:lnTo>
                  <a:pt x="185" y="22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3" name="Freeform 21"/>
          <p:cNvSpPr/>
          <p:nvPr/>
        </p:nvSpPr>
        <p:spPr>
          <a:xfrm>
            <a:off x="6856560" y="3959280"/>
            <a:ext cx="129960" cy="128520"/>
          </a:xfrm>
          <a:custGeom>
            <a:avLst/>
            <a:gdLst>
              <a:gd name="textAreaLeft" fmla="*/ 0 w 129960"/>
              <a:gd name="textAreaRight" fmla="*/ 130320 w 129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6" h="245">
                <a:moveTo>
                  <a:pt x="115" y="245"/>
                </a:moveTo>
                <a:lnTo>
                  <a:pt x="128" y="238"/>
                </a:lnTo>
                <a:lnTo>
                  <a:pt x="148" y="235"/>
                </a:lnTo>
                <a:lnTo>
                  <a:pt x="169" y="229"/>
                </a:lnTo>
                <a:lnTo>
                  <a:pt x="188" y="219"/>
                </a:lnTo>
                <a:lnTo>
                  <a:pt x="205" y="207"/>
                </a:lnTo>
                <a:lnTo>
                  <a:pt x="221" y="191"/>
                </a:lnTo>
                <a:lnTo>
                  <a:pt x="233" y="174"/>
                </a:lnTo>
                <a:lnTo>
                  <a:pt x="240" y="155"/>
                </a:lnTo>
                <a:lnTo>
                  <a:pt x="246" y="134"/>
                </a:lnTo>
                <a:lnTo>
                  <a:pt x="246" y="114"/>
                </a:lnTo>
                <a:lnTo>
                  <a:pt x="245" y="94"/>
                </a:lnTo>
                <a:lnTo>
                  <a:pt x="237" y="73"/>
                </a:lnTo>
                <a:lnTo>
                  <a:pt x="228" y="56"/>
                </a:lnTo>
                <a:lnTo>
                  <a:pt x="215" y="40"/>
                </a:lnTo>
                <a:lnTo>
                  <a:pt x="199" y="25"/>
                </a:lnTo>
                <a:lnTo>
                  <a:pt x="180" y="13"/>
                </a:lnTo>
                <a:lnTo>
                  <a:pt x="161" y="6"/>
                </a:lnTo>
                <a:lnTo>
                  <a:pt x="141" y="2"/>
                </a:lnTo>
                <a:lnTo>
                  <a:pt x="118" y="0"/>
                </a:lnTo>
                <a:lnTo>
                  <a:pt x="96" y="2"/>
                </a:lnTo>
                <a:lnTo>
                  <a:pt x="75" y="9"/>
                </a:lnTo>
                <a:lnTo>
                  <a:pt x="58" y="18"/>
                </a:lnTo>
                <a:lnTo>
                  <a:pt x="40" y="30"/>
                </a:lnTo>
                <a:lnTo>
                  <a:pt x="24" y="46"/>
                </a:lnTo>
                <a:lnTo>
                  <a:pt x="13" y="63"/>
                </a:lnTo>
                <a:lnTo>
                  <a:pt x="5" y="82"/>
                </a:lnTo>
                <a:lnTo>
                  <a:pt x="0" y="102"/>
                </a:lnTo>
                <a:lnTo>
                  <a:pt x="0" y="123"/>
                </a:lnTo>
                <a:lnTo>
                  <a:pt x="1" y="143"/>
                </a:lnTo>
                <a:lnTo>
                  <a:pt x="8" y="164"/>
                </a:lnTo>
                <a:lnTo>
                  <a:pt x="18" y="183"/>
                </a:lnTo>
                <a:lnTo>
                  <a:pt x="35" y="202"/>
                </a:lnTo>
                <a:lnTo>
                  <a:pt x="64" y="220"/>
                </a:lnTo>
                <a:lnTo>
                  <a:pt x="81" y="172"/>
                </a:lnTo>
                <a:lnTo>
                  <a:pt x="61" y="150"/>
                </a:lnTo>
                <a:lnTo>
                  <a:pt x="56" y="142"/>
                </a:lnTo>
                <a:lnTo>
                  <a:pt x="53" y="129"/>
                </a:lnTo>
                <a:lnTo>
                  <a:pt x="52" y="117"/>
                </a:lnTo>
                <a:lnTo>
                  <a:pt x="53" y="105"/>
                </a:lnTo>
                <a:lnTo>
                  <a:pt x="58" y="95"/>
                </a:lnTo>
                <a:lnTo>
                  <a:pt x="62" y="85"/>
                </a:lnTo>
                <a:lnTo>
                  <a:pt x="70" y="75"/>
                </a:lnTo>
                <a:lnTo>
                  <a:pt x="78" y="66"/>
                </a:lnTo>
                <a:lnTo>
                  <a:pt x="88" y="59"/>
                </a:lnTo>
                <a:lnTo>
                  <a:pt x="99" y="54"/>
                </a:lnTo>
                <a:lnTo>
                  <a:pt x="112" y="53"/>
                </a:lnTo>
                <a:lnTo>
                  <a:pt x="123" y="51"/>
                </a:lnTo>
                <a:lnTo>
                  <a:pt x="137" y="53"/>
                </a:lnTo>
                <a:lnTo>
                  <a:pt x="148" y="56"/>
                </a:lnTo>
                <a:lnTo>
                  <a:pt x="158" y="62"/>
                </a:lnTo>
                <a:lnTo>
                  <a:pt x="167" y="69"/>
                </a:lnTo>
                <a:lnTo>
                  <a:pt x="177" y="76"/>
                </a:lnTo>
                <a:lnTo>
                  <a:pt x="183" y="86"/>
                </a:lnTo>
                <a:lnTo>
                  <a:pt x="189" y="97"/>
                </a:lnTo>
                <a:lnTo>
                  <a:pt x="191" y="110"/>
                </a:lnTo>
                <a:lnTo>
                  <a:pt x="192" y="120"/>
                </a:lnTo>
                <a:lnTo>
                  <a:pt x="191" y="132"/>
                </a:lnTo>
                <a:lnTo>
                  <a:pt x="188" y="142"/>
                </a:lnTo>
                <a:lnTo>
                  <a:pt x="183" y="153"/>
                </a:lnTo>
                <a:lnTo>
                  <a:pt x="175" y="164"/>
                </a:lnTo>
                <a:lnTo>
                  <a:pt x="167" y="171"/>
                </a:lnTo>
                <a:lnTo>
                  <a:pt x="157" y="178"/>
                </a:lnTo>
                <a:lnTo>
                  <a:pt x="144" y="183"/>
                </a:lnTo>
                <a:lnTo>
                  <a:pt x="132" y="185"/>
                </a:lnTo>
                <a:lnTo>
                  <a:pt x="113" y="184"/>
                </a:lnTo>
                <a:lnTo>
                  <a:pt x="115" y="2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Freeform 22"/>
          <p:cNvSpPr/>
          <p:nvPr/>
        </p:nvSpPr>
        <p:spPr>
          <a:xfrm>
            <a:off x="6580080" y="4017960"/>
            <a:ext cx="243000" cy="200160"/>
          </a:xfrm>
          <a:custGeom>
            <a:avLst/>
            <a:gdLst>
              <a:gd name="textAreaLeft" fmla="*/ 0 w 243000"/>
              <a:gd name="textAreaRight" fmla="*/ 243360 w 243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459" h="378">
                <a:moveTo>
                  <a:pt x="0" y="289"/>
                </a:moveTo>
                <a:lnTo>
                  <a:pt x="459" y="378"/>
                </a:lnTo>
                <a:lnTo>
                  <a:pt x="292" y="0"/>
                </a:lnTo>
                <a:lnTo>
                  <a:pt x="262" y="34"/>
                </a:lnTo>
                <a:lnTo>
                  <a:pt x="340" y="287"/>
                </a:lnTo>
                <a:lnTo>
                  <a:pt x="3" y="258"/>
                </a:lnTo>
                <a:lnTo>
                  <a:pt x="0" y="28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Freeform 23"/>
          <p:cNvSpPr/>
          <p:nvPr/>
        </p:nvSpPr>
        <p:spPr>
          <a:xfrm>
            <a:off x="6477120" y="4103640"/>
            <a:ext cx="129960" cy="125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45" h="238">
                <a:moveTo>
                  <a:pt x="244" y="137"/>
                </a:moveTo>
                <a:lnTo>
                  <a:pt x="245" y="117"/>
                </a:lnTo>
                <a:lnTo>
                  <a:pt x="242" y="95"/>
                </a:lnTo>
                <a:lnTo>
                  <a:pt x="236" y="76"/>
                </a:lnTo>
                <a:lnTo>
                  <a:pt x="226" y="58"/>
                </a:lnTo>
                <a:lnTo>
                  <a:pt x="214" y="41"/>
                </a:lnTo>
                <a:lnTo>
                  <a:pt x="198" y="26"/>
                </a:lnTo>
                <a:lnTo>
                  <a:pt x="181" y="15"/>
                </a:lnTo>
                <a:lnTo>
                  <a:pt x="160" y="7"/>
                </a:lnTo>
                <a:lnTo>
                  <a:pt x="140" y="1"/>
                </a:lnTo>
                <a:lnTo>
                  <a:pt x="118" y="0"/>
                </a:lnTo>
                <a:lnTo>
                  <a:pt x="98" y="3"/>
                </a:lnTo>
                <a:lnTo>
                  <a:pt x="76" y="9"/>
                </a:lnTo>
                <a:lnTo>
                  <a:pt x="55" y="17"/>
                </a:lnTo>
                <a:lnTo>
                  <a:pt x="39" y="31"/>
                </a:lnTo>
                <a:lnTo>
                  <a:pt x="25" y="44"/>
                </a:lnTo>
                <a:lnTo>
                  <a:pt x="12" y="63"/>
                </a:lnTo>
                <a:lnTo>
                  <a:pt x="4" y="80"/>
                </a:lnTo>
                <a:lnTo>
                  <a:pt x="0" y="101"/>
                </a:lnTo>
                <a:lnTo>
                  <a:pt x="0" y="121"/>
                </a:lnTo>
                <a:lnTo>
                  <a:pt x="0" y="141"/>
                </a:lnTo>
                <a:lnTo>
                  <a:pt x="6" y="162"/>
                </a:lnTo>
                <a:lnTo>
                  <a:pt x="16" y="181"/>
                </a:lnTo>
                <a:lnTo>
                  <a:pt x="29" y="197"/>
                </a:lnTo>
                <a:lnTo>
                  <a:pt x="42" y="211"/>
                </a:lnTo>
                <a:lnTo>
                  <a:pt x="61" y="223"/>
                </a:lnTo>
                <a:lnTo>
                  <a:pt x="80" y="232"/>
                </a:lnTo>
                <a:lnTo>
                  <a:pt x="102" y="235"/>
                </a:lnTo>
                <a:lnTo>
                  <a:pt x="124" y="238"/>
                </a:lnTo>
                <a:lnTo>
                  <a:pt x="146" y="235"/>
                </a:lnTo>
                <a:lnTo>
                  <a:pt x="166" y="229"/>
                </a:lnTo>
                <a:lnTo>
                  <a:pt x="185" y="220"/>
                </a:lnTo>
                <a:lnTo>
                  <a:pt x="206" y="204"/>
                </a:lnTo>
                <a:lnTo>
                  <a:pt x="226" y="178"/>
                </a:lnTo>
                <a:lnTo>
                  <a:pt x="176" y="160"/>
                </a:lnTo>
                <a:lnTo>
                  <a:pt x="155" y="178"/>
                </a:lnTo>
                <a:lnTo>
                  <a:pt x="143" y="184"/>
                </a:lnTo>
                <a:lnTo>
                  <a:pt x="131" y="185"/>
                </a:lnTo>
                <a:lnTo>
                  <a:pt x="120" y="185"/>
                </a:lnTo>
                <a:lnTo>
                  <a:pt x="106" y="184"/>
                </a:lnTo>
                <a:lnTo>
                  <a:pt x="95" y="181"/>
                </a:lnTo>
                <a:lnTo>
                  <a:pt x="85" y="176"/>
                </a:lnTo>
                <a:lnTo>
                  <a:pt x="74" y="168"/>
                </a:lnTo>
                <a:lnTo>
                  <a:pt x="66" y="160"/>
                </a:lnTo>
                <a:lnTo>
                  <a:pt x="58" y="150"/>
                </a:lnTo>
                <a:lnTo>
                  <a:pt x="54" y="140"/>
                </a:lnTo>
                <a:lnTo>
                  <a:pt x="51" y="128"/>
                </a:lnTo>
                <a:lnTo>
                  <a:pt x="51" y="117"/>
                </a:lnTo>
                <a:lnTo>
                  <a:pt x="53" y="105"/>
                </a:lnTo>
                <a:lnTo>
                  <a:pt x="55" y="93"/>
                </a:lnTo>
                <a:lnTo>
                  <a:pt x="61" y="83"/>
                </a:lnTo>
                <a:lnTo>
                  <a:pt x="69" y="74"/>
                </a:lnTo>
                <a:lnTo>
                  <a:pt x="77" y="64"/>
                </a:lnTo>
                <a:lnTo>
                  <a:pt x="88" y="60"/>
                </a:lnTo>
                <a:lnTo>
                  <a:pt x="99" y="55"/>
                </a:lnTo>
                <a:lnTo>
                  <a:pt x="111" y="52"/>
                </a:lnTo>
                <a:lnTo>
                  <a:pt x="123" y="51"/>
                </a:lnTo>
                <a:lnTo>
                  <a:pt x="136" y="52"/>
                </a:lnTo>
                <a:lnTo>
                  <a:pt x="147" y="57"/>
                </a:lnTo>
                <a:lnTo>
                  <a:pt x="158" y="61"/>
                </a:lnTo>
                <a:lnTo>
                  <a:pt x="168" y="68"/>
                </a:lnTo>
                <a:lnTo>
                  <a:pt x="176" y="77"/>
                </a:lnTo>
                <a:lnTo>
                  <a:pt x="184" y="87"/>
                </a:lnTo>
                <a:lnTo>
                  <a:pt x="188" y="98"/>
                </a:lnTo>
                <a:lnTo>
                  <a:pt x="191" y="108"/>
                </a:lnTo>
                <a:lnTo>
                  <a:pt x="190" y="128"/>
                </a:lnTo>
                <a:lnTo>
                  <a:pt x="244" y="137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Freeform 24"/>
          <p:cNvSpPr/>
          <p:nvPr/>
        </p:nvSpPr>
        <p:spPr>
          <a:xfrm>
            <a:off x="6567480" y="4056120"/>
            <a:ext cx="884160" cy="447480"/>
          </a:xfrm>
          <a:custGeom>
            <a:avLst/>
            <a:gdLst>
              <a:gd name="textAreaLeft" fmla="*/ 0 w 884160"/>
              <a:gd name="textAreaRight" fmla="*/ 884520 w 8841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1" h="846">
                <a:moveTo>
                  <a:pt x="4" y="252"/>
                </a:moveTo>
                <a:lnTo>
                  <a:pt x="519" y="397"/>
                </a:lnTo>
                <a:lnTo>
                  <a:pt x="528" y="409"/>
                </a:lnTo>
                <a:lnTo>
                  <a:pt x="540" y="421"/>
                </a:lnTo>
                <a:lnTo>
                  <a:pt x="553" y="437"/>
                </a:lnTo>
                <a:lnTo>
                  <a:pt x="572" y="456"/>
                </a:lnTo>
                <a:lnTo>
                  <a:pt x="592" y="476"/>
                </a:lnTo>
                <a:lnTo>
                  <a:pt x="618" y="501"/>
                </a:lnTo>
                <a:lnTo>
                  <a:pt x="645" y="526"/>
                </a:lnTo>
                <a:lnTo>
                  <a:pt x="675" y="552"/>
                </a:lnTo>
                <a:lnTo>
                  <a:pt x="690" y="567"/>
                </a:lnTo>
                <a:lnTo>
                  <a:pt x="707" y="580"/>
                </a:lnTo>
                <a:lnTo>
                  <a:pt x="725" y="594"/>
                </a:lnTo>
                <a:lnTo>
                  <a:pt x="744" y="607"/>
                </a:lnTo>
                <a:lnTo>
                  <a:pt x="761" y="620"/>
                </a:lnTo>
                <a:lnTo>
                  <a:pt x="780" y="634"/>
                </a:lnTo>
                <a:lnTo>
                  <a:pt x="820" y="660"/>
                </a:lnTo>
                <a:lnTo>
                  <a:pt x="859" y="683"/>
                </a:lnTo>
                <a:lnTo>
                  <a:pt x="900" y="706"/>
                </a:lnTo>
                <a:lnTo>
                  <a:pt x="944" y="725"/>
                </a:lnTo>
                <a:lnTo>
                  <a:pt x="989" y="737"/>
                </a:lnTo>
                <a:lnTo>
                  <a:pt x="1038" y="737"/>
                </a:lnTo>
                <a:lnTo>
                  <a:pt x="1154" y="706"/>
                </a:lnTo>
                <a:lnTo>
                  <a:pt x="1215" y="682"/>
                </a:lnTo>
                <a:lnTo>
                  <a:pt x="1244" y="664"/>
                </a:lnTo>
                <a:lnTo>
                  <a:pt x="1273" y="645"/>
                </a:lnTo>
                <a:lnTo>
                  <a:pt x="1304" y="626"/>
                </a:lnTo>
                <a:lnTo>
                  <a:pt x="1333" y="607"/>
                </a:lnTo>
                <a:lnTo>
                  <a:pt x="1362" y="584"/>
                </a:lnTo>
                <a:lnTo>
                  <a:pt x="1390" y="561"/>
                </a:lnTo>
                <a:lnTo>
                  <a:pt x="1416" y="537"/>
                </a:lnTo>
                <a:lnTo>
                  <a:pt x="1442" y="513"/>
                </a:lnTo>
                <a:lnTo>
                  <a:pt x="1464" y="486"/>
                </a:lnTo>
                <a:lnTo>
                  <a:pt x="1489" y="460"/>
                </a:lnTo>
                <a:lnTo>
                  <a:pt x="1528" y="406"/>
                </a:lnTo>
                <a:lnTo>
                  <a:pt x="1559" y="352"/>
                </a:lnTo>
                <a:lnTo>
                  <a:pt x="1588" y="243"/>
                </a:lnTo>
                <a:lnTo>
                  <a:pt x="1585" y="191"/>
                </a:lnTo>
                <a:lnTo>
                  <a:pt x="1566" y="142"/>
                </a:lnTo>
                <a:lnTo>
                  <a:pt x="1544" y="113"/>
                </a:lnTo>
                <a:lnTo>
                  <a:pt x="1520" y="94"/>
                </a:lnTo>
                <a:lnTo>
                  <a:pt x="1467" y="87"/>
                </a:lnTo>
                <a:lnTo>
                  <a:pt x="1407" y="113"/>
                </a:lnTo>
                <a:lnTo>
                  <a:pt x="1374" y="134"/>
                </a:lnTo>
                <a:lnTo>
                  <a:pt x="1339" y="158"/>
                </a:lnTo>
                <a:lnTo>
                  <a:pt x="1320" y="174"/>
                </a:lnTo>
                <a:lnTo>
                  <a:pt x="1297" y="196"/>
                </a:lnTo>
                <a:lnTo>
                  <a:pt x="1272" y="221"/>
                </a:lnTo>
                <a:lnTo>
                  <a:pt x="1259" y="234"/>
                </a:lnTo>
                <a:lnTo>
                  <a:pt x="1247" y="249"/>
                </a:lnTo>
                <a:lnTo>
                  <a:pt x="1221" y="278"/>
                </a:lnTo>
                <a:lnTo>
                  <a:pt x="1206" y="294"/>
                </a:lnTo>
                <a:lnTo>
                  <a:pt x="1193" y="311"/>
                </a:lnTo>
                <a:lnTo>
                  <a:pt x="1180" y="328"/>
                </a:lnTo>
                <a:lnTo>
                  <a:pt x="1167" y="344"/>
                </a:lnTo>
                <a:lnTo>
                  <a:pt x="1152" y="360"/>
                </a:lnTo>
                <a:lnTo>
                  <a:pt x="1141" y="376"/>
                </a:lnTo>
                <a:lnTo>
                  <a:pt x="1127" y="392"/>
                </a:lnTo>
                <a:lnTo>
                  <a:pt x="1114" y="409"/>
                </a:lnTo>
                <a:lnTo>
                  <a:pt x="1091" y="438"/>
                </a:lnTo>
                <a:lnTo>
                  <a:pt x="1052" y="491"/>
                </a:lnTo>
                <a:lnTo>
                  <a:pt x="1014" y="540"/>
                </a:lnTo>
                <a:lnTo>
                  <a:pt x="604" y="303"/>
                </a:lnTo>
                <a:lnTo>
                  <a:pt x="661" y="0"/>
                </a:lnTo>
                <a:lnTo>
                  <a:pt x="700" y="19"/>
                </a:lnTo>
                <a:lnTo>
                  <a:pt x="678" y="262"/>
                </a:lnTo>
                <a:lnTo>
                  <a:pt x="1003" y="415"/>
                </a:lnTo>
                <a:lnTo>
                  <a:pt x="1040" y="365"/>
                </a:lnTo>
                <a:lnTo>
                  <a:pt x="1082" y="311"/>
                </a:lnTo>
                <a:lnTo>
                  <a:pt x="1092" y="298"/>
                </a:lnTo>
                <a:lnTo>
                  <a:pt x="1106" y="282"/>
                </a:lnTo>
                <a:lnTo>
                  <a:pt x="1132" y="252"/>
                </a:lnTo>
                <a:lnTo>
                  <a:pt x="1145" y="236"/>
                </a:lnTo>
                <a:lnTo>
                  <a:pt x="1158" y="220"/>
                </a:lnTo>
                <a:lnTo>
                  <a:pt x="1174" y="204"/>
                </a:lnTo>
                <a:lnTo>
                  <a:pt x="1187" y="189"/>
                </a:lnTo>
                <a:lnTo>
                  <a:pt x="1203" y="173"/>
                </a:lnTo>
                <a:lnTo>
                  <a:pt x="1218" y="158"/>
                </a:lnTo>
                <a:lnTo>
                  <a:pt x="1231" y="145"/>
                </a:lnTo>
                <a:lnTo>
                  <a:pt x="1246" y="129"/>
                </a:lnTo>
                <a:lnTo>
                  <a:pt x="1273" y="105"/>
                </a:lnTo>
                <a:lnTo>
                  <a:pt x="1301" y="86"/>
                </a:lnTo>
                <a:lnTo>
                  <a:pt x="1326" y="70"/>
                </a:lnTo>
                <a:lnTo>
                  <a:pt x="1351" y="61"/>
                </a:lnTo>
                <a:lnTo>
                  <a:pt x="1394" y="48"/>
                </a:lnTo>
                <a:lnTo>
                  <a:pt x="1439" y="37"/>
                </a:lnTo>
                <a:lnTo>
                  <a:pt x="1523" y="27"/>
                </a:lnTo>
                <a:lnTo>
                  <a:pt x="1593" y="46"/>
                </a:lnTo>
                <a:lnTo>
                  <a:pt x="1641" y="109"/>
                </a:lnTo>
                <a:lnTo>
                  <a:pt x="1671" y="266"/>
                </a:lnTo>
                <a:lnTo>
                  <a:pt x="1664" y="339"/>
                </a:lnTo>
                <a:lnTo>
                  <a:pt x="1644" y="411"/>
                </a:lnTo>
                <a:lnTo>
                  <a:pt x="1610" y="476"/>
                </a:lnTo>
                <a:lnTo>
                  <a:pt x="1571" y="539"/>
                </a:lnTo>
                <a:lnTo>
                  <a:pt x="1544" y="568"/>
                </a:lnTo>
                <a:lnTo>
                  <a:pt x="1531" y="583"/>
                </a:lnTo>
                <a:lnTo>
                  <a:pt x="1518" y="597"/>
                </a:lnTo>
                <a:lnTo>
                  <a:pt x="1505" y="610"/>
                </a:lnTo>
                <a:lnTo>
                  <a:pt x="1491" y="625"/>
                </a:lnTo>
                <a:lnTo>
                  <a:pt x="1463" y="651"/>
                </a:lnTo>
                <a:lnTo>
                  <a:pt x="1432" y="674"/>
                </a:lnTo>
                <a:lnTo>
                  <a:pt x="1400" y="699"/>
                </a:lnTo>
                <a:lnTo>
                  <a:pt x="1368" y="720"/>
                </a:lnTo>
                <a:lnTo>
                  <a:pt x="1334" y="739"/>
                </a:lnTo>
                <a:lnTo>
                  <a:pt x="1301" y="758"/>
                </a:lnTo>
                <a:lnTo>
                  <a:pt x="1267" y="775"/>
                </a:lnTo>
                <a:lnTo>
                  <a:pt x="1234" y="791"/>
                </a:lnTo>
                <a:lnTo>
                  <a:pt x="1200" y="806"/>
                </a:lnTo>
                <a:lnTo>
                  <a:pt x="1135" y="826"/>
                </a:lnTo>
                <a:lnTo>
                  <a:pt x="1072" y="841"/>
                </a:lnTo>
                <a:lnTo>
                  <a:pt x="963" y="846"/>
                </a:lnTo>
                <a:lnTo>
                  <a:pt x="878" y="823"/>
                </a:lnTo>
                <a:lnTo>
                  <a:pt x="834" y="801"/>
                </a:lnTo>
                <a:lnTo>
                  <a:pt x="792" y="776"/>
                </a:lnTo>
                <a:lnTo>
                  <a:pt x="770" y="762"/>
                </a:lnTo>
                <a:lnTo>
                  <a:pt x="748" y="747"/>
                </a:lnTo>
                <a:lnTo>
                  <a:pt x="728" y="731"/>
                </a:lnTo>
                <a:lnTo>
                  <a:pt x="707" y="714"/>
                </a:lnTo>
                <a:lnTo>
                  <a:pt x="687" y="696"/>
                </a:lnTo>
                <a:lnTo>
                  <a:pt x="668" y="682"/>
                </a:lnTo>
                <a:lnTo>
                  <a:pt x="648" y="663"/>
                </a:lnTo>
                <a:lnTo>
                  <a:pt x="630" y="645"/>
                </a:lnTo>
                <a:lnTo>
                  <a:pt x="613" y="629"/>
                </a:lnTo>
                <a:lnTo>
                  <a:pt x="595" y="612"/>
                </a:lnTo>
                <a:lnTo>
                  <a:pt x="578" y="594"/>
                </a:lnTo>
                <a:lnTo>
                  <a:pt x="562" y="578"/>
                </a:lnTo>
                <a:lnTo>
                  <a:pt x="547" y="562"/>
                </a:lnTo>
                <a:lnTo>
                  <a:pt x="534" y="548"/>
                </a:lnTo>
                <a:lnTo>
                  <a:pt x="509" y="520"/>
                </a:lnTo>
                <a:lnTo>
                  <a:pt x="489" y="498"/>
                </a:lnTo>
                <a:lnTo>
                  <a:pt x="474" y="479"/>
                </a:lnTo>
                <a:lnTo>
                  <a:pt x="461" y="463"/>
                </a:lnTo>
                <a:lnTo>
                  <a:pt x="0" y="288"/>
                </a:lnTo>
                <a:lnTo>
                  <a:pt x="4" y="25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7" name="Freeform 25"/>
          <p:cNvSpPr/>
          <p:nvPr/>
        </p:nvSpPr>
        <p:spPr>
          <a:xfrm>
            <a:off x="6834240" y="3454560"/>
            <a:ext cx="534960" cy="563400"/>
          </a:xfrm>
          <a:custGeom>
            <a:avLst/>
            <a:gdLst>
              <a:gd name="textAreaLeft" fmla="*/ 0 w 534960"/>
              <a:gd name="textAreaRight" fmla="*/ 535320 w 53496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3" h="1065">
                <a:moveTo>
                  <a:pt x="999" y="303"/>
                </a:moveTo>
                <a:lnTo>
                  <a:pt x="1013" y="195"/>
                </a:lnTo>
                <a:lnTo>
                  <a:pt x="997" y="105"/>
                </a:lnTo>
                <a:lnTo>
                  <a:pt x="971" y="65"/>
                </a:lnTo>
                <a:lnTo>
                  <a:pt x="952" y="49"/>
                </a:lnTo>
                <a:lnTo>
                  <a:pt x="929" y="33"/>
                </a:lnTo>
                <a:lnTo>
                  <a:pt x="882" y="11"/>
                </a:lnTo>
                <a:lnTo>
                  <a:pt x="838" y="0"/>
                </a:lnTo>
                <a:lnTo>
                  <a:pt x="768" y="4"/>
                </a:lnTo>
                <a:lnTo>
                  <a:pt x="710" y="26"/>
                </a:lnTo>
                <a:lnTo>
                  <a:pt x="665" y="51"/>
                </a:lnTo>
                <a:lnTo>
                  <a:pt x="615" y="70"/>
                </a:lnTo>
                <a:lnTo>
                  <a:pt x="557" y="86"/>
                </a:lnTo>
                <a:lnTo>
                  <a:pt x="437" y="105"/>
                </a:lnTo>
                <a:lnTo>
                  <a:pt x="200" y="138"/>
                </a:lnTo>
                <a:lnTo>
                  <a:pt x="68" y="192"/>
                </a:lnTo>
                <a:lnTo>
                  <a:pt x="1" y="293"/>
                </a:lnTo>
                <a:lnTo>
                  <a:pt x="0" y="325"/>
                </a:lnTo>
                <a:lnTo>
                  <a:pt x="0" y="357"/>
                </a:lnTo>
                <a:lnTo>
                  <a:pt x="16" y="415"/>
                </a:lnTo>
                <a:lnTo>
                  <a:pt x="41" y="470"/>
                </a:lnTo>
                <a:lnTo>
                  <a:pt x="71" y="520"/>
                </a:lnTo>
                <a:lnTo>
                  <a:pt x="103" y="561"/>
                </a:lnTo>
                <a:lnTo>
                  <a:pt x="118" y="580"/>
                </a:lnTo>
                <a:lnTo>
                  <a:pt x="131" y="593"/>
                </a:lnTo>
                <a:lnTo>
                  <a:pt x="151" y="615"/>
                </a:lnTo>
                <a:lnTo>
                  <a:pt x="159" y="622"/>
                </a:lnTo>
                <a:lnTo>
                  <a:pt x="687" y="1065"/>
                </a:lnTo>
                <a:lnTo>
                  <a:pt x="676" y="953"/>
                </a:lnTo>
                <a:lnTo>
                  <a:pt x="163" y="520"/>
                </a:lnTo>
                <a:lnTo>
                  <a:pt x="144" y="494"/>
                </a:lnTo>
                <a:lnTo>
                  <a:pt x="111" y="431"/>
                </a:lnTo>
                <a:lnTo>
                  <a:pt x="95" y="351"/>
                </a:lnTo>
                <a:lnTo>
                  <a:pt x="106" y="313"/>
                </a:lnTo>
                <a:lnTo>
                  <a:pt x="118" y="296"/>
                </a:lnTo>
                <a:lnTo>
                  <a:pt x="135" y="280"/>
                </a:lnTo>
                <a:lnTo>
                  <a:pt x="156" y="265"/>
                </a:lnTo>
                <a:lnTo>
                  <a:pt x="179" y="250"/>
                </a:lnTo>
                <a:lnTo>
                  <a:pt x="235" y="230"/>
                </a:lnTo>
                <a:lnTo>
                  <a:pt x="297" y="211"/>
                </a:lnTo>
                <a:lnTo>
                  <a:pt x="363" y="198"/>
                </a:lnTo>
                <a:lnTo>
                  <a:pt x="490" y="182"/>
                </a:lnTo>
                <a:lnTo>
                  <a:pt x="593" y="175"/>
                </a:lnTo>
                <a:lnTo>
                  <a:pt x="665" y="156"/>
                </a:lnTo>
                <a:lnTo>
                  <a:pt x="694" y="140"/>
                </a:lnTo>
                <a:lnTo>
                  <a:pt x="720" y="124"/>
                </a:lnTo>
                <a:lnTo>
                  <a:pt x="748" y="109"/>
                </a:lnTo>
                <a:lnTo>
                  <a:pt x="777" y="99"/>
                </a:lnTo>
                <a:lnTo>
                  <a:pt x="846" y="105"/>
                </a:lnTo>
                <a:lnTo>
                  <a:pt x="879" y="126"/>
                </a:lnTo>
                <a:lnTo>
                  <a:pt x="901" y="151"/>
                </a:lnTo>
                <a:lnTo>
                  <a:pt x="923" y="212"/>
                </a:lnTo>
                <a:lnTo>
                  <a:pt x="919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8" name="Freeform 26"/>
          <p:cNvSpPr/>
          <p:nvPr/>
        </p:nvSpPr>
        <p:spPr>
          <a:xfrm>
            <a:off x="7148520" y="4513320"/>
            <a:ext cx="981000" cy="61596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54" h="1165">
                <a:moveTo>
                  <a:pt x="0" y="1121"/>
                </a:moveTo>
                <a:lnTo>
                  <a:pt x="533" y="751"/>
                </a:lnTo>
                <a:lnTo>
                  <a:pt x="1530" y="565"/>
                </a:lnTo>
                <a:lnTo>
                  <a:pt x="1550" y="577"/>
                </a:lnTo>
                <a:lnTo>
                  <a:pt x="1569" y="586"/>
                </a:lnTo>
                <a:lnTo>
                  <a:pt x="1599" y="593"/>
                </a:lnTo>
                <a:lnTo>
                  <a:pt x="1660" y="592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9"/>
                </a:lnTo>
                <a:lnTo>
                  <a:pt x="1743" y="469"/>
                </a:lnTo>
                <a:lnTo>
                  <a:pt x="1733" y="428"/>
                </a:lnTo>
                <a:lnTo>
                  <a:pt x="1723" y="409"/>
                </a:lnTo>
                <a:lnTo>
                  <a:pt x="1711" y="392"/>
                </a:lnTo>
                <a:lnTo>
                  <a:pt x="1699" y="375"/>
                </a:lnTo>
                <a:lnTo>
                  <a:pt x="1688" y="358"/>
                </a:lnTo>
                <a:lnTo>
                  <a:pt x="1664" y="334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2"/>
                </a:lnTo>
                <a:lnTo>
                  <a:pt x="1613" y="283"/>
                </a:lnTo>
                <a:lnTo>
                  <a:pt x="1597" y="270"/>
                </a:lnTo>
                <a:lnTo>
                  <a:pt x="1577" y="255"/>
                </a:lnTo>
                <a:lnTo>
                  <a:pt x="1552" y="238"/>
                </a:lnTo>
                <a:lnTo>
                  <a:pt x="1524" y="220"/>
                </a:lnTo>
                <a:lnTo>
                  <a:pt x="1491" y="203"/>
                </a:lnTo>
                <a:lnTo>
                  <a:pt x="1453" y="185"/>
                </a:lnTo>
                <a:lnTo>
                  <a:pt x="1410" y="168"/>
                </a:lnTo>
                <a:lnTo>
                  <a:pt x="1362" y="152"/>
                </a:lnTo>
                <a:lnTo>
                  <a:pt x="1308" y="135"/>
                </a:lnTo>
                <a:lnTo>
                  <a:pt x="1250" y="122"/>
                </a:lnTo>
                <a:lnTo>
                  <a:pt x="1186" y="112"/>
                </a:lnTo>
                <a:lnTo>
                  <a:pt x="1116" y="103"/>
                </a:lnTo>
                <a:lnTo>
                  <a:pt x="980" y="98"/>
                </a:lnTo>
                <a:lnTo>
                  <a:pt x="862" y="103"/>
                </a:lnTo>
                <a:lnTo>
                  <a:pt x="681" y="141"/>
                </a:lnTo>
                <a:lnTo>
                  <a:pt x="617" y="165"/>
                </a:lnTo>
                <a:lnTo>
                  <a:pt x="572" y="185"/>
                </a:lnTo>
                <a:lnTo>
                  <a:pt x="535" y="207"/>
                </a:lnTo>
                <a:lnTo>
                  <a:pt x="511" y="135"/>
                </a:lnTo>
                <a:lnTo>
                  <a:pt x="519" y="130"/>
                </a:lnTo>
                <a:lnTo>
                  <a:pt x="547" y="115"/>
                </a:lnTo>
                <a:lnTo>
                  <a:pt x="591" y="92"/>
                </a:lnTo>
                <a:lnTo>
                  <a:pt x="617" y="80"/>
                </a:lnTo>
                <a:lnTo>
                  <a:pt x="648" y="68"/>
                </a:lnTo>
                <a:lnTo>
                  <a:pt x="684" y="55"/>
                </a:lnTo>
                <a:lnTo>
                  <a:pt x="721" y="44"/>
                </a:lnTo>
                <a:lnTo>
                  <a:pt x="763" y="31"/>
                </a:lnTo>
                <a:lnTo>
                  <a:pt x="807" y="22"/>
                </a:lnTo>
                <a:lnTo>
                  <a:pt x="903" y="6"/>
                </a:lnTo>
                <a:lnTo>
                  <a:pt x="1009" y="0"/>
                </a:lnTo>
                <a:lnTo>
                  <a:pt x="1225" y="19"/>
                </a:lnTo>
                <a:lnTo>
                  <a:pt x="1324" y="39"/>
                </a:lnTo>
                <a:lnTo>
                  <a:pt x="1373" y="54"/>
                </a:lnTo>
                <a:lnTo>
                  <a:pt x="1419" y="70"/>
                </a:lnTo>
                <a:lnTo>
                  <a:pt x="1463" y="86"/>
                </a:lnTo>
                <a:lnTo>
                  <a:pt x="1505" y="105"/>
                </a:lnTo>
                <a:lnTo>
                  <a:pt x="1545" y="127"/>
                </a:lnTo>
                <a:lnTo>
                  <a:pt x="1583" y="147"/>
                </a:lnTo>
                <a:lnTo>
                  <a:pt x="1618" y="170"/>
                </a:lnTo>
                <a:lnTo>
                  <a:pt x="1650" y="194"/>
                </a:lnTo>
                <a:lnTo>
                  <a:pt x="1679" y="220"/>
                </a:lnTo>
                <a:lnTo>
                  <a:pt x="1705" y="245"/>
                </a:lnTo>
                <a:lnTo>
                  <a:pt x="1718" y="258"/>
                </a:lnTo>
                <a:lnTo>
                  <a:pt x="1730" y="271"/>
                </a:lnTo>
                <a:lnTo>
                  <a:pt x="1752" y="296"/>
                </a:lnTo>
                <a:lnTo>
                  <a:pt x="1771" y="319"/>
                </a:lnTo>
                <a:lnTo>
                  <a:pt x="1788" y="344"/>
                </a:lnTo>
                <a:lnTo>
                  <a:pt x="1803" y="366"/>
                </a:lnTo>
                <a:lnTo>
                  <a:pt x="1817" y="388"/>
                </a:lnTo>
                <a:lnTo>
                  <a:pt x="1828" y="408"/>
                </a:lnTo>
                <a:lnTo>
                  <a:pt x="1838" y="428"/>
                </a:lnTo>
                <a:lnTo>
                  <a:pt x="1849" y="469"/>
                </a:lnTo>
                <a:lnTo>
                  <a:pt x="1854" y="507"/>
                </a:lnTo>
                <a:lnTo>
                  <a:pt x="1851" y="545"/>
                </a:lnTo>
                <a:lnTo>
                  <a:pt x="1839" y="584"/>
                </a:lnTo>
                <a:lnTo>
                  <a:pt x="1829" y="603"/>
                </a:lnTo>
                <a:lnTo>
                  <a:pt x="1822" y="621"/>
                </a:lnTo>
                <a:lnTo>
                  <a:pt x="1814" y="635"/>
                </a:lnTo>
                <a:lnTo>
                  <a:pt x="1804" y="647"/>
                </a:lnTo>
                <a:lnTo>
                  <a:pt x="1795" y="659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9" y="714"/>
                </a:lnTo>
                <a:lnTo>
                  <a:pt x="1615" y="710"/>
                </a:lnTo>
                <a:lnTo>
                  <a:pt x="1567" y="694"/>
                </a:lnTo>
                <a:lnTo>
                  <a:pt x="1532" y="678"/>
                </a:lnTo>
                <a:lnTo>
                  <a:pt x="1518" y="670"/>
                </a:lnTo>
                <a:lnTo>
                  <a:pt x="544" y="857"/>
                </a:lnTo>
                <a:lnTo>
                  <a:pt x="37" y="1165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Freeform 27"/>
          <p:cNvSpPr/>
          <p:nvPr/>
        </p:nvSpPr>
        <p:spPr>
          <a:xfrm>
            <a:off x="7264440" y="4335480"/>
            <a:ext cx="770040" cy="368280"/>
          </a:xfrm>
          <a:custGeom>
            <a:avLst/>
            <a:gdLst>
              <a:gd name="textAreaLeft" fmla="*/ 0 w 770040"/>
              <a:gd name="textAreaRight" fmla="*/ 770400 w 770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2"/>
                </a:moveTo>
                <a:lnTo>
                  <a:pt x="1435" y="287"/>
                </a:lnTo>
                <a:lnTo>
                  <a:pt x="1413" y="270"/>
                </a:lnTo>
                <a:lnTo>
                  <a:pt x="1383" y="249"/>
                </a:lnTo>
                <a:lnTo>
                  <a:pt x="1366" y="238"/>
                </a:lnTo>
                <a:lnTo>
                  <a:pt x="1346" y="225"/>
                </a:lnTo>
                <a:lnTo>
                  <a:pt x="1324" y="210"/>
                </a:lnTo>
                <a:lnTo>
                  <a:pt x="1302" y="195"/>
                </a:lnTo>
                <a:lnTo>
                  <a:pt x="1278" y="182"/>
                </a:lnTo>
                <a:lnTo>
                  <a:pt x="1251" y="166"/>
                </a:lnTo>
                <a:lnTo>
                  <a:pt x="1224" y="152"/>
                </a:lnTo>
                <a:lnTo>
                  <a:pt x="1196" y="137"/>
                </a:lnTo>
                <a:lnTo>
                  <a:pt x="1167" y="123"/>
                </a:lnTo>
                <a:lnTo>
                  <a:pt x="1135" y="107"/>
                </a:lnTo>
                <a:lnTo>
                  <a:pt x="1103" y="93"/>
                </a:lnTo>
                <a:lnTo>
                  <a:pt x="1069" y="79"/>
                </a:lnTo>
                <a:lnTo>
                  <a:pt x="1035" y="66"/>
                </a:lnTo>
                <a:lnTo>
                  <a:pt x="999" y="53"/>
                </a:lnTo>
                <a:lnTo>
                  <a:pt x="963" y="41"/>
                </a:lnTo>
                <a:lnTo>
                  <a:pt x="926" y="31"/>
                </a:lnTo>
                <a:lnTo>
                  <a:pt x="850" y="13"/>
                </a:lnTo>
                <a:lnTo>
                  <a:pt x="771" y="2"/>
                </a:lnTo>
                <a:lnTo>
                  <a:pt x="607" y="0"/>
                </a:lnTo>
                <a:lnTo>
                  <a:pt x="456" y="21"/>
                </a:lnTo>
                <a:lnTo>
                  <a:pt x="394" y="38"/>
                </a:lnTo>
                <a:lnTo>
                  <a:pt x="335" y="58"/>
                </a:lnTo>
                <a:lnTo>
                  <a:pt x="284" y="80"/>
                </a:lnTo>
                <a:lnTo>
                  <a:pt x="239" y="107"/>
                </a:lnTo>
                <a:lnTo>
                  <a:pt x="219" y="118"/>
                </a:lnTo>
                <a:lnTo>
                  <a:pt x="198" y="133"/>
                </a:lnTo>
                <a:lnTo>
                  <a:pt x="181" y="147"/>
                </a:lnTo>
                <a:lnTo>
                  <a:pt x="163" y="163"/>
                </a:lnTo>
                <a:lnTo>
                  <a:pt x="147" y="178"/>
                </a:lnTo>
                <a:lnTo>
                  <a:pt x="134" y="194"/>
                </a:lnTo>
                <a:lnTo>
                  <a:pt x="120" y="209"/>
                </a:lnTo>
                <a:lnTo>
                  <a:pt x="106" y="226"/>
                </a:lnTo>
                <a:lnTo>
                  <a:pt x="95" y="242"/>
                </a:lnTo>
                <a:lnTo>
                  <a:pt x="85" y="260"/>
                </a:lnTo>
                <a:lnTo>
                  <a:pt x="74" y="276"/>
                </a:lnTo>
                <a:lnTo>
                  <a:pt x="66" y="293"/>
                </a:lnTo>
                <a:lnTo>
                  <a:pt x="55" y="309"/>
                </a:lnTo>
                <a:lnTo>
                  <a:pt x="48" y="325"/>
                </a:lnTo>
                <a:lnTo>
                  <a:pt x="41" y="343"/>
                </a:lnTo>
                <a:lnTo>
                  <a:pt x="34" y="359"/>
                </a:lnTo>
                <a:lnTo>
                  <a:pt x="10" y="423"/>
                </a:lnTo>
                <a:lnTo>
                  <a:pt x="0" y="481"/>
                </a:lnTo>
                <a:lnTo>
                  <a:pt x="6" y="531"/>
                </a:lnTo>
                <a:lnTo>
                  <a:pt x="13" y="553"/>
                </a:lnTo>
                <a:lnTo>
                  <a:pt x="23" y="572"/>
                </a:lnTo>
                <a:lnTo>
                  <a:pt x="36" y="589"/>
                </a:lnTo>
                <a:lnTo>
                  <a:pt x="51" y="604"/>
                </a:lnTo>
                <a:lnTo>
                  <a:pt x="67" y="617"/>
                </a:lnTo>
                <a:lnTo>
                  <a:pt x="83" y="630"/>
                </a:lnTo>
                <a:lnTo>
                  <a:pt x="115" y="650"/>
                </a:lnTo>
                <a:lnTo>
                  <a:pt x="144" y="665"/>
                </a:lnTo>
                <a:lnTo>
                  <a:pt x="168" y="676"/>
                </a:lnTo>
                <a:lnTo>
                  <a:pt x="222" y="690"/>
                </a:lnTo>
                <a:lnTo>
                  <a:pt x="292" y="695"/>
                </a:lnTo>
                <a:lnTo>
                  <a:pt x="379" y="695"/>
                </a:lnTo>
                <a:lnTo>
                  <a:pt x="416" y="604"/>
                </a:lnTo>
                <a:lnTo>
                  <a:pt x="369" y="606"/>
                </a:lnTo>
                <a:lnTo>
                  <a:pt x="267" y="602"/>
                </a:lnTo>
                <a:lnTo>
                  <a:pt x="166" y="566"/>
                </a:lnTo>
                <a:lnTo>
                  <a:pt x="133" y="531"/>
                </a:lnTo>
                <a:lnTo>
                  <a:pt x="120" y="480"/>
                </a:lnTo>
                <a:lnTo>
                  <a:pt x="125" y="420"/>
                </a:lnTo>
                <a:lnTo>
                  <a:pt x="134" y="391"/>
                </a:lnTo>
                <a:lnTo>
                  <a:pt x="146" y="362"/>
                </a:lnTo>
                <a:lnTo>
                  <a:pt x="153" y="348"/>
                </a:lnTo>
                <a:lnTo>
                  <a:pt x="162" y="334"/>
                </a:lnTo>
                <a:lnTo>
                  <a:pt x="181" y="308"/>
                </a:lnTo>
                <a:lnTo>
                  <a:pt x="191" y="295"/>
                </a:lnTo>
                <a:lnTo>
                  <a:pt x="203" y="281"/>
                </a:lnTo>
                <a:lnTo>
                  <a:pt x="230" y="257"/>
                </a:lnTo>
                <a:lnTo>
                  <a:pt x="245" y="245"/>
                </a:lnTo>
                <a:lnTo>
                  <a:pt x="261" y="232"/>
                </a:lnTo>
                <a:lnTo>
                  <a:pt x="277" y="220"/>
                </a:lnTo>
                <a:lnTo>
                  <a:pt x="298" y="209"/>
                </a:lnTo>
                <a:lnTo>
                  <a:pt x="335" y="188"/>
                </a:lnTo>
                <a:lnTo>
                  <a:pt x="379" y="168"/>
                </a:lnTo>
                <a:lnTo>
                  <a:pt x="429" y="149"/>
                </a:lnTo>
                <a:lnTo>
                  <a:pt x="481" y="133"/>
                </a:lnTo>
                <a:lnTo>
                  <a:pt x="540" y="117"/>
                </a:lnTo>
                <a:lnTo>
                  <a:pt x="604" y="102"/>
                </a:lnTo>
                <a:lnTo>
                  <a:pt x="739" y="95"/>
                </a:lnTo>
                <a:lnTo>
                  <a:pt x="881" y="115"/>
                </a:lnTo>
                <a:lnTo>
                  <a:pt x="951" y="134"/>
                </a:lnTo>
                <a:lnTo>
                  <a:pt x="1019" y="158"/>
                </a:lnTo>
                <a:lnTo>
                  <a:pt x="1086" y="182"/>
                </a:lnTo>
                <a:lnTo>
                  <a:pt x="1119" y="195"/>
                </a:lnTo>
                <a:lnTo>
                  <a:pt x="1151" y="209"/>
                </a:lnTo>
                <a:lnTo>
                  <a:pt x="1180" y="223"/>
                </a:lnTo>
                <a:lnTo>
                  <a:pt x="1209" y="238"/>
                </a:lnTo>
                <a:lnTo>
                  <a:pt x="1238" y="251"/>
                </a:lnTo>
                <a:lnTo>
                  <a:pt x="1264" y="265"/>
                </a:lnTo>
                <a:lnTo>
                  <a:pt x="1289" y="279"/>
                </a:lnTo>
                <a:lnTo>
                  <a:pt x="1313" y="292"/>
                </a:lnTo>
                <a:lnTo>
                  <a:pt x="1353" y="315"/>
                </a:lnTo>
                <a:lnTo>
                  <a:pt x="1388" y="337"/>
                </a:lnTo>
                <a:lnTo>
                  <a:pt x="1413" y="353"/>
                </a:lnTo>
                <a:lnTo>
                  <a:pt x="1435" y="366"/>
                </a:lnTo>
                <a:lnTo>
                  <a:pt x="1454" y="30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Freeform 28"/>
          <p:cNvSpPr/>
          <p:nvPr/>
        </p:nvSpPr>
        <p:spPr>
          <a:xfrm>
            <a:off x="7242120" y="3548160"/>
            <a:ext cx="938160" cy="919080"/>
          </a:xfrm>
          <a:custGeom>
            <a:avLst/>
            <a:gdLst>
              <a:gd name="textAreaLeft" fmla="*/ 0 w 938160"/>
              <a:gd name="textAreaRight" fmla="*/ 938520 w 9381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1774" h="1739">
                <a:moveTo>
                  <a:pt x="206" y="0"/>
                </a:moveTo>
                <a:lnTo>
                  <a:pt x="238" y="9"/>
                </a:lnTo>
                <a:lnTo>
                  <a:pt x="276" y="21"/>
                </a:lnTo>
                <a:lnTo>
                  <a:pt x="325" y="37"/>
                </a:lnTo>
                <a:lnTo>
                  <a:pt x="385" y="54"/>
                </a:lnTo>
                <a:lnTo>
                  <a:pt x="454" y="78"/>
                </a:lnTo>
                <a:lnTo>
                  <a:pt x="492" y="89"/>
                </a:lnTo>
                <a:lnTo>
                  <a:pt x="530" y="103"/>
                </a:lnTo>
                <a:lnTo>
                  <a:pt x="569" y="116"/>
                </a:lnTo>
                <a:lnTo>
                  <a:pt x="610" y="129"/>
                </a:lnTo>
                <a:lnTo>
                  <a:pt x="652" y="143"/>
                </a:lnTo>
                <a:lnTo>
                  <a:pt x="694" y="158"/>
                </a:lnTo>
                <a:lnTo>
                  <a:pt x="737" y="174"/>
                </a:lnTo>
                <a:lnTo>
                  <a:pt x="779" y="188"/>
                </a:lnTo>
                <a:lnTo>
                  <a:pt x="823" y="205"/>
                </a:lnTo>
                <a:lnTo>
                  <a:pt x="865" y="222"/>
                </a:lnTo>
                <a:lnTo>
                  <a:pt x="907" y="237"/>
                </a:lnTo>
                <a:lnTo>
                  <a:pt x="950" y="254"/>
                </a:lnTo>
                <a:lnTo>
                  <a:pt x="989" y="272"/>
                </a:lnTo>
                <a:lnTo>
                  <a:pt x="1030" y="288"/>
                </a:lnTo>
                <a:lnTo>
                  <a:pt x="1068" y="304"/>
                </a:lnTo>
                <a:lnTo>
                  <a:pt x="1104" y="321"/>
                </a:lnTo>
                <a:lnTo>
                  <a:pt x="1139" y="337"/>
                </a:lnTo>
                <a:lnTo>
                  <a:pt x="1173" y="353"/>
                </a:lnTo>
                <a:lnTo>
                  <a:pt x="1203" y="371"/>
                </a:lnTo>
                <a:lnTo>
                  <a:pt x="1233" y="388"/>
                </a:lnTo>
                <a:lnTo>
                  <a:pt x="1259" y="403"/>
                </a:lnTo>
                <a:lnTo>
                  <a:pt x="1284" y="420"/>
                </a:lnTo>
                <a:lnTo>
                  <a:pt x="1308" y="436"/>
                </a:lnTo>
                <a:lnTo>
                  <a:pt x="1332" y="454"/>
                </a:lnTo>
                <a:lnTo>
                  <a:pt x="1352" y="470"/>
                </a:lnTo>
                <a:lnTo>
                  <a:pt x="1374" y="487"/>
                </a:lnTo>
                <a:lnTo>
                  <a:pt x="1394" y="505"/>
                </a:lnTo>
                <a:lnTo>
                  <a:pt x="1412" y="522"/>
                </a:lnTo>
                <a:lnTo>
                  <a:pt x="1431" y="540"/>
                </a:lnTo>
                <a:lnTo>
                  <a:pt x="1448" y="557"/>
                </a:lnTo>
                <a:lnTo>
                  <a:pt x="1464" y="575"/>
                </a:lnTo>
                <a:lnTo>
                  <a:pt x="1479" y="592"/>
                </a:lnTo>
                <a:lnTo>
                  <a:pt x="1494" y="610"/>
                </a:lnTo>
                <a:lnTo>
                  <a:pt x="1507" y="627"/>
                </a:lnTo>
                <a:lnTo>
                  <a:pt x="1521" y="645"/>
                </a:lnTo>
                <a:lnTo>
                  <a:pt x="1533" y="664"/>
                </a:lnTo>
                <a:lnTo>
                  <a:pt x="1545" y="681"/>
                </a:lnTo>
                <a:lnTo>
                  <a:pt x="1556" y="699"/>
                </a:lnTo>
                <a:lnTo>
                  <a:pt x="1567" y="716"/>
                </a:lnTo>
                <a:lnTo>
                  <a:pt x="1577" y="734"/>
                </a:lnTo>
                <a:lnTo>
                  <a:pt x="1587" y="751"/>
                </a:lnTo>
                <a:lnTo>
                  <a:pt x="1596" y="767"/>
                </a:lnTo>
                <a:lnTo>
                  <a:pt x="1604" y="785"/>
                </a:lnTo>
                <a:lnTo>
                  <a:pt x="1613" y="804"/>
                </a:lnTo>
                <a:lnTo>
                  <a:pt x="1622" y="820"/>
                </a:lnTo>
                <a:lnTo>
                  <a:pt x="1629" y="837"/>
                </a:lnTo>
                <a:lnTo>
                  <a:pt x="1638" y="853"/>
                </a:lnTo>
                <a:lnTo>
                  <a:pt x="1645" y="871"/>
                </a:lnTo>
                <a:lnTo>
                  <a:pt x="1651" y="887"/>
                </a:lnTo>
                <a:lnTo>
                  <a:pt x="1660" y="903"/>
                </a:lnTo>
                <a:lnTo>
                  <a:pt x="1666" y="919"/>
                </a:lnTo>
                <a:lnTo>
                  <a:pt x="1674" y="935"/>
                </a:lnTo>
                <a:lnTo>
                  <a:pt x="1701" y="1009"/>
                </a:lnTo>
                <a:lnTo>
                  <a:pt x="1711" y="1054"/>
                </a:lnTo>
                <a:lnTo>
                  <a:pt x="1721" y="1102"/>
                </a:lnTo>
                <a:lnTo>
                  <a:pt x="1739" y="1206"/>
                </a:lnTo>
                <a:lnTo>
                  <a:pt x="1752" y="1311"/>
                </a:lnTo>
                <a:lnTo>
                  <a:pt x="1774" y="1562"/>
                </a:lnTo>
                <a:lnTo>
                  <a:pt x="1609" y="1739"/>
                </a:lnTo>
                <a:lnTo>
                  <a:pt x="1606" y="1732"/>
                </a:lnTo>
                <a:lnTo>
                  <a:pt x="1593" y="1709"/>
                </a:lnTo>
                <a:lnTo>
                  <a:pt x="1585" y="1691"/>
                </a:lnTo>
                <a:lnTo>
                  <a:pt x="1574" y="1671"/>
                </a:lnTo>
                <a:lnTo>
                  <a:pt x="1564" y="1648"/>
                </a:lnTo>
                <a:lnTo>
                  <a:pt x="1556" y="1636"/>
                </a:lnTo>
                <a:lnTo>
                  <a:pt x="1549" y="1623"/>
                </a:lnTo>
                <a:lnTo>
                  <a:pt x="1542" y="1608"/>
                </a:lnTo>
                <a:lnTo>
                  <a:pt x="1534" y="1594"/>
                </a:lnTo>
                <a:lnTo>
                  <a:pt x="1526" y="1579"/>
                </a:lnTo>
                <a:lnTo>
                  <a:pt x="1518" y="1564"/>
                </a:lnTo>
                <a:lnTo>
                  <a:pt x="1510" y="1547"/>
                </a:lnTo>
                <a:lnTo>
                  <a:pt x="1501" y="1532"/>
                </a:lnTo>
                <a:lnTo>
                  <a:pt x="1492" y="1515"/>
                </a:lnTo>
                <a:lnTo>
                  <a:pt x="1482" y="1497"/>
                </a:lnTo>
                <a:lnTo>
                  <a:pt x="1472" y="1480"/>
                </a:lnTo>
                <a:lnTo>
                  <a:pt x="1462" y="1461"/>
                </a:lnTo>
                <a:lnTo>
                  <a:pt x="1451" y="1443"/>
                </a:lnTo>
                <a:lnTo>
                  <a:pt x="1441" y="1425"/>
                </a:lnTo>
                <a:lnTo>
                  <a:pt x="1429" y="1407"/>
                </a:lnTo>
                <a:lnTo>
                  <a:pt x="1419" y="1388"/>
                </a:lnTo>
                <a:lnTo>
                  <a:pt x="1408" y="1368"/>
                </a:lnTo>
                <a:lnTo>
                  <a:pt x="1396" y="1349"/>
                </a:lnTo>
                <a:lnTo>
                  <a:pt x="1384" y="1330"/>
                </a:lnTo>
                <a:lnTo>
                  <a:pt x="1373" y="1309"/>
                </a:lnTo>
                <a:lnTo>
                  <a:pt x="1359" y="1290"/>
                </a:lnTo>
                <a:lnTo>
                  <a:pt x="1348" y="1270"/>
                </a:lnTo>
                <a:lnTo>
                  <a:pt x="1335" y="1251"/>
                </a:lnTo>
                <a:lnTo>
                  <a:pt x="1322" y="1231"/>
                </a:lnTo>
                <a:lnTo>
                  <a:pt x="1308" y="1212"/>
                </a:lnTo>
                <a:lnTo>
                  <a:pt x="1295" y="1191"/>
                </a:lnTo>
                <a:lnTo>
                  <a:pt x="1282" y="1172"/>
                </a:lnTo>
                <a:lnTo>
                  <a:pt x="1269" y="1152"/>
                </a:lnTo>
                <a:lnTo>
                  <a:pt x="1256" y="1133"/>
                </a:lnTo>
                <a:lnTo>
                  <a:pt x="1241" y="1114"/>
                </a:lnTo>
                <a:lnTo>
                  <a:pt x="1228" y="1097"/>
                </a:lnTo>
                <a:lnTo>
                  <a:pt x="1215" y="1076"/>
                </a:lnTo>
                <a:lnTo>
                  <a:pt x="1200" y="1059"/>
                </a:lnTo>
                <a:lnTo>
                  <a:pt x="1186" y="1041"/>
                </a:lnTo>
                <a:lnTo>
                  <a:pt x="1173" y="1024"/>
                </a:lnTo>
                <a:lnTo>
                  <a:pt x="1160" y="1006"/>
                </a:lnTo>
                <a:lnTo>
                  <a:pt x="1144" y="990"/>
                </a:lnTo>
                <a:lnTo>
                  <a:pt x="1130" y="973"/>
                </a:lnTo>
                <a:lnTo>
                  <a:pt x="1116" y="957"/>
                </a:lnTo>
                <a:lnTo>
                  <a:pt x="1101" y="942"/>
                </a:lnTo>
                <a:lnTo>
                  <a:pt x="1074" y="911"/>
                </a:lnTo>
                <a:lnTo>
                  <a:pt x="1059" y="898"/>
                </a:lnTo>
                <a:lnTo>
                  <a:pt x="1044" y="884"/>
                </a:lnTo>
                <a:lnTo>
                  <a:pt x="1030" y="872"/>
                </a:lnTo>
                <a:lnTo>
                  <a:pt x="1015" y="859"/>
                </a:lnTo>
                <a:lnTo>
                  <a:pt x="988" y="839"/>
                </a:lnTo>
                <a:lnTo>
                  <a:pt x="960" y="820"/>
                </a:lnTo>
                <a:lnTo>
                  <a:pt x="932" y="801"/>
                </a:lnTo>
                <a:lnTo>
                  <a:pt x="902" y="783"/>
                </a:lnTo>
                <a:lnTo>
                  <a:pt x="868" y="766"/>
                </a:lnTo>
                <a:lnTo>
                  <a:pt x="834" y="748"/>
                </a:lnTo>
                <a:lnTo>
                  <a:pt x="798" y="731"/>
                </a:lnTo>
                <a:lnTo>
                  <a:pt x="762" y="713"/>
                </a:lnTo>
                <a:lnTo>
                  <a:pt x="724" y="696"/>
                </a:lnTo>
                <a:lnTo>
                  <a:pt x="686" y="680"/>
                </a:lnTo>
                <a:lnTo>
                  <a:pt x="646" y="662"/>
                </a:lnTo>
                <a:lnTo>
                  <a:pt x="607" y="645"/>
                </a:lnTo>
                <a:lnTo>
                  <a:pt x="566" y="630"/>
                </a:lnTo>
                <a:lnTo>
                  <a:pt x="527" y="613"/>
                </a:lnTo>
                <a:lnTo>
                  <a:pt x="486" y="597"/>
                </a:lnTo>
                <a:lnTo>
                  <a:pt x="447" y="582"/>
                </a:lnTo>
                <a:lnTo>
                  <a:pt x="407" y="567"/>
                </a:lnTo>
                <a:lnTo>
                  <a:pt x="369" y="553"/>
                </a:lnTo>
                <a:lnTo>
                  <a:pt x="331" y="540"/>
                </a:lnTo>
                <a:lnTo>
                  <a:pt x="295" y="527"/>
                </a:lnTo>
                <a:lnTo>
                  <a:pt x="260" y="514"/>
                </a:lnTo>
                <a:lnTo>
                  <a:pt x="226" y="500"/>
                </a:lnTo>
                <a:lnTo>
                  <a:pt x="164" y="480"/>
                </a:lnTo>
                <a:lnTo>
                  <a:pt x="110" y="461"/>
                </a:lnTo>
                <a:lnTo>
                  <a:pt x="63" y="445"/>
                </a:lnTo>
                <a:lnTo>
                  <a:pt x="29" y="436"/>
                </a:lnTo>
                <a:lnTo>
                  <a:pt x="0" y="426"/>
                </a:lnTo>
                <a:lnTo>
                  <a:pt x="19" y="377"/>
                </a:lnTo>
                <a:lnTo>
                  <a:pt x="114" y="397"/>
                </a:lnTo>
                <a:lnTo>
                  <a:pt x="161" y="409"/>
                </a:lnTo>
                <a:lnTo>
                  <a:pt x="219" y="423"/>
                </a:lnTo>
                <a:lnTo>
                  <a:pt x="282" y="439"/>
                </a:lnTo>
                <a:lnTo>
                  <a:pt x="350" y="458"/>
                </a:lnTo>
                <a:lnTo>
                  <a:pt x="425" y="480"/>
                </a:lnTo>
                <a:lnTo>
                  <a:pt x="503" y="505"/>
                </a:lnTo>
                <a:lnTo>
                  <a:pt x="543" y="518"/>
                </a:lnTo>
                <a:lnTo>
                  <a:pt x="584" y="531"/>
                </a:lnTo>
                <a:lnTo>
                  <a:pt x="626" y="546"/>
                </a:lnTo>
                <a:lnTo>
                  <a:pt x="667" y="560"/>
                </a:lnTo>
                <a:lnTo>
                  <a:pt x="708" y="576"/>
                </a:lnTo>
                <a:lnTo>
                  <a:pt x="750" y="594"/>
                </a:lnTo>
                <a:lnTo>
                  <a:pt x="791" y="610"/>
                </a:lnTo>
                <a:lnTo>
                  <a:pt x="833" y="627"/>
                </a:lnTo>
                <a:lnTo>
                  <a:pt x="872" y="645"/>
                </a:lnTo>
                <a:lnTo>
                  <a:pt x="913" y="664"/>
                </a:lnTo>
                <a:lnTo>
                  <a:pt x="953" y="683"/>
                </a:lnTo>
                <a:lnTo>
                  <a:pt x="990" y="703"/>
                </a:lnTo>
                <a:lnTo>
                  <a:pt x="1030" y="725"/>
                </a:lnTo>
                <a:lnTo>
                  <a:pt x="1068" y="748"/>
                </a:lnTo>
                <a:lnTo>
                  <a:pt x="1085" y="761"/>
                </a:lnTo>
                <a:lnTo>
                  <a:pt x="1103" y="774"/>
                </a:lnTo>
                <a:lnTo>
                  <a:pt x="1120" y="789"/>
                </a:lnTo>
                <a:lnTo>
                  <a:pt x="1138" y="804"/>
                </a:lnTo>
                <a:lnTo>
                  <a:pt x="1154" y="817"/>
                </a:lnTo>
                <a:lnTo>
                  <a:pt x="1171" y="833"/>
                </a:lnTo>
                <a:lnTo>
                  <a:pt x="1187" y="847"/>
                </a:lnTo>
                <a:lnTo>
                  <a:pt x="1203" y="865"/>
                </a:lnTo>
                <a:lnTo>
                  <a:pt x="1219" y="881"/>
                </a:lnTo>
                <a:lnTo>
                  <a:pt x="1235" y="897"/>
                </a:lnTo>
                <a:lnTo>
                  <a:pt x="1250" y="914"/>
                </a:lnTo>
                <a:lnTo>
                  <a:pt x="1266" y="930"/>
                </a:lnTo>
                <a:lnTo>
                  <a:pt x="1281" y="948"/>
                </a:lnTo>
                <a:lnTo>
                  <a:pt x="1295" y="965"/>
                </a:lnTo>
                <a:lnTo>
                  <a:pt x="1310" y="984"/>
                </a:lnTo>
                <a:lnTo>
                  <a:pt x="1324" y="1002"/>
                </a:lnTo>
                <a:lnTo>
                  <a:pt x="1338" y="1021"/>
                </a:lnTo>
                <a:lnTo>
                  <a:pt x="1351" y="1038"/>
                </a:lnTo>
                <a:lnTo>
                  <a:pt x="1364" y="1057"/>
                </a:lnTo>
                <a:lnTo>
                  <a:pt x="1377" y="1075"/>
                </a:lnTo>
                <a:lnTo>
                  <a:pt x="1389" y="1094"/>
                </a:lnTo>
                <a:lnTo>
                  <a:pt x="1400" y="1113"/>
                </a:lnTo>
                <a:lnTo>
                  <a:pt x="1412" y="1130"/>
                </a:lnTo>
                <a:lnTo>
                  <a:pt x="1425" y="1149"/>
                </a:lnTo>
                <a:lnTo>
                  <a:pt x="1435" y="1167"/>
                </a:lnTo>
                <a:lnTo>
                  <a:pt x="1447" y="1185"/>
                </a:lnTo>
                <a:lnTo>
                  <a:pt x="1457" y="1204"/>
                </a:lnTo>
                <a:lnTo>
                  <a:pt x="1469" y="1222"/>
                </a:lnTo>
                <a:lnTo>
                  <a:pt x="1478" y="1239"/>
                </a:lnTo>
                <a:lnTo>
                  <a:pt x="1488" y="1258"/>
                </a:lnTo>
                <a:lnTo>
                  <a:pt x="1498" y="1276"/>
                </a:lnTo>
                <a:lnTo>
                  <a:pt x="1507" y="1292"/>
                </a:lnTo>
                <a:lnTo>
                  <a:pt x="1515" y="1309"/>
                </a:lnTo>
                <a:lnTo>
                  <a:pt x="1524" y="1327"/>
                </a:lnTo>
                <a:lnTo>
                  <a:pt x="1532" y="1343"/>
                </a:lnTo>
                <a:lnTo>
                  <a:pt x="1540" y="1359"/>
                </a:lnTo>
                <a:lnTo>
                  <a:pt x="1548" y="1375"/>
                </a:lnTo>
                <a:lnTo>
                  <a:pt x="1555" y="1391"/>
                </a:lnTo>
                <a:lnTo>
                  <a:pt x="1564" y="1406"/>
                </a:lnTo>
                <a:lnTo>
                  <a:pt x="1569" y="1419"/>
                </a:lnTo>
                <a:lnTo>
                  <a:pt x="1575" y="1435"/>
                </a:lnTo>
                <a:lnTo>
                  <a:pt x="1583" y="1446"/>
                </a:lnTo>
                <a:lnTo>
                  <a:pt x="1593" y="1473"/>
                </a:lnTo>
                <a:lnTo>
                  <a:pt x="1612" y="1516"/>
                </a:lnTo>
                <a:lnTo>
                  <a:pt x="1625" y="1550"/>
                </a:lnTo>
                <a:lnTo>
                  <a:pt x="1635" y="1579"/>
                </a:lnTo>
                <a:lnTo>
                  <a:pt x="1693" y="1483"/>
                </a:lnTo>
                <a:lnTo>
                  <a:pt x="1689" y="1452"/>
                </a:lnTo>
                <a:lnTo>
                  <a:pt x="1674" y="1371"/>
                </a:lnTo>
                <a:lnTo>
                  <a:pt x="1664" y="1315"/>
                </a:lnTo>
                <a:lnTo>
                  <a:pt x="1650" y="1251"/>
                </a:lnTo>
                <a:lnTo>
                  <a:pt x="1639" y="1216"/>
                </a:lnTo>
                <a:lnTo>
                  <a:pt x="1631" y="1180"/>
                </a:lnTo>
                <a:lnTo>
                  <a:pt x="1619" y="1143"/>
                </a:lnTo>
                <a:lnTo>
                  <a:pt x="1607" y="1105"/>
                </a:lnTo>
                <a:lnTo>
                  <a:pt x="1593" y="1066"/>
                </a:lnTo>
                <a:lnTo>
                  <a:pt x="1578" y="1027"/>
                </a:lnTo>
                <a:lnTo>
                  <a:pt x="1564" y="986"/>
                </a:lnTo>
                <a:lnTo>
                  <a:pt x="1546" y="946"/>
                </a:lnTo>
                <a:lnTo>
                  <a:pt x="1537" y="926"/>
                </a:lnTo>
                <a:lnTo>
                  <a:pt x="1529" y="906"/>
                </a:lnTo>
                <a:lnTo>
                  <a:pt x="1518" y="885"/>
                </a:lnTo>
                <a:lnTo>
                  <a:pt x="1507" y="865"/>
                </a:lnTo>
                <a:lnTo>
                  <a:pt x="1498" y="844"/>
                </a:lnTo>
                <a:lnTo>
                  <a:pt x="1488" y="825"/>
                </a:lnTo>
                <a:lnTo>
                  <a:pt x="1476" y="807"/>
                </a:lnTo>
                <a:lnTo>
                  <a:pt x="1464" y="786"/>
                </a:lnTo>
                <a:lnTo>
                  <a:pt x="1451" y="767"/>
                </a:lnTo>
                <a:lnTo>
                  <a:pt x="1440" y="748"/>
                </a:lnTo>
                <a:lnTo>
                  <a:pt x="1427" y="729"/>
                </a:lnTo>
                <a:lnTo>
                  <a:pt x="1413" y="710"/>
                </a:lnTo>
                <a:lnTo>
                  <a:pt x="1400" y="693"/>
                </a:lnTo>
                <a:lnTo>
                  <a:pt x="1386" y="674"/>
                </a:lnTo>
                <a:lnTo>
                  <a:pt x="1371" y="656"/>
                </a:lnTo>
                <a:lnTo>
                  <a:pt x="1357" y="639"/>
                </a:lnTo>
                <a:lnTo>
                  <a:pt x="1340" y="623"/>
                </a:lnTo>
                <a:lnTo>
                  <a:pt x="1326" y="607"/>
                </a:lnTo>
                <a:lnTo>
                  <a:pt x="1310" y="591"/>
                </a:lnTo>
                <a:lnTo>
                  <a:pt x="1294" y="576"/>
                </a:lnTo>
                <a:lnTo>
                  <a:pt x="1276" y="560"/>
                </a:lnTo>
                <a:lnTo>
                  <a:pt x="1259" y="546"/>
                </a:lnTo>
                <a:lnTo>
                  <a:pt x="1241" y="531"/>
                </a:lnTo>
                <a:lnTo>
                  <a:pt x="1222" y="518"/>
                </a:lnTo>
                <a:lnTo>
                  <a:pt x="1203" y="505"/>
                </a:lnTo>
                <a:lnTo>
                  <a:pt x="1184" y="493"/>
                </a:lnTo>
                <a:lnTo>
                  <a:pt x="1165" y="480"/>
                </a:lnTo>
                <a:lnTo>
                  <a:pt x="1144" y="468"/>
                </a:lnTo>
                <a:lnTo>
                  <a:pt x="1125" y="455"/>
                </a:lnTo>
                <a:lnTo>
                  <a:pt x="1104" y="444"/>
                </a:lnTo>
                <a:lnTo>
                  <a:pt x="1062" y="420"/>
                </a:lnTo>
                <a:lnTo>
                  <a:pt x="1020" y="397"/>
                </a:lnTo>
                <a:lnTo>
                  <a:pt x="976" y="375"/>
                </a:lnTo>
                <a:lnTo>
                  <a:pt x="932" y="353"/>
                </a:lnTo>
                <a:lnTo>
                  <a:pt x="888" y="333"/>
                </a:lnTo>
                <a:lnTo>
                  <a:pt x="843" y="312"/>
                </a:lnTo>
                <a:lnTo>
                  <a:pt x="799" y="293"/>
                </a:lnTo>
                <a:lnTo>
                  <a:pt x="756" y="273"/>
                </a:lnTo>
                <a:lnTo>
                  <a:pt x="712" y="256"/>
                </a:lnTo>
                <a:lnTo>
                  <a:pt x="668" y="238"/>
                </a:lnTo>
                <a:lnTo>
                  <a:pt x="626" y="223"/>
                </a:lnTo>
                <a:lnTo>
                  <a:pt x="584" y="207"/>
                </a:lnTo>
                <a:lnTo>
                  <a:pt x="543" y="193"/>
                </a:lnTo>
                <a:lnTo>
                  <a:pt x="503" y="178"/>
                </a:lnTo>
                <a:lnTo>
                  <a:pt x="465" y="165"/>
                </a:lnTo>
                <a:lnTo>
                  <a:pt x="394" y="142"/>
                </a:lnTo>
                <a:lnTo>
                  <a:pt x="328" y="121"/>
                </a:lnTo>
                <a:lnTo>
                  <a:pt x="273" y="104"/>
                </a:lnTo>
                <a:lnTo>
                  <a:pt x="193" y="82"/>
                </a:lnTo>
                <a:lnTo>
                  <a:pt x="164" y="73"/>
                </a:lnTo>
                <a:lnTo>
                  <a:pt x="2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1" name="Freeform 29"/>
          <p:cNvSpPr/>
          <p:nvPr/>
        </p:nvSpPr>
        <p:spPr>
          <a:xfrm>
            <a:off x="6832440" y="3652920"/>
            <a:ext cx="389160" cy="520560"/>
          </a:xfrm>
          <a:custGeom>
            <a:avLst/>
            <a:gdLst>
              <a:gd name="textAreaLeft" fmla="*/ 0 w 389160"/>
              <a:gd name="textAreaRight" fmla="*/ 389520 w 3891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4" h="985">
                <a:moveTo>
                  <a:pt x="89" y="0"/>
                </a:moveTo>
                <a:lnTo>
                  <a:pt x="47" y="20"/>
                </a:lnTo>
                <a:lnTo>
                  <a:pt x="0" y="109"/>
                </a:lnTo>
                <a:lnTo>
                  <a:pt x="15" y="182"/>
                </a:lnTo>
                <a:lnTo>
                  <a:pt x="32" y="221"/>
                </a:lnTo>
                <a:lnTo>
                  <a:pt x="53" y="258"/>
                </a:lnTo>
                <a:lnTo>
                  <a:pt x="92" y="317"/>
                </a:lnTo>
                <a:lnTo>
                  <a:pt x="110" y="342"/>
                </a:lnTo>
                <a:lnTo>
                  <a:pt x="305" y="575"/>
                </a:lnTo>
                <a:lnTo>
                  <a:pt x="687" y="985"/>
                </a:lnTo>
                <a:lnTo>
                  <a:pt x="734" y="908"/>
                </a:lnTo>
                <a:lnTo>
                  <a:pt x="722" y="899"/>
                </a:lnTo>
                <a:lnTo>
                  <a:pt x="693" y="871"/>
                </a:lnTo>
                <a:lnTo>
                  <a:pt x="673" y="854"/>
                </a:lnTo>
                <a:lnTo>
                  <a:pt x="651" y="833"/>
                </a:lnTo>
                <a:lnTo>
                  <a:pt x="626" y="810"/>
                </a:lnTo>
                <a:lnTo>
                  <a:pt x="598" y="782"/>
                </a:lnTo>
                <a:lnTo>
                  <a:pt x="571" y="758"/>
                </a:lnTo>
                <a:lnTo>
                  <a:pt x="540" y="730"/>
                </a:lnTo>
                <a:lnTo>
                  <a:pt x="512" y="701"/>
                </a:lnTo>
                <a:lnTo>
                  <a:pt x="483" y="672"/>
                </a:lnTo>
                <a:lnTo>
                  <a:pt x="455" y="642"/>
                </a:lnTo>
                <a:lnTo>
                  <a:pt x="429" y="615"/>
                </a:lnTo>
                <a:lnTo>
                  <a:pt x="404" y="589"/>
                </a:lnTo>
                <a:lnTo>
                  <a:pt x="382" y="562"/>
                </a:lnTo>
                <a:lnTo>
                  <a:pt x="362" y="536"/>
                </a:lnTo>
                <a:lnTo>
                  <a:pt x="337" y="508"/>
                </a:lnTo>
                <a:lnTo>
                  <a:pt x="312" y="481"/>
                </a:lnTo>
                <a:lnTo>
                  <a:pt x="289" y="452"/>
                </a:lnTo>
                <a:lnTo>
                  <a:pt x="263" y="421"/>
                </a:lnTo>
                <a:lnTo>
                  <a:pt x="238" y="392"/>
                </a:lnTo>
                <a:lnTo>
                  <a:pt x="213" y="363"/>
                </a:lnTo>
                <a:lnTo>
                  <a:pt x="188" y="333"/>
                </a:lnTo>
                <a:lnTo>
                  <a:pt x="165" y="306"/>
                </a:lnTo>
                <a:lnTo>
                  <a:pt x="146" y="278"/>
                </a:lnTo>
                <a:lnTo>
                  <a:pt x="108" y="230"/>
                </a:lnTo>
                <a:lnTo>
                  <a:pt x="75" y="166"/>
                </a:lnTo>
                <a:lnTo>
                  <a:pt x="81" y="132"/>
                </a:lnTo>
                <a:lnTo>
                  <a:pt x="98" y="110"/>
                </a:lnTo>
                <a:lnTo>
                  <a:pt x="124" y="9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Freeform 30"/>
          <p:cNvSpPr/>
          <p:nvPr/>
        </p:nvSpPr>
        <p:spPr>
          <a:xfrm>
            <a:off x="7953480" y="3719520"/>
            <a:ext cx="342720" cy="866880"/>
          </a:xfrm>
          <a:custGeom>
            <a:avLst/>
            <a:gdLst>
              <a:gd name="textAreaLeft" fmla="*/ 0 w 342720"/>
              <a:gd name="textAreaRight" fmla="*/ 343080 w 342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6">
                <a:moveTo>
                  <a:pt x="0" y="176"/>
                </a:moveTo>
                <a:lnTo>
                  <a:pt x="12" y="161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7" y="80"/>
                </a:lnTo>
                <a:lnTo>
                  <a:pt x="117" y="56"/>
                </a:lnTo>
                <a:lnTo>
                  <a:pt x="149" y="36"/>
                </a:lnTo>
                <a:lnTo>
                  <a:pt x="184" y="18"/>
                </a:lnTo>
                <a:lnTo>
                  <a:pt x="220" y="5"/>
                </a:lnTo>
                <a:lnTo>
                  <a:pt x="299" y="0"/>
                </a:lnTo>
                <a:lnTo>
                  <a:pt x="385" y="30"/>
                </a:lnTo>
                <a:lnTo>
                  <a:pt x="429" y="62"/>
                </a:lnTo>
                <a:lnTo>
                  <a:pt x="450" y="83"/>
                </a:lnTo>
                <a:lnTo>
                  <a:pt x="472" y="107"/>
                </a:lnTo>
                <a:lnTo>
                  <a:pt x="548" y="231"/>
                </a:lnTo>
                <a:lnTo>
                  <a:pt x="576" y="304"/>
                </a:lnTo>
                <a:lnTo>
                  <a:pt x="599" y="384"/>
                </a:lnTo>
                <a:lnTo>
                  <a:pt x="628" y="553"/>
                </a:lnTo>
                <a:lnTo>
                  <a:pt x="644" y="727"/>
                </a:lnTo>
                <a:lnTo>
                  <a:pt x="649" y="854"/>
                </a:lnTo>
                <a:lnTo>
                  <a:pt x="644" y="1026"/>
                </a:lnTo>
                <a:lnTo>
                  <a:pt x="628" y="1168"/>
                </a:lnTo>
                <a:lnTo>
                  <a:pt x="609" y="1244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3" y="1456"/>
                </a:lnTo>
                <a:lnTo>
                  <a:pt x="490" y="1483"/>
                </a:lnTo>
                <a:lnTo>
                  <a:pt x="471" y="1505"/>
                </a:lnTo>
                <a:lnTo>
                  <a:pt x="450" y="1526"/>
                </a:lnTo>
                <a:lnTo>
                  <a:pt x="417" y="1561"/>
                </a:lnTo>
                <a:lnTo>
                  <a:pt x="367" y="1596"/>
                </a:lnTo>
                <a:lnTo>
                  <a:pt x="296" y="1636"/>
                </a:lnTo>
                <a:lnTo>
                  <a:pt x="289" y="1559"/>
                </a:lnTo>
                <a:lnTo>
                  <a:pt x="347" y="1520"/>
                </a:lnTo>
                <a:lnTo>
                  <a:pt x="385" y="1480"/>
                </a:lnTo>
                <a:lnTo>
                  <a:pt x="418" y="1434"/>
                </a:lnTo>
                <a:lnTo>
                  <a:pt x="455" y="1375"/>
                </a:lnTo>
                <a:lnTo>
                  <a:pt x="487" y="1303"/>
                </a:lnTo>
                <a:lnTo>
                  <a:pt x="515" y="1212"/>
                </a:lnTo>
                <a:lnTo>
                  <a:pt x="537" y="1104"/>
                </a:lnTo>
                <a:lnTo>
                  <a:pt x="542" y="975"/>
                </a:lnTo>
                <a:lnTo>
                  <a:pt x="547" y="833"/>
                </a:lnTo>
                <a:lnTo>
                  <a:pt x="526" y="564"/>
                </a:lnTo>
                <a:lnTo>
                  <a:pt x="503" y="421"/>
                </a:lnTo>
                <a:lnTo>
                  <a:pt x="485" y="355"/>
                </a:lnTo>
                <a:lnTo>
                  <a:pt x="467" y="294"/>
                </a:lnTo>
                <a:lnTo>
                  <a:pt x="445" y="239"/>
                </a:lnTo>
                <a:lnTo>
                  <a:pt x="418" y="192"/>
                </a:lnTo>
                <a:lnTo>
                  <a:pt x="391" y="154"/>
                </a:lnTo>
                <a:lnTo>
                  <a:pt x="373" y="138"/>
                </a:lnTo>
                <a:lnTo>
                  <a:pt x="357" y="125"/>
                </a:lnTo>
                <a:lnTo>
                  <a:pt x="322" y="106"/>
                </a:lnTo>
                <a:lnTo>
                  <a:pt x="290" y="97"/>
                </a:lnTo>
                <a:lnTo>
                  <a:pt x="233" y="97"/>
                </a:lnTo>
                <a:lnTo>
                  <a:pt x="187" y="119"/>
                </a:lnTo>
                <a:lnTo>
                  <a:pt x="150" y="157"/>
                </a:lnTo>
                <a:lnTo>
                  <a:pt x="102" y="240"/>
                </a:lnTo>
                <a:lnTo>
                  <a:pt x="86" y="282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Freeform 31"/>
          <p:cNvSpPr/>
          <p:nvPr/>
        </p:nvSpPr>
        <p:spPr>
          <a:xfrm>
            <a:off x="7021440" y="3610080"/>
            <a:ext cx="290520" cy="463320"/>
          </a:xfrm>
          <a:custGeom>
            <a:avLst/>
            <a:gdLst>
              <a:gd name="textAreaLeft" fmla="*/ 0 w 290520"/>
              <a:gd name="textAreaRight" fmla="*/ 290880 w 2905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550" h="876">
                <a:moveTo>
                  <a:pt x="133" y="644"/>
                </a:moveTo>
                <a:lnTo>
                  <a:pt x="140" y="652"/>
                </a:lnTo>
                <a:lnTo>
                  <a:pt x="162" y="675"/>
                </a:lnTo>
                <a:lnTo>
                  <a:pt x="178" y="691"/>
                </a:lnTo>
                <a:lnTo>
                  <a:pt x="197" y="707"/>
                </a:lnTo>
                <a:lnTo>
                  <a:pt x="216" y="723"/>
                </a:lnTo>
                <a:lnTo>
                  <a:pt x="238" y="742"/>
                </a:lnTo>
                <a:lnTo>
                  <a:pt x="261" y="758"/>
                </a:lnTo>
                <a:lnTo>
                  <a:pt x="285" y="773"/>
                </a:lnTo>
                <a:lnTo>
                  <a:pt x="331" y="797"/>
                </a:lnTo>
                <a:lnTo>
                  <a:pt x="375" y="809"/>
                </a:lnTo>
                <a:lnTo>
                  <a:pt x="416" y="802"/>
                </a:lnTo>
                <a:lnTo>
                  <a:pt x="445" y="778"/>
                </a:lnTo>
                <a:lnTo>
                  <a:pt x="464" y="751"/>
                </a:lnTo>
                <a:lnTo>
                  <a:pt x="473" y="681"/>
                </a:lnTo>
                <a:lnTo>
                  <a:pt x="454" y="612"/>
                </a:lnTo>
                <a:lnTo>
                  <a:pt x="429" y="557"/>
                </a:lnTo>
                <a:lnTo>
                  <a:pt x="419" y="545"/>
                </a:lnTo>
                <a:lnTo>
                  <a:pt x="401" y="529"/>
                </a:lnTo>
                <a:lnTo>
                  <a:pt x="378" y="510"/>
                </a:lnTo>
                <a:lnTo>
                  <a:pt x="347" y="491"/>
                </a:lnTo>
                <a:lnTo>
                  <a:pt x="314" y="468"/>
                </a:lnTo>
                <a:lnTo>
                  <a:pt x="276" y="443"/>
                </a:lnTo>
                <a:lnTo>
                  <a:pt x="238" y="415"/>
                </a:lnTo>
                <a:lnTo>
                  <a:pt x="200" y="388"/>
                </a:lnTo>
                <a:lnTo>
                  <a:pt x="161" y="357"/>
                </a:lnTo>
                <a:lnTo>
                  <a:pt x="124" y="325"/>
                </a:lnTo>
                <a:lnTo>
                  <a:pt x="107" y="309"/>
                </a:lnTo>
                <a:lnTo>
                  <a:pt x="89" y="293"/>
                </a:lnTo>
                <a:lnTo>
                  <a:pt x="73" y="276"/>
                </a:lnTo>
                <a:lnTo>
                  <a:pt x="60" y="260"/>
                </a:lnTo>
                <a:lnTo>
                  <a:pt x="15" y="192"/>
                </a:lnTo>
                <a:lnTo>
                  <a:pt x="0" y="121"/>
                </a:lnTo>
                <a:lnTo>
                  <a:pt x="16" y="63"/>
                </a:lnTo>
                <a:lnTo>
                  <a:pt x="35" y="42"/>
                </a:lnTo>
                <a:lnTo>
                  <a:pt x="57" y="26"/>
                </a:lnTo>
                <a:lnTo>
                  <a:pt x="83" y="12"/>
                </a:lnTo>
                <a:lnTo>
                  <a:pt x="114" y="4"/>
                </a:lnTo>
                <a:lnTo>
                  <a:pt x="178" y="0"/>
                </a:lnTo>
                <a:lnTo>
                  <a:pt x="311" y="34"/>
                </a:lnTo>
                <a:lnTo>
                  <a:pt x="359" y="70"/>
                </a:lnTo>
                <a:lnTo>
                  <a:pt x="387" y="115"/>
                </a:lnTo>
                <a:lnTo>
                  <a:pt x="391" y="204"/>
                </a:lnTo>
                <a:lnTo>
                  <a:pt x="373" y="239"/>
                </a:lnTo>
                <a:lnTo>
                  <a:pt x="346" y="264"/>
                </a:lnTo>
                <a:lnTo>
                  <a:pt x="312" y="278"/>
                </a:lnTo>
                <a:lnTo>
                  <a:pt x="270" y="278"/>
                </a:lnTo>
                <a:lnTo>
                  <a:pt x="181" y="239"/>
                </a:lnTo>
                <a:lnTo>
                  <a:pt x="146" y="201"/>
                </a:lnTo>
                <a:lnTo>
                  <a:pt x="127" y="172"/>
                </a:lnTo>
                <a:lnTo>
                  <a:pt x="127" y="123"/>
                </a:lnTo>
                <a:lnTo>
                  <a:pt x="149" y="95"/>
                </a:lnTo>
                <a:lnTo>
                  <a:pt x="162" y="85"/>
                </a:lnTo>
                <a:lnTo>
                  <a:pt x="232" y="95"/>
                </a:lnTo>
                <a:lnTo>
                  <a:pt x="216" y="106"/>
                </a:lnTo>
                <a:lnTo>
                  <a:pt x="188" y="139"/>
                </a:lnTo>
                <a:lnTo>
                  <a:pt x="181" y="176"/>
                </a:lnTo>
                <a:lnTo>
                  <a:pt x="198" y="192"/>
                </a:lnTo>
                <a:lnTo>
                  <a:pt x="232" y="207"/>
                </a:lnTo>
                <a:lnTo>
                  <a:pt x="296" y="207"/>
                </a:lnTo>
                <a:lnTo>
                  <a:pt x="318" y="169"/>
                </a:lnTo>
                <a:lnTo>
                  <a:pt x="305" y="121"/>
                </a:lnTo>
                <a:lnTo>
                  <a:pt x="292" y="99"/>
                </a:lnTo>
                <a:lnTo>
                  <a:pt x="273" y="82"/>
                </a:lnTo>
                <a:lnTo>
                  <a:pt x="250" y="70"/>
                </a:lnTo>
                <a:lnTo>
                  <a:pt x="222" y="58"/>
                </a:lnTo>
                <a:lnTo>
                  <a:pt x="162" y="54"/>
                </a:lnTo>
                <a:lnTo>
                  <a:pt x="110" y="70"/>
                </a:lnTo>
                <a:lnTo>
                  <a:pt x="83" y="115"/>
                </a:lnTo>
                <a:lnTo>
                  <a:pt x="82" y="141"/>
                </a:lnTo>
                <a:lnTo>
                  <a:pt x="83" y="166"/>
                </a:lnTo>
                <a:lnTo>
                  <a:pt x="102" y="209"/>
                </a:lnTo>
                <a:lnTo>
                  <a:pt x="121" y="230"/>
                </a:lnTo>
                <a:lnTo>
                  <a:pt x="146" y="254"/>
                </a:lnTo>
                <a:lnTo>
                  <a:pt x="175" y="280"/>
                </a:lnTo>
                <a:lnTo>
                  <a:pt x="213" y="313"/>
                </a:lnTo>
                <a:lnTo>
                  <a:pt x="236" y="331"/>
                </a:lnTo>
                <a:lnTo>
                  <a:pt x="261" y="350"/>
                </a:lnTo>
                <a:lnTo>
                  <a:pt x="286" y="367"/>
                </a:lnTo>
                <a:lnTo>
                  <a:pt x="314" y="386"/>
                </a:lnTo>
                <a:lnTo>
                  <a:pt x="343" y="405"/>
                </a:lnTo>
                <a:lnTo>
                  <a:pt x="372" y="426"/>
                </a:lnTo>
                <a:lnTo>
                  <a:pt x="400" y="448"/>
                </a:lnTo>
                <a:lnTo>
                  <a:pt x="427" y="471"/>
                </a:lnTo>
                <a:lnTo>
                  <a:pt x="454" y="491"/>
                </a:lnTo>
                <a:lnTo>
                  <a:pt x="477" y="518"/>
                </a:lnTo>
                <a:lnTo>
                  <a:pt x="518" y="570"/>
                </a:lnTo>
                <a:lnTo>
                  <a:pt x="550" y="694"/>
                </a:lnTo>
                <a:lnTo>
                  <a:pt x="541" y="755"/>
                </a:lnTo>
                <a:lnTo>
                  <a:pt x="524" y="802"/>
                </a:lnTo>
                <a:lnTo>
                  <a:pt x="499" y="837"/>
                </a:lnTo>
                <a:lnTo>
                  <a:pt x="470" y="860"/>
                </a:lnTo>
                <a:lnTo>
                  <a:pt x="436" y="872"/>
                </a:lnTo>
                <a:lnTo>
                  <a:pt x="403" y="876"/>
                </a:lnTo>
                <a:lnTo>
                  <a:pt x="337" y="870"/>
                </a:lnTo>
                <a:lnTo>
                  <a:pt x="273" y="843"/>
                </a:lnTo>
                <a:lnTo>
                  <a:pt x="238" y="821"/>
                </a:lnTo>
                <a:lnTo>
                  <a:pt x="206" y="799"/>
                </a:lnTo>
                <a:lnTo>
                  <a:pt x="177" y="778"/>
                </a:lnTo>
                <a:lnTo>
                  <a:pt x="153" y="759"/>
                </a:lnTo>
                <a:lnTo>
                  <a:pt x="133" y="742"/>
                </a:lnTo>
                <a:lnTo>
                  <a:pt x="133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4" name="Freeform 32"/>
          <p:cNvSpPr/>
          <p:nvPr/>
        </p:nvSpPr>
        <p:spPr>
          <a:xfrm>
            <a:off x="7067520" y="458316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7">
                <a:moveTo>
                  <a:pt x="270" y="194"/>
                </a:moveTo>
                <a:lnTo>
                  <a:pt x="274" y="175"/>
                </a:lnTo>
                <a:lnTo>
                  <a:pt x="277" y="150"/>
                </a:lnTo>
                <a:lnTo>
                  <a:pt x="277" y="124"/>
                </a:lnTo>
                <a:lnTo>
                  <a:pt x="271" y="101"/>
                </a:lnTo>
                <a:lnTo>
                  <a:pt x="261" y="79"/>
                </a:lnTo>
                <a:lnTo>
                  <a:pt x="249" y="57"/>
                </a:lnTo>
                <a:lnTo>
                  <a:pt x="233" y="38"/>
                </a:lnTo>
                <a:lnTo>
                  <a:pt x="213" y="22"/>
                </a:lnTo>
                <a:lnTo>
                  <a:pt x="193" y="10"/>
                </a:lnTo>
                <a:lnTo>
                  <a:pt x="169" y="1"/>
                </a:lnTo>
                <a:lnTo>
                  <a:pt x="146" y="0"/>
                </a:lnTo>
                <a:lnTo>
                  <a:pt x="121" y="0"/>
                </a:lnTo>
                <a:lnTo>
                  <a:pt x="98" y="4"/>
                </a:lnTo>
                <a:lnTo>
                  <a:pt x="76" y="15"/>
                </a:lnTo>
                <a:lnTo>
                  <a:pt x="56" y="28"/>
                </a:lnTo>
                <a:lnTo>
                  <a:pt x="38" y="45"/>
                </a:lnTo>
                <a:lnTo>
                  <a:pt x="22" y="66"/>
                </a:lnTo>
                <a:lnTo>
                  <a:pt x="12" y="87"/>
                </a:lnTo>
                <a:lnTo>
                  <a:pt x="4" y="111"/>
                </a:lnTo>
                <a:lnTo>
                  <a:pt x="0" y="137"/>
                </a:lnTo>
                <a:lnTo>
                  <a:pt x="2" y="162"/>
                </a:lnTo>
                <a:lnTo>
                  <a:pt x="7" y="185"/>
                </a:lnTo>
                <a:lnTo>
                  <a:pt x="16" y="210"/>
                </a:lnTo>
                <a:lnTo>
                  <a:pt x="28" y="230"/>
                </a:lnTo>
                <a:lnTo>
                  <a:pt x="44" y="249"/>
                </a:lnTo>
                <a:lnTo>
                  <a:pt x="63" y="264"/>
                </a:lnTo>
                <a:lnTo>
                  <a:pt x="85" y="275"/>
                </a:lnTo>
                <a:lnTo>
                  <a:pt x="108" y="284"/>
                </a:lnTo>
                <a:lnTo>
                  <a:pt x="131" y="287"/>
                </a:lnTo>
                <a:lnTo>
                  <a:pt x="156" y="287"/>
                </a:lnTo>
                <a:lnTo>
                  <a:pt x="181" y="281"/>
                </a:lnTo>
                <a:lnTo>
                  <a:pt x="206" y="270"/>
                </a:lnTo>
                <a:lnTo>
                  <a:pt x="232" y="249"/>
                </a:lnTo>
                <a:lnTo>
                  <a:pt x="179" y="210"/>
                </a:lnTo>
                <a:lnTo>
                  <a:pt x="158" y="222"/>
                </a:lnTo>
                <a:lnTo>
                  <a:pt x="144" y="224"/>
                </a:lnTo>
                <a:lnTo>
                  <a:pt x="131" y="224"/>
                </a:lnTo>
                <a:lnTo>
                  <a:pt x="117" y="222"/>
                </a:lnTo>
                <a:lnTo>
                  <a:pt x="105" y="219"/>
                </a:lnTo>
                <a:lnTo>
                  <a:pt x="93" y="208"/>
                </a:lnTo>
                <a:lnTo>
                  <a:pt x="82" y="201"/>
                </a:lnTo>
                <a:lnTo>
                  <a:pt x="74" y="189"/>
                </a:lnTo>
                <a:lnTo>
                  <a:pt x="67" y="176"/>
                </a:lnTo>
                <a:lnTo>
                  <a:pt x="63" y="162"/>
                </a:lnTo>
                <a:lnTo>
                  <a:pt x="60" y="149"/>
                </a:lnTo>
                <a:lnTo>
                  <a:pt x="61" y="134"/>
                </a:lnTo>
                <a:lnTo>
                  <a:pt x="63" y="121"/>
                </a:lnTo>
                <a:lnTo>
                  <a:pt x="69" y="106"/>
                </a:lnTo>
                <a:lnTo>
                  <a:pt x="76" y="95"/>
                </a:lnTo>
                <a:lnTo>
                  <a:pt x="83" y="85"/>
                </a:lnTo>
                <a:lnTo>
                  <a:pt x="93" y="74"/>
                </a:lnTo>
                <a:lnTo>
                  <a:pt x="107" y="69"/>
                </a:lnTo>
                <a:lnTo>
                  <a:pt x="118" y="64"/>
                </a:lnTo>
                <a:lnTo>
                  <a:pt x="133" y="61"/>
                </a:lnTo>
                <a:lnTo>
                  <a:pt x="147" y="61"/>
                </a:lnTo>
                <a:lnTo>
                  <a:pt x="161" y="64"/>
                </a:lnTo>
                <a:lnTo>
                  <a:pt x="174" y="69"/>
                </a:lnTo>
                <a:lnTo>
                  <a:pt x="185" y="76"/>
                </a:lnTo>
                <a:lnTo>
                  <a:pt x="196" y="86"/>
                </a:lnTo>
                <a:lnTo>
                  <a:pt x="204" y="98"/>
                </a:lnTo>
                <a:lnTo>
                  <a:pt x="210" y="109"/>
                </a:lnTo>
                <a:lnTo>
                  <a:pt x="216" y="124"/>
                </a:lnTo>
                <a:lnTo>
                  <a:pt x="219" y="137"/>
                </a:lnTo>
                <a:lnTo>
                  <a:pt x="217" y="152"/>
                </a:lnTo>
                <a:lnTo>
                  <a:pt x="213" y="171"/>
                </a:lnTo>
                <a:lnTo>
                  <a:pt x="270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5" name="Freeform 33"/>
          <p:cNvSpPr/>
          <p:nvPr/>
        </p:nvSpPr>
        <p:spPr>
          <a:xfrm>
            <a:off x="7180200" y="466092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9" h="264">
                <a:moveTo>
                  <a:pt x="1194" y="21"/>
                </a:moveTo>
                <a:lnTo>
                  <a:pt x="475" y="158"/>
                </a:lnTo>
                <a:lnTo>
                  <a:pt x="48" y="0"/>
                </a:lnTo>
                <a:lnTo>
                  <a:pt x="0" y="21"/>
                </a:lnTo>
                <a:lnTo>
                  <a:pt x="459" y="264"/>
                </a:lnTo>
                <a:lnTo>
                  <a:pt x="1359" y="98"/>
                </a:lnTo>
                <a:lnTo>
                  <a:pt x="119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6" name="Freeform 34"/>
          <p:cNvSpPr/>
          <p:nvPr/>
        </p:nvSpPr>
        <p:spPr>
          <a:xfrm>
            <a:off x="6961320" y="4756320"/>
            <a:ext cx="145800" cy="150480"/>
          </a:xfrm>
          <a:custGeom>
            <a:avLst/>
            <a:gdLst>
              <a:gd name="textAreaLeft" fmla="*/ 0 w 145800"/>
              <a:gd name="textAreaRight" fmla="*/ 146160 w 14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76" h="287">
                <a:moveTo>
                  <a:pt x="276" y="139"/>
                </a:moveTo>
                <a:lnTo>
                  <a:pt x="273" y="112"/>
                </a:lnTo>
                <a:lnTo>
                  <a:pt x="266" y="86"/>
                </a:lnTo>
                <a:lnTo>
                  <a:pt x="253" y="64"/>
                </a:lnTo>
                <a:lnTo>
                  <a:pt x="240" y="47"/>
                </a:lnTo>
                <a:lnTo>
                  <a:pt x="221" y="28"/>
                </a:lnTo>
                <a:lnTo>
                  <a:pt x="199" y="16"/>
                </a:lnTo>
                <a:lnTo>
                  <a:pt x="178" y="6"/>
                </a:lnTo>
                <a:lnTo>
                  <a:pt x="154" y="2"/>
                </a:lnTo>
                <a:lnTo>
                  <a:pt x="129" y="0"/>
                </a:lnTo>
                <a:lnTo>
                  <a:pt x="105" y="4"/>
                </a:lnTo>
                <a:lnTo>
                  <a:pt x="82" y="12"/>
                </a:lnTo>
                <a:lnTo>
                  <a:pt x="62" y="23"/>
                </a:lnTo>
                <a:lnTo>
                  <a:pt x="43" y="39"/>
                </a:lnTo>
                <a:lnTo>
                  <a:pt x="27" y="58"/>
                </a:lnTo>
                <a:lnTo>
                  <a:pt x="14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1" y="201"/>
                </a:lnTo>
                <a:lnTo>
                  <a:pt x="22" y="225"/>
                </a:lnTo>
                <a:lnTo>
                  <a:pt x="37" y="243"/>
                </a:lnTo>
                <a:lnTo>
                  <a:pt x="56" y="261"/>
                </a:lnTo>
                <a:lnTo>
                  <a:pt x="76" y="273"/>
                </a:lnTo>
                <a:lnTo>
                  <a:pt x="98" y="284"/>
                </a:lnTo>
                <a:lnTo>
                  <a:pt x="123" y="287"/>
                </a:lnTo>
                <a:lnTo>
                  <a:pt x="146" y="287"/>
                </a:lnTo>
                <a:lnTo>
                  <a:pt x="170" y="284"/>
                </a:lnTo>
                <a:lnTo>
                  <a:pt x="193" y="278"/>
                </a:lnTo>
                <a:lnTo>
                  <a:pt x="215" y="265"/>
                </a:lnTo>
                <a:lnTo>
                  <a:pt x="235" y="249"/>
                </a:lnTo>
                <a:lnTo>
                  <a:pt x="251" y="226"/>
                </a:lnTo>
                <a:lnTo>
                  <a:pt x="269" y="188"/>
                </a:lnTo>
                <a:lnTo>
                  <a:pt x="209" y="179"/>
                </a:lnTo>
                <a:lnTo>
                  <a:pt x="190" y="207"/>
                </a:lnTo>
                <a:lnTo>
                  <a:pt x="178" y="216"/>
                </a:lnTo>
                <a:lnTo>
                  <a:pt x="165" y="222"/>
                </a:lnTo>
                <a:lnTo>
                  <a:pt x="152" y="225"/>
                </a:lnTo>
                <a:lnTo>
                  <a:pt x="140" y="226"/>
                </a:lnTo>
                <a:lnTo>
                  <a:pt x="124" y="225"/>
                </a:lnTo>
                <a:lnTo>
                  <a:pt x="111" y="222"/>
                </a:lnTo>
                <a:lnTo>
                  <a:pt x="100" y="216"/>
                </a:lnTo>
                <a:lnTo>
                  <a:pt x="88" y="207"/>
                </a:lnTo>
                <a:lnTo>
                  <a:pt x="78" y="198"/>
                </a:lnTo>
                <a:lnTo>
                  <a:pt x="70" y="187"/>
                </a:lnTo>
                <a:lnTo>
                  <a:pt x="63" y="174"/>
                </a:lnTo>
                <a:lnTo>
                  <a:pt x="60" y="159"/>
                </a:lnTo>
                <a:lnTo>
                  <a:pt x="59" y="144"/>
                </a:lnTo>
                <a:lnTo>
                  <a:pt x="60" y="131"/>
                </a:lnTo>
                <a:lnTo>
                  <a:pt x="63" y="118"/>
                </a:lnTo>
                <a:lnTo>
                  <a:pt x="70" y="104"/>
                </a:lnTo>
                <a:lnTo>
                  <a:pt x="76" y="93"/>
                </a:lnTo>
                <a:lnTo>
                  <a:pt x="86" y="83"/>
                </a:lnTo>
                <a:lnTo>
                  <a:pt x="98" y="73"/>
                </a:lnTo>
                <a:lnTo>
                  <a:pt x="110" y="69"/>
                </a:lnTo>
                <a:lnTo>
                  <a:pt x="124" y="64"/>
                </a:lnTo>
                <a:lnTo>
                  <a:pt x="137" y="61"/>
                </a:lnTo>
                <a:lnTo>
                  <a:pt x="151" y="64"/>
                </a:lnTo>
                <a:lnTo>
                  <a:pt x="164" y="67"/>
                </a:lnTo>
                <a:lnTo>
                  <a:pt x="177" y="73"/>
                </a:lnTo>
                <a:lnTo>
                  <a:pt x="190" y="82"/>
                </a:lnTo>
                <a:lnTo>
                  <a:pt x="199" y="92"/>
                </a:lnTo>
                <a:lnTo>
                  <a:pt x="205" y="102"/>
                </a:lnTo>
                <a:lnTo>
                  <a:pt x="212" y="117"/>
                </a:lnTo>
                <a:lnTo>
                  <a:pt x="215" y="139"/>
                </a:lnTo>
                <a:lnTo>
                  <a:pt x="276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7" name="Freeform 35"/>
          <p:cNvSpPr/>
          <p:nvPr/>
        </p:nvSpPr>
        <p:spPr>
          <a:xfrm>
            <a:off x="7045200" y="50166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45" y="48"/>
                </a:moveTo>
                <a:lnTo>
                  <a:pt x="230" y="35"/>
                </a:lnTo>
                <a:lnTo>
                  <a:pt x="210" y="20"/>
                </a:lnTo>
                <a:lnTo>
                  <a:pt x="189" y="8"/>
                </a:lnTo>
                <a:lnTo>
                  <a:pt x="166" y="3"/>
                </a:lnTo>
                <a:lnTo>
                  <a:pt x="141" y="0"/>
                </a:lnTo>
                <a:lnTo>
                  <a:pt x="118" y="3"/>
                </a:lnTo>
                <a:lnTo>
                  <a:pt x="93" y="7"/>
                </a:lnTo>
                <a:lnTo>
                  <a:pt x="71" y="17"/>
                </a:lnTo>
                <a:lnTo>
                  <a:pt x="52" y="32"/>
                </a:lnTo>
                <a:lnTo>
                  <a:pt x="33" y="48"/>
                </a:lnTo>
                <a:lnTo>
                  <a:pt x="19" y="70"/>
                </a:lnTo>
                <a:lnTo>
                  <a:pt x="9" y="92"/>
                </a:lnTo>
                <a:lnTo>
                  <a:pt x="1" y="116"/>
                </a:lnTo>
                <a:lnTo>
                  <a:pt x="0" y="141"/>
                </a:lnTo>
                <a:lnTo>
                  <a:pt x="1" y="166"/>
                </a:lnTo>
                <a:lnTo>
                  <a:pt x="7" y="191"/>
                </a:lnTo>
                <a:lnTo>
                  <a:pt x="16" y="213"/>
                </a:lnTo>
                <a:lnTo>
                  <a:pt x="30" y="234"/>
                </a:lnTo>
                <a:lnTo>
                  <a:pt x="48" y="253"/>
                </a:lnTo>
                <a:lnTo>
                  <a:pt x="65" y="268"/>
                </a:lnTo>
                <a:lnTo>
                  <a:pt x="89" y="280"/>
                </a:lnTo>
                <a:lnTo>
                  <a:pt x="111" y="285"/>
                </a:lnTo>
                <a:lnTo>
                  <a:pt x="135" y="288"/>
                </a:lnTo>
                <a:lnTo>
                  <a:pt x="160" y="287"/>
                </a:lnTo>
                <a:lnTo>
                  <a:pt x="184" y="281"/>
                </a:lnTo>
                <a:lnTo>
                  <a:pt x="205" y="271"/>
                </a:lnTo>
                <a:lnTo>
                  <a:pt x="226" y="256"/>
                </a:lnTo>
                <a:lnTo>
                  <a:pt x="242" y="239"/>
                </a:lnTo>
                <a:lnTo>
                  <a:pt x="255" y="220"/>
                </a:lnTo>
                <a:lnTo>
                  <a:pt x="268" y="195"/>
                </a:lnTo>
                <a:lnTo>
                  <a:pt x="275" y="170"/>
                </a:lnTo>
                <a:lnTo>
                  <a:pt x="277" y="143"/>
                </a:lnTo>
                <a:lnTo>
                  <a:pt x="268" y="102"/>
                </a:lnTo>
                <a:lnTo>
                  <a:pt x="216" y="131"/>
                </a:lnTo>
                <a:lnTo>
                  <a:pt x="216" y="163"/>
                </a:lnTo>
                <a:lnTo>
                  <a:pt x="210" y="176"/>
                </a:lnTo>
                <a:lnTo>
                  <a:pt x="203" y="189"/>
                </a:lnTo>
                <a:lnTo>
                  <a:pt x="195" y="201"/>
                </a:lnTo>
                <a:lnTo>
                  <a:pt x="184" y="211"/>
                </a:lnTo>
                <a:lnTo>
                  <a:pt x="172" y="217"/>
                </a:lnTo>
                <a:lnTo>
                  <a:pt x="160" y="223"/>
                </a:lnTo>
                <a:lnTo>
                  <a:pt x="147" y="226"/>
                </a:lnTo>
                <a:lnTo>
                  <a:pt x="133" y="226"/>
                </a:lnTo>
                <a:lnTo>
                  <a:pt x="119" y="223"/>
                </a:lnTo>
                <a:lnTo>
                  <a:pt x="105" y="218"/>
                </a:lnTo>
                <a:lnTo>
                  <a:pt x="93" y="211"/>
                </a:lnTo>
                <a:lnTo>
                  <a:pt x="83" y="204"/>
                </a:lnTo>
                <a:lnTo>
                  <a:pt x="74" y="192"/>
                </a:lnTo>
                <a:lnTo>
                  <a:pt x="67" y="179"/>
                </a:lnTo>
                <a:lnTo>
                  <a:pt x="63" y="166"/>
                </a:lnTo>
                <a:lnTo>
                  <a:pt x="60" y="151"/>
                </a:lnTo>
                <a:lnTo>
                  <a:pt x="60" y="137"/>
                </a:lnTo>
                <a:lnTo>
                  <a:pt x="63" y="125"/>
                </a:lnTo>
                <a:lnTo>
                  <a:pt x="65" y="110"/>
                </a:lnTo>
                <a:lnTo>
                  <a:pt x="74" y="97"/>
                </a:lnTo>
                <a:lnTo>
                  <a:pt x="81" y="86"/>
                </a:lnTo>
                <a:lnTo>
                  <a:pt x="92" y="77"/>
                </a:lnTo>
                <a:lnTo>
                  <a:pt x="105" y="70"/>
                </a:lnTo>
                <a:lnTo>
                  <a:pt x="116" y="65"/>
                </a:lnTo>
                <a:lnTo>
                  <a:pt x="130" y="62"/>
                </a:lnTo>
                <a:lnTo>
                  <a:pt x="146" y="62"/>
                </a:lnTo>
                <a:lnTo>
                  <a:pt x="157" y="65"/>
                </a:lnTo>
                <a:lnTo>
                  <a:pt x="170" y="70"/>
                </a:lnTo>
                <a:lnTo>
                  <a:pt x="182" y="76"/>
                </a:lnTo>
                <a:lnTo>
                  <a:pt x="198" y="93"/>
                </a:lnTo>
                <a:lnTo>
                  <a:pt x="24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8" name="Freeform 36"/>
          <p:cNvSpPr/>
          <p:nvPr/>
        </p:nvSpPr>
        <p:spPr>
          <a:xfrm>
            <a:off x="7075440" y="4694400"/>
            <a:ext cx="297000" cy="141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63" h="269">
                <a:moveTo>
                  <a:pt x="0" y="254"/>
                </a:moveTo>
                <a:lnTo>
                  <a:pt x="563" y="269"/>
                </a:lnTo>
                <a:lnTo>
                  <a:pt x="162" y="0"/>
                </a:lnTo>
                <a:lnTo>
                  <a:pt x="155" y="37"/>
                </a:lnTo>
                <a:lnTo>
                  <a:pt x="305" y="187"/>
                </a:lnTo>
                <a:lnTo>
                  <a:pt x="18" y="215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9" name="Freeform 37"/>
          <p:cNvSpPr/>
          <p:nvPr/>
        </p:nvSpPr>
        <p:spPr>
          <a:xfrm>
            <a:off x="7075440" y="4849920"/>
            <a:ext cx="290520" cy="215640"/>
          </a:xfrm>
          <a:custGeom>
            <a:avLst/>
            <a:gdLst>
              <a:gd name="textAreaLeft" fmla="*/ 0 w 290520"/>
              <a:gd name="textAreaRight" fmla="*/ 290880 w 290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50" h="409">
                <a:moveTo>
                  <a:pt x="0" y="0"/>
                </a:moveTo>
                <a:lnTo>
                  <a:pt x="550" y="60"/>
                </a:lnTo>
                <a:lnTo>
                  <a:pt x="137" y="409"/>
                </a:lnTo>
                <a:lnTo>
                  <a:pt x="121" y="358"/>
                </a:lnTo>
                <a:lnTo>
                  <a:pt x="363" y="106"/>
                </a:lnTo>
                <a:lnTo>
                  <a:pt x="19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0" name="Freeform 38"/>
          <p:cNvSpPr/>
          <p:nvPr/>
        </p:nvSpPr>
        <p:spPr>
          <a:xfrm>
            <a:off x="6757920" y="3990960"/>
            <a:ext cx="147600" cy="179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7" h="339">
                <a:moveTo>
                  <a:pt x="0" y="0"/>
                </a:moveTo>
                <a:lnTo>
                  <a:pt x="193" y="339"/>
                </a:lnTo>
                <a:lnTo>
                  <a:pt x="277" y="75"/>
                </a:lnTo>
                <a:lnTo>
                  <a:pt x="247" y="67"/>
                </a:lnTo>
                <a:lnTo>
                  <a:pt x="174" y="193"/>
                </a:lnTo>
                <a:lnTo>
                  <a:pt x="4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1" name="Freeform 39"/>
          <p:cNvSpPr/>
          <p:nvPr/>
        </p:nvSpPr>
        <p:spPr>
          <a:xfrm>
            <a:off x="6673680" y="390060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7" h="234">
                <a:moveTo>
                  <a:pt x="184" y="221"/>
                </a:moveTo>
                <a:lnTo>
                  <a:pt x="203" y="208"/>
                </a:lnTo>
                <a:lnTo>
                  <a:pt x="219" y="193"/>
                </a:lnTo>
                <a:lnTo>
                  <a:pt x="229" y="176"/>
                </a:lnTo>
                <a:lnTo>
                  <a:pt x="240" y="158"/>
                </a:lnTo>
                <a:lnTo>
                  <a:pt x="245" y="138"/>
                </a:lnTo>
                <a:lnTo>
                  <a:pt x="247" y="118"/>
                </a:lnTo>
                <a:lnTo>
                  <a:pt x="245" y="96"/>
                </a:lnTo>
                <a:lnTo>
                  <a:pt x="240" y="77"/>
                </a:lnTo>
                <a:lnTo>
                  <a:pt x="229" y="58"/>
                </a:lnTo>
                <a:lnTo>
                  <a:pt x="218" y="40"/>
                </a:lnTo>
                <a:lnTo>
                  <a:pt x="203" y="26"/>
                </a:lnTo>
                <a:lnTo>
                  <a:pt x="186" y="16"/>
                </a:lnTo>
                <a:lnTo>
                  <a:pt x="165" y="5"/>
                </a:lnTo>
                <a:lnTo>
                  <a:pt x="145" y="1"/>
                </a:lnTo>
                <a:lnTo>
                  <a:pt x="123" y="0"/>
                </a:lnTo>
                <a:lnTo>
                  <a:pt x="101" y="1"/>
                </a:lnTo>
                <a:lnTo>
                  <a:pt x="81" y="5"/>
                </a:lnTo>
                <a:lnTo>
                  <a:pt x="62" y="16"/>
                </a:lnTo>
                <a:lnTo>
                  <a:pt x="44" y="26"/>
                </a:lnTo>
                <a:lnTo>
                  <a:pt x="28" y="40"/>
                </a:lnTo>
                <a:lnTo>
                  <a:pt x="15" y="58"/>
                </a:lnTo>
                <a:lnTo>
                  <a:pt x="6" y="78"/>
                </a:lnTo>
                <a:lnTo>
                  <a:pt x="0" y="97"/>
                </a:lnTo>
                <a:lnTo>
                  <a:pt x="0" y="118"/>
                </a:lnTo>
                <a:lnTo>
                  <a:pt x="0" y="140"/>
                </a:lnTo>
                <a:lnTo>
                  <a:pt x="6" y="158"/>
                </a:lnTo>
                <a:lnTo>
                  <a:pt x="16" y="177"/>
                </a:lnTo>
                <a:lnTo>
                  <a:pt x="28" y="193"/>
                </a:lnTo>
                <a:lnTo>
                  <a:pt x="44" y="208"/>
                </a:lnTo>
                <a:lnTo>
                  <a:pt x="62" y="221"/>
                </a:lnTo>
                <a:lnTo>
                  <a:pt x="82" y="230"/>
                </a:lnTo>
                <a:lnTo>
                  <a:pt x="105" y="234"/>
                </a:lnTo>
                <a:lnTo>
                  <a:pt x="142" y="233"/>
                </a:lnTo>
                <a:lnTo>
                  <a:pt x="124" y="185"/>
                </a:lnTo>
                <a:lnTo>
                  <a:pt x="97" y="179"/>
                </a:lnTo>
                <a:lnTo>
                  <a:pt x="83" y="173"/>
                </a:lnTo>
                <a:lnTo>
                  <a:pt x="75" y="167"/>
                </a:lnTo>
                <a:lnTo>
                  <a:pt x="67" y="158"/>
                </a:lnTo>
                <a:lnTo>
                  <a:pt x="62" y="148"/>
                </a:lnTo>
                <a:lnTo>
                  <a:pt x="57" y="137"/>
                </a:lnTo>
                <a:lnTo>
                  <a:pt x="54" y="125"/>
                </a:lnTo>
                <a:lnTo>
                  <a:pt x="53" y="113"/>
                </a:lnTo>
                <a:lnTo>
                  <a:pt x="54" y="105"/>
                </a:lnTo>
                <a:lnTo>
                  <a:pt x="59" y="93"/>
                </a:lnTo>
                <a:lnTo>
                  <a:pt x="65" y="81"/>
                </a:lnTo>
                <a:lnTo>
                  <a:pt x="72" y="72"/>
                </a:lnTo>
                <a:lnTo>
                  <a:pt x="81" y="64"/>
                </a:lnTo>
                <a:lnTo>
                  <a:pt x="92" y="58"/>
                </a:lnTo>
                <a:lnTo>
                  <a:pt x="102" y="52"/>
                </a:lnTo>
                <a:lnTo>
                  <a:pt x="116" y="51"/>
                </a:lnTo>
                <a:lnTo>
                  <a:pt x="126" y="51"/>
                </a:lnTo>
                <a:lnTo>
                  <a:pt x="139" y="52"/>
                </a:lnTo>
                <a:lnTo>
                  <a:pt x="151" y="55"/>
                </a:lnTo>
                <a:lnTo>
                  <a:pt x="162" y="61"/>
                </a:lnTo>
                <a:lnTo>
                  <a:pt x="171" y="68"/>
                </a:lnTo>
                <a:lnTo>
                  <a:pt x="180" y="78"/>
                </a:lnTo>
                <a:lnTo>
                  <a:pt x="187" y="86"/>
                </a:lnTo>
                <a:lnTo>
                  <a:pt x="191" y="97"/>
                </a:lnTo>
                <a:lnTo>
                  <a:pt x="193" y="109"/>
                </a:lnTo>
                <a:lnTo>
                  <a:pt x="193" y="122"/>
                </a:lnTo>
                <a:lnTo>
                  <a:pt x="193" y="132"/>
                </a:lnTo>
                <a:lnTo>
                  <a:pt x="188" y="144"/>
                </a:lnTo>
                <a:lnTo>
                  <a:pt x="183" y="154"/>
                </a:lnTo>
                <a:lnTo>
                  <a:pt x="174" y="164"/>
                </a:lnTo>
                <a:lnTo>
                  <a:pt x="158" y="174"/>
                </a:lnTo>
                <a:lnTo>
                  <a:pt x="184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2" name="Freeform 40"/>
          <p:cNvSpPr/>
          <p:nvPr/>
        </p:nvSpPr>
        <p:spPr>
          <a:xfrm>
            <a:off x="6862680" y="3938760"/>
            <a:ext cx="130320" cy="128520"/>
          </a:xfrm>
          <a:custGeom>
            <a:avLst/>
            <a:gdLst>
              <a:gd name="textAreaLeft" fmla="*/ 0 w 130320"/>
              <a:gd name="textAreaRight" fmla="*/ 130680 w 1303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7" h="245">
                <a:moveTo>
                  <a:pt x="117" y="245"/>
                </a:moveTo>
                <a:lnTo>
                  <a:pt x="129" y="238"/>
                </a:lnTo>
                <a:lnTo>
                  <a:pt x="149" y="235"/>
                </a:lnTo>
                <a:lnTo>
                  <a:pt x="171" y="229"/>
                </a:lnTo>
                <a:lnTo>
                  <a:pt x="188" y="219"/>
                </a:lnTo>
                <a:lnTo>
                  <a:pt x="207" y="207"/>
                </a:lnTo>
                <a:lnTo>
                  <a:pt x="222" y="191"/>
                </a:lnTo>
                <a:lnTo>
                  <a:pt x="234" y="175"/>
                </a:lnTo>
                <a:lnTo>
                  <a:pt x="242" y="155"/>
                </a:lnTo>
                <a:lnTo>
                  <a:pt x="247" y="136"/>
                </a:lnTo>
                <a:lnTo>
                  <a:pt x="247" y="114"/>
                </a:lnTo>
                <a:lnTo>
                  <a:pt x="245" y="93"/>
                </a:lnTo>
                <a:lnTo>
                  <a:pt x="239" y="74"/>
                </a:lnTo>
                <a:lnTo>
                  <a:pt x="229" y="57"/>
                </a:lnTo>
                <a:lnTo>
                  <a:pt x="216" y="39"/>
                </a:lnTo>
                <a:lnTo>
                  <a:pt x="200" y="25"/>
                </a:lnTo>
                <a:lnTo>
                  <a:pt x="182" y="15"/>
                </a:lnTo>
                <a:lnTo>
                  <a:pt x="162" y="6"/>
                </a:lnTo>
                <a:lnTo>
                  <a:pt x="142" y="1"/>
                </a:lnTo>
                <a:lnTo>
                  <a:pt x="120" y="0"/>
                </a:lnTo>
                <a:lnTo>
                  <a:pt x="98" y="3"/>
                </a:lnTo>
                <a:lnTo>
                  <a:pt x="77" y="9"/>
                </a:lnTo>
                <a:lnTo>
                  <a:pt x="59" y="18"/>
                </a:lnTo>
                <a:lnTo>
                  <a:pt x="41" y="29"/>
                </a:lnTo>
                <a:lnTo>
                  <a:pt x="26" y="45"/>
                </a:lnTo>
                <a:lnTo>
                  <a:pt x="13" y="63"/>
                </a:lnTo>
                <a:lnTo>
                  <a:pt x="6" y="82"/>
                </a:lnTo>
                <a:lnTo>
                  <a:pt x="2" y="102"/>
                </a:lnTo>
                <a:lnTo>
                  <a:pt x="0" y="122"/>
                </a:lnTo>
                <a:lnTo>
                  <a:pt x="3" y="143"/>
                </a:lnTo>
                <a:lnTo>
                  <a:pt x="9" y="163"/>
                </a:lnTo>
                <a:lnTo>
                  <a:pt x="19" y="182"/>
                </a:lnTo>
                <a:lnTo>
                  <a:pt x="35" y="201"/>
                </a:lnTo>
                <a:lnTo>
                  <a:pt x="64" y="222"/>
                </a:lnTo>
                <a:lnTo>
                  <a:pt x="82" y="173"/>
                </a:lnTo>
                <a:lnTo>
                  <a:pt x="61" y="150"/>
                </a:lnTo>
                <a:lnTo>
                  <a:pt x="57" y="141"/>
                </a:lnTo>
                <a:lnTo>
                  <a:pt x="56" y="130"/>
                </a:lnTo>
                <a:lnTo>
                  <a:pt x="53" y="118"/>
                </a:lnTo>
                <a:lnTo>
                  <a:pt x="56" y="106"/>
                </a:lnTo>
                <a:lnTo>
                  <a:pt x="59" y="95"/>
                </a:lnTo>
                <a:lnTo>
                  <a:pt x="63" y="85"/>
                </a:lnTo>
                <a:lnTo>
                  <a:pt x="70" y="74"/>
                </a:lnTo>
                <a:lnTo>
                  <a:pt x="79" y="66"/>
                </a:lnTo>
                <a:lnTo>
                  <a:pt x="91" y="60"/>
                </a:lnTo>
                <a:lnTo>
                  <a:pt x="101" y="54"/>
                </a:lnTo>
                <a:lnTo>
                  <a:pt x="112" y="52"/>
                </a:lnTo>
                <a:lnTo>
                  <a:pt x="124" y="52"/>
                </a:lnTo>
                <a:lnTo>
                  <a:pt x="137" y="52"/>
                </a:lnTo>
                <a:lnTo>
                  <a:pt x="149" y="57"/>
                </a:lnTo>
                <a:lnTo>
                  <a:pt x="161" y="61"/>
                </a:lnTo>
                <a:lnTo>
                  <a:pt x="169" y="69"/>
                </a:lnTo>
                <a:lnTo>
                  <a:pt x="178" y="76"/>
                </a:lnTo>
                <a:lnTo>
                  <a:pt x="185" y="86"/>
                </a:lnTo>
                <a:lnTo>
                  <a:pt x="191" y="96"/>
                </a:lnTo>
                <a:lnTo>
                  <a:pt x="193" y="108"/>
                </a:lnTo>
                <a:lnTo>
                  <a:pt x="194" y="120"/>
                </a:lnTo>
                <a:lnTo>
                  <a:pt x="193" y="133"/>
                </a:lnTo>
                <a:lnTo>
                  <a:pt x="188" y="143"/>
                </a:lnTo>
                <a:lnTo>
                  <a:pt x="185" y="153"/>
                </a:lnTo>
                <a:lnTo>
                  <a:pt x="175" y="163"/>
                </a:lnTo>
                <a:lnTo>
                  <a:pt x="168" y="171"/>
                </a:lnTo>
                <a:lnTo>
                  <a:pt x="158" y="178"/>
                </a:lnTo>
                <a:lnTo>
                  <a:pt x="146" y="182"/>
                </a:lnTo>
                <a:lnTo>
                  <a:pt x="134" y="185"/>
                </a:lnTo>
                <a:lnTo>
                  <a:pt x="114" y="185"/>
                </a:lnTo>
                <a:lnTo>
                  <a:pt x="11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3" name="Freeform 41"/>
          <p:cNvSpPr/>
          <p:nvPr/>
        </p:nvSpPr>
        <p:spPr>
          <a:xfrm>
            <a:off x="6586560" y="3997440"/>
            <a:ext cx="243000" cy="199800"/>
          </a:xfrm>
          <a:custGeom>
            <a:avLst/>
            <a:gdLst>
              <a:gd name="textAreaLeft" fmla="*/ 0 w 243000"/>
              <a:gd name="textAreaRight" fmla="*/ 243360 w 2430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60" h="379">
                <a:moveTo>
                  <a:pt x="0" y="288"/>
                </a:moveTo>
                <a:lnTo>
                  <a:pt x="460" y="379"/>
                </a:lnTo>
                <a:lnTo>
                  <a:pt x="291" y="0"/>
                </a:lnTo>
                <a:lnTo>
                  <a:pt x="262" y="33"/>
                </a:lnTo>
                <a:lnTo>
                  <a:pt x="339" y="287"/>
                </a:lnTo>
                <a:lnTo>
                  <a:pt x="3" y="258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4" name="Freeform 42"/>
          <p:cNvSpPr/>
          <p:nvPr/>
        </p:nvSpPr>
        <p:spPr>
          <a:xfrm>
            <a:off x="6481800" y="4083120"/>
            <a:ext cx="131760" cy="1252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9" h="237">
                <a:moveTo>
                  <a:pt x="246" y="138"/>
                </a:moveTo>
                <a:lnTo>
                  <a:pt x="249" y="116"/>
                </a:lnTo>
                <a:lnTo>
                  <a:pt x="245" y="96"/>
                </a:lnTo>
                <a:lnTo>
                  <a:pt x="239" y="75"/>
                </a:lnTo>
                <a:lnTo>
                  <a:pt x="230" y="58"/>
                </a:lnTo>
                <a:lnTo>
                  <a:pt x="217" y="40"/>
                </a:lnTo>
                <a:lnTo>
                  <a:pt x="201" y="27"/>
                </a:lnTo>
                <a:lnTo>
                  <a:pt x="185" y="16"/>
                </a:lnTo>
                <a:lnTo>
                  <a:pt x="163" y="7"/>
                </a:lnTo>
                <a:lnTo>
                  <a:pt x="143" y="2"/>
                </a:lnTo>
                <a:lnTo>
                  <a:pt x="121" y="0"/>
                </a:lnTo>
                <a:lnTo>
                  <a:pt x="100" y="2"/>
                </a:lnTo>
                <a:lnTo>
                  <a:pt x="80" y="8"/>
                </a:lnTo>
                <a:lnTo>
                  <a:pt x="60" y="17"/>
                </a:lnTo>
                <a:lnTo>
                  <a:pt x="42" y="30"/>
                </a:lnTo>
                <a:lnTo>
                  <a:pt x="27" y="43"/>
                </a:lnTo>
                <a:lnTo>
                  <a:pt x="16" y="62"/>
                </a:lnTo>
                <a:lnTo>
                  <a:pt x="7" y="80"/>
                </a:lnTo>
                <a:lnTo>
                  <a:pt x="1" y="102"/>
                </a:lnTo>
                <a:lnTo>
                  <a:pt x="0" y="121"/>
                </a:lnTo>
                <a:lnTo>
                  <a:pt x="3" y="141"/>
                </a:lnTo>
                <a:lnTo>
                  <a:pt x="10" y="161"/>
                </a:lnTo>
                <a:lnTo>
                  <a:pt x="19" y="180"/>
                </a:lnTo>
                <a:lnTo>
                  <a:pt x="32" y="198"/>
                </a:lnTo>
                <a:lnTo>
                  <a:pt x="46" y="211"/>
                </a:lnTo>
                <a:lnTo>
                  <a:pt x="64" y="224"/>
                </a:lnTo>
                <a:lnTo>
                  <a:pt x="84" y="231"/>
                </a:lnTo>
                <a:lnTo>
                  <a:pt x="105" y="236"/>
                </a:lnTo>
                <a:lnTo>
                  <a:pt x="127" y="237"/>
                </a:lnTo>
                <a:lnTo>
                  <a:pt x="149" y="236"/>
                </a:lnTo>
                <a:lnTo>
                  <a:pt x="169" y="230"/>
                </a:lnTo>
                <a:lnTo>
                  <a:pt x="188" y="220"/>
                </a:lnTo>
                <a:lnTo>
                  <a:pt x="208" y="205"/>
                </a:lnTo>
                <a:lnTo>
                  <a:pt x="230" y="177"/>
                </a:lnTo>
                <a:lnTo>
                  <a:pt x="181" y="161"/>
                </a:lnTo>
                <a:lnTo>
                  <a:pt x="157" y="179"/>
                </a:lnTo>
                <a:lnTo>
                  <a:pt x="146" y="183"/>
                </a:lnTo>
                <a:lnTo>
                  <a:pt x="134" y="185"/>
                </a:lnTo>
                <a:lnTo>
                  <a:pt x="122" y="185"/>
                </a:lnTo>
                <a:lnTo>
                  <a:pt x="109" y="185"/>
                </a:lnTo>
                <a:lnTo>
                  <a:pt x="97" y="180"/>
                </a:lnTo>
                <a:lnTo>
                  <a:pt x="87" y="176"/>
                </a:lnTo>
                <a:lnTo>
                  <a:pt x="79" y="169"/>
                </a:lnTo>
                <a:lnTo>
                  <a:pt x="68" y="161"/>
                </a:lnTo>
                <a:lnTo>
                  <a:pt x="61" y="151"/>
                </a:lnTo>
                <a:lnTo>
                  <a:pt x="58" y="140"/>
                </a:lnTo>
                <a:lnTo>
                  <a:pt x="55" y="128"/>
                </a:lnTo>
                <a:lnTo>
                  <a:pt x="54" y="116"/>
                </a:lnTo>
                <a:lnTo>
                  <a:pt x="57" y="105"/>
                </a:lnTo>
                <a:lnTo>
                  <a:pt x="58" y="93"/>
                </a:lnTo>
                <a:lnTo>
                  <a:pt x="64" y="84"/>
                </a:lnTo>
                <a:lnTo>
                  <a:pt x="71" y="74"/>
                </a:lnTo>
                <a:lnTo>
                  <a:pt x="81" y="65"/>
                </a:lnTo>
                <a:lnTo>
                  <a:pt x="90" y="59"/>
                </a:lnTo>
                <a:lnTo>
                  <a:pt x="103" y="55"/>
                </a:lnTo>
                <a:lnTo>
                  <a:pt x="114" y="52"/>
                </a:lnTo>
                <a:lnTo>
                  <a:pt x="127" y="51"/>
                </a:lnTo>
                <a:lnTo>
                  <a:pt x="138" y="52"/>
                </a:lnTo>
                <a:lnTo>
                  <a:pt x="151" y="56"/>
                </a:lnTo>
                <a:lnTo>
                  <a:pt x="162" y="61"/>
                </a:lnTo>
                <a:lnTo>
                  <a:pt x="172" y="70"/>
                </a:lnTo>
                <a:lnTo>
                  <a:pt x="181" y="78"/>
                </a:lnTo>
                <a:lnTo>
                  <a:pt x="186" y="87"/>
                </a:lnTo>
                <a:lnTo>
                  <a:pt x="191" y="97"/>
                </a:lnTo>
                <a:lnTo>
                  <a:pt x="194" y="109"/>
                </a:lnTo>
                <a:lnTo>
                  <a:pt x="192" y="128"/>
                </a:lnTo>
                <a:lnTo>
                  <a:pt x="24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5" name="Freeform 43"/>
          <p:cNvSpPr/>
          <p:nvPr/>
        </p:nvSpPr>
        <p:spPr>
          <a:xfrm>
            <a:off x="6575400" y="4033800"/>
            <a:ext cx="882720" cy="449280"/>
          </a:xfrm>
          <a:custGeom>
            <a:avLst/>
            <a:gdLst>
              <a:gd name="textAreaLeft" fmla="*/ 0 w 882720"/>
              <a:gd name="textAreaRight" fmla="*/ 883080 w 882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70" h="847">
                <a:moveTo>
                  <a:pt x="3" y="254"/>
                </a:moveTo>
                <a:lnTo>
                  <a:pt x="519" y="400"/>
                </a:lnTo>
                <a:lnTo>
                  <a:pt x="528" y="410"/>
                </a:lnTo>
                <a:lnTo>
                  <a:pt x="538" y="423"/>
                </a:lnTo>
                <a:lnTo>
                  <a:pt x="551" y="437"/>
                </a:lnTo>
                <a:lnTo>
                  <a:pt x="570" y="456"/>
                </a:lnTo>
                <a:lnTo>
                  <a:pt x="592" y="477"/>
                </a:lnTo>
                <a:lnTo>
                  <a:pt x="617" y="502"/>
                </a:lnTo>
                <a:lnTo>
                  <a:pt x="645" y="526"/>
                </a:lnTo>
                <a:lnTo>
                  <a:pt x="674" y="553"/>
                </a:lnTo>
                <a:lnTo>
                  <a:pt x="690" y="569"/>
                </a:lnTo>
                <a:lnTo>
                  <a:pt x="708" y="582"/>
                </a:lnTo>
                <a:lnTo>
                  <a:pt x="725" y="595"/>
                </a:lnTo>
                <a:lnTo>
                  <a:pt x="743" y="608"/>
                </a:lnTo>
                <a:lnTo>
                  <a:pt x="760" y="621"/>
                </a:lnTo>
                <a:lnTo>
                  <a:pt x="779" y="634"/>
                </a:lnTo>
                <a:lnTo>
                  <a:pt x="818" y="662"/>
                </a:lnTo>
                <a:lnTo>
                  <a:pt x="859" y="685"/>
                </a:lnTo>
                <a:lnTo>
                  <a:pt x="900" y="707"/>
                </a:lnTo>
                <a:lnTo>
                  <a:pt x="944" y="726"/>
                </a:lnTo>
                <a:lnTo>
                  <a:pt x="988" y="738"/>
                </a:lnTo>
                <a:lnTo>
                  <a:pt x="1039" y="738"/>
                </a:lnTo>
                <a:lnTo>
                  <a:pt x="1154" y="709"/>
                </a:lnTo>
                <a:lnTo>
                  <a:pt x="1214" y="681"/>
                </a:lnTo>
                <a:lnTo>
                  <a:pt x="1243" y="665"/>
                </a:lnTo>
                <a:lnTo>
                  <a:pt x="1273" y="647"/>
                </a:lnTo>
                <a:lnTo>
                  <a:pt x="1303" y="627"/>
                </a:lnTo>
                <a:lnTo>
                  <a:pt x="1332" y="608"/>
                </a:lnTo>
                <a:lnTo>
                  <a:pt x="1361" y="585"/>
                </a:lnTo>
                <a:lnTo>
                  <a:pt x="1390" y="563"/>
                </a:lnTo>
                <a:lnTo>
                  <a:pt x="1416" y="538"/>
                </a:lnTo>
                <a:lnTo>
                  <a:pt x="1441" y="512"/>
                </a:lnTo>
                <a:lnTo>
                  <a:pt x="1464" y="487"/>
                </a:lnTo>
                <a:lnTo>
                  <a:pt x="1488" y="461"/>
                </a:lnTo>
                <a:lnTo>
                  <a:pt x="1527" y="407"/>
                </a:lnTo>
                <a:lnTo>
                  <a:pt x="1558" y="353"/>
                </a:lnTo>
                <a:lnTo>
                  <a:pt x="1587" y="244"/>
                </a:lnTo>
                <a:lnTo>
                  <a:pt x="1584" y="193"/>
                </a:lnTo>
                <a:lnTo>
                  <a:pt x="1565" y="143"/>
                </a:lnTo>
                <a:lnTo>
                  <a:pt x="1543" y="114"/>
                </a:lnTo>
                <a:lnTo>
                  <a:pt x="1518" y="95"/>
                </a:lnTo>
                <a:lnTo>
                  <a:pt x="1466" y="89"/>
                </a:lnTo>
                <a:lnTo>
                  <a:pt x="1406" y="114"/>
                </a:lnTo>
                <a:lnTo>
                  <a:pt x="1374" y="134"/>
                </a:lnTo>
                <a:lnTo>
                  <a:pt x="1339" y="161"/>
                </a:lnTo>
                <a:lnTo>
                  <a:pt x="1319" y="175"/>
                </a:lnTo>
                <a:lnTo>
                  <a:pt x="1297" y="197"/>
                </a:lnTo>
                <a:lnTo>
                  <a:pt x="1272" y="222"/>
                </a:lnTo>
                <a:lnTo>
                  <a:pt x="1259" y="235"/>
                </a:lnTo>
                <a:lnTo>
                  <a:pt x="1247" y="249"/>
                </a:lnTo>
                <a:lnTo>
                  <a:pt x="1221" y="279"/>
                </a:lnTo>
                <a:lnTo>
                  <a:pt x="1206" y="296"/>
                </a:lnTo>
                <a:lnTo>
                  <a:pt x="1192" y="311"/>
                </a:lnTo>
                <a:lnTo>
                  <a:pt x="1180" y="328"/>
                </a:lnTo>
                <a:lnTo>
                  <a:pt x="1165" y="344"/>
                </a:lnTo>
                <a:lnTo>
                  <a:pt x="1151" y="362"/>
                </a:lnTo>
                <a:lnTo>
                  <a:pt x="1139" y="376"/>
                </a:lnTo>
                <a:lnTo>
                  <a:pt x="1128" y="394"/>
                </a:lnTo>
                <a:lnTo>
                  <a:pt x="1113" y="410"/>
                </a:lnTo>
                <a:lnTo>
                  <a:pt x="1091" y="439"/>
                </a:lnTo>
                <a:lnTo>
                  <a:pt x="1050" y="491"/>
                </a:lnTo>
                <a:lnTo>
                  <a:pt x="1012" y="541"/>
                </a:lnTo>
                <a:lnTo>
                  <a:pt x="603" y="303"/>
                </a:lnTo>
                <a:lnTo>
                  <a:pt x="661" y="0"/>
                </a:lnTo>
                <a:lnTo>
                  <a:pt x="699" y="18"/>
                </a:lnTo>
                <a:lnTo>
                  <a:pt x="678" y="264"/>
                </a:lnTo>
                <a:lnTo>
                  <a:pt x="1002" y="417"/>
                </a:lnTo>
                <a:lnTo>
                  <a:pt x="1039" y="366"/>
                </a:lnTo>
                <a:lnTo>
                  <a:pt x="1081" y="312"/>
                </a:lnTo>
                <a:lnTo>
                  <a:pt x="1093" y="299"/>
                </a:lnTo>
                <a:lnTo>
                  <a:pt x="1106" y="284"/>
                </a:lnTo>
                <a:lnTo>
                  <a:pt x="1130" y="252"/>
                </a:lnTo>
                <a:lnTo>
                  <a:pt x="1144" y="235"/>
                </a:lnTo>
                <a:lnTo>
                  <a:pt x="1158" y="222"/>
                </a:lnTo>
                <a:lnTo>
                  <a:pt x="1173" y="204"/>
                </a:lnTo>
                <a:lnTo>
                  <a:pt x="1186" y="188"/>
                </a:lnTo>
                <a:lnTo>
                  <a:pt x="1202" y="174"/>
                </a:lnTo>
                <a:lnTo>
                  <a:pt x="1216" y="161"/>
                </a:lnTo>
                <a:lnTo>
                  <a:pt x="1230" y="146"/>
                </a:lnTo>
                <a:lnTo>
                  <a:pt x="1246" y="131"/>
                </a:lnTo>
                <a:lnTo>
                  <a:pt x="1273" y="107"/>
                </a:lnTo>
                <a:lnTo>
                  <a:pt x="1301" y="86"/>
                </a:lnTo>
                <a:lnTo>
                  <a:pt x="1326" y="72"/>
                </a:lnTo>
                <a:lnTo>
                  <a:pt x="1349" y="61"/>
                </a:lnTo>
                <a:lnTo>
                  <a:pt x="1394" y="48"/>
                </a:lnTo>
                <a:lnTo>
                  <a:pt x="1438" y="38"/>
                </a:lnTo>
                <a:lnTo>
                  <a:pt x="1521" y="28"/>
                </a:lnTo>
                <a:lnTo>
                  <a:pt x="1591" y="47"/>
                </a:lnTo>
                <a:lnTo>
                  <a:pt x="1639" y="110"/>
                </a:lnTo>
                <a:lnTo>
                  <a:pt x="1670" y="267"/>
                </a:lnTo>
                <a:lnTo>
                  <a:pt x="1663" y="340"/>
                </a:lnTo>
                <a:lnTo>
                  <a:pt x="1644" y="411"/>
                </a:lnTo>
                <a:lnTo>
                  <a:pt x="1610" y="477"/>
                </a:lnTo>
                <a:lnTo>
                  <a:pt x="1568" y="540"/>
                </a:lnTo>
                <a:lnTo>
                  <a:pt x="1543" y="570"/>
                </a:lnTo>
                <a:lnTo>
                  <a:pt x="1531" y="583"/>
                </a:lnTo>
                <a:lnTo>
                  <a:pt x="1517" y="599"/>
                </a:lnTo>
                <a:lnTo>
                  <a:pt x="1504" y="612"/>
                </a:lnTo>
                <a:lnTo>
                  <a:pt x="1489" y="626"/>
                </a:lnTo>
                <a:lnTo>
                  <a:pt x="1461" y="650"/>
                </a:lnTo>
                <a:lnTo>
                  <a:pt x="1431" y="675"/>
                </a:lnTo>
                <a:lnTo>
                  <a:pt x="1399" y="700"/>
                </a:lnTo>
                <a:lnTo>
                  <a:pt x="1368" y="720"/>
                </a:lnTo>
                <a:lnTo>
                  <a:pt x="1333" y="741"/>
                </a:lnTo>
                <a:lnTo>
                  <a:pt x="1301" y="758"/>
                </a:lnTo>
                <a:lnTo>
                  <a:pt x="1268" y="777"/>
                </a:lnTo>
                <a:lnTo>
                  <a:pt x="1234" y="792"/>
                </a:lnTo>
                <a:lnTo>
                  <a:pt x="1199" y="806"/>
                </a:lnTo>
                <a:lnTo>
                  <a:pt x="1133" y="827"/>
                </a:lnTo>
                <a:lnTo>
                  <a:pt x="1071" y="843"/>
                </a:lnTo>
                <a:lnTo>
                  <a:pt x="963" y="847"/>
                </a:lnTo>
                <a:lnTo>
                  <a:pt x="877" y="824"/>
                </a:lnTo>
                <a:lnTo>
                  <a:pt x="833" y="802"/>
                </a:lnTo>
                <a:lnTo>
                  <a:pt x="791" y="777"/>
                </a:lnTo>
                <a:lnTo>
                  <a:pt x="769" y="763"/>
                </a:lnTo>
                <a:lnTo>
                  <a:pt x="747" y="748"/>
                </a:lnTo>
                <a:lnTo>
                  <a:pt x="728" y="732"/>
                </a:lnTo>
                <a:lnTo>
                  <a:pt x="706" y="716"/>
                </a:lnTo>
                <a:lnTo>
                  <a:pt x="686" y="697"/>
                </a:lnTo>
                <a:lnTo>
                  <a:pt x="667" y="681"/>
                </a:lnTo>
                <a:lnTo>
                  <a:pt x="646" y="663"/>
                </a:lnTo>
                <a:lnTo>
                  <a:pt x="629" y="647"/>
                </a:lnTo>
                <a:lnTo>
                  <a:pt x="611" y="630"/>
                </a:lnTo>
                <a:lnTo>
                  <a:pt x="594" y="612"/>
                </a:lnTo>
                <a:lnTo>
                  <a:pt x="576" y="595"/>
                </a:lnTo>
                <a:lnTo>
                  <a:pt x="560" y="580"/>
                </a:lnTo>
                <a:lnTo>
                  <a:pt x="546" y="564"/>
                </a:lnTo>
                <a:lnTo>
                  <a:pt x="533" y="548"/>
                </a:lnTo>
                <a:lnTo>
                  <a:pt x="508" y="521"/>
                </a:lnTo>
                <a:lnTo>
                  <a:pt x="487" y="499"/>
                </a:lnTo>
                <a:lnTo>
                  <a:pt x="473" y="480"/>
                </a:lnTo>
                <a:lnTo>
                  <a:pt x="460" y="465"/>
                </a:lnTo>
                <a:lnTo>
                  <a:pt x="0" y="290"/>
                </a:lnTo>
                <a:lnTo>
                  <a:pt x="3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6" name="Freeform 44"/>
          <p:cNvSpPr/>
          <p:nvPr/>
        </p:nvSpPr>
        <p:spPr>
          <a:xfrm>
            <a:off x="6838920" y="3432240"/>
            <a:ext cx="538200" cy="565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015" h="1066">
                <a:moveTo>
                  <a:pt x="999" y="303"/>
                </a:moveTo>
                <a:lnTo>
                  <a:pt x="1015" y="197"/>
                </a:lnTo>
                <a:lnTo>
                  <a:pt x="998" y="107"/>
                </a:lnTo>
                <a:lnTo>
                  <a:pt x="972" y="66"/>
                </a:lnTo>
                <a:lnTo>
                  <a:pt x="953" y="50"/>
                </a:lnTo>
                <a:lnTo>
                  <a:pt x="931" y="34"/>
                </a:lnTo>
                <a:lnTo>
                  <a:pt x="883" y="12"/>
                </a:lnTo>
                <a:lnTo>
                  <a:pt x="839" y="0"/>
                </a:lnTo>
                <a:lnTo>
                  <a:pt x="769" y="5"/>
                </a:lnTo>
                <a:lnTo>
                  <a:pt x="711" y="27"/>
                </a:lnTo>
                <a:lnTo>
                  <a:pt x="665" y="51"/>
                </a:lnTo>
                <a:lnTo>
                  <a:pt x="616" y="70"/>
                </a:lnTo>
                <a:lnTo>
                  <a:pt x="558" y="86"/>
                </a:lnTo>
                <a:lnTo>
                  <a:pt x="438" y="105"/>
                </a:lnTo>
                <a:lnTo>
                  <a:pt x="202" y="137"/>
                </a:lnTo>
                <a:lnTo>
                  <a:pt x="70" y="193"/>
                </a:lnTo>
                <a:lnTo>
                  <a:pt x="3" y="295"/>
                </a:lnTo>
                <a:lnTo>
                  <a:pt x="0" y="325"/>
                </a:lnTo>
                <a:lnTo>
                  <a:pt x="2" y="357"/>
                </a:lnTo>
                <a:lnTo>
                  <a:pt x="16" y="416"/>
                </a:lnTo>
                <a:lnTo>
                  <a:pt x="41" y="471"/>
                </a:lnTo>
                <a:lnTo>
                  <a:pt x="72" y="521"/>
                </a:lnTo>
                <a:lnTo>
                  <a:pt x="104" y="563"/>
                </a:lnTo>
                <a:lnTo>
                  <a:pt x="119" y="580"/>
                </a:lnTo>
                <a:lnTo>
                  <a:pt x="133" y="594"/>
                </a:lnTo>
                <a:lnTo>
                  <a:pt x="152" y="615"/>
                </a:lnTo>
                <a:lnTo>
                  <a:pt x="161" y="623"/>
                </a:lnTo>
                <a:lnTo>
                  <a:pt x="687" y="1066"/>
                </a:lnTo>
                <a:lnTo>
                  <a:pt x="677" y="954"/>
                </a:lnTo>
                <a:lnTo>
                  <a:pt x="164" y="521"/>
                </a:lnTo>
                <a:lnTo>
                  <a:pt x="145" y="494"/>
                </a:lnTo>
                <a:lnTo>
                  <a:pt x="111" y="430"/>
                </a:lnTo>
                <a:lnTo>
                  <a:pt x="97" y="352"/>
                </a:lnTo>
                <a:lnTo>
                  <a:pt x="108" y="314"/>
                </a:lnTo>
                <a:lnTo>
                  <a:pt x="119" y="296"/>
                </a:lnTo>
                <a:lnTo>
                  <a:pt x="136" y="280"/>
                </a:lnTo>
                <a:lnTo>
                  <a:pt x="156" y="266"/>
                </a:lnTo>
                <a:lnTo>
                  <a:pt x="181" y="252"/>
                </a:lnTo>
                <a:lnTo>
                  <a:pt x="235" y="231"/>
                </a:lnTo>
                <a:lnTo>
                  <a:pt x="298" y="212"/>
                </a:lnTo>
                <a:lnTo>
                  <a:pt x="364" y="199"/>
                </a:lnTo>
                <a:lnTo>
                  <a:pt x="492" y="184"/>
                </a:lnTo>
                <a:lnTo>
                  <a:pt x="594" y="175"/>
                </a:lnTo>
                <a:lnTo>
                  <a:pt x="665" y="156"/>
                </a:lnTo>
                <a:lnTo>
                  <a:pt x="696" y="140"/>
                </a:lnTo>
                <a:lnTo>
                  <a:pt x="722" y="124"/>
                </a:lnTo>
                <a:lnTo>
                  <a:pt x="749" y="110"/>
                </a:lnTo>
                <a:lnTo>
                  <a:pt x="778" y="101"/>
                </a:lnTo>
                <a:lnTo>
                  <a:pt x="846" y="107"/>
                </a:lnTo>
                <a:lnTo>
                  <a:pt x="880" y="129"/>
                </a:lnTo>
                <a:lnTo>
                  <a:pt x="902" y="152"/>
                </a:lnTo>
                <a:lnTo>
                  <a:pt x="924" y="215"/>
                </a:lnTo>
                <a:lnTo>
                  <a:pt x="921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7" name="Freeform 45"/>
          <p:cNvSpPr/>
          <p:nvPr/>
        </p:nvSpPr>
        <p:spPr>
          <a:xfrm>
            <a:off x="6926400" y="357516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02" h="300">
                <a:moveTo>
                  <a:pt x="302" y="0"/>
                </a:moveTo>
                <a:lnTo>
                  <a:pt x="278" y="7"/>
                </a:lnTo>
                <a:lnTo>
                  <a:pt x="227" y="32"/>
                </a:lnTo>
                <a:lnTo>
                  <a:pt x="197" y="48"/>
                </a:lnTo>
                <a:lnTo>
                  <a:pt x="170" y="67"/>
                </a:lnTo>
                <a:lnTo>
                  <a:pt x="147" y="90"/>
                </a:lnTo>
                <a:lnTo>
                  <a:pt x="132" y="115"/>
                </a:lnTo>
                <a:lnTo>
                  <a:pt x="122" y="173"/>
                </a:lnTo>
                <a:lnTo>
                  <a:pt x="132" y="233"/>
                </a:lnTo>
                <a:lnTo>
                  <a:pt x="147" y="281"/>
                </a:lnTo>
                <a:lnTo>
                  <a:pt x="153" y="300"/>
                </a:lnTo>
                <a:lnTo>
                  <a:pt x="127" y="287"/>
                </a:lnTo>
                <a:lnTo>
                  <a:pt x="99" y="268"/>
                </a:lnTo>
                <a:lnTo>
                  <a:pt x="68" y="245"/>
                </a:lnTo>
                <a:lnTo>
                  <a:pt x="39" y="216"/>
                </a:lnTo>
                <a:lnTo>
                  <a:pt x="16" y="181"/>
                </a:lnTo>
                <a:lnTo>
                  <a:pt x="0" y="98"/>
                </a:lnTo>
                <a:lnTo>
                  <a:pt x="20" y="58"/>
                </a:lnTo>
                <a:lnTo>
                  <a:pt x="38" y="44"/>
                </a:lnTo>
                <a:lnTo>
                  <a:pt x="57" y="32"/>
                </a:lnTo>
                <a:lnTo>
                  <a:pt x="105" y="13"/>
                </a:lnTo>
                <a:lnTo>
                  <a:pt x="160" y="3"/>
                </a:lnTo>
                <a:lnTo>
                  <a:pt x="302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Freeform 46"/>
          <p:cNvSpPr/>
          <p:nvPr/>
        </p:nvSpPr>
        <p:spPr>
          <a:xfrm>
            <a:off x="6939000" y="4111560"/>
            <a:ext cx="426960" cy="289080"/>
          </a:xfrm>
          <a:custGeom>
            <a:avLst/>
            <a:gdLst>
              <a:gd name="textAreaLeft" fmla="*/ 0 w 426960"/>
              <a:gd name="textAreaRight" fmla="*/ 427320 w 426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08" h="544">
                <a:moveTo>
                  <a:pt x="0" y="301"/>
                </a:moveTo>
                <a:lnTo>
                  <a:pt x="9" y="312"/>
                </a:lnTo>
                <a:lnTo>
                  <a:pt x="21" y="325"/>
                </a:lnTo>
                <a:lnTo>
                  <a:pt x="34" y="342"/>
                </a:lnTo>
                <a:lnTo>
                  <a:pt x="51" y="360"/>
                </a:lnTo>
                <a:lnTo>
                  <a:pt x="70" y="381"/>
                </a:lnTo>
                <a:lnTo>
                  <a:pt x="93" y="404"/>
                </a:lnTo>
                <a:lnTo>
                  <a:pt x="120" y="427"/>
                </a:lnTo>
                <a:lnTo>
                  <a:pt x="147" y="451"/>
                </a:lnTo>
                <a:lnTo>
                  <a:pt x="177" y="473"/>
                </a:lnTo>
                <a:lnTo>
                  <a:pt x="206" y="493"/>
                </a:lnTo>
                <a:lnTo>
                  <a:pt x="236" y="512"/>
                </a:lnTo>
                <a:lnTo>
                  <a:pt x="268" y="527"/>
                </a:lnTo>
                <a:lnTo>
                  <a:pt x="301" y="538"/>
                </a:lnTo>
                <a:lnTo>
                  <a:pt x="363" y="544"/>
                </a:lnTo>
                <a:lnTo>
                  <a:pt x="486" y="519"/>
                </a:lnTo>
                <a:lnTo>
                  <a:pt x="543" y="493"/>
                </a:lnTo>
                <a:lnTo>
                  <a:pt x="570" y="479"/>
                </a:lnTo>
                <a:lnTo>
                  <a:pt x="598" y="461"/>
                </a:lnTo>
                <a:lnTo>
                  <a:pt x="623" y="442"/>
                </a:lnTo>
                <a:lnTo>
                  <a:pt x="651" y="422"/>
                </a:lnTo>
                <a:lnTo>
                  <a:pt x="674" y="400"/>
                </a:lnTo>
                <a:lnTo>
                  <a:pt x="696" y="376"/>
                </a:lnTo>
                <a:lnTo>
                  <a:pt x="718" y="353"/>
                </a:lnTo>
                <a:lnTo>
                  <a:pt x="738" y="327"/>
                </a:lnTo>
                <a:lnTo>
                  <a:pt x="773" y="272"/>
                </a:lnTo>
                <a:lnTo>
                  <a:pt x="808" y="167"/>
                </a:lnTo>
                <a:lnTo>
                  <a:pt x="805" y="79"/>
                </a:lnTo>
                <a:lnTo>
                  <a:pt x="795" y="46"/>
                </a:lnTo>
                <a:lnTo>
                  <a:pt x="785" y="21"/>
                </a:lnTo>
                <a:lnTo>
                  <a:pt x="773" y="0"/>
                </a:lnTo>
                <a:lnTo>
                  <a:pt x="346" y="468"/>
                </a:lnTo>
                <a:lnTo>
                  <a:pt x="0" y="301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9" name="Freeform 47"/>
          <p:cNvSpPr/>
          <p:nvPr/>
        </p:nvSpPr>
        <p:spPr>
          <a:xfrm>
            <a:off x="7155000" y="4492800"/>
            <a:ext cx="981000" cy="61560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1853" h="1164">
                <a:moveTo>
                  <a:pt x="0" y="1122"/>
                </a:moveTo>
                <a:lnTo>
                  <a:pt x="532" y="752"/>
                </a:lnTo>
                <a:lnTo>
                  <a:pt x="1530" y="565"/>
                </a:lnTo>
                <a:lnTo>
                  <a:pt x="1550" y="577"/>
                </a:lnTo>
                <a:lnTo>
                  <a:pt x="1571" y="586"/>
                </a:lnTo>
                <a:lnTo>
                  <a:pt x="1598" y="594"/>
                </a:lnTo>
                <a:lnTo>
                  <a:pt x="1661" y="593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8"/>
                </a:lnTo>
                <a:lnTo>
                  <a:pt x="1743" y="469"/>
                </a:lnTo>
                <a:lnTo>
                  <a:pt x="1732" y="428"/>
                </a:lnTo>
                <a:lnTo>
                  <a:pt x="1724" y="411"/>
                </a:lnTo>
                <a:lnTo>
                  <a:pt x="1712" y="392"/>
                </a:lnTo>
                <a:lnTo>
                  <a:pt x="1700" y="374"/>
                </a:lnTo>
                <a:lnTo>
                  <a:pt x="1687" y="358"/>
                </a:lnTo>
                <a:lnTo>
                  <a:pt x="1665" y="333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3"/>
                </a:lnTo>
                <a:lnTo>
                  <a:pt x="1613" y="282"/>
                </a:lnTo>
                <a:lnTo>
                  <a:pt x="1597" y="269"/>
                </a:lnTo>
                <a:lnTo>
                  <a:pt x="1576" y="255"/>
                </a:lnTo>
                <a:lnTo>
                  <a:pt x="1552" y="239"/>
                </a:lnTo>
                <a:lnTo>
                  <a:pt x="1524" y="221"/>
                </a:lnTo>
                <a:lnTo>
                  <a:pt x="1490" y="202"/>
                </a:lnTo>
                <a:lnTo>
                  <a:pt x="1452" y="185"/>
                </a:lnTo>
                <a:lnTo>
                  <a:pt x="1410" y="167"/>
                </a:lnTo>
                <a:lnTo>
                  <a:pt x="1362" y="151"/>
                </a:lnTo>
                <a:lnTo>
                  <a:pt x="1310" y="137"/>
                </a:lnTo>
                <a:lnTo>
                  <a:pt x="1251" y="123"/>
                </a:lnTo>
                <a:lnTo>
                  <a:pt x="1187" y="112"/>
                </a:lnTo>
                <a:lnTo>
                  <a:pt x="1117" y="103"/>
                </a:lnTo>
                <a:lnTo>
                  <a:pt x="980" y="97"/>
                </a:lnTo>
                <a:lnTo>
                  <a:pt x="863" y="103"/>
                </a:lnTo>
                <a:lnTo>
                  <a:pt x="681" y="139"/>
                </a:lnTo>
                <a:lnTo>
                  <a:pt x="618" y="164"/>
                </a:lnTo>
                <a:lnTo>
                  <a:pt x="573" y="185"/>
                </a:lnTo>
                <a:lnTo>
                  <a:pt x="537" y="207"/>
                </a:lnTo>
                <a:lnTo>
                  <a:pt x="510" y="135"/>
                </a:lnTo>
                <a:lnTo>
                  <a:pt x="519" y="131"/>
                </a:lnTo>
                <a:lnTo>
                  <a:pt x="547" y="115"/>
                </a:lnTo>
                <a:lnTo>
                  <a:pt x="591" y="93"/>
                </a:lnTo>
                <a:lnTo>
                  <a:pt x="618" y="81"/>
                </a:lnTo>
                <a:lnTo>
                  <a:pt x="649" y="68"/>
                </a:lnTo>
                <a:lnTo>
                  <a:pt x="684" y="56"/>
                </a:lnTo>
                <a:lnTo>
                  <a:pt x="722" y="43"/>
                </a:lnTo>
                <a:lnTo>
                  <a:pt x="763" y="30"/>
                </a:lnTo>
                <a:lnTo>
                  <a:pt x="806" y="21"/>
                </a:lnTo>
                <a:lnTo>
                  <a:pt x="904" y="5"/>
                </a:lnTo>
                <a:lnTo>
                  <a:pt x="1009" y="0"/>
                </a:lnTo>
                <a:lnTo>
                  <a:pt x="1225" y="20"/>
                </a:lnTo>
                <a:lnTo>
                  <a:pt x="1326" y="40"/>
                </a:lnTo>
                <a:lnTo>
                  <a:pt x="1374" y="53"/>
                </a:lnTo>
                <a:lnTo>
                  <a:pt x="1419" y="70"/>
                </a:lnTo>
                <a:lnTo>
                  <a:pt x="1464" y="87"/>
                </a:lnTo>
                <a:lnTo>
                  <a:pt x="1505" y="106"/>
                </a:lnTo>
                <a:lnTo>
                  <a:pt x="1544" y="125"/>
                </a:lnTo>
                <a:lnTo>
                  <a:pt x="1582" y="147"/>
                </a:lnTo>
                <a:lnTo>
                  <a:pt x="1617" y="170"/>
                </a:lnTo>
                <a:lnTo>
                  <a:pt x="1649" y="193"/>
                </a:lnTo>
                <a:lnTo>
                  <a:pt x="1680" y="220"/>
                </a:lnTo>
                <a:lnTo>
                  <a:pt x="1706" y="246"/>
                </a:lnTo>
                <a:lnTo>
                  <a:pt x="1718" y="259"/>
                </a:lnTo>
                <a:lnTo>
                  <a:pt x="1730" y="271"/>
                </a:lnTo>
                <a:lnTo>
                  <a:pt x="1751" y="297"/>
                </a:lnTo>
                <a:lnTo>
                  <a:pt x="1772" y="320"/>
                </a:lnTo>
                <a:lnTo>
                  <a:pt x="1788" y="344"/>
                </a:lnTo>
                <a:lnTo>
                  <a:pt x="1804" y="365"/>
                </a:lnTo>
                <a:lnTo>
                  <a:pt x="1817" y="387"/>
                </a:lnTo>
                <a:lnTo>
                  <a:pt x="1829" y="408"/>
                </a:lnTo>
                <a:lnTo>
                  <a:pt x="1837" y="428"/>
                </a:lnTo>
                <a:lnTo>
                  <a:pt x="1851" y="469"/>
                </a:lnTo>
                <a:lnTo>
                  <a:pt x="1853" y="507"/>
                </a:lnTo>
                <a:lnTo>
                  <a:pt x="1851" y="546"/>
                </a:lnTo>
                <a:lnTo>
                  <a:pt x="1839" y="584"/>
                </a:lnTo>
                <a:lnTo>
                  <a:pt x="1830" y="603"/>
                </a:lnTo>
                <a:lnTo>
                  <a:pt x="1823" y="620"/>
                </a:lnTo>
                <a:lnTo>
                  <a:pt x="1814" y="635"/>
                </a:lnTo>
                <a:lnTo>
                  <a:pt x="1804" y="648"/>
                </a:lnTo>
                <a:lnTo>
                  <a:pt x="1795" y="660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8" y="714"/>
                </a:lnTo>
                <a:lnTo>
                  <a:pt x="1614" y="709"/>
                </a:lnTo>
                <a:lnTo>
                  <a:pt x="1568" y="693"/>
                </a:lnTo>
                <a:lnTo>
                  <a:pt x="1531" y="679"/>
                </a:lnTo>
                <a:lnTo>
                  <a:pt x="1518" y="672"/>
                </a:lnTo>
                <a:lnTo>
                  <a:pt x="545" y="857"/>
                </a:lnTo>
                <a:lnTo>
                  <a:pt x="36" y="1164"/>
                </a:lnTo>
                <a:lnTo>
                  <a:pt x="0" y="1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0" name="Freeform 48"/>
          <p:cNvSpPr/>
          <p:nvPr/>
        </p:nvSpPr>
        <p:spPr>
          <a:xfrm>
            <a:off x="7270920" y="4314960"/>
            <a:ext cx="769680" cy="368280"/>
          </a:xfrm>
          <a:custGeom>
            <a:avLst/>
            <a:gdLst>
              <a:gd name="textAreaLeft" fmla="*/ 0 w 769680"/>
              <a:gd name="textAreaRight" fmla="*/ 770040 w 7696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1"/>
                </a:moveTo>
                <a:lnTo>
                  <a:pt x="1436" y="287"/>
                </a:lnTo>
                <a:lnTo>
                  <a:pt x="1413" y="271"/>
                </a:lnTo>
                <a:lnTo>
                  <a:pt x="1382" y="250"/>
                </a:lnTo>
                <a:lnTo>
                  <a:pt x="1366" y="237"/>
                </a:lnTo>
                <a:lnTo>
                  <a:pt x="1346" y="224"/>
                </a:lnTo>
                <a:lnTo>
                  <a:pt x="1325" y="210"/>
                </a:lnTo>
                <a:lnTo>
                  <a:pt x="1302" y="197"/>
                </a:lnTo>
                <a:lnTo>
                  <a:pt x="1277" y="181"/>
                </a:lnTo>
                <a:lnTo>
                  <a:pt x="1252" y="166"/>
                </a:lnTo>
                <a:lnTo>
                  <a:pt x="1225" y="151"/>
                </a:lnTo>
                <a:lnTo>
                  <a:pt x="1197" y="137"/>
                </a:lnTo>
                <a:lnTo>
                  <a:pt x="1166" y="122"/>
                </a:lnTo>
                <a:lnTo>
                  <a:pt x="1134" y="108"/>
                </a:lnTo>
                <a:lnTo>
                  <a:pt x="1104" y="93"/>
                </a:lnTo>
                <a:lnTo>
                  <a:pt x="1069" y="78"/>
                </a:lnTo>
                <a:lnTo>
                  <a:pt x="1035" y="65"/>
                </a:lnTo>
                <a:lnTo>
                  <a:pt x="999" y="52"/>
                </a:lnTo>
                <a:lnTo>
                  <a:pt x="964" y="41"/>
                </a:lnTo>
                <a:lnTo>
                  <a:pt x="926" y="32"/>
                </a:lnTo>
                <a:lnTo>
                  <a:pt x="850" y="14"/>
                </a:lnTo>
                <a:lnTo>
                  <a:pt x="771" y="1"/>
                </a:lnTo>
                <a:lnTo>
                  <a:pt x="606" y="0"/>
                </a:lnTo>
                <a:lnTo>
                  <a:pt x="458" y="22"/>
                </a:lnTo>
                <a:lnTo>
                  <a:pt x="393" y="38"/>
                </a:lnTo>
                <a:lnTo>
                  <a:pt x="335" y="58"/>
                </a:lnTo>
                <a:lnTo>
                  <a:pt x="286" y="81"/>
                </a:lnTo>
                <a:lnTo>
                  <a:pt x="239" y="106"/>
                </a:lnTo>
                <a:lnTo>
                  <a:pt x="218" y="119"/>
                </a:lnTo>
                <a:lnTo>
                  <a:pt x="199" y="132"/>
                </a:lnTo>
                <a:lnTo>
                  <a:pt x="180" y="148"/>
                </a:lnTo>
                <a:lnTo>
                  <a:pt x="164" y="163"/>
                </a:lnTo>
                <a:lnTo>
                  <a:pt x="148" y="178"/>
                </a:lnTo>
                <a:lnTo>
                  <a:pt x="134" y="194"/>
                </a:lnTo>
                <a:lnTo>
                  <a:pt x="121" y="210"/>
                </a:lnTo>
                <a:lnTo>
                  <a:pt x="108" y="226"/>
                </a:lnTo>
                <a:lnTo>
                  <a:pt x="96" y="242"/>
                </a:lnTo>
                <a:lnTo>
                  <a:pt x="84" y="259"/>
                </a:lnTo>
                <a:lnTo>
                  <a:pt x="74" y="277"/>
                </a:lnTo>
                <a:lnTo>
                  <a:pt x="65" y="293"/>
                </a:lnTo>
                <a:lnTo>
                  <a:pt x="57" y="309"/>
                </a:lnTo>
                <a:lnTo>
                  <a:pt x="48" y="326"/>
                </a:lnTo>
                <a:lnTo>
                  <a:pt x="40" y="342"/>
                </a:lnTo>
                <a:lnTo>
                  <a:pt x="35" y="358"/>
                </a:lnTo>
                <a:lnTo>
                  <a:pt x="11" y="424"/>
                </a:lnTo>
                <a:lnTo>
                  <a:pt x="0" y="482"/>
                </a:lnTo>
                <a:lnTo>
                  <a:pt x="5" y="530"/>
                </a:lnTo>
                <a:lnTo>
                  <a:pt x="13" y="551"/>
                </a:lnTo>
                <a:lnTo>
                  <a:pt x="24" y="571"/>
                </a:lnTo>
                <a:lnTo>
                  <a:pt x="36" y="589"/>
                </a:lnTo>
                <a:lnTo>
                  <a:pt x="52" y="603"/>
                </a:lnTo>
                <a:lnTo>
                  <a:pt x="67" y="618"/>
                </a:lnTo>
                <a:lnTo>
                  <a:pt x="83" y="629"/>
                </a:lnTo>
                <a:lnTo>
                  <a:pt x="116" y="650"/>
                </a:lnTo>
                <a:lnTo>
                  <a:pt x="145" y="666"/>
                </a:lnTo>
                <a:lnTo>
                  <a:pt x="169" y="678"/>
                </a:lnTo>
                <a:lnTo>
                  <a:pt x="221" y="689"/>
                </a:lnTo>
                <a:lnTo>
                  <a:pt x="293" y="695"/>
                </a:lnTo>
                <a:lnTo>
                  <a:pt x="380" y="695"/>
                </a:lnTo>
                <a:lnTo>
                  <a:pt x="415" y="603"/>
                </a:lnTo>
                <a:lnTo>
                  <a:pt x="369" y="606"/>
                </a:lnTo>
                <a:lnTo>
                  <a:pt x="268" y="602"/>
                </a:lnTo>
                <a:lnTo>
                  <a:pt x="166" y="567"/>
                </a:lnTo>
                <a:lnTo>
                  <a:pt x="132" y="530"/>
                </a:lnTo>
                <a:lnTo>
                  <a:pt x="121" y="479"/>
                </a:lnTo>
                <a:lnTo>
                  <a:pt x="127" y="421"/>
                </a:lnTo>
                <a:lnTo>
                  <a:pt x="134" y="390"/>
                </a:lnTo>
                <a:lnTo>
                  <a:pt x="145" y="363"/>
                </a:lnTo>
                <a:lnTo>
                  <a:pt x="153" y="348"/>
                </a:lnTo>
                <a:lnTo>
                  <a:pt x="162" y="334"/>
                </a:lnTo>
                <a:lnTo>
                  <a:pt x="179" y="307"/>
                </a:lnTo>
                <a:lnTo>
                  <a:pt x="191" y="294"/>
                </a:lnTo>
                <a:lnTo>
                  <a:pt x="202" y="281"/>
                </a:lnTo>
                <a:lnTo>
                  <a:pt x="230" y="256"/>
                </a:lnTo>
                <a:lnTo>
                  <a:pt x="245" y="245"/>
                </a:lnTo>
                <a:lnTo>
                  <a:pt x="262" y="233"/>
                </a:lnTo>
                <a:lnTo>
                  <a:pt x="277" y="221"/>
                </a:lnTo>
                <a:lnTo>
                  <a:pt x="297" y="210"/>
                </a:lnTo>
                <a:lnTo>
                  <a:pt x="337" y="189"/>
                </a:lnTo>
                <a:lnTo>
                  <a:pt x="380" y="167"/>
                </a:lnTo>
                <a:lnTo>
                  <a:pt x="428" y="148"/>
                </a:lnTo>
                <a:lnTo>
                  <a:pt x="482" y="132"/>
                </a:lnTo>
                <a:lnTo>
                  <a:pt x="541" y="116"/>
                </a:lnTo>
                <a:lnTo>
                  <a:pt x="603" y="102"/>
                </a:lnTo>
                <a:lnTo>
                  <a:pt x="741" y="95"/>
                </a:lnTo>
                <a:lnTo>
                  <a:pt x="882" y="116"/>
                </a:lnTo>
                <a:lnTo>
                  <a:pt x="952" y="134"/>
                </a:lnTo>
                <a:lnTo>
                  <a:pt x="1021" y="157"/>
                </a:lnTo>
                <a:lnTo>
                  <a:pt x="1088" y="182"/>
                </a:lnTo>
                <a:lnTo>
                  <a:pt x="1118" y="195"/>
                </a:lnTo>
                <a:lnTo>
                  <a:pt x="1152" y="210"/>
                </a:lnTo>
                <a:lnTo>
                  <a:pt x="1181" y="223"/>
                </a:lnTo>
                <a:lnTo>
                  <a:pt x="1210" y="237"/>
                </a:lnTo>
                <a:lnTo>
                  <a:pt x="1238" y="252"/>
                </a:lnTo>
                <a:lnTo>
                  <a:pt x="1264" y="265"/>
                </a:lnTo>
                <a:lnTo>
                  <a:pt x="1289" y="278"/>
                </a:lnTo>
                <a:lnTo>
                  <a:pt x="1312" y="291"/>
                </a:lnTo>
                <a:lnTo>
                  <a:pt x="1354" y="315"/>
                </a:lnTo>
                <a:lnTo>
                  <a:pt x="1388" y="336"/>
                </a:lnTo>
                <a:lnTo>
                  <a:pt x="1413" y="351"/>
                </a:lnTo>
                <a:lnTo>
                  <a:pt x="1435" y="366"/>
                </a:lnTo>
                <a:lnTo>
                  <a:pt x="1454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1" name="Freeform 49"/>
          <p:cNvSpPr/>
          <p:nvPr/>
        </p:nvSpPr>
        <p:spPr>
          <a:xfrm>
            <a:off x="7315200" y="3962520"/>
            <a:ext cx="681120" cy="558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288" h="1056">
                <a:moveTo>
                  <a:pt x="0" y="0"/>
                </a:moveTo>
                <a:lnTo>
                  <a:pt x="25" y="8"/>
                </a:lnTo>
                <a:lnTo>
                  <a:pt x="92" y="30"/>
                </a:lnTo>
                <a:lnTo>
                  <a:pt x="137" y="46"/>
                </a:lnTo>
                <a:lnTo>
                  <a:pt x="191" y="65"/>
                </a:lnTo>
                <a:lnTo>
                  <a:pt x="249" y="88"/>
                </a:lnTo>
                <a:lnTo>
                  <a:pt x="311" y="113"/>
                </a:lnTo>
                <a:lnTo>
                  <a:pt x="344" y="126"/>
                </a:lnTo>
                <a:lnTo>
                  <a:pt x="376" y="139"/>
                </a:lnTo>
                <a:lnTo>
                  <a:pt x="408" y="153"/>
                </a:lnTo>
                <a:lnTo>
                  <a:pt x="443" y="169"/>
                </a:lnTo>
                <a:lnTo>
                  <a:pt x="475" y="183"/>
                </a:lnTo>
                <a:lnTo>
                  <a:pt x="510" y="199"/>
                </a:lnTo>
                <a:lnTo>
                  <a:pt x="542" y="214"/>
                </a:lnTo>
                <a:lnTo>
                  <a:pt x="575" y="230"/>
                </a:lnTo>
                <a:lnTo>
                  <a:pt x="608" y="247"/>
                </a:lnTo>
                <a:lnTo>
                  <a:pt x="639" y="263"/>
                </a:lnTo>
                <a:lnTo>
                  <a:pt x="669" y="279"/>
                </a:lnTo>
                <a:lnTo>
                  <a:pt x="700" y="297"/>
                </a:lnTo>
                <a:lnTo>
                  <a:pt x="726" y="314"/>
                </a:lnTo>
                <a:lnTo>
                  <a:pt x="752" y="332"/>
                </a:lnTo>
                <a:lnTo>
                  <a:pt x="779" y="349"/>
                </a:lnTo>
                <a:lnTo>
                  <a:pt x="802" y="367"/>
                </a:lnTo>
                <a:lnTo>
                  <a:pt x="824" y="386"/>
                </a:lnTo>
                <a:lnTo>
                  <a:pt x="847" y="405"/>
                </a:lnTo>
                <a:lnTo>
                  <a:pt x="869" y="427"/>
                </a:lnTo>
                <a:lnTo>
                  <a:pt x="892" y="450"/>
                </a:lnTo>
                <a:lnTo>
                  <a:pt x="914" y="475"/>
                </a:lnTo>
                <a:lnTo>
                  <a:pt x="925" y="486"/>
                </a:lnTo>
                <a:lnTo>
                  <a:pt x="936" y="501"/>
                </a:lnTo>
                <a:lnTo>
                  <a:pt x="946" y="513"/>
                </a:lnTo>
                <a:lnTo>
                  <a:pt x="958" y="526"/>
                </a:lnTo>
                <a:lnTo>
                  <a:pt x="980" y="553"/>
                </a:lnTo>
                <a:lnTo>
                  <a:pt x="990" y="568"/>
                </a:lnTo>
                <a:lnTo>
                  <a:pt x="1000" y="581"/>
                </a:lnTo>
                <a:lnTo>
                  <a:pt x="1011" y="596"/>
                </a:lnTo>
                <a:lnTo>
                  <a:pt x="1021" y="609"/>
                </a:lnTo>
                <a:lnTo>
                  <a:pt x="1031" y="623"/>
                </a:lnTo>
                <a:lnTo>
                  <a:pt x="1041" y="638"/>
                </a:lnTo>
                <a:lnTo>
                  <a:pt x="1060" y="667"/>
                </a:lnTo>
                <a:lnTo>
                  <a:pt x="1070" y="680"/>
                </a:lnTo>
                <a:lnTo>
                  <a:pt x="1081" y="696"/>
                </a:lnTo>
                <a:lnTo>
                  <a:pt x="1089" y="709"/>
                </a:lnTo>
                <a:lnTo>
                  <a:pt x="1100" y="724"/>
                </a:lnTo>
                <a:lnTo>
                  <a:pt x="1108" y="739"/>
                </a:lnTo>
                <a:lnTo>
                  <a:pt x="1117" y="753"/>
                </a:lnTo>
                <a:lnTo>
                  <a:pt x="1135" y="782"/>
                </a:lnTo>
                <a:lnTo>
                  <a:pt x="1143" y="795"/>
                </a:lnTo>
                <a:lnTo>
                  <a:pt x="1152" y="808"/>
                </a:lnTo>
                <a:lnTo>
                  <a:pt x="1161" y="822"/>
                </a:lnTo>
                <a:lnTo>
                  <a:pt x="1168" y="836"/>
                </a:lnTo>
                <a:lnTo>
                  <a:pt x="1183" y="862"/>
                </a:lnTo>
                <a:lnTo>
                  <a:pt x="1191" y="874"/>
                </a:lnTo>
                <a:lnTo>
                  <a:pt x="1197" y="887"/>
                </a:lnTo>
                <a:lnTo>
                  <a:pt x="1210" y="911"/>
                </a:lnTo>
                <a:lnTo>
                  <a:pt x="1224" y="934"/>
                </a:lnTo>
                <a:lnTo>
                  <a:pt x="1235" y="954"/>
                </a:lnTo>
                <a:lnTo>
                  <a:pt x="1247" y="973"/>
                </a:lnTo>
                <a:lnTo>
                  <a:pt x="1256" y="992"/>
                </a:lnTo>
                <a:lnTo>
                  <a:pt x="1264" y="1008"/>
                </a:lnTo>
                <a:lnTo>
                  <a:pt x="1272" y="1021"/>
                </a:lnTo>
                <a:lnTo>
                  <a:pt x="1277" y="1033"/>
                </a:lnTo>
                <a:lnTo>
                  <a:pt x="1288" y="1056"/>
                </a:lnTo>
                <a:lnTo>
                  <a:pt x="1277" y="1048"/>
                </a:lnTo>
                <a:lnTo>
                  <a:pt x="1263" y="1037"/>
                </a:lnTo>
                <a:lnTo>
                  <a:pt x="1245" y="1024"/>
                </a:lnTo>
                <a:lnTo>
                  <a:pt x="1222" y="1008"/>
                </a:lnTo>
                <a:lnTo>
                  <a:pt x="1196" y="991"/>
                </a:lnTo>
                <a:lnTo>
                  <a:pt x="1164" y="972"/>
                </a:lnTo>
                <a:lnTo>
                  <a:pt x="1130" y="951"/>
                </a:lnTo>
                <a:lnTo>
                  <a:pt x="1092" y="929"/>
                </a:lnTo>
                <a:lnTo>
                  <a:pt x="1053" y="911"/>
                </a:lnTo>
                <a:lnTo>
                  <a:pt x="1009" y="890"/>
                </a:lnTo>
                <a:lnTo>
                  <a:pt x="962" y="871"/>
                </a:lnTo>
                <a:lnTo>
                  <a:pt x="916" y="855"/>
                </a:lnTo>
                <a:lnTo>
                  <a:pt x="866" y="839"/>
                </a:lnTo>
                <a:lnTo>
                  <a:pt x="817" y="826"/>
                </a:lnTo>
                <a:lnTo>
                  <a:pt x="764" y="817"/>
                </a:lnTo>
                <a:lnTo>
                  <a:pt x="586" y="801"/>
                </a:lnTo>
                <a:lnTo>
                  <a:pt x="468" y="803"/>
                </a:lnTo>
                <a:lnTo>
                  <a:pt x="379" y="817"/>
                </a:lnTo>
                <a:lnTo>
                  <a:pt x="384" y="650"/>
                </a:lnTo>
                <a:lnTo>
                  <a:pt x="376" y="516"/>
                </a:lnTo>
                <a:lnTo>
                  <a:pt x="365" y="460"/>
                </a:lnTo>
                <a:lnTo>
                  <a:pt x="357" y="435"/>
                </a:lnTo>
                <a:lnTo>
                  <a:pt x="347" y="418"/>
                </a:lnTo>
                <a:lnTo>
                  <a:pt x="334" y="403"/>
                </a:lnTo>
                <a:lnTo>
                  <a:pt x="319" y="390"/>
                </a:lnTo>
                <a:lnTo>
                  <a:pt x="302" y="380"/>
                </a:lnTo>
                <a:lnTo>
                  <a:pt x="280" y="370"/>
                </a:lnTo>
                <a:lnTo>
                  <a:pt x="236" y="357"/>
                </a:lnTo>
                <a:lnTo>
                  <a:pt x="191" y="348"/>
                </a:lnTo>
                <a:lnTo>
                  <a:pt x="76" y="341"/>
                </a:lnTo>
                <a:lnTo>
                  <a:pt x="82" y="180"/>
                </a:lnTo>
                <a:lnTo>
                  <a:pt x="71" y="147"/>
                </a:lnTo>
                <a:lnTo>
                  <a:pt x="58" y="113"/>
                </a:lnTo>
                <a:lnTo>
                  <a:pt x="51" y="99"/>
                </a:lnTo>
                <a:lnTo>
                  <a:pt x="45" y="84"/>
                </a:lnTo>
                <a:lnTo>
                  <a:pt x="38" y="69"/>
                </a:lnTo>
                <a:lnTo>
                  <a:pt x="32" y="55"/>
                </a:lnTo>
                <a:lnTo>
                  <a:pt x="19" y="33"/>
                </a:lnTo>
                <a:lnTo>
                  <a:pt x="9" y="16"/>
                </a:lnTo>
                <a:lnTo>
                  <a:pt x="0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2" name="Freeform 50"/>
          <p:cNvSpPr/>
          <p:nvPr/>
        </p:nvSpPr>
        <p:spPr>
          <a:xfrm>
            <a:off x="7151760" y="3513240"/>
            <a:ext cx="922320" cy="726840"/>
          </a:xfrm>
          <a:custGeom>
            <a:avLst/>
            <a:gdLst>
              <a:gd name="textAreaLeft" fmla="*/ 0 w 922320"/>
              <a:gd name="textAreaRight" fmla="*/ 922680 w 9223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42" h="1373">
                <a:moveTo>
                  <a:pt x="0" y="118"/>
                </a:moveTo>
                <a:lnTo>
                  <a:pt x="26" y="125"/>
                </a:lnTo>
                <a:lnTo>
                  <a:pt x="83" y="149"/>
                </a:lnTo>
                <a:lnTo>
                  <a:pt x="115" y="166"/>
                </a:lnTo>
                <a:lnTo>
                  <a:pt x="144" y="185"/>
                </a:lnTo>
                <a:lnTo>
                  <a:pt x="167" y="208"/>
                </a:lnTo>
                <a:lnTo>
                  <a:pt x="183" y="233"/>
                </a:lnTo>
                <a:lnTo>
                  <a:pt x="205" y="347"/>
                </a:lnTo>
                <a:lnTo>
                  <a:pt x="208" y="407"/>
                </a:lnTo>
                <a:lnTo>
                  <a:pt x="290" y="418"/>
                </a:lnTo>
                <a:lnTo>
                  <a:pt x="380" y="436"/>
                </a:lnTo>
                <a:lnTo>
                  <a:pt x="495" y="458"/>
                </a:lnTo>
                <a:lnTo>
                  <a:pt x="558" y="472"/>
                </a:lnTo>
                <a:lnTo>
                  <a:pt x="625" y="490"/>
                </a:lnTo>
                <a:lnTo>
                  <a:pt x="695" y="509"/>
                </a:lnTo>
                <a:lnTo>
                  <a:pt x="765" y="529"/>
                </a:lnTo>
                <a:lnTo>
                  <a:pt x="835" y="552"/>
                </a:lnTo>
                <a:lnTo>
                  <a:pt x="870" y="565"/>
                </a:lnTo>
                <a:lnTo>
                  <a:pt x="907" y="580"/>
                </a:lnTo>
                <a:lnTo>
                  <a:pt x="942" y="593"/>
                </a:lnTo>
                <a:lnTo>
                  <a:pt x="975" y="608"/>
                </a:lnTo>
                <a:lnTo>
                  <a:pt x="1009" y="624"/>
                </a:lnTo>
                <a:lnTo>
                  <a:pt x="1041" y="638"/>
                </a:lnTo>
                <a:lnTo>
                  <a:pt x="1073" y="656"/>
                </a:lnTo>
                <a:lnTo>
                  <a:pt x="1104" y="672"/>
                </a:lnTo>
                <a:lnTo>
                  <a:pt x="1133" y="686"/>
                </a:lnTo>
                <a:lnTo>
                  <a:pt x="1159" y="702"/>
                </a:lnTo>
                <a:lnTo>
                  <a:pt x="1185" y="717"/>
                </a:lnTo>
                <a:lnTo>
                  <a:pt x="1212" y="732"/>
                </a:lnTo>
                <a:lnTo>
                  <a:pt x="1233" y="746"/>
                </a:lnTo>
                <a:lnTo>
                  <a:pt x="1255" y="759"/>
                </a:lnTo>
                <a:lnTo>
                  <a:pt x="1276" y="772"/>
                </a:lnTo>
                <a:lnTo>
                  <a:pt x="1296" y="787"/>
                </a:lnTo>
                <a:lnTo>
                  <a:pt x="1314" y="800"/>
                </a:lnTo>
                <a:lnTo>
                  <a:pt x="1333" y="813"/>
                </a:lnTo>
                <a:lnTo>
                  <a:pt x="1363" y="838"/>
                </a:lnTo>
                <a:lnTo>
                  <a:pt x="1392" y="861"/>
                </a:lnTo>
                <a:lnTo>
                  <a:pt x="1417" y="885"/>
                </a:lnTo>
                <a:lnTo>
                  <a:pt x="1439" y="905"/>
                </a:lnTo>
                <a:lnTo>
                  <a:pt x="1459" y="924"/>
                </a:lnTo>
                <a:lnTo>
                  <a:pt x="1477" y="943"/>
                </a:lnTo>
                <a:lnTo>
                  <a:pt x="1492" y="960"/>
                </a:lnTo>
                <a:lnTo>
                  <a:pt x="1508" y="978"/>
                </a:lnTo>
                <a:lnTo>
                  <a:pt x="1521" y="992"/>
                </a:lnTo>
                <a:lnTo>
                  <a:pt x="1534" y="1007"/>
                </a:lnTo>
                <a:lnTo>
                  <a:pt x="1548" y="1022"/>
                </a:lnTo>
                <a:lnTo>
                  <a:pt x="1563" y="1042"/>
                </a:lnTo>
                <a:lnTo>
                  <a:pt x="1579" y="1067"/>
                </a:lnTo>
                <a:lnTo>
                  <a:pt x="1588" y="1080"/>
                </a:lnTo>
                <a:lnTo>
                  <a:pt x="1597" y="1093"/>
                </a:lnTo>
                <a:lnTo>
                  <a:pt x="1605" y="1108"/>
                </a:lnTo>
                <a:lnTo>
                  <a:pt x="1614" y="1122"/>
                </a:lnTo>
                <a:lnTo>
                  <a:pt x="1621" y="1138"/>
                </a:lnTo>
                <a:lnTo>
                  <a:pt x="1630" y="1153"/>
                </a:lnTo>
                <a:lnTo>
                  <a:pt x="1648" y="1185"/>
                </a:lnTo>
                <a:lnTo>
                  <a:pt x="1656" y="1201"/>
                </a:lnTo>
                <a:lnTo>
                  <a:pt x="1665" y="1216"/>
                </a:lnTo>
                <a:lnTo>
                  <a:pt x="1672" y="1232"/>
                </a:lnTo>
                <a:lnTo>
                  <a:pt x="1680" y="1246"/>
                </a:lnTo>
                <a:lnTo>
                  <a:pt x="1688" y="1262"/>
                </a:lnTo>
                <a:lnTo>
                  <a:pt x="1694" y="1275"/>
                </a:lnTo>
                <a:lnTo>
                  <a:pt x="1702" y="1290"/>
                </a:lnTo>
                <a:lnTo>
                  <a:pt x="1709" y="1303"/>
                </a:lnTo>
                <a:lnTo>
                  <a:pt x="1719" y="1326"/>
                </a:lnTo>
                <a:lnTo>
                  <a:pt x="1729" y="1347"/>
                </a:lnTo>
                <a:lnTo>
                  <a:pt x="1737" y="1361"/>
                </a:lnTo>
                <a:lnTo>
                  <a:pt x="1742" y="1373"/>
                </a:lnTo>
                <a:lnTo>
                  <a:pt x="1734" y="1312"/>
                </a:lnTo>
                <a:lnTo>
                  <a:pt x="1728" y="1280"/>
                </a:lnTo>
                <a:lnTo>
                  <a:pt x="1719" y="1245"/>
                </a:lnTo>
                <a:lnTo>
                  <a:pt x="1710" y="1204"/>
                </a:lnTo>
                <a:lnTo>
                  <a:pt x="1696" y="1160"/>
                </a:lnTo>
                <a:lnTo>
                  <a:pt x="1683" y="1115"/>
                </a:lnTo>
                <a:lnTo>
                  <a:pt x="1664" y="1067"/>
                </a:lnTo>
                <a:lnTo>
                  <a:pt x="1643" y="1017"/>
                </a:lnTo>
                <a:lnTo>
                  <a:pt x="1632" y="994"/>
                </a:lnTo>
                <a:lnTo>
                  <a:pt x="1626" y="981"/>
                </a:lnTo>
                <a:lnTo>
                  <a:pt x="1620" y="969"/>
                </a:lnTo>
                <a:lnTo>
                  <a:pt x="1607" y="944"/>
                </a:lnTo>
                <a:lnTo>
                  <a:pt x="1601" y="933"/>
                </a:lnTo>
                <a:lnTo>
                  <a:pt x="1594" y="921"/>
                </a:lnTo>
                <a:lnTo>
                  <a:pt x="1586" y="908"/>
                </a:lnTo>
                <a:lnTo>
                  <a:pt x="1578" y="896"/>
                </a:lnTo>
                <a:lnTo>
                  <a:pt x="1563" y="873"/>
                </a:lnTo>
                <a:lnTo>
                  <a:pt x="1545" y="850"/>
                </a:lnTo>
                <a:lnTo>
                  <a:pt x="1528" y="828"/>
                </a:lnTo>
                <a:lnTo>
                  <a:pt x="1509" y="807"/>
                </a:lnTo>
                <a:lnTo>
                  <a:pt x="1490" y="787"/>
                </a:lnTo>
                <a:lnTo>
                  <a:pt x="1471" y="767"/>
                </a:lnTo>
                <a:lnTo>
                  <a:pt x="1449" y="748"/>
                </a:lnTo>
                <a:lnTo>
                  <a:pt x="1429" y="730"/>
                </a:lnTo>
                <a:lnTo>
                  <a:pt x="1408" y="711"/>
                </a:lnTo>
                <a:lnTo>
                  <a:pt x="1388" y="694"/>
                </a:lnTo>
                <a:lnTo>
                  <a:pt x="1366" y="676"/>
                </a:lnTo>
                <a:lnTo>
                  <a:pt x="1346" y="660"/>
                </a:lnTo>
                <a:lnTo>
                  <a:pt x="1324" y="644"/>
                </a:lnTo>
                <a:lnTo>
                  <a:pt x="1303" y="628"/>
                </a:lnTo>
                <a:lnTo>
                  <a:pt x="1283" y="612"/>
                </a:lnTo>
                <a:lnTo>
                  <a:pt x="1261" y="597"/>
                </a:lnTo>
                <a:lnTo>
                  <a:pt x="1239" y="583"/>
                </a:lnTo>
                <a:lnTo>
                  <a:pt x="1219" y="568"/>
                </a:lnTo>
                <a:lnTo>
                  <a:pt x="1197" y="555"/>
                </a:lnTo>
                <a:lnTo>
                  <a:pt x="1175" y="541"/>
                </a:lnTo>
                <a:lnTo>
                  <a:pt x="1153" y="529"/>
                </a:lnTo>
                <a:lnTo>
                  <a:pt x="1131" y="516"/>
                </a:lnTo>
                <a:lnTo>
                  <a:pt x="1109" y="504"/>
                </a:lnTo>
                <a:lnTo>
                  <a:pt x="1066" y="479"/>
                </a:lnTo>
                <a:lnTo>
                  <a:pt x="1022" y="458"/>
                </a:lnTo>
                <a:lnTo>
                  <a:pt x="978" y="437"/>
                </a:lnTo>
                <a:lnTo>
                  <a:pt x="933" y="417"/>
                </a:lnTo>
                <a:lnTo>
                  <a:pt x="889" y="398"/>
                </a:lnTo>
                <a:lnTo>
                  <a:pt x="845" y="380"/>
                </a:lnTo>
                <a:lnTo>
                  <a:pt x="802" y="363"/>
                </a:lnTo>
                <a:lnTo>
                  <a:pt x="758" y="345"/>
                </a:lnTo>
                <a:lnTo>
                  <a:pt x="711" y="328"/>
                </a:lnTo>
                <a:lnTo>
                  <a:pt x="663" y="312"/>
                </a:lnTo>
                <a:lnTo>
                  <a:pt x="618" y="294"/>
                </a:lnTo>
                <a:lnTo>
                  <a:pt x="570" y="278"/>
                </a:lnTo>
                <a:lnTo>
                  <a:pt x="525" y="264"/>
                </a:lnTo>
                <a:lnTo>
                  <a:pt x="482" y="248"/>
                </a:lnTo>
                <a:lnTo>
                  <a:pt x="440" y="235"/>
                </a:lnTo>
                <a:lnTo>
                  <a:pt x="401" y="223"/>
                </a:lnTo>
                <a:lnTo>
                  <a:pt x="366" y="211"/>
                </a:lnTo>
                <a:lnTo>
                  <a:pt x="306" y="192"/>
                </a:lnTo>
                <a:lnTo>
                  <a:pt x="253" y="175"/>
                </a:lnTo>
                <a:lnTo>
                  <a:pt x="262" y="154"/>
                </a:lnTo>
                <a:lnTo>
                  <a:pt x="277" y="106"/>
                </a:lnTo>
                <a:lnTo>
                  <a:pt x="274" y="51"/>
                </a:lnTo>
                <a:lnTo>
                  <a:pt x="268" y="38"/>
                </a:lnTo>
                <a:lnTo>
                  <a:pt x="259" y="26"/>
                </a:lnTo>
                <a:lnTo>
                  <a:pt x="249" y="16"/>
                </a:lnTo>
                <a:lnTo>
                  <a:pt x="233" y="9"/>
                </a:lnTo>
                <a:lnTo>
                  <a:pt x="198" y="0"/>
                </a:lnTo>
                <a:lnTo>
                  <a:pt x="160" y="9"/>
                </a:lnTo>
                <a:lnTo>
                  <a:pt x="121" y="26"/>
                </a:lnTo>
                <a:lnTo>
                  <a:pt x="84" y="48"/>
                </a:lnTo>
                <a:lnTo>
                  <a:pt x="51" y="73"/>
                </a:lnTo>
                <a:lnTo>
                  <a:pt x="24" y="95"/>
                </a:lnTo>
                <a:lnTo>
                  <a:pt x="5" y="112"/>
                </a:lnTo>
                <a:lnTo>
                  <a:pt x="0" y="11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3" name="Freeform 51"/>
          <p:cNvSpPr/>
          <p:nvPr/>
        </p:nvSpPr>
        <p:spPr>
          <a:xfrm>
            <a:off x="8047080" y="3811680"/>
            <a:ext cx="173160" cy="52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26" h="995">
                <a:moveTo>
                  <a:pt x="0" y="68"/>
                </a:moveTo>
                <a:lnTo>
                  <a:pt x="6" y="79"/>
                </a:lnTo>
                <a:lnTo>
                  <a:pt x="16" y="92"/>
                </a:lnTo>
                <a:lnTo>
                  <a:pt x="26" y="108"/>
                </a:lnTo>
                <a:lnTo>
                  <a:pt x="41" y="128"/>
                </a:lnTo>
                <a:lnTo>
                  <a:pt x="55" y="153"/>
                </a:lnTo>
                <a:lnTo>
                  <a:pt x="65" y="168"/>
                </a:lnTo>
                <a:lnTo>
                  <a:pt x="73" y="181"/>
                </a:lnTo>
                <a:lnTo>
                  <a:pt x="83" y="195"/>
                </a:lnTo>
                <a:lnTo>
                  <a:pt x="92" y="211"/>
                </a:lnTo>
                <a:lnTo>
                  <a:pt x="100" y="227"/>
                </a:lnTo>
                <a:lnTo>
                  <a:pt x="111" y="245"/>
                </a:lnTo>
                <a:lnTo>
                  <a:pt x="121" y="261"/>
                </a:lnTo>
                <a:lnTo>
                  <a:pt x="130" y="280"/>
                </a:lnTo>
                <a:lnTo>
                  <a:pt x="140" y="297"/>
                </a:lnTo>
                <a:lnTo>
                  <a:pt x="149" y="316"/>
                </a:lnTo>
                <a:lnTo>
                  <a:pt x="159" y="335"/>
                </a:lnTo>
                <a:lnTo>
                  <a:pt x="166" y="354"/>
                </a:lnTo>
                <a:lnTo>
                  <a:pt x="201" y="433"/>
                </a:lnTo>
                <a:lnTo>
                  <a:pt x="227" y="513"/>
                </a:lnTo>
                <a:lnTo>
                  <a:pt x="259" y="679"/>
                </a:lnTo>
                <a:lnTo>
                  <a:pt x="277" y="834"/>
                </a:lnTo>
                <a:lnTo>
                  <a:pt x="283" y="995"/>
                </a:lnTo>
                <a:lnTo>
                  <a:pt x="294" y="949"/>
                </a:lnTo>
                <a:lnTo>
                  <a:pt x="315" y="825"/>
                </a:lnTo>
                <a:lnTo>
                  <a:pt x="326" y="646"/>
                </a:lnTo>
                <a:lnTo>
                  <a:pt x="322" y="542"/>
                </a:lnTo>
                <a:lnTo>
                  <a:pt x="309" y="436"/>
                </a:lnTo>
                <a:lnTo>
                  <a:pt x="290" y="337"/>
                </a:lnTo>
                <a:lnTo>
                  <a:pt x="275" y="254"/>
                </a:lnTo>
                <a:lnTo>
                  <a:pt x="267" y="219"/>
                </a:lnTo>
                <a:lnTo>
                  <a:pt x="258" y="187"/>
                </a:lnTo>
                <a:lnTo>
                  <a:pt x="240" y="131"/>
                </a:lnTo>
                <a:lnTo>
                  <a:pt x="236" y="119"/>
                </a:lnTo>
                <a:lnTo>
                  <a:pt x="232" y="109"/>
                </a:lnTo>
                <a:lnTo>
                  <a:pt x="220" y="89"/>
                </a:lnTo>
                <a:lnTo>
                  <a:pt x="208" y="71"/>
                </a:lnTo>
                <a:lnTo>
                  <a:pt x="195" y="55"/>
                </a:lnTo>
                <a:lnTo>
                  <a:pt x="181" y="42"/>
                </a:lnTo>
                <a:lnTo>
                  <a:pt x="165" y="31"/>
                </a:lnTo>
                <a:lnTo>
                  <a:pt x="125" y="12"/>
                </a:lnTo>
                <a:lnTo>
                  <a:pt x="87" y="0"/>
                </a:lnTo>
                <a:lnTo>
                  <a:pt x="57" y="0"/>
                </a:lnTo>
                <a:lnTo>
                  <a:pt x="20" y="23"/>
                </a:lnTo>
                <a:lnTo>
                  <a:pt x="3" y="52"/>
                </a:lnTo>
                <a:lnTo>
                  <a:pt x="0" y="6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4" name="Freeform 52"/>
          <p:cNvSpPr/>
          <p:nvPr/>
        </p:nvSpPr>
        <p:spPr>
          <a:xfrm>
            <a:off x="7399440" y="4410000"/>
            <a:ext cx="550800" cy="127080"/>
          </a:xfrm>
          <a:custGeom>
            <a:avLst/>
            <a:gdLst>
              <a:gd name="textAreaLeft" fmla="*/ 0 w 550800"/>
              <a:gd name="textAreaRight" fmla="*/ 551160 w 550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041" h="239">
                <a:moveTo>
                  <a:pt x="0" y="239"/>
                </a:moveTo>
                <a:lnTo>
                  <a:pt x="41" y="219"/>
                </a:lnTo>
                <a:lnTo>
                  <a:pt x="87" y="197"/>
                </a:lnTo>
                <a:lnTo>
                  <a:pt x="116" y="185"/>
                </a:lnTo>
                <a:lnTo>
                  <a:pt x="149" y="172"/>
                </a:lnTo>
                <a:lnTo>
                  <a:pt x="184" y="159"/>
                </a:lnTo>
                <a:lnTo>
                  <a:pt x="220" y="146"/>
                </a:lnTo>
                <a:lnTo>
                  <a:pt x="259" y="134"/>
                </a:lnTo>
                <a:lnTo>
                  <a:pt x="300" y="122"/>
                </a:lnTo>
                <a:lnTo>
                  <a:pt x="385" y="104"/>
                </a:lnTo>
                <a:lnTo>
                  <a:pt x="474" y="90"/>
                </a:lnTo>
                <a:lnTo>
                  <a:pt x="564" y="90"/>
                </a:lnTo>
                <a:lnTo>
                  <a:pt x="660" y="102"/>
                </a:lnTo>
                <a:lnTo>
                  <a:pt x="755" y="121"/>
                </a:lnTo>
                <a:lnTo>
                  <a:pt x="844" y="146"/>
                </a:lnTo>
                <a:lnTo>
                  <a:pt x="923" y="169"/>
                </a:lnTo>
                <a:lnTo>
                  <a:pt x="986" y="191"/>
                </a:lnTo>
                <a:lnTo>
                  <a:pt x="1026" y="207"/>
                </a:lnTo>
                <a:lnTo>
                  <a:pt x="1041" y="213"/>
                </a:lnTo>
                <a:lnTo>
                  <a:pt x="1032" y="206"/>
                </a:lnTo>
                <a:lnTo>
                  <a:pt x="1005" y="182"/>
                </a:lnTo>
                <a:lnTo>
                  <a:pt x="986" y="168"/>
                </a:lnTo>
                <a:lnTo>
                  <a:pt x="961" y="152"/>
                </a:lnTo>
                <a:lnTo>
                  <a:pt x="933" y="133"/>
                </a:lnTo>
                <a:lnTo>
                  <a:pt x="900" y="115"/>
                </a:lnTo>
                <a:lnTo>
                  <a:pt x="865" y="95"/>
                </a:lnTo>
                <a:lnTo>
                  <a:pt x="824" y="77"/>
                </a:lnTo>
                <a:lnTo>
                  <a:pt x="780" y="58"/>
                </a:lnTo>
                <a:lnTo>
                  <a:pt x="732" y="42"/>
                </a:lnTo>
                <a:lnTo>
                  <a:pt x="681" y="28"/>
                </a:lnTo>
                <a:lnTo>
                  <a:pt x="625" y="16"/>
                </a:lnTo>
                <a:lnTo>
                  <a:pt x="504" y="0"/>
                </a:lnTo>
                <a:lnTo>
                  <a:pt x="385" y="2"/>
                </a:lnTo>
                <a:lnTo>
                  <a:pt x="281" y="20"/>
                </a:lnTo>
                <a:lnTo>
                  <a:pt x="194" y="47"/>
                </a:lnTo>
                <a:lnTo>
                  <a:pt x="157" y="63"/>
                </a:lnTo>
                <a:lnTo>
                  <a:pt x="124" y="80"/>
                </a:lnTo>
                <a:lnTo>
                  <a:pt x="95" y="98"/>
                </a:lnTo>
                <a:lnTo>
                  <a:pt x="70" y="115"/>
                </a:lnTo>
                <a:lnTo>
                  <a:pt x="48" y="130"/>
                </a:lnTo>
                <a:lnTo>
                  <a:pt x="29" y="146"/>
                </a:lnTo>
                <a:lnTo>
                  <a:pt x="7" y="166"/>
                </a:lnTo>
                <a:lnTo>
                  <a:pt x="0" y="175"/>
                </a:lnTo>
                <a:lnTo>
                  <a:pt x="0" y="23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5" name="Freeform 53"/>
          <p:cNvSpPr/>
          <p:nvPr/>
        </p:nvSpPr>
        <p:spPr>
          <a:xfrm>
            <a:off x="7523280" y="4579920"/>
            <a:ext cx="520560" cy="2016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84" h="379">
                <a:moveTo>
                  <a:pt x="63" y="19"/>
                </a:moveTo>
                <a:lnTo>
                  <a:pt x="0" y="188"/>
                </a:lnTo>
                <a:lnTo>
                  <a:pt x="537" y="110"/>
                </a:lnTo>
                <a:lnTo>
                  <a:pt x="808" y="245"/>
                </a:lnTo>
                <a:lnTo>
                  <a:pt x="764" y="322"/>
                </a:lnTo>
                <a:lnTo>
                  <a:pt x="788" y="337"/>
                </a:lnTo>
                <a:lnTo>
                  <a:pt x="812" y="350"/>
                </a:lnTo>
                <a:lnTo>
                  <a:pt x="844" y="365"/>
                </a:lnTo>
                <a:lnTo>
                  <a:pt x="877" y="375"/>
                </a:lnTo>
                <a:lnTo>
                  <a:pt x="912" y="379"/>
                </a:lnTo>
                <a:lnTo>
                  <a:pt x="966" y="362"/>
                </a:lnTo>
                <a:lnTo>
                  <a:pt x="982" y="337"/>
                </a:lnTo>
                <a:lnTo>
                  <a:pt x="984" y="306"/>
                </a:lnTo>
                <a:lnTo>
                  <a:pt x="976" y="273"/>
                </a:lnTo>
                <a:lnTo>
                  <a:pt x="968" y="254"/>
                </a:lnTo>
                <a:lnTo>
                  <a:pt x="960" y="235"/>
                </a:lnTo>
                <a:lnTo>
                  <a:pt x="947" y="216"/>
                </a:lnTo>
                <a:lnTo>
                  <a:pt x="931" y="198"/>
                </a:lnTo>
                <a:lnTo>
                  <a:pt x="913" y="179"/>
                </a:lnTo>
                <a:lnTo>
                  <a:pt x="894" y="163"/>
                </a:lnTo>
                <a:lnTo>
                  <a:pt x="872" y="147"/>
                </a:lnTo>
                <a:lnTo>
                  <a:pt x="849" y="131"/>
                </a:lnTo>
                <a:lnTo>
                  <a:pt x="823" y="117"/>
                </a:lnTo>
                <a:lnTo>
                  <a:pt x="796" y="104"/>
                </a:lnTo>
                <a:lnTo>
                  <a:pt x="739" y="80"/>
                </a:lnTo>
                <a:lnTo>
                  <a:pt x="688" y="60"/>
                </a:lnTo>
                <a:lnTo>
                  <a:pt x="637" y="42"/>
                </a:lnTo>
                <a:lnTo>
                  <a:pt x="588" y="28"/>
                </a:lnTo>
                <a:lnTo>
                  <a:pt x="538" y="16"/>
                </a:lnTo>
                <a:lnTo>
                  <a:pt x="487" y="7"/>
                </a:lnTo>
                <a:lnTo>
                  <a:pt x="372" y="0"/>
                </a:lnTo>
                <a:lnTo>
                  <a:pt x="156" y="10"/>
                </a:lnTo>
                <a:lnTo>
                  <a:pt x="63" y="1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6" name="Text Box 55"/>
          <p:cNvSpPr/>
          <p:nvPr/>
        </p:nvSpPr>
        <p:spPr>
          <a:xfrm>
            <a:off x="70102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905120" y="9907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143000" y="990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Герои 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4572000" y="220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радиционные тип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876920" y="32004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са – хитра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олк – глуп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яц - труслив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105520" y="541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лицетворен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3" name="Picture 7" descr="D:\графика\фотографии\1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971880" cy="333504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8"/>
          <p:cNvSpPr/>
          <p:nvPr/>
        </p:nvSpPr>
        <p:spPr>
          <a:xfrm>
            <a:off x="685800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76212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7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91320" y="2895480"/>
            <a:ext cx="2450880" cy="21384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1066680" y="2209680"/>
            <a:ext cx="441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Лиса и журавель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рона и рак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Кошкин дом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Семеро козлят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лк и лиса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693432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3962520" y="2819520"/>
            <a:ext cx="487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ие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3" name="Picture 7" descr="D:\графика\фотографии\Иллюстрация к бытовой сказке.jpg"/>
          <p:cNvPicPr/>
          <p:nvPr/>
        </p:nvPicPr>
        <p:blipFill>
          <a:blip r:embed="rId4"/>
          <a:stretch/>
        </p:blipFill>
        <p:spPr>
          <a:xfrm>
            <a:off x="914400" y="2133720"/>
            <a:ext cx="2490840" cy="353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0"/>
          <p:cNvSpPr/>
          <p:nvPr/>
        </p:nvSpPr>
        <p:spPr>
          <a:xfrm>
            <a:off x="396252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  <a:hlinkClick r:id="rId5" action="ppaction://hlinksldjump"/>
              </a:rPr>
              <a:t>Разновид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70572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838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3733920" y="22860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анекдот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кучные сказ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загад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и-насмеш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9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3352680"/>
            <a:ext cx="2253960" cy="224316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67816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4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3200400" y="18288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304920" y="259092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тсутствие фантастик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еальные конфликт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казочное разрешен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мысловой акцент-развязка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стокий юмо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45" name="Picture 5" descr="D:\графика\фотографии\103.jpg"/>
          <p:cNvPicPr/>
          <p:nvPr/>
        </p:nvPicPr>
        <p:blipFill>
          <a:blip r:embed="rId1"/>
          <a:stretch/>
        </p:blipFill>
        <p:spPr>
          <a:xfrm>
            <a:off x="5791320" y="3276720"/>
            <a:ext cx="2971800" cy="20890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629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609480" y="68580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85800" y="3886200"/>
            <a:ext cx="4648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хитё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удачли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урак в глазах других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благороден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0" name="Picture 7" descr="D:\графика\фотографии\102.jpg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3159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2388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06668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4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638680" y="2819520"/>
            <a:ext cx="2368800" cy="20667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685800" y="2362320"/>
            <a:ext cx="5181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Иванушка-дурачок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Солдатская сказ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ша из топор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Реп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к мужик гуся делил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66294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9907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143000" y="1828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60" name="Picture 4" descr="D:\графика\фотографии\Иллюстрация к сказке.jpg"/>
          <p:cNvPicPr/>
          <p:nvPr/>
        </p:nvPicPr>
        <p:blipFill>
          <a:blip r:embed="rId1"/>
          <a:stretch/>
        </p:blipFill>
        <p:spPr>
          <a:xfrm>
            <a:off x="3429000" y="2514600"/>
            <a:ext cx="2695680" cy="39625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6858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Антитез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457200" y="3962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457200" y="47242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казоч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формул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553080" y="3276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Гипербол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6248520" y="472428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стоян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эпитет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7315200" y="6400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14300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09480" y="18288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4800600" y="39625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асилиса – мачех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ушка – царь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естьянин – бари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са - заяц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1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371600" y="4038480"/>
            <a:ext cx="2438280" cy="212724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"/>
          <p:cNvSpPr/>
          <p:nvPr/>
        </p:nvSpPr>
        <p:spPr>
          <a:xfrm>
            <a:off x="6781680" y="6248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026"/>
          <p:cNvSpPr/>
          <p:nvPr/>
        </p:nvSpPr>
        <p:spPr>
          <a:xfrm>
            <a:off x="1066680" y="609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5" name="Text Box 1027"/>
          <p:cNvSpPr/>
          <p:nvPr/>
        </p:nvSpPr>
        <p:spPr>
          <a:xfrm>
            <a:off x="1143000" y="2209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ка – древнейший народный жанр литературы фантастического характера, имеющий целью нравоучение или развлечени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6" name="Text Box 1028"/>
          <p:cNvSpPr/>
          <p:nvPr/>
        </p:nvSpPr>
        <p:spPr>
          <a:xfrm>
            <a:off x="342900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ловарь русской литературы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7" name="Picture 102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066680" y="4038480"/>
            <a:ext cx="2286000" cy="1995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3716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808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казка – несколько слов, которые «вводят» в сказочную атмосфер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295280" y="3733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чин – помогает начать сказку, называет героев и события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2860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цовка – завершает повествова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8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934320" y="4343400"/>
            <a:ext cx="1834920" cy="1601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7"/>
          <p:cNvSpPr/>
          <p:nvPr/>
        </p:nvSpPr>
        <p:spPr>
          <a:xfrm>
            <a:off x="6781680" y="624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2133720" y="762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8380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резмерное преувеличение действий и поступков героев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4572000" y="342900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Рос не по дням, а по часа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И возник вдруг мост кольцом, да дворец с крыльцо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84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143000" y="3581280"/>
            <a:ext cx="2368440" cy="20671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295280" y="609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228600" y="236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572000" y="40384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Сине море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Добрый молодец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Красна девица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Ясный сокол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0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914400" y="3809880"/>
            <a:ext cx="2292480" cy="200052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708660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685800" y="6858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533520" y="2362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.Перечислите виды сказок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3048120" y="29718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вы особенности волшебн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505320" y="42670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чём особенность героев бытов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609480" y="5486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иведите примеры сказок о животных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762120" y="6172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5.Придумайте сказк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9" name="Picture 9" descr="D:\графика\фотографии\Кот в сапогах.jpg"/>
          <p:cNvPicPr/>
          <p:nvPr/>
        </p:nvPicPr>
        <p:blipFill>
          <a:blip r:embed="rId1"/>
          <a:stretch/>
        </p:blipFill>
        <p:spPr>
          <a:xfrm>
            <a:off x="1066680" y="2971800"/>
            <a:ext cx="1822680" cy="2414520"/>
          </a:xfrm>
          <a:prstGeom prst="rect">
            <a:avLst/>
          </a:prstGeom>
          <a:ln w="0">
            <a:noFill/>
          </a:ln>
        </p:spPr>
      </p:pic>
      <p:sp>
        <p:nvSpPr>
          <p:cNvPr id="7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718164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езентация подготовле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лемендеевой Н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ОУ СОШ №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.Ульяновс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02" name="Picture 18" descr="C:\Program Files\Common Files\Microsoft Shared\Clipart\cagcat50\bd04914_.wmf"/>
          <p:cNvPicPr/>
          <p:nvPr/>
        </p:nvPicPr>
        <p:blipFill>
          <a:blip r:embed="rId1"/>
          <a:stretch/>
        </p:blipFill>
        <p:spPr>
          <a:xfrm>
            <a:off x="2484360" y="1484280"/>
            <a:ext cx="3095640" cy="1584360"/>
          </a:xfrm>
          <a:prstGeom prst="rect">
            <a:avLst/>
          </a:prstGeom>
          <a:ln w="0">
            <a:noFill/>
          </a:ln>
        </p:spPr>
      </p:pic>
      <p:sp>
        <p:nvSpPr>
          <p:cNvPr id="7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3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3886200" y="1828800"/>
            <a:ext cx="52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обыт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геро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уществ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обычность обстановк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обая манера повествован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ариативность текст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втор коллективе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1" name="Picture 8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4191120"/>
            <a:ext cx="2133360" cy="2124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1"/>
          <p:cNvSpPr/>
          <p:nvPr/>
        </p:nvSpPr>
        <p:spPr>
          <a:xfrm>
            <a:off x="6781680" y="190512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85800" y="762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5" name="Picture 3" descr="D:\графика\фотографии\Иллюстрация к сказке 2.jpg"/>
          <p:cNvPicPr/>
          <p:nvPr/>
        </p:nvPicPr>
        <p:blipFill>
          <a:blip r:embed="rId1"/>
          <a:stretch/>
        </p:blipFill>
        <p:spPr>
          <a:xfrm>
            <a:off x="3505320" y="1676520"/>
            <a:ext cx="2655720" cy="335268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4"/>
          <p:cNvSpPr/>
          <p:nvPr/>
        </p:nvSpPr>
        <p:spPr>
          <a:xfrm>
            <a:off x="0" y="26668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Волшеб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2" action="ppaction://hlinksldjump"/>
              </a:rPr>
              <a:t>сказки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429000" y="5105520"/>
            <a:ext cx="266688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3" action="ppaction://hlinksldjump"/>
              </a:rPr>
              <a:t>Сказки</a:t>
            </a: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6324480" y="2666880"/>
            <a:ext cx="2514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Бытов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4" action="ppaction://hlinksldjump"/>
              </a:rPr>
              <a:t>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676520" y="10666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4495680" y="3048120"/>
            <a:ext cx="426744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1" action="ppaction://hlinksldjump"/>
              </a:rPr>
              <a:t>Общие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3" name="Picture 4" descr="D:\графика\фотографии\Волшебная сказка.jpg"/>
          <p:cNvPicPr/>
          <p:nvPr/>
        </p:nvPicPr>
        <p:blipFill>
          <a:blip r:embed="rId4"/>
          <a:stretch/>
        </p:blipFill>
        <p:spPr>
          <a:xfrm>
            <a:off x="838080" y="205740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72388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371600" y="9144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80880" y="289548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чуд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лкновение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редметы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исани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8" name="Picture 8" descr="D:\графика\фотографии\Ковёр-самолёт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78000" cy="22510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7162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219320" y="91440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19320" y="1143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886200" y="3048120"/>
            <a:ext cx="6248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еление на положительных и отрицательных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Борьба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ымышлен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Обычные люд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4" name="Picture 6" descr="D:\графика\фотографии\Сказка о царе салтане.jpg"/>
          <p:cNvPicPr/>
          <p:nvPr/>
        </p:nvPicPr>
        <p:blipFill>
          <a:blip r:embed="rId1"/>
          <a:stretch/>
        </p:blipFill>
        <p:spPr>
          <a:xfrm>
            <a:off x="657360" y="2209680"/>
            <a:ext cx="2697120" cy="4267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7"/>
          <p:cNvSpPr/>
          <p:nvPr/>
        </p:nvSpPr>
        <p:spPr>
          <a:xfrm>
            <a:off x="75438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533520" y="274320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Василиса Прекрасная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Гуси-лебеди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Сестрица Алёнушка и братец Ивануш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Белая уточ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По щучьему веленью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9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324480" y="1752480"/>
            <a:ext cx="2362320" cy="20606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73152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143000" y="914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ки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4495680" y="312408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щие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названи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64" name="Picture 4" descr="D:\графика\фотографии\Кот в сапогах.jpg"/>
          <p:cNvPicPr/>
          <p:nvPr/>
        </p:nvPicPr>
        <p:blipFill>
          <a:blip r:embed="rId4"/>
          <a:stretch/>
        </p:blipFill>
        <p:spPr>
          <a:xfrm>
            <a:off x="838080" y="2133720"/>
            <a:ext cx="2932200" cy="38862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74674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7:55:21Z</dcterms:created>
  <dc:creator>Admin</dc:creator>
  <dc:description/>
  <dc:language>en-US</dc:language>
  <cp:lastModifiedBy>LEGION</cp:lastModifiedBy>
  <dcterms:modified xsi:type="dcterms:W3CDTF">2015-01-20T12:39:58Z</dcterms:modified>
  <cp:revision>44</cp:revision>
  <dc:subject/>
  <dc:title>Презентация PowerPoint</dc:title>
</cp:coreProperties>
</file>