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451E-C43F-49AD-8802-1B2A84FDBD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русского языка      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3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е по картине И.И. Шишкина «Зи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E32A-FB5A-4AB4-A7C1-F4336F8A4E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познакомить учащихся с картиной И.И. Шишкина «Зим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чить «читать» картину, правильно и последовательно изла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вивать художественный вкус, умение сравнивать, пережи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любовь к родн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27E7-F7A4-493D-927F-88E0B44533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ан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й, красивый, тихий, пустынный, спокойный, сказоч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ин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стый, серебристый, белый, голубоватый, легкий, мохнат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, новый.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е, величавые, стройные, кре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Ё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енькие, в нарядных белых плать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шебница, чародей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ый, морозный, зимний, холодный, чуде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жий, х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3CC3-0AE1-487C-A4B1-8C528EBFFC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ошенный, властвует, редко ступ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авые, могучие, выросли на простор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ынно, чётко, различимы, стволы, повале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ыпанные, голубовато-белый массив, передн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, изобразил, вверху, переливают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3FC8-A0F9-4E7A-B82D-2DCD2A35C6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шла волшебница з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ремлет лес под сказк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нег, снег, снег – царство    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е отношение к карт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E035-FE2A-4D0A-8FDE-8CB2ACC221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EE8-B5A1-4612-BFB4-5F17E44C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88B5-36A8-4D52-8834-39AB297A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568-EB78-4528-8086-C4C8B7BE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FD6-543C-4C8E-88F2-0B636800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76B9-2C26-4F0F-9BF3-CA4E7044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E7F4-EE88-48E8-944D-332267FD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5D5D-0146-459E-8347-8FB02855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5DDD-738C-464E-91CD-27F70027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B450-32AC-4B4C-83B3-54653D54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3380-5FCD-4CCA-A7B8-033BFEF0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BAF2-A42A-42E7-9F12-D8D2BD1F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A7C-770B-44F0-8A3C-77382B2A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66AB-F368-4F50-B1BB-6AC48F07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90C0-4E02-4C1E-9AE2-06453987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0161-4C0C-4749-B1CA-40DECB6E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5166-2C6C-4E15-A109-F5942027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98A0-14E2-4026-9BF4-A44ABB4E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9A35E-BBD2-4B95-9DFE-AA583EDF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84EB-1246-4699-9A0C-15592549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EF1C3-E521-400B-B16A-01E5E8C9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A90F-6BF8-4E8C-8EB9-CBD0281C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6595-44AF-49F9-B167-A0AD5EF0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322-5FC1-4A8B-AA13-7CDA3F21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44950-20DA-47B3-8326-22B1EB7A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1F1B-1C04-4317-8F64-E2A8B878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E5559-98D4-4D75-A71A-5A04CDF7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09CB4-9000-4C93-849B-2B4372A4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0F24-1086-401E-9B6A-6F90E35A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97BB-AEB2-4396-AE57-DD5711C9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74262-79AB-4C2C-8293-5A595680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62EF-1D0F-4A87-84B7-44AC34EA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2F0E4-F789-4238-B09C-B4288F05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0CC44-2866-45D0-A597-9E11528E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7C7-115D-4B24-BD58-0C7568E6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3396B-FFB4-4096-9CE8-BF9B498E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74DB-C96C-411E-A24A-735B390E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631F-537D-42DC-8E90-4054D0DE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A1495-AE18-4B1E-9FBF-E9FBC72E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10C7-E753-4211-8816-7CF4CC30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B4E3-23C6-49FC-A56C-564431FD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58441-AB08-4886-93F2-98498C42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9AEDE-0458-47D8-82EC-92D649FB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1A1CA-4462-4A36-B18E-3FBE0DE6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9A7-78EB-460F-BD3D-E4A2F531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106-D1C2-4CE7-890E-0DA9B931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B3F-A93C-42B3-9A1C-6A5E273B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059F-261E-487C-88ED-61AC2F37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50F-72DE-43FB-89B8-EF19CB88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90F5-57F0-4D76-BF19-DF8AF5D2A804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517B-634C-47F3-8FDA-02AB89AB72BE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99CA-31B7-4B64-9027-6BB86D0C63B5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F88B-41A2-4BC0-9210-0727A61C262D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2355-EB8F-43FE-B1F4-77ABDAFF2B16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D12A-ABF2-4E39-A9D3-9E50982E1311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4AD2-C738-446D-B666-022A4505C64C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66C9-45E8-4484-B515-3470E068C713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12411360" cy="2273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чинение по картине И.И. Шишкина «Зима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-познакомить учащихся с картиной И.И. Шишкина «Зим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чить «читать» картину, правильно и последовательно излаг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сл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звивать художественный вкус, умение сравнивать, пережива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воспитывать любовь к родной прир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357280" y="357120"/>
            <a:ext cx="4286520" cy="59673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4324680" cy="5238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Данн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Нов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ес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й, красивый, тихий, пустынный, спокойный, сказочн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инствен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не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ушистый, серебристый, белый, голубоватый, легкий, мохнат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истый, новый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с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е, величавые, стройные, крепк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Ёлоч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ленькие, в нарядных белых платья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лшебница, чародей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сный, морозный, зимний, холодный, чудес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ежий, холод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брошенный, властвует, редко ступает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личавые, могучие, выросли на простор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устынно, чётко, различимы, стволы, поваленны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сыпанные, голубовато-белый массив, переднем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идим, изобразил, вверху, переливаются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ришла волшебница зим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Дремлет лес под сказку с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 Снег, снег, снег – царство     снег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Мое отношение к картин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0:01:20Z</dcterms:created>
  <dc:creator>Loner-XP</dc:creator>
  <dc:description/>
  <dc:language>en-US</dc:language>
  <cp:lastModifiedBy>LEGION</cp:lastModifiedBy>
  <dcterms:modified xsi:type="dcterms:W3CDTF">2015-01-20T11:55:30Z</dcterms:modified>
  <cp:revision>7</cp:revision>
  <dc:subject/>
  <dc:title>          Урок русского языка                                 3 класс</dc:title>
</cp:coreProperties>
</file>