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  <p:custShowLst>
    <p:custShow name="Произвольный показ 1" id="0">
      <p:sldLst>
        <p:sld r:id="rId7"/>
        <p:sld r:id="rId8"/>
        <p:sld r:id="rId9"/>
        <p:sld r:id="rId10"/>
        <p:sld r:id="rId11"/>
        <p:sld r:id="rId12"/>
        <p:sld r:id="rId13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73E9-8F9A-4BBF-A8E1-FC5D460A778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русского языка                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3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е по картине И.И. Шишкина «Зим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5DBE-6EBC-4673-BB8B-2D5FBA7035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познакомить учащихся с картиной И.И. Шишкина «Зим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чить «читать» картину, правильно и последовательно излаг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с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вивать художественный вкус, умение сравнивать, пережи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ывать любовь к родной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EB08-6B8F-4DE5-A20E-624FBF0094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Данн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ов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чий, красивый, тихий, пустынный, спокойный, сказочн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инств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шистый, серебристый, белый, голубоватый, легкий, мохнат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, новый.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чие, величавые, стройные, креп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Ё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енькие, в нарядных белых плать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шебница, чародей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ый, морозный, зимний, холодный, чудес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жий, холод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CAE6-A123-4D41-B629-F289AFCB4D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рошенный, властвует, редко ступа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авые, могучие, выросли на простор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ынно, чётко, различимы, стволы, повале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ыпанные, голубовато-белый массив, передн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, изобразил, вверху, переливаютс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2A47-AEE5-4063-B556-4FBDC3502E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ишла волшебница з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ремлет лес под сказку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нег, снег, снег – царство     сне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е отношение к карт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4F81-CE2F-4A25-98D8-0ACAF7FC84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AB1E-BFB0-4F7A-B7AA-88B33A76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CFA8-BBA3-4F69-A7EC-2A86A631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DB33-741D-4745-B7FF-96FD5DA3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63F-16C8-40DD-A5C9-E26A133D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6253-24E8-4A06-BDA9-9A83BDC2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EC3E-9FEC-45C8-8692-DFF6DC82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B148-8B54-42E6-9F4C-64E01383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B50E-723B-4DB4-936A-69B6AEBA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AB23-4B30-4969-BBF9-8F9B732F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5DCD-A278-48E6-9CDE-718DC1FD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D8E2-75AA-49C2-8797-FC206277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E88B-392E-46B7-9934-D1157D72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58DA-46C6-4037-9FA8-E5F39389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3D64-E92C-4962-B8DE-58F67B8C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CD97-F6B0-4786-A108-397675C8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E69F-3348-45D2-9050-018FACD3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A71F-1DBE-41FC-8C98-6DE96521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72AA7-B2A7-43C2-B548-EAA38DE0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FF84A-D898-497C-A9F8-0F96052E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FEB1F-71F7-4390-864F-7B09DCA7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46573-D6A1-4E0B-A8C3-0B419CF7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C624D-DAE6-4791-B250-AFA1A19F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D5D1-19A2-456E-8968-19C6C06D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23EC8-263D-4D76-B2E0-7532C790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262C4-99F1-4D3B-8985-33A072BD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6B084-CE88-4B32-8953-D06B7795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041DB-B4CD-43B2-91B6-D69E3A05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AB027-ED85-49A6-81E6-9C3F3675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E9397-6C9C-4053-AAC6-832F5919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C9656-3CF4-4B9A-883C-6BBF5B80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80D2A-5C01-445C-8EFE-46D8CE5E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31B84-346E-4853-8AA7-CC3478E9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A21CA-6DB0-448E-8B0B-E3620351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CA8E-5DCF-4043-968C-473CE569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C9A82-C556-478C-A627-746CDF71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973DE-5F82-4A9D-9140-31B874A3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4F22D-375E-4E7D-85B5-C75EC363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8F932-1F81-4AEA-ABC3-755833AE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D505D-9E49-48A3-89C8-F7257305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0B592-EF76-4252-923E-BB8D3BD6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85194-505A-473F-ADC6-C3A40D6C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05B94-7D85-49EB-8853-D5ED9223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0984C-5ED3-4F3D-AE01-8DB997DE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E55B-7E17-4AA2-95D9-B3A05526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6A41-9F80-4A2A-8145-4CE6ADB0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FEA-C8BC-4E60-A39B-554D23C8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8690-1EBD-4D77-9C38-C333B382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4837-38E5-4EF3-8A7B-1B23384A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DB32-827F-4188-B0C8-ADFE4F358DEC}" type="datetime">
              <a:rPr b="0" lang="ru-RU" sz="1200" spc="-1" strike="noStrike">
                <a:solidFill>
                  <a:srgbClr val="a93c93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993A-432D-4778-916A-B5C2B5FB877D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127A-62C3-4421-B804-E63465933F71}" type="datetime">
              <a:rPr b="0" lang="ru-RU" sz="1200" spc="-1" strike="noStrike">
                <a:solidFill>
                  <a:srgbClr val="e9dce2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D5AE-9118-4F3B-A578-36A85F809FDC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CE72-9973-490E-8E9D-45D5E5BD3944}" type="datetime">
              <a:rPr b="0" lang="ru-RU" sz="1200" spc="-1" strike="noStrike">
                <a:solidFill>
                  <a:srgbClr val="e9dce2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60DA-B88C-4027-AF7C-904B8948F372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0FB9-4ED6-44E9-B87F-F8E996AC37B6}" type="datetime">
              <a:rPr b="0" lang="ru-RU" sz="1200" spc="-1" strike="noStrike">
                <a:solidFill>
                  <a:srgbClr val="a93c93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D505-C943-413C-89B9-3EADB44DABC7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12411360" cy="22734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очинение по картине И.И. Шишкина «Зима»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ли: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-познакомить учащихся с картиной И.И. Шишкина «Зима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Учить «читать» картину, правильно и последовательно излага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ысл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развивать художественный вкус, умение сравнивать, пережива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воспитывать любовь к родной природ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357280" y="357120"/>
            <a:ext cx="4286520" cy="59673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428760"/>
            <a:ext cx="4357800" cy="364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643280" y="428760"/>
            <a:ext cx="4324680" cy="52387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85840" y="214200"/>
            <a:ext cx="84009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Данное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Новое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ес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гучий, красивый, тихий, пустынный, спокойный, сказочный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аинственн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нег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ушистый, серебристый, белый, голубоватый, легкий, мохнатый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истый, новый.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сн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гучие, величавые, стройные, крепки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Ёлоч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аленькие, в нарядных белых платьях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и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лшебница, чародей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ен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Ясный, морозный, зимний, холодный, чудесны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зду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вежий, холодны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аброшенный, властвует, редко ступает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еличавые, могучие, выросли на просторе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устынно, чётко, различимы, стволы, поваленные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асыпанные, голубовато-белый массив, переднем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идим, изобразил, вверху, переливаются»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.Пришла волшебница зим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. Дремлет лес под сказку сн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3. Снег, снег, снег – царство     снег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. Мое отношение к картин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0:01:20Z</dcterms:created>
  <dc:creator>Loner-XP</dc:creator>
  <dc:description/>
  <dc:language>en-US</dc:language>
  <cp:lastModifiedBy>LEGION</cp:lastModifiedBy>
  <dcterms:modified xsi:type="dcterms:W3CDTF">2015-01-20T11:55:30Z</dcterms:modified>
  <cp:revision>7</cp:revision>
  <dc:subject/>
  <dc:title>          Урок русского языка                                 3 класс</dc:title>
</cp:coreProperties>
</file>