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  <p:custShowLst>
    <p:custShow name="Произвольный показ 1" id="0">
      <p:sldLst>
        <p:sld r:id="rId7"/>
        <p:sld r:id="rId8"/>
        <p:sld r:id="rId9"/>
        <p:sld r:id="rId10"/>
        <p:sld r:id="rId11"/>
        <p:sld r:id="rId12"/>
        <p:sld r:id="rId1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0494-658C-4850-8F39-16B01DCEED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русского языка       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3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е по картине И.И. Шишкина «Зи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2CFB-C60E-4292-BF3A-354532A849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познакомить учащихся с картиной И.И. Шишкина «Зим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чить «читать» картину, правильно и последовательно изла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вивать художественный вкус, умение сравнивать, пережи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любовь к родн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976F-27C5-4D0D-9DB7-4AD0AD24D2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анн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й, красивый, тихий, пустынный, спокойный, сказоч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ин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стый, серебристый, белый, голубоватый, легкий, мохнат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, новый.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е, величавые, стройные, кре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Ё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енькие, в нарядных белых плать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шебница, чародей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ый, морозный, зимний, холодный, чудес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жий, х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8299-7DAA-4F5E-AB0C-529D8ADD60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рошенный, властвует, редко ступ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авые, могучие, выросли на простор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ынно, чётко, различимы, стволы, повале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ыпанные, голубовато-белый массив, передн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, изобразил, вверху, переливают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8E7B-3517-43F2-B08A-000FCDDD0C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шла волшебница з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ремлет лес под сказк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нег, снег, снег – царство    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е отношение к карт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020D-D7A3-40F1-81AF-66807B20A1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CBA-A881-4772-8E8D-D1333AC8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610-BB91-485F-909F-8E67A713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84D-9216-40A0-9ADB-3EE6F99C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9D3-97D0-473E-BF17-F1518726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5BBF-561E-471C-9CF8-87108AF0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F8CA-B36D-4D05-A0AC-171850D4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D056-6B45-49F5-A1BF-3ED1FA28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A595-42FA-4435-8A9A-CBADA356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4C67-C74F-4AE4-93CD-E123E967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12DB-FBF2-4ABD-8BEB-81AB999F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77B5-32FE-41BC-82D9-768A3D0C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A1FD-9F25-42D9-B22A-A4CBECD7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BD26-AB2F-4955-B4BF-460C184C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5337-E5EE-4BE4-AC26-CD0DBCAE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3379-102D-4432-891E-46C152F4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49B3-1584-426A-9837-666A9F72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AFD0-FD0E-4799-A617-113E1984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F5F5D-5656-4EC7-B833-B6B2CD55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CC220-6564-4661-879E-5A79D46C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1FA82-C1BC-4CD7-8E2B-8462E169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3276-8054-486B-8A29-1E9D5BBB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D419-7DC6-4BAE-97F9-1A4C04C0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CCB-1EE6-4078-810D-88A2CD6B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56C8C-2431-4EEA-B69C-77D83303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38228-EFC6-4400-AD58-617A1739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D7ED-7055-4585-A29D-0527EB5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484C6-210E-48AA-B4D8-067725E2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B94DB-A2E6-4BE5-B165-9CD41B0A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63497-0A38-4C01-B5D5-2BDDF772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F49EA-DD7E-4A05-8006-FBDAAD5D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97CA7-50D7-401F-BC82-FBB24673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E173F-1EA1-4D0D-8E16-BCFC26EC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4ACDA-A1AB-4E7A-AA9B-5DB36DA0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B67-6307-45EA-BDA8-AABFE4D4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D852A-C447-4A2A-A7A4-DF457DEA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1A4B9-F23C-4B9A-9D28-CFA4374E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D0646-A6DC-4EB5-824D-3A2EBC80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C3AFC-0DD0-4A5F-BAA4-78CE83C4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A4B8D-F3B2-46CB-8284-6DA40EAE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78094-9F3E-4837-85F7-C688D076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EFE26-5C66-447B-8F42-65991916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95AD0-C435-44AD-BB83-45DC39FD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17071-41EE-4442-A1B8-7EDAF5EC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CDB-1E8F-4F71-A275-DDA3670E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553-3228-4CAE-B63B-2634FE48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B1A-C3D6-40BE-ACDD-95CF75C0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9B0-C482-47C4-9A9B-39843ACE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A3DF-4D1D-4C70-B987-478F10F9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8207-94EC-4676-AC96-1CC56E1CAEF2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774D-E0BB-48A4-B5AD-0A8E9E7D4D5B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AB3B-4C04-42AB-93EE-DCF32B525F6D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3D8A-28C3-4BC3-B40A-BED9A03C73AF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90DE-9E2A-42C7-8C1B-13DC7BB4CCAB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C161-FFD9-46B7-BA13-2EB78AA20790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F462-DF82-41E1-B525-FF51284D0422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F6C9-21AB-445C-A7F6-6847AE4A7437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12411360" cy="2273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чинение по картине И.И. Шишкина «Зима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и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-познакомить учащихся с картиной И.И. Шишкина «Зима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Учить «читать» картину, правильно и последовательно излаг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сл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развивать художественный вкус, умение сравнивать, пережива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воспитывать любовь к родной природ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357280" y="357120"/>
            <a:ext cx="4286520" cy="59673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4357800" cy="36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4324680" cy="5238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85840" y="214200"/>
            <a:ext cx="8400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Данн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Нов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ес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й, красивый, тихий, пустынный, спокойный, сказочн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инствен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не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ушистый, серебристый, белый, голубоватый, легкий, мохнат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истый, новый.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с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е, величавые, стройные, крепк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Ёлоч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ленькие, в нарядных белых платья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и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лшебница, чародей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сный, морозный, зимний, холодный, чудес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ежий, холод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брошенный, властвует, редко ступает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еличавые, могучие, выросли на простор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устынно, чётко, различимы, стволы, поваленны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сыпанные, голубовато-белый массив, переднем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идим, изобразил, вверху, переливаются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Пришла волшебница зим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 Дремлет лес под сказку сн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 Снег, снег, снег – царство     снег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 Мое отношение к картин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0:01:20Z</dcterms:created>
  <dc:creator>Loner-XP</dc:creator>
  <dc:description/>
  <dc:language>en-US</dc:language>
  <cp:lastModifiedBy>LEGION</cp:lastModifiedBy>
  <dcterms:modified xsi:type="dcterms:W3CDTF">2015-01-20T11:55:30Z</dcterms:modified>
  <cp:revision>7</cp:revision>
  <dc:subject/>
  <dc:title>          Урок русского языка                                 3 класс</dc:title>
</cp:coreProperties>
</file>