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  <p:custShowLst>
    <p:custShow name="Произвольный показ 1" id="0">
      <p:sldLst>
        <p:sld r:id="rId7"/>
        <p:sld r:id="rId8"/>
        <p:sld r:id="rId9"/>
        <p:sld r:id="rId10"/>
        <p:sld r:id="rId11"/>
        <p:sld r:id="rId12"/>
        <p:sld r:id="rId13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A4E3-218A-472F-B38B-324FB804E4F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русского языка                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3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е по картине И.И. Шишкина «Зим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9057-B4E7-4A08-81E6-114773A1E3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познакомить учащихся с картиной И.И. Шишкина «Зим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чить «читать» картину, правильно и последовательно излаг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с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вивать художественный вкус, умение сравнивать, пережи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ть любовь к родной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9286-1CAF-467D-A455-FA65C891F7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Данн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ов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чий, красивый, тихий, пустынный, спокойный, сказочн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инств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шистый, серебристый, белый, голубоватый, легкий, мохнат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, новый.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чие, величавые, стройные, креп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Ё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енькие, в нарядных белых плать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шебница, чародей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ый, морозный, зимний, холодный, чудес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жий, холод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8129-F494-436B-924B-82E850D73A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рошенный, властвует, редко ступ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авые, могучие, выросли на простор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ынно, чётко, различимы, стволы, повале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ыпанные, голубовато-белый массив, передн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, изобразил, вверху, переливают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2D00-87C4-4B5B-A795-72D5631C57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ишла волшебница з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ремлет лес под сказку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нег, снег, снег – царство     сн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е отношение к карт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9EFD-8ECB-4014-B7BD-E4F701CE3A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62B7-EC88-4370-A979-24ADBF13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1C7-2CD2-4095-838D-CF672F0D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7D2-C807-4EC6-9CA7-2396BFDB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C4D-FC76-48A6-9CEE-BA3663B4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B5BD-E09A-44B2-B4E4-9FFA308D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72EB-530B-4F59-B1FE-E41E082B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74E8-A49D-4089-BF20-BA9F00EF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71DF-F08C-434E-80F6-D3FDE665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9C3C-A6F5-4617-B8FE-4DD5B4B2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E95B-B5C2-48FC-B03E-4E2B1728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630A-E9CC-442B-B4B7-23CB6EBE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7B2E-772E-476F-9DA4-D9244C99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E907-94AD-4396-B277-87A9A084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5058-91FD-452C-A0BE-77733E1F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C540-1176-4DAA-A80C-9BBB3E4E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2BF4-B29F-4CCA-9AF1-D9F5DF31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9177-E99E-4206-8DDF-5FEABE24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094E8-AAB2-48F8-9007-195D13BA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C3903-BA78-41B7-A84D-FD7929E2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E2A72-1A96-4A07-9E90-B7BCCAD2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7B64D-ABFC-4389-9AE6-7F61CEB0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CA2F0-21B2-4F82-AC93-0B2335F0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815-3C11-4B79-8D5A-6FE83D91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994E2-4980-4278-B9F3-A00A499E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FFB49-0F92-4BA9-8B64-7E48E08F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22C0B-07F7-42F6-BF64-4814D5CB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E2E86-0D9D-47B4-B7BF-20C28DC9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4B947-C62D-4BBC-982A-6F453E63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C59EF-389B-44E1-873F-518D7121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90707-1A83-4984-801B-38B86420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05618-DF99-459B-93AC-96892395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46DCA-4E3E-4D51-B023-BEAB5BD0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3C97E-13DC-4A22-B89E-16F8B103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765B-AE48-42FE-9110-B667DC2D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0F3C0-D455-4D9F-B2CC-E652829F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08C10-E683-4F97-B67B-476B4783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B9D19-2045-420F-B23F-6F734A99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7D299-59B3-4BDC-8EE7-F66B1B98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B7A7E-5152-48E8-BD87-069A1499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E0FE0-D9D0-4305-A119-B1FB8183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9F303-A8D9-49BD-AEC9-B766EDD1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201E8-B68C-4B14-812D-7B9FD72C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ED3BA-D316-4C1F-8C11-FCB79948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7CE0-EFE7-4EE7-A679-E417129E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858-BA7E-4D0F-B706-E29B1AD7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2DA-D236-474B-A642-1A77F758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681-918C-4624-AE15-6AED7E4D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C4D-EB0A-4F17-8146-89419786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2B7D-C2BA-48BF-A02D-EDC51FF6CF59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F6C8-EB5B-4A7B-A193-2D3836979200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32B0-9459-48DC-9725-B8B292715665}" type="datetime">
              <a:rPr b="0" lang="ru-RU" sz="1200" spc="-1" strike="noStrike">
                <a:solidFill>
                  <a:srgbClr val="e9dce2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66AF-78EC-4938-81ED-BE66D9C18FB3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7C4C-8C7B-4D1A-8D42-9639870D3767}" type="datetime">
              <a:rPr b="0" lang="ru-RU" sz="1200" spc="-1" strike="noStrike">
                <a:solidFill>
                  <a:srgbClr val="e9dce2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20E1-7DA4-4021-95C6-75267BEA09BE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E150-3074-4F01-B465-8B4CC2E8E5B4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8645-81E9-464B-BFA3-03B1C5B76EAC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12411360" cy="2273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чинение по картине И.И. Шишкина «Зима»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и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-познакомить учащихся с картиной И.И. Шишкина «Зима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Учить «читать» картину, правильно и последовательно излага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ысл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развивать художественный вкус, умение сравнивать, пережива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воспитывать любовь к родной природ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357280" y="357120"/>
            <a:ext cx="4286520" cy="59673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4357800" cy="364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643280" y="428760"/>
            <a:ext cx="4324680" cy="5238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85840" y="214200"/>
            <a:ext cx="8400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Данно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Ново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ес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гучий, красивый, тихий, пустынный, спокойный, сказочны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аинственн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не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ушистый, серебристый, белый, голубоватый, легкий, мохнаты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истый, новый.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сн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гучие, величавые, стройные, крепк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Ёлоч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ленькие, в нарядных белых платьях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и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лшебница, чародей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Ясный, морозный, зимний, холодный, чудесн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зду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вежий, холодн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брошенный, властвует, редко ступает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еличавые, могучие, выросли на просторе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устынно, чётко, различимы, стволы, поваленные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сыпанные, голубовато-белый массив, переднем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идим, изобразил, вверху, переливаются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Пришла волшебница зим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. Дремлет лес под сказку сн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. Снег, снег, снег – царство     снег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. Мое отношение к картин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0:01:20Z</dcterms:created>
  <dc:creator>Loner-XP</dc:creator>
  <dc:description/>
  <dc:language>en-US</dc:language>
  <cp:lastModifiedBy>LEGION</cp:lastModifiedBy>
  <dcterms:modified xsi:type="dcterms:W3CDTF">2015-01-20T11:55:30Z</dcterms:modified>
  <cp:revision>7</cp:revision>
  <dc:subject/>
  <dc:title>          Урок русского языка                                 3 класс</dc:title>
</cp:coreProperties>
</file>