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  <p:custShowLst>
    <p:custShow name="Произвольный показ 1" id="0">
      <p:sldLst>
        <p:sld r:id="rId7"/>
        <p:sld r:id="rId8"/>
        <p:sld r:id="rId9"/>
        <p:sld r:id="rId10"/>
        <p:sld r:id="rId11"/>
        <p:sld r:id="rId12"/>
        <p:sld r:id="rId13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4BE2-2846-40E8-B497-E2C064A31F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русского языка                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3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е по картине И.И. Шишкина «Зи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2FBF-4564-40B8-9241-FE39172868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познакомить учащихся с картиной И.И. Шишкина «Зим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чить «читать» картину, правильно и последовательно излаг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с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вивать художественный вкус, умение сравнивать, пережи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ть любовь к родной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6C17-5AD3-4853-95AD-890B350087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Данн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ов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й, красивый, тихий, пустынный, спокойный, сказочн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инст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шистый, серебристый, белый, голубоватый, легкий, мохнат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, новый.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е, величавые, стройные, креп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Ё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енькие, в нарядных белых плать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шебница, чародей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ый, морозный, зимний, холодный, чудес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жий, х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FF4B-FE80-4E32-A712-2D25005328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рошенный, властвует, редко ступ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авые, могучие, выросли на простор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ынно, чётко, различимы, стволы, повале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ыпанные, голубовато-белый массив, передн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, изобразил, вверху, переливают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BD6D-0A8C-45AF-9E63-FAA4960124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ишла волшебница з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ремлет лес под сказку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нег, снег, снег – царство     сн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е отношение к карт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04F6-ECBE-44B8-BAC6-AB2D8E8286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764-91CC-4E69-928C-33BC610F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CD5-38B2-4516-9E52-8B73A49B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317-ACEB-4FA9-9907-C68C8729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A2D-6D5A-49C0-8C13-3977B56E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28FB-6598-4E15-A8C5-C362C94C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FA3C-D564-44B2-8945-D7C79C36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5DAF-FA62-41A7-B3C6-C9CBE94B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D253-EFAA-41B1-A9D4-67BEDADD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E69D-77D4-4685-BC39-48569EBD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48BE-F229-48FF-99F4-BFF01CBC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7C76-CE8F-4D95-AFB6-95E9E263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6D37-0387-46CA-B1B5-7B821E48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A671-CB47-4EB6-911B-35D787CE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42C5-7B14-487A-AB33-232B532A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6C57-FCCA-4586-AD90-0FA167D7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9159-B9FC-48CB-A518-831F1725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4764-8F96-4C59-9DF5-B9A06C46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3BA58-0E9F-41B8-B859-3A7CED73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FEAEE-212C-435C-8802-A7ED0BDC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9678F-05D4-4AE2-A655-22F678C5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1D00-618A-4AFC-B038-FAE4D5FB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94625-11F2-4B9D-9722-90DBCAA4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70C-D3CC-4D27-A7D0-AD5807FB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7375D-9CA0-4B7B-8C05-74268135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8317-0500-40C8-A97A-2CFB5EA4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9684-DF70-4AAB-948B-825D0843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2B124-9512-41D8-85D5-E3FBD7D8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B9C20-DCA0-486E-9CBC-32641CF6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3D14-D578-4E35-97B3-8AC1CF3B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065CF-46F3-4E94-A283-AC913002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0599D-EAC4-46BE-B0DC-CD8A3898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0E330-1E50-4142-82D4-31BE561C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53428-1514-4EE5-A658-1C39A22C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378-7CA6-4F31-A53B-68C226C6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52961-D91C-4A51-9B3D-3ECF6943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8C756-EA08-4E65-A6C1-59C231E5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D4F11-BBFC-4140-ADC4-E3D480D1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42300-5804-4B3C-A9F8-DD9EBEDD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BDF62-4ABB-4EAE-A709-C103879A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5B5BB-9B28-4A79-9C44-F983A95C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39782-3A03-4330-AD97-80339E43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B951C-E0BA-4C83-AC30-0510B59C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2296B-5AA7-4155-999A-30EB1792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322-2F34-4459-AD3F-5F138153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DEB-6592-4EF5-8BCF-C40CA9F9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4F27-2485-441C-9799-E55838F4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88F-ADF6-46EC-BA08-93ECF3E1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43F-855F-4174-9414-17FC95F3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556B-8A37-4633-B79C-DFB4221196AD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C32E-2F9C-4671-AEEE-1850A10E6A32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9D88-FDE4-496A-B868-F9803B48549D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1996-A4EC-459F-8F67-8193734F4983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209F-D6B9-4FF5-A985-10AAF01CD2CB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A686-BBB7-4DEC-B6A2-A4716B481E98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B3FA-D779-42F1-9052-B8979E022BD9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1547-A753-42BA-917E-9AC367477CE9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12411360" cy="2273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чинение по картине И.И. Шишкина «Зима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и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-познакомить учащихся с картиной И.И. Шишкина «Зима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Учить «читать» картину, правильно и последовательно излаг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ысл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развивать художественный вкус, умение сравнивать, пережива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воспитывать любовь к родной природ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357280" y="357120"/>
            <a:ext cx="4286520" cy="59673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4357800" cy="36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4324680" cy="5238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85840" y="214200"/>
            <a:ext cx="8400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Данн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Нов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ес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й, красивый, тихий, пустынный, спокойный, сказочн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инствен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не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ушистый, серебристый, белый, голубоватый, легкий, мохнат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истый, новый.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сн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е, величавые, стройные, крепк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Ёлоч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ленькие, в нарядных белых платья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и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лшебница, чародей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сный, морозный, зимний, холодный, чудес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ежий, холод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брошенный, властвует, редко ступает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еличавые, могучие, выросли на простор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устынно, чётко, различимы, стволы, поваленны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сыпанные, голубовато-белый массив, переднем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идим, изобразил, вверху, переливаются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Пришла волшебница зим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 Дремлет лес под сказку сн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 Снег, снег, снег – царство     снег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 Мое отношение к картин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0:01:20Z</dcterms:created>
  <dc:creator>Loner-XP</dc:creator>
  <dc:description/>
  <dc:language>en-US</dc:language>
  <cp:lastModifiedBy>LEGION</cp:lastModifiedBy>
  <dcterms:modified xsi:type="dcterms:W3CDTF">2015-01-20T11:55:30Z</dcterms:modified>
  <cp:revision>7</cp:revision>
  <dc:subject/>
  <dc:title>          Урок русского языка                                 3 класс</dc:title>
</cp:coreProperties>
</file>