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2B93-C271-4F28-8DB2-FB25B7563D8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slide" Target="../slides/slide23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ынки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ена Александров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ая катего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жизни и твор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Я. Марша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учащихся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10F5-D099-45ED-95CE-92BAECAB9DC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 - Петербург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9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EB6B-BF2B-49FD-85EB-A0DD46C5324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 верхнем ряду) в кругу родных и друз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D5A-8F06-4A9F-AE4A-A9D27AA0225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) -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Острогожской гимназии с товари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8E7C-E1A1-4602-B7D0-A429380E4DA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права) со старшим бра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исеем Яковлевичем Марша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19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61F0-AE6C-45C6-81E2-4495C198629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переди) - ученик Ялтинской мужской гимназии - среди товари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51BB-42ED-403C-B6DE-4B16245D537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с отцом и братьям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т (слева направо): Самуил Яковлевич и Илья Яковлеви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дят: Яков Миронович и Моисей Яковл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D3E-BBC4-4356-BCFA-2255378E12A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фия Михайловна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491E-BF74-4F64-A07B-F25312AC66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ва направо: сестра С.Я. Маршака Сусанн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чь Натанель, жена София, С.Я.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1FBA-DD72-48C1-A601-BF70E55A6BF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ануэль Самойлович 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ы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972D-58CB-4E64-B94E-8196DEA26B7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</a:t>
            </a:r>
            <a:r>
              <a:rPr b="1" lang="ru-RU" sz="1400" spc="-1" strike="noStrike">
                <a:solidFill>
                  <a:srgbClr val="663300"/>
                </a:solidFill>
                <a:latin typeface="Calibri"/>
              </a:rPr>
              <a:t>Маршак</a:t>
            </a:r>
            <a:br>
              <a:rPr sz="1400"/>
            </a:br>
            <a:r>
              <a:rPr b="1" lang="ru-RU" sz="800" spc="-1" strike="noStrike">
                <a:solidFill>
                  <a:srgbClr val="663300"/>
                </a:solidFill>
                <a:latin typeface="Calibri"/>
              </a:rPr>
              <a:t>(1887-1964)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99A-4E78-4215-BF55-A0BEB4602EF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ушкин не обидится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, видимо, понял шутку, еще немного подумал и сказал: «Тогда обидишься т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E465-2301-4763-A3E9-C2B521B85B6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Дом на Чкаловско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Большая часть жизнь Самуила Яковлевича связана с Моск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A6DF-64E9-4960-8002-214F296CABA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ник на могиле С.Я. Марша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. Я. Маршак скончался 4 июля 1964 года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5421-FBB1-44BC-B72D-CCE8D0421C2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ikompas.ru/compas/Marsha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биография и фотоальбом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oikompas.ru/img/compas/2008-10-18/marshak/64234286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амятник на могиле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.rin.ru/pictures/568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b.gmsib.ru/pic/pages/52_4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lenagold.ru/fon/clipart/v/vflo/flovin12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ена С. Я. Маршака С. М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-marshak.ru/photo/family/family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архив семьи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nagold.ru/fon/clipart/k/knig/kniga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lenagold.ru/fon/clipart/f/fonr/fonar0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oikompas.ru/img/compas/2008-10-18/marshak/95642654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ikompas.ru/img/compas/2008-10-18/marshak/52380345_orig.jpg - рисунок «Папа с  сын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leningrad/leningrad05.jpg - С. Я. Маршак, 19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molodost/molodost16.jpg - фото с отцом и брат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2.jpg - С.Я. Маршак. Острогожск, 189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3.jpg - С.Я. Маршак в кругу родных и друзей. 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1.jpg - С.Я. Маршак. 18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5.jpg - С.Я. Маршак ученик Острогожской гимназии с товар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0.jpg - С.Я. Маршак со старшим братом Моисеем Яковлеви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1.jpg -  С.Я. Маршак ученик Ялтинской мужской гимназии - среди товарищ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9E16-07E5-4A47-B0CE-46860692A6E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родился 22.11.1887 в Воронежской губер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семье заводского техника, талантливого изобретате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E659-D46D-4201-9E4C-393A4E1D0E4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DF1-8A05-49AF-B3B8-9FA7B83D4BE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CC05-16A0-4CAD-AD0A-77FED08AA76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всю жизнь был добрым другом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B633-700F-4273-A8EC-71833A873E5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роизведения для детей - это краткие рассказы в стих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12B-B59B-4CE6-B132-CFD09904601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е детские стихи поэт написал о самых маленьких и для самых малень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D6B-AB5D-4437-9A8F-7C8F37AA9F6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 творческих встречах Самуил Яковлевич Маршак любил читать детям свои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опулярность может поспорить разве что со славой Корнея Ивановича Чуков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6B99-F41E-4049-AFD5-EBE3877BF0E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803-00ED-40F1-81ED-B81BC012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064-92E8-4BAC-907A-775D2F83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489-BC9B-48E9-B51E-BB330AB4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15C-E137-47E4-81AF-FBC4DA38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AC7-C799-4B78-946B-F33C44A4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0A7-ADA8-40B1-A63F-09C7459B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B74-E104-4540-A877-CCC286D7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E41-EBBA-4C6C-A261-EE888943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1CE-35A5-4F42-BB5F-A4E98216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F9E-2350-4300-B134-5609E8A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66D-3F1C-4C94-A39B-9E37030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F4A-3BB4-468E-AE24-69E6282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890-0F13-4D87-AD6E-B90B9524E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hyperlink" Target="http://moikompas.ru/img/compas/2008-10-18/marshak/52380345_orig.jpg" TargetMode="External"/><Relationship Id="rId11" Type="http://schemas.openxmlformats.org/officeDocument/2006/relationships/hyperlink" Target="http://s-marshak.ru/photo/leningrad/leningrad05.jpg" TargetMode="External"/><Relationship Id="rId12" Type="http://schemas.openxmlformats.org/officeDocument/2006/relationships/hyperlink" Target="http://s-marshak.ru/photo/molodost/molodost16.jpg" TargetMode="External"/><Relationship Id="rId13" Type="http://schemas.openxmlformats.org/officeDocument/2006/relationships/hyperlink" Target="http://s-marshak.ru/photo/detstvo/detstvo02.jpg" TargetMode="External"/><Relationship Id="rId14" Type="http://schemas.openxmlformats.org/officeDocument/2006/relationships/hyperlink" Target="http://s-marshak.ru/photo/detstvo/detstvo23.jpg" TargetMode="External"/><Relationship Id="rId15" Type="http://schemas.openxmlformats.org/officeDocument/2006/relationships/hyperlink" Target="http://s-marshak.ru/photo/detstvo/detstvo01.jpg" TargetMode="External"/><Relationship Id="rId16" Type="http://schemas.openxmlformats.org/officeDocument/2006/relationships/hyperlink" Target="http://s-marshak.ru/photo/detstvo/detstvo05.jpg" TargetMode="External"/><Relationship Id="rId17" Type="http://schemas.openxmlformats.org/officeDocument/2006/relationships/hyperlink" Target="http://s-marshak.ru/photo/detstvo/detstvo20.jpg" TargetMode="External"/><Relationship Id="rId18" Type="http://schemas.openxmlformats.org/officeDocument/2006/relationships/hyperlink" Target="http://s-marshak.ru/photo/detstvo/detstvo21.jp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ынкин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28280"/>
            <a:ext cx="7521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Я. Марша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kniga02"/>
          <p:cNvPicPr/>
          <p:nvPr/>
        </p:nvPicPr>
        <p:blipFill>
          <a:blip r:embed="rId1"/>
          <a:stretch/>
        </p:blipFill>
        <p:spPr>
          <a:xfrm>
            <a:off x="-252360" y="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2355480" y="262440"/>
            <a:ext cx="59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. Александ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района Кинель-Черкасский Самарской облас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5640" y="5300640"/>
            <a:ext cx="381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Марш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tstvo24"/>
          <p:cNvPicPr/>
          <p:nvPr/>
        </p:nvPicPr>
        <p:blipFill>
          <a:blip r:embed="rId1"/>
          <a:srcRect l="0" t="10296" r="0" b="0"/>
          <a:stretch/>
        </p:blipFill>
        <p:spPr>
          <a:xfrm>
            <a:off x="4643280" y="620640"/>
            <a:ext cx="3670560" cy="48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Rectangle 5"/>
          <p:cNvSpPr/>
          <p:nvPr/>
        </p:nvSpPr>
        <p:spPr>
          <a:xfrm rot="20589600">
            <a:off x="-323640" y="162864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з фотоальбома  семьи</a:t>
            </a:r>
            <a:br>
              <a:rPr sz="1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амуила Яковлевича Марша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С.Я. Маршак в кругу родных и близких"/>
          <p:cNvPicPr/>
          <p:nvPr/>
        </p:nvPicPr>
        <p:blipFill>
          <a:blip r:embed="rId1"/>
          <a:srcRect l="3450" t="0" r="17235" b="-445"/>
          <a:stretch/>
        </p:blipFill>
        <p:spPr>
          <a:xfrm>
            <a:off x="1835280" y="476280"/>
            <a:ext cx="5327640" cy="4478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5373360"/>
            <a:ext cx="49071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 верхнем ряду) в кругу родных и друз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fonar01"/>
          <p:cNvPicPr/>
          <p:nvPr/>
        </p:nvPicPr>
        <p:blipFill>
          <a:blip r:embed="rId2"/>
          <a:stretch/>
        </p:blipFill>
        <p:spPr>
          <a:xfrm>
            <a:off x="1258920" y="3429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отец"/>
          <p:cNvPicPr/>
          <p:nvPr/>
        </p:nvPicPr>
        <p:blipFill>
          <a:blip r:embed="rId1"/>
          <a:stretch/>
        </p:blipFill>
        <p:spPr>
          <a:xfrm>
            <a:off x="755640" y="333360"/>
            <a:ext cx="33829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мать"/>
          <p:cNvPicPr/>
          <p:nvPr/>
        </p:nvPicPr>
        <p:blipFill>
          <a:blip r:embed="rId2"/>
          <a:stretch/>
        </p:blipFill>
        <p:spPr>
          <a:xfrm>
            <a:off x="4643280" y="333360"/>
            <a:ext cx="3600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8172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0400" y="5300640"/>
            <a:ext cx="33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ов Миронович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10160" y="5275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гения Борисовна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) 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Острогожской гимназии с товари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detstvo05"/>
          <p:cNvPicPr/>
          <p:nvPr/>
        </p:nvPicPr>
        <p:blipFill>
          <a:blip r:embed="rId1"/>
          <a:srcRect l="0" t="6387" r="0" b="7718"/>
          <a:stretch/>
        </p:blipFill>
        <p:spPr>
          <a:xfrm>
            <a:off x="2700360" y="476280"/>
            <a:ext cx="4124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0" descr="fonar01"/>
          <p:cNvPicPr/>
          <p:nvPr/>
        </p:nvPicPr>
        <p:blipFill>
          <a:blip r:embed="rId2"/>
          <a:stretch/>
        </p:blipFill>
        <p:spPr>
          <a:xfrm>
            <a:off x="2050920" y="3213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551628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права) со старшим б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м Яковлевичем Марш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С.Я. Маршак и М.Я. Маршак"/>
          <p:cNvPicPr/>
          <p:nvPr/>
        </p:nvPicPr>
        <p:blipFill>
          <a:blip r:embed="rId1"/>
          <a:stretch/>
        </p:blipFill>
        <p:spPr>
          <a:xfrm>
            <a:off x="2916360" y="404640"/>
            <a:ext cx="3200400" cy="46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12" descr="fonar01"/>
          <p:cNvPicPr/>
          <p:nvPr/>
        </p:nvPicPr>
        <p:blipFill>
          <a:blip r:embed="rId2"/>
          <a:stretch/>
        </p:blipFill>
        <p:spPr>
          <a:xfrm>
            <a:off x="2340000" y="357336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676480"/>
            <a:ext cx="8640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переди) - ученик Ялтинской мужской гимназии - среди товарищ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etstvo21"/>
          <p:cNvPicPr/>
          <p:nvPr/>
        </p:nvPicPr>
        <p:blipFill>
          <a:blip r:embed="rId1"/>
          <a:srcRect l="0" t="7204" r="0" b="0"/>
          <a:stretch/>
        </p:blipFill>
        <p:spPr>
          <a:xfrm>
            <a:off x="2627280" y="333360"/>
            <a:ext cx="400212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10" descr="fonar01"/>
          <p:cNvPicPr/>
          <p:nvPr/>
        </p:nvPicPr>
        <p:blipFill>
          <a:blip r:embed="rId2"/>
          <a:stretch/>
        </p:blipFill>
        <p:spPr>
          <a:xfrm>
            <a:off x="2050920" y="386064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964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с отцом и брать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 (слева направо): Самуил Яковлевич и Илья Яковле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т: Яков Миронович и Моисей Яковле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С.Я. Маршак с отцом и братьям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916360" y="47628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nar01"/>
          <p:cNvPicPr/>
          <p:nvPr/>
        </p:nvPicPr>
        <p:blipFill>
          <a:blip r:embed="rId2"/>
          <a:stretch/>
        </p:blipFill>
        <p:spPr>
          <a:xfrm>
            <a:off x="2340000" y="364500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amily09"/>
          <p:cNvPicPr/>
          <p:nvPr/>
        </p:nvPicPr>
        <p:blipFill>
          <a:blip r:embed="rId1"/>
          <a:stretch/>
        </p:blipFill>
        <p:spPr>
          <a:xfrm>
            <a:off x="2556000" y="476280"/>
            <a:ext cx="3528720" cy="49975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2630880" y="573408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фия Михайловна Марш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lovin123"/>
          <p:cNvPicPr/>
          <p:nvPr/>
        </p:nvPicPr>
        <p:blipFill>
          <a:blip r:embed="rId2"/>
          <a:stretch/>
        </p:blipFill>
        <p:spPr>
          <a:xfrm>
            <a:off x="1835280" y="400536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molodost14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1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ва направо: сестра С.Я. Маршака Сусан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чь Натанель, жена София, С.Я. Марш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5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onar01"/>
          <p:cNvPicPr/>
          <p:nvPr/>
        </p:nvPicPr>
        <p:blipFill>
          <a:blip r:embed="rId2"/>
          <a:stretch/>
        </p:blipFill>
        <p:spPr>
          <a:xfrm>
            <a:off x="900000" y="3068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515736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ануэль Самойлович Марша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family07"/>
          <p:cNvPicPr/>
          <p:nvPr/>
        </p:nvPicPr>
        <p:blipFill>
          <a:blip r:embed="rId1"/>
          <a:srcRect l="0" t="0" r="37782" b="0"/>
          <a:stretch/>
        </p:blipFill>
        <p:spPr>
          <a:xfrm>
            <a:off x="2676600" y="620640"/>
            <a:ext cx="39114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AutoShape 1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fonar01"/>
          <p:cNvPicPr/>
          <p:nvPr/>
        </p:nvPicPr>
        <p:blipFill>
          <a:blip r:embed="rId2"/>
          <a:stretch/>
        </p:blipFill>
        <p:spPr>
          <a:xfrm>
            <a:off x="2050920" y="3284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Самуил Яковлевич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ршак</a:t>
            </a:r>
            <a:br>
              <a:rPr sz="48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1887-1964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5680"/>
          <p:cNvPicPr/>
          <p:nvPr/>
        </p:nvPicPr>
        <p:blipFill>
          <a:blip r:embed="rId1"/>
          <a:stretch/>
        </p:blipFill>
        <p:spPr>
          <a:xfrm>
            <a:off x="395280" y="333360"/>
            <a:ext cx="2324160" cy="30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19"/>
          <p:cNvSpPr/>
          <p:nvPr/>
        </p:nvSpPr>
        <p:spPr>
          <a:xfrm>
            <a:off x="3132000" y="3429000"/>
            <a:ext cx="482616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усский  поэт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еводчик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раматург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итературный крити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52380345_orig"/>
          <p:cNvPicPr/>
          <p:nvPr/>
        </p:nvPicPr>
        <p:blipFill>
          <a:blip r:embed="rId1"/>
          <a:stretch/>
        </p:blipFill>
        <p:spPr>
          <a:xfrm>
            <a:off x="6318360" y="1197000"/>
            <a:ext cx="2622600" cy="431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ушкин не обидится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, видимо, понял шутку, еще немного подумал и сказал: «Тогда обидишься т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50920" y="189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воспоминаний Самуила Яковлевича  Марша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Дом на Чкаловск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doski02-2"/>
          <p:cNvPicPr/>
          <p:nvPr/>
        </p:nvPicPr>
        <p:blipFill>
          <a:blip r:embed="rId2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С.Я. Марш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. Я. Маршак скончался 4 июля 1964 года в Моск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4234286_orig"/>
          <p:cNvPicPr/>
          <p:nvPr/>
        </p:nvPicPr>
        <p:blipFill>
          <a:blip r:embed="rId1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AutoShape 10">
            <a:hlinkClick r:id="rId2" action="ppaction://hlinksldjump"/>
          </p:cNvPr>
          <p:cNvSpPr/>
          <p:nvPr/>
        </p:nvSpPr>
        <p:spPr>
          <a:xfrm>
            <a:off x="3952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ikompas.ru/compas/Marsha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биография и фотоальбом С. Я. Марш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oikompas.ru/img/compas/2008-10-18/marshak/64234286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мятник на могиле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ssia.rin.ru/pictures/56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.gmsib.ru/pic/pages/52_4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fon/clipart/v/vflo/flovin1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ена С. Я. Маршака С. М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-marshak.ru/photo/family/family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архив семьи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enagold.ru/fon/clipart/k/knig/kniga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enagold.ru/fon/clipart/f/fonr/fonar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ikompas.ru/img/compas/2008-10-18/marshak/95642654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oikompas.ru/img/compas/2008-10-18/marshak/52380345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исунок «Папа с  сын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-marshak.ru/photo/leningrad/leningrad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 Я. Маршак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-marshak.ru/photo/molodost/molodost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 отцом и бра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-marshak.ru/photo/detstvo/detstvo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Острогожск, 18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-marshak.ru/photo/detstvo/detstvo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в кругу родных и друзей. 1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s-marshak.ru/photo/detstvo/detstvo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188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-marshak.ru/photo/detstvo/detstvo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ученик Острогожской гимназии с товари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-marshak.ru/photo/detstvo/detstv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со старшим братом Моисеем Яковле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s-marshak.ru/photo/detstvo/detstvo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С.Я. Маршак ученик Ялтинской мужской гимназии - среди товарищ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52_421"/>
          <p:cNvPicPr/>
          <p:nvPr/>
        </p:nvPicPr>
        <p:blipFill>
          <a:blip r:embed="rId1"/>
          <a:stretch/>
        </p:blipFill>
        <p:spPr>
          <a:xfrm>
            <a:off x="3059280" y="260280"/>
            <a:ext cx="2350800" cy="345600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3933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одился 22.11.1887 в Воронежской губер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семье заводского техника, талантливого изобре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89744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292720" y="620640"/>
            <a:ext cx="3303720" cy="51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8">
            <a:hlinkClick r:id="" action="ppaction://hlinkshowjump?jump=nextslide"/>
          </p:cNvPr>
          <p:cNvSpPr/>
          <p:nvPr/>
        </p:nvSpPr>
        <p:spPr>
          <a:xfrm>
            <a:off x="802800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etstvo02"/>
          <p:cNvPicPr/>
          <p:nvPr/>
        </p:nvPicPr>
        <p:blipFill>
          <a:blip r:embed="rId2"/>
          <a:stretch/>
        </p:blipFill>
        <p:spPr>
          <a:xfrm>
            <a:off x="4859280" y="263700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259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etstvo01"/>
          <p:cNvPicPr/>
          <p:nvPr/>
        </p:nvPicPr>
        <p:blipFill>
          <a:blip r:embed="rId3"/>
          <a:srcRect l="0" t="0" r="0" b="11104"/>
          <a:stretch/>
        </p:blipFill>
        <p:spPr>
          <a:xfrm>
            <a:off x="755640" y="549360"/>
            <a:ext cx="309708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79280" y="4508640"/>
            <a:ext cx="47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12 л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исал целые поэ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528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всю жизнь был добрым другом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95642654_orig"/>
          <p:cNvPicPr/>
          <p:nvPr/>
        </p:nvPicPr>
        <p:blipFill>
          <a:blip r:embed="rId2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С. Маршак Детки в клетке"/>
          <p:cNvPicPr/>
          <p:nvPr/>
        </p:nvPicPr>
        <p:blipFill>
          <a:blip r:embed="rId2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5980761_orig"/>
          <p:cNvPicPr/>
          <p:nvPr/>
        </p:nvPicPr>
        <p:blipFill>
          <a:blip r:embed="rId2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16626303_orig"/>
          <p:cNvPicPr/>
          <p:nvPr/>
        </p:nvPicPr>
        <p:blipFill>
          <a:blip r:embed="rId2"/>
          <a:stretch/>
        </p:blipFill>
        <p:spPr>
          <a:xfrm>
            <a:off x="2556000" y="347760"/>
            <a:ext cx="4392360" cy="306216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 творческих встречах Самуил Яковлевич Маршак любил читать детям свои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опулярность может поспорить разве что со славой Корнея Ивановича Чу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41:29Z</dcterms:created>
  <dc:creator>Елена</dc:creator>
  <dc:description/>
  <dc:language>en-US</dc:language>
  <cp:lastModifiedBy>LEGION</cp:lastModifiedBy>
  <dcterms:modified xsi:type="dcterms:W3CDTF">2015-01-20T11:56:17Z</dcterms:modified>
  <cp:revision>205</cp:revision>
  <dc:subject/>
  <dc:title>Слайд 1</dc:title>
</cp:coreProperties>
</file>