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9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59BB-2B0A-4AC6-8165-686D4F69949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slide" Target="../slides/slide23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ынки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ена Александровн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ая катего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жизни и творчест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. Я. Марша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учащихся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D420-747C-4847-AE02-5A2B2DC9C1E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 - Петербург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9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1169-6C5F-4442-BE74-B6F3D319FA3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 верхнем ряду) в кругу родных и друз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A5B0-F5A9-4B69-A880-738B12D952B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) -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Острогожской гимназии с товари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5005-B2C5-4EDB-BE2A-A10BA95913F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права) со старшим бра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исеем Яковлевичем Марша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о 19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E079-3F13-4AF6-AAB9-C5D18F501DC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переди) - ученик Ялтинской мужской гимназии - среди товари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4F3B-7850-4C82-9720-707C1953C9F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с отцом и братьям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т (слева направо): Самуил Яковлевич и Илья Яковлеви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дят: Яков Миронович и Моисей Яковлевич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5492-B83E-40BA-B19D-83B0D8CE0BF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фия Михайловна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B546-CDA8-4AA6-8CFB-B6C50FA43AC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ва направо: сестра С.Я. Маршака Сусанн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чь Натанель, жена София, С.Я.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ля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2200-5178-4F1B-8B95-D40158E69DA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ануэль Самойлович 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ы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BFC3-2DE4-412E-B8D1-7301A9C7E56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</a:t>
            </a:r>
            <a:r>
              <a:rPr b="1" lang="ru-RU" sz="1400" spc="-1" strike="noStrike">
                <a:solidFill>
                  <a:srgbClr val="663300"/>
                </a:solidFill>
                <a:latin typeface="Calibri"/>
              </a:rPr>
              <a:t>Маршак</a:t>
            </a:r>
            <a:br>
              <a:rPr sz="1400"/>
            </a:br>
            <a:r>
              <a:rPr b="1" lang="ru-RU" sz="800" spc="-1" strike="noStrike">
                <a:solidFill>
                  <a:srgbClr val="663300"/>
                </a:solidFill>
                <a:latin typeface="Calibri"/>
              </a:rPr>
              <a:t>(1887-1964)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219D-1045-40A1-A994-8B6EDCBB99C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Пушкин не обидится!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, видимо, понял шутку, еще немного подумал и сказал: «Тогда обидишься т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4FFC-B05E-4904-B317-841C1558287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Дом на Чкаловско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Большая часть жизнь Самуила Яковлевича связана с Моск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7218-AC17-497A-96FB-ECFDF51704C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мятник на могиле С.Я. Марша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. Я. Маршак скончался 4 июля 1964 года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4427-A0AB-402C-8849-F913D7EC573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oikompas.ru/compas/Marshak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 биография и фотоальбом С. Я. Марша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oikompas.ru/img/compas/2008-10-18/marshak/64234286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амятник на могиле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ssia.rin.ru/pictures/568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lib.gmsib.ru/pic/pages/52_42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lenagold.ru/fon/clipart/v/vflo/flovin12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ена С. Я. Маршака С. М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-marshak.ru/photo/family/family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архив семьи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nagold.ru/fon/clipart/k/knig/kniga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lenagold.ru/fon/clipart/f/fonr/fonar0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oikompas.ru/img/compas/2008-10-18/marshak/95642654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ikompas.ru/img/compas/2008-10-18/marshak/52380345_orig.jpg - рисунок «Папа с  сын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leningrad/leningrad05.jpg - С. Я. Маршак, 19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molodost/molodost16.jpg - фото с отцом и брат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2.jpg - С.Я. Маршак. Острогожск, 189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3.jpg - С.Я. Маршак в кругу родных и друзей. 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1.jpg - С.Я. Маршак. 188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5.jpg - С.Я. Маршак ученик Острогожской гимназии с товари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0.jpg - С.Я. Маршак со старшим братом Моисеем Яковлеви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1.jpg -  С.Я. Маршак ученик Ялтинской мужской гимназии - среди товарищ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B08C-1BCB-40BF-AC0B-5C002A0813D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родился 22.11.1887 в Воронежской губер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семье заводского техника, талантливого изобретател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C16C-1DD5-410F-BE60-1F7CF9BFDDA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9A25-49A5-490D-9249-E1871F484E0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A0EF-C5BD-4574-A161-B2593D5CE4B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всю жизнь был добрым другом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6617-FE94-406C-A87C-59D0A7629CC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роизведения для детей - это краткие рассказы в стих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D96F-91B5-4934-8405-C4FEB8DA364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е детские стихи поэт написал о самых маленьких и для самых малень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E677-F9F6-4902-9F75-1D970C7C91B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 творческих встречах Самуил Яковлевич Маршак любил читать детям свои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опулярность может поспорить разве что со славой Корнея Ивановича Чуков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9E85-7575-480B-92D7-575EAE96BB6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921-9AF4-4977-A663-67070C37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71A-FC3E-4FEB-8C72-5EA9B802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73E-22E6-4AD2-803C-C5A6ABA9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C95-DE5F-471D-AFD2-2C65609B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0BB-BB51-4D38-88E0-13852BB6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43A-2C6D-4C63-A206-753BBF96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085-8B1D-40A4-8B7D-87A5FAB4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99E-6D83-4820-A3B7-008DB14C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D08-B818-401D-9AF4-AC69F51E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A02-0676-46CC-BA8D-28D3F3D8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EED-95D7-485C-A225-58E78CDC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111-7B44-49AF-AF2A-83568E55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3D82-4E06-4D1B-A74A-2A887C5DC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hyperlink" Target="http://moikompas.ru/img/compas/2008-10-18/marshak/52380345_orig.jpg" TargetMode="External"/><Relationship Id="rId11" Type="http://schemas.openxmlformats.org/officeDocument/2006/relationships/hyperlink" Target="http://s-marshak.ru/photo/leningrad/leningrad05.jpg" TargetMode="External"/><Relationship Id="rId12" Type="http://schemas.openxmlformats.org/officeDocument/2006/relationships/hyperlink" Target="http://s-marshak.ru/photo/molodost/molodost16.jpg" TargetMode="External"/><Relationship Id="rId13" Type="http://schemas.openxmlformats.org/officeDocument/2006/relationships/hyperlink" Target="http://s-marshak.ru/photo/detstvo/detstvo02.jpg" TargetMode="External"/><Relationship Id="rId14" Type="http://schemas.openxmlformats.org/officeDocument/2006/relationships/hyperlink" Target="http://s-marshak.ru/photo/detstvo/detstvo23.jpg" TargetMode="External"/><Relationship Id="rId15" Type="http://schemas.openxmlformats.org/officeDocument/2006/relationships/hyperlink" Target="http://s-marshak.ru/photo/detstvo/detstvo01.jpg" TargetMode="External"/><Relationship Id="rId16" Type="http://schemas.openxmlformats.org/officeDocument/2006/relationships/hyperlink" Target="http://s-marshak.ru/photo/detstvo/detstvo05.jpg" TargetMode="External"/><Relationship Id="rId17" Type="http://schemas.openxmlformats.org/officeDocument/2006/relationships/hyperlink" Target="http://s-marshak.ru/photo/detstvo/detstvo20.jpg" TargetMode="External"/><Relationship Id="rId18" Type="http://schemas.openxmlformats.org/officeDocument/2006/relationships/hyperlink" Target="http://s-marshak.ru/photo/detstvo/detstvo21.jp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ынкин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лена Александровн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шая категор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628280"/>
            <a:ext cx="75218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жизни и творчест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 Я. Марша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учащихся начальной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kniga02"/>
          <p:cNvPicPr/>
          <p:nvPr/>
        </p:nvPicPr>
        <p:blipFill>
          <a:blip r:embed="rId1"/>
          <a:stretch/>
        </p:blipFill>
        <p:spPr>
          <a:xfrm>
            <a:off x="-252360" y="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2355480" y="262440"/>
            <a:ext cx="595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щеобразовательное учреждение Самарской обла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няя общеобразовательная школ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й цент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. Александ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района Кинель-Черкасский Самарской облас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55640" y="5300640"/>
            <a:ext cx="38163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Марша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кт - Петербург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9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etstvo24"/>
          <p:cNvPicPr/>
          <p:nvPr/>
        </p:nvPicPr>
        <p:blipFill>
          <a:blip r:embed="rId1"/>
          <a:srcRect l="0" t="10296" r="0" b="0"/>
          <a:stretch/>
        </p:blipFill>
        <p:spPr>
          <a:xfrm>
            <a:off x="4643280" y="620640"/>
            <a:ext cx="3670560" cy="48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1" name="Rectangle 5"/>
          <p:cNvSpPr/>
          <p:nvPr/>
        </p:nvSpPr>
        <p:spPr>
          <a:xfrm rot="20589600">
            <a:off x="-323640" y="1628640"/>
            <a:ext cx="64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Из фотоальбома  семьи</a:t>
            </a:r>
            <a:br>
              <a:rPr sz="1600"/>
            </a:b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амуила Яковлевича Марша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С.Я. Маршак в кругу родных и близких"/>
          <p:cNvPicPr/>
          <p:nvPr/>
        </p:nvPicPr>
        <p:blipFill>
          <a:blip r:embed="rId1"/>
          <a:srcRect l="3450" t="0" r="17235" b="-445"/>
          <a:stretch/>
        </p:blipFill>
        <p:spPr>
          <a:xfrm>
            <a:off x="1835280" y="476280"/>
            <a:ext cx="5327640" cy="4478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23640" y="5373360"/>
            <a:ext cx="490716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 верхнем ряду) в кругу родных и друз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fonar01"/>
          <p:cNvPicPr/>
          <p:nvPr/>
        </p:nvPicPr>
        <p:blipFill>
          <a:blip r:embed="rId2"/>
          <a:stretch/>
        </p:blipFill>
        <p:spPr>
          <a:xfrm>
            <a:off x="1258920" y="3429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отец"/>
          <p:cNvPicPr/>
          <p:nvPr/>
        </p:nvPicPr>
        <p:blipFill>
          <a:blip r:embed="rId1"/>
          <a:stretch/>
        </p:blipFill>
        <p:spPr>
          <a:xfrm>
            <a:off x="755640" y="333360"/>
            <a:ext cx="3382920" cy="48960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7" descr="мать"/>
          <p:cNvPicPr/>
          <p:nvPr/>
        </p:nvPicPr>
        <p:blipFill>
          <a:blip r:embed="rId2"/>
          <a:stretch/>
        </p:blipFill>
        <p:spPr>
          <a:xfrm>
            <a:off x="4643280" y="333360"/>
            <a:ext cx="360072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8172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0400" y="5300640"/>
            <a:ext cx="33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ов Миронович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10160" y="5275440"/>
            <a:ext cx="37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вгения Борисовна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5013360"/>
            <a:ext cx="8569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) -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Острогожской гимназии с товарищ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detstvo05"/>
          <p:cNvPicPr/>
          <p:nvPr/>
        </p:nvPicPr>
        <p:blipFill>
          <a:blip r:embed="rId1"/>
          <a:srcRect l="0" t="6387" r="0" b="7718"/>
          <a:stretch/>
        </p:blipFill>
        <p:spPr>
          <a:xfrm>
            <a:off x="2700360" y="476280"/>
            <a:ext cx="412416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10" descr="fonar01"/>
          <p:cNvPicPr/>
          <p:nvPr/>
        </p:nvPicPr>
        <p:blipFill>
          <a:blip r:embed="rId2"/>
          <a:stretch/>
        </p:blipFill>
        <p:spPr>
          <a:xfrm>
            <a:off x="2050920" y="3213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551628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права) со старшим бр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исеем Яковлевичем Марш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 19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С.Я. Маршак и М.Я. Маршак"/>
          <p:cNvPicPr/>
          <p:nvPr/>
        </p:nvPicPr>
        <p:blipFill>
          <a:blip r:embed="rId1"/>
          <a:stretch/>
        </p:blipFill>
        <p:spPr>
          <a:xfrm>
            <a:off x="2916360" y="404640"/>
            <a:ext cx="3200400" cy="4680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Picture 12" descr="fonar01"/>
          <p:cNvPicPr/>
          <p:nvPr/>
        </p:nvPicPr>
        <p:blipFill>
          <a:blip r:embed="rId2"/>
          <a:stretch/>
        </p:blipFill>
        <p:spPr>
          <a:xfrm>
            <a:off x="2340000" y="357336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676480"/>
            <a:ext cx="86407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переди) - ученик Ялтинской мужской гимназии - среди товарищ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detstvo21"/>
          <p:cNvPicPr/>
          <p:nvPr/>
        </p:nvPicPr>
        <p:blipFill>
          <a:blip r:embed="rId1"/>
          <a:srcRect l="0" t="7204" r="0" b="0"/>
          <a:stretch/>
        </p:blipFill>
        <p:spPr>
          <a:xfrm>
            <a:off x="2627280" y="333360"/>
            <a:ext cx="4002120" cy="4978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Picture 10" descr="fonar01"/>
          <p:cNvPicPr/>
          <p:nvPr/>
        </p:nvPicPr>
        <p:blipFill>
          <a:blip r:embed="rId2"/>
          <a:stretch/>
        </p:blipFill>
        <p:spPr>
          <a:xfrm>
            <a:off x="2050920" y="386064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5445000"/>
            <a:ext cx="896472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с отцом и братья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т (слева направо): Самуил Яковлевич и Илья Яковлеви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ят: Яков Миронович и Моисей Яковлевич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С.Я. Маршак с отцом и братьям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916360" y="476280"/>
            <a:ext cx="345600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fonar01"/>
          <p:cNvPicPr/>
          <p:nvPr/>
        </p:nvPicPr>
        <p:blipFill>
          <a:blip r:embed="rId2"/>
          <a:stretch/>
        </p:blipFill>
        <p:spPr>
          <a:xfrm>
            <a:off x="2340000" y="364500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amily09"/>
          <p:cNvPicPr/>
          <p:nvPr/>
        </p:nvPicPr>
        <p:blipFill>
          <a:blip r:embed="rId1"/>
          <a:stretch/>
        </p:blipFill>
        <p:spPr>
          <a:xfrm>
            <a:off x="2556000" y="476280"/>
            <a:ext cx="3528720" cy="49975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Rectangle 4"/>
          <p:cNvSpPr/>
          <p:nvPr/>
        </p:nvSpPr>
        <p:spPr>
          <a:xfrm>
            <a:off x="2630880" y="573408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фия Михайловна Марш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lovin123"/>
          <p:cNvPicPr/>
          <p:nvPr/>
        </p:nvPicPr>
        <p:blipFill>
          <a:blip r:embed="rId2"/>
          <a:stretch/>
        </p:blipFill>
        <p:spPr>
          <a:xfrm>
            <a:off x="1835280" y="4005360"/>
            <a:ext cx="1619280" cy="17143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molodost14"/>
          <p:cNvPicPr/>
          <p:nvPr/>
        </p:nvPicPr>
        <p:blipFill>
          <a:blip r:embed="rId1"/>
          <a:stretch/>
        </p:blipFill>
        <p:spPr>
          <a:xfrm>
            <a:off x="1547640" y="333360"/>
            <a:ext cx="6337440" cy="41464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ва направо: сестра С.Я. Маршака Сусан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чь Натанель, жена София, С.Я. Марш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5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onar01"/>
          <p:cNvPicPr/>
          <p:nvPr/>
        </p:nvPicPr>
        <p:blipFill>
          <a:blip r:embed="rId2"/>
          <a:stretch/>
        </p:blipFill>
        <p:spPr>
          <a:xfrm>
            <a:off x="900000" y="3068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515736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мануэль Самойлович Марша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ы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family07"/>
          <p:cNvPicPr/>
          <p:nvPr/>
        </p:nvPicPr>
        <p:blipFill>
          <a:blip r:embed="rId1"/>
          <a:srcRect l="0" t="0" r="37782" b="0"/>
          <a:stretch/>
        </p:blipFill>
        <p:spPr>
          <a:xfrm>
            <a:off x="2676600" y="620640"/>
            <a:ext cx="3911400" cy="4103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7" name="AutoShape 1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fonar01"/>
          <p:cNvPicPr/>
          <p:nvPr/>
        </p:nvPicPr>
        <p:blipFill>
          <a:blip r:embed="rId2"/>
          <a:stretch/>
        </p:blipFill>
        <p:spPr>
          <a:xfrm>
            <a:off x="2050920" y="3284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274680"/>
            <a:ext cx="6059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Самуил Яковлевич </a:t>
            </a: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Маршак</a:t>
            </a:r>
            <a:br>
              <a:rPr sz="48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1887-1964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5680"/>
          <p:cNvPicPr/>
          <p:nvPr/>
        </p:nvPicPr>
        <p:blipFill>
          <a:blip r:embed="rId1"/>
          <a:stretch/>
        </p:blipFill>
        <p:spPr>
          <a:xfrm>
            <a:off x="395280" y="333360"/>
            <a:ext cx="2324160" cy="3024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Rectangle 19"/>
          <p:cNvSpPr/>
          <p:nvPr/>
        </p:nvSpPr>
        <p:spPr>
          <a:xfrm>
            <a:off x="3132000" y="3429000"/>
            <a:ext cx="482616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усский  поэт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еводчик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раматург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литературный крити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52380345_orig"/>
          <p:cNvPicPr/>
          <p:nvPr/>
        </p:nvPicPr>
        <p:blipFill>
          <a:blip r:embed="rId1"/>
          <a:stretch/>
        </p:blipFill>
        <p:spPr>
          <a:xfrm>
            <a:off x="6318360" y="1197000"/>
            <a:ext cx="2622600" cy="4319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70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ушкин не обидится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6408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, видимо, понял шутку, еще немного подумал и сказал: «Тогда обидишься т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50920" y="189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 воспоминаний Самуила Яковлевича  Марша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doski02-1"/>
          <p:cNvPicPr/>
          <p:nvPr/>
        </p:nvPicPr>
        <p:blipFill>
          <a:blip r:embed="rId1"/>
          <a:stretch/>
        </p:blipFill>
        <p:spPr>
          <a:xfrm>
            <a:off x="4716360" y="692280"/>
            <a:ext cx="351000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Дом на Чкаловско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doski02-2"/>
          <p:cNvPicPr/>
          <p:nvPr/>
        </p:nvPicPr>
        <p:blipFill>
          <a:blip r:embed="rId2"/>
          <a:stretch/>
        </p:blipFill>
        <p:spPr>
          <a:xfrm>
            <a:off x="250920" y="981000"/>
            <a:ext cx="4074840" cy="2527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3860280"/>
            <a:ext cx="85071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Большая часть жизнь Самуила Яковлевича связана с Моск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на могиле С.Я. Марш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. Я. Маршак скончался 4 июля 1964 года в Москв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64234286_orig"/>
          <p:cNvPicPr/>
          <p:nvPr/>
        </p:nvPicPr>
        <p:blipFill>
          <a:blip r:embed="rId1"/>
          <a:stretch/>
        </p:blipFill>
        <p:spPr>
          <a:xfrm>
            <a:off x="2819520" y="333360"/>
            <a:ext cx="320328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4" name="AutoShape 10">
            <a:hlinkClick r:id="rId2" action="ppaction://hlinksldjump"/>
          </p:cNvPr>
          <p:cNvSpPr/>
          <p:nvPr/>
        </p:nvSpPr>
        <p:spPr>
          <a:xfrm>
            <a:off x="395280" y="602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kniga02"/>
          <p:cNvPicPr/>
          <p:nvPr/>
        </p:nvPicPr>
        <p:blipFill>
          <a:blip r:embed="rId3"/>
          <a:stretch/>
        </p:blipFill>
        <p:spPr>
          <a:xfrm>
            <a:off x="6578640" y="4292640"/>
            <a:ext cx="2565360" cy="2844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ikompas.ru/compas/Marsha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 биография и фотоальбом С. Я. Марш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oikompas.ru/img/compas/2008-10-18/marshak/64234286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амятник на могиле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ssia.rin.ru/pictures/568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ib.gmsib.ru/pic/pages/52_4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enagold.ru/fon/clipart/v/vflo/flovin1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ена С. Я. Маршака С. М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-marshak.ru/photo/family/family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архив семьи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lenagold.ru/fon/clipart/k/knig/kniga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lenagold.ru/fon/clipart/f/fonr/fonar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oikompas.ru/img/compas/2008-10-18/marshak/95642654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moikompas.ru/img/compas/2008-10-18/marshak/52380345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рисунок «Папа с  сын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s-marshak.ru/photo/leningrad/leningrad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 Я. Маршак, 1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s-marshak.ru/photo/molodost/molodost1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 отцом и брать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s-marshak.ru/photo/detstvo/detstvo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Острогожск, 189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s-marshak.ru/photo/detstvo/detstvo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в кругу родных и друзей. 19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s-marshak.ru/photo/detstvo/detstvo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188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s-marshak.ru/photo/detstvo/detstvo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ученик Острогожской гимназии с товари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-marshak.ru/photo/detstvo/detstv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со старшим братом Моисеем Яковлевич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s-marshak.ru/photo/detstvo/detstvo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С.Я. Маршак ученик Ялтинской мужской гимназии - среди товарищ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8" descr="52_421"/>
          <p:cNvPicPr/>
          <p:nvPr/>
        </p:nvPicPr>
        <p:blipFill>
          <a:blip r:embed="rId1"/>
          <a:stretch/>
        </p:blipFill>
        <p:spPr>
          <a:xfrm>
            <a:off x="3059280" y="260280"/>
            <a:ext cx="2350800" cy="345600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4920" y="393336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одился 22.11.1887 в Воронежской губер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 семье заводского техника, талантливого изобрет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489744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С.Я. Маршак. 1927 г."/>
          <p:cNvPicPr/>
          <p:nvPr/>
        </p:nvPicPr>
        <p:blipFill>
          <a:blip r:embed="rId1"/>
          <a:stretch/>
        </p:blipFill>
        <p:spPr>
          <a:xfrm>
            <a:off x="5292720" y="620640"/>
            <a:ext cx="3303720" cy="51134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AutoShape 8">
            <a:hlinkClick r:id="" action="ppaction://hlinkshowjump?jump=nextslide"/>
          </p:cNvPr>
          <p:cNvSpPr/>
          <p:nvPr/>
        </p:nvSpPr>
        <p:spPr>
          <a:xfrm>
            <a:off x="802800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detstvo02"/>
          <p:cNvPicPr/>
          <p:nvPr/>
        </p:nvPicPr>
        <p:blipFill>
          <a:blip r:embed="rId2"/>
          <a:stretch/>
        </p:blipFill>
        <p:spPr>
          <a:xfrm>
            <a:off x="4859280" y="2637000"/>
            <a:ext cx="3024360" cy="367344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51280" y="259920"/>
            <a:ext cx="496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detstvo01"/>
          <p:cNvPicPr/>
          <p:nvPr/>
        </p:nvPicPr>
        <p:blipFill>
          <a:blip r:embed="rId3"/>
          <a:srcRect l="0" t="0" r="0" b="11104"/>
          <a:stretch/>
        </p:blipFill>
        <p:spPr>
          <a:xfrm>
            <a:off x="755640" y="549360"/>
            <a:ext cx="3097080" cy="37432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AutoShape 13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179280" y="4508640"/>
            <a:ext cx="475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12 ле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исал целые поэ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9528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всю жизнь был добрым другом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95642654_orig"/>
          <p:cNvPicPr/>
          <p:nvPr/>
        </p:nvPicPr>
        <p:blipFill>
          <a:blip r:embed="rId2"/>
          <a:stretch/>
        </p:blipFill>
        <p:spPr>
          <a:xfrm>
            <a:off x="684360" y="1484280"/>
            <a:ext cx="2225520" cy="30988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С. Маршак Детки в клетке"/>
          <p:cNvPicPr/>
          <p:nvPr/>
        </p:nvPicPr>
        <p:blipFill>
          <a:blip r:embed="rId2"/>
          <a:stretch/>
        </p:blipFill>
        <p:spPr>
          <a:xfrm>
            <a:off x="324000" y="620640"/>
            <a:ext cx="3313080" cy="5329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14560" y="189000"/>
            <a:ext cx="532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роизведения для детей - это краткие рассказы в стих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>
            <a:hlinkClick r:id="" action="ppaction://hlinkshowjump?jump=nextslide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3794"/>
                </a:moveTo>
                <a:lnTo>
                  <a:pt x="17837" y="10800"/>
                </a:lnTo>
                <a:lnTo>
                  <a:pt x="3824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779640" y="333360"/>
            <a:ext cx="5111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е детские стихи поэт написал о самых маленьких и для самых малень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95980761_orig"/>
          <p:cNvPicPr/>
          <p:nvPr/>
        </p:nvPicPr>
        <p:blipFill>
          <a:blip r:embed="rId2"/>
          <a:stretch/>
        </p:blipFill>
        <p:spPr>
          <a:xfrm>
            <a:off x="250920" y="549360"/>
            <a:ext cx="3584520" cy="5113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16626303_orig"/>
          <p:cNvPicPr/>
          <p:nvPr/>
        </p:nvPicPr>
        <p:blipFill>
          <a:blip r:embed="rId2"/>
          <a:stretch/>
        </p:blipFill>
        <p:spPr>
          <a:xfrm>
            <a:off x="2556000" y="347760"/>
            <a:ext cx="4392360" cy="306216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3500280"/>
            <a:ext cx="8300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а творческих встречах Самуил Яковлевич Маршак любил читать детям свои сти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опулярность может поспорить разве что со славой Корнея Ивановича Чуков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8:41:29Z</dcterms:created>
  <dc:creator>Елена</dc:creator>
  <dc:description/>
  <dc:language>en-US</dc:language>
  <cp:lastModifiedBy>LEGION</cp:lastModifiedBy>
  <dcterms:modified xsi:type="dcterms:W3CDTF">2015-01-20T11:56:17Z</dcterms:modified>
  <cp:revision>205</cp:revision>
  <dc:subject/>
  <dc:title>Слайд 1</dc:title>
</cp:coreProperties>
</file>