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click.wav" ContentType="audio/x-wav"/>
  <Override PartName="/ppt/media/image7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mbria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685DB-E356-41F2-A313-D53BB8C38BE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hyperlink" Target="http://ru.wikipedia.org/w/index.php?title=&#1052;&#1080;&#1082;&#1072;_&#1050;&#1083;&#1072;&#1088;&#1082;&amp;action=edit&amp;redlink=1" TargetMode="External"/><Relationship Id="rId2" Type="http://schemas.openxmlformats.org/officeDocument/2006/relationships/hyperlink" Target="http://ru.wikipedia.org/wiki/&#1071;&#1082;&#1086;&#1074;_II_(&#1082;&#1086;&#1088;&#1086;&#1083;&#1100;_&#1040;&#1085;&#1075;&#1083;&#1080;&#1080;)" TargetMode="External"/><Relationship Id="rId3" Type="http://schemas.openxmlformats.org/officeDocument/2006/relationships/slide" Target="../slides/slide4.xml"/><Relationship Id="rId4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Мой любимый писатель</a:t>
            </a:r>
            <a:br>
              <a:rPr sz="16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70c0"/>
                </a:solidFill>
                <a:latin typeface="Calibri"/>
              </a:rPr>
              <a:t>Автор</a:t>
            </a:r>
            <a:r>
              <a:rPr b="0" lang="ru-RU" sz="1200" spc="-1" strike="noStrike">
                <a:solidFill>
                  <a:srgbClr val="0070c0"/>
                </a:solidFill>
                <a:latin typeface="Arial"/>
              </a:rPr>
              <a:t>:</a:t>
            </a:r>
            <a:r>
              <a:rPr b="0" lang="ru-RU" sz="1200" spc="-1" strike="noStrike">
                <a:solidFill>
                  <a:srgbClr val="0070c0"/>
                </a:solidFill>
                <a:latin typeface="Calibri"/>
              </a:rPr>
              <a:t> Голинский Матвей</a:t>
            </a:r>
            <a:r>
              <a:rPr b="0" lang="ru-RU" sz="1200" spc="-1" strike="noStrike">
                <a:solidFill>
                  <a:srgbClr val="0070c0"/>
                </a:solidFill>
                <a:latin typeface="Arial"/>
              </a:rPr>
              <a:t>, ученик 6б клас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389C9-724D-4513-AE65-00B4FFA172F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накомств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нажды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ридя в библиотеку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я увидел на полке старинную книгу в кожаном переплёте . Взяв её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я увидел красивую надпис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Артур  Кона До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ь.  Я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ес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эту книгу домой и начал чита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 ней оказались рассказы о проницательном сы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щ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е Шерлоке Холмсе . Он расследовал разные преступления, в которых полиция разводила руками и говорил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: «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ы н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м не можем помоч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»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ерлок Холмс мог по маленькому ногтю определить кто этот человек , чем занимается , откуда  он … И поэтому н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один преступник не уходил от заслуженного наказа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очень понравился Шерлок Холмс за его ум и умение выстраивать логическую цепочку, а Конан Дойль стал моим любимым писател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не захотелось узнать побольше о этом писателе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F4C69-552D-4EE7-B63E-8A96923CE80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Юные год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стоящее имя писателя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1200" spc="-1" strike="noStrike">
                <a:solidFill>
                  <a:srgbClr val="000000"/>
                </a:solidFill>
                <a:latin typeface="Arial"/>
              </a:rPr>
              <a:t>А́ртур Игна́тиус Ко́нан Дойль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одился в Эдинбурге (Шотландия) 22 мая 1859 года в семье ирландских католиков, известной своими достижениями в искусстве и литературе. Отец Чарльз Алтамонт Дойль, архитектор и художник, в возрасте 22 лет женился на 17-летней Мэри Фоули, страстно любившей книги и обладавшей большим талантом рассказчиц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емья будущего писателя испытывала серьезные финансовые трудности . И в возрасте 9 лет богатые родственники отдали Артура в закрытый интернат, где он открыл в себе талант рассказчика и невзлюбил религиозные классовые предрассудки,  а также физические наказания. В 1876 году Артур закончил колледж и вернулся дом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йль предпочел карьеру медика и поступил в Эдинбурский университет. Там  же он и написал свой первый рассказ. А в 1880 году он 7 месяцев плавал на китобойном корабле в качестве врача.  И получив в 1881 году университетский диплом и степень бакалавра медицин, занялся практик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F289C-514E-4442-B77F-8A39435340B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Литературная жизн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феврале 1888 года А. Конан Дойль завершил работу над романом «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Times New Roman"/>
                <a:hlinkClick r:id="rId1"/>
              </a:rPr>
              <a:t>Мика Кларк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», повествовавшем о «мятеже Монмаута» 1685 года, целью которого было свержение короля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Times New Roman"/>
                <a:hlinkClick r:id="rId2"/>
              </a:rPr>
              <a:t>Якова II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 Роман увидел свет в ноябре и был тепло встречен критико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чиная с этого момента, в творческой жизни Конан Дойля возник конфликт: с одной стороны, публика и издатели требовали новых произведений о Шерлоке Холмсе; с другой — сам писатель всё более стремился получить признание как автор серьезных романов (прежде всего исторических), а также пьес и стих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ервым серьезным историческим произведением Конан Дойля считается роман «Белый отряд». С некоторым допущением к разряду исторических можно отнести и роман «Родни Стоун» (1896): действие здесь происходит в начале XIX века, упоминаются Наполеон и Нельсон, драматург Шеридан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9E0F8-2F87-41C0-8BC4-B7AAD3A28EF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900-191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1900 году Конан Дойль вернулся к медицинской практике: в качестве хирурга военно-полевого госпиталя он отправился на англо-бурскую войну. Выпущенная им в 1902 году книга «Война в Южной Африке» встретила горячее одобрение консервативных круг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зультате его  деятельности  в 1907 году был создан в Англии апелляционный суд, которого до этого не был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1909 году в сферу общественных и политических интересов Конан Дойля вновь попали события в Африке. На этот раз он выступил с разоблачение жестокой колониальной политики Бельгии в Конго и подверг критике британскую позицию в этом вопрос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1912 году Конан Дойль опубликовал научно-фантастическую повесть «Затерянный мир» (впоследствии не раз экранизировавшуюся), за которой последовал «Отравленный пояс» (1913). Главным героем обоих произведений стал профессор Челленджер, ученый-фанатик, наделенный гротескными качествами, но при этом по-своему человечный и обаятельны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4BB8E-F078-4ED1-907D-134DE8F721E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918-193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чало Первой мировой войны полностью перевернуло жизнь Конан Дойля. Сначала он записался добровольцем на фронт, будучи уверенным, что его миссия состоит в том, чтобы подавать личный пример героизма и служения родине. После того, как это предложение было отклонено, он посвятил себя публицистике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чиная с 8 августа 1914 года, в лондонской «Таймс» появляются его письма на военную тему. Он предложил создать массовый боевой резерв и отряды гражданского населения для несения «службы по охране железнодорожных станций и жизненно важных объектов, помогать в возведении фортификаций и выполнять многие другие боевые задачи». У себя в Кроуборо (графство Сассекс), Дойль собственноручно занялся организацией подобных отрядов и в первый же день поставил под ружье 200 человек. В 1916 году писатель проехал по боевым позициям британских войск и посетил армии союзников. Результатом поездки явилась книга «На трех фронтах» (1916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1924году вышла автобиографическая книга Конан Дойля «Воспоминания и приключения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следним крупным произведением писателя стала научно-фантастическая повесть «Маракотова бездна» (1929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7AFF0-FE35-47C8-A78C-C07E06AFC40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следние год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сю вторую половину 20-х годов писатель провел в путешествиях, побывал на всех континентах, не прекращая активной публицистической деятель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сле этой поездки у писателя резко подорвалось здоровье. В какой-то момент наступило улучшение, и Конан Доиль отправился в Лондон, но, увы,   ранним утром 7 июля 1930 года в своём доме в Кроуборо (Сассекс). Конан Дойль умер от сердечного приступ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н был похоронен неподалеку от своего садового домика. На надгробной плите по просьбе вдовы были выгравированы лишь имя писателя, дата рождения и четыре слова: </a:t>
            </a:r>
            <a:r>
              <a:rPr b="0" i="1" lang="ru-RU" sz="1200" spc="-1" strike="noStrike">
                <a:solidFill>
                  <a:srgbClr val="ffff00"/>
                </a:solidFill>
                <a:latin typeface="Times New Roman"/>
              </a:rPr>
              <a:t>Steel True, Blade Straight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(«Верен, как сталь, прям, как клинок»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4ACFB-F6A7-47AE-9711-64E44702BD7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B786F-9408-430D-9FD5-5D34EC367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C1406-711F-482E-9E44-F10121054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1186B-7FFC-4845-B0BD-8DFAA7538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B946F-2F93-4AB0-BCD9-A954200F2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8AC30-331C-4930-AAAC-E0BD72723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57B86-E52A-4799-B266-8AC0F821B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0E051-EF68-402A-8105-E368DC123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01E31-DE63-474E-B0CE-34C882DDF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73395-2F4C-4089-A14C-5A0135876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0A2AD-1FC9-4427-A438-D85707603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029A2-4C96-4895-8913-006AB429D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AC223-BFDE-4BAB-9C69-217587056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4FBAE-9EE6-4F2D-911E-BC768A4D6396}" type="datetime">
              <a:rPr b="0" lang="ru-RU" sz="1200" spc="-1" strike="noStrike">
                <a:solidFill>
                  <a:srgbClr val="898989"/>
                </a:solidFill>
                <a:latin typeface="Cambria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Rockwel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Rockwel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E6387-2B97-431B-85AD-7835AEE10369}" type="slidenum">
              <a:rPr b="0" lang="ru-RU" sz="12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ru.wikipedia.org/w/index.php?title=&#1052;&#1080;&#1082;&#1072;_&#1050;&#1083;&#1072;&#1088;&#1082;&amp;action=edit&amp;redlink=1" TargetMode="External"/><Relationship Id="rId2" Type="http://schemas.openxmlformats.org/officeDocument/2006/relationships/hyperlink" Target="http://ru.wikipedia.org/wiki/&#1071;&#1082;&#1086;&#1074;_II_(&#1082;&#1086;&#1088;&#1086;&#1083;&#1100;_&#1040;&#1085;&#1075;&#1083;&#1080;&#1080;)" TargetMode="External"/><Relationship Id="rId3" Type="http://schemas.openxmlformats.org/officeDocument/2006/relationships/hyperlink" Target="http://ru.wikipedia.org/wiki/&#1041;&#1077;&#1083;&#1099;&#1081;_&#1086;&#1090;&#1088;&#1103;&#1076;" TargetMode="External"/><Relationship Id="rId4" Type="http://schemas.openxmlformats.org/officeDocument/2006/relationships/hyperlink" Target="http://ru.wikipedia.org/w/index.php?title=&#1056;&#1086;&#1076;&#1085;&#1080;_&#1057;&#1090;&#1086;&#1091;&#1085;&amp;action=edit&amp;redlink=1" TargetMode="External"/><Relationship Id="rId5" Type="http://schemas.openxmlformats.org/officeDocument/2006/relationships/hyperlink" Target="http://ru.wikipedia.org/wiki/&#1053;&#1072;&#1087;&#1086;&#1083;&#1077;&#1086;&#1085;" TargetMode="External"/><Relationship Id="rId6" Type="http://schemas.openxmlformats.org/officeDocument/2006/relationships/image" Target="../media/image4.jpeg"/><Relationship Id="rId7" Type="http://schemas.openxmlformats.org/officeDocument/2006/relationships/audio" Target="../media/click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9280" y="1413000"/>
            <a:ext cx="7875720" cy="220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Cambria"/>
              </a:rPr>
              <a:t>Мой любимый писатель</a:t>
            </a:r>
            <a:br>
              <a:rPr sz="4000"/>
            </a:br>
            <a:endParaRPr b="0" lang="en-US" sz="8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4076280"/>
            <a:ext cx="6400800" cy="156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Cambria"/>
              </a:rPr>
              <a:t>Автор</a:t>
            </a:r>
            <a:r>
              <a:rPr b="0" lang="ru-RU" sz="3200" spc="-1" strike="noStrike">
                <a:solidFill>
                  <a:srgbClr val="0070c0"/>
                </a:solidFill>
                <a:latin typeface="Arial"/>
              </a:rPr>
              <a:t>:</a:t>
            </a:r>
            <a:r>
              <a:rPr b="0" lang="ru-RU" sz="3200" spc="-1" strike="noStrike">
                <a:solidFill>
                  <a:srgbClr val="0070c0"/>
                </a:solidFill>
                <a:latin typeface="Cambria"/>
              </a:rPr>
              <a:t> Голинский Матвей</a:t>
            </a:r>
            <a:r>
              <a:rPr b="0" lang="ru-RU" sz="3200" spc="-1" strike="noStrike">
                <a:solidFill>
                  <a:srgbClr val="0070c0"/>
                </a:solidFill>
                <a:latin typeface="Arial"/>
              </a:rPr>
              <a:t>, ученик 6б класса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Rockwel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mbria"/>
              </a:rPr>
              <a:t>Знакомство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52" name="Содержимое 4" descr="DSC08536.JPG"/>
          <p:cNvPicPr/>
          <p:nvPr/>
        </p:nvPicPr>
        <p:blipFill>
          <a:blip r:embed="rId1"/>
          <a:stretch/>
        </p:blipFill>
        <p:spPr>
          <a:xfrm>
            <a:off x="4214880" y="500040"/>
            <a:ext cx="3759120" cy="563868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 algn="just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mbria"/>
              </a:rPr>
              <a:t>  </a:t>
            </a:r>
            <a:r>
              <a:rPr b="0" lang="ru-RU" sz="1300" spc="-1" strike="noStrike">
                <a:solidFill>
                  <a:srgbClr val="000000"/>
                </a:solidFill>
                <a:latin typeface="Cambria"/>
              </a:rPr>
              <a:t>Однажды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1300" spc="-1" strike="noStrike">
                <a:solidFill>
                  <a:srgbClr val="000000"/>
                </a:solidFill>
                <a:latin typeface="Cambria"/>
              </a:rPr>
              <a:t> придя в библиотеку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1300" spc="-1" strike="noStrike">
                <a:solidFill>
                  <a:srgbClr val="000000"/>
                </a:solidFill>
                <a:latin typeface="Cambria"/>
              </a:rPr>
              <a:t> я увидел на полке старинную книгу в кожаном переплёте . Взяв её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1300" spc="-1" strike="noStrike">
                <a:solidFill>
                  <a:srgbClr val="000000"/>
                </a:solidFill>
                <a:latin typeface="Cambria"/>
              </a:rPr>
              <a:t> я увидел красивую надпись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1300" spc="-1" strike="noStrike">
                <a:solidFill>
                  <a:srgbClr val="000000"/>
                </a:solidFill>
                <a:latin typeface="Cambria"/>
              </a:rPr>
              <a:t> Артур  Кона До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й</a:t>
            </a:r>
            <a:r>
              <a:rPr b="0" lang="ru-RU" sz="1300" spc="-1" strike="noStrike">
                <a:solidFill>
                  <a:srgbClr val="000000"/>
                </a:solidFill>
                <a:latin typeface="Cambria"/>
              </a:rPr>
              <a:t>ль.  Я 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принес</a:t>
            </a:r>
            <a:r>
              <a:rPr b="0" lang="ru-RU" sz="1300" spc="-1" strike="noStrike">
                <a:solidFill>
                  <a:srgbClr val="000000"/>
                </a:solidFill>
                <a:latin typeface="Cambria"/>
              </a:rPr>
              <a:t> эту книгу домой и начал читать.</a:t>
            </a:r>
            <a:endParaRPr b="0" lang="en-US" sz="1300" spc="-1" strike="noStrike">
              <a:solidFill>
                <a:srgbClr val="000000"/>
              </a:solidFill>
              <a:latin typeface="Cambria"/>
            </a:endParaRPr>
          </a:p>
          <a:p>
            <a:pPr indent="0" algn="just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0" lang="ru-RU" sz="1300" spc="-1" strike="noStrike">
                <a:solidFill>
                  <a:srgbClr val="000000"/>
                </a:solidFill>
                <a:latin typeface="Cambria"/>
              </a:rPr>
              <a:t>В  ней оказались рассказы о проницательном сы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щи</a:t>
            </a:r>
            <a:r>
              <a:rPr b="0" lang="ru-RU" sz="1300" spc="-1" strike="noStrike">
                <a:solidFill>
                  <a:srgbClr val="000000"/>
                </a:solidFill>
                <a:latin typeface="Cambria"/>
              </a:rPr>
              <a:t>ке Шерлоке Холмсе . Он расследовал разные преступления, в которых полиция разводила руками и говорила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: «</a:t>
            </a:r>
            <a:r>
              <a:rPr b="0" lang="ru-RU" sz="1300" spc="-1" strike="noStrike">
                <a:solidFill>
                  <a:srgbClr val="000000"/>
                </a:solidFill>
                <a:latin typeface="Cambria"/>
              </a:rPr>
              <a:t>Мы н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ru-RU" sz="1300" spc="-1" strike="noStrike">
                <a:solidFill>
                  <a:srgbClr val="000000"/>
                </a:solidFill>
                <a:latin typeface="Cambria"/>
              </a:rPr>
              <a:t>чем не можем помочь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»</a:t>
            </a:r>
            <a:r>
              <a:rPr b="0" lang="ru-RU" sz="1300" spc="-1" strike="noStrike">
                <a:solidFill>
                  <a:srgbClr val="000000"/>
                </a:solidFill>
                <a:latin typeface="Cambria"/>
              </a:rPr>
              <a:t>. </a:t>
            </a:r>
            <a:endParaRPr b="0" lang="en-US" sz="1300" spc="-1" strike="noStrike">
              <a:solidFill>
                <a:srgbClr val="000000"/>
              </a:solidFill>
              <a:latin typeface="Cambria"/>
            </a:endParaRPr>
          </a:p>
          <a:p>
            <a:pPr indent="0" algn="just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300" spc="-1" strike="noStrike">
                <a:solidFill>
                  <a:srgbClr val="000000"/>
                </a:solidFill>
                <a:latin typeface="Cambria"/>
              </a:rPr>
              <a:t>Шерлок Холмс мог по маленькому ногтю определить кто этот человек , чем занимается , откуда  он … И поэтому н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ru-RU" sz="1300" spc="-1" strike="noStrike">
                <a:solidFill>
                  <a:srgbClr val="000000"/>
                </a:solidFill>
                <a:latin typeface="Cambria"/>
              </a:rPr>
              <a:t> один преступник не уходил от заслуженного наказания. </a:t>
            </a:r>
            <a:endParaRPr b="0" lang="en-US" sz="1300" spc="-1" strike="noStrike">
              <a:solidFill>
                <a:srgbClr val="000000"/>
              </a:solidFill>
              <a:latin typeface="Cambria"/>
            </a:endParaRPr>
          </a:p>
          <a:p>
            <a:pPr indent="0" algn="just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lang="ru-RU" sz="1300" spc="-1" strike="noStrike">
                <a:solidFill>
                  <a:srgbClr val="000000"/>
                </a:solidFill>
                <a:latin typeface="Cambria"/>
              </a:rPr>
              <a:t>не очень понравился Шерлок Холмс за его ум и умение выстраивать логическую цепочку, а Конан Дойль стал моим любимым писателем.</a:t>
            </a:r>
            <a:endParaRPr b="0" lang="en-US" sz="1300" spc="-1" strike="noStrike">
              <a:solidFill>
                <a:srgbClr val="000000"/>
              </a:solidFill>
              <a:latin typeface="Cambria"/>
            </a:endParaRPr>
          </a:p>
          <a:p>
            <a:pPr indent="0" algn="just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1300" spc="-1" strike="noStrike">
                <a:solidFill>
                  <a:srgbClr val="000000"/>
                </a:solidFill>
                <a:latin typeface="Cambria"/>
              </a:rPr>
              <a:t>Мне захотелось узнать побольше о этом писателе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3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Rockwel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  <p:sndAc>
      <p:stSnd>
        <p:snd r:embed="rId2" name="click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347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mbria"/>
              </a:rPr>
              <a:t>Юные годы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56" name="Содержимое 4" descr="Conan_doyle.jpg"/>
          <p:cNvPicPr/>
          <p:nvPr/>
        </p:nvPicPr>
        <p:blipFill>
          <a:blip r:embed="rId1"/>
          <a:stretch/>
        </p:blipFill>
        <p:spPr>
          <a:xfrm>
            <a:off x="4160880" y="272880"/>
            <a:ext cx="3940200" cy="585324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692280"/>
            <a:ext cx="353844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астоящее имя писателя – 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1400" spc="-1" strike="noStrike">
                <a:solidFill>
                  <a:srgbClr val="000000"/>
                </a:solidFill>
                <a:latin typeface="Times New Roman"/>
              </a:rPr>
              <a:t>А́ртур Игна́тиус Ко́нан Дойль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  <a:p>
            <a:pPr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Родился в Эдинбурге (Шотландия) 22 мая 1859 года в семье ирландских католиков, известной своими достижениями в искусстве и литературе. Отец Чарльз Алтамонт Дойль, архитектор и художник, в возрасте 22 лет женился на 17-летней Мэри Фоули, страстно любившей книги и обладавшей большим талантом рассказчицы. 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  <a:p>
            <a:pPr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емья будущего писателя испытывала серьезные финансовые трудности . И в возрасте 9 лет богатые родственники отдали Артура в закрытый интернат, где он открыл в себе талант рассказчика и невзлюбил религиозные классовые предрассудки,  а также физические наказания. В 1876 году Артур закончил колледж и вернулся домой.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  <a:p>
            <a:pPr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ойль предпочел карьеру медика и поступил в Эдинбурский университет. Там  же он и написал свой первый рассказ. А в 1880 году он 7 месяцев плавал на китобойном корабле в качестве врача.  И получив в 1881 году университетский диплом и степень бакалавра медицин, занялся практикой.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Rockwel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  <p:sndAc>
      <p:stSnd>
        <p:snd r:embed="rId2" name="click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4402080" cy="503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mbria"/>
              </a:rPr>
              <a:t>Литературная жизнь</a:t>
            </a: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56760" y="1052640"/>
            <a:ext cx="3783240" cy="51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 феврале 1888 года А. Конан Дойль завершил работу над романом «</a:t>
            </a:r>
            <a:r>
              <a:rPr b="0" lang="ru-RU" sz="1600" spc="-1" strike="noStrike" u="sng">
                <a:solidFill>
                  <a:srgbClr val="00a3d6"/>
                </a:solidFill>
                <a:uFillTx/>
                <a:latin typeface="Times New Roman"/>
                <a:hlinkClick r:id="rId1"/>
              </a:rPr>
              <a:t>Мика Кларк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», повествовавшем о «мятеже Монмаута» 1685 года, целью которого было свержение короля </a:t>
            </a:r>
            <a:r>
              <a:rPr b="0" lang="ru-RU" sz="1600" spc="-1" strike="noStrike" u="sng">
                <a:solidFill>
                  <a:srgbClr val="00a3d6"/>
                </a:solidFill>
                <a:uFillTx/>
                <a:latin typeface="Times New Roman"/>
                <a:hlinkClick r:id="rId2"/>
              </a:rPr>
              <a:t>Якова II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. Роман увидел свет в ноябре и был тепло встречен критикой. </a:t>
            </a: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  <a:p>
            <a:pPr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ачиная с этого момента, в творческой жизни Конан Дойля возник конфликт: с одной стороны, публика и издатели требовали новых произведений о Шерлоке Холмсе; с другой — сам писатель всё более стремился получить признание как автор серьезных романов (прежде всего исторических), а также пьес и стихов. </a:t>
            </a: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  <a:p>
            <a:pPr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ервым серьезным историческим произведением Конан Дойля считается роман «</a:t>
            </a:r>
            <a:r>
              <a:rPr b="0" lang="ru-RU" sz="1600" spc="-1" strike="noStrike" u="sng">
                <a:solidFill>
                  <a:srgbClr val="00a3d6"/>
                </a:solidFill>
                <a:uFillTx/>
                <a:latin typeface="Times New Roman"/>
                <a:hlinkClick r:id="rId3"/>
              </a:rPr>
              <a:t>Белый отряд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». С некоторым допущением к разряду исторических можно отнести и роман «</a:t>
            </a:r>
            <a:r>
              <a:rPr b="0" lang="ru-RU" sz="1600" spc="-1" strike="noStrike" u="sng">
                <a:solidFill>
                  <a:srgbClr val="00a3d6"/>
                </a:solidFill>
                <a:uFillTx/>
                <a:latin typeface="Times New Roman"/>
                <a:hlinkClick r:id="rId4"/>
              </a:rPr>
              <a:t>Родни Стоун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» (1896): действие здесь происходит в начале XIX века, упоминаются </a:t>
            </a:r>
            <a:r>
              <a:rPr b="0" lang="ru-RU" sz="1600" spc="-1" strike="noStrike" u="sng">
                <a:solidFill>
                  <a:srgbClr val="00a3d6"/>
                </a:solidFill>
                <a:uFillTx/>
                <a:latin typeface="Times New Roman"/>
                <a:hlinkClick r:id="rId5"/>
              </a:rPr>
              <a:t>Наполеон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и Нельсон, драматург Шеридан. </a:t>
            </a: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61" name="Picture 4" descr="C:\Users\матвей\Desktop\Новая папка\Livanov.jpg"/>
          <p:cNvPicPr/>
          <p:nvPr/>
        </p:nvPicPr>
        <p:blipFill>
          <a:blip r:embed="rId6"/>
          <a:stretch/>
        </p:blipFill>
        <p:spPr>
          <a:xfrm>
            <a:off x="4429080" y="1143000"/>
            <a:ext cx="3429000" cy="4676760"/>
          </a:xfrm>
          <a:prstGeom prst="rect">
            <a:avLst/>
          </a:prstGeom>
          <a:ln w="0">
            <a:noFill/>
          </a:ln>
        </p:spPr>
      </p:pic>
      <p:sp>
        <p:nvSpPr>
          <p:cNvPr id="6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Rockwel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  <p:sndAc>
      <p:stSnd>
        <p:snd r:embed="rId7" name="click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3008160" cy="419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1900-1913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361008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 1900 году Конан Дойль вернулся к медицинской практике: в качестве хирурга военно-полевого госпиталя он отправился на англо-бурскую войну. Выпущенная им в 1902 году книга «Война в Южной Африке» встретила горячее одобрение консервативных кругов. 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  <a:p>
            <a:pPr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 результате его  деятельности  в 1907 году был создан в Англии апелляционный суд, которого до этого не было. 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  <a:p>
            <a:pPr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 1909 году в сферу общественных и политических интересов Конан Дойля вновь попали события в Африке. На этот раз он выступил с разоблачение жестокой колониальной политики Бельгии в Конго и подверг критике британскую позицию в этом вопросе. 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  <a:p>
            <a:pPr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 1912 году Конан Дойль опубликовал научно-фантастическую повесть «Затерянный мир» (впоследствии не раз экранизировавшуюся), за которой последовал «Отравленный пояс» (1913). Главным героем обоих произведений стал профессор Челленджер, ученый-фанатик, наделенный гротескными качествами, но при этом по-своему человечный и обаятельный. 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65" name="Picture 2" descr="C:\Users\матвей\Desktop\Новая папка\Lost_world.jpg"/>
          <p:cNvPicPr/>
          <p:nvPr/>
        </p:nvPicPr>
        <p:blipFill>
          <a:blip r:embed="rId1"/>
          <a:stretch/>
        </p:blipFill>
        <p:spPr>
          <a:xfrm>
            <a:off x="4290840" y="272880"/>
            <a:ext cx="3679920" cy="5853240"/>
          </a:xfrm>
          <a:prstGeom prst="rect">
            <a:avLst/>
          </a:prstGeom>
          <a:ln w="0">
            <a:noFill/>
          </a:ln>
        </p:spPr>
      </p:pic>
      <p:sp>
        <p:nvSpPr>
          <p:cNvPr id="6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Rockwel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  <p:sndAc>
      <p:stSnd>
        <p:snd r:embed="rId2" name="click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3008160" cy="49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mbria"/>
              </a:rPr>
              <a:t>1918-1930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79280" y="765000"/>
            <a:ext cx="4392720" cy="526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ачало Первой мировой войны полностью перевернуло жизнь Конан Дойля. Сначала он записался добровольцем на фронт, будучи уверенным, что его миссия состоит в том, чтобы подавать личный пример героизма и служения родине. После того, как это предложение было отклонено, он посвятил себя публицистике.  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  <a:p>
            <a:pPr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ачиная с 8 августа 1914 года, в лондонской «Таймс» появляются его письма на военную тему. Он предложил создать массовый боевой резерв и отряды гражданского населения для несения «службы по охране железнодорожных станций и жизненно важных объектов, помогать в возведении фортификаций и выполнять многие другие боевые задачи». У себя в Кроуборо (графство Сассекс), Дойль собственноручно занялся организацией подобных отрядов и в первый же день поставил под ружье 200 человек. В 1916 году писатель проехал по боевым позициям британских войск и посетил армии союзников. Результатом поездки явилась книга «На трех фронтах» (1916). 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  <a:p>
            <a:pPr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 1924году вышла автобиографическая книга Конан Дойля «Воспоминания и приключения». 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  <a:p>
            <a:pPr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оследним крупным произведением писателя стала научно-фантастическая повесть «Маракотова бездна» (1929).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69" name="Picture 2" descr="C:\Users\матвей\Desktop\Новая папка\WW1_TitlePicture_For_Wikipedia_Article.jpg"/>
          <p:cNvPicPr/>
          <p:nvPr/>
        </p:nvPicPr>
        <p:blipFill>
          <a:blip r:embed="rId1"/>
          <a:stretch/>
        </p:blipFill>
        <p:spPr>
          <a:xfrm>
            <a:off x="4716360" y="303120"/>
            <a:ext cx="4319640" cy="5791320"/>
          </a:xfrm>
          <a:prstGeom prst="rect">
            <a:avLst/>
          </a:prstGeom>
          <a:ln w="0">
            <a:noFill/>
          </a:ln>
        </p:spPr>
      </p:pic>
      <p:sp>
        <p:nvSpPr>
          <p:cNvPr id="7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Rockwel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  <p:sndAc>
      <p:stSnd>
        <p:snd r:embed="rId2" name="click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3008160" cy="419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mbria"/>
              </a:rPr>
              <a:t>Последние годы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765000"/>
            <a:ext cx="346716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сю вторую половину 20-х годов писатель провел в путешествиях, побывал на всех континентах, не прекращая активной публицистической деятельности.</a:t>
            </a: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  <a:p>
            <a:pPr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осле этой поездки у писателя резко подорвалось здоровье. В какой-то момент наступило улучшение, и Конан Доиль отправился в Лондон, но, увы,   ранним утром 7 июля 1930 года в своём доме в Кроуборо (Сассекс). Конан Дойль умер от сердечного приступа. </a:t>
            </a: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  <a:p>
            <a:pPr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н был похоронен неподалеку от своего садового домика. На надгробной плите по просьбе вдовы были выгравированы лишь имя писателя, дата рождения и четыре слова: </a:t>
            </a:r>
            <a:r>
              <a:rPr b="0" i="1" lang="ru-RU" sz="1600" spc="-1" strike="noStrike">
                <a:solidFill>
                  <a:srgbClr val="ffff00"/>
                </a:solidFill>
                <a:latin typeface="Times New Roman"/>
              </a:rPr>
              <a:t>Steel True, Blade Straight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(«Верен, как сталь, прям, как клинок»).</a:t>
            </a: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4067280" y="1494000"/>
            <a:ext cx="4719600" cy="3649680"/>
          </a:xfrm>
          <a:prstGeom prst="rect">
            <a:avLst/>
          </a:prstGeom>
          <a:ln w="0">
            <a:noFill/>
          </a:ln>
        </p:spPr>
      </p:pic>
      <p:sp>
        <p:nvSpPr>
          <p:cNvPr id="7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Rockwel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lus/>
    <p:sndAc>
      <p:stSnd>
        <p:snd r:embed="rId2" name="click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0T16:21:00Z</dcterms:created>
  <dc:creator>матвей</dc:creator>
  <dc:description/>
  <dc:language>en-US</dc:language>
  <cp:lastModifiedBy>LEGION</cp:lastModifiedBy>
  <dcterms:modified xsi:type="dcterms:W3CDTF">2015-01-20T11:56:38Z</dcterms:modified>
  <cp:revision>27</cp:revision>
  <dc:subject/>
  <dc:title>Презентация на тему Мой любимый писатель</dc:title>
</cp:coreProperties>
</file>