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lick.wav" ContentType="audio/x-wav"/>
  <Override PartName="/ppt/media/image7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3536-1B9B-4320-8064-8E9A615C3C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й любимый писатель</a:t>
            </a:r>
            <a:br>
              <a:rPr sz="1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Автор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Голинский Матвей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B5B-A972-42EF-8BE5-7EA9FEE3C2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дя в библиотек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на полке старинную книгу в кожаном переплёте . Взяв её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 увидел красивую над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ртур  Кона Д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ь.  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у книгу домой и начал чи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ней оказались рассказы о проницательном с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е можем помоч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ин преступник не уходил от заслуженного наказ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е захотелось узнать побольше о этом писател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6EFE-7A77-424C-83F7-21DECCD28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ные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000000"/>
                </a:solidFill>
                <a:latin typeface="Arial"/>
              </a:rPr>
              <a:t>А́ртур Игна́тиус Ко́нан Дойл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F829-879D-4660-BED9-3B67F01ED1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тературная жиз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Белый отряд». С некоторым допущением к разряду исторических можно отнести и роман «Родни Стоун» (1896): действие здесь происходит в начале XIX века, упоминаются Наполеон и Нельсон, драматург Шери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C36-C7ED-4B23-B076-57DF3D3734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0-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CD2-3D13-493A-9AC7-820E6421DF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918-19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9E20-9436-413F-B020-485C9A6A9C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2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A58D-5B68-4A75-9BB8-6D2B53BD3E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D8E-C387-4FDE-B72F-D43E9584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CDC-BEC2-44BE-B301-AE56D36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184-A7D8-4183-9354-6BE32F27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AD0-B49E-413E-A06A-6F97176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05B-8A36-475F-8111-34D89462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F98-5B4C-4DA4-A0ED-D7BEABF7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648-1105-4857-A21B-F057383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AEE-7CF1-490E-94F9-D7092A68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D77-3C4A-4032-A5A6-653AC406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D04-C236-4552-A4D4-DC2B427C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D4A-46D8-4E96-84E4-4838CC0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F9D-A45D-4ED5-9A12-BCF9E37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F636-8309-4E37-B7B0-84F51177F4D3}" type="datetime">
              <a:rPr b="0" lang="ru-RU" sz="1200" spc="-1" strike="noStrike">
                <a:solidFill>
                  <a:srgbClr val="898989"/>
                </a:solidFill>
                <a:latin typeface="Cambr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39C6-8BA6-4CF3-8B7B-E595BB8585B8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2;&#1080;&#1082;&#1072;_&#1050;&#1083;&#1072;&#1088;&#1082;&amp;action=edit&amp;redlink=1" TargetMode="External"/><Relationship Id="rId2" Type="http://schemas.openxmlformats.org/officeDocument/2006/relationships/hyperlink" Target="http://ru.wikipedia.org/wiki/&#1071;&#1082;&#1086;&#1074;_II_(&#1082;&#1086;&#1088;&#1086;&#1083;&#1100;_&#1040;&#1085;&#1075;&#1083;&#1080;&#1080;)" TargetMode="External"/><Relationship Id="rId3" Type="http://schemas.openxmlformats.org/officeDocument/2006/relationships/hyperlink" Target="http://ru.wikipedia.org/wiki/&#1041;&#1077;&#1083;&#1099;&#1081;_&#1086;&#1090;&#1088;&#1103;&#1076;" TargetMode="External"/><Relationship Id="rId4" Type="http://schemas.openxmlformats.org/officeDocument/2006/relationships/hyperlink" Target="http://ru.wikipedia.org/w/index.php?title=&#1056;&#1086;&#1076;&#1085;&#1080;_&#1057;&#1090;&#1086;&#1091;&#1085;&amp;action=edit&amp;redlink=1" TargetMode="External"/><Relationship Id="rId5" Type="http://schemas.openxmlformats.org/officeDocument/2006/relationships/hyperlink" Target="http://ru.wikipedia.org/wiki/&#1053;&#1072;&#1087;&#1086;&#1083;&#1077;&#1086;&#1085;" TargetMode="External"/><Relationship Id="rId6" Type="http://schemas.openxmlformats.org/officeDocument/2006/relationships/image" Target="../media/image4.jpe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7572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mbria"/>
              </a:rPr>
              <a:t>Мой любимый писатель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Автор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70c0"/>
                </a:solidFill>
                <a:latin typeface="Cambria"/>
              </a:rPr>
              <a:t> Голинский Матвей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, ученик 6б класса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Знакомство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2" name="Содержимое 4" descr="DSC08536.JPG"/>
          <p:cNvPicPr/>
          <p:nvPr/>
        </p:nvPicPr>
        <p:blipFill>
          <a:blip r:embed="rId1"/>
          <a:stretch/>
        </p:blipFill>
        <p:spPr>
          <a:xfrm>
            <a:off x="4214880" y="500040"/>
            <a:ext cx="3759120" cy="5638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Однажд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придя в библиотеку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на полке старинную книгу в кожаном переплёте . Взяв её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я увидел красивую надпис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Артур  Кона До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ль.  Я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нес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эту книгу домой и начал читать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В  ней оказались рассказы о проницательном с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щ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ке Шерлоке Холмсе . Он расследовал разные преступления, в которых полиция разводила руками и говорил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 «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ы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чем не можем помочь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Шерлок Холмс мог по маленькому ногтю определить кто этот человек , чем занимается , откуда  он … И поэтому н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один преступник не уходил от заслуженного наказания.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не очень понравился Шерлок Холмс за его ум и умение выстраивать логическую цепочку, а Конан Дойль стал моим любимым писателем.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Мне захотелось узнать побольше о этом писател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3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Юны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" name="Содержимое 4" descr="Conan_doyle.jpg"/>
          <p:cNvPicPr/>
          <p:nvPr/>
        </p:nvPicPr>
        <p:blipFill>
          <a:blip r:embed="rId1"/>
          <a:stretch/>
        </p:blipFill>
        <p:spPr>
          <a:xfrm>
            <a:off x="4160880" y="272880"/>
            <a:ext cx="3940200" cy="585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353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ее имя писателя –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400" spc="-1" strike="noStrike">
                <a:solidFill>
                  <a:srgbClr val="000000"/>
                </a:solidFill>
                <a:latin typeface="Times New Roman"/>
              </a:rPr>
              <a:t>А́ртур Игна́тиус Ко́нан Дой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ся в Эдинбурге (Шотландия) 22 мая 1859 года в семье ирландских католиков, известной своими достижениями в искусстве и литературе. Отец Чарльз Алтамонт Дойль, архитектор и художник, в возрасте 22 лет женился на 17-летней Мэри Фоули, страстно любившей книги и обладавшей большим талантом рассказчицы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ья будущего писателя испытывала серьезные финансовые трудности . И в возрасте 9 лет богатые родственники отдали Артура в закрытый интернат, где он открыл в себе талант рассказчика и невзлюбил религиозные классовые предрассудки,  а также физические наказания. В 1876 году Артур закончил колледж и вернулся дом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йль предпочел карьеру медика и поступил в Эдинбурский университет. Там  же он и написал свой первый рассказ. А в 1880 году он 7 месяцев плавал на китобойном корабле в качестве врача.  И получив в 1881 году университетский диплом и степень бакалавра медицин, занялся практикой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44020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Литературная жизн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1052640"/>
            <a:ext cx="37832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феврале 1888 года А. Конан Дойль завершил работу над романом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1"/>
              </a:rPr>
              <a:t>Мика Клар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повествовавшем о «мятеже Монмаута» 1685 года, целью которого было свержение корол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2"/>
              </a:rPr>
              <a:t>Якова 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Роман увидел свет в ноябре и был тепло встречен критико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иная с этого момента, в творческой жизни Конан Дойля возник конфликт: с одной стороны, публика и издатели требовали новых произведений о Шерлоке Холмсе; с другой — сам писатель всё более стремился получить признание как автор серьезных романов (прежде всего исторических), а также пьес и стихов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ым серьезным историческим произведением Конан Дойля считается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3"/>
              </a:rPr>
              <a:t>Белый отря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С некоторым допущением к разряду исторических можно отнести и роман «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4"/>
              </a:rPr>
              <a:t>Родни Стоу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 (1896): действие здесь происходит в начале XIX века, упоминаются </a:t>
            </a:r>
            <a:r>
              <a:rPr b="0" lang="ru-RU" sz="1600" spc="-1" strike="noStrike" u="sng">
                <a:solidFill>
                  <a:srgbClr val="00a3d6"/>
                </a:solidFill>
                <a:uFillTx/>
                <a:latin typeface="Times New Roman"/>
                <a:hlinkClick r:id="rId5"/>
              </a:rPr>
              <a:t>Наполе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 Нельсон, драматург Шеридан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" name="Picture 4" descr="C:\Users\матвей\Desktop\Новая папка\Livanov.jpg"/>
          <p:cNvPicPr/>
          <p:nvPr/>
        </p:nvPicPr>
        <p:blipFill>
          <a:blip r:embed="rId6"/>
          <a:stretch/>
        </p:blipFill>
        <p:spPr>
          <a:xfrm>
            <a:off x="4429080" y="1143000"/>
            <a:ext cx="3429000" cy="46767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7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1900-19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3610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0 году Конан Дойль вернулся к медицинской практике: в качестве хирурга военно-полевого госпиталя он отправился на англо-бурскую войну. Выпущенная им в 1902 году книга «Война в Южной Африке» встретила горячее одобрение консервативных кругов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езультате его  деятельности  в 1907 году был создан в Англии апелляционный суд, которого до этого не было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09 году в сферу общественных и политических интересов Конан Дойля вновь попали события в Африке. На этот раз он выступил с разоблачение жестокой колониальной политики Бельгии в Конго и подверг критике британскую позицию в этом вопросе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12 году Конан Дойль опубликовал научно-фантастическую повесть «Затерянный мир» (впоследствии не раз экранизировавшуюся), за которой последовал «Отравленный пояс» (1913). Главным героем обоих произведений стал профессор Челленджер, ученый-фанатик, наделенный гротескными качествами, но при этом по-своему человечный и обаятельный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5" name="Picture 2" descr="C:\Users\матвей\Desktop\Новая папка\Lost_world.jpg"/>
          <p:cNvPicPr/>
          <p:nvPr/>
        </p:nvPicPr>
        <p:blipFill>
          <a:blip r:embed="rId1"/>
          <a:stretch/>
        </p:blipFill>
        <p:spPr>
          <a:xfrm>
            <a:off x="4290840" y="272880"/>
            <a:ext cx="3679920" cy="58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1918-1930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39272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ало Первой мировой войны полностью перевернуло жизнь Конан Дойля. Сначала он записался добровольцем на фронт, будучи уверенным, что его миссия состоит в том, чтобы подавать личный пример героизма и служения родине. После того, как это предложение было отклонено, он посвятил себя публицистике. 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чиная с 8 августа 1914 года, в лондонской «Таймс» появляются его письма на военную тему. Он предложил создать массовый боевой резерв и отряды гражданского населения для несения «службы по охране железнодорожных станций и жизненно важных объектов, помогать в возведении фортификаций и выполнять многие другие боевые задачи». У себя в Кроуборо (графство Сассекс), Дойль собственноручно занялся организацией подобных отрядов и в первый же день поставил под ружье 200 человек. В 1916 году писатель проехал по боевым позициям британских войск и посетил армии союзников. Результатом поездки явилась книга «На трех фронтах» (1916)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1924году вышла автобиографическая книга Конан Дойля «Воспоминания и приключения»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ледним крупным произведением писателя стала научно-фантастическая повесть «Маракотова бездна» (1929)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9" name="Picture 2" descr="C:\Users\матвей\Desktop\Новая папка\WW1_TitlePicture_For_Wikipedia_Article.jpg"/>
          <p:cNvPicPr/>
          <p:nvPr/>
        </p:nvPicPr>
        <p:blipFill>
          <a:blip r:embed="rId1"/>
          <a:stretch/>
        </p:blipFill>
        <p:spPr>
          <a:xfrm>
            <a:off x="4716360" y="303120"/>
            <a:ext cx="4319640" cy="5791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4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оследние годы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34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ю вторую половину 20-х годов писатель провел в путешествиях, побывал на всех континентах, не прекращая активной публицистической деятельности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этой поездки у писателя резко подорвалось здоровье. В какой-то момент наступило улучшение, и Конан Доиль отправился в Лондон, но, увы,   ранним утром 7 июля 1930 года в своём доме в Кроуборо (Сассекс). Конан Дойль умер от сердечного приступ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ыл похоронен неподалеку от своего садового домика. На надгробной плите по просьбе вдовы были выгравированы лишь имя писателя, дата рождения и четыре слова: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Steel True, Blade Straigh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«Верен, как сталь, прям, как клинок»)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067280" y="1494000"/>
            <a:ext cx="4719600" cy="36496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Rockwel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6:21:00Z</dcterms:created>
  <dc:creator>матвей</dc:creator>
  <dc:description/>
  <dc:language>en-US</dc:language>
  <cp:lastModifiedBy>LEGION</cp:lastModifiedBy>
  <dcterms:modified xsi:type="dcterms:W3CDTF">2015-01-20T11:56:38Z</dcterms:modified>
  <cp:revision>27</cp:revision>
  <dc:subject/>
  <dc:title>Презентация на тему Мой любимый писатель</dc:title>
</cp:coreProperties>
</file>