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lick.wav" ContentType="audio/x-wav"/>
  <Override PartName="/ppt/media/image7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98E9-873F-4B2D-B2D1-113A050CEB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й любимый писатель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Автор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Голинский Матвей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C53C-D403-427D-95E1-4ADC707BE0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дя в библиоте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на полке старинную книгу в кожаном переплёте . Взяв её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красивую над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ртур  Кона Д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.  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у книгу домой и начал чи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ней оказались рассказы о проницательном 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е можем помоч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ин преступник не уходил от заслуженного наказ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захотелось узнать побольше о этом писател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6835-9744-436E-903E-7787066702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ые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000000"/>
                </a:solidFill>
                <a:latin typeface="Arial"/>
              </a:rPr>
              <a:t>А́ртур Игна́тиус Ко́нан Дойл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CB87-6ED6-420E-AAFB-328DD735F2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ературная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Белый отряд». С некоторым допущением к разряду исторических можно отнести и роман «Родни Стоун» (1896): действие здесь происходит в начале XIX века, упоминаются Наполеон и Нельсон, драматург Шери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213A-FB07-4A91-965A-04707A5829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0-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F90F-035E-4706-B55E-93CD6AA1DD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18-19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BBBD-D844-41E4-8016-9F8F8CA319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2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FAF9-7D12-454A-B965-987DCFCA61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C40-B8F7-41CA-919F-A93D1D57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0BD-4B2C-437F-B894-7FED615E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444-E2D6-43FA-82DD-511815E6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B2D-034C-4646-80FC-54574E5F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97A-B90B-4344-9CC8-5521443E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695-511A-40CA-AB66-672C6F15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D50-EDBE-4F76-9BA6-5DF552C0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5AE-BA09-41CB-BBFC-1531F38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CD9-F7E3-4C57-A93C-85300652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296-B36D-4441-B52F-B1C273D1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96D-6EA4-4853-8A51-8BBAD65E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C50-8C95-44DC-A068-A4217F9D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1ED8-4281-402B-9E79-4778B8BEEF1B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8960-F362-4B95-ADFC-C5029BC99D84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hyperlink" Target="http://ru.wikipedia.org/wiki/&#1041;&#1077;&#1083;&#1099;&#1081;_&#1086;&#1090;&#1088;&#1103;&#1076;" TargetMode="External"/><Relationship Id="rId4" Type="http://schemas.openxmlformats.org/officeDocument/2006/relationships/hyperlink" Target="http://ru.wikipedia.org/w/index.php?title=&#1056;&#1086;&#1076;&#1085;&#1080;_&#1057;&#1090;&#1086;&#1091;&#1085;&amp;action=edit&amp;redlink=1" TargetMode="External"/><Relationship Id="rId5" Type="http://schemas.openxmlformats.org/officeDocument/2006/relationships/hyperlink" Target="http://ru.wikipedia.org/wiki/&#1053;&#1072;&#1087;&#1086;&#1083;&#1077;&#1086;&#1085;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787572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Мой любимый писатель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Автор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 Голинский Матвей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накомств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Содержимое 4" descr="DSC08536.JPG"/>
          <p:cNvPicPr/>
          <p:nvPr/>
        </p:nvPicPr>
        <p:blipFill>
          <a:blip r:embed="rId1"/>
          <a:stretch/>
        </p:blipFill>
        <p:spPr>
          <a:xfrm>
            <a:off x="4214880" y="500040"/>
            <a:ext cx="375912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Однажд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придя в библиотек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на полке старинную книгу в кожаном переплёте . Взяв её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красивую надпис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Артур  Кона До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ль.  Я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эту книгу домой и начал читать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В  ней оказались рассказы о проницательном с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ы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чем не можем помоч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один преступник не уходил от заслуженного наказания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не захотелось узнать побольше о этом писател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3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Юны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Содержимое 4" descr="Conan_doyle.jpg"/>
          <p:cNvPicPr/>
          <p:nvPr/>
        </p:nvPicPr>
        <p:blipFill>
          <a:blip r:embed="rId1"/>
          <a:stretch/>
        </p:blipFill>
        <p:spPr>
          <a:xfrm>
            <a:off x="4160880" y="272880"/>
            <a:ext cx="3940200" cy="585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353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А́ртур Игна́тиус Ко́нан Дой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4402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тературная жизнь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1052640"/>
            <a:ext cx="37832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Белый отря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С некоторым допущением к разряду исторических можно отнести и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4"/>
              </a:rPr>
              <a:t>Родни Стоу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 (1896): действие здесь происходит в начале XIX века, упоминаютс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5"/>
              </a:rPr>
              <a:t>Наполе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ельсон, драматург Шеридан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4" descr="C:\Users\матвей\Desktop\Новая папка\Livanov.jpg"/>
          <p:cNvPicPr/>
          <p:nvPr/>
        </p:nvPicPr>
        <p:blipFill>
          <a:blip r:embed="rId6"/>
          <a:stretch/>
        </p:blipFill>
        <p:spPr>
          <a:xfrm>
            <a:off x="4429080" y="1143000"/>
            <a:ext cx="3429000" cy="46767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7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900-191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3610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5" name="Picture 2" descr="C:\Users\матвей\Desktop\Новая папка\Lost_world.jpg"/>
          <p:cNvPicPr/>
          <p:nvPr/>
        </p:nvPicPr>
        <p:blipFill>
          <a:blip r:embed="rId1"/>
          <a:stretch/>
        </p:blipFill>
        <p:spPr>
          <a:xfrm>
            <a:off x="4290840" y="272880"/>
            <a:ext cx="367992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1918-193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Picture 2" descr="C:\Users\матвей\Desktop\Новая папка\WW1_TitlePicture_For_Wikipedia_Article.jpg"/>
          <p:cNvPicPr/>
          <p:nvPr/>
        </p:nvPicPr>
        <p:blipFill>
          <a:blip r:embed="rId1"/>
          <a:stretch/>
        </p:blipFill>
        <p:spPr>
          <a:xfrm>
            <a:off x="4716360" y="303120"/>
            <a:ext cx="4319640" cy="5791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следни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4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67280" y="1494000"/>
            <a:ext cx="4719600" cy="3649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21:00Z</dcterms:created>
  <dc:creator>матвей</dc:creator>
  <dc:description/>
  <dc:language>en-US</dc:language>
  <cp:lastModifiedBy>LEGION</cp:lastModifiedBy>
  <dcterms:modified xsi:type="dcterms:W3CDTF">2015-01-20T11:56:38Z</dcterms:modified>
  <cp:revision>27</cp:revision>
  <dc:subject/>
  <dc:title>Презентация на тему Мой любимый писатель</dc:title>
</cp:coreProperties>
</file>