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AE5-4C1A-4095-8434-1F06799AC5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slide" Target="../slides/slide19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ок литературы в 6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вный герой рас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вана Сергеевича Турге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AFAC-FEB9-4080-A3D5-7149FF029A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ЕЙЗАЖ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 чего начинается пейзаж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 в рассказе «Бирюк» начинается с описания леса и надвигающейся г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колько моментов перехода душного вечера в грозовую ночь запечатлел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ушный жар внезапно см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DB24-9549-43D7-9BAE-34C331D043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ПРЕДЧУВСТВИЕ 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ГРОЗА ПОДЧИНЯЕТ СЕБЕ ОКРУЖАЮЩ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 внезапно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C6C6-80CA-482D-BA0E-DADA7841A3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ИНТЕРЬЕР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описание интерьер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A4A9-6C21-45B5-BC48-6322F25764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8E99-64D9-4757-AF06-41FC0FA57B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ОРТР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портрет лесник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ABBB-758C-4584-BB32-39C4F57A1A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7F22-E398-45EE-AFC4-9FCD06DAAA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астерство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080F-4538-4D8F-9861-D5EF25D4B4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Тема произвед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2. Жанр произвед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легенда; б) рассказ; в) пове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3. Кульминационная сцена произведения —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4. Суровый и нелюдимый характер Бирюка объясн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5. В отношении автора к Бирюку проявля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очувствие; б) осуждение; в) 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внение; б) антитезу; в) олицетво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7. Пейзаж в рассказах Тургенев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00C7-B30B-43DB-9872-AEE5036ED1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F2D5-8600-40F8-906F-DEA1DF6FD4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спользованный матери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 «Виртуальная школа Уроки литературы Кирилла и Мефо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в В. Ф. Уроки литературы в 6 классе. Поурочные планы. - М.: Экзамен,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шунова И.Н. , Липина Е.Ю. Тесты по русской литературе. – М.: Дрофа, 200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рет пис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ushkinmuseum.ru/pict/foto_vystavok/turgenev/turgene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ское-Лутовиново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.zvab.com/wp-content/spasskoje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писателя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2-tub.yandex.net/i?id=245410689-4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2-tub.yandex.net/i?id=193862540-05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ка книги: http://www.libex.ru/dimg/1ef2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. Типы из «Записок охотника» И.С. Тургене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ём (Эндаурова) Елизавета Меркурьевна):  http://gallerix.ru/album/Endaurova/pic/glrx-949188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едев К.В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urgenev.org.ru/art-gallery/zhizn-iskusstvo-vremya/153-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лабович А.Г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artnow.ru/img/612000/61277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др из к/х «Бирюк»: http://www.kino-teatr.ru/movie/kadr/543/838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(анимация) : http://logif.ru/publ/priroda/groza_molnii_i_dozhd/14-1-0-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4347-713E-4646-A13A-CB6A5DF7C4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сознать тему и идею цикла рассказов И.С.Тургенева «Записки охотник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ассказ «Бирюк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через пейзаж, интерьер и портрет понять характер главного геро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уровень знания учащимися текста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7BF4-9ED1-4F7E-9C20-E4E168164B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исхождение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7216-3EB8-4156-A7A1-003EB22986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ки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40-50е г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 писатель создал несколько  произведений, объединённых в один сборник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иски охотн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лые образы простых мужиков, сумевших со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принёс автору широкую изв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DA1E-7F61-47F6-8AAC-AE491E76E6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Хорь и Кали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рмолай и мельничи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иновая в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ездный лека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й сосед Ради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нодворец Овсянн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ь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жин л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сьян с Красивой Меч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рмист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онт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ирю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ва помещ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бедя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р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в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ётр Петрович Каратае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и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5B6D-2EFB-4A9F-B295-C90CF64A39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ая тема и ид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ок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каз нравственного оскудения русского дворя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Иде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тест против крепост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0D3F-432F-4103-8F60-3A60F480FE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сказ 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9FA8-6771-419E-808C-EB90AC7DCD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лесника Фому Кузьмича прозвали Бирю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ая слава шла о нём по окрестным деревням и сё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чины замкнутости и угрюмости Бирю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ли Бирюк на самом деле человеконенавистни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 ли Бирюк своему одино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а привлекают в главном гер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89C5-9B80-4229-AD94-EB1C5660A4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КОНФЛИКТ в литературном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ём заключается КОНФЛИКТ рассказа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F168-BB89-40D6-923C-83AC8310E7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3A1-DC89-4223-BCC9-6C889523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008-7F21-4D5D-98E3-AFD7AB4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C61-99BF-4A4C-8FB8-913CE524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F9F-21DD-4884-B6C6-1089D926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9B6-F645-4109-89B2-C189D974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F48-1E4A-4C1C-BF63-DD4CC3DF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2CA-DCC1-4B5B-B7C8-A7B7ED01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3F6-C476-498E-AEF2-75C13DF6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D11-254C-4AE5-B4BA-B94B7F6F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773-983C-4A66-8A5D-E56354D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023-8A85-4FDE-BEEF-F586601E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57E-B5FA-456F-8FFF-113BDE17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5F5C-FBCC-4C18-828D-76EB4C3D0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hyperlink" Target="http://www.libex.ru/dimg/1ef26.jpg" TargetMode="External"/><Relationship Id="rId6" Type="http://schemas.openxmlformats.org/officeDocument/2006/relationships/hyperlink" Target="http://gallerix.ru/album/Endaurova/pic/glrx-949188232" TargetMode="External"/><Relationship Id="rId7" Type="http://schemas.openxmlformats.org/officeDocument/2006/relationships/hyperlink" Target="http://www.turgenev.org.ru/art-gallery/zhizn-iskusstvo-vremya/153-2.jpg" TargetMode="External"/><Relationship Id="rId8" Type="http://schemas.openxmlformats.org/officeDocument/2006/relationships/hyperlink" Target="http://artnow.ru/img/612000/612770.jpg" TargetMode="External"/><Relationship Id="rId9" Type="http://schemas.openxmlformats.org/officeDocument/2006/relationships/hyperlink" Target="http://www.kino-teatr.ru/movie/kadr/543/83886.jpg" TargetMode="External"/><Relationship Id="rId10" Type="http://schemas.openxmlformats.org/officeDocument/2006/relationships/hyperlink" Target="http://logif.ru/publ/priroda/groza_molnii_i_dozhd/14-1-0-79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4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priroda3"/>
          <p:cNvPicPr/>
          <p:nvPr/>
        </p:nvPicPr>
        <p:blipFill>
          <a:blip r:embed="rId1"/>
          <a:stretch/>
        </p:blipFill>
        <p:spPr>
          <a:xfrm>
            <a:off x="6458040" y="3276720"/>
            <a:ext cx="2457360" cy="32763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1905120"/>
          <a:ext cx="6078600" cy="115884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303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30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8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6" descr="Spasskoye-Lutovinovo1"/>
          <p:cNvPicPr/>
          <p:nvPr/>
        </p:nvPicPr>
        <p:blipFill>
          <a:blip r:embed="rId1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4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ef26"/>
          <p:cNvPicPr/>
          <p:nvPr/>
        </p:nvPicPr>
        <p:blipFill>
          <a:blip r:embed="rId2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990720" y="4038480"/>
            <a:ext cx="70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7467480" y="3429000"/>
            <a:ext cx="162396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-76320" y="3505320"/>
            <a:ext cx="167652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0T12:02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