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2054-6927-4D9A-91E5-7DE4E03B5A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slide" Target="../slides/slide19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к литературы в 6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й герой рас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вана Сергеевича Турге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703-8ED4-4A71-A39A-194281697E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ЕЙЗАЖ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 чего начинается пейзаж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 в рассказе «Бирюк» начинается с описания леса и надвигающейся г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колько моментов перехода душного вечера в грозовую ночь запечатлел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ушный жар внезапно см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EC6E-5EA0-426A-BA0B-886611DDAC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ПРЕДЧУВСТВИЕ 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ГРОЗА ПОДЧИНЯЕТ СЕБЕ ОКРУЖАЮЩ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 внезапно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173D-EA5F-41D8-9B79-E5B4620CF6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ИНТЕРЬЕР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описание интерьер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4FBB-CBC6-419A-A017-D4CEE4FA9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5567-48D3-4BE6-A50D-BF84AE4EE5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ОРТР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портрет лесник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A00A-173C-46E0-BA9B-85BEF36FC1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AA95-E63D-4E03-8CBE-346F9B01E6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стерство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68AF-3A78-4737-8657-757BF04BE2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Тема произ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2. Жанр произвед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легенда; б) рассказ; в) пове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3. Кульминационная сцена произведения —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4. Суровый и нелюдимый характер Бирюка объясн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5. В отношении автора к Бирюку проявля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очувствие; б) осуждение; в) 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внение; б) антитезу; в) олицетво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7. Пейзаж в рассказах Тургенев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2A3-CA78-40E8-92E7-EDF4D326ED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4438-D646-48EB-9B2F-941F4F5BE9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ный матери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 «Виртуальная школа Уроки литературы Кирилла и Мефо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в В. Ф. Уроки литературы в 6 классе. Поурочные планы. - М.: Экзамен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шунова И.Н. , Липина Е.Ю. Тесты по русской литературе. – М.: Дрофа, 200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рет пис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ushkinmuseum.ru/pict/foto_vystavok/turgenev/turgene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ское-Лутовиново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.zvab.com/wp-content/spasskoje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писателя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2-tub.yandex.net/i?id=245410689-4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2-tub.yandex.net/i?id=193862540-05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ка книги: http://www.libex.ru/dimg/1ef2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. Типы из «Записок охотника» И.С. Тургене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ём (Эндаурова) Елизавета Меркурьевна):  http://gallerix.ru/album/Endaurova/pic/glrx-949188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едев К.В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urgenev.org.ru/art-gallery/zhizn-iskusstvo-vremya/153-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лабович А.Г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artnow.ru/img/612000/61277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др из к/х «Бирюк»: http://www.kino-teatr.ru/movie/kadr/543/838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(анимация) : http://logif.ru/publ/priroda/groza_molnii_i_dozhd/14-1-0-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C76F-36C7-4F95-83CB-444636ED4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сознать тему и идею цикла рассказов И.С.Тургенева «Записки охотник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ассказ «Бирюк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через пейзаж, интерьер и портрет понять характер главного геро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уровень знания учащимися текста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4661-170A-41C6-A742-223C78C8EE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исхождение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4749-40FE-4A26-9189-D2C35FD25D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ки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0-50е г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 писатель создал несколько  произведений, объединённых в один сборник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иски охотн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лые образы простых мужиков, сумевших со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принёс автору широкую изв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C2C6-2E1B-4E2E-80EF-66F6F5137B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Хорь и Кали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рмолай и мельничи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иновая в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ездный лека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й сосед Ради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нодворец Овсянн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ь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жин л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сьян с Красивой Меч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рмист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онт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ирю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ва помещ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бедя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р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в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ётр Петрович Каратае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и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C172-8CD3-4B24-A166-F43601C826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тема и ид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ок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каз нравственного оскудения русского дворя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Иде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тест против крепост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9B95-0B5F-47FC-ACD9-8267A3B242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сказ 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AF70-8C0E-47F9-AA35-CCC629B9EB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лесника Фому Кузьмича прозвали Бирю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ая слава шла о нём по окрестным деревням и сё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чины замкнутости и угрюмости Бирю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ли Бирюк на самом деле человеконенавистни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 ли Бирюк своему одино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а привлекают в главном гер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557F-6D46-4DEF-9380-5678F31FD0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КОНФЛИКТ в литературном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ём заключается КОНФЛИКТ рассказа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52BB-AE09-410C-A19C-E033DD3F0F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57F-B6E0-4306-A43C-8B456385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46E-E860-4596-9173-C6443DF3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23D-B8EC-486B-B82E-68BC2B7D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C9F-72D0-4E39-8F84-A3AB1D76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9D2-8B06-407F-93F1-7478FD33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084-1F4E-49D7-B176-FF8FBD9D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2A1-5492-491C-8675-48802DAF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D78-CAB5-416D-BE1E-1A3B7310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89B-AA09-4A4C-BB74-6ECDF3AF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8EE-6DBE-424C-9075-66B4E72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05A-3C7B-486A-8EA0-76261AF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9A7-699F-494C-BD5C-DFFE950A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0746-D123-4E05-8BD3-F216763D4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hyperlink" Target="http://www.libex.ru/dimg/1ef26.jpg" TargetMode="External"/><Relationship Id="rId6" Type="http://schemas.openxmlformats.org/officeDocument/2006/relationships/hyperlink" Target="http://gallerix.ru/album/Endaurova/pic/glrx-949188232" TargetMode="External"/><Relationship Id="rId7" Type="http://schemas.openxmlformats.org/officeDocument/2006/relationships/hyperlink" Target="http://www.turgenev.org.ru/art-gallery/zhizn-iskusstvo-vremya/153-2.jpg" TargetMode="External"/><Relationship Id="rId8" Type="http://schemas.openxmlformats.org/officeDocument/2006/relationships/hyperlink" Target="http://artnow.ru/img/612000/612770.jpg" TargetMode="External"/><Relationship Id="rId9" Type="http://schemas.openxmlformats.org/officeDocument/2006/relationships/hyperlink" Target="http://www.kino-teatr.ru/movie/kadr/543/83886.jpg" TargetMode="External"/><Relationship Id="rId10" Type="http://schemas.openxmlformats.org/officeDocument/2006/relationships/hyperlink" Target="http://logif.ru/publ/priroda/groza_molnii_i_dozhd/14-1-0-79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4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priroda3"/>
          <p:cNvPicPr/>
          <p:nvPr/>
        </p:nvPicPr>
        <p:blipFill>
          <a:blip r:embed="rId1"/>
          <a:stretch/>
        </p:blipFill>
        <p:spPr>
          <a:xfrm>
            <a:off x="6458040" y="3276720"/>
            <a:ext cx="2457360" cy="32763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05120"/>
          <a:ext cx="6078600" cy="115884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03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30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8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6" descr="Spasskoye-Lutovinovo1"/>
          <p:cNvPicPr/>
          <p:nvPr/>
        </p:nvPicPr>
        <p:blipFill>
          <a:blip r:embed="rId1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4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ef26"/>
          <p:cNvPicPr/>
          <p:nvPr/>
        </p:nvPicPr>
        <p:blipFill>
          <a:blip r:embed="rId2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038480"/>
            <a:ext cx="70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467480" y="3429000"/>
            <a:ext cx="162396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-76320" y="3505320"/>
            <a:ext cx="167652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0T12:02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