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9406-8024-4A18-B72F-D29CF6FB66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slide" Target="../slides/slide19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к литературы в 6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й герой рас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вана Сергеевича Турге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296F-7012-411D-8CAE-9B48D8315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ЕЙЗАЖ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 чего начинается пейзаж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 в рассказе «Бирюк» начинается с описания леса и надвигающейся г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колько моментов перехода душного вечера в грозовую ночь запечатлел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ушный жар внезапно см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7B86-1A46-400C-A35E-5D4BE5BFB5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ПРЕДЧУВСТВИЕ 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ГРОЗА ПОДЧИНЯЕТ СЕБЕ ОКРУЖАЮЩ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 внезапно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D3C7-6F22-426F-A94A-6BE3689075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ИНТЕРЬЕР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описание интерьер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C9D1-7E85-4246-93DD-971A58CC4C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561B-8692-45AB-8E4B-B5C7E3DAB3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ОРТР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портрет лесник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05D7-6398-4748-93C3-681333AF91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44EC-1679-4DD9-BA3D-66285281AF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стерство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5C47-1F30-40FB-A71F-AA5EB04718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Тема произ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2. Жанр произвед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легенда; б) рассказ; в) пове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3. Кульминационная сцена произведения —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4. Суровый и нелюдимый характер Бирюка объясн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5. В отношении автора к Бирюку проявля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очувствие; б) осуждение; в) 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внение; б) антитезу; в) олицетво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7. Пейзаж в рассказах Тургенев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A30C-D955-4BA0-8E9C-723F8A4FE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FF51-7F2C-478A-BADC-DF6E4C4EDB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ный матери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 «Виртуальная школа Уроки литературы Кирилла и Мефо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в В. Ф. Уроки литературы в 6 классе. Поурочные планы. - М.: Экзамен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шунова И.Н. , Липина Е.Ю. Тесты по русской литературе. – М.: Дрофа, 200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рет пис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ushkinmuseum.ru/pict/foto_vystavok/turgenev/turgene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ское-Лутовиново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.zvab.com/wp-content/spasskoje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писателя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2-tub.yandex.net/i?id=245410689-4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2-tub.yandex.net/i?id=193862540-05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ка книги: http://www.libex.ru/dimg/1ef2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. Типы из «Записок охотника» И.С. Тургене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ём (Эндаурова) Елизавета Меркурьевна):  http://gallerix.ru/album/Endaurova/pic/glrx-949188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едев К.В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urgenev.org.ru/art-gallery/zhizn-iskusstvo-vremya/153-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лабович А.Г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artnow.ru/img/612000/61277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др из к/х «Бирюк»: http://www.kino-teatr.ru/movie/kadr/543/838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(анимация) : http://logif.ru/publ/priroda/groza_molnii_i_dozhd/14-1-0-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416F-F3C7-468F-9F64-A2AF908CCA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сознать тему и идею цикла рассказов И.С.Тургенева «Записки охотник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ассказ «Бирюк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через пейзаж, интерьер и портрет понять характер главного геро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уровень знания учащимися текста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3962-423B-40BB-A6AA-B92892A971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исхождение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21E3-27A7-495A-9578-30B0F13349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ки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0-50е г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 писатель создал несколько  произведений, объединённых в один сборник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иски охотн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лые образы простых мужиков, сумевших со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принёс автору широкую изв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432E-83FC-42D0-9599-06C51DD78F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Хорь и Кали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рмолай и мельничи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иновая в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ездный лека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й сосед Ради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нодворец Овсянн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ь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жин л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сьян с Красивой Меч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рмист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онт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ирю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ва помещ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бедя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р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в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ётр Петрович Каратае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и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A762-6AF5-4052-AFBF-234DA491D9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тема и ид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ок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каз нравственного оскудения русского дворя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Иде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тест против крепост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FD04-5605-4A5D-8A2F-C6FF8F150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сказ 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2EA4-E231-4E04-9A15-29B291329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лесника Фому Кузьмича прозвали Бирю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ая слава шла о нём по окрестным деревням и сё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чины замкнутости и угрюмости Бирю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ли Бирюк на самом деле человеконенавистни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 ли Бирюк своему одино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а привлекают в главном гер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8294-D11C-4121-AD3C-0DE6C67E35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КОНФЛИКТ в литературном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ём заключается КОНФЛИКТ рассказа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490F-43D2-4B92-9E9B-E65574849B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505-9BA2-49A2-824A-0132ED83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CD2-D5B3-4FF6-B027-2F805D67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6F4-F72E-4667-B67A-B6004A87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C0C-FAFE-491A-9B83-13FEF211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822-6BE6-4305-87A2-E97CBAAE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FD2-04AA-4687-B787-B40D4FB2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28B-584F-4793-AAA4-5EC9C7FE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FE7-B8F0-4167-B132-4755E134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BCF-4D34-4D91-913D-13E0D44D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D29-1FD5-4D80-A84B-A6A3DBE9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7DD-2A2B-4248-B13B-373396FE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A8D-FD20-404D-A3F8-39930AD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6027-CFDE-42AA-911C-65C28F053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hyperlink" Target="http://www.libex.ru/dimg/1ef26.jpg" TargetMode="External"/><Relationship Id="rId6" Type="http://schemas.openxmlformats.org/officeDocument/2006/relationships/hyperlink" Target="http://gallerix.ru/album/Endaurova/pic/glrx-949188232" TargetMode="External"/><Relationship Id="rId7" Type="http://schemas.openxmlformats.org/officeDocument/2006/relationships/hyperlink" Target="http://www.turgenev.org.ru/art-gallery/zhizn-iskusstvo-vremya/153-2.jpg" TargetMode="External"/><Relationship Id="rId8" Type="http://schemas.openxmlformats.org/officeDocument/2006/relationships/hyperlink" Target="http://artnow.ru/img/612000/612770.jpg" TargetMode="External"/><Relationship Id="rId9" Type="http://schemas.openxmlformats.org/officeDocument/2006/relationships/hyperlink" Target="http://www.kino-teatr.ru/movie/kadr/543/83886.jpg" TargetMode="External"/><Relationship Id="rId10" Type="http://schemas.openxmlformats.org/officeDocument/2006/relationships/hyperlink" Target="http://logif.ru/publ/priroda/groza_molnii_i_dozhd/14-1-0-79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4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priroda3"/>
          <p:cNvPicPr/>
          <p:nvPr/>
        </p:nvPicPr>
        <p:blipFill>
          <a:blip r:embed="rId1"/>
          <a:stretch/>
        </p:blipFill>
        <p:spPr>
          <a:xfrm>
            <a:off x="6458040" y="3276720"/>
            <a:ext cx="2457360" cy="32763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05120"/>
          <a:ext cx="6078600" cy="115884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03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30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8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6" descr="Spasskoye-Lutovinovo1"/>
          <p:cNvPicPr/>
          <p:nvPr/>
        </p:nvPicPr>
        <p:blipFill>
          <a:blip r:embed="rId1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4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ef26"/>
          <p:cNvPicPr/>
          <p:nvPr/>
        </p:nvPicPr>
        <p:blipFill>
          <a:blip r:embed="rId2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038480"/>
            <a:ext cx="70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467480" y="3429000"/>
            <a:ext cx="162396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-76320" y="3505320"/>
            <a:ext cx="167652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0T12:02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