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wmf" ContentType="image/x-wmf"/>
  <Override PartName="/ppt/media/image3.jpeg" ContentType="image/jpeg"/>
  <Override PartName="/ppt/media/image7.jpeg" ContentType="image/jpeg"/>
  <Override PartName="/ppt/media/image15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E687C-77DC-47DB-BCCC-AAFED64DE39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slide" Target="../slides/slide19.xml"/><Relationship Id="rId6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рок литературы в 6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вный герой рас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вана Сергеевича Турген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7274-3052-40F3-81C5-20C5F32ED9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ЕЙЗАЖ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 чего начинается пейзаж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 в рассказе «Бирюк» начинается с описания леса и надвигающейся гроз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Сколько моментов перехода душного вечера в грозовую ночь запечатлел автор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Душный жар внезапно см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2582D-2310-498A-AEBC-6E067BCD9C1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ейзаж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ПРЕДЧУВСТВИЕ 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ГРОЗА ПОДЧИНЯЕТ СЕБЕ ОКРУЖАЮЩУЮ ПРИРО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ны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 внезапно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нился влажным холодом; тени быстро густе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6B321-7CAC-40F5-A633-8EFF1C5E44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ИНТЕРЬЕР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описание интерьер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0AE2-A972-4B3E-872F-89FB5510D3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нтерьер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0883-5F8F-490B-A570-3B6873BE34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Что такое ПОРТРЕТ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Какую роль он играет в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Calibri"/>
              </a:rPr>
              <a:t>Найдите портрет лесника в рассказе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3508-DA67-427E-B0B2-86CF8A65F0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ортрет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E378-4795-4DC4-9C40-744AE5E87C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Мастерство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FF679-B538-47DD-87F3-8830D16801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Тема произведе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2. Жанр произведения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легенда; б) рассказ; в) пове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3. Кульминационная сцена произведения — эт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4. Суровый и нелюдимый характер Бирюка объясн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5. В отношении автора к Бирюку проявляет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очувствие; б) осуждение; в) безразлич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внение; б) антитезу; в) олицетво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800000"/>
                </a:solidFill>
                <a:latin typeface="Calibri"/>
              </a:rPr>
              <a:t>7. Пейзаж в рассказах Тургенев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4044F-9A9C-4E80-AFAD-708EC0A1DF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верь себ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D548-CCC8-442C-B5CC-81933B6840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Использованный материа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 «Виртуальная школа Уроки литературы Кирилла и Мефод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ов В. Ф. Уроки литературы в 6 классе. Поурочные планы. - М.: Экзамен, 200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шунова И.Н. , Липина Е.Ю. Тесты по русской литературе. – М.: Дрофа, 200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рет писател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pushkinmuseum.ru/pict/foto_vystavok/turgenev/turgenev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ское-Лутовиново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blog.zvab.com/wp-content/spasskoje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писателя: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im2-tub.yandex.net/i?id=245410689-42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im2-tub.yandex.net/i?id=193862540-05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ка книги: http://www.libex.ru/dimg/1ef2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люстраци. Типы из «Записок охотника» И.С. Тургене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Бём (Эндаурова) Елизавета Меркурьевна):  http://gallerix.ru/album/Endaurova/pic/glrx-9491882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едев К.В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turgenev.org.ru/art-gallery/zhizn-iskusstvo-vremya/153-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лабович А.Г. Иллюстрации к «Запискам охотника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artnow.ru/img/612000/612770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др из к/х «Бирюк»: http://www.kino-teatr.ru/movie/kadr/543/83886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оза (анимация) : http://logif.ru/publ/priroda/groza_molnii_i_dozhd/14-1-0-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D266-76E6-417A-91AB-ABADF4F5C0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Цель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сознать тему и идею цикла рассказов И.С.Тургенева «Записки охотника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ассказ «Бирюк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через пейзаж, интерьер и портрет понять характер главного геро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ь уровень знания учащимися текста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5BE2-5EC0-4068-A6C7-7C6071FE63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Происхождение пис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28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C84C3-2A19-46DC-A836-12B9EA3F8B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ки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40-50е год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I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ка писатель создал несколько  произведений, объединённых в один сборник «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иски охотн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етлые образы простых мужиков, сумевших сохрани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ник принёс автору широкую извест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B3A9-5172-46A7-A77A-F96F52CC1C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Хорь и Калины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Ермолай и мельничи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иновая вод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ездный лека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й сосед Радил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днодворец Овсянник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ьг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жин луг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сьян с Красивой Меч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урмист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онт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ирю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ва помещ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бедян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ерт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евц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ётр Петрович Каратае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ид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06C0-C1D5-4327-BEFB-6CA6FCB332B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ая тема и ид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"Записок охотника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Тем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оказ нравственного оскудения русского дворя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800000"/>
                </a:solidFill>
                <a:uFillTx/>
                <a:latin typeface="Calibri"/>
              </a:rPr>
              <a:t>Иде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отест против крепост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1F96-772D-4D3A-9134-AE4D07EC36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Рассказ "Бирюк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905C-FF97-407C-848D-AB5271B645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чему лесника Фому Кузьмича прозвали Бирю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ая слава шла о нём по окрестным деревням и сёл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овы причины замкнутости и угрюмости Бирю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ыл ли Бирюк на самом деле человеконенавистник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 ли Бирюк своему одино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а привлекают в главном геро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AB3B9-5727-4774-91BC-18982D5A4FD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онфликт рассказ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такое КОНФЛИКТ в литературном произведе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чём заключается КОНФЛИКТ рассказа «Бирюк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13A7A-856C-491C-83E8-9478682AAA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FEDF-566A-474B-BDCF-EA6BF8A74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CE32-BA50-4681-AF80-09BDEDFA1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B37D-2CC4-49F3-9CD8-DFC479FC3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5AA-2BA2-40F1-A837-A80E11D2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24AB-F5CD-474E-A538-D5A3326B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676B-8C40-422F-85EB-CBBA7A29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C73-CA6C-4683-ACE4-F564F5B9A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A5C7-F7DC-4E1F-B076-6D688BC0C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7DC-DE28-45E0-B53E-01E93804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D83-B9A8-478C-A609-3A884157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8E5F-3113-45A8-BCB3-BD83BD86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FBB8-3F54-4F13-AC5B-F42B6057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A97A-66E8-4B92-B41C-252C7361EA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pushkinmuseum.ru/pict/foto_vystavok/turgenev/turgenev.jpg" TargetMode="External"/><Relationship Id="rId2" Type="http://schemas.openxmlformats.org/officeDocument/2006/relationships/hyperlink" Target="http://blog.zvab.com/wp-content/spasskoje2.jpg" TargetMode="External"/><Relationship Id="rId3" Type="http://schemas.openxmlformats.org/officeDocument/2006/relationships/hyperlink" Target="http://im2-tub.yandex.net/i?id=245410689-42-72" TargetMode="External"/><Relationship Id="rId4" Type="http://schemas.openxmlformats.org/officeDocument/2006/relationships/hyperlink" Target="http://im2-tub.yandex.net/i?id=193862540-05-72" TargetMode="External"/><Relationship Id="rId5" Type="http://schemas.openxmlformats.org/officeDocument/2006/relationships/hyperlink" Target="http://www.libex.ru/dimg/1ef26.jpg" TargetMode="External"/><Relationship Id="rId6" Type="http://schemas.openxmlformats.org/officeDocument/2006/relationships/hyperlink" Target="http://gallerix.ru/album/Endaurova/pic/glrx-949188232" TargetMode="External"/><Relationship Id="rId7" Type="http://schemas.openxmlformats.org/officeDocument/2006/relationships/hyperlink" Target="http://www.turgenev.org.ru/art-gallery/zhizn-iskusstvo-vremya/153-2.jpg" TargetMode="External"/><Relationship Id="rId8" Type="http://schemas.openxmlformats.org/officeDocument/2006/relationships/hyperlink" Target="http://artnow.ru/img/612000/612770.jpg" TargetMode="External"/><Relationship Id="rId9" Type="http://schemas.openxmlformats.org/officeDocument/2006/relationships/hyperlink" Target="http://www.kino-teatr.ru/movie/kadr/543/83886.jpg" TargetMode="External"/><Relationship Id="rId10" Type="http://schemas.openxmlformats.org/officeDocument/2006/relationships/hyperlink" Target="http://logif.ru/publ/priroda/groza_molnii_i_dozhd/14-1-0-79" TargetMode="Externa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Автор презентаци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Печказова Светлана Петровн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учитель литературы МБОУ «Лицей №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aur"/>
              </a:rPr>
              <a:t>Чамзинского района Республики Мордов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3"/>
          <p:cNvSpPr/>
          <p:nvPr/>
        </p:nvSpPr>
        <p:spPr>
          <a:xfrm>
            <a:off x="0" y="0"/>
            <a:ext cx="2590920" cy="2819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14"/>
          <p:cNvSpPr txBox="1"/>
          <p:nvPr/>
        </p:nvSpPr>
        <p:spPr>
          <a:xfrm>
            <a:off x="990720" y="2590920"/>
            <a:ext cx="73818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Урок литературы в 6 классе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Главный герой рассказ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вана Сергеевича Тургенева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533520" y="1828800"/>
            <a:ext cx="8153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йзаж в рассказе «Бирюк» начинается с описания леса и надвигающейся гроз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ЕЙЗАЖ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 чего начинается пейзаж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609480" y="259092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Сколько моментов перехода душного вечера в грозовую ночь запечатлел автор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04920" y="335268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304920" y="45720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Душный жар внезапно сменился влажным холодом; тени быстро густ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304920" y="5257440"/>
            <a:ext cx="601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priroda3"/>
          <p:cNvPicPr/>
          <p:nvPr/>
        </p:nvPicPr>
        <p:blipFill>
          <a:blip r:embed="rId1"/>
          <a:stretch/>
        </p:blipFill>
        <p:spPr>
          <a:xfrm>
            <a:off x="6458040" y="3276720"/>
            <a:ext cx="2457360" cy="327636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556 L 0.34896 -0.00556 E">
                                      <p:cBhvr>
                                        <p:cTn id="9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ейзаж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80880" y="11430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ПРЕДЧУВСТВИЕ ГР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380880" y="1600200"/>
            <a:ext cx="846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оза надвигалась. Впереди огромная лиловая туча медленно поднималась из-за леса; надо мною и мне навстречу неслись длинные серые облака; ракиты тревожно шевелились и лепета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304920" y="3276720"/>
            <a:ext cx="84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ный жар внезапно сменился влажным холодом; тени быстро густе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457200" y="548532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ьный ветер внезапно загудел в вышине, деревья забушевали, крупные капли дождя резко застучали, зашлепали по листьям, сверкнула молния, и гроза разразилась. Дождь полил ручь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57200" y="27432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ГРОЗА ПОДЧИНЯЕТ СЕБЕ ОКРУЖАЮЩУЮ ПРИРО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533520" y="411480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ЦАРСТВО ГРОЗЫ.  ГРОЗА В РАССКАЗЕ - ОБРАЗ, СИМВОЛ, ЭТО НЕ ПРОСТО ЯВЛЕНИЕ ПРИРОДЫ: БИРЮК - ГРОЗА ВОРОВ. ГРОЗА - ЭТО ПСИХОЛОГИЧЕСКОЕ СОСТОЯНИЕ МУЖИКА, ЕГО СТРАХ, ОТЧАЯНИЕ, ПЕРЕШЕДШИЕ В ГН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0" name="Oval 3"/>
          <p:cNvSpPr/>
          <p:nvPr/>
        </p:nvSpPr>
        <p:spPr>
          <a:xfrm>
            <a:off x="4495680" y="2133720"/>
            <a:ext cx="4419720" cy="41148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ИНТЕРЬЕР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описание интерьер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304920" y="2209680"/>
            <a:ext cx="4190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ба лесника состояла из одной комнаты, закоптелой, низкой и пустой, без полатей и перегородок. Изорванный тулуп висел на стене. На лавке лежало одноствольное ружьё, в углу валялась груда тряпок; два больших горшка стояли возле печки. Лучина горела на столе, печально вспыхивая и погасая. На самой середине избы висела люлька, привязанная к концу длинного ш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нтерьер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2362320" y="914400"/>
            <a:ext cx="41148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4572000"/>
            <a:ext cx="8458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ание жилища многое добавляет к портрету героя. Обстановка избы Бирюка, «закоптелой, низкой, пустой», говорит о его бедности, убогости и одновременно - честности. Среди этой нищеты теплится жизнь двух маленьких детей лесника. Изображение детей настраивает читателя на сострадание и жалость к леснику, жизнь которого трагична и безжалост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457200" y="2590920"/>
            <a:ext cx="4343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был высокого роста, плечист и сложен на славу. Из-под мокрой замашной рубашки выпукло выставлялись его могучие мышцы. Чёрная курчавая борода закрывала до половины его суровое и мужественное лицо; из-под сросшихся широких бровей смело глядели небольшие карие гл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533520" y="838080"/>
            <a:ext cx="8092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Что такое ПОРТРЕТ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ую роль он играет в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Найдите портрет лесника в рассказе «Бирюк»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4952880" y="1981080"/>
            <a:ext cx="3733920" cy="4648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990720"/>
            <a:ext cx="8153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ми портрет нелюдимого и замкнутого человека, которого таким сделало положение лесника, ненависть мужиков, уход жены, оставившей ему двух маленьких детей, и одиноч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ако Тургенев считает, что человек, любящий природу, близкий к ней, не может озлобиться на жизнь. Именно слитность с природой и внутреннюю красоту своего героя подчёркивает ав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3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ортрет в рассказе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2057400" y="2895480"/>
            <a:ext cx="5029200" cy="3733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Мастерство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38" name="Oval 5"/>
          <p:cNvSpPr/>
          <p:nvPr/>
        </p:nvSpPr>
        <p:spPr>
          <a:xfrm>
            <a:off x="3124080" y="762120"/>
            <a:ext cx="2895840" cy="33526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457200" y="4038480"/>
            <a:ext cx="8381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.С.Тургенев считал, что красота - единственная бессмертная вещь, она разлита повсюду, простирает своё влияние даже над смертью, но нигде не сияет так ярко, как в человеческой душ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ой писатель наделял и природу. Красоте и гармонии природы в рассказе противопоставлена зловещая и мёртвая сила, враждебная и человеку - крепостное право. Но эта сила не способна уничтожить душу и человеч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380880" y="974880"/>
            <a:ext cx="85345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Тема произвед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жизнь Бирюка; б) взаимоотношения отца и дочери; в) тяжёлая жизнь русских крепостных лю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2. Жанр произведения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легенда; б) рассказ; в) пове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3. Кульминационная сцена произведения — эт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писание избы лесника; б) рассказ пойманного мужика о своей жизни; в) неожиданный гнев крестья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4. Суровый и нелюдимый характер Бирюка объясн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отношением к нему окружающих; б) обманом жены; в) пониманием истинных мотивов, заставляющих мужиков воров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5. В отношении автора к Бирюку проявляетс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очувствие; б) осуждение; в) безразли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6. При описании грозы («... ракиты тревожно шевелились и лепетали», «облака неслись») автор использует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сравнение; б) антитезу; в) олице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7. Пейзаж в рассказах Тургенев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а) только фон, на котором происходит действие; б) соотносится с душевным состоянием автора и героев; в) противопоставляется этому состоя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верь себ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523880" y="1905120"/>
          <a:ext cx="6078600" cy="1158840"/>
        </p:xfrm>
        <a:graphic>
          <a:graphicData uri="http://schemas.openxmlformats.org/drawingml/2006/table">
            <a:tbl>
              <a:tblPr/>
              <a:tblGrid>
                <a:gridCol w="868320"/>
                <a:gridCol w="868680"/>
                <a:gridCol w="868320"/>
                <a:gridCol w="868320"/>
                <a:gridCol w="868320"/>
                <a:gridCol w="868320"/>
                <a:gridCol w="86832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Rectangle 303"/>
          <p:cNvSpPr/>
          <p:nvPr/>
        </p:nvSpPr>
        <p:spPr>
          <a:xfrm>
            <a:off x="0" y="394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430"/>
          <p:cNvSpPr/>
          <p:nvPr/>
        </p:nvSpPr>
        <p:spPr>
          <a:xfrm>
            <a:off x="2590920" y="3124080"/>
            <a:ext cx="3886200" cy="35053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5"/>
          <p:cNvSpPr/>
          <p:nvPr/>
        </p:nvSpPr>
        <p:spPr>
          <a:xfrm>
            <a:off x="380880" y="99072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к «Виртуальная школа Уроки литературы Кирилла и Мефод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тов В. Ф. Уроки литературы в 6 классе. Поурочные планы. - М.: Экзамен, 200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шунова И.Н. , Липина Е.Ю. Тесты по русской литературе. – М.: Дрофа, 20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рет писател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ushkinmuseum.ru/pict/foto_vystavok/turgenev/turgenev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асское-Лутовиново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blog.zvab.com/wp-content/spasskoje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дители писателя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im2-tub.yandex.net/i?id=245410689-42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2-tub.yandex.net/i?id=193862540-05-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ложка книги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libex.ru/dimg/1ef2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люстраци. Типы из «Записок охотника» И.С. Турген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ём (Эндаурова) Елизавета Меркурьевна): 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gallerix.ru/album/Endaurova/pic/glrx-9491882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бедев К.В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turgenev.org.ru/art-gallery/zhizn-iskusstvo-vremya/153-2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лабович А.Г. Иллюстрации к «Запискам охотника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artnow.ru/img/612000/61277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др из к/х «Бирюк»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kino-teatr.ru/movie/kadr/543/83886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оза (анимация) :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logif.ru/publ/priroda/groza_molnii_i_dozhd/14-1-0-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8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Использованный материал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8"/>
          <p:cNvSpPr txBox="1"/>
          <p:nvPr/>
        </p:nvSpPr>
        <p:spPr>
          <a:xfrm>
            <a:off x="2057400" y="457200"/>
            <a:ext cx="494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Цель урока: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762120" y="1828800"/>
            <a:ext cx="769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осознать тему и идею цикла рассказов И.С.Тургенева «Записки охотника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анализировать рассказ «Бирюк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учащимся через пейзаж, интерьер и портрет понять характер главного геро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 algn="just">
              <a:buClr>
                <a:srgbClr val="8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явить уровень знания учащимися текста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457200" y="1219320"/>
            <a:ext cx="830592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цу Иван Сергеевич Тургенев принадлежал к старинному дворянскому роду, мать, урожденная Лутовинова, — богатая помещи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ё имении Спасское-Лутовиново (Мценский уезд Орловской губернии) прошли детские годы будущего писателя, рано научившегося тонко чувствовать природу и ненавидеть крепостное прав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WordArt 5"/>
          <p:cNvSpPr txBox="1"/>
          <p:nvPr/>
        </p:nvSpPr>
        <p:spPr>
          <a:xfrm>
            <a:off x="1219320" y="457200"/>
            <a:ext cx="6629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Происхождение писателя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6" descr="Spasskoye-Lutovinovo1"/>
          <p:cNvPicPr/>
          <p:nvPr/>
        </p:nvPicPr>
        <p:blipFill>
          <a:blip r:embed="rId1"/>
          <a:srcRect l="0" t="2782" r="0" b="8333"/>
          <a:stretch/>
        </p:blipFill>
        <p:spPr>
          <a:xfrm>
            <a:off x="1981080" y="3886200"/>
            <a:ext cx="5105520" cy="2438280"/>
          </a:xfrm>
          <a:prstGeom prst="rect">
            <a:avLst/>
          </a:prstGeom>
          <a:ln w="0">
            <a:noFill/>
          </a:ln>
        </p:spPr>
      </p:pic>
      <p:sp>
        <p:nvSpPr>
          <p:cNvPr id="58" name="Oval 7"/>
          <p:cNvSpPr/>
          <p:nvPr/>
        </p:nvSpPr>
        <p:spPr>
          <a:xfrm>
            <a:off x="380880" y="3657600"/>
            <a:ext cx="1905120" cy="2666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8"/>
          <p:cNvSpPr/>
          <p:nvPr/>
        </p:nvSpPr>
        <p:spPr>
          <a:xfrm>
            <a:off x="6781680" y="3581280"/>
            <a:ext cx="1905120" cy="2667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1981080" y="3200400"/>
            <a:ext cx="53928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Трудно представить себе более непохожих людей, чем родители будущего пис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306360" y="632448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гей Никола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6557400" y="6248520"/>
            <a:ext cx="217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арвара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l 4"/>
          <p:cNvSpPr/>
          <p:nvPr/>
        </p:nvSpPr>
        <p:spPr>
          <a:xfrm>
            <a:off x="228600" y="1066680"/>
            <a:ext cx="1905120" cy="25909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WordArt 5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057400" y="114300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чти всю жизнь Иван Сергеевич Тургенев провёл в Европе, лишь ненадолго приезжая в Россию. Однако лучшие свои произведения он посвятил русским людям и русской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40-50е год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I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а писатель создал несколько  произведений, объединённых в один сборник «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писки охотн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Темы рассказов сборника многообразны: здесь и описание помещиков, угнетающих крепостных крестьян,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лые образы простых мужиков, сумевших сохран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365760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броту и искренность в нечеловеческих условиях, и поверья, сказки русского народа, и, конечно же, прекрасные картины природы средней полосы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всех рассказах присутствует один и тот же герой - Пётр Петрович, дворянин из села Спасское. Он рассказывает о случаях, происходивших с ним во время охоты. Тургенев наделил своего рассказчика тонкой наблюдательностью, особым чувством прекрасного, что помогает точнее и колоритнее передать читателю различные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орник принёс автору широкую извест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1ef26"/>
          <p:cNvPicPr/>
          <p:nvPr/>
        </p:nvPicPr>
        <p:blipFill>
          <a:blip r:embed="rId2"/>
          <a:srcRect l="0" t="5178" r="0" b="7893"/>
          <a:stretch/>
        </p:blipFill>
        <p:spPr>
          <a:xfrm>
            <a:off x="7297560" y="4038480"/>
            <a:ext cx="1846440" cy="23623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28600" y="914400"/>
            <a:ext cx="3657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Хорь и Калиныч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Ермолай и мельничи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алиновая в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Уездный л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Мой сосед Радил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Однодворец Овсянник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ьг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ежин луг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асьян с Красивой Меч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урмист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тор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Бирю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ва помещ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бедя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мерт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евц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ётр Петрович Карата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видани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962520" y="91440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Татьяна Борисовна и её племян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Гамлет Щигровского уез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ртопханов и Недопюскин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Конец Чекртопхан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Живые мощ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Стучи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Лес и степ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ки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3" name="Oval 8"/>
          <p:cNvSpPr/>
          <p:nvPr/>
        </p:nvSpPr>
        <p:spPr>
          <a:xfrm>
            <a:off x="4267080" y="2971800"/>
            <a:ext cx="4343400" cy="3886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5"/>
          <p:cNvSpPr txBox="1"/>
          <p:nvPr/>
        </p:nvSpPr>
        <p:spPr>
          <a:xfrm>
            <a:off x="1219320" y="304920"/>
            <a:ext cx="66294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Основная тема и идея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"Записок охотника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09480" y="1752480"/>
            <a:ext cx="7940880" cy="25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ажение простого русского народа, крепостных крестьян, оценка их высоких духовных и нравственных качест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каз нравственного оскудения русского дворя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800000"/>
                </a:solidFill>
                <a:uFillTx/>
                <a:latin typeface="Arial"/>
              </a:rPr>
              <a:t>Иде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тест против крепостного пра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8"/>
          <p:cNvSpPr/>
          <p:nvPr/>
        </p:nvSpPr>
        <p:spPr>
          <a:xfrm>
            <a:off x="3200400" y="3962520"/>
            <a:ext cx="2743200" cy="25905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9"/>
          <p:cNvSpPr/>
          <p:nvPr/>
        </p:nvSpPr>
        <p:spPr>
          <a:xfrm>
            <a:off x="6095880" y="4114800"/>
            <a:ext cx="2743200" cy="2590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0"/>
          <p:cNvSpPr/>
          <p:nvPr/>
        </p:nvSpPr>
        <p:spPr>
          <a:xfrm>
            <a:off x="304920" y="3962520"/>
            <a:ext cx="2743200" cy="25905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6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Рассказ "Бирюк"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09480" y="1066680"/>
            <a:ext cx="809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 «Бирюк» был написан в 1847 г. Создавая это произведение, Тургенев опирался на собственные впечатления о жизни крестьян в Орловской губернии. В имении матери жил лесник Бирюк, которого свои же крестьяне убили однажды в лесу. Эту историю писатель вложил в уста своего рассказчика Петра Петровича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3"/>
          <p:cNvSpPr/>
          <p:nvPr/>
        </p:nvSpPr>
        <p:spPr>
          <a:xfrm>
            <a:off x="3124080" y="3124080"/>
            <a:ext cx="2590920" cy="2286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5"/>
          <p:cNvSpPr/>
          <p:nvPr/>
        </p:nvSpPr>
        <p:spPr>
          <a:xfrm>
            <a:off x="609480" y="26668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Arial"/>
              </a:rPr>
              <a:t>Как вы понимаете значение слова БИРЮК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838080" y="5334120"/>
            <a:ext cx="746784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Бирюк - угрюмый, мрачный, нелюдимый, одинокий  человек, имеющий хмурый, сумрачный ви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Толковый словарь русского языка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.Н. Ушаков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09480" y="1066680"/>
            <a:ext cx="8093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чему лесника Фому Кузьмича прозвали Бирю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слава шла о нём по окрестным деревням и сёла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овы причины замкнутости и угрюмости Бирю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ыл ли Бирюк на самом деле человеконенавистнико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д ли Бирюк своему одиночест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ие черты характера привлекают в главном геро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533520" y="5638680"/>
            <a:ext cx="7924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ирюк - главный герой рассказа, лесник, которого так прозвали местные жители за угрюмость и нелюдимость - оказался, вопреки своему прозвищу, милосердным и добрым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7"/>
          <p:cNvSpPr/>
          <p:nvPr/>
        </p:nvSpPr>
        <p:spPr>
          <a:xfrm>
            <a:off x="2971800" y="3048120"/>
            <a:ext cx="2971800" cy="2514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8"/>
          <p:cNvSpPr/>
          <p:nvPr/>
        </p:nvSpPr>
        <p:spPr>
          <a:xfrm>
            <a:off x="2362320" y="2895480"/>
            <a:ext cx="4190760" cy="37339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3"/>
          <p:cNvSpPr/>
          <p:nvPr/>
        </p:nvSpPr>
        <p:spPr>
          <a:xfrm>
            <a:off x="609480" y="1981080"/>
            <a:ext cx="80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 такое КОНФЛИКТ в литературном произведени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609480" y="1066680"/>
            <a:ext cx="80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основе любого литературного произведения лежит конфликт, которому подчиняется развитие сюже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990720" y="4038480"/>
            <a:ext cx="702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чём заключается КОНФЛИКТ рассказа «Бирюк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33520" y="4952880"/>
            <a:ext cx="8076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фликт рассказа «Бирюк» - внутри самого главного героя. Его чувство долга вступает в противоречие с сочувствием и бедственным положением «вора». В конечном итоге побеждает чувство жалости и сострад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57200" y="2590920"/>
            <a:ext cx="8093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ОНФЛИКТ в литературном произведении - это противоборство, противоречие между действующими силами: характерами нескольких героев или различными сторонами характера одного геро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5"/>
          <p:cNvSpPr/>
          <p:nvPr/>
        </p:nvSpPr>
        <p:spPr>
          <a:xfrm>
            <a:off x="7467480" y="3429000"/>
            <a:ext cx="162396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2"/>
          <p:cNvSpPr txBox="1"/>
          <p:nvPr/>
        </p:nvSpPr>
        <p:spPr>
          <a:xfrm>
            <a:off x="1219320" y="304920"/>
            <a:ext cx="6629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993300"/>
                </a:solidFill>
                <a:latin typeface="Times New Roman"/>
              </a:rPr>
              <a:t>Конфликт рассказа </a:t>
            </a:r>
            <a:endParaRPr b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993300"/>
              </a:solidFill>
              <a:latin typeface="Times New Roman"/>
              <a:ea typeface="Times New Roman"/>
            </a:endParaRPr>
          </a:p>
        </p:txBody>
      </p:sp>
      <p:sp>
        <p:nvSpPr>
          <p:cNvPr id="100" name="Oval 10"/>
          <p:cNvSpPr/>
          <p:nvPr/>
        </p:nvSpPr>
        <p:spPr>
          <a:xfrm>
            <a:off x="-76320" y="3505320"/>
            <a:ext cx="1676520" cy="1523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381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20T12:02:31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