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A60F-AB42-40F7-83AF-83CE2EB7C8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«Иваново-Эсинская общеобразовательная школа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вровского района Владимирской обла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   литературы в 11 классе на те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Шолохов – человек 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сатель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русского языка 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рко Наталья Анатолье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77C0-53D5-45C8-9D93-3508E0C2637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Александрович и Мария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F3AC-D272-46C0-9264-9ECAFC97043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с вн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7CD3-37B8-4591-B372-786391E703F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 жи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F59E-853A-4E44-8040-0ED10DEED1D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-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5F1A-9967-4A87-911B-E17513B7552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творческого пу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ная деятельность писателя началась в 1923 году, с публикаций фельетонов в газетах Начиная с 1924 г. в журналах появляются рассказы Шолохова, объединённые впоследствии в сборники «Донские рассказы» и «Лазоревая степь» (1926). Темы ранних рассказов – гражданская война на Дону, ожесточенная классовая борьба, место человека в социальных сдвигах, происходивших в деревне. Первые рассказы «Нахалёнок», «Председатель Реввоенсовета республики» (1925), «Чужая кровь» (1926), «Червоточина» (1926). После войны Шолохов опубликовал ряд публицистических произведений: «Слово о Родине», «Борьба продолжается» (1948), «Свет и мрак» (1949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произведений Шолохова — простые трудящиеся люди. Их думы, печали и радости, их стремление к счастью и  справедливости,  их  борьба  за  новую жизнь неизменно интересуют художника. Писатель написал немало замечательных произ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28FE-5E92-45D1-B6CB-DD46CE9DF69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есть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«Судьба челове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вести «Судьба человека» (1956) впервые поднята тема военнопленных в Великой Отечественной войне. Сквозной жизнеутверждающий мотив рассказа - вера в доброе, человеческое, социально-прогрессивное, утверждение подвига. Повесть была написана, чтобы напомнить о тех ужасах, которые больше не должны повториться. В небольшом по объему произведении перед читателями проходит жизнь героя, вобравшая в себя судьбу стр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FF49-53C3-4EEE-9035-6739F38A069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 главного геро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Соколов — советский человек, мирный труженик, ненавидящий войну, отнявшую у него всю семью, счастье, надежду на лучшее. Оставшись одиноким, Соколов не утратил человечность, он смог разглядеть и пригреть около себя бездомного мальчика. Писатель заканчивает рассказ уверенностью в том, что около плеча Андрея Соколова поднимется новый человек, готовый преодолеть любые испытания судьбы. Творчество Шолохова оценено по достоинств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8ADE-8739-43CE-AA3F-B5DA4F70BDF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ма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Они сражались за Родину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43 году Шолохов начал работу над романом «Они сражались за Родину». Произведение повествует о тяжелых днях отступления под натиском мощной военной машины Германии, о смертельной схватке под Сталинградом, переломившей весь ход войны. Шолохов  поставил целью изобразить подвиг народа в Отечественной вой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DD8C-4562-4DC6-983D-A6FEBDF9CC6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… вся фронтовая жизнь –подвиг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мане «Они сражались за Родину» глубоко раскрыт русский национальный характер, ярко проявившийся в дни тяжелых испытаний. Героизм русских людей в романе лишен внешне блестящего проявления и предстает перед нами в ратных буднях трагически, а порой и комически. Такое изображение войны приводит читателя к выводу, что героическое не в отдельных подвигах советских солдат, а что вся фронтовая жизнь — подви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F5F6-DA87-42B9-A1AF-77F127DCCB2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ма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однятая целина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 посвящён великому перелому, который произошёл в деревне в годы коллективизаци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. Основа романа – изображение процесса идейной переделки и воспитания трудящихся в духе социализма под руководством Коммунистической пар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D212-88A9-49F8-B310-345BC61C77D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DCA6-9DA2-46DF-A464-5ABAC4C5E91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ая книга романа (193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во всю силу звучал пафос социальных преобразований, крушения старых форм собственности, трудного становления новых общественных отношений. Типичные образы коммунистов Давыдова,  Размётнова и Нагульнова, их яркие, глубоко индивидуализированные характеры помогли раскрыть смысл важнейших исторических событий, участниками и творцами которых являются герои романа, осознавшие цель своей жизни в служении великому народному дел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9068-2FA1-4D7C-9E53-668454E8540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книга романа (19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с захватывающим лиризмом звучит "поэзия чувств». Отсюда и своеобразие сюжетных решений: внешняя замедленность действия, обилие рассказов героев о себе, пространные беседы, повышенное внимание к отношениям, в которых раскрываются интимные чувства. Умение видеть в жизни и ярко воссоздавать в искусстве не только трагическое, но и смешное составляет одну из самых драгоценных черт таланта Шолох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31F4-CA6C-47CE-A816-5416ACDD860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амых замечательных персонажей романа, дед Щукарь, переворачивает односторонне серьёзный смысл происходящего, сначала показывая смешные стороны страшной борьбы, но в тоже время Шолохов показывает переживания ге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FDA0-2601-4AAB-A336-BA2358D6563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-эпопея «Тихий До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ую и мировую известность Шолохову принёс роман «Тихий Дон» (тт. 1-3, 1927—1928, т. 4 1940 г.) о донском казачестве в Первой мировой и Гражданской войнах. Героем романа стал народ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69BC-EEF6-40A3-AA0E-402ABA9216CA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 Григория Мелех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горий – центральная личность в семье Мелеховых, и трагедия его судьбы переплетается с трагедией его близких, родных. На войне он видит кровь, насилие, жестокость. Постоянные политические метания, душевные муки и любовные испытания изранили душу героя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3958-B14C-4F95-A17D-990722EF26A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 Аксиньи Астах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инья пронесла любовь к Григорию через всю свою трудную, исковерканную жизнь. Жизнь без Григория, без любви была для Аксиньи невыносима. Яркая, порывистая, самоотверженная Аксинья остаётся надолго в памяти чит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A5CA-D6EF-422F-AE52-1739FE50A8F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Второй мировой войны «Тихий Дон» был переведён на европейские языки и приобрёл популярность на Западе, а после войны переведён на восточные языки и нашёл широкого читателя также и на востоке, в том числе в Яп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FD1B-2DDB-43A4-BA5A-1DBBE7AD85F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луги М.А. Шолох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лохов - депутат Верховного Совета СССР 1-9-го созывов. С 1934 он член правления СП СССР. Член Всемирного Совета Мира. Почётный доктор филологических наук Ростовского и Лейпцигского университетов, почётный доктор права Сент-Андрусского университета. Награжден 4 орденами Ленина, 2 другими орденами, а также медалями, иностранным орденом. Лауреат Нобелевской премии (1965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50FC-1A74-4850-8C44-C548C725763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отивам произведений Шолохова сняты фильмы. За первую и вторую книги «Поднятой целины»  писатель  был  удостоен 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0  году  Ленинской  пр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0D5B-D7B1-49AA-8CBD-F80A869C4FE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65 г. в Стокгольме Михаилу Александровичу Шолохову была вручена Нобелевская премия за роман «Тихий Дон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292C-1B9F-4C83-88D6-96CB973759F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Александрович Шолохов родился в 1905 г. в хуторе Кружилином станицы Вёшенской Донецкого округа в трудовой семь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1367-3C45-46CE-8CE8-B564309E98D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Михаилу Шолохову на набережной реки Дон в городе Ростове-на-Д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14F1-9DF2-421A-AA11-7BE22071799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Александр Михайлович Шолохов был приказчиком, управляющим паровой мельницы. Мать – Анастасия Даниловна Черникова – дочь крепостного крестьянина, пришедшего на Дон с Черниговщ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184A-20B1-44D6-9749-0FD2D9F41C1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5 ноября 19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лся Шолохов сначала в церковноприходской школе, а затем до 1918 г. в гимназии. В связи с началом Первой Мировой, а затем и Гражданской войны, получил лишь четыре класса образования. В 15 лет записался добровольцем в ряды Красной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5354-2257-434D-AD05-3EE77788294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. Шолохову 20 л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20 г. служил и мыкался по донской земле. Чтобы прокормиться работал грузчиком, разнорабочим, каменщиком. Долго был продработником. Гонялся за бандами. Так будущий писатель познавал жизнь, участвуя в борьбе народа, накапливая огромный запас наблюдений, щедро обогативший его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AA20-7FB1-4AC6-B7C5-AA19348579A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падный фронт, 19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оды Великой Отечественной войны Шолохов — деятельный  участник  бор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ского народа против фашистских захватч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D737-DB08-4A05-9779-16030A1100A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Шолохов военный корреспондент «Правды». 194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Великую Отечественную войну писатель был военным корреспондентом. Он видел разгром фашистов под Сталингра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1E42-C8F7-4DF5-9D3E-2D8868A66B5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ому времени он женился и стал жить в семье своего тестя, редактора областной газеты. Там с 1926 по 1938 годы у него родились старшая дочь Светлана, старший сын Александр, сын Михаил и дочь М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A172-79A3-481A-B465-87B34023985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729-9B37-4D40-806C-3CE705A2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CFC-19D1-4874-BCB4-A36A2C05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C17-2C77-4271-9408-9A39A81D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35C5-FD68-4BD8-A104-7F4078B9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416D-7F55-4C38-B8E7-01EDD76B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CE15-F407-48BE-A48A-B6019A97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A0F7-061C-4C5B-B1B4-BCBDE380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0E3C-80AC-40C4-B0B0-27E5FEE6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C25B-C360-455C-9ACC-4F7D28E7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8E2B-B521-4A7C-801B-827CED94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EC01-7FEF-49A4-84A0-1D45A0CA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AAF7-1E91-4B9B-B3A9-B91E828B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781F-C5E1-4BED-BC0A-0CA8ABC3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5410-ED07-4A94-A58E-7E5A43C4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A993-EEF9-4B9F-86A3-4082E99E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0876-F3A8-490A-8535-D50C75B2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D729-1075-4A80-A7A4-FE82EC82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A79E-138C-4145-88D2-09D22D0A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85706-6167-4B62-A4BF-B5EF981F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7D75E-E8D9-47EE-B236-5FF7C8BD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AC39C-6E1D-4B5E-8CB1-4F0F0C46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0940B-E06D-48E3-A777-F9953B0D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FB0-354E-4220-8EEA-D6EAFACD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E2D5-963E-4DB6-95AC-5C3DA745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42995-E9CD-4357-AD3B-D928D1FB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6CBCA-F302-4D2B-B6E4-0F157718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5D1CD-9F18-4070-9B0F-8AFB5661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D7043-BA14-4D8E-A4D9-8772730E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1341F-524E-4141-A9CB-C9F7EDEF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209A-1AB4-48AA-B5C1-1DB4F2E9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B841D-9F11-4DFB-931E-D4AC2368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1E865-D22F-48E2-8C93-EE91973E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92A7C-E6E1-41B1-BB9F-77B2056A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E80-9558-4431-8A05-8D383732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5EF9C-6836-46A0-9BD7-A18D7EE6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3F68C-F963-451D-94FC-368C8116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E3462-9C53-4B5B-AAC7-6F317344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57EFD-DF69-476A-B5F5-081B0058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A8DAC-6582-4DA5-A9CC-CA80EBFC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E344B-9FE8-4EB8-B1D5-C647D5A8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F023F-405E-4BF7-9FEE-710D2C1B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67158-F9CD-4671-8ED5-D3D8CABD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5F1BA-A999-43EA-81CF-5ACCCC5B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2A2-241A-48C3-B24E-64F9A0DD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B66-3F67-4236-94B9-19D3E979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936-A6B0-494C-A96F-418D3C58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CC8-667C-46BA-A256-7350A8DF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0F6-852F-4B0C-9FEF-C59DDC70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0140-EF02-460E-AB24-A3BA9DA2A8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13EC-64C9-4A8D-869B-7A09B95720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12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12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D4A9-6DE1-4448-8C7A-B00F820C38E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174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204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5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206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207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208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17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0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8FBC-A117-4A95-95BA-89DB0DAB2D52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У «Иваново-Эсинская общеобразовательная школа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вровского района Владимирской об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51280" y="1412640"/>
            <a:ext cx="4788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Презентация к уроку    литературы в 11 классе на тему: 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«Шолохов – человек и</a:t>
            </a: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писатель»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Выполнила: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учитель русского языка и 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литературы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Бырко Наталья Анатольевна.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333300"/>
                </a:solidFill>
                <a:latin typeface="Arial"/>
              </a:rPr>
              <a:t>2007 год.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3" name="Picture 7" descr="200px-Sholokhov-1938"/>
          <p:cNvPicPr/>
          <p:nvPr/>
        </p:nvPicPr>
        <p:blipFill>
          <a:blip r:embed="rId1"/>
          <a:stretch/>
        </p:blipFill>
        <p:spPr>
          <a:xfrm>
            <a:off x="1258920" y="1484280"/>
            <a:ext cx="2952720" cy="37432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05120" y="549360"/>
            <a:ext cx="72388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Михаил Александрович и Мария Петровн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8" name="Picture 21" descr="img148"/>
          <p:cNvPicPr/>
          <p:nvPr/>
        </p:nvPicPr>
        <p:blipFill>
          <a:blip r:embed="rId1"/>
          <a:stretch/>
        </p:blipFill>
        <p:spPr>
          <a:xfrm>
            <a:off x="5003640" y="1773360"/>
            <a:ext cx="3240360" cy="4464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2" descr="img138"/>
          <p:cNvPicPr/>
          <p:nvPr/>
        </p:nvPicPr>
        <p:blipFill>
          <a:blip r:embed="rId2"/>
          <a:stretch/>
        </p:blipFill>
        <p:spPr>
          <a:xfrm>
            <a:off x="684360" y="1773360"/>
            <a:ext cx="3365280" cy="439236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987280" y="549360"/>
            <a:ext cx="3675240" cy="103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Шолохов с внукам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2" name="Picture 7" descr="img152"/>
          <p:cNvPicPr/>
          <p:nvPr/>
        </p:nvPicPr>
        <p:blipFill>
          <a:blip r:embed="rId1"/>
          <a:stretch/>
        </p:blipFill>
        <p:spPr>
          <a:xfrm>
            <a:off x="611280" y="1916280"/>
            <a:ext cx="3547800" cy="4546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img144"/>
          <p:cNvPicPr/>
          <p:nvPr/>
        </p:nvPicPr>
        <p:blipFill>
          <a:blip r:embed="rId2"/>
          <a:stretch/>
        </p:blipFill>
        <p:spPr>
          <a:xfrm>
            <a:off x="4859280" y="1916280"/>
            <a:ext cx="3537000" cy="453528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02920" y="260280"/>
            <a:ext cx="417996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бщественная жизн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6" name="Picture 6" descr="img145"/>
          <p:cNvPicPr/>
          <p:nvPr/>
        </p:nvPicPr>
        <p:blipFill>
          <a:blip r:embed="rId1"/>
          <a:stretch/>
        </p:blipFill>
        <p:spPr>
          <a:xfrm>
            <a:off x="5219640" y="836640"/>
            <a:ext cx="3635280" cy="5400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img145"/>
          <p:cNvPicPr/>
          <p:nvPr/>
        </p:nvPicPr>
        <p:blipFill>
          <a:blip r:embed="rId2"/>
          <a:stretch/>
        </p:blipFill>
        <p:spPr>
          <a:xfrm>
            <a:off x="250920" y="1557360"/>
            <a:ext cx="2735280" cy="2149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img146"/>
          <p:cNvPicPr/>
          <p:nvPr/>
        </p:nvPicPr>
        <p:blipFill>
          <a:blip r:embed="rId3"/>
          <a:stretch/>
        </p:blipFill>
        <p:spPr>
          <a:xfrm>
            <a:off x="1835280" y="4005360"/>
            <a:ext cx="3190680" cy="22334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0"/>
          <p:cNvSpPr/>
          <p:nvPr/>
        </p:nvSpPr>
        <p:spPr>
          <a:xfrm>
            <a:off x="179280" y="4365720"/>
            <a:ext cx="1584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Шолохов среди земляко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3059280" y="1700280"/>
            <a:ext cx="2016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Шолохов и первый секретарь Вёшенского райкома КПСС Н.А. Булавин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4821120" y="6338880"/>
            <a:ext cx="432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исатель – частый гость хлеборобов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cc"/>
                </a:solidFill>
                <a:latin typeface="Times New Roman"/>
              </a:rPr>
              <a:t>Шолохов - писатель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056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Начало творческого пути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388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Литературная деятельность писателя началась в 1923 году, с публикаций фельетонов в газетах Начиная с 1924 г. в журналах появляются рассказы Шолохова, объединённые впоследствии в сборники «Донские рассказы» и «Лазоревая степь» (1926). Темы ранних рассказов – гражданская война на Дону, ожесточенная классовая борьба, место человека в социальных сдвигах, происходивших в деревне. Первые рассказы «Нахалёнок», «Председатель Реввоенсовета республики» (1925), «Чужая кровь» (1926), «Червоточина» (1926). После войны Шолохов опубликовал ряд публицистических произведений: «Слово о Родине», «Борьба продолжается» (1948), «Свет и мрак» (1949)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ерои произведений Шолохова — простые трудящиеся люди. Их думы, печали и радости, их стремление к счастью и  справедливости,  их  борьба  за  новую жизнь неизменно интересуют художника. Писатель написал немало замечательных произведени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овесть 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«Судьба человека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повести «Судьба человека» (1956) впервые поднята тема военнопленных в Великой Отечественной войне. Сквозной жизнеутверждающий мотив рассказа - вера в доброе, человеческое, социально-прогрессивное, утверждение подвига. Повесть была написана, чтобы напомнить о тех ужасах, которые больше не должны повториться. В небольшом по объему произведении перед читателями проходит жизнь героя, вобравшая в себя судьбу страны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браз главного героя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427640" y="1915920"/>
            <a:ext cx="45194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Андрей Соколов — советский человек, мирный труженик, ненавидящий войну, отнявшую у него всю семью, счастье, надежду на лучшее. Оставшись одиноким, Соколов не утратил человечность, он смог разглядеть и пригреть около себя бездомного мальчика. Писатель заканчивает рассказ уверенностью в том, что около плеча Андрея Соколова поднимется новый человек, готовый преодолеть любые испытания судьбы. Творчество Шолохова оценено по достоинству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3" name="Picture 8" descr="img134"/>
          <p:cNvPicPr/>
          <p:nvPr/>
        </p:nvPicPr>
        <p:blipFill>
          <a:blip r:embed="rId1"/>
          <a:stretch/>
        </p:blipFill>
        <p:spPr>
          <a:xfrm>
            <a:off x="324000" y="1893960"/>
            <a:ext cx="3989160" cy="405612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77052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оман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«Они сражались за Родину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439236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1943 году Шолохов начал работу над романом «Они сражались за Родину». Произведение повествует о тяжелых днях отступления под натиском мощной военной машины Германии, о смертельной схватке под Сталинградом, переломившей весь ход войны. Шолохов  поставил целью изобразить подвиг народа в Отечественной войн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7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4932360" y="1773360"/>
            <a:ext cx="3726000" cy="46926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«… вся фронтовая жизнь –подвиг»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00720" y="2060640"/>
            <a:ext cx="434016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романе «Они сражались за Родину» глубоко раскрыт русский национальный характер, ярко проявившийся в дни тяжелых испытаний. Героизм русских людей в романе лишен внешне блестящего проявления и предстает перед нами в ратных буднях трагически, а порой и комически. Такое изображение войны приводит читателя к выводу, что героическое не в отдельных подвигах советских солдат, а что вся фронтовая жизнь — подвиг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1" name="Picture 7" descr="Они сражались за родину"/>
          <p:cNvPicPr/>
          <p:nvPr/>
        </p:nvPicPr>
        <p:blipFill>
          <a:blip r:embed="rId1"/>
          <a:stretch/>
        </p:blipFill>
        <p:spPr>
          <a:xfrm>
            <a:off x="468360" y="1844640"/>
            <a:ext cx="3805200" cy="425124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70520" cy="118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Роман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«Поднятая целина».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55640" y="1915920"/>
            <a:ext cx="424800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оман посвящён великому перелому, который произошёл в деревне в годы коллективизации 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х. Основа романа – изображение процесса идейной переделки и воспитания трудящихся в духе социализма под руководством Коммунистической парт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5" name="Picture 7" descr="1000338244"/>
          <p:cNvPicPr/>
          <p:nvPr/>
        </p:nvPicPr>
        <p:blipFill>
          <a:blip r:embed="rId1"/>
          <a:stretch/>
        </p:blipFill>
        <p:spPr>
          <a:xfrm>
            <a:off x="5508720" y="1773360"/>
            <a:ext cx="3203640" cy="454968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564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ffcc"/>
                </a:solidFill>
                <a:latin typeface="Times New Roman"/>
              </a:rPr>
              <a:t>       </a:t>
            </a:r>
            <a:r>
              <a:rPr b="0" lang="ru-RU" sz="9600" spc="-1" strike="noStrike">
                <a:solidFill>
                  <a:srgbClr val="ccffcc"/>
                </a:solidFill>
                <a:latin typeface="Times New Roman"/>
              </a:rPr>
              <a:t>Биография 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43960" cy="111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ервая книга романа (1932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00720" y="1700280"/>
            <a:ext cx="431928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Здесь во всю силу звучал пафос социальных преобразований, крушения старых форм собственности, трудного становления новых общественных отношений. Типичные образы коммунистов Давыдова,  Размётнова и Нагульнова, их яркие, глубоко индивидуализированные характеры помогли раскрыть смысл важнейших исторических событий, участниками и творцами которых являются герои романа, осознавшие цель своей жизни в служении великому народному делу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9" name="Picture 9" descr="сканирование0004"/>
          <p:cNvPicPr/>
          <p:nvPr/>
        </p:nvPicPr>
        <p:blipFill>
          <a:blip r:embed="rId1"/>
          <a:stretch/>
        </p:blipFill>
        <p:spPr>
          <a:xfrm>
            <a:off x="611280" y="1484280"/>
            <a:ext cx="3671640" cy="496908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торая книга романа (1959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61680" y="1904760"/>
            <a:ext cx="412596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ней с захватывающим лиризмом звучит "поэзия чувств». Отсюда и своеобразие сюжетных решений: внешняя замедленность действия, обилие рассказов героев о себе, пространные беседы, повышенное внимание к отношениям, в которых раскрываются интимные чувства. Умение видеть в жизни и ярко воссоздавать в искусстве не только трагическое, но и смешное составляет одну из самых драгоценных черт таланта Шолохов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3" name="Picture 9" descr="сканирование0003"/>
          <p:cNvPicPr/>
          <p:nvPr/>
        </p:nvPicPr>
        <p:blipFill>
          <a:blip r:embed="rId1"/>
          <a:stretch/>
        </p:blipFill>
        <p:spPr>
          <a:xfrm>
            <a:off x="5219640" y="1916280"/>
            <a:ext cx="3381480" cy="426060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Один из самых замечательных персонажей романа, дед Щукарь, переворачивает односторонне серьёзный смысл происходящего, сначала показывая смешные стороны страшной борьбы, но в тоже время Шолохов показывает переживания героя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56" name="Picture 6" descr="роро"/>
          <p:cNvPicPr/>
          <p:nvPr/>
        </p:nvPicPr>
        <p:blipFill>
          <a:blip r:embed="rId1"/>
          <a:stretch/>
        </p:blipFill>
        <p:spPr>
          <a:xfrm>
            <a:off x="826920" y="1773360"/>
            <a:ext cx="7129800" cy="468000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ман-эпопея «Тихий Дон»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оссийскую и мировую известность Шолохову принёс роман «Тихий Дон» (тт. 1-3, 1927—1928, т. 4 1940 г.) о донском казачестве в Первой мировой и Гражданской войнах. Героем романа стал народ.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0" name="Picture 6" descr="img143"/>
          <p:cNvPicPr/>
          <p:nvPr/>
        </p:nvPicPr>
        <p:blipFill>
          <a:blip r:embed="rId1"/>
          <a:stretch/>
        </p:blipFill>
        <p:spPr>
          <a:xfrm>
            <a:off x="324000" y="1700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7"/>
          <p:cNvSpPr/>
          <p:nvPr/>
        </p:nvSpPr>
        <p:spPr>
          <a:xfrm>
            <a:off x="755640" y="4797360"/>
            <a:ext cx="252252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Дом в Вешенской, где Шолохов работал над «Тихим Доном»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6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1308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Образ Григория Мелехова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427280" y="1557000"/>
            <a:ext cx="43923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ригорий – центральная личность в семье Мелеховых, и трагедия его судьбы переплетается с трагедией его близких, родных. На войне он видит кровь, насилие, жестокость. Постоянные политические метания, душевные муки и любовные испытания изранили душу героя.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5" name="Picture 9" descr="img133"/>
          <p:cNvPicPr/>
          <p:nvPr/>
        </p:nvPicPr>
        <p:blipFill>
          <a:blip r:embed="rId1"/>
          <a:stretch/>
        </p:blipFill>
        <p:spPr>
          <a:xfrm>
            <a:off x="250920" y="1557360"/>
            <a:ext cx="3844800" cy="503856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Образ Аксиньи Астаховой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ксинья пронесла любовь к Григорию через всю свою трудную, исковерканную жизнь. Жизнь без Григория, без любви была для Аксиньи невыносима. Яркая, порывистая, самоотверженная Аксинья остаётся надолго в памяти читате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9" name="Picture 7" descr="ошог"/>
          <p:cNvPicPr/>
          <p:nvPr/>
        </p:nvPicPr>
        <p:blipFill>
          <a:blip r:embed="rId1"/>
          <a:stretch/>
        </p:blipFill>
        <p:spPr>
          <a:xfrm>
            <a:off x="4791240" y="1905120"/>
            <a:ext cx="4022640" cy="4763880"/>
          </a:xfrm>
          <a:prstGeom prst="rect">
            <a:avLst/>
          </a:prstGeom>
          <a:ln w="0">
            <a:noFill/>
          </a:ln>
        </p:spPr>
      </p:pic>
      <p:sp>
        <p:nvSpPr>
          <p:cNvPr id="37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20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о время Второй мировой войны «Тихий Дон» был переведён на европейские языки и приобрёл популярность на Западе, а после войны переведён на восточные языки и нашёл широкого читателя также и на востоке, в том числе в Япони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Заслуги М.А. Шолохова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419724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Шолохов - депутат Верховного Совета СССР 1-9-го созывов. С 1934 он член правления СП СССР. Член Всемирного Совета Мира. Почётный доктор филологических наук Ростовского и Лейпцигского университетов, почётный доктор права Сент-Андрусского университета. Награжден 4 орденами Ленина, 2 другими орденами, а также медалями, иностранным орденом. Лауреат Нобелевской премии (1965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5" name="Picture 10" descr="img152"/>
          <p:cNvPicPr/>
          <p:nvPr/>
        </p:nvPicPr>
        <p:blipFill>
          <a:blip r:embed="rId1"/>
          <a:stretch/>
        </p:blipFill>
        <p:spPr>
          <a:xfrm>
            <a:off x="5076720" y="1628640"/>
            <a:ext cx="3768840" cy="495324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8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мотивам произведений Шолохова сняты фильмы. За первую и вторую книги «Поднятой целины»  писатель  был  удостоен  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960  году  Ленинской  преми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8" name="Picture 7" descr="img147"/>
          <p:cNvPicPr/>
          <p:nvPr/>
        </p:nvPicPr>
        <p:blipFill>
          <a:blip r:embed="rId1"/>
          <a:stretch/>
        </p:blipFill>
        <p:spPr>
          <a:xfrm>
            <a:off x="250920" y="2122560"/>
            <a:ext cx="4221000" cy="335124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2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965 г. в Стокгольме Михаилу Александровичу Шолохову была вручена Нобелевская премия за роман «Тихий Дон»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" name="Picture 7" descr="срмр"/>
          <p:cNvPicPr/>
          <p:nvPr/>
        </p:nvPicPr>
        <p:blipFill>
          <a:blip r:embed="rId1"/>
          <a:stretch/>
        </p:blipFill>
        <p:spPr>
          <a:xfrm>
            <a:off x="4572000" y="1989000"/>
            <a:ext cx="4124160" cy="397044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97128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ихаил Александрович Шолохов родился в 1905 г. в хуторе Кружилином станицы Вёшенской Донецкого округа в трудовой семь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8" name="Picture 21" descr="img155"/>
          <p:cNvPicPr/>
          <p:nvPr/>
        </p:nvPicPr>
        <p:blipFill>
          <a:blip r:embed="rId1"/>
          <a:stretch/>
        </p:blipFill>
        <p:spPr>
          <a:xfrm>
            <a:off x="5219640" y="1484280"/>
            <a:ext cx="2836800" cy="48942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7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00360" y="2491920"/>
            <a:ext cx="3809880" cy="27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мятник Михаилу Шолохову на набережной реки Дон в городе Ростове-на-Дон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4" name="Picture 7" descr="150px-Sholochov_Monument_Rostov-on-Don"/>
          <p:cNvPicPr/>
          <p:nvPr/>
        </p:nvPicPr>
        <p:blipFill>
          <a:blip r:embed="rId1"/>
          <a:stretch/>
        </p:blipFill>
        <p:spPr>
          <a:xfrm>
            <a:off x="826920" y="1557360"/>
            <a:ext cx="2800440" cy="503856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ru-RU" sz="4800" spc="-1" strike="noStrike">
                <a:solidFill>
                  <a:srgbClr val="ffffcc"/>
                </a:solidFill>
                <a:latin typeface="Times New Roman"/>
              </a:rPr>
              <a:t>Родители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тец – Александр Михайлович Шолохов был приказчиком, управляющим паровой мельницы. Мать – Анастасия Даниловна Черникова – дочь крепостного крестьянина, пришедшего на Дон с Черниговщины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2" name="Picture 10" descr="img139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3456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1"/>
          <p:cNvSpPr/>
          <p:nvPr/>
        </p:nvSpPr>
        <p:spPr>
          <a:xfrm>
            <a:off x="755640" y="5589720"/>
            <a:ext cx="3313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Шолохов с родителями (1912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56360" y="6165360"/>
            <a:ext cx="187488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15 ноября 1923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чился Шолохов сначала в церковноприходской школе, а затем до 1918 г. в гимназии. В связи с началом Первой Мировой, а затем и Гражданской войны, получил лишь четыре класса образования. В 15 лет записался добровольцем в ряды Красной Арм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7" name="Picture 18" descr="img140"/>
          <p:cNvPicPr/>
          <p:nvPr/>
        </p:nvPicPr>
        <p:blipFill>
          <a:blip r:embed="rId1"/>
          <a:stretch/>
        </p:blipFill>
        <p:spPr>
          <a:xfrm>
            <a:off x="4500720" y="836640"/>
            <a:ext cx="3095640" cy="2463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img141"/>
          <p:cNvPicPr/>
          <p:nvPr/>
        </p:nvPicPr>
        <p:blipFill>
          <a:blip r:embed="rId2"/>
          <a:stretch/>
        </p:blipFill>
        <p:spPr>
          <a:xfrm>
            <a:off x="5508720" y="3429000"/>
            <a:ext cx="3384360" cy="27478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0"/>
          <p:cNvSpPr/>
          <p:nvPr/>
        </p:nvSpPr>
        <p:spPr>
          <a:xfrm>
            <a:off x="7812000" y="1197000"/>
            <a:ext cx="101124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Годы учёбы в гимназии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1640" y="6021000"/>
            <a:ext cx="2595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. Шолохову 20 лет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00360" y="1557360"/>
            <a:ext cx="4268520" cy="45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1920 г. служил и мыкался по донской земле. Чтобы прокормиться работал грузчиком, разнорабочим, каменщиком. Долго был продработником. Гонялся за бандами. Так будущий писатель познавал жизнь, участвуя в борьбе народа, накапливая огромный запас наблюдений, щедро обогативший его творчеств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3" name="Picture 6" descr="img149"/>
          <p:cNvPicPr/>
          <p:nvPr/>
        </p:nvPicPr>
        <p:blipFill>
          <a:blip r:embed="rId1"/>
          <a:stretch/>
        </p:blipFill>
        <p:spPr>
          <a:xfrm>
            <a:off x="684360" y="1628640"/>
            <a:ext cx="3552840" cy="42465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580000" y="3428640"/>
            <a:ext cx="23796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Западный фронт, 194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годы Великой Отечественной войны Шолохов — деятельный  участник  борьб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оветского народа против фашистских захватчиков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7" name="Picture 8" descr="img135"/>
          <p:cNvPicPr/>
          <p:nvPr/>
        </p:nvPicPr>
        <p:blipFill>
          <a:blip r:embed="rId1"/>
          <a:stretch/>
        </p:blipFill>
        <p:spPr>
          <a:xfrm>
            <a:off x="5148360" y="1125360"/>
            <a:ext cx="3502080" cy="2246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img138"/>
          <p:cNvPicPr/>
          <p:nvPr/>
        </p:nvPicPr>
        <p:blipFill>
          <a:blip r:embed="rId2"/>
          <a:stretch/>
        </p:blipFill>
        <p:spPr>
          <a:xfrm>
            <a:off x="5003640" y="4076640"/>
            <a:ext cx="3600720" cy="227664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03640" y="5960880"/>
            <a:ext cx="331488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Шолохов военный корреспондент «Правды». 194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65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сю Великую Отечественную войну писатель был военным корреспондентом. Он видел разгром фашистов под Сталинградо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2" name="Picture 7" descr="img151"/>
          <p:cNvPicPr/>
          <p:nvPr/>
        </p:nvPicPr>
        <p:blipFill>
          <a:blip r:embed="rId1"/>
          <a:stretch/>
        </p:blipFill>
        <p:spPr>
          <a:xfrm>
            <a:off x="4932360" y="1413000"/>
            <a:ext cx="3456000" cy="44622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2420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 тому времени он женился и стал жить в семье своего тестя, редактора областной газеты. Там с 1926 по 1938 годы у него родились старшая дочь Светлана, старший сын Александр, сын Михаил и дочь Мар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5" name="Picture 11" descr="img139"/>
          <p:cNvPicPr/>
          <p:nvPr/>
        </p:nvPicPr>
        <p:blipFill>
          <a:blip r:embed="rId1"/>
          <a:stretch/>
        </p:blipFill>
        <p:spPr>
          <a:xfrm>
            <a:off x="324000" y="2133720"/>
            <a:ext cx="4392360" cy="388764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5:44:48Z</dcterms:created>
  <dc:creator>Родной</dc:creator>
  <dc:description/>
  <dc:language>en-US</dc:language>
  <cp:lastModifiedBy>LEGION</cp:lastModifiedBy>
  <dcterms:modified xsi:type="dcterms:W3CDTF">2015-01-20T12:03:51Z</dcterms:modified>
  <cp:revision>16</cp:revision>
  <dc:subject/>
  <dc:title>МОУ «Иваново-Эсинская общеобразовательная школа»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150000000000010250300207f7000400038000</vt:lpwstr>
  </property>
</Properties>
</file>