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7CB0-DB32-4E64-96D9-4EB7F06E7F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«Иваново-Эсинская общеобразовательная школа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вровского района Владимирской обла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   литературы в 11 классе на те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Шолохов – человек 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сатель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русского языка 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рко Наталья Анатолье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7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9E7D-84C7-4BB9-B5B0-795C9318BA3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Александрович и Мария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9A0A-7673-45A7-AFEF-BE4567A9EEC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с вн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A749-4933-4BDC-9733-86744BC0038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 жи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6539-1BA5-4980-A134-E2D8BB6D109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-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3197-9A5A-4F37-899A-179EF5111A9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творческого пу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ная деятельность писателя началась в 1923 году, с публикаций фельетонов в газетах Начиная с 1924 г. в журналах появляются рассказы Шолохова, объединённые впоследствии в сборники «Донские рассказы» и «Лазоревая степь» (1926). Темы ранних рассказов – гражданская война на Дону, ожесточенная классовая борьба, место человека в социальных сдвигах, происходивших в деревне. Первые рассказы «Нахалёнок», «Председатель Реввоенсовета республики» (1925), «Чужая кровь» (1926), «Червоточина» (1926). После войны Шолохов опубликовал ряд публицистических произведений: «Слово о Родине», «Борьба продолжается» (1948), «Свет и мрак» (1949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произведений Шолохова — простые трудящиеся люди. Их думы, печали и радости, их стремление к счастью и  справедливости,  их  борьба  за  новую жизнь неизменно интересуют художника. Писатель написал немало замечательных произ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3CBB-0AAB-491F-B6B6-3C2CF21B179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есть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«Судьба челове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вести «Судьба человека» (1956) впервые поднята тема военнопленных в Великой Отечественной войне. Сквозной жизнеутверждающий мотив рассказа - вера в доброе, человеческое, социально-прогрессивное, утверждение подвига. Повесть была написана, чтобы напомнить о тех ужасах, которые больше не должны повториться. В небольшом по объему произведении перед читателями проходит жизнь героя, вобравшая в себя судьбу стр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F4C8-C0CE-4E46-B867-4C0F631864E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 главного геро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Соколов — советский человек, мирный труженик, ненавидящий войну, отнявшую у него всю семью, счастье, надежду на лучшее. Оставшись одиноким, Соколов не утратил человечность, он смог разглядеть и пригреть около себя бездомного мальчика. Писатель заканчивает рассказ уверенностью в том, что около плеча Андрея Соколова поднимется новый человек, готовый преодолеть любые испытания судьбы. Творчество Шолохова оценено по достоинств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1274-2D5D-43C1-9238-1BDA804F305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ма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Они сражались за Родин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43 году Шолохов начал работу над романом «Они сражались за Родину». Произведение повествует о тяжелых днях отступления под натиском мощной военной машины Германии, о смертельной схватке под Сталинградом, переломившей весь ход войны. Шолохов  поставил целью изобразить подвиг народа в Отечественной вой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8D8B-B6C4-43CE-8419-50A49CAD83F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… вся фронтовая жизнь –подвиг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мане «Они сражались за Родину» глубоко раскрыт русский национальный характер, ярко проявившийся в дни тяжелых испытаний. Героизм русских людей в романе лишен внешне блестящего проявления и предстает перед нами в ратных буднях трагически, а порой и комически. Такое изображение войны приводит читателя к выводу, что героическое не в отдельных подвигах советских солдат, а что вся фронтовая жизнь — подви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C1A5-1EE8-460E-A5CE-E79B9435704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ма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однятая целина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 посвящён великому перелому, который произошёл в деревне в годы коллективизаци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. Основа романа – изображение процесса идейной переделки и воспитания трудящихся в духе социализма под руководством Коммунистической пар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2C34-1836-4D5A-929B-556736A6884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F3A0-B944-4210-88D3-C1616CF4F67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ая книга романа (193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во всю силу звучал пафос социальных преобразований, крушения старых форм собственности, трудного становления новых общественных отношений. Типичные образы коммунистов Давыдова,  Размётнова и Нагульнова, их яркие, глубоко индивидуализированные характеры помогли раскрыть смысл важнейших исторических событий, участниками и творцами которых являются герои романа, осознавшие цель своей жизни в служении великому народному дел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9F05-1F7C-43C2-A87C-2AD69166226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книга романа (195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с захватывающим лиризмом звучит "поэзия чувств». Отсюда и своеобразие сюжетных решений: внешняя замедленность действия, обилие рассказов героев о себе, пространные беседы, повышенное внимание к отношениям, в которых раскрываются интимные чувства. Умение видеть в жизни и ярко воссоздавать в искусстве не только трагическое, но и смешное составляет одну из самых драгоценных черт таланта Шолох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6814-0319-4DB7-B80C-2FE4C01A797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амых замечательных персонажей романа, дед Щукарь, переворачивает односторонне серьёзный смысл происходящего, сначала показывая смешные стороны страшной борьбы, но в тоже время Шолохов показывает переживания ге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2656-1AB2-4BEC-B710-9C936672A2E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-эпопея «Тихий До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ую и мировую известность Шолохову принёс роман «Тихий Дон» (тт. 1-3, 1927—1928, т. 4 1940 г.) о донском казачестве в Первой мировой и Гражданской войнах. Героем романа стал народ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C035-C50F-46DD-8CBC-BC096E0B097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 Григория Мелех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горий – центральная личность в семье Мелеховых, и трагедия его судьбы переплетается с трагедией его близких, родных. На войне он видит кровь, насилие, жестокость. Постоянные политические метания, душевные муки и любовные испытания изранили душу героя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98A5-57CE-4F05-BE36-88A69CB35A2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 Аксиньи Астах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инья пронесла любовь к Григорию через всю свою трудную, исковерканную жизнь. Жизнь без Григория, без любви была для Аксиньи невыносима. Яркая, порывистая, самоотверженная Аксинья остаётся надолго в памяти чит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66E2-4CEA-4131-A609-0573F745A00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Второй мировой войны «Тихий Дон» был переведён на европейские языки и приобрёл популярность на Западе, а после войны переведён на восточные языки и нашёл широкого читателя также и на востоке, в том числе в Япо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09D8-6771-44DE-AC7D-661F2395ED9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луги М.А. Шолох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- депутат Верховного Совета СССР 1-9-го созывов. С 1934 он член правления СП СССР. Член Всемирного Совета Мира. Почётный доктор филологических наук Ростовского и Лейпцигского университетов, почётный доктор права Сент-Андрусского университета. Награжден 4 орденами Ленина, 2 другими орденами, а также медалями, иностранным орденом. Лауреат Нобелевской премии (1965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A5FD-CBE5-41D1-81AC-E595B519664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отивам произведений Шолохова сняты фильмы. За первую и вторую книги «Поднятой целины»  писатель  был  удостоен 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0  году  Ленинской  пре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2B98-8E9F-4E1B-B382-A3749D57622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65 г. в Стокгольме Михаилу Александровичу Шолохову была вручена Нобелевская премия за роман «Тихий Дон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F421-1FA1-4AC2-96B6-406CB2DCD9E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Александрович Шолохов родился в 1905 г. в хуторе Кружилином станицы Вёшенской Донецкого округа в трудовой сем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775B-BBE0-4D1E-8D8C-EBF3083CEF9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Михаилу Шолохову на набережной реки Дон в городе Ростове-на-Д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C929-5775-45FB-80C5-C4258E883AC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Александр Михайлович Шолохов был приказчиком, управляющим паровой мельницы. Мать – Анастасия Даниловна Черникова – дочь крепостного крестьянина, пришедшего на Дон с Черниговщ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92FC-50BB-41FE-856F-A73BAC263B5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5 ноября 192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лся Шолохов сначала в церковноприходской школе, а затем до 1918 г. в гимназии. В связи с началом Первой Мировой, а затем и Гражданской войны, получил лишь четыре класса образования. В 15 лет записался добровольцем в ряды Красной Ар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6BEF-8D92-4CB3-B9DA-700A600078E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. Шолохову 20 л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20 г. служил и мыкался по донской земле. Чтобы прокормиться работал грузчиком, разнорабочим, каменщиком. Долго был продработником. Гонялся за бандами. Так будущий писатель познавал жизнь, участвуя в борьбе народа, накапливая огромный запас наблюдений, щедро обогативший его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87D4-DBB8-44E6-9148-B9BAD61BF34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падный фронт, 19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оды Великой Отечественной войны Шолохов — деятельный  участник  бор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ского народа против фашистских захватч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4B39-2DCB-4A79-8BD4-CB305711B9F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Шолохов военный корреспондент «Правды». 19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ю Великую Отечественную войну писатель был военным корреспондентом. Он видел разгром фашистов под Сталингра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F967-07F6-42B5-89B6-E007E814E5D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ому времени он женился и стал жить в семье своего тестя, редактора областной газеты. Там с 1926 по 1938 годы у него родились старшая дочь Светлана, старший сын Александр, сын Михаил и дочь М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C64D-413B-4426-BBDC-BA00F84CFE7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2C7-8897-4418-9797-957C1D80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789-174A-48F5-A40E-CCA1B187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1A2-6F13-4702-8A17-DAD79436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222-A3BE-4D0B-A3B2-43096261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537C-110B-4213-A877-0901452E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9C7C-4871-40AE-A98B-9C0EB54A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373C-5D5C-470E-BE72-24999F9E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4A6F-105E-4F8F-B1A5-4E8EB3F6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9211-3F2F-478F-A058-98982676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563A-380A-468F-903B-49F79078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5B8B-7416-43E9-BEE4-5CC12D0B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F52-D8DF-4567-A129-B5427A02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82F2-E4D4-47C9-A93F-A13CD30D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D8D6-936F-4D6A-9B10-2B5AFB8D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23B6-7A7F-4B92-A5C6-808C56E8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ED24-42A1-4D58-B444-852B6BB5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0391-A2EF-41A6-BC98-39E9A6B9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EB73-4EAC-434B-AB87-1B691581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CA29B-4094-4783-946F-6CA0B762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07289-AB07-48CF-BF91-BD1D3F3C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3EE4D-E927-4840-B052-AA7CB4C8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1784F-DA47-46B1-A8BC-461498CA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11D-0BB8-49B9-8CCB-A9A8F569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12B2C-1C6B-4F38-9992-A59F7D99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96F74-D0AE-4BE1-9B9F-FF88CF99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9D374-48F5-4A0F-82CE-D6CB5FB2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09636-6CA7-4F1B-A4F6-59312E5C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C79C6-676E-4C85-A139-43FDE295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0B797-D942-4A8F-AFC6-F4A311A6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4131-60FB-4B59-A1B7-97B3A91D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6CA21-984E-4BBA-97D0-6D05E14C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16BAA-3137-4579-BA0F-916D4574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EF2B3-FEB4-44CB-9D42-7881325A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CF5F-2C28-4803-B612-507977F7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78F10-EBC0-49DF-B6E2-7CBF3DE8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25392-0FCD-415C-B966-03B4823F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E6FAB-DB3E-4348-8E55-DE64C80D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3B8D7-5513-4181-B8C0-28D32931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84955-74B6-4C3D-BC5D-BEC109B0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2E97A-4568-4630-A682-4998B26E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C6DB1-7F5E-480D-A1ED-9CE415BE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0E9D4-E434-44DF-A7A3-66D40E27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54A0F-9192-4CFF-9C62-F05D8E22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F2BB-82C9-4EDD-A994-270E7608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A53-ACCC-4F1C-972F-89C7870D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0F9-B01E-41C4-AB7A-19C40A37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DE2-6381-44DF-AC00-DD5F12A5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0C8D-2E43-4E74-BDD3-6DA56493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B822-8E0A-4D1F-B95B-4D37FAEF43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D20F-E52A-4259-B4F5-B7B6DB08AA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12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12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3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038B-5E13-46CB-B1BA-5FBC4A612D6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74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204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5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206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207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208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217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1BB8-DE47-46DF-BF0B-8EF38199226B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У «Иваново-Эсинская общеобразовательная школа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вровского района Владимирской об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51280" y="1412640"/>
            <a:ext cx="4788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Презентация к уроку    литературы в 11 классе на тему: 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«Шолохов – человек и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писатель»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Выполнила: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учитель русского языка и 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литературы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Бырко Наталья Анатольевна.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2007 год.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3" name="Picture 7" descr="200px-Sholokhov-1938"/>
          <p:cNvPicPr/>
          <p:nvPr/>
        </p:nvPicPr>
        <p:blipFill>
          <a:blip r:embed="rId1"/>
          <a:stretch/>
        </p:blipFill>
        <p:spPr>
          <a:xfrm>
            <a:off x="1258920" y="1484280"/>
            <a:ext cx="2952720" cy="37432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05120" y="549360"/>
            <a:ext cx="723888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Михаил Александрович и Мария Петровн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8" name="Picture 21" descr="img148"/>
          <p:cNvPicPr/>
          <p:nvPr/>
        </p:nvPicPr>
        <p:blipFill>
          <a:blip r:embed="rId1"/>
          <a:stretch/>
        </p:blipFill>
        <p:spPr>
          <a:xfrm>
            <a:off x="5003640" y="1773360"/>
            <a:ext cx="3240360" cy="4464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2" descr="img138"/>
          <p:cNvPicPr/>
          <p:nvPr/>
        </p:nvPicPr>
        <p:blipFill>
          <a:blip r:embed="rId2"/>
          <a:stretch/>
        </p:blipFill>
        <p:spPr>
          <a:xfrm>
            <a:off x="684360" y="1773360"/>
            <a:ext cx="3365280" cy="439236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87280" y="549360"/>
            <a:ext cx="367524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Шолохов с внукам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2" name="Picture 7" descr="img152"/>
          <p:cNvPicPr/>
          <p:nvPr/>
        </p:nvPicPr>
        <p:blipFill>
          <a:blip r:embed="rId1"/>
          <a:stretch/>
        </p:blipFill>
        <p:spPr>
          <a:xfrm>
            <a:off x="611280" y="1916280"/>
            <a:ext cx="3547800" cy="4546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img144"/>
          <p:cNvPicPr/>
          <p:nvPr/>
        </p:nvPicPr>
        <p:blipFill>
          <a:blip r:embed="rId2"/>
          <a:stretch/>
        </p:blipFill>
        <p:spPr>
          <a:xfrm>
            <a:off x="4859280" y="1916280"/>
            <a:ext cx="3537000" cy="453528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417996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бщественная жизн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6" name="Picture 6" descr="img145"/>
          <p:cNvPicPr/>
          <p:nvPr/>
        </p:nvPicPr>
        <p:blipFill>
          <a:blip r:embed="rId1"/>
          <a:stretch/>
        </p:blipFill>
        <p:spPr>
          <a:xfrm>
            <a:off x="5219640" y="836640"/>
            <a:ext cx="3635280" cy="5400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img145"/>
          <p:cNvPicPr/>
          <p:nvPr/>
        </p:nvPicPr>
        <p:blipFill>
          <a:blip r:embed="rId2"/>
          <a:stretch/>
        </p:blipFill>
        <p:spPr>
          <a:xfrm>
            <a:off x="250920" y="1557360"/>
            <a:ext cx="2735280" cy="21495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img146"/>
          <p:cNvPicPr/>
          <p:nvPr/>
        </p:nvPicPr>
        <p:blipFill>
          <a:blip r:embed="rId3"/>
          <a:stretch/>
        </p:blipFill>
        <p:spPr>
          <a:xfrm>
            <a:off x="1835280" y="4005360"/>
            <a:ext cx="3190680" cy="223344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0"/>
          <p:cNvSpPr/>
          <p:nvPr/>
        </p:nvSpPr>
        <p:spPr>
          <a:xfrm>
            <a:off x="179280" y="4365720"/>
            <a:ext cx="1584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Шолохов среди земляко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3059280" y="1700280"/>
            <a:ext cx="2016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Шолохов и первый секретарь Вёшенского райкома КПСС Н.А. Булавин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4821120" y="6338880"/>
            <a:ext cx="432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Писатель – частый гость хлеборобов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1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11280" y="40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cc"/>
                </a:solidFill>
                <a:latin typeface="Times New Roman"/>
              </a:rPr>
              <a:t>Шолохов - писатель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056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Начало творческого пут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8388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Литературная деятельность писателя началась в 1923 году, с публикаций фельетонов в газетах Начиная с 1924 г. в журналах появляются рассказы Шолохова, объединённые впоследствии в сборники «Донские рассказы» и «Лазоревая степь» (1926). Темы ранних рассказов – гражданская война на Дону, ожесточенная классовая борьба, место человека в социальных сдвигах, происходивших в деревне. Первые рассказы «Нахалёнок», «Председатель Реввоенсовета республики» (1925), «Чужая кровь» (1926), «Червоточина» (1926). После войны Шолохов опубликовал ряд публицистических произведений: «Слово о Родине», «Борьба продолжается» (1948), «Свет и мрак» (1949)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Герои произведений Шолохова — простые трудящиеся люди. Их думы, печали и радости, их стремление к счастью и  справедливости,  их  борьба  за  новую жизнь неизменно интересуют художника. Писатель написал немало замечательных произведени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3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овесть 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«Судьба человека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повести «Судьба человека» (1956) впервые поднята тема военнопленных в Великой Отечественной войне. Сквозной жизнеутверждающий мотив рассказа - вера в доброе, человеческое, социально-прогрессивное, утверждение подвига. Повесть была написана, чтобы напомнить о тех ужасах, которые больше не должны повториться. В небольшом по объему произведении перед читателями проходит жизнь героя, вобравшая в себя судьбу страны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Образ главного героя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427640" y="1915920"/>
            <a:ext cx="45194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Андрей Соколов — советский человек, мирный труженик, ненавидящий войну, отнявшую у него всю семью, счастье, надежду на лучшее. Оставшись одиноким, Соколов не утратил человечность, он смог разглядеть и пригреть около себя бездомного мальчика. Писатель заканчивает рассказ уверенностью в том, что около плеча Андрея Соколова поднимется новый человек, готовый преодолеть любые испытания судьбы. Творчество Шолохова оценено по достоинству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3" name="Picture 8" descr="img134"/>
          <p:cNvPicPr/>
          <p:nvPr/>
        </p:nvPicPr>
        <p:blipFill>
          <a:blip r:embed="rId1"/>
          <a:stretch/>
        </p:blipFill>
        <p:spPr>
          <a:xfrm>
            <a:off x="324000" y="1893960"/>
            <a:ext cx="3989160" cy="405612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77052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Роман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«Они сражались за Родину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439236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1943 году Шолохов начал работу над романом «Они сражались за Родину». Произведение повествует о тяжелых днях отступления под натиском мощной военной машины Германии, о смертельной схватке под Сталинградом, переломившей весь ход войны. Шолохов  поставил целью изобразить подвиг народа в Отечественной войн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7" name="Picture 11" descr="сканирование0005"/>
          <p:cNvPicPr/>
          <p:nvPr/>
        </p:nvPicPr>
        <p:blipFill>
          <a:blip r:embed="rId1"/>
          <a:stretch/>
        </p:blipFill>
        <p:spPr>
          <a:xfrm>
            <a:off x="4932360" y="1773360"/>
            <a:ext cx="3726000" cy="46926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«… вся фронтовая жизнь –подвиг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00720" y="2060640"/>
            <a:ext cx="434016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романе «Они сражались за Родину» глубоко раскрыт русский национальный характер, ярко проявившийся в дни тяжелых испытаний. Героизм русских людей в романе лишен внешне блестящего проявления и предстает перед нами в ратных буднях трагически, а порой и комически. Такое изображение войны приводит читателя к выводу, что героическое не в отдельных подвигах советских солдат, а что вся фронтовая жизнь — подвиг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1" name="Picture 7" descr="Они сражались за родину"/>
          <p:cNvPicPr/>
          <p:nvPr/>
        </p:nvPicPr>
        <p:blipFill>
          <a:blip r:embed="rId1"/>
          <a:stretch/>
        </p:blipFill>
        <p:spPr>
          <a:xfrm>
            <a:off x="468360" y="1844640"/>
            <a:ext cx="3805200" cy="425124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770520" cy="118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Роман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«Поднятая целина».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42480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оман посвящён великому перелому, который произошёл в деревне в годы коллективизации 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х. Основа романа – изображение процесса идейной переделки и воспитания трудящихся в духе социализма под руководством Коммунистической парт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5" name="Picture 7" descr="1000338244"/>
          <p:cNvPicPr/>
          <p:nvPr/>
        </p:nvPicPr>
        <p:blipFill>
          <a:blip r:embed="rId1"/>
          <a:stretch/>
        </p:blipFill>
        <p:spPr>
          <a:xfrm>
            <a:off x="5508720" y="1773360"/>
            <a:ext cx="3203640" cy="454968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5640" y="29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ffcc"/>
                </a:solidFill>
                <a:latin typeface="Times New Roman"/>
              </a:rPr>
              <a:t>       </a:t>
            </a:r>
            <a:r>
              <a:rPr b="0" lang="ru-RU" sz="9600" spc="-1" strike="noStrike">
                <a:solidFill>
                  <a:srgbClr val="ccffcc"/>
                </a:solidFill>
                <a:latin typeface="Times New Roman"/>
              </a:rPr>
              <a:t>Биография 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3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4396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ервая книга романа (1932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00720" y="1700280"/>
            <a:ext cx="431928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Здесь во всю силу звучал пафос социальных преобразований, крушения старых форм собственности, трудного становления новых общественных отношений. Типичные образы коммунистов Давыдова,  Размётнова и Нагульнова, их яркие, глубоко индивидуализированные характеры помогли раскрыть смысл важнейших исторических событий, участниками и творцами которых являются герои романа, осознавшие цель своей жизни в служении великому народному делу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9" name="Picture 9" descr="сканирование0004"/>
          <p:cNvPicPr/>
          <p:nvPr/>
        </p:nvPicPr>
        <p:blipFill>
          <a:blip r:embed="rId1"/>
          <a:stretch/>
        </p:blipFill>
        <p:spPr>
          <a:xfrm>
            <a:off x="611280" y="1484280"/>
            <a:ext cx="3671640" cy="496908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торая книга романа (1959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412596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ней с захватывающим лиризмом звучит "поэзия чувств». Отсюда и своеобразие сюжетных решений: внешняя замедленность действия, обилие рассказов героев о себе, пространные беседы, повышенное внимание к отношениям, в которых раскрываются интимные чувства. Умение видеть в жизни и ярко воссоздавать в искусстве не только трагическое, но и смешное составляет одну из самых драгоценных черт таланта Шолохов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3" name="Picture 9" descr="сканирование0003"/>
          <p:cNvPicPr/>
          <p:nvPr/>
        </p:nvPicPr>
        <p:blipFill>
          <a:blip r:embed="rId1"/>
          <a:stretch/>
        </p:blipFill>
        <p:spPr>
          <a:xfrm>
            <a:off x="5219640" y="1916280"/>
            <a:ext cx="3381480" cy="426060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Один из самых замечательных персонажей романа, дед Щукарь, переворачивает односторонне серьёзный смысл происходящего, сначала показывая смешные стороны страшной борьбы, но в тоже время Шолохов показывает переживания геро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56" name="Picture 6" descr="роро"/>
          <p:cNvPicPr/>
          <p:nvPr/>
        </p:nvPicPr>
        <p:blipFill>
          <a:blip r:embed="rId1"/>
          <a:stretch/>
        </p:blipFill>
        <p:spPr>
          <a:xfrm>
            <a:off x="826920" y="1773360"/>
            <a:ext cx="7129800" cy="468000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ман-эпопея «Тихий Дон»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оссийскую и мировую известность Шолохову принёс роман «Тихий Дон» (тт. 1-3, 1927—1928, т. 4 1940 г.) о донском казачестве в Первой мировой и Гражданской войнах. Героем романа стал народ.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0" name="Picture 6" descr="img143"/>
          <p:cNvPicPr/>
          <p:nvPr/>
        </p:nvPicPr>
        <p:blipFill>
          <a:blip r:embed="rId1"/>
          <a:stretch/>
        </p:blipFill>
        <p:spPr>
          <a:xfrm>
            <a:off x="324000" y="1700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7"/>
          <p:cNvSpPr/>
          <p:nvPr/>
        </p:nvSpPr>
        <p:spPr>
          <a:xfrm>
            <a:off x="755640" y="4797360"/>
            <a:ext cx="252252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Дом в Вешенской, где Шолохов работал над «Тихим Доном»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6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13088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Образ Григория Мелехова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427280" y="1557000"/>
            <a:ext cx="43923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Григорий – центральная личность в семье Мелеховых, и трагедия его судьбы переплетается с трагедией его близких, родных. На войне он видит кровь, насилие, жестокость. Постоянные политические метания, душевные муки и любовные испытания изранили душу героя.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5" name="Picture 9" descr="img133"/>
          <p:cNvPicPr/>
          <p:nvPr/>
        </p:nvPicPr>
        <p:blipFill>
          <a:blip r:embed="rId1"/>
          <a:stretch/>
        </p:blipFill>
        <p:spPr>
          <a:xfrm>
            <a:off x="250920" y="1557360"/>
            <a:ext cx="3844800" cy="503856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браз Аксиньи Астаховой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ксинья пронесла любовь к Григорию через всю свою трудную, исковерканную жизнь. Жизнь без Григория, без любви была для Аксиньи невыносима. Яркая, порывистая, самоотверженная Аксинья остаётся надолго в памяти читате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9" name="Picture 7" descr="ошог"/>
          <p:cNvPicPr/>
          <p:nvPr/>
        </p:nvPicPr>
        <p:blipFill>
          <a:blip r:embed="rId1"/>
          <a:stretch/>
        </p:blipFill>
        <p:spPr>
          <a:xfrm>
            <a:off x="4791240" y="1905120"/>
            <a:ext cx="4022640" cy="4763880"/>
          </a:xfrm>
          <a:prstGeom prst="rect">
            <a:avLst/>
          </a:prstGeom>
          <a:ln w="0">
            <a:noFill/>
          </a:ln>
        </p:spPr>
      </p:pic>
      <p:sp>
        <p:nvSpPr>
          <p:cNvPr id="37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о время Второй мировой войны «Тихий Дон» был переведён на европейские языки и приобрёл популярность на Западе, а после войны переведён на восточные языки и нашёл широкого читателя также и на востоке, в том числе в Япони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Заслуги М.А. Шолохова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419724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Шолохов - депутат Верховного Совета СССР 1-9-го созывов. С 1934 он член правления СП СССР. Член Всемирного Совета Мира. Почётный доктор филологических наук Ростовского и Лейпцигского университетов, почётный доктор права Сент-Андрусского университета. Награжден 4 орденами Ленина, 2 другими орденами, а также медалями, иностранным орденом. Лауреат Нобелевской премии (1965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5" name="Picture 10" descr="img152"/>
          <p:cNvPicPr/>
          <p:nvPr/>
        </p:nvPicPr>
        <p:blipFill>
          <a:blip r:embed="rId1"/>
          <a:stretch/>
        </p:blipFill>
        <p:spPr>
          <a:xfrm>
            <a:off x="5076720" y="1628640"/>
            <a:ext cx="3768840" cy="495324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 мотивам произведений Шолохова сняты фильмы. За первую и вторую книги «Поднятой целины»  писатель  был  удостоен  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1960  году  Ленинской  преми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8" name="Picture 7" descr="img147"/>
          <p:cNvPicPr/>
          <p:nvPr/>
        </p:nvPicPr>
        <p:blipFill>
          <a:blip r:embed="rId1"/>
          <a:stretch/>
        </p:blipFill>
        <p:spPr>
          <a:xfrm>
            <a:off x="250920" y="2122560"/>
            <a:ext cx="4221000" cy="335124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2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965 г. в Стокгольме Михаилу Александровичу Шолохову была вручена Нобелевская премия за роман «Тихий Дон»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1" name="Picture 7" descr="срмр"/>
          <p:cNvPicPr/>
          <p:nvPr/>
        </p:nvPicPr>
        <p:blipFill>
          <a:blip r:embed="rId1"/>
          <a:stretch/>
        </p:blipFill>
        <p:spPr>
          <a:xfrm>
            <a:off x="4572000" y="1989000"/>
            <a:ext cx="4124160" cy="397044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97128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ихаил Александрович Шолохов родился в 1905 г. в хуторе Кружилином станицы Вёшенской Донецкого округа в трудовой семье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8" name="Picture 21" descr="img155"/>
          <p:cNvPicPr/>
          <p:nvPr/>
        </p:nvPicPr>
        <p:blipFill>
          <a:blip r:embed="rId1"/>
          <a:stretch/>
        </p:blipFill>
        <p:spPr>
          <a:xfrm>
            <a:off x="5219640" y="1484280"/>
            <a:ext cx="2836800" cy="489420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7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00360" y="2491920"/>
            <a:ext cx="3809880" cy="27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мятник Михаилу Шолохову на набережной реки Дон в городе Ростове-на-Дон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4" name="Picture 7" descr="150px-Sholochov_Monument_Rostov-on-Don"/>
          <p:cNvPicPr/>
          <p:nvPr/>
        </p:nvPicPr>
        <p:blipFill>
          <a:blip r:embed="rId1"/>
          <a:stretch/>
        </p:blipFill>
        <p:spPr>
          <a:xfrm>
            <a:off x="826920" y="1557360"/>
            <a:ext cx="2800440" cy="503856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Родители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тец – Александр Михайлович Шолохов был приказчиком, управляющим паровой мельницы. Мать – Анастасия Даниловна Черникова – дочь крепостного крестьянина, пришедшего на Дон с Черниговщи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2" name="Picture 10" descr="img139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3456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1"/>
          <p:cNvSpPr/>
          <p:nvPr/>
        </p:nvSpPr>
        <p:spPr>
          <a:xfrm>
            <a:off x="755640" y="5589720"/>
            <a:ext cx="3313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Шолохов с родителями (1912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56360" y="6165360"/>
            <a:ext cx="1874880" cy="5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15 ноября 1923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Учился Шолохов сначала в церковноприходской школе, а затем до 1918 г. в гимназии. В связи с началом Первой Мировой, а затем и Гражданской войны, получил лишь четыре класса образования. В 15 лет записался добровольцем в ряды Красной Арм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7" name="Picture 18" descr="img140"/>
          <p:cNvPicPr/>
          <p:nvPr/>
        </p:nvPicPr>
        <p:blipFill>
          <a:blip r:embed="rId1"/>
          <a:stretch/>
        </p:blipFill>
        <p:spPr>
          <a:xfrm>
            <a:off x="4500720" y="836640"/>
            <a:ext cx="3095640" cy="24638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img141"/>
          <p:cNvPicPr/>
          <p:nvPr/>
        </p:nvPicPr>
        <p:blipFill>
          <a:blip r:embed="rId2"/>
          <a:stretch/>
        </p:blipFill>
        <p:spPr>
          <a:xfrm>
            <a:off x="5508720" y="3429000"/>
            <a:ext cx="3384360" cy="27478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0"/>
          <p:cNvSpPr/>
          <p:nvPr/>
        </p:nvSpPr>
        <p:spPr>
          <a:xfrm>
            <a:off x="7812000" y="1197000"/>
            <a:ext cx="101124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Годы учёбы в гимнази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71640" y="6021000"/>
            <a:ext cx="25956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. Шолохову 20 ле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00360" y="1557360"/>
            <a:ext cx="426852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 1920 г. служил и мыкался по донской земле. Чтобы прокормиться работал грузчиком, разнорабочим, каменщиком. Долго был продработником. Гонялся за бандами. Так будущий писатель познавал жизнь, участвуя в борьбе народа, накапливая огромный запас наблюдений, щедро обогативший его творчеств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3" name="Picture 6" descr="img149"/>
          <p:cNvPicPr/>
          <p:nvPr/>
        </p:nvPicPr>
        <p:blipFill>
          <a:blip r:embed="rId1"/>
          <a:stretch/>
        </p:blipFill>
        <p:spPr>
          <a:xfrm>
            <a:off x="684360" y="1628640"/>
            <a:ext cx="3552840" cy="42465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580000" y="3428640"/>
            <a:ext cx="23796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Западный фронт, 194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годы Великой Отечественной войны Шолохов — деятельный  участник  борьб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оветского народа против фашистских захватчиков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7" name="Picture 8" descr="img135"/>
          <p:cNvPicPr/>
          <p:nvPr/>
        </p:nvPicPr>
        <p:blipFill>
          <a:blip r:embed="rId1"/>
          <a:stretch/>
        </p:blipFill>
        <p:spPr>
          <a:xfrm>
            <a:off x="5148360" y="1125360"/>
            <a:ext cx="3502080" cy="2246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img138"/>
          <p:cNvPicPr/>
          <p:nvPr/>
        </p:nvPicPr>
        <p:blipFill>
          <a:blip r:embed="rId2"/>
          <a:stretch/>
        </p:blipFill>
        <p:spPr>
          <a:xfrm>
            <a:off x="5003640" y="4076640"/>
            <a:ext cx="3600720" cy="227664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03640" y="5960880"/>
            <a:ext cx="331488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Шолохов военный корреспондент «Правды». 194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65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сю Великую Отечественную войну писатель был военным корреспондентом. Он видел разгром фашистов под Сталинградо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2" name="Picture 7" descr="img151"/>
          <p:cNvPicPr/>
          <p:nvPr/>
        </p:nvPicPr>
        <p:blipFill>
          <a:blip r:embed="rId1"/>
          <a:stretch/>
        </p:blipFill>
        <p:spPr>
          <a:xfrm>
            <a:off x="4932360" y="1413000"/>
            <a:ext cx="3456000" cy="44622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 тому времени он женился и стал жить в семье своего тестя, редактора областной газеты. Там с 1926 по 1938 годы у него родились старшая дочь Светлана, старший сын Александр, сын Михаил и дочь Мар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5" name="Picture 11" descr="img139"/>
          <p:cNvPicPr/>
          <p:nvPr/>
        </p:nvPicPr>
        <p:blipFill>
          <a:blip r:embed="rId1"/>
          <a:stretch/>
        </p:blipFill>
        <p:spPr>
          <a:xfrm>
            <a:off x="324000" y="2133720"/>
            <a:ext cx="4392360" cy="388764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5:44:48Z</dcterms:created>
  <dc:creator>Родной</dc:creator>
  <dc:description/>
  <dc:language>en-US</dc:language>
  <cp:lastModifiedBy>LEGION</cp:lastModifiedBy>
  <dcterms:modified xsi:type="dcterms:W3CDTF">2015-01-20T12:03:51Z</dcterms:modified>
  <cp:revision>16</cp:revision>
  <dc:subject/>
  <dc:title>МОУ «Иваново-Эсинская общеобразовательная школа»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150000000000010250300207f7000400038000</vt:lpwstr>
  </property>
</Properties>
</file>