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6044-74F1-47E0-86A8-67FC46C072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Иваново-Эсинская общеобразовательная школа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ровского района Владимир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   литературы в 11 классе на т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Шолохов – человек 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сатель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русского языка 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рко Наталья Анатол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4312-D688-4AD8-A8BF-61A42397F51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и Мария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9A76-5588-4BD3-8E37-89465465DA5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с вн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E7A9-14BE-48C0-AEED-654BFD58374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7722-E921-4B7E-BC25-02A7BD7AC96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C0E7-5823-44BF-9A05-4A347B25458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творческ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1FB-524E-45E7-A168-CC593D9AD43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ь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«Судьба челове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C967-FEEB-4E6D-8236-73EE0364289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 главно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4CB0-9392-43C8-A1DE-2AEA2B86462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ни сражались за Родин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186-FEDF-494A-9AC9-79CD5FA5CAE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… вся фронтовая жизнь –подвиг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925F-B0A9-4E5A-8E51-6B283A2AA2D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днятая целин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0B7-11EB-48BB-96A4-8892FCB7CD0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BC52-E7EA-400B-9CF8-616DB346553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книга романа (19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7F66-9311-4D67-9119-DB236B9E2AA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книга романа (19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D3D4-67C8-49E2-9006-F6C8B303A66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C856-CCCF-40F6-8814-0FAB8F27C07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-эпопея «Тихий До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BA59-1E17-459B-AB54-9662B35071D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 Григория Мелех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6953-01D7-4800-8379-DC70CCD6FD4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Аксиньи Астах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88D0-F77A-4639-B871-A980F1E4CF2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2748-F456-450C-A4EE-F1C49946C72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луги М.А. Шолох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4D0D-094C-4398-A1DD-B39D0A3FA24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 году  Ленинской  пр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5ABC-FFCA-4A0E-B630-33A7225F6F6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370E-2A94-44F3-AFE0-CEF7494373E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0111-240C-4D30-9204-072F93ACA94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Михаилу Шолохову на набережной реки Дон в городе Ростове-на-Д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7E96-94F4-474E-861B-593A99F3FDD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9488-9331-4196-A259-8BB7BF5C6B5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5 ноября 19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7399-CB8C-4F81-A9C2-1C4890B0FB2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. Шолохову 20 л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2149-4FF8-4D2F-8544-6E37B889E4E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адный фронт,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Шолохов — деятельный  участник 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ого народа против фашистских захватч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9860-2DA8-4DDA-B4E8-E685A6B97B7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олохов военный корреспондент «Правды».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4069-26DE-4F35-9A05-3819098FDF0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7506-22FD-4A52-96EC-3E6015D35F6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0B4-B1BF-43D2-944A-EF1AE482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AED-C109-48FD-9434-4E5AE3ED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49C-1104-40A4-A8E1-52131EC9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DE3-1E22-492B-A1E2-FD1F2718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4E1C-25D7-44BF-8A41-855BA0ED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9EA5-0E01-4997-AE0B-D20A2DEA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AA0B-B63F-4B21-AD7F-0537FFD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9499-815B-4F7E-804D-BD63F0DE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9719-1B19-4125-80F4-BA5B1A82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5662-DF99-46CF-BEE1-815ADCC3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BE99-F6A1-4182-95CD-C2E39C12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49C-05CC-4222-A14C-2677F766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9AFA-BCD0-4CBD-808F-22714B3C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CAC-BF6F-4EA9-81CD-3831DCFB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868F-8BC7-479C-85AB-C985981A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191A-7378-4C6B-93C7-A8F1ABF5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2DD2-35E2-40CB-886A-63982A32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08CF-67A1-43F7-8AE6-B2D909CC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8CDF-E197-45EA-BFDD-2CA21BB8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02E3-5BE3-4348-B20E-981CEDE7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A39D-299B-4D4E-B94B-68000EF7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8EF0-2213-4690-98FD-01B5B9FF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B1B-CEA6-4141-AEE7-F859A997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6E90-AAB2-441D-8B07-9EE20767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CC1E-5040-4BD2-B2EA-3AB334A2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31966-DC61-4FEA-BDB1-0C87981C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4AC5-54D5-4BC3-BA96-395A73C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DA59-21D8-4398-8772-0E2BBF83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F5C4-A101-486F-9088-5F1156D5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CBB1-CADC-4DEA-BF21-7015387D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7076-BF1A-44EA-B499-841F04D1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2007-5D74-471F-9A73-BCBD0439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AC23-9939-45E1-97AB-95A04369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C04-FA9C-437E-B405-A7B9DDE7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7672A-8384-4172-BAB0-5D3D5601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EAAC-6814-4A93-9E35-5C7A85DC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4B09-0E7D-4E14-84CF-5833C96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64B5-694D-47D4-95B1-2F3BAFC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B551-4B0E-4B69-93B2-42022782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8968-466C-403A-8178-FC7D56E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57BBC-4AE9-4A0C-90C6-B71AECA6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F792-9555-4221-B702-7A0567CD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3736-C403-477E-84BA-BD48F092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7A1-CBF2-4FA5-A5D6-B111F5F5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DBD-9916-4A0D-A5E5-E38C7F34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246-D465-4D61-B760-8DE55E1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7D8-51E5-4BF3-95A7-5914016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DDC-B09B-4DDD-84D3-AC189F7F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1561-EFF0-440C-A19D-110F9366E6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E69F-DC8D-423C-B211-49BED50ED9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2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2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197-E8CD-4FA9-AA61-89059949F1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74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04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5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06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07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08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17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60D-717C-429E-A3CA-E784B38EAC8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Иваново-Эсинская общеобразовательная школа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вровского района Владимир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1280" y="1412640"/>
            <a:ext cx="4788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Презентация к уроку    литературы в 11 классе на тему: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Шолохов – человек и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исатель»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Выполнила: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учитель русского языка 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литературы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Бырко Наталья Анатольевна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2007 год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3" name="Picture 7" descr="200px-Sholokhov-1938"/>
          <p:cNvPicPr/>
          <p:nvPr/>
        </p:nvPicPr>
        <p:blipFill>
          <a:blip r:embed="rId1"/>
          <a:stretch/>
        </p:blipFill>
        <p:spPr>
          <a:xfrm>
            <a:off x="1258920" y="1484280"/>
            <a:ext cx="295272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549360"/>
            <a:ext cx="7238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ихаил Александрович и Мария Петровн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21" descr="img148"/>
          <p:cNvPicPr/>
          <p:nvPr/>
        </p:nvPicPr>
        <p:blipFill>
          <a:blip r:embed="rId1"/>
          <a:stretch/>
        </p:blipFill>
        <p:spPr>
          <a:xfrm>
            <a:off x="5003640" y="1773360"/>
            <a:ext cx="3240360" cy="4464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2" descr="img138"/>
          <p:cNvPicPr/>
          <p:nvPr/>
        </p:nvPicPr>
        <p:blipFill>
          <a:blip r:embed="rId2"/>
          <a:stretch/>
        </p:blipFill>
        <p:spPr>
          <a:xfrm>
            <a:off x="684360" y="1773360"/>
            <a:ext cx="3365280" cy="43923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7280" y="549360"/>
            <a:ext cx="367524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олохов с внукам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2" name="Picture 7" descr="img152"/>
          <p:cNvPicPr/>
          <p:nvPr/>
        </p:nvPicPr>
        <p:blipFill>
          <a:blip r:embed="rId1"/>
          <a:stretch/>
        </p:blipFill>
        <p:spPr>
          <a:xfrm>
            <a:off x="611280" y="1916280"/>
            <a:ext cx="3547800" cy="4546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img144"/>
          <p:cNvPicPr/>
          <p:nvPr/>
        </p:nvPicPr>
        <p:blipFill>
          <a:blip r:embed="rId2"/>
          <a:stretch/>
        </p:blipFill>
        <p:spPr>
          <a:xfrm>
            <a:off x="4859280" y="1916280"/>
            <a:ext cx="3537000" cy="453528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41799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ественная жизн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Picture 6" descr="img145"/>
          <p:cNvPicPr/>
          <p:nvPr/>
        </p:nvPicPr>
        <p:blipFill>
          <a:blip r:embed="rId1"/>
          <a:stretch/>
        </p:blipFill>
        <p:spPr>
          <a:xfrm>
            <a:off x="5219640" y="836640"/>
            <a:ext cx="3635280" cy="5400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img145"/>
          <p:cNvPicPr/>
          <p:nvPr/>
        </p:nvPicPr>
        <p:blipFill>
          <a:blip r:embed="rId2"/>
          <a:stretch/>
        </p:blipFill>
        <p:spPr>
          <a:xfrm>
            <a:off x="250920" y="1557360"/>
            <a:ext cx="2735280" cy="2149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img146"/>
          <p:cNvPicPr/>
          <p:nvPr/>
        </p:nvPicPr>
        <p:blipFill>
          <a:blip r:embed="rId3"/>
          <a:stretch/>
        </p:blipFill>
        <p:spPr>
          <a:xfrm>
            <a:off x="1835280" y="4005360"/>
            <a:ext cx="3190680" cy="22334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179280" y="4365720"/>
            <a:ext cx="1584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Шолохов среди земляк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059280" y="1700280"/>
            <a:ext cx="201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Шолохов и первый секретарь Вёшенского райкома КПСС Н.А. Булави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821120" y="6338880"/>
            <a:ext cx="432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исатель – частый гость хлебороб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cc"/>
                </a:solidFill>
                <a:latin typeface="Times New Roman"/>
              </a:rPr>
              <a:t>Шолохов - писа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чало творческого пут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388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есть 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«Судьба человека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раз главного геро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27640" y="1915920"/>
            <a:ext cx="451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3" name="Picture 8" descr="img134"/>
          <p:cNvPicPr/>
          <p:nvPr/>
        </p:nvPicPr>
        <p:blipFill>
          <a:blip r:embed="rId1"/>
          <a:stretch/>
        </p:blipFill>
        <p:spPr>
          <a:xfrm>
            <a:off x="324000" y="1893960"/>
            <a:ext cx="3989160" cy="40561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77052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Они сражались за Родину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392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7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4932360" y="1773360"/>
            <a:ext cx="3726000" cy="46926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… вся фронтовая жизнь –подвиг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00720" y="2060640"/>
            <a:ext cx="434016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1" name="Picture 7" descr="Они сражались за родину"/>
          <p:cNvPicPr/>
          <p:nvPr/>
        </p:nvPicPr>
        <p:blipFill>
          <a:blip r:embed="rId1"/>
          <a:stretch/>
        </p:blipFill>
        <p:spPr>
          <a:xfrm>
            <a:off x="468360" y="1844640"/>
            <a:ext cx="3805200" cy="425124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70520" cy="11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«Поднятая целина»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42480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5" name="Picture 7" descr="1000338244"/>
          <p:cNvPicPr/>
          <p:nvPr/>
        </p:nvPicPr>
        <p:blipFill>
          <a:blip r:embed="rId1"/>
          <a:stretch/>
        </p:blipFill>
        <p:spPr>
          <a:xfrm>
            <a:off x="5508720" y="1773360"/>
            <a:ext cx="3203640" cy="4549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       </a:t>
            </a: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Биография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439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вая книга романа (193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31928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9" name="Picture 9" descr="сканирование0004"/>
          <p:cNvPicPr/>
          <p:nvPr/>
        </p:nvPicPr>
        <p:blipFill>
          <a:blip r:embed="rId1"/>
          <a:stretch/>
        </p:blipFill>
        <p:spPr>
          <a:xfrm>
            <a:off x="611280" y="1484280"/>
            <a:ext cx="3671640" cy="496908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торая книга романа (1959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41259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3" name="Picture 9" descr="сканирование0003"/>
          <p:cNvPicPr/>
          <p:nvPr/>
        </p:nvPicPr>
        <p:blipFill>
          <a:blip r:embed="rId1"/>
          <a:stretch/>
        </p:blipFill>
        <p:spPr>
          <a:xfrm>
            <a:off x="5219640" y="1916280"/>
            <a:ext cx="3381480" cy="426060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6" name="Picture 6" descr="роро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68000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ман-эпопея «Тихий Дон»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0" name="Picture 6" descr="img143"/>
          <p:cNvPicPr/>
          <p:nvPr/>
        </p:nvPicPr>
        <p:blipFill>
          <a:blip r:embed="rId1"/>
          <a:stretch/>
        </p:blipFill>
        <p:spPr>
          <a:xfrm>
            <a:off x="324000" y="1700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755640" y="4797360"/>
            <a:ext cx="25225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ом в Вешенской, где Шолохов работал над «Тихим Доном»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30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Образ Григория Мелехова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92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5" name="Picture 9" descr="img133"/>
          <p:cNvPicPr/>
          <p:nvPr/>
        </p:nvPicPr>
        <p:blipFill>
          <a:blip r:embed="rId1"/>
          <a:stretch/>
        </p:blipFill>
        <p:spPr>
          <a:xfrm>
            <a:off x="250920" y="1557360"/>
            <a:ext cx="3844800" cy="50385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браз Аксиньи Астахов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9" name="Picture 7" descr="ошог"/>
          <p:cNvPicPr/>
          <p:nvPr/>
        </p:nvPicPr>
        <p:blipFill>
          <a:blip r:embed="rId1"/>
          <a:stretch/>
        </p:blipFill>
        <p:spPr>
          <a:xfrm>
            <a:off x="4791240" y="1905120"/>
            <a:ext cx="4022640" cy="4763880"/>
          </a:xfrm>
          <a:prstGeom prst="rect">
            <a:avLst/>
          </a:prstGeom>
          <a:ln w="0">
            <a:noFill/>
          </a:ln>
        </p:spPr>
      </p:pic>
      <p:sp>
        <p:nvSpPr>
          <p:cNvPr id="3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слуги М.А. Шолохова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419724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5" name="Picture 10" descr="img152"/>
          <p:cNvPicPr/>
          <p:nvPr/>
        </p:nvPicPr>
        <p:blipFill>
          <a:blip r:embed="rId1"/>
          <a:stretch/>
        </p:blipFill>
        <p:spPr>
          <a:xfrm>
            <a:off x="5076720" y="1628640"/>
            <a:ext cx="3768840" cy="49532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960  году  Ленинской  прем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8" name="Picture 7" descr="img147"/>
          <p:cNvPicPr/>
          <p:nvPr/>
        </p:nvPicPr>
        <p:blipFill>
          <a:blip r:embed="rId1"/>
          <a:stretch/>
        </p:blipFill>
        <p:spPr>
          <a:xfrm>
            <a:off x="250920" y="2122560"/>
            <a:ext cx="4221000" cy="335124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2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7" descr="срмр"/>
          <p:cNvPicPr/>
          <p:nvPr/>
        </p:nvPicPr>
        <p:blipFill>
          <a:blip r:embed="rId1"/>
          <a:stretch/>
        </p:blipFill>
        <p:spPr>
          <a:xfrm>
            <a:off x="4572000" y="1989000"/>
            <a:ext cx="4124160" cy="397044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8" name="Picture 21" descr="img155"/>
          <p:cNvPicPr/>
          <p:nvPr/>
        </p:nvPicPr>
        <p:blipFill>
          <a:blip r:embed="rId1"/>
          <a:stretch/>
        </p:blipFill>
        <p:spPr>
          <a:xfrm>
            <a:off x="5219640" y="1484280"/>
            <a:ext cx="2836800" cy="48942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00360" y="2491920"/>
            <a:ext cx="38098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мятник Михаилу Шолохову на набережной реки Дон в городе Ростове-на-До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Picture 7" descr="150px-Sholochov_Monument_Rostov-on-Don"/>
          <p:cNvPicPr/>
          <p:nvPr/>
        </p:nvPicPr>
        <p:blipFill>
          <a:blip r:embed="rId1"/>
          <a:stretch/>
        </p:blipFill>
        <p:spPr>
          <a:xfrm>
            <a:off x="826920" y="1557360"/>
            <a:ext cx="2800440" cy="50385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Родители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2" name="Picture 10" descr="img139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3456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1"/>
          <p:cNvSpPr/>
          <p:nvPr/>
        </p:nvSpPr>
        <p:spPr>
          <a:xfrm>
            <a:off x="755640" y="5589720"/>
            <a:ext cx="3313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с родителями (191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56360" y="6165360"/>
            <a:ext cx="1874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15 ноября 192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7" name="Picture 18" descr="img140"/>
          <p:cNvPicPr/>
          <p:nvPr/>
        </p:nvPicPr>
        <p:blipFill>
          <a:blip r:embed="rId1"/>
          <a:stretch/>
        </p:blipFill>
        <p:spPr>
          <a:xfrm>
            <a:off x="4500720" y="836640"/>
            <a:ext cx="3095640" cy="2463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img141"/>
          <p:cNvPicPr/>
          <p:nvPr/>
        </p:nvPicPr>
        <p:blipFill>
          <a:blip r:embed="rId2"/>
          <a:stretch/>
        </p:blipFill>
        <p:spPr>
          <a:xfrm>
            <a:off x="5508720" y="3429000"/>
            <a:ext cx="3384360" cy="274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0"/>
          <p:cNvSpPr/>
          <p:nvPr/>
        </p:nvSpPr>
        <p:spPr>
          <a:xfrm>
            <a:off x="7812000" y="1197000"/>
            <a:ext cx="101124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Годы учёбы в гимназ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6021000"/>
            <a:ext cx="2595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. Шолохову 20 л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426852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6" descr="img149"/>
          <p:cNvPicPr/>
          <p:nvPr/>
        </p:nvPicPr>
        <p:blipFill>
          <a:blip r:embed="rId1"/>
          <a:stretch/>
        </p:blipFill>
        <p:spPr>
          <a:xfrm>
            <a:off x="684360" y="1628640"/>
            <a:ext cx="3552840" cy="42465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580000" y="3428640"/>
            <a:ext cx="2379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Западный фронт,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годы Великой Отечественной войны Шолохов — деятельный  участник  борьб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ветского народа против фашистских захватч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8" descr="img135"/>
          <p:cNvPicPr/>
          <p:nvPr/>
        </p:nvPicPr>
        <p:blipFill>
          <a:blip r:embed="rId1"/>
          <a:stretch/>
        </p:blipFill>
        <p:spPr>
          <a:xfrm>
            <a:off x="5148360" y="1125360"/>
            <a:ext cx="3502080" cy="224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138"/>
          <p:cNvPicPr/>
          <p:nvPr/>
        </p:nvPicPr>
        <p:blipFill>
          <a:blip r:embed="rId2"/>
          <a:stretch/>
        </p:blipFill>
        <p:spPr>
          <a:xfrm>
            <a:off x="5003640" y="4076640"/>
            <a:ext cx="3600720" cy="227664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3640" y="5960880"/>
            <a:ext cx="33148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военный корреспондент «Правды».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7" descr="img151"/>
          <p:cNvPicPr/>
          <p:nvPr/>
        </p:nvPicPr>
        <p:blipFill>
          <a:blip r:embed="rId1"/>
          <a:stretch/>
        </p:blipFill>
        <p:spPr>
          <a:xfrm>
            <a:off x="4932360" y="1413000"/>
            <a:ext cx="3456000" cy="44622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11" descr="img139"/>
          <p:cNvPicPr/>
          <p:nvPr/>
        </p:nvPicPr>
        <p:blipFill>
          <a:blip r:embed="rId1"/>
          <a:stretch/>
        </p:blipFill>
        <p:spPr>
          <a:xfrm>
            <a:off x="324000" y="2133720"/>
            <a:ext cx="4392360" cy="388764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44:48Z</dcterms:created>
  <dc:creator>Родной</dc:creator>
  <dc:description/>
  <dc:language>en-US</dc:language>
  <cp:lastModifiedBy>LEGION</cp:lastModifiedBy>
  <dcterms:modified xsi:type="dcterms:W3CDTF">2015-01-20T12:03:51Z</dcterms:modified>
  <cp:revision>16</cp:revision>
  <dc:subject/>
  <dc:title>МОУ «Иваново-Эсинская общеобразовательная школа»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50000000000010250300207f7000400038000</vt:lpwstr>
  </property>
</Properties>
</file>