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35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1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5CA8-8003-44DB-9CFB-957C8C26B8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зка написана 14 октября 1833года. Сюжет сказки основан на русской народной сказке «Жадная старуха»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A035-2AA9-4D30-9374-430CF5526D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Объясни выра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«остаться  у  разбитого  коры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36DA-1F77-4DD3-B442-BFF67D730C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 algn="ctr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bbb59"/>
                </a:solidFill>
                <a:latin typeface="Calibri"/>
              </a:rPr>
              <a:t>Объясни устаревшие сл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2949-D2AA-4403-BB69-53F35CB2B7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Зачитайте, сколько раз старик забрасывал не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DF9D-99F6-4FE2-8439-36838A46CC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справь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(расположи  желания старухи по-поряд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06B1-32B1-48A4-9978-A95E7D4836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акое  желание   старухи   рыбка не выполни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CB1E-5ED5-4144-AC7E-637C9EE79C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Проследи, как постепенно  менялось  мо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7187-67FC-4300-A137-09B02540DD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Расскажи, почему  рыбку  можно  наз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Monotype Corsiva"/>
              </a:rPr>
              <a:t>доброй,  благодарной,  справедлив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E948-5A73-4CF2-A0C4-822A134DBA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Соотнеси  основную  мыс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сказки  с  послов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0B05-6596-4028-B4B9-78B4156BBA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AA75-AEF8-422D-A658-21C7543A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B72A-6D27-4ACF-92BE-9E802072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4DAC-FCC9-4C86-921C-4F3B0769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9100-E0C5-4674-BC30-C3EC6C8C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0ABC-CF4E-463C-A526-2C0156D0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F2A6-9A92-42AC-B1C1-58DE4C4A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8196-9FE8-4A4E-9D0B-E4BDAE1E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E618-F8A6-47B0-AA47-911D7B14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5F7-47E4-4DF7-87FE-C0F400A7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FA6-3E3A-44D1-8FC6-C530FC66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E39A-1FF6-430E-A3D7-B0F1997D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31B7-B48D-4B31-BD74-E8042053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1272-F3C2-4CB2-A631-32D2BE3C86F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CD46-7538-4DC8-9FE3-8A08CBB3EB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ru.wikipedia.org/wiki/%D1%EA%E0%E7%EA%E0_%EE_%F0%FB%E1%E0%EA%E5_%E8_%F0%FB%E1%EA%E5" TargetMode="External"/><Relationship Id="rId3" Type="http://schemas.openxmlformats.org/officeDocument/2006/relationships/hyperlink" Target="http://katushka.net/torrents/42543/screenshot_0.jpg" TargetMode="External"/><Relationship Id="rId4" Type="http://schemas.openxmlformats.org/officeDocument/2006/relationships/hyperlink" Target="http://katushka.net/torrents/42543/screenshot_0.jpg" TargetMode="External"/><Relationship Id="rId5" Type="http://schemas.openxmlformats.org/officeDocument/2006/relationships/hyperlink" Target="http://irina-imarkina.narod2.ru/metodicheskaya_kopilka_prezentatsii/vneklassnie_meropriyatiya_po_predmetu/pushkin_literaturnii_vecher/prezentatsiya/A.S.Pushkin_7.jpg?rand=2011810489619650" TargetMode="External"/><Relationship Id="rId6" Type="http://schemas.openxmlformats.org/officeDocument/2006/relationships/hyperlink" Target="http://s1.afisha.net/Afisha7Files/UGPhotos/090403185542/091102111633/p_F.jpg" TargetMode="External"/><Relationship Id="rId7" Type="http://schemas.openxmlformats.org/officeDocument/2006/relationships/hyperlink" Target="http://s1.afisha.net/Afisha7Files/UGPhotos/090403185542/091102111633/p_F.jpg" TargetMode="External"/><Relationship Id="rId8" Type="http://schemas.openxmlformats.org/officeDocument/2006/relationships/hyperlink" Target="http://www.knigosklad.ru/det/bd1563.jpg" TargetMode="External"/><Relationship Id="rId9" Type="http://schemas.openxmlformats.org/officeDocument/2006/relationships/hyperlink" Target="http://www.knigosklad.ru/det/bd1563.jpg" TargetMode="External"/><Relationship Id="rId10" Type="http://schemas.openxmlformats.org/officeDocument/2006/relationships/hyperlink" Target="http://mul.3dn.ru/4/skazka.o.rybake.i.rybke.0-19-15.973.jpg" TargetMode="External"/><Relationship Id="rId11" Type="http://schemas.openxmlformats.org/officeDocument/2006/relationships/hyperlink" Target="http://mul.3dn.ru/4/skazka.o.rybake.i.rybke.0-19-15.973.jpg" TargetMode="External"/><Relationship Id="rId12" Type="http://schemas.openxmlformats.org/officeDocument/2006/relationships/hyperlink" Target="http://allmults.org/images/multiki/173.jpg" TargetMode="External"/><Relationship Id="rId13" Type="http://schemas.openxmlformats.org/officeDocument/2006/relationships/hyperlink" Target="http://www.kuharka.ru/images/users/gallery/2010/08/06/b_73673.gif" TargetMode="External"/><Relationship Id="rId14" Type="http://schemas.openxmlformats.org/officeDocument/2006/relationships/hyperlink" Target="http://i002.radikal.ru/0911/f6/746328cb3d60.jpg" TargetMode="External"/><Relationship Id="rId15" Type="http://schemas.openxmlformats.org/officeDocument/2006/relationships/hyperlink" Target="http://www.old-land.ru/images/skazki/rr02.jpg" TargetMode="External"/><Relationship Id="rId16" Type="http://schemas.openxmlformats.org/officeDocument/2006/relationships/hyperlink" Target="http://imb.i-kino.com/images/screenshots/3416786/1/1.jpg" TargetMode="External"/><Relationship Id="rId17" Type="http://schemas.openxmlformats.org/officeDocument/2006/relationships/hyperlink" Target="http://media7.fast-torrent.ru/media/photologue/photos/sbornik-multfilmov-imeninyi-serdtsa-3-dvdrip_scene48.jpg" TargetMode="External"/><Relationship Id="rId18" Type="http://schemas.openxmlformats.org/officeDocument/2006/relationships/hyperlink" Target="http://free-filmy.ru/uploads/posts/2010-06/1277673973_00e552a9f20d.jpg" TargetMode="External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1.afisha.net/Afisha7Files/UGPhotos/090330195728/091102111627/p_F.jpg" TargetMode="External"/><Relationship Id="rId2" Type="http://schemas.openxmlformats.org/officeDocument/2006/relationships/hyperlink" Target="http://dcp.sovserv.ru/media/images/5/9/d/184962.jpg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оризонтальный свиток 5"/>
          <p:cNvGrpSpPr/>
          <p:nvPr/>
        </p:nvGrpSpPr>
        <p:grpSpPr>
          <a:xfrm>
            <a:off x="476280" y="2249640"/>
            <a:ext cx="8332920" cy="1066680"/>
            <a:chOff x="476280" y="2249640"/>
            <a:chExt cx="8332920" cy="1066680"/>
          </a:xfrm>
        </p:grpSpPr>
        <p:pic>
          <p:nvPicPr>
            <p:cNvPr id="49" name="Горизонтальный свиток 5" descr=""/>
            <p:cNvPicPr/>
            <p:nvPr/>
          </p:nvPicPr>
          <p:blipFill>
            <a:blip r:embed="rId1"/>
            <a:stretch/>
          </p:blipFill>
          <p:spPr>
            <a:xfrm>
              <a:off x="476280" y="2249640"/>
              <a:ext cx="83329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3"/>
            <p:cNvSpPr/>
            <p:nvPr/>
          </p:nvSpPr>
          <p:spPr>
            <a:xfrm>
              <a:off x="657360" y="2394000"/>
              <a:ext cx="8032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казка написана 14 октября 1833года. Сюжет сказки основан на русской народной сказке «Жадная старуха»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Прямоугольник 3" descr=""/>
          <p:cNvPicPr/>
          <p:nvPr/>
        </p:nvPicPr>
        <p:blipFill>
          <a:blip r:embed="rId2"/>
          <a:stretch/>
        </p:blipFill>
        <p:spPr>
          <a:xfrm>
            <a:off x="1847880" y="55440"/>
            <a:ext cx="5175360" cy="2260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2340000" y="3213000"/>
            <a:ext cx="4703760" cy="3527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3" name="Picture 5" descr=""/>
          <p:cNvPicPr/>
          <p:nvPr/>
        </p:nvPicPr>
        <p:blipFill>
          <a:blip r:embed="rId4"/>
          <a:stretch/>
        </p:blipFill>
        <p:spPr>
          <a:xfrm rot="419400">
            <a:off x="6835680" y="484200"/>
            <a:ext cx="1411560" cy="1789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-321840" y="476280"/>
            <a:ext cx="980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Объясни выра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«остаться  у  разбитого  коры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5767200" cy="4319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Прямоугольник 1" descr=""/>
          <p:cNvPicPr/>
          <p:nvPr/>
        </p:nvPicPr>
        <p:blipFill>
          <a:blip r:embed="rId1"/>
          <a:stretch/>
        </p:blipFill>
        <p:spPr>
          <a:xfrm>
            <a:off x="1554120" y="255600"/>
            <a:ext cx="6248520" cy="9874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2"/>
          <p:cNvSpPr/>
          <p:nvPr/>
        </p:nvSpPr>
        <p:spPr>
          <a:xfrm>
            <a:off x="179280" y="1268280"/>
            <a:ext cx="864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u.wikipedia.org/wiki/%D1%EA%E0%E7%EA%E0_%EE_%F0%FB%E1%E0%EA%E5_%E8_%F0%FB%E1%EA%E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материал из Википедии  интерн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>
            <a:hlinkClick r:id="rId3"/>
          </p:cNvPr>
          <p:cNvSpPr/>
          <p:nvPr/>
        </p:nvSpPr>
        <p:spPr>
          <a:xfrm>
            <a:off x="179280" y="1989000"/>
            <a:ext cx="86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katushka.net/torrents/42543/screenshot_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179280" y="2276640"/>
            <a:ext cx="84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irina-imarkina.narod2.ru/metodicheskaya_kopilka_prezentatsii/vneklassnie_meropriyatiya_po_predmetu/pushkin_literaturnii_vecher/prezentatsiya/A.S.Pushkin_7.jpg?rand=201181048961965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иллюстраци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>
            <a:hlinkClick r:id="rId6"/>
          </p:cNvPr>
          <p:cNvSpPr/>
          <p:nvPr/>
        </p:nvSpPr>
        <p:spPr>
          <a:xfrm>
            <a:off x="179280" y="2997360"/>
            <a:ext cx="77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s1.afisha.net/Afisha7Files/UGPhotos/090403185542/091102111633/p_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8">
            <a:hlinkClick r:id="rId8"/>
          </p:cNvPr>
          <p:cNvSpPr/>
          <p:nvPr/>
        </p:nvSpPr>
        <p:spPr>
          <a:xfrm>
            <a:off x="261720" y="1700280"/>
            <a:ext cx="37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knigosklad.ru/det/bd156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9">
            <a:hlinkClick r:id="rId10"/>
          </p:cNvPr>
          <p:cNvSpPr/>
          <p:nvPr/>
        </p:nvSpPr>
        <p:spPr>
          <a:xfrm>
            <a:off x="179280" y="335772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mul.3dn.ru/4/skazka.o.rybake.i.rybke.0-19-15.97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-  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0"/>
          <p:cNvSpPr/>
          <p:nvPr/>
        </p:nvSpPr>
        <p:spPr>
          <a:xfrm>
            <a:off x="250920" y="3645000"/>
            <a:ext cx="44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allmults.org/images/multiki/17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1"/>
          <p:cNvSpPr/>
          <p:nvPr/>
        </p:nvSpPr>
        <p:spPr>
          <a:xfrm>
            <a:off x="250920" y="4005360"/>
            <a:ext cx="61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kuharka.ru/images/users/gallery/2010/08/06/b_73673.gi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2"/>
          <p:cNvSpPr/>
          <p:nvPr/>
        </p:nvSpPr>
        <p:spPr>
          <a:xfrm>
            <a:off x="250920" y="4365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i002.radikal.ru/0911/f6/746328cb3d6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3"/>
          <p:cNvSpPr/>
          <p:nvPr/>
        </p:nvSpPr>
        <p:spPr>
          <a:xfrm>
            <a:off x="324000" y="4797360"/>
            <a:ext cx="51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old-land.ru/images/skazki/rr0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250920" y="5157720"/>
            <a:ext cx="59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imb.i-kino.com/images/screenshots/3416786/1/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5"/>
          <p:cNvSpPr/>
          <p:nvPr/>
        </p:nvSpPr>
        <p:spPr>
          <a:xfrm>
            <a:off x="395280" y="5445000"/>
            <a:ext cx="633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media7.fast-torrent.ru/media/photologue/photos/sbornik-multfilmov-imeninyi-serdtsa-3-dvdrip_scene48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6"/>
          <p:cNvSpPr/>
          <p:nvPr/>
        </p:nvSpPr>
        <p:spPr>
          <a:xfrm>
            <a:off x="1187280" y="5877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free-filmy.ru/uploads/posts/2010-06/1277673973_00e552a9f20d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395280" y="16286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1.afisha.net/Afisha7Files/UGPhotos/090330195728/091102111627/p_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395280" y="213372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dcp.sovserv.ru/media/images/5/9/d/18496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395280" y="2492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f3.vcp.digitalaccess.ru/contents/5/9/742d57722779c1f45870947bf7730e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"/>
          <p:cNvSpPr/>
          <p:nvPr/>
        </p:nvSpPr>
        <p:spPr>
          <a:xfrm>
            <a:off x="395280" y="306864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itera-puschkin.narod.ru/images/p10_ss852424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395280" y="3500280"/>
            <a:ext cx="49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ircash-promost.com/sc/b/50524_851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468360" y="393372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ree-lancers.net/posted_files/NCE5175F4EA9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7"/>
          <p:cNvSpPr/>
          <p:nvPr/>
        </p:nvSpPr>
        <p:spPr>
          <a:xfrm>
            <a:off x="395280" y="42926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g15.nnm.ru/f/5/a/c/d/b15005c0a84b834c0d82941d5ea_prev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107640" y="5013360"/>
            <a:ext cx="900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Автор презентации – учитель начальных классов Полищук С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МОУ СОШ №26 пос. Новонежино, приморского края (май 2011 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9"/>
          <p:cNvSpPr/>
          <p:nvPr/>
        </p:nvSpPr>
        <p:spPr>
          <a:xfrm>
            <a:off x="213120" y="1484280"/>
            <a:ext cx="857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Автор презентации – учитель начальных классов Полищук С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МОУ СОШ №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пос. Новонежи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Приморского кр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(май 2011 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2987640" y="4005360"/>
            <a:ext cx="3059280" cy="21621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1" descr=""/>
          <p:cNvPicPr/>
          <p:nvPr/>
        </p:nvPicPr>
        <p:blipFill>
          <a:blip r:embed="rId1"/>
          <a:stretch/>
        </p:blipFill>
        <p:spPr>
          <a:xfrm>
            <a:off x="682560" y="-317520"/>
            <a:ext cx="7639200" cy="17924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2" descr=""/>
          <p:cNvPicPr/>
          <p:nvPr/>
        </p:nvPicPr>
        <p:blipFill>
          <a:blip r:embed="rId2"/>
          <a:stretch/>
        </p:blipFill>
        <p:spPr>
          <a:xfrm>
            <a:off x="-152280" y="1206360"/>
            <a:ext cx="2835000" cy="11890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ая соединительная линия 4"/>
          <p:cNvSpPr/>
          <p:nvPr/>
        </p:nvSpPr>
        <p:spPr>
          <a:xfrm flipH="1">
            <a:off x="7884720" y="134136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2442960" cy="2739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9" name="Прямоугольник 7" descr=""/>
          <p:cNvPicPr/>
          <p:nvPr/>
        </p:nvPicPr>
        <p:blipFill>
          <a:blip r:embed="rId4"/>
          <a:stretch/>
        </p:blipFill>
        <p:spPr>
          <a:xfrm>
            <a:off x="2230560" y="1206360"/>
            <a:ext cx="2970000" cy="11890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8"/>
          <p:cNvSpPr/>
          <p:nvPr/>
        </p:nvSpPr>
        <p:spPr>
          <a:xfrm flipH="1">
            <a:off x="3492000" y="141300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9"/>
          <p:cNvSpPr/>
          <p:nvPr/>
        </p:nvSpPr>
        <p:spPr>
          <a:xfrm flipH="1">
            <a:off x="899640" y="141300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10" descr=""/>
          <p:cNvPicPr/>
          <p:nvPr/>
        </p:nvPicPr>
        <p:blipFill>
          <a:blip r:embed="rId5"/>
          <a:stretch/>
        </p:blipFill>
        <p:spPr>
          <a:xfrm>
            <a:off x="4834080" y="1133640"/>
            <a:ext cx="4213080" cy="201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6"/>
          <a:stretch/>
        </p:blipFill>
        <p:spPr>
          <a:xfrm>
            <a:off x="5292720" y="3068640"/>
            <a:ext cx="3456000" cy="2592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4" name="Прямая соединительная линия 12"/>
          <p:cNvSpPr/>
          <p:nvPr/>
        </p:nvSpPr>
        <p:spPr>
          <a:xfrm flipH="1">
            <a:off x="7093080" y="220500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13" descr=""/>
          <p:cNvPicPr/>
          <p:nvPr/>
        </p:nvPicPr>
        <p:blipFill>
          <a:blip r:embed="rId7"/>
          <a:stretch/>
        </p:blipFill>
        <p:spPr>
          <a:xfrm>
            <a:off x="4681440" y="5456160"/>
            <a:ext cx="4651560" cy="1189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ая соединительная линия 14"/>
          <p:cNvSpPr/>
          <p:nvPr/>
        </p:nvSpPr>
        <p:spPr>
          <a:xfrm flipH="1">
            <a:off x="7596360" y="5661000"/>
            <a:ext cx="7128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15" descr=""/>
          <p:cNvPicPr/>
          <p:nvPr/>
        </p:nvPicPr>
        <p:blipFill>
          <a:blip r:embed="rId8"/>
          <a:stretch/>
        </p:blipFill>
        <p:spPr>
          <a:xfrm>
            <a:off x="2730600" y="3584520"/>
            <a:ext cx="2749320" cy="11890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ая соединительная линия 16"/>
          <p:cNvSpPr/>
          <p:nvPr/>
        </p:nvSpPr>
        <p:spPr>
          <a:xfrm flipH="1">
            <a:off x="3780000" y="378936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ая соединительная линия 3"/>
          <p:cNvSpPr/>
          <p:nvPr/>
        </p:nvSpPr>
        <p:spPr>
          <a:xfrm flipH="1">
            <a:off x="2268000" y="62064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4" descr=""/>
          <p:cNvPicPr/>
          <p:nvPr/>
        </p:nvPicPr>
        <p:blipFill>
          <a:blip r:embed="rId1"/>
          <a:stretch/>
        </p:blipFill>
        <p:spPr>
          <a:xfrm>
            <a:off x="-195120" y="347760"/>
            <a:ext cx="6278400" cy="118908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5" descr=""/>
          <p:cNvPicPr/>
          <p:nvPr/>
        </p:nvPicPr>
        <p:blipFill>
          <a:blip r:embed="rId2"/>
          <a:stretch/>
        </p:blipFill>
        <p:spPr>
          <a:xfrm>
            <a:off x="-73080" y="1352520"/>
            <a:ext cx="2809800" cy="11890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ая соединительная линия 6"/>
          <p:cNvSpPr/>
          <p:nvPr/>
        </p:nvSpPr>
        <p:spPr>
          <a:xfrm flipH="1">
            <a:off x="1332000" y="1484280"/>
            <a:ext cx="7128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3"/>
          <a:stretch/>
        </p:blipFill>
        <p:spPr>
          <a:xfrm>
            <a:off x="2627280" y="1484280"/>
            <a:ext cx="3686040" cy="2449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5" name="Прямоугольник 8" descr=""/>
          <p:cNvPicPr/>
          <p:nvPr/>
        </p:nvPicPr>
        <p:blipFill>
          <a:blip r:embed="rId4"/>
          <a:stretch/>
        </p:blipFill>
        <p:spPr>
          <a:xfrm>
            <a:off x="-201600" y="3797280"/>
            <a:ext cx="6303960" cy="11890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ая соединительная линия 9"/>
          <p:cNvSpPr/>
          <p:nvPr/>
        </p:nvSpPr>
        <p:spPr>
          <a:xfrm flipH="1">
            <a:off x="1186920" y="400536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10"/>
          <p:cNvSpPr/>
          <p:nvPr/>
        </p:nvSpPr>
        <p:spPr>
          <a:xfrm flipH="1">
            <a:off x="3924360" y="400536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5"/>
          <a:stretch/>
        </p:blipFill>
        <p:spPr>
          <a:xfrm>
            <a:off x="5749920" y="4076640"/>
            <a:ext cx="3025800" cy="244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9" name="Прямоугольник 12" descr=""/>
          <p:cNvPicPr/>
          <p:nvPr/>
        </p:nvPicPr>
        <p:blipFill>
          <a:blip r:embed="rId6"/>
          <a:stretch/>
        </p:blipFill>
        <p:spPr>
          <a:xfrm>
            <a:off x="1079640" y="4883040"/>
            <a:ext cx="3790800" cy="11890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ая соединительная линия 13"/>
          <p:cNvSpPr/>
          <p:nvPr/>
        </p:nvSpPr>
        <p:spPr>
          <a:xfrm flipH="1">
            <a:off x="2842920" y="5013360"/>
            <a:ext cx="730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-1630440" y="620640"/>
            <a:ext cx="123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читайте, сколько раз старик забрасывал не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211400" y="1484280"/>
            <a:ext cx="6432480" cy="4824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527880" cy="4895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-861840" y="333360"/>
            <a:ext cx="105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Исправь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(расположи  желания старухи по-порядк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3186000" cy="2549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8" name="TextBox 3"/>
          <p:cNvSpPr/>
          <p:nvPr/>
        </p:nvSpPr>
        <p:spPr>
          <a:xfrm>
            <a:off x="137880" y="126828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4674960" y="14130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3263760" cy="2449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1" name="TextBox 6"/>
          <p:cNvSpPr/>
          <p:nvPr/>
        </p:nvSpPr>
        <p:spPr>
          <a:xfrm>
            <a:off x="137880" y="40053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4674960" y="393372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3071880" cy="2303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4" name="Picture 5" descr=""/>
          <p:cNvPicPr/>
          <p:nvPr/>
        </p:nvPicPr>
        <p:blipFill>
          <a:blip r:embed="rId4"/>
          <a:stretch/>
        </p:blipFill>
        <p:spPr>
          <a:xfrm>
            <a:off x="755640" y="4149720"/>
            <a:ext cx="3422520" cy="223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59259E-006 L 0.53021 -0.01042 E">
                                      <p:cBhvr>
                                        <p:cTn id="13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93 -0.0074 L -0.44966 -0.0074 E">
                                      <p:cBhvr>
                                        <p:cTn id="14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85185E-006 L -0.48037 1.85185E-006 E">
                                      <p:cBhvr>
                                        <p:cTn id="14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4.07407E-006 L 0.48837 4.07407E-006 E">
                                      <p:cBhvr>
                                        <p:cTn id="15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-1413360" y="549360"/>
            <a:ext cx="119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ое  желание   старухи   рыбка не выполни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048720" cy="4537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-991080" y="549360"/>
            <a:ext cx="106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Проследи, как постепенно  менялось  мор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-766440" y="1413000"/>
            <a:ext cx="63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Monotype Corsiva"/>
              </a:rPr>
              <a:t>море слегка разыграло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673560" y="2060640"/>
            <a:ext cx="59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помутилось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675800" y="2781360"/>
            <a:ext cx="60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не спокойно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2723760" y="3573360"/>
            <a:ext cx="56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чернело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3761640" y="4437000"/>
            <a:ext cx="528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  море чёрная бу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3575160" cy="2592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3719520" cy="2789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179280" y="4076640"/>
            <a:ext cx="3552840" cy="2665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8" name="Picture 4" descr=""/>
          <p:cNvPicPr/>
          <p:nvPr/>
        </p:nvPicPr>
        <p:blipFill>
          <a:blip r:embed="rId4"/>
          <a:stretch/>
        </p:blipFill>
        <p:spPr>
          <a:xfrm>
            <a:off x="179280" y="4076640"/>
            <a:ext cx="3954600" cy="260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9" name="TextBox 11"/>
          <p:cNvSpPr/>
          <p:nvPr/>
        </p:nvSpPr>
        <p:spPr>
          <a:xfrm>
            <a:off x="3392280" y="5950080"/>
            <a:ext cx="64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Почему так происходил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ШУМ МОРЯ.wma" descr=""/>
          <p:cNvPicPr/>
          <p:nvPr/>
        </p:nvPicPr>
        <p:blipFill>
          <a:blip r:embed="rId5"/>
          <a:stretch/>
        </p:blipFill>
        <p:spPr>
          <a:xfrm>
            <a:off x="8675640" y="6453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-859320" y="549360"/>
            <a:ext cx="1135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Расскажи, почему  рыбку  можно  назв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доброй,  благодарной,  справедлив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6012000" cy="4248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5"/>
          <p:cNvSpPr/>
          <p:nvPr/>
        </p:nvSpPr>
        <p:spPr>
          <a:xfrm>
            <a:off x="-930960" y="476280"/>
            <a:ext cx="8475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Соотнеси  основную  мыс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сказки  с  пословиц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-1620360" y="3357720"/>
            <a:ext cx="123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Много захочешь – последнее потеряеш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-1194120" y="4221000"/>
            <a:ext cx="994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Много желать – добра не вид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-1173600" y="4869000"/>
            <a:ext cx="1013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Жадность  всякому  горю  нача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290880" y="5661000"/>
            <a:ext cx="71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Ненасытному всё ма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060720" cy="244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5:49:53Z</dcterms:created>
  <dc:creator>Светлана</dc:creator>
  <dc:description/>
  <dc:language>en-US</dc:language>
  <cp:lastModifiedBy>LEGION</cp:lastModifiedBy>
  <dcterms:modified xsi:type="dcterms:W3CDTF">2015-01-20T13:33:28Z</dcterms:modified>
  <cp:revision>22</cp:revision>
  <dc:subject/>
  <dc:title>Слайд 1</dc:title>
</cp:coreProperties>
</file>