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5E6D-E01E-4C47-8D99-772A3A5E79F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ександр Иванович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РИН (1870-193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траницы жизни и творчеств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D748-F888-4426-9EF9-0EB252B982AC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02 – пишет о сломленных судьбою людях:«В цирке», « Болото», «На поко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03 – возникает новый герой, активный, борющийся с обстоятельствами. «Трус», «Конокрад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ёт активный образ жизни: организует в Киеве атлетическое общество. Вместе с известным спортсменом Сергеем Уточкиным поднимается на воздушном шаре. Летит с Иваном Заикиным на самолёте «Форман». В 43 года всерьёз начинает учиться сильному плаванию у мирового рекордсмена Л.Романен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384F-ECFC-400B-8A7A-F7C5C0A63425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ести о любв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леся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уламиф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AD98-2328-4669-A343-945E4301039D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атовый брас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сти о любви объединяет мысль: любовь – это великий дар, чистое и бескорыстное чувство. Оно полно испытаний и лишений.  Только любовь помогает ощутить полноту жизни, пусть короткой, но яр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D8E2-A038-4AD6-B76B-D5DBF38D262E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эмигр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20 – по приглашению Бунина уезжает в Пари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метился спад в творчестве, неприятие советского строя выливается в статьях, в которых Куприн критикует новые в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27-1934 – появляются книги «Колесо времени», «Рассказы в каплях» и другие. Создаёт новеллы «Тень Наполеона», «Четверо нищих», пишет роман «Юнкер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ска по Родине настолько сильна, что Куприн признаётся: «…не могу спокойно письма написать туда, ком в горл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990D-AB4E-45F8-8EB8-E96E3AC0E4F2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е 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рин остро чувствовал свою вину перед Родиной. Не давала покоя мысль о возвращении и о его невозмож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ник Билибин, получивший к тому времени разрешение вернуться в СССР, берёт на себя переговоры в посольстве, и в 1937 году писатель возвращается в Моск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дучи в эмиграции, писатель тяжело заболе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 августа 1938 года Куприн скончал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FCA5-04F2-4E34-B0BA-E837D2CA8494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нению современников, его всегда спасает инстинкт природного здорового дарования, органический оптимизм, жизнерадостность, любовь к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.Н.Михай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критик, литературове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329E-46B6-40CF-9C77-AD24553011E0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6 августа (7 сентября) 1870 года родился в городке Наровчате Пензенской губернии, в обедневшей разночинно-демократической сем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-  «из детей лекарских учеников», служил в канцелярии, умер в возрасте 37 лет, когда Саше исполнился только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ь из древнего рода татарских князей Куланчаковых, давно разоривш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1C6B-16A1-4ABA-867D-6E622925EC23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ы взрос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74 – переезд в Москву, проживание в казённом учреждении – в общей палате вдовьего до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76 – сиротское училище. Казённая обстановка, муштра, жестокое обращение воспитательниц доставляли стр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80 – Вторая московская военная гимназия,  через два года преобразованная в кадетский корпус. «Всеобщий культ кулака» калечил детские ду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88 – Третье Александровское юнкерское училище в Москве. Занимается гимнастикой, танцами, литератур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91B6-C1D3-48D7-BF31-83BADD8D772B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енная тема в творчеств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ы обучения, атмосфера казённого быта, противоречия семейного и казарменного воспитания,  истинное и мнимое понятие о чести, справедливости нашли отражение в повестя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 переломе» («Кадеты»), «Юнкера», «Дознание», «Поедин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50B0-C14F-473A-A24C-22A633D6E033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чало творческого пу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инает сотрудничать с журналом «Русский сатирический листок», ещё обучаясь в юнкерском училище. Получает взыскание за выступление в печати. (Рассказ «Последний дебют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90 – назначается служить в 46-й Днепровский полк в городишко Проскуров Подольской губер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ба была отягощена бездельем, попойками, мелкими интриж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601D-1EAD-422E-9238-5A848F691964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очарование в служб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вании подпоручика Куприн отслужил 4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94 – подаёт в отставку и уезжает в Киев. Работает в местных газетах, пишет рассказы, очерки, заме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E3F8-7FCB-44DA-AED8-24A90E3555DB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матери Куприн унаследовал внима-тельное отношение к жизни, тонкую наблюдательность, любовь к книгам, вдумчивое чт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е влияние на литературное да-рование Куприна оказал единственный талантливый учитель в кадетском кор-пусе Цуханов, который читал воспитан-никам Пушкина, Лермонтова, Гоголя, Турген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01 – приезжает в Петербург, знакомит-ся с Буниним, Чеховым, Горьк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AFC8-DA7A-475A-9BD7-22B8F9F6073D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оло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96 – пишет социально-психологическую повесть «Молох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персонаж Квашнин – промышленник, финансист, образ алчности, паразитизма и жесток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олох» - обличение буржуазного общества, отражение коренных противоречий эпох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182E-C6D8-4EE4-A4B9-A29A1FA51A9A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E5B2-DEAE-4C6E-9297-DBA93613D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1D42-7265-4227-8853-F7BE0B0F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C2FF-9FE6-4C91-911A-0562F9A6E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C169-7083-4AA6-9F0C-6FE55825B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537D-0D2D-42C6-A078-02BE6E119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E1CB-AC68-49DD-BB80-9F9CB71E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AEB9-5A72-462C-A9DF-B5CE2A49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F074-F41A-423E-AEF9-175BFE00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D059-A64D-4D08-AD3F-22FC10F6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00D6B-0F06-433E-B8FA-5A99BBBD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D83B6-7DD9-45E1-A7AE-92E114C9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EFC8-C54E-49FC-8285-50289168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BFB1-94B1-4658-9B41-F0FFD4E9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EB98-F3A9-4E86-AFE6-80AAB334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00CB-5361-498D-8954-B4728A84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3C10-295A-4C1A-BF51-A30929567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B1E9-5FCD-41B5-B229-9DB127BBE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05C9-2C06-42D3-823B-DE412193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AC23-0709-496D-9583-8D4C9118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AF8E-360C-4495-AB2C-0B19D698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0EE2-A794-43DD-BF19-AF42C3ED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F7F5-A963-4A74-AB72-6619B573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F191-A04A-49B7-8C37-0CA8AC4C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D275-9029-4ABE-ACF3-9AFB6B63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398A-8592-4A59-AC69-975C625B99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Group 9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Arc 17"/>
              <p:cNvSpPr/>
              <p:nvPr/>
            </p:nvSpPr>
            <p:spPr>
              <a:xfrm>
                <a:off x="752400" y="3587760"/>
                <a:ext cx="198360" cy="1832040"/>
              </a:xfrm>
              <a:custGeom>
                <a:avLst/>
                <a:gdLst/>
                <a:ahLst/>
                <a:rect l="l" t="t" r="r" b="b"/>
                <a:pathLst>
                  <a:path fill="none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</a:path>
                  <a:path stroke="0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  <a:lnTo>
                      <a:pt x="754" y="2160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Oval 18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354e"/>
                </a:gs>
                <a:gs pos="100000">
                  <a:srgbClr val="00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Rectangle 20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6" name="Group 3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57" name="Group 4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58" name="AutoShape 5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AutoShape 6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Rectangle 7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8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Rectangle 9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Rectangle 10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Arc 11"/>
                <p:cNvSpPr/>
                <p:nvPr/>
              </p:nvSpPr>
              <p:spPr>
                <a:xfrm rot="10485000">
                  <a:off x="2004120" y="3555360"/>
                  <a:ext cx="1148040" cy="1359000"/>
                </a:xfrm>
                <a:custGeom>
                  <a:avLst/>
                  <a:gdLst/>
                  <a:ahLst/>
                  <a:rect l="l" t="t" r="r" b="b"/>
                  <a:pathLst>
                    <a:path fill="none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</a:path>
                    <a:path stroke="0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  <a:lnTo>
                        <a:pt x="21518" y="2258"/>
                      </a:lnTo>
                      <a:lnTo>
                        <a:pt x="-22537" y="0"/>
                      </a:lnTo>
                      <a:close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Freeform 12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Freeform 13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7" name="Rectangle 14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E678-BE09-4AA2-9E11-F23CED662324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Александр Иванович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КУПРИН (1870-1938)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2574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траницы жизни и творчест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429000" y="106668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9" name="Picture 9" descr="kyprin"/>
          <p:cNvPicPr/>
          <p:nvPr/>
        </p:nvPicPr>
        <p:blipFill>
          <a:blip r:embed="rId1"/>
          <a:stretch/>
        </p:blipFill>
        <p:spPr>
          <a:xfrm>
            <a:off x="1612800" y="2057400"/>
            <a:ext cx="3175200" cy="380988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-8424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4582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902 – пишет о сломленных судьбою людях:«В цирке», « Болото», «На покое»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903 – возникает новый герой, активный, борющийся с обстоятельствами. «Трус», «Конокрады»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едёт активный образ жизни: организует в Киеве атлетическое общество. Вместе с известным спортсменом Сергеем Уточкиным поднимается на воздушном шаре. Летит с Иваном Заикиным на самолёте «Форман». В 43 года всерьёз начинает учиться сильному плаванию у мирового рекордсмена Л.Романенк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Повести о любви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58128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«Олеся»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908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«Суламифь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2" name="Picture 15" descr="DSC01906"/>
          <p:cNvPicPr/>
          <p:nvPr/>
        </p:nvPicPr>
        <p:blipFill>
          <a:blip r:embed="rId1"/>
          <a:stretch/>
        </p:blipFill>
        <p:spPr>
          <a:xfrm rot="1243200">
            <a:off x="6248520" y="3276720"/>
            <a:ext cx="2523960" cy="3124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0005-007-Povest-Olesja-1898"/>
          <p:cNvPicPr/>
          <p:nvPr/>
        </p:nvPicPr>
        <p:blipFill>
          <a:blip r:embed="rId2"/>
          <a:stretch/>
        </p:blipFill>
        <p:spPr>
          <a:xfrm rot="1235400">
            <a:off x="4419360" y="990720"/>
            <a:ext cx="1858680" cy="533376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876560" y="1523520"/>
            <a:ext cx="42670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Гранатовый брасле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191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вести о любви объединяет мысль: любовь – это великий дар, чистое и бескорыстное чувство. Оно полно испытаний и лишений.  Только любовь помогает ощутить полноту жизни, пусть короткой, но яркой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7" name="Picture 13" descr="0008-010-Ljubov-kak-vysshaja-tsennost-mira-v-rasskaze-Granatovyj-braslet"/>
          <p:cNvPicPr/>
          <p:nvPr/>
        </p:nvPicPr>
        <p:blipFill>
          <a:blip r:embed="rId1"/>
          <a:stretch/>
        </p:blipFill>
        <p:spPr>
          <a:xfrm>
            <a:off x="990720" y="1600200"/>
            <a:ext cx="2093760" cy="4114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4" descr="212041_html_m689eac30"/>
          <p:cNvPicPr/>
          <p:nvPr/>
        </p:nvPicPr>
        <p:blipFill>
          <a:blip r:embed="rId2"/>
          <a:stretch/>
        </p:blipFill>
        <p:spPr>
          <a:xfrm>
            <a:off x="2743200" y="2895480"/>
            <a:ext cx="2373480" cy="358164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 Black"/>
              </a:rPr>
              <a:t>В эмиграции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920 – по приглашению Бунина уезжает в Париж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метился спад в творчестве, неприятие советского строя выливается в статьях, в которых Куприн критикует новые власт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927-1934 – появляются книги «Колесо времени», «Рассказы в каплях» и другие. Создаёт новеллы «Тень Наполеона», «Четверо нищих», пишет роман «Юнкера»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Тоска по Родине настолько сильна, что Куприн признаётся: «…не могу спокойно письма написать туда, ком в горле»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2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Последние годы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9520" y="1294920"/>
            <a:ext cx="5257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уприн остро чувствовал свою вину перед Родиной. Не давала покоя мысль о возвращении и о его невозмож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Художник Билибин, получивший к тому времени разрешение вернуться в СССР, берёт на себя переговоры в посольстве, и в 1937 году писатель возвращается в Москву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Будучи в эмиграции, писатель тяжело заболел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25 августа 1938 года Куприн скончался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5" name="Picture 11" descr="195"/>
          <p:cNvPicPr/>
          <p:nvPr/>
        </p:nvPicPr>
        <p:blipFill>
          <a:blip r:embed="rId1"/>
          <a:stretch/>
        </p:blipFill>
        <p:spPr>
          <a:xfrm>
            <a:off x="762120" y="1676520"/>
            <a:ext cx="3139920" cy="415116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21996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 мнению современников, его всегда спасает инстинкт природного здорового дарования, органический оптимизм, жизнерадостность, любовь к жизн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                 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.Н.Михайлов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               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(критик, литературовед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Детство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26 августа (7 сентября) 1870 года родился в городке Наровчате Пензенской губернии, в обедневшей разночинно-демократической семь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тец -  «из детей лекарских учеников», служил в канцелярии, умер в возрасте 37 лет, когда Саше исполнился только год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ать из древнего рода татарских князей Куланчаковых, давно разорившихс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Годы взросления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874 – переезд в Москву, проживание в казённом учреждении – в общей палате вдовьего дом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876 – сиротское училище. Казённая обстановка, муштра, жестокое обращение воспитательниц доставляли страда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880 – Вторая московская военная гимназия,  через два года преобразованная в кадетский корпус. «Всеобщий культ кулака» калечил детские душ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888 – Третье Александровское юнкерское училище в Москве. Занимается гимнастикой, танцами, литературо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 Black"/>
              </a:rPr>
              <a:t>Военная тема в творчестве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Годы обучения, атмосфера казённого быта, противоречия семейного и казарменного воспитания,  истинное и мнимое понятие о чести, справедливости нашли отражение в повестях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«На переломе» («Кадеты»), «Юнкера», «Дознание», «Поединок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2" name="Picture 9" descr="82221271_0217007235"/>
          <p:cNvPicPr/>
          <p:nvPr/>
        </p:nvPicPr>
        <p:blipFill>
          <a:blip r:embed="rId1"/>
          <a:stretch/>
        </p:blipFill>
        <p:spPr>
          <a:xfrm>
            <a:off x="990720" y="1905120"/>
            <a:ext cx="3600360" cy="41148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 Black"/>
              </a:rPr>
              <a:t>Начало творческого пути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Начинает сотрудничать с журналом «Русский сатирический листок», ещё обучаясь в юнкерском училище. Получает взыскание за выступление в печати. (Рассказ «Последний дебют»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890 – назначается служить в 46-й Днепровский полк в городишко Проскуров Подольской губернии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лужба была отягощена бездельем, попойками, мелкими интрижкам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Разочарование в службе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 звании подпоручика Куприн отслужил 4 год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894 – подаёт в отставку и уезжает в Киев. Работает в местных газетах, пишет рассказы, очерки, заметк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9" name="Picture 9" descr="0004-006-Povest-Poedinok-1905"/>
          <p:cNvPicPr/>
          <p:nvPr/>
        </p:nvPicPr>
        <p:blipFill>
          <a:blip r:embed="rId1"/>
          <a:stretch/>
        </p:blipFill>
        <p:spPr>
          <a:xfrm>
            <a:off x="5742000" y="1905120"/>
            <a:ext cx="2843280" cy="41148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-468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609120"/>
            <a:ext cx="838188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т матери Куприн унаследовал внима-тельное отношение к жизни, тонкую наблюдательность, любовь к книгам, вдумчивое чтени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Большое влияние на литературное да-рование Куприна оказал единственный талантливый учитель в кадетском кор-пусе Цуханов, который читал воспитан-никам Пушкина, Лермонтова, Гоголя, Тургенев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901 – приезжает в Петербург, знакомит-ся с Буниним, Чеховым, Горьким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«Молох»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896 – пишет социально-психологическую повесть «Молох»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Главный персонаж Квашнин – промышленник, финансист, образ алчности, паразитизма и жестокост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«Молох» - обличение буржуазного общества, отражение коренных противоречий эпох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0T13:34:37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