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79F2-E766-4A0A-8D59-873AD1B91D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Ивано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РИН (1870-19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раницы жизни и творчеств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7A28-59E6-438D-98E4-7C616A55AE0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2 – пишет о сломленных судьбою людях:«В цирке», « Болото», «На поко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3 – возникает новый герой, активный, борющийся с обстоятельствами. «Трус», «Конокрад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 активный образ жизни: организует в Киеве атлетическое общество. Вместе с известным спортсменом Сергеем Уточкиным поднимается на воздушном шаре. Летит с Иваном Заикиным на самолёте «Форман». В 43 года всерьёз начинает учиться сильному плаванию у мирового рекордсмена Л.Роман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9CA7-9F65-4040-8403-CE1F5364F5C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ести о любв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лес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уламиф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4422-5FD2-446E-948C-642D6D3DD5A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атовый брас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сти о любви объединяет мысль: любовь – это великий дар, чистое и бескорыстное чувство. Оно полно испытаний и лишений.  Только любовь помогает ощутить полноту жизни, пусть короткой, но яр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FF77-B536-4DCC-9366-3412C4C930D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эмиг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0 – по приглашению Бунина уезжает в Пари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етился спад в творчестве, неприятие советского строя выливается в статьях, в которых Куприн критикует новые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7-1934 – появляются книги «Колесо времени», «Рассказы в каплях» и другие. Создаёт новеллы «Тень Наполеона», «Четверо нищих», пишет роман «Юнке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ска по Родине настолько сильна, что Куприн признаётся: «…не могу спокойно письма написать туда, ком в горл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7244-B473-448B-8655-83ECFE54DE0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рин остро чувствовал свою вину перед Родиной. Не давала покоя мысль о возвращении и о его не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ник Билибин, получивший к тому времени разрешение вернуться в СССР, берёт на себя переговоры в посольстве, и в 1937 году писатель возвращается в Моск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учи в эмиграции, писатель тяжело заболе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августа 1938 года Куприн скончал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A2E0-B207-4052-8181-A1AB6912650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современников, его всегда спасает инстинкт природного здорового дарования, органический оптимизм, жизнерадостность, любовь к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Н.Мих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ритик, литературове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FB92-B7B6-456E-A45A-95534FE70B1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 августа (7 сентября) 1870 года родился в городке Наровчате Пензенской губернии, в обедневшей разночинно-демократической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-  «из детей лекарских учеников», служил в канцелярии, умер в возрасте 37 лет, когда Саше исполнился только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из древнего рода татарских князей Куланчаковых, давно разоривш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4DDE-5319-4687-85D4-C1EF494070C2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взро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74 – переезд в Москву, проживание в казённом учреждении – в общей палате вдовьего д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76 – сиротское училище. Казённая обстановка, муштра, жестокое обращение воспитательниц доставляли 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80 – Вторая московская военная гимназия,  через два года преобразованная в кадетский корпус. «Всеобщий культ кулака» калечил детские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88 – Третье Александровское юнкерское училище в Москве. Занимается гимнастикой, танцами, литерату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7E94-C97D-4907-8173-D2C77AB3F04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енная тема в творче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обучения, атмосфера казённого быта, противоречия семейного и казарменного воспитания,  истинное и мнимое понятие о чести, справедливости нашли отражение в повестя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 переломе» («Кадеты»), «Юнкера», «Дознание», «Поедин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9E7B-F3F6-40F5-B70F-18A71A79A71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чало творческого пу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ет сотрудничать с журналом «Русский сатирический листок», ещё обучаясь в юнкерском училище. Получает взыскание за выступление в печати. (Рассказ «Последний дебют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0 – назначается служить в 46-й Днепровский полк в городишко Проскуров Подольской губер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была отягощена бездельем, попойками, мелкими интриж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0AD0-B556-4157-8331-1426FAF9D58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очарование в служб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вании подпоручика Куприн отслужил 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4 – подаёт в отставку и уезжает в Киев. Работает в местных газетах, пишет рассказы, очерки, заме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EBA7-86BF-4F3A-9E9B-70EF822B5EE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матери Куприн унаследовал внима-тельное отношение к жизни, тонкую наблюдательность, любовь к книгам, вдумчивое чт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влияние на литературное да-рование Куприна оказал единственный талантливый учитель в кадетском кор-пусе Цуханов, который читал воспитан-никам Пушкина, Лермонтова, Гоголя, Турген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1 – приезжает в Петербург, знакомит-ся с Буниним, Чеховым, Горь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75C5-D188-4AE0-B0A7-75FA00A2C64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ло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6 – пишет социально-психологическую повесть «Молох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персонаж Квашнин – промышленник, финансист, образ алчности, паразитизма и жесто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лох» - обличение буржуазного общества, отражение коренных противоречий эпо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D11C-150F-4228-B3B5-4FC23FD6BEC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FA1E-46F1-4ABD-A690-203C1FA2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4B45-62CD-4907-A431-5E130282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C877-24DB-47D3-9372-2F91BBED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E3D0-5F47-457D-B7BD-D7C8CF43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626E-0D5E-4F8F-99AE-2071B5DC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0D00-D02D-4990-BB9C-44896FF9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AECA-2BA3-4B08-AFFD-039F2ABE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8266-F959-440E-B28C-83A9CCE5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E832-58E3-48F3-B389-EE09FD9A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7536-ABB7-4A89-B3CF-D4450284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CD5E-0A4C-4F7E-802B-4125C301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0F28-B026-4846-B016-57444282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4219-4CB6-4403-BCE3-DEFE1416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94BC-A110-4BA4-9E0A-1B2D0D0F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F16D-0CD1-4650-946A-920C8E9B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686B-2BF4-4B2C-9C8B-04E218FF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FEA0-0D91-4C70-A316-C54C77A4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BECF-C57E-492F-9140-EA767B76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E349-D460-4579-9DF4-4507DA57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1BEA-B907-4CF2-8C1A-AFBAFFA6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E84-A821-452E-85BF-4A18377D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2942-89B8-49FA-8BF8-19A84F44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6F32-E7EF-4187-8A44-0F7CD776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E300-1B4B-46B7-992F-CEDCF47C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F0A0-6F5E-4786-A923-23D04639FE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0621-D687-47DF-8F68-C6CFC751E09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Александр Иванович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КУПРИН (1870-1938)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257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аницы жизни и творчест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429000" y="10666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Picture 9" descr="kyprin"/>
          <p:cNvPicPr/>
          <p:nvPr/>
        </p:nvPicPr>
        <p:blipFill>
          <a:blip r:embed="rId1"/>
          <a:stretch/>
        </p:blipFill>
        <p:spPr>
          <a:xfrm>
            <a:off x="1612800" y="2057400"/>
            <a:ext cx="3175200" cy="3809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842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2 – пишет о сломленных судьбою людях:«В цирке», « Болото», «На покое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3 – возникает новый герой, активный, борющийся с обстоятельствами. «Трус», «Конокрады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едёт активный образ жизни: организует в Киеве атлетическое общество. Вместе с известным спортсменом Сергеем Уточкиным поднимается на воздушном шаре. Летит с Иваном Заикиным на самолёте «Форман». В 43 года всерьёз начинает учиться сильному плаванию у мирового рекордсмена Л.Романенк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Повести о любви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5812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Олеся»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0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Суламифь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2" name="Picture 15" descr="DSC01906"/>
          <p:cNvPicPr/>
          <p:nvPr/>
        </p:nvPicPr>
        <p:blipFill>
          <a:blip r:embed="rId1"/>
          <a:stretch/>
        </p:blipFill>
        <p:spPr>
          <a:xfrm rot="1243200">
            <a:off x="6248520" y="3276720"/>
            <a:ext cx="2523960" cy="312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0005-007-Povest-Olesja-1898"/>
          <p:cNvPicPr/>
          <p:nvPr/>
        </p:nvPicPr>
        <p:blipFill>
          <a:blip r:embed="rId2"/>
          <a:stretch/>
        </p:blipFill>
        <p:spPr>
          <a:xfrm rot="1235400">
            <a:off x="4419360" y="990720"/>
            <a:ext cx="1858680" cy="533376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76560" y="15235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ранатовый брасле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91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вести о любви объединяет мысль: любовь – это великий дар, чистое и бескорыстное чувство. Оно полно испытаний и лишений.  Только любовь помогает ощутить полноту жизни, пусть короткой, но ярко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Picture 13" descr="0008-010-Ljubov-kak-vysshaja-tsennost-mira-v-rasskaze-Granatovyj-braslet"/>
          <p:cNvPicPr/>
          <p:nvPr/>
        </p:nvPicPr>
        <p:blipFill>
          <a:blip r:embed="rId1"/>
          <a:stretch/>
        </p:blipFill>
        <p:spPr>
          <a:xfrm>
            <a:off x="990720" y="1600200"/>
            <a:ext cx="209376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212041_html_m689eac30"/>
          <p:cNvPicPr/>
          <p:nvPr/>
        </p:nvPicPr>
        <p:blipFill>
          <a:blip r:embed="rId2"/>
          <a:stretch/>
        </p:blipFill>
        <p:spPr>
          <a:xfrm>
            <a:off x="2743200" y="2895480"/>
            <a:ext cx="2373480" cy="358164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 эмиграци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20 – по приглашению Бунина уезжает в Париж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метился спад в творчестве, неприятие советского строя выливается в статьях, в которых Куприн критикует новые вла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27-1934 – появляются книги «Колесо времени», «Рассказы в каплях» и другие. Создаёт новеллы «Тень Наполеона», «Четверо нищих», пишет роман «Юнкера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оска по Родине настолько сильна, что Куприн признаётся: «…не могу спокойно письма написать туда, ком в горле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Последние годы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9520" y="1294920"/>
            <a:ext cx="5257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уприн остро чувствовал свою вину перед Родиной. Не давала покоя мысль о возвращении и о его невозмож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Художник Билибин, получивший к тому времени разрешение вернуться в СССР, берёт на себя переговоры в посольстве, и в 1937 году писатель возвращается в Москв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удучи в эмиграции, писатель тяжело заболел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5 августа 1938 года Куприн скончалс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5" name="Picture 11" descr="195"/>
          <p:cNvPicPr/>
          <p:nvPr/>
        </p:nvPicPr>
        <p:blipFill>
          <a:blip r:embed="rId1"/>
          <a:stretch/>
        </p:blipFill>
        <p:spPr>
          <a:xfrm>
            <a:off x="762120" y="1676520"/>
            <a:ext cx="3139920" cy="41511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1996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 мнению современников, его всегда спасает инстинкт природного здорового дарования, органический оптимизм, жизнерадостность, любовь к жизн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.Н.Михайло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(критик, литературовед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Детство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6 августа (7 сентября) 1870 года родился в городке Наровчате Пензенской губернии, в обедневшей разночинно-демократической семь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ец -  «из детей лекарских учеников», служил в канцелярии, умер в возрасте 37 лет, когда Саше исполнился только год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ать из древнего рода татарских князей Куланчаковых, давно разоривших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Годы взросления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74 – переезд в Москву, проживание в казённом учреждении – в общей палате вдовьего дом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76 – сиротское училище. Казённая обстановка, муштра, жестокое обращение воспитательниц доставляли страд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80 – Вторая московская военная гимназия,  через два года преобразованная в кадетский корпус. «Всеобщий культ кулака» калечил детские душ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88 – Третье Александровское юнкерское училище в Москве. Занимается гимнастикой, танцами, литератур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оенная тема в творчестве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оды обучения, атмосфера казённого быта, противоречия семейного и казарменного воспитания,  истинное и мнимое понятие о чести, справедливости нашли отражение в повестях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На переломе» («Кадеты»), «Юнкера», «Дознание», «Поединок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Picture 9" descr="82221271_0217007235"/>
          <p:cNvPicPr/>
          <p:nvPr/>
        </p:nvPicPr>
        <p:blipFill>
          <a:blip r:embed="rId1"/>
          <a:stretch/>
        </p:blipFill>
        <p:spPr>
          <a:xfrm>
            <a:off x="990720" y="1905120"/>
            <a:ext cx="3600360" cy="4114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Начало творческого пут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чинает сотрудничать с журналом «Русский сатирический листок», ещё обучаясь в юнкерском училище. Получает взыскание за выступление в печати. (Рассказ «Последний дебют»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890 – назначается служить в 46-й Днепровский полк в городишко Проскуров Подольской губернии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лужба была отягощена бездельем, попойками, мелкими интрижка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Разочарование в службе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звании подпоручика Куприн отслужил 4 год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94 – подаёт в отставку и уезжает в Киев. Работает в местных газетах, пишет рассказы, очерки, заметк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icture 9" descr="0004-006-Povest-Poedinok-1905"/>
          <p:cNvPicPr/>
          <p:nvPr/>
        </p:nvPicPr>
        <p:blipFill>
          <a:blip r:embed="rId1"/>
          <a:stretch/>
        </p:blipFill>
        <p:spPr>
          <a:xfrm>
            <a:off x="5742000" y="1905120"/>
            <a:ext cx="284328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-468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38188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 матери Куприн унаследовал внима-тельное отношение к жизни, тонкую наблюдательность, любовь к книгам, вдумчивое чтени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ольшое влияние на литературное да-рование Куприна оказал единственный талантливый учитель в кадетском кор-пусе Цуханов, который читал воспитан-никам Пушкина, Лермонтова, Гоголя, Тургенев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1 – приезжает в Петербург, знакомит-ся с Буниним, Чеховым, Горьки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«Молох»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896 – пишет социально-психологическую повесть «Молох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Главный персонаж Квашнин – промышленник, финансист, образ алчности, паразитизма и жестокос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«Молох» - обличение буржуазного общества, отражение коренных противоречий эпох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0T13:34:3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