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EE6B-0C98-4A53-B2E0-48C06827E28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Ивано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(1870-19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раницы жизни и творчеств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DE58-F46B-46E8-87C6-C2BC10B59CA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2 – пишет о сломленных судьбою людях:«В цирке», « Болото», «На поко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59DF-F176-4EA6-889A-321BB2FED7E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сти о любв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лес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ламиф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9119-7651-4782-997C-368A74B4B8E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атовый брас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BE68-E96D-4C0F-8032-CA1603F88E9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эмиг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0 – по приглашению Бунина уезжает в Пари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02B9-13CC-47B6-B937-A89BEF5FA46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учи в эмиграции, писатель тяжело заболе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августа 1938 года Куприн сконч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AE0D-DC93-436F-BE9C-DC7AA9388E0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Н.Мих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ритик, литературове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8726-6960-42A0-B502-4AB3A298028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из древнего рода татарских князей Куланчаковых, давно разоривш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3725-00C0-4ECD-9D78-BD9FC8A1554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взро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D56A-A955-4837-A35B-EA72F6CA7E9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енная тема в творче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 переломе» («Кадеты»), «Юнкера», «Дознание», «Поедин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E507-E616-4C44-96C3-15CFC925426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чало творческого пу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была отягощена бездельем, попойками, мелкими интриж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39E3-A993-4F98-AB7F-6516FD5F6FE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очарование в служб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вании подпоручика Куприн отслужил 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7CF6-F71A-4FE5-B3DF-ED8371A5289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1 – приезжает в Петербург, знакомит-ся с Буниним, Чеховым, Горь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B8E0-7FC6-4F9A-8B14-574BCB2EF56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6 – пишет социально-психологическую повесть «Молох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 - обличение буржуазного общества, отражение коренных противоречий эпо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0FA7-2661-48DA-B9D4-D986B29510E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86BF-4A99-45B6-85CB-91045A2D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2B99-14EB-4327-80B5-6FF854FF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CDBD-4528-4C6D-97E9-9F75D768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4F3-294E-4930-8253-8DCF4031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EB85-3945-4CA0-A8F8-6BF15FF3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6612-B718-4969-A858-2176D0C9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B9F7-A362-41DA-AC0C-9E711ACC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6080-A6CB-4F17-895F-FB90114B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E6FA-F258-4323-B9DE-B3451716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6DD1-BD24-40A1-86B6-18E7B275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FEE2-0E6F-42F8-BB23-BF121DD8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9968-C700-4DBC-9633-2FDEE4C6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CB42-3B16-4EA1-BBFF-8697D7F7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4808-8388-4F09-9403-93C6F760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CF4B-6E12-4304-BE7F-71C39181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572B-7AFB-4830-A721-89144D46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757E-7917-44A0-8C23-FFACA683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EE88-3719-4679-8E7F-C047B88E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F6B1-8CE0-4199-B052-10243A35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D5D-A7A2-4F45-B129-9F4B2060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763-3CB2-4723-8EB5-C4688C8B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7EA0-72BD-4508-A66F-3557B435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35A-0591-4650-B652-F403531A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57C7-2814-4DAA-9970-95EF8FBC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86A6-1B9A-4602-9B93-B3A7B5AF15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E89E-E45B-48C8-909A-E076144BAA1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Александр Иванович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КУПРИН (1870-1938)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57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аницы жизни и творчест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429000" y="10666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Picture 9" descr="kyprin"/>
          <p:cNvPicPr/>
          <p:nvPr/>
        </p:nvPicPr>
        <p:blipFill>
          <a:blip r:embed="rId1"/>
          <a:stretch/>
        </p:blipFill>
        <p:spPr>
          <a:xfrm>
            <a:off x="1612800" y="2057400"/>
            <a:ext cx="3175200" cy="3809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842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2 – пишет о сломленных судьбою людях:«В цирке», « Болото», «На покое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Повести о любви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5812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Олеся»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0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Суламифь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2" name="Picture 15" descr="DSC01906"/>
          <p:cNvPicPr/>
          <p:nvPr/>
        </p:nvPicPr>
        <p:blipFill>
          <a:blip r:embed="rId1"/>
          <a:stretch/>
        </p:blipFill>
        <p:spPr>
          <a:xfrm rot="1243200">
            <a:off x="6248520" y="3276720"/>
            <a:ext cx="2523960" cy="312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0005-007-Povest-Olesja-1898"/>
          <p:cNvPicPr/>
          <p:nvPr/>
        </p:nvPicPr>
        <p:blipFill>
          <a:blip r:embed="rId2"/>
          <a:stretch/>
        </p:blipFill>
        <p:spPr>
          <a:xfrm rot="1235400">
            <a:off x="4419360" y="990720"/>
            <a:ext cx="1858680" cy="53337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76560" y="15235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ранатовый брасл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Picture 13" descr="0008-010-Ljubov-kak-vysshaja-tsennost-mira-v-rasskaze-Granatovyj-braslet"/>
          <p:cNvPicPr/>
          <p:nvPr/>
        </p:nvPicPr>
        <p:blipFill>
          <a:blip r:embed="rId1"/>
          <a:stretch/>
        </p:blipFill>
        <p:spPr>
          <a:xfrm>
            <a:off x="990720" y="1600200"/>
            <a:ext cx="209376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212041_html_m689eac30"/>
          <p:cNvPicPr/>
          <p:nvPr/>
        </p:nvPicPr>
        <p:blipFill>
          <a:blip r:embed="rId2"/>
          <a:stretch/>
        </p:blipFill>
        <p:spPr>
          <a:xfrm>
            <a:off x="2743200" y="2895480"/>
            <a:ext cx="2373480" cy="358164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 эмиграци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0 – по приглашению Бунина уезжает в Париж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Последние годы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9520" y="1294920"/>
            <a:ext cx="5257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удучи в эмиграции, писатель тяжело заболел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5 августа 1938 года Куприн скончалс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5" name="Picture 11" descr="195"/>
          <p:cNvPicPr/>
          <p:nvPr/>
        </p:nvPicPr>
        <p:blipFill>
          <a:blip r:embed="rId1"/>
          <a:stretch/>
        </p:blipFill>
        <p:spPr>
          <a:xfrm>
            <a:off x="762120" y="1676520"/>
            <a:ext cx="3139920" cy="41511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199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.Н.Михайл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(критик, литературовед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Детство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ать из древнего рода татарских князей Куланчаковых, давно разоривших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Годы взросления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оенная тема в творчестве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На переломе» («Кадеты»), «Юнкера», «Дознание», «Поединок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Picture 9" descr="82221271_0217007235"/>
          <p:cNvPicPr/>
          <p:nvPr/>
        </p:nvPicPr>
        <p:blipFill>
          <a:blip r:embed="rId1"/>
          <a:stretch/>
        </p:blipFill>
        <p:spPr>
          <a:xfrm>
            <a:off x="990720" y="1905120"/>
            <a:ext cx="360036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Начало творческого пут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лужба была отягощена бездельем, попойками, мелкими интрижка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Разочарование в службе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звании подпоручика Куприн отслужил 4 г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9" descr="0004-006-Povest-Poedinok-1905"/>
          <p:cNvPicPr/>
          <p:nvPr/>
        </p:nvPicPr>
        <p:blipFill>
          <a:blip r:embed="rId1"/>
          <a:stretch/>
        </p:blipFill>
        <p:spPr>
          <a:xfrm>
            <a:off x="5742000" y="1905120"/>
            <a:ext cx="284328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-468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1 – приезжает в Петербург, знакомит-ся с Буниним, Чеховым, Горьки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«Молох»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6 – пишет социально-психологическую повесть «Молох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«Молох» - обличение буржуазного общества, отражение коренных противоречий эпох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0T13:34:3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