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C9F6-A388-4243-80C3-4CFF1060A2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вано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(1870-19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аницы жизни и творчест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D4A9-4AFF-4F35-A493-6C0513C311C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2 – пишет о сломленных судьбою людях:«В цирке», « Болото», «На поко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146A-89B5-48E6-B720-48270001400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сти о люб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ес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ламиф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2CDA-AAF2-45F4-86EE-00ED7B74F5C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атовый брас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1C3A-27AF-45BB-BE98-BE89719EE52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эмиг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– по приглашению Бунина уезжает в Пари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5733-0895-48BC-97DA-A0692A3E07B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учи в эмиграции, писатель тяжело забол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августа 1938 года Куприн сконч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64AA-8265-4634-9E05-F5112B04608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Н.Мих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ритик, литературове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0199-AD1A-4768-8625-2CB3C22B13F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из древнего рода татарских князей Куланчаковых, давно разоривш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1602-6D54-4EFD-ABB0-45EBFD98B3B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взро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7099-9054-453B-B1C5-E99A7E2E229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ая тема в творче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переломе» («Кадеты»), «Юнкера», «Дознание», «Поеди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EF04-509C-403F-AC38-57151A12300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ло творческого пу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была отягощена бездельем, попойками, мелкими интриж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4E9D-BF5F-4373-A678-2EA031001E0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очарование в служб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вании подпоручика Куприн отслужил 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4A8C-73B8-4045-8825-0B6C7F1C63B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1 – приезжает в Петербург, знакомит-ся с Буниним, Чеховым, Горь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AFBB-0CD2-4D3D-AA01-FEC0555694D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6 – пишет социально-психологическую повесть «Моло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 - обличение буржуазного общества, отражение коренных противоречий эпо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BB2C-BB96-4E54-95B3-FBCCC8ECEE5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A23-83EC-4A33-95B0-09A6C471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A2C-57BC-4F4D-977C-19CADC9F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0DC-4BDD-4687-8943-08DADFA9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ABA-829E-46EF-B8E8-2EFE8621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E069-5BB4-4621-991B-B5A2AAF3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C524-D166-41B0-A7DA-2C1BD32A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FB66-899E-4278-A0A8-81D5C203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52F1-24E9-406A-B3A1-24C63598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76A6-0789-42BD-B5C3-A60357D0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E478-08D2-48EE-ADBA-FBD45578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79EA-5A29-4E35-A2A8-4BEF74E8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42B-2CED-4CB5-AC6B-7D004AD2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5839-5D2C-4566-9666-03F59E06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6166-FBDB-40CF-B8EA-7CBEB49F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2A66-CA9B-4A97-B152-12D8AEBE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19A0-C512-424E-B7DD-69BA386F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A65C-EDA4-4D97-826B-A36CA2FE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7C8-F232-4A94-8471-68299462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317-38E0-4B67-9A54-491D4F3C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02E-B0BC-4B0A-A2EB-0AF4AA55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1B0-60F6-45F3-8464-F8F8B5C3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673-145D-4901-B1A2-5516657A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5D6-AD18-4A69-AA22-47AEE80A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F91-D6B1-4E8C-B2A0-B477AA4E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B38A-D6D8-4589-8734-894C0AD070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03E0-EE31-44AD-8791-6A4B3414AFF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Александр Иванович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КУПРИН (1870-1938)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57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аницы жизни и творче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429000" y="10666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9" descr="kyprin"/>
          <p:cNvPicPr/>
          <p:nvPr/>
        </p:nvPicPr>
        <p:blipFill>
          <a:blip r:embed="rId1"/>
          <a:stretch/>
        </p:blipFill>
        <p:spPr>
          <a:xfrm>
            <a:off x="1612800" y="2057400"/>
            <a:ext cx="317520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842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2 – пишет о сломленных судьбою людях:«В цирке», « Болото», «На покое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Повести о любв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581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Олеся»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0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уламифь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2" name="Picture 15" descr="DSC01906"/>
          <p:cNvPicPr/>
          <p:nvPr/>
        </p:nvPicPr>
        <p:blipFill>
          <a:blip r:embed="rId1"/>
          <a:stretch/>
        </p:blipFill>
        <p:spPr>
          <a:xfrm rot="1243200">
            <a:off x="6248520" y="3276720"/>
            <a:ext cx="2523960" cy="312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0005-007-Povest-Olesja-1898"/>
          <p:cNvPicPr/>
          <p:nvPr/>
        </p:nvPicPr>
        <p:blipFill>
          <a:blip r:embed="rId2"/>
          <a:stretch/>
        </p:blipFill>
        <p:spPr>
          <a:xfrm rot="1235400">
            <a:off x="4419360" y="990720"/>
            <a:ext cx="1858680" cy="53337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анатовый брасл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13" descr="0008-010-Ljubov-kak-vysshaja-tsennost-mira-v-rasskaze-Granatovyj-braslet"/>
          <p:cNvPicPr/>
          <p:nvPr/>
        </p:nvPicPr>
        <p:blipFill>
          <a:blip r:embed="rId1"/>
          <a:stretch/>
        </p:blipFill>
        <p:spPr>
          <a:xfrm>
            <a:off x="990720" y="1600200"/>
            <a:ext cx="209376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212041_html_m689eac30"/>
          <p:cNvPicPr/>
          <p:nvPr/>
        </p:nvPicPr>
        <p:blipFill>
          <a:blip r:embed="rId2"/>
          <a:stretch/>
        </p:blipFill>
        <p:spPr>
          <a:xfrm>
            <a:off x="2743200" y="2895480"/>
            <a:ext cx="2373480" cy="3581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 эмиграци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0 – по приглашению Бунина уезжает в Париж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Последние годы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9520" y="1294920"/>
            <a:ext cx="5257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удучи в эмиграции, писатель тяжело заболел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5 августа 1938 года Куприн скончалс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11" descr="195"/>
          <p:cNvPicPr/>
          <p:nvPr/>
        </p:nvPicPr>
        <p:blipFill>
          <a:blip r:embed="rId1"/>
          <a:stretch/>
        </p:blipFill>
        <p:spPr>
          <a:xfrm>
            <a:off x="762120" y="1676520"/>
            <a:ext cx="3139920" cy="4151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199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.Н.Михайл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(критик, литературовед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Детство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ать из древнего рода татарских князей Куланчаковых, давно разоривших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Годы взросления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оенная тема в творчеств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На переломе» («Кадеты»), «Юнкера», «Дознание», «Поединок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9" descr="82221271_0217007235"/>
          <p:cNvPicPr/>
          <p:nvPr/>
        </p:nvPicPr>
        <p:blipFill>
          <a:blip r:embed="rId1"/>
          <a:stretch/>
        </p:blipFill>
        <p:spPr>
          <a:xfrm>
            <a:off x="990720" y="1905120"/>
            <a:ext cx="360036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Начало творческого пут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лужба была отягощена бездельем, попойками, мелкими интрижка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азочарование в службе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звании подпоручика Куприн отслужил 4 г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9" descr="0004-006-Povest-Poedinok-1905"/>
          <p:cNvPicPr/>
          <p:nvPr/>
        </p:nvPicPr>
        <p:blipFill>
          <a:blip r:embed="rId1"/>
          <a:stretch/>
        </p:blipFill>
        <p:spPr>
          <a:xfrm>
            <a:off x="5742000" y="1905120"/>
            <a:ext cx="284328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-468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1 – приезжает в Петербург, знакомит-ся с Буниним, Чеховым, Горьки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«Молох»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6 – пишет социально-психологическую повесть «Молох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Молох» - обличение буржуазного общества, отражение коренных противоречий эпох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0T13:34:3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