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8271-9D9E-40DD-AE44-2C9977BDC2F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B4B3-7302-4A1D-9270-5B70D13AC83C}"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CD97-C332-4D7D-9826-D73140281D0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306E-1E64-49BC-B0D4-F984643BB1B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A1BF-E58C-4018-A63C-0CAA7B193F64}"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FAB9-7F12-4CC1-87ED-D035983DA7B2}"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B4C7-0A5F-47DC-8003-AD520A00817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9136-04E1-44EF-92D5-01453825C10C}"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BAABA-116E-48A6-81CA-5DEEB5A0F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04EE-FC96-4B98-A164-EAC447AC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5D63C-01B4-40CB-AD0C-DC02D4CE35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EDCE1-0C82-4C23-A66A-E40220688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7F4FF4-6652-44B3-A6A1-ECA8ABD01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BF313-D1BA-4F4F-8C2F-C53B41AE5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B6591-6E52-4925-8CA5-6DD07B7D5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93553-DEEE-4F2D-B4F2-54F6268340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5DE49-E5EA-449D-8D23-2B6DBE8590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E5336C-8E21-461A-91C4-F1E4AF49A7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FE5E20-2FBA-40C6-9AB6-619C644345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66C7F1-0030-4028-8657-2CE258BCB6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285F-3C38-4673-BFE6-F9AA2EFA6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E84335-06B0-48C1-BFB9-846D677D3C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9C3D58-5700-4F80-82F2-8D3BA658C0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50EC25-9BFC-47EA-97D2-A2746C45FD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19502A-BA8E-47A4-A033-82D148B642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D6F7FF-5133-44F7-801A-8554D6A7CB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151460-8728-48B3-92D8-967BCE432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8496D3-E2FC-403E-B83F-222F3849A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2C7401-CE20-4086-93B9-8E184D04B5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D05CD7-4818-4709-8A4F-EE418F463B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F41F3B-6E42-4726-B7BB-A7AC27ADBC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84C2A-D609-4355-B218-44F20168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32AE8C-F0FC-48F8-8458-8A43BC5434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D505AB-A675-4114-A0E5-80BA16C4A4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2460D3-2DB1-4CC0-BCC9-87F6BFE50D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893B32-4BA1-48BB-B5DC-393B03ED4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9BCB10-DFC0-477A-B81E-A88E3D9F9C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37794-8C7D-4A9D-AB8A-710C6D95DE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C83CE-8E0B-464D-824A-BD54B52EEB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F08A1-38F7-4BA9-8A3C-FC655CEC35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29BE4A-0DAA-43E1-A5AD-2AEA0CBA8F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7F0CE-A948-44E0-AE3E-5EA2B493E4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4C571-D55A-42FB-90B0-965AADD72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629E31-3C5E-460A-B401-19CD5C4F9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571581-AA1C-4832-8F56-AA98CF44DD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AA887D-0347-4A1B-8BF3-7B2371F093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B06314-A2EB-4846-877E-E7620D8537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034E87-49F7-48E7-B6F7-A865AACAD0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C9D8F2-F4C7-4F98-96C1-D7A9671B44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077616-07B6-41CC-A729-CF7D83FD87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C8CAA1-2CB5-47B2-B842-C4B241F2FC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23F991-01D9-45ED-8DA6-EAF5BD56FC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18303D-6DE1-464B-BAC2-7138262B0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360F0-EE45-4756-AEC3-21876A946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4EB1D5-724B-4B98-9DB9-3649580974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8EE395-25FA-4E49-B01B-9CE5092F08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A1794D-35E7-42C3-A3F0-7CE2D1400A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03113D-96DB-4488-AB72-372F2383FF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01FB46-2923-4550-BD89-9195A83A5B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315AC-ADAC-4DD2-B434-4B7073E5F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4254E-35A0-4AFA-8135-517F1F122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28637-6947-4900-8BC6-E04C48473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9ED11-6701-4895-B768-8F5B6AEFC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665AD-6123-42A9-8CA5-56B08BA8D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D584A-6137-4C93-B9D9-F88E53BB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78F13-FF02-4F9A-A18B-770785407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51B53-B9BD-4615-B979-5E0A09BDE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F4FCC-C928-4E14-9D0E-C4C002698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56859-F8B8-455F-A9A8-23135A520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89350-6BC4-43FB-8774-BF96A7679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40A06-6D90-4069-93FD-79036402D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F93E8-B43C-4753-B370-6DC2F0740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409B4-0A66-48D0-9CB3-A349C7251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F5EEA-A1AA-41AD-8032-0EECB4856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F997A-B415-47A9-9829-323CF399F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027C6-705C-4E2F-93B5-5065A548F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80DD9-CC82-4D16-9C30-FAAD2B9E2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37B02-2076-4855-AC1C-BA2CC2315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2510C-59F2-4A0E-AB88-432E79F44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D666A-930E-426C-99E6-A815CB68C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835F7-8512-4BF8-ADB5-FC6D775EB6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DC84C2-8CEB-4253-99A4-55698D9DC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2F610-B25B-49E5-9A19-6C0D4F026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4844C-D98F-4CDE-A328-C9C5E1C22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15AA83-A69B-40AF-8F22-246CB3E13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91FB6-6045-49EC-9CFD-E5CB53C1E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FA7D-6429-4DB5-9F78-A9D6D940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8D1EA-7A43-45B2-8CE1-AD247A0F3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789C4-0375-4B63-A7FF-1C7139BB5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12964-2AD7-4C5E-8501-42C170076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6F622-F6FE-4C5E-8F3A-A14BF3453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2A821-2167-4C2F-9AB1-3779CF112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FB9D4-29DE-4EED-986B-2B368A2A1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F3B83-8CF1-4973-A936-9C34C1489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32245E-19F0-419C-83ED-A5539BB8C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B90C9-BEDA-43BC-B716-B55DC9CF6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79583C-9F69-49B2-A0BF-06CE25B7D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71CC-CECB-4068-B54A-4D9A8DEF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8884B-0ADE-42DB-B1C4-B01990C17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B3B0C-622B-451B-9E5E-B8D4D4038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B8BD27-CCE8-43C2-9565-9AB41A59A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756B4-D00E-4D38-A209-0CE091293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72AA2-DDB0-4041-B1E7-F36E1EEDF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4DF89-1943-40F0-AD97-A43829EBE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4EAB9-B2AB-432B-B999-E0E4CA3E1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10AA5-77D5-4338-866B-E7E5906D1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F9C12-2AC1-492D-957A-FCBE29AF3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9C09E6-D05A-4A54-9FA2-DE4088C1EB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62BF-51E2-4D88-A0E4-90B0284B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CC526B-D3B2-4628-89FE-0C2D48940B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ADA51-23D4-4C43-A05E-CFA2E85B1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0A635-FCE3-4C88-9B84-5BABDA643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E96C7-471C-4DD1-970D-8370321C1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A0A41-FBEF-4CAF-BB8B-DAB02E1B5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3F9A0-DE70-439C-9DBD-8C9DDA63A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A8BE1-AAA3-4B32-A6D7-38D1A758B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9F8CB-8020-4CCD-AFF9-4D2E8AA17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9B701-8571-4E50-B97B-19C948E90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0768E-0C67-4ACF-8E57-EDD86F498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E99B-0CCB-4B3D-9EDA-343679E5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EC6C8-4883-47C6-B4A2-00D7D1C1F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66397C-8729-49DC-97EE-A0A330D710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F36CFF-E861-4D51-9DAD-608EC5C65D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458475-7E65-434D-B484-181F9DB25E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9BAC7C-35C8-4653-A6AC-89F2B1CED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42796-9DB2-445F-9B96-0B1B7D9DB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191DC-6283-4A8D-8921-1445B7B02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0BC4D-A362-4FF8-B8A5-7FD8DBBA5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A065F3-C8A0-408C-A1EF-35E2C3BFA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705B3-BC2D-4E32-BEF6-EFF300A5D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8A94-E68B-402F-96BA-EA621B03C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B1D0B-E463-4E39-ADD3-CBF5AC690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F311C-F2D4-4620-BDC0-366F18251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1E8D5-E0E6-4515-88E3-B3AF01361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D61C62-E933-4967-9091-E1A234DED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7925A7-D73E-4A81-9429-86D4D7547D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4BD2B0-2C9B-47A0-8268-64262B158F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B17B2-2E97-4116-977D-28F0978EF9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3182CF-12DF-45BB-B001-C86FB81B6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6A29FA-E873-4C1E-84C4-A50A8B7D85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E6B3E-9F7D-490B-A02C-5BA09F938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F0C8-237C-42AE-A011-BB0B9A65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85A7A-C040-4DF8-A005-5FDFEF702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9F19F-7D31-4D40-924A-62002E118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99789-C62F-4748-B459-360695721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863C7-1142-4BAA-9BBA-54DB6CD35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6673C-E2D0-43E0-934D-8B4A19F78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B30F92-2213-4545-A58D-5F77632F9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CAC1E-8C5F-44D2-AB86-D0B2A9F53C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E77413-3522-451B-9534-A4C5884F5D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04C61A-AAAF-4A37-93C8-E102D48C6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3A8540-C46D-4111-8319-8A0BD6C8CB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027-6A89-4787-AA18-1467B965AA3C}"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DF1E-EC7C-46DB-B276-66938AAEE7C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1EE1-5836-48B3-8667-A3908260424E}"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EB30-8B29-4868-841D-65E2671FFC1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51B-D109-4F8D-97AE-B1D550923C40}"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CF7B-CDA5-490B-BB41-24C5A0846E20}"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2D04-A7A3-4B2B-BF87-0B27996974FF}"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3CB8-D5C0-4E4A-8F22-3BABC144DD4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90A4-A1A4-41AF-BA3D-0273468CA2E0}"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8CD5-9EE3-4668-B2C7-3188C33197C9}"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7363-A1BE-4438-BC8E-100141DF7FC6}"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07B-E426-4158-A0EE-24DEAD15D716}"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8748-6399-47B2-BE4D-8535FA540C94}"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ACAA-FD53-4DB7-B992-CD345CE32A6E}"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3744-8E55-4B74-820F-08B20AEE9E97}"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B27B-6404-4900-A29E-36F0FA895EF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AF2A-41BC-4023-ADF8-59441A859AAF}"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B81D-F521-4A5E-A2C5-1A20D5D1709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C285-9C21-4FD1-A452-ECEAA60E81C3}"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07E8-71CC-4763-AA92-83F0D3FD5EDE}"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1D46-4F47-4518-9A4D-4501793FB8FC}"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7EC5-A3EE-4F11-8104-1A204FF6CB3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A521-C433-4A17-996F-D7C1E8021E61}" type="datetime">
              <a:rPr b="0" lang="en-US" sz="1200" spc="-1" strike="noStrike">
                <a:solidFill>
                  <a:srgbClr val="3a566e"/>
                </a:solidFill>
                <a:latin typeface="Times New Roman"/>
              </a:rPr>
              <a:t>07/31/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7702-9002-4B08-9197-E73F1F0AAB4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