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Tahoma"/>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move the slide</a:t>
            </a:r>
            <a:endParaRPr b="0" lang="en-US" sz="3800" spc="-1" strike="noStrike">
              <a:solidFill>
                <a:srgbClr val="3a566e"/>
              </a:solidFill>
              <a:latin typeface="Tahoma"/>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A660-693E-4CDD-A79F-7E12840B78AD}"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ография Бальмо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A909-DD33-4253-9B35-026B1B4ADFC9}"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родился 3 июня 1867 года в деревне Гумнищи, Шуйского уезда, Владимирской губернии.</a:t>
            </a:r>
            <a:br>
              <a:rPr sz="1200"/>
            </a:br>
            <a:r>
              <a:rPr b="0" lang="ru-RU" sz="1200" spc="-1" strike="noStrike">
                <a:solidFill>
                  <a:srgbClr val="000000"/>
                </a:solidFill>
                <a:latin typeface="Calibri"/>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200"/>
            </a:br>
            <a:r>
              <a:rPr b="0" lang="ru-RU" sz="1200" spc="-1" strike="noStrike">
                <a:solidFill>
                  <a:srgbClr val="000000"/>
                </a:solidFill>
                <a:latin typeface="Calibri"/>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200" spc="-1" strike="noStrike">
              <a:solidFill>
                <a:srgbClr val="000000"/>
              </a:solidFill>
              <a:latin typeface="Calibri"/>
            </a:endParaRPr>
          </a:p>
        </p:txBody>
      </p:sp>
      <p:sp>
        <p:nvSpPr>
          <p:cNvPr id="5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03BA-EE1B-4504-B069-53E2DC917F22}"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200"/>
            </a:br>
            <a:r>
              <a:rPr b="0" lang="ru-RU" sz="1200" spc="-1" strike="noStrike">
                <a:solidFill>
                  <a:srgbClr val="000000"/>
                </a:solidFill>
                <a:latin typeface="Calibri"/>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200" spc="-1" strike="noStrike">
              <a:solidFill>
                <a:srgbClr val="000000"/>
              </a:solidFill>
              <a:latin typeface="Calibri"/>
            </a:endParaRPr>
          </a:p>
        </p:txBody>
      </p:sp>
      <p:sp>
        <p:nvSpPr>
          <p:cNvPr id="5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CBF5-D05A-42C2-BF7C-DE71A0B209D5}"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200"/>
            </a:br>
            <a:r>
              <a:rPr b="0" lang="ru-RU" sz="1200" spc="-1" strike="noStrike">
                <a:solidFill>
                  <a:srgbClr val="000000"/>
                </a:solidFill>
                <a:latin typeface="Calibri"/>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3FE4-97A4-4EF5-9F38-64033B397608}"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200"/>
            </a:br>
            <a:r>
              <a:rPr b="0" lang="ru-RU" sz="1200" spc="-1" strike="noStrike">
                <a:solidFill>
                  <a:srgbClr val="000000"/>
                </a:solidFill>
                <a:latin typeface="Calibri"/>
              </a:rPr>
              <a:t>Псевдонимы: Гридинский (в журнале Ясинского «Ежемесячные сочинения») и Лионель (в «Северных цве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DCF1-6A48-4BB8-A7AD-1D853FE54AE1}"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200" spc="-1" strike="noStrike">
                <a:solidFill>
                  <a:srgbClr val="000000"/>
                </a:solidFill>
                <a:latin typeface="Calibri"/>
              </a:rPr>
              <a:t> </a:t>
            </a:r>
            <a:r>
              <a:rPr b="0" lang="ru-RU" sz="1200" spc="-1" strike="noStrike">
                <a:solidFill>
                  <a:srgbClr val="000000"/>
                </a:solidFill>
                <a:latin typeface="Calibri"/>
              </a:rPr>
              <a:t>и самую сущность его поэз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Не случайно многие поэты посвящали ему свои стихотворения</a:t>
            </a:r>
            <a:r>
              <a:rPr b="0" lang="en-US" sz="1200" spc="-1" strike="noStrike">
                <a:solidFill>
                  <a:srgbClr val="000000"/>
                </a:solidFill>
                <a:latin typeface="Calibri"/>
              </a:rPr>
              <a:t> </a:t>
            </a:r>
            <a:r>
              <a:rPr b="0" lang="ru-RU" sz="1200" spc="-1" strike="noStrike">
                <a:solidFill>
                  <a:srgbClr val="000000"/>
                </a:solidFill>
                <a:latin typeface="Calibri"/>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200"/>
            </a:br>
            <a:r>
              <a:rPr b="0" lang="ru-RU" sz="1200" spc="-1" strike="noStrike">
                <a:solidFill>
                  <a:srgbClr val="000000"/>
                </a:solidFill>
                <a:latin typeface="Calibri"/>
              </a:rPr>
              <a:t>О, кто из нас в лирические бури Бросался, наг, как нежный Лионел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60C0-C1FC-4E5E-A436-F3F3925A8FF1}"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A853-1AFC-48C9-B7C3-2FA90166CF4B}"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DA249-C888-4DBA-8C63-B3BC23A11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5E8D4-5C71-4E4D-88B7-DA61A0807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4001FB-D870-46E6-B4DF-70614BC865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838F7D-23D4-4412-AF06-7E88A8E7B2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B1B5CD-9490-4DF1-BCC6-B7C733439E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97BC0B-759F-4FE0-9264-AE5A27AF69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EC49EF-F9E3-41A6-8A2C-4E088D946F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0CF54E-1F90-4817-BE4C-174C6F53BD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6405EE-960B-42AC-B623-2046C6286A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C4431A-12B8-40B1-9749-2C868C170D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7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427F7B-40EE-4883-B4C7-7D0461B40E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39C4E5A-AB89-4A59-A617-043EC6A473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BB127-2444-4B2A-9581-D82948996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00127A-BBF8-476F-8F15-2E2CA87ACE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C0C41C-47F8-4A47-8F65-1FD335108B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13142F-D72B-489B-AB5A-0BF5AD5929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98B54F-3EB2-4CA8-A647-F0F1B12D81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7DF7E4-1F0C-497C-9612-70F66F19E2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3FE6CC-437F-47E8-9220-F2ECE9B5D8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716E40-F451-4A1E-9483-63460B3DCA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AECDB0-8E53-4DFF-88CC-8B0B6DD36D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5856CF-7B2D-4B54-AD9C-360FC03D3E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65504D-3096-4FDB-8994-411ADF7EED9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55A96-910F-40BB-B425-A53D3A474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1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E5D33E-2003-4B92-B4F8-D466C58534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D14B4FD-290E-4C65-BCC0-0F85572F6F9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F4C728-8FB6-4889-AA22-A2EB760E63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C87444-8630-4447-9DF1-97E7B746E9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7964F6-D3A7-4039-80D3-2C1686B370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D4B495-A2A8-4F3E-98C6-454D7F7D95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9F426F-C96B-45E4-8E22-BB2A10E9A1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252207-62D5-4208-98F4-31D913A241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28938E-FA50-4DE7-88C2-74EE0A51ED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5CF16F-28A4-462F-AE73-F56D747CB6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D03CC-8931-4608-AC7D-CA96C6B11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2BC9F0-4704-40BA-B7DD-41FCEA7833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03954D-8654-4BBE-AE34-99E99B5E9A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ADFA34-80FF-4C25-897B-119728A05C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F1DACD0-A482-4057-BB2A-6A4E4619E1A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6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6ACE09-8C47-46E8-832C-9032DC0076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13F03B-0F03-42F3-9EE5-BCA6704145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9541B5-E2FB-492F-8F14-C66BDF686A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252A7B-B9F1-4DA9-BD6E-A2FA08E0BF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15A6D9-F2BE-48EC-8120-A24DFE7B6F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ECE1AA-5F95-43C1-9BAB-CAF552B851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6D69C-DEA9-452F-BB75-6F55898D5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BD0D14-B2F9-4F91-B3E0-D102576EC0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7FDD4C-B033-4159-A878-257860134B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32FCCE-BB27-423E-A26C-AA3EC85E20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D017CB-D69C-4539-B957-F33473CE151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7689530-8BAC-4804-B453-75BD89E9AA5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C15C0-39F8-468A-94BE-94377E49A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B2057-AA18-4574-9B85-16D858632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70724-F8EB-42AF-8190-DD2872D38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FFA68-DCD2-495F-8FD3-087127CAD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F5BE1-6E00-4C77-A983-417234BF0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D5A35-F0F0-4447-BAC0-0775E57F3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EDC15-CA11-4D5D-B79F-0256392E9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6F2CD-89DC-41DB-8036-540ED2DCE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5A11A-99B5-431B-AAB8-6E000E292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10B3D-480A-4D16-8ED3-460955455A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30C9A-E0DE-4E70-BFBD-CB05671FB3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7A3F2F-DAAF-473D-AE63-A959501410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4F944F-1E7C-4F2C-9DB5-98D12D1569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27A163-1673-4883-B1C8-F160947D43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DA915A-D775-4580-96CA-F5CB5F0427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35A48D-A6EB-4455-9202-A89B6ED295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6766D-F874-484A-9C53-03FBFA845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F8A71-B493-4BC6-9FF4-F89CB322E7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15167-E4A0-4BFE-A310-23CA8D7453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328793-CA42-4670-8C5D-6D2C1CEE5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EDAD34-4C42-40A9-A3C9-82F31DBD6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9A1B91-FA8D-4492-8374-0EEC40D03A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BBFE4A-1FDF-4E4A-8564-5AB63DFF25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2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042A75-2270-4B6F-BB8C-7071F9FD7B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677F35-D1D2-4E0F-91DC-8F0DAE8707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F21369-15C8-4D56-A6DD-EC0B71F7FE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7677B0-36E0-406F-8957-C115432C7A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12B00-3708-4DA4-AE19-50829990C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3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EF017-F00B-4E98-8CFD-F837F06E63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626982-4A88-4E73-9748-3BAD20E15D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C0D03-3617-4A2F-9064-2A723EB757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4065E8-EE57-4C31-BF15-7A63FB391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C68C13-7E78-47F9-8A18-9BA130680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724D2F-BE45-4B23-BD35-3710B72F02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D3CDE8-6A60-4079-B9EF-CFB98EC063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F0B919-B907-4D71-8BB0-CA91FE4BC9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279394-174D-4F54-BEEB-630ACF5E8C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5F5F0E-4914-4ECD-9AEA-6CA3249591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2D679-8A0A-4E98-B66D-F0E5217E3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7FB037-B5AB-4E5C-9830-7F24D3BCB3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23162A-3502-4813-91DA-44C10D8AB4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B26524-28D7-4318-9FE7-C11470FD70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41661C-A8E8-4F54-AF94-905DEE5571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AC5C03-5CAD-4A71-B8A9-26A4CD95C1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69BB74-54AE-41E4-A851-B98F239FFD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327967-5E26-4181-B049-021681F1D6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893A7-1A58-4D00-94FC-4C80DA52C6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0E7F43-D3D9-4850-B8EC-78580F7BE6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D0A60F-B1F1-46CC-B5EF-F88F49E591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5AD26-F250-4C4D-BFC3-D0F507281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E0A97F-8879-408E-8576-61289152A1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2CD99C-F7D3-48C9-A0B9-EE37FE3D4B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1B31E1-DDC7-4AAA-98B4-F6EF66ADA8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86F05A-0523-4C2F-9BF0-58D653F4C6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7C7FC6-595A-41B0-8158-905E6082FB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8988F4-9D3C-42F7-A2B5-E76E37C58E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9CDD1F-2EC9-4A67-A6C0-AC7BE66AFE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B85CFC-21D8-4184-96DB-C0E3D4C7C0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AB4904-C4FF-464B-9432-18CC22210F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E0DD0C-8475-4FE6-8BDE-D872206962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A462D-3183-4004-8401-125D16F37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464B27-8D8B-4F00-A532-484BF643A3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DDA4CB-EEF7-442A-9F37-3307A052E7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5FF912-DC74-4A42-BFE3-799A8AE060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9F3DF6-3DA2-473C-AA1E-EC25BB903B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5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E0836E-1B82-484F-931C-D82B127B52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74B37F-C974-46BC-9CC7-8CC49AA8C1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02EDA8-F025-4E1F-870A-00DBDFDC01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D116F5-7E80-4148-8F75-0DBA223AA6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A1F25C-7B2C-4CE4-9479-297D15269F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B9976A-5F8A-4829-9EFE-A73D74CF4D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96A4D-AF91-4869-9A3E-D331B152B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05898D-7D62-4464-BF59-581F61339D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6B05B8-DA9D-4B46-B72A-3E7EA7DEAE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6D15B9-DA6C-4088-B2F7-CD7DE9CA40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B160E5-D8B9-44C2-AFCC-FE7486DE59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EB56EF-6E5E-4D82-833F-64FF81703B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9B88FD-753C-4AE3-9B1F-11B3EFE74E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9B2C55-C035-41E9-80CD-A470ED86EA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541B2F-6503-4983-A1F2-AB2E498D94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0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930626-D289-41D0-B37D-88CA3BBF74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8846FC-4A01-4B67-B45A-3BE97005CC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6F1DB-18EB-497E-BE60-F45C036E5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247A00-508D-409B-A85F-D68010EFF3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A061EC-89D1-49FF-9B38-F3F0875B5F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BAE85F-3AB4-4786-AD6E-1A38AA1EDC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EAC47E-C791-46AD-AEA7-6225D61524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BD0496-B222-4B03-B23C-8F1B64A722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7B5AF9-54C4-4408-8FED-B2E383C7B3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3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E5E180-03FE-4FE3-AB10-B5C0DCCA3F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E69474-7D09-4E5B-871B-C06A39C1E3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E37145-AFBD-42FA-B8DD-DF105F4E2D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071CEB-FA75-49B1-8437-29742CF171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1CC9-C3EF-4403-A399-518CBDF0C24E}"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3d4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3d4f"/>
                </a:solidFill>
                <a:latin typeface="Times New Roman"/>
              </a:rPr>
              <a:t>www.sliderpoint.or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1BAC-42B4-428E-A74F-50336C4A3C6F}"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7" descr=""/>
          <p:cNvPicPr/>
          <p:nvPr/>
        </p:nvPicPr>
        <p:blipFill>
          <a:blip r:embed="rId2"/>
          <a:stretch/>
        </p:blipFill>
        <p:spPr>
          <a:xfrm>
            <a:off x="0" y="0"/>
            <a:ext cx="9144000" cy="6858000"/>
          </a:xfrm>
          <a:prstGeom prst="rect">
            <a:avLst/>
          </a:prstGeom>
          <a:ln w="0">
            <a:noFill/>
          </a:ln>
        </p:spPr>
      </p:pic>
      <p:sp>
        <p:nvSpPr>
          <p:cNvPr id="3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8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1A67-6A59-4432-B6B3-8B4126398949}"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0F6B-5689-43AD-B7C0-E99D23EFED99}"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7" descr=""/>
          <p:cNvPicPr/>
          <p:nvPr/>
        </p:nvPicPr>
        <p:blipFill>
          <a:blip r:embed="rId2"/>
          <a:stretch/>
        </p:blipFill>
        <p:spPr>
          <a:xfrm>
            <a:off x="0" y="0"/>
            <a:ext cx="9144000" cy="6858000"/>
          </a:xfrm>
          <a:prstGeom prst="rect">
            <a:avLst/>
          </a:prstGeom>
          <a:ln w="0">
            <a:noFill/>
          </a:ln>
        </p:spPr>
      </p:pic>
      <p:sp>
        <p:nvSpPr>
          <p:cNvPr id="4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2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2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4BC7-5383-4103-B963-AAD0CF696E06}"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F502-AC51-4BEE-B79D-8780FC772CE0}"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7" descr=""/>
          <p:cNvPicPr/>
          <p:nvPr/>
        </p:nvPicPr>
        <p:blipFill>
          <a:blip r:embed="rId2"/>
          <a:stretch/>
        </p:blipFill>
        <p:spPr>
          <a:xfrm>
            <a:off x="0" y="0"/>
            <a:ext cx="9144000" cy="6858000"/>
          </a:xfrm>
          <a:prstGeom prst="rect">
            <a:avLst/>
          </a:prstGeom>
          <a:ln w="0">
            <a:noFill/>
          </a:ln>
        </p:spPr>
      </p:pic>
      <p:sp>
        <p:nvSpPr>
          <p:cNvPr id="4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6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6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0E9C-8366-40FB-A829-42B4AD79AA08}"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E47E-4DED-4F05-80B9-8689FCAA0B25}"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AE3C-D2C1-4F16-B2E7-342895A94A38}"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C39D-142E-4D64-B7F7-C6BC31CB986F}"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8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3C4C-3BA0-499B-8D65-D87DCBFCD913}"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3E93-65FA-4501-8653-1F172F3EDEBB}"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2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EB2A-C0AB-4317-9BD7-67A0D9682C17}"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011D-D2D3-43E5-B9BB-FD2368E75431}"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7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5EF5-306C-4898-8A8D-01C6B837F051}"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1F4F-148D-4809-8F38-D718C275F2AD}"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
          <p:cNvPicPr/>
          <p:nvPr/>
        </p:nvPicPr>
        <p:blipFill>
          <a:blip r:embed="rId2"/>
          <a:stretch/>
        </p:blipFill>
        <p:spPr>
          <a:xfrm>
            <a:off x="0" y="0"/>
            <a:ext cx="9144000" cy="6858000"/>
          </a:xfrm>
          <a:prstGeom prst="rect">
            <a:avLst/>
          </a:prstGeom>
          <a:ln w="0">
            <a:noFill/>
          </a:ln>
        </p:spPr>
      </p:pic>
      <p:sp>
        <p:nvSpPr>
          <p:cNvPr id="2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1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A90AA-3261-4E5C-973D-B23ED0A92184}"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8C701-4A0B-490A-9F17-6BF4A96D423C}"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
          <p:cNvPicPr/>
          <p:nvPr/>
        </p:nvPicPr>
        <p:blipFill>
          <a:blip r:embed="rId2"/>
          <a:stretch/>
        </p:blipFill>
        <p:spPr>
          <a:xfrm>
            <a:off x="0" y="0"/>
            <a:ext cx="9144000" cy="6858000"/>
          </a:xfrm>
          <a:prstGeom prst="rect">
            <a:avLst/>
          </a:prstGeom>
          <a:ln w="0">
            <a:noFill/>
          </a:ln>
        </p:spPr>
      </p:pic>
      <p:sp>
        <p:nvSpPr>
          <p:cNvPr id="2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5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F3EC-1F14-457A-B90B-B16EC7185AE9}"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6BDB-4866-4B30-89F4-166DC36D1751}"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7" descr=""/>
          <p:cNvPicPr/>
          <p:nvPr/>
        </p:nvPicPr>
        <p:blipFill>
          <a:blip r:embed="rId2"/>
          <a:stretch/>
        </p:blipFill>
        <p:spPr>
          <a:xfrm>
            <a:off x="0" y="0"/>
            <a:ext cx="9144000" cy="6858000"/>
          </a:xfrm>
          <a:prstGeom prst="rect">
            <a:avLst/>
          </a:prstGeom>
          <a:ln w="0">
            <a:noFill/>
          </a:ln>
        </p:spPr>
      </p:pic>
      <p:sp>
        <p:nvSpPr>
          <p:cNvPr id="2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9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2FBF-7FC4-43A4-892D-7589C8260BE3}"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48E2-63E4-4150-B0B7-38899BA6359F}"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7" descr=""/>
          <p:cNvPicPr/>
          <p:nvPr/>
        </p:nvPicPr>
        <p:blipFill>
          <a:blip r:embed="rId2"/>
          <a:stretch/>
        </p:blipFill>
        <p:spPr>
          <a:xfrm>
            <a:off x="0" y="0"/>
            <a:ext cx="9144000" cy="6858000"/>
          </a:xfrm>
          <a:prstGeom prst="rect">
            <a:avLst/>
          </a:prstGeom>
          <a:ln w="0">
            <a:noFill/>
          </a:ln>
        </p:spPr>
      </p:pic>
      <p:sp>
        <p:nvSpPr>
          <p:cNvPr id="3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3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4F7A-EA39-48F3-8124-30338441E96D}" type="datetime">
              <a:rPr b="0" lang="en-US" sz="1200" spc="-1" strike="noStrike">
                <a:solidFill>
                  <a:srgbClr val="3a566e"/>
                </a:solidFill>
                <a:latin typeface="Times New Roman"/>
              </a:rPr>
              <a:t>07/30/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17CF-4F43-4309-A10B-EA5AFBF5F880}"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a566e"/>
                </a:solidFill>
                <a:latin typeface="Tahoma"/>
              </a:rPr>
              <a:t>Биография Бальмонта</a:t>
            </a:r>
            <a:endParaRPr b="0" lang="en-US" sz="3800" spc="-1" strike="noStrike">
              <a:solidFill>
                <a:srgbClr val="3a566e"/>
              </a:solidFill>
              <a:latin typeface="Tahoma"/>
            </a:endParaRPr>
          </a:p>
        </p:txBody>
      </p:sp>
      <p:pic>
        <p:nvPicPr>
          <p:cNvPr id="512" name="Picture 4" descr="C:\Users\Денис\Desktop\big.jpeg"/>
          <p:cNvPicPr/>
          <p:nvPr/>
        </p:nvPicPr>
        <p:blipFill>
          <a:blip r:embed="rId1"/>
          <a:stretch/>
        </p:blipFill>
        <p:spPr>
          <a:xfrm>
            <a:off x="2871720" y="1584360"/>
            <a:ext cx="3479760" cy="4383000"/>
          </a:xfrm>
          <a:prstGeom prst="rect">
            <a:avLst/>
          </a:prstGeom>
          <a:ln w="0">
            <a:noFill/>
          </a:ln>
        </p:spPr>
      </p:pic>
      <p:sp>
        <p:nvSpPr>
          <p:cNvPr id="5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6840" y="713880"/>
            <a:ext cx="5614920" cy="3886200"/>
          </a:xfrm>
          <a:prstGeom prst="rect">
            <a:avLst/>
          </a:prstGeom>
          <a:noFill/>
          <a:ln w="0">
            <a:noFill/>
          </a:ln>
        </p:spPr>
        <p:txBody>
          <a:bodyPr anchor="t">
            <a:normAutofit fontScale="85000"/>
          </a:bodyPr>
          <a:p>
            <a:pPr marL="291600" indent="-2916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родился 3 июня 1867 года в деревне Гумнищи, Шуйского уезда, Владимирской губернии.</a:t>
            </a:r>
            <a:br>
              <a:rPr sz="1400"/>
            </a:br>
            <a:r>
              <a:rPr b="0" lang="ru-RU" sz="1400" spc="-1" strike="noStrike">
                <a:solidFill>
                  <a:srgbClr val="3a566e"/>
                </a:solidFill>
                <a:latin typeface="Tahoma"/>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400"/>
            </a:br>
            <a:r>
              <a:rPr b="0" lang="ru-RU" sz="1400" spc="-1" strike="noStrike">
                <a:solidFill>
                  <a:srgbClr val="3a566e"/>
                </a:solidFill>
                <a:latin typeface="Tahoma"/>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400" spc="-1" strike="noStrike">
              <a:solidFill>
                <a:srgbClr val="3a566e"/>
              </a:solidFill>
              <a:latin typeface="Tahoma"/>
            </a:endParaRPr>
          </a:p>
        </p:txBody>
      </p:sp>
      <p:pic>
        <p:nvPicPr>
          <p:cNvPr id="515" name="Picture 2" descr="C:\Users\Денис\Desktop\big.jpeg"/>
          <p:cNvPicPr/>
          <p:nvPr/>
        </p:nvPicPr>
        <p:blipFill>
          <a:blip r:embed="rId1"/>
          <a:stretch/>
        </p:blipFill>
        <p:spPr>
          <a:xfrm>
            <a:off x="6729480" y="4054320"/>
            <a:ext cx="6120" cy="7920"/>
          </a:xfrm>
          <a:prstGeom prst="rect">
            <a:avLst/>
          </a:prstGeom>
          <a:ln w="0">
            <a:noFill/>
          </a:ln>
        </p:spPr>
      </p:pic>
      <p:pic>
        <p:nvPicPr>
          <p:cNvPr id="516" name="Picture 4" descr="C:\Users\Денис\Desktop\big.jpeg"/>
          <p:cNvPicPr/>
          <p:nvPr/>
        </p:nvPicPr>
        <p:blipFill>
          <a:blip r:embed="rId2"/>
          <a:stretch/>
        </p:blipFill>
        <p:spPr>
          <a:xfrm>
            <a:off x="5956200" y="1547640"/>
            <a:ext cx="2602080" cy="3408480"/>
          </a:xfrm>
          <a:prstGeom prst="rect">
            <a:avLst/>
          </a:prstGeom>
          <a:ln w="0">
            <a:noFill/>
          </a:ln>
        </p:spPr>
      </p:pic>
      <p:sp>
        <p:nvSpPr>
          <p:cNvPr id="5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285840" y="642600"/>
            <a:ext cx="5857920" cy="3886200"/>
          </a:xfrm>
          <a:prstGeom prst="rect">
            <a:avLst/>
          </a:prstGeom>
          <a:noFill/>
          <a:ln w="0">
            <a:noFill/>
          </a:ln>
        </p:spPr>
        <p:txBody>
          <a:bodyPr anchor="t">
            <a:normAutofit fontScale="83000"/>
          </a:bodyPr>
          <a:p>
            <a:pPr marL="284400" indent="-2844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300"/>
            </a:br>
            <a:r>
              <a:rPr b="0" lang="ru-RU" sz="1300" spc="-1" strike="noStrike">
                <a:solidFill>
                  <a:srgbClr val="3a566e"/>
                </a:solidFill>
                <a:latin typeface="Tahoma"/>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300" spc="-1" strike="noStrike">
              <a:solidFill>
                <a:srgbClr val="3a566e"/>
              </a:solidFill>
              <a:latin typeface="Tahoma"/>
            </a:endParaRPr>
          </a:p>
        </p:txBody>
      </p:sp>
      <p:pic>
        <p:nvPicPr>
          <p:cNvPr id="519" name="Picture 2" descr="C:\Users\Денис\Desktop\photo1095-0.jpg"/>
          <p:cNvPicPr/>
          <p:nvPr/>
        </p:nvPicPr>
        <p:blipFill>
          <a:blip r:embed="rId1"/>
          <a:stretch/>
        </p:blipFill>
        <p:spPr>
          <a:xfrm>
            <a:off x="5962680" y="1852560"/>
            <a:ext cx="2601720" cy="2901960"/>
          </a:xfrm>
          <a:prstGeom prst="rect">
            <a:avLst/>
          </a:prstGeom>
          <a:ln w="0">
            <a:noFill/>
          </a:ln>
        </p:spPr>
      </p:pic>
      <p:sp>
        <p:nvSpPr>
          <p:cNvPr id="5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6840" y="756720"/>
            <a:ext cx="5900760" cy="3886200"/>
          </a:xfrm>
          <a:prstGeom prst="rect">
            <a:avLst/>
          </a:prstGeom>
          <a:noFill/>
          <a:ln w="0">
            <a:noFill/>
          </a:ln>
        </p:spPr>
        <p:txBody>
          <a:bodyPr anchor="t">
            <a:normAutofit fontScale="89000"/>
          </a:bodyPr>
          <a:p>
            <a:pPr marL="305280" indent="-3052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400"/>
            </a:br>
            <a:r>
              <a:rPr b="0" lang="ru-RU" sz="1400" spc="-1" strike="noStrike">
                <a:solidFill>
                  <a:srgbClr val="3a566e"/>
                </a:solidFill>
                <a:latin typeface="Tahoma"/>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400" spc="-1" strike="noStrike">
              <a:solidFill>
                <a:srgbClr val="3a566e"/>
              </a:solidFill>
              <a:latin typeface="Tahoma"/>
            </a:endParaRPr>
          </a:p>
        </p:txBody>
      </p:sp>
      <p:pic>
        <p:nvPicPr>
          <p:cNvPr id="522" name="Picture 2" descr="C:\Users\Денис\Desktop\pero.jpg"/>
          <p:cNvPicPr/>
          <p:nvPr/>
        </p:nvPicPr>
        <p:blipFill>
          <a:blip r:embed="rId1"/>
          <a:stretch/>
        </p:blipFill>
        <p:spPr>
          <a:xfrm>
            <a:off x="6315120" y="1871640"/>
            <a:ext cx="2219400" cy="2743200"/>
          </a:xfrm>
          <a:prstGeom prst="rect">
            <a:avLst/>
          </a:prstGeom>
          <a:ln w="0">
            <a:noFill/>
          </a:ln>
        </p:spPr>
      </p:pic>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6840" y="713880"/>
            <a:ext cx="4900680" cy="3886200"/>
          </a:xfrm>
          <a:prstGeom prst="rect">
            <a:avLst/>
          </a:prstGeom>
          <a:noFill/>
          <a:ln w="0">
            <a:noFill/>
          </a:ln>
        </p:spPr>
        <p:txBody>
          <a:bodyPr anchor="t">
            <a:normAutofit fontScale="98000"/>
          </a:bodyPr>
          <a:p>
            <a:pPr marL="335880" indent="-3358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400"/>
            </a:br>
            <a:r>
              <a:rPr b="0" lang="ru-RU" sz="1400" spc="-1" strike="noStrike">
                <a:solidFill>
                  <a:srgbClr val="3a566e"/>
                </a:solidFill>
                <a:latin typeface="Tahoma"/>
              </a:rPr>
              <a:t>Псевдонимы: Гридинский (в журнале Ясинского «Ежемесячные сочинения») и Лионель (в «Северных цветах»).</a:t>
            </a:r>
            <a:endParaRPr b="0" lang="en-US" sz="1400" spc="-1" strike="noStrike">
              <a:solidFill>
                <a:srgbClr val="3a566e"/>
              </a:solidFill>
              <a:latin typeface="Tahoma"/>
            </a:endParaRPr>
          </a:p>
        </p:txBody>
      </p:sp>
      <p:pic>
        <p:nvPicPr>
          <p:cNvPr id="525" name="Picture 2" descr="C:\Users\Денис\Desktop\6d04744a33bc.jpg"/>
          <p:cNvPicPr/>
          <p:nvPr/>
        </p:nvPicPr>
        <p:blipFill>
          <a:blip r:embed="rId1"/>
          <a:stretch/>
        </p:blipFill>
        <p:spPr>
          <a:xfrm>
            <a:off x="5315040" y="817560"/>
            <a:ext cx="3292560" cy="5076720"/>
          </a:xfrm>
          <a:prstGeom prst="rect">
            <a:avLst/>
          </a:prstGeom>
          <a:ln w="0">
            <a:noFill/>
          </a:ln>
        </p:spPr>
      </p:pic>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285840" y="714240"/>
            <a:ext cx="5000400" cy="5143680"/>
          </a:xfrm>
          <a:prstGeom prst="rect">
            <a:avLst/>
          </a:prstGeom>
          <a:noFill/>
          <a:ln w="0">
            <a:noFill/>
          </a:ln>
        </p:spPr>
        <p:txBody>
          <a:bodyPr anchor="t">
            <a:normAutofit fontScale="94000"/>
          </a:bodyPr>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400" spc="-1" strike="noStrike">
                <a:solidFill>
                  <a:srgbClr val="3a566e"/>
                </a:solidFill>
                <a:latin typeface="Tahoma"/>
              </a:rPr>
              <a:t> </a:t>
            </a:r>
            <a:r>
              <a:rPr b="0" lang="ru-RU" sz="1400" spc="-1" strike="noStrike">
                <a:solidFill>
                  <a:srgbClr val="3a566e"/>
                </a:solidFill>
                <a:latin typeface="Tahoma"/>
              </a:rPr>
              <a:t>и самую сущность его поэзии».</a:t>
            </a:r>
            <a:endParaRPr b="0" lang="en-US" sz="1400" spc="-1" strike="noStrike">
              <a:solidFill>
                <a:srgbClr val="3a566e"/>
              </a:solidFill>
              <a:latin typeface="Tahoma"/>
            </a:endParaRPr>
          </a:p>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3a566e"/>
                </a:solidFill>
                <a:latin typeface="Tahoma"/>
              </a:rPr>
              <a:t>Не случайно многие поэты посвящали ему свои стихотворения</a:t>
            </a:r>
            <a:r>
              <a:rPr b="0" lang="en-US" sz="1400" spc="-1" strike="noStrike">
                <a:solidFill>
                  <a:srgbClr val="3a566e"/>
                </a:solidFill>
                <a:latin typeface="Tahoma"/>
              </a:rPr>
              <a:t> </a:t>
            </a:r>
            <a:r>
              <a:rPr b="0" lang="ru-RU" sz="1400" spc="-1" strike="noStrike">
                <a:solidFill>
                  <a:srgbClr val="3a566e"/>
                </a:solidFill>
                <a:latin typeface="Tahoma"/>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400"/>
            </a:br>
            <a:r>
              <a:rPr b="0" lang="ru-RU" sz="1400" spc="-1" strike="noStrike">
                <a:solidFill>
                  <a:srgbClr val="3a566e"/>
                </a:solidFill>
                <a:latin typeface="Tahoma"/>
              </a:rPr>
              <a:t>О, кто из нас в лирические бури Бросался, наг, как нежный Лионель?..</a:t>
            </a:r>
            <a:br>
              <a:rPr sz="1400"/>
            </a:br>
            <a:r>
              <a:rPr b="0" lang="ru-RU" sz="1400" spc="-1" strike="noStrike">
                <a:solidFill>
                  <a:srgbClr val="3a566e"/>
                </a:solidFill>
                <a:latin typeface="Tahoma"/>
              </a:rPr>
              <a:t> </a:t>
            </a:r>
            <a:endParaRPr b="0" lang="en-US" sz="1400" spc="-1" strike="noStrike">
              <a:solidFill>
                <a:srgbClr val="3a566e"/>
              </a:solidFill>
              <a:latin typeface="Tahoma"/>
            </a:endParaRPr>
          </a:p>
        </p:txBody>
      </p:sp>
      <p:pic>
        <p:nvPicPr>
          <p:cNvPr id="528" name="Picture 2" descr="C:\Users\Денис\Desktop\35863390_p16.jpg"/>
          <p:cNvPicPr/>
          <p:nvPr/>
        </p:nvPicPr>
        <p:blipFill>
          <a:blip r:embed="rId1"/>
          <a:stretch/>
        </p:blipFill>
        <p:spPr>
          <a:xfrm>
            <a:off x="5194440" y="1603440"/>
            <a:ext cx="3419280" cy="2828880"/>
          </a:xfrm>
          <a:prstGeom prst="rect">
            <a:avLst/>
          </a:prstGeom>
          <a:ln w="0">
            <a:noFill/>
          </a:ln>
        </p:spPr>
      </p:pic>
      <p:sp>
        <p:nvSpPr>
          <p:cNvPr id="529" name="Прямоугольник 5"/>
          <p:cNvSpPr/>
          <p:nvPr/>
        </p:nvSpPr>
        <p:spPr>
          <a:xfrm rot="21426600">
            <a:off x="5633280" y="4284360"/>
            <a:ext cx="278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00"/>
                </a:solidFill>
                <a:latin typeface="Tahoma"/>
              </a:rPr>
              <a:t>М</a:t>
            </a:r>
            <a:r>
              <a:rPr b="0" lang="ru-RU" sz="1400" spc="-1" strike="noStrike">
                <a:solidFill>
                  <a:srgbClr val="003300"/>
                </a:solidFill>
                <a:latin typeface="Tahoma"/>
              </a:rPr>
              <a:t>. </a:t>
            </a:r>
            <a:r>
              <a:rPr b="1" lang="ru-RU" sz="1400" spc="-1" strike="noStrike">
                <a:solidFill>
                  <a:srgbClr val="003300"/>
                </a:solidFill>
                <a:latin typeface="Tahoma"/>
              </a:rPr>
              <a:t>Лохвицкая</a:t>
            </a:r>
            <a:r>
              <a:rPr b="0" lang="ru-RU" sz="1400" spc="-1" strike="noStrike">
                <a:solidFill>
                  <a:srgbClr val="003300"/>
                </a:solidFill>
                <a:latin typeface="Tahoma"/>
              </a:rPr>
              <a:t> и К. Бальмонт.</a:t>
            </a:r>
            <a:endParaRPr b="0" lang="en-US" sz="1400" spc="-1" strike="noStrike">
              <a:solidFill>
                <a:srgbClr val="003300"/>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214200" y="642600"/>
            <a:ext cx="6615360" cy="3886200"/>
          </a:xfrm>
          <a:prstGeom prst="rect">
            <a:avLst/>
          </a:prstGeom>
          <a:noFill/>
          <a:ln w="0">
            <a:noFill/>
          </a:ln>
        </p:spPr>
        <p:txBody>
          <a:bodyPr anchor="t">
            <a:normAutofit fontScale="84000"/>
          </a:bodyPr>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300" spc="-1" strike="noStrike">
              <a:solidFill>
                <a:srgbClr val="3a566e"/>
              </a:solidFill>
              <a:latin typeface="Tahoma"/>
            </a:endParaRPr>
          </a:p>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300" spc="-1" strike="noStrike">
              <a:solidFill>
                <a:srgbClr val="3a566e"/>
              </a:solidFill>
              <a:latin typeface="Tahoma"/>
            </a:endParaRPr>
          </a:p>
        </p:txBody>
      </p:sp>
      <p:pic>
        <p:nvPicPr>
          <p:cNvPr id="532" name="Picture 2" descr="C:\Users\Денис\Desktop\Konstantin_Balmont.jpg"/>
          <p:cNvPicPr/>
          <p:nvPr/>
        </p:nvPicPr>
        <p:blipFill>
          <a:blip r:embed="rId1"/>
          <a:stretch/>
        </p:blipFill>
        <p:spPr>
          <a:xfrm>
            <a:off x="6602400" y="1596960"/>
            <a:ext cx="2048040" cy="3303720"/>
          </a:xfrm>
          <a:prstGeom prst="rect">
            <a:avLst/>
          </a:prstGeom>
          <a:ln w="0">
            <a:noFill/>
          </a:ln>
        </p:spPr>
      </p:pic>
      <p:sp>
        <p:nvSpPr>
          <p:cNvPr id="533" name="Прямоугольник 4"/>
          <p:cNvSpPr/>
          <p:nvPr/>
        </p:nvSpPr>
        <p:spPr>
          <a:xfrm rot="21432600">
            <a:off x="6890400" y="4824360"/>
            <a:ext cx="1666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В. А. Серов. </a:t>
            </a:r>
            <a:endParaRPr b="0" lang="en-US" sz="1200" spc="-1" strike="noStrike">
              <a:solidFill>
                <a:srgbClr val="0033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Портрет Бальмонта</a:t>
            </a:r>
            <a:endParaRPr b="0" lang="en-US" sz="1200" spc="-1" strike="noStrike">
              <a:solidFill>
                <a:srgbClr val="003300"/>
              </a:solidFill>
              <a:latin typeface="Tahoma"/>
            </a:endParaRPr>
          </a:p>
        </p:txBody>
      </p:sp>
      <p:sp>
        <p:nvSpPr>
          <p:cNvPr id="5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36:00Z</dcterms:created>
  <dc:creator>Денис</dc:creator>
  <dc:description/>
  <dc:language>en-US</dc:language>
  <cp:lastModifiedBy>LEGION</cp:lastModifiedBy>
  <dcterms:modified xsi:type="dcterms:W3CDTF">2015-01-20T13:34:53Z</dcterms:modified>
  <cp:revision>9</cp:revision>
  <dc:subject/>
  <dc:title>Биография Бальмонта</dc:title>
</cp:coreProperties>
</file>