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6511F9E-6E01-4A8E-B4A2-DC249106D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урока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по те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«Русская литература второй половины </a:t>
            </a:r>
            <a:r>
              <a:rPr b="1" lang="en-US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ек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Выполнила 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МОУ «СОШ № 5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г. Оренбур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+mn-ea"/>
              </a:rPr>
              <a:t>НАСЫРОВА Э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50FAC2-6659-46D2-8124-A82883E7505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РО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родническая идеология, представлявшая собой разновидность </a:t>
            </a:r>
            <a:r>
              <a:rPr b="0" i="1" lang="ru-RU" sz="2000" spc="-1" strike="noStrike">
                <a:solidFill>
                  <a:srgbClr val="7030a0"/>
                </a:solidFill>
                <a:latin typeface="Arial"/>
              </a:rPr>
              <a:t>утопического социал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0B9288-84D6-41E0-8FA5-4CF4A32855D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ЧВЕН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Сотрудничали в журналах «Время», «Эпох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E092B6-66E8-4D88-89AF-5E990DD6846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ТОЛСТОВ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Проповедовали на основе 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566A3F-64A6-47DD-9B61-014212410D2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илософия Западной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ШОПЕНГАУЭР (Schopenhauer) Арту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-иррационалис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ИЦШЕ (Nietzsche) Фридр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немецкий философ, представитель философии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8DB4DC-1AED-4503-9C51-41C3E677A389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торая половина </a:t>
            </a: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                          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РЕ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Преобладающий интерес к проблеме «личность и общ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DD8093-17F3-44BA-B140-99F368B2F7E3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тературно – художественны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                      </a:t>
            </a: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онец ве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кризис позитивистского миропоним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утрата веры в общественный прогресс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  </a:t>
            </a:r>
            <a:r>
              <a:rPr b="1" i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интерес к подсознательном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НАТУР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                                                              </a:t>
            </a: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ИМПРЕССИОНИЗ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56A6C8-D5D1-4AF0-8B08-A3267E5D92F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торая половина </a:t>
            </a:r>
            <a:r>
              <a:rPr b="1" lang="en-US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века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Художественные достоинства русского рома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лубокий психологиз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гармоническое сочетание социальных, философских, общечеловеческих пробле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12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высокий уровень литературного язы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chemeClr val="accent2"/>
                </a:solidFill>
                <a:latin typeface="Arial"/>
              </a:rPr>
              <a:t>                              </a:t>
            </a:r>
            <a:r>
              <a:rPr b="1" lang="ru-RU" sz="12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А.Гончаров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Ф.М.Достоевский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c00000"/>
                </a:solidFill>
                <a:latin typeface="Arial"/>
              </a:rPr>
              <a:t>Л.Н.Толс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D188D8-9891-4FDD-B486-E91B8F9183A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ущие жан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Конец </a:t>
            </a:r>
            <a:r>
              <a:rPr b="1" lang="en-US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XIX</a:t>
            </a:r>
            <a:r>
              <a:rPr b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 века 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ВЕСТЬ, РАССК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Причины возникновения малых жан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Утрата обобщающего взгляда на жиз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i="1" lang="ru-RU" sz="2000" spc="-1" strike="noStrike">
                <a:solidFill>
                  <a:schemeClr val="accent4">
                    <a:lumMod val="50000"/>
                  </a:schemeClr>
                </a:solidFill>
                <a:latin typeface="Arial"/>
              </a:rPr>
              <a:t>Интерес к частной жизни обыкновенного, «среднего»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                   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Ведущие мастера жан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Г.Короленко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В.М.Гарш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8ED4B8-274C-4030-957A-E583A719C51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РАМАТУ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Жанры и направления драматур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chemeClr val="accent6">
                    <a:lumMod val="75000"/>
                  </a:schemeClr>
                </a:solidFill>
                <a:latin typeface="Arial"/>
              </a:rPr>
              <a:t>Вторая половина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атирическая комед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В.Сухово-Кобы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сторическая драм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Л.А.Мей,  А.К.Толс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девили 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.А.Кры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сихологическ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родная комедия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А.Н.Остр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ихотворная д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                              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Arial"/>
              </a:rPr>
              <a:t>Конец 19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новая драма»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chemeClr val="accent2"/>
                </a:solidFill>
                <a:latin typeface="Arial"/>
              </a:rPr>
              <a:t>А.П.Ч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5C97D9-91C4-440E-9414-3CE3E7EE7DD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Основные 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20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«пушкинское»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chemeClr val="accent2"/>
                </a:solidFill>
                <a:latin typeface="Monotype Corsiva"/>
              </a:rPr>
              <a:t>       «гоголевск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(«чистое искусство»)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Monotype Corsiva"/>
              </a:rPr>
              <a:t>                      (реалистическое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бл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философские 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	</a:t>
            </a:r>
            <a:r>
              <a:rPr b="1" i="1" lang="ru-RU" sz="2000" spc="-1" strike="noStrike">
                <a:solidFill>
                  <a:schemeClr val="accent4">
                    <a:lumMod val="75000"/>
                  </a:schemeClr>
                </a:solidFill>
                <a:latin typeface="Monotype Corsiva"/>
              </a:rPr>
              <a:t>                             со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А.Фет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  Н.А.Некр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А.К.Толстой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Н.А.Добролюб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8F1FB4-635E-4448-9ED1-7822677818E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20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20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096BEB-C82F-44C2-8648-D30BFFD2C0C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ЭЗИ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на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20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импрессионизм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	</a:t>
            </a:r>
            <a:r>
              <a:rPr b="0" i="1" lang="ru-RU" sz="2000" spc="-1" strike="noStrike">
                <a:solidFill>
                  <a:srgbClr val="c00000"/>
                </a:solidFill>
                <a:latin typeface="Monotype Corsiva"/>
              </a:rPr>
              <a:t>             симво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11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05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</a:t>
            </a:r>
            <a:r>
              <a:rPr b="0" lang="ru-RU" sz="1050" spc="-1" strike="noStrike">
                <a:solidFill>
                  <a:srgbClr val="c00000"/>
                </a:solidFill>
                <a:latin typeface="Monotype Corsiva"/>
              </a:rPr>
              <a:t>Д.С.Мережковский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7BD0F0-4FC6-41C5-A43E-7DE22627C19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ОРМЫ  60-70-ых г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20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7FE6A3-5BEA-422E-B42F-36E86E9B90E7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КОНОМИЧЕСКИЙ КРИЗИС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абсолютное падение произво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едогрузка производственных мощност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рост безработиц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нарушения в денежно-кредитной и валютно-финансовой сфер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B8EC41-76D2-4FE3-8F62-72F0F2F65E9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 1853-1856 гг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(Восточная война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20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4F0875-05DC-44F8-BD52-BED24FF8BDB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РЫМСКАЯ ВО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379261-6326-42C8-B472-01F657A5DE0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ОБЩЕСТВЕННЫЕ ТЕ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Основная цел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0d0d0d"/>
                </a:solidFill>
                <a:latin typeface="Monotype Corsiva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D29319-8794-437C-B06B-C0783EFD222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ПАД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22AB7F-1501-4FAF-863E-E4A7E0810CFB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ЩЕСТВЕННЫЕ ТЕЧЕНИЯ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ЛАВЯНОФ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Выступали за отмену крепостного права, смертной казни, за свободу печа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Гла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Близки к славянофилам были В. И. Даль, А. Н. Островский, А. А. Григорьев, 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chemeClr val="accent3">
                    <a:lumMod val="50000"/>
                  </a:schemeClr>
                </a:solidFill>
                <a:latin typeface="Arial"/>
              </a:rPr>
              <a:t>Ф. И. Тютчев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FE8A24-49AC-4F10-B0CE-188EC44EC23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CF5-A77C-442C-8B20-5A74C77E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6B2-2D42-4795-B1A0-CFDF06AB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7D94-60DE-4405-BB74-063A0C86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0523-CB9E-42B7-8C73-FB39D01C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1285-E953-4916-95FA-B3950582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7706-E625-4FA0-BA57-A490FF4C5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6E25-61F2-491F-8AAD-3A9E0999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F83E6-0A03-4E17-836A-0D985EED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83E5-B4E4-403B-8F16-DB7A29A6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34FC-8BF1-4C34-9ED7-D8871F33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26FE-1A0D-4EB8-8B76-B0DE6A69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75F-A6E6-4224-8ACE-DE593FE3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39C2-2A06-4F7B-9DD8-80288A26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3A68-6754-4467-97EE-A621B79C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E215-F2D5-4454-9C69-30B5AF4E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00DE-D633-4702-93BB-451F5311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695D-7693-4F6F-B240-C271C5310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6B7C-D10A-4B51-A2F4-3E8BD3B3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B2007-3C0E-4B44-AE6D-D1B0DCF29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B788-BF84-43B5-8B88-7A7C70C1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5331E-8DCA-4EA4-B107-0C1C969B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B6B7C-6CAD-409D-BDB4-D5752A4C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A6AF-B581-4EDA-8E06-10CDD2AB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7333E-7968-4DE0-BCB2-BDF2EABE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7E8DC-B18B-49EF-BA81-BAD532B2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73A11-ABFA-44C7-9543-FE7488C4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32E73-6674-47CB-A803-0021BC79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CF2F4-8C5B-4C43-8FBC-1285BF1E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2F385-9142-4DE8-B748-C6114E7D0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94A0-A312-473C-A87A-263A3A1B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6B7C-41C2-4159-AFBC-A8BA8447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7A2-A5F6-4ADD-BD9A-0A08062F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CE9-297D-4DA4-83EB-FB44416C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7D93-EE27-4262-AB7E-F13DA9E4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C909-C110-4565-9CAD-016DA90C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8ED2-8553-4EC4-9FB3-FB89620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F8C430-BBB3-47D7-BD31-DDA3753DDF1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7C8894-7861-4F78-86DD-30BA44AF6A3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5dd"/>
            </a:gs>
            <a:gs pos="100000">
              <a:srgbClr val="918d8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AC8F04-44BA-4306-8DC7-DC9179D825E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928800"/>
            <a:ext cx="4038120" cy="5196960"/>
          </a:xfrm>
          <a:prstGeom prst="rect">
            <a:avLst/>
          </a:prstGeom>
          <a:gradFill rotWithShape="0">
            <a:gsLst>
              <a:gs pos="0">
                <a:srgbClr val="2988a1"/>
              </a:gs>
              <a:gs pos="100000">
                <a:srgbClr val="36b0d1"/>
              </a:gs>
            </a:gsLst>
            <a:lin ang="16200000"/>
          </a:gradFill>
          <a:ln w="0">
            <a:noFill/>
          </a:ln>
          <a:effectLst>
            <a:outerShdw dist="23040" dir="5400000" blurRad="39960" rotWithShape="0">
              <a:srgbClr val="000000">
                <a:alpha val="35000"/>
              </a:srgbClr>
            </a:outerShdw>
          </a:effectLst>
        </p:spPr>
        <p:txBody>
          <a:bodyPr anchor="t">
            <a:normAutofit fontScale="91000"/>
          </a:bodyPr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РЕЗЕНТАЦ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урока литературы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по тем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«Русская литература второй половины </a:t>
            </a:r>
            <a:r>
              <a:rPr b="1" lang="en-US" sz="2800" spc="-1" strike="noStrike">
                <a:solidFill>
                  <a:schemeClr val="lt1"/>
                </a:solidFill>
                <a:latin typeface="Monotype Corsiva"/>
              </a:rPr>
              <a:t>XIX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ека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Выполнила учитель русского языка и литератур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МОУ «СОШ № 5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г. Оренбурга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3732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chemeClr val="lt1"/>
                </a:solidFill>
                <a:latin typeface="Monotype Corsiva"/>
              </a:rPr>
              <a:t>НАСЫРОВА Э.С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C:\Documents and Settings\1\Мои документы\Альбомы\я\мама 1.jpg"/>
          <p:cNvPicPr/>
          <p:nvPr/>
        </p:nvPicPr>
        <p:blipFill>
          <a:blip r:embed="rId1"/>
          <a:stretch/>
        </p:blipFill>
        <p:spPr>
          <a:xfrm>
            <a:off x="4509720" y="928800"/>
            <a:ext cx="3905280" cy="521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РО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14720"/>
            <a:ext cx="8229240" cy="357156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Народническая идеология, представлявшая собой разновидность </a:t>
            </a: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утопического социализм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ЧВЕН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28880"/>
            <a:ext cx="8229240" cy="442872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Проповедовали сближение образованного общества с народом («почвой») на религиозно-этической основ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Сотрудничали в журналах «Время», «Эпоха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ОЛСТОВЦ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 rot="946800">
            <a:off x="456840" y="2214360"/>
            <a:ext cx="8229240" cy="391140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7142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Проповедовали на основе уч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Л. Н. Толстого «всеобщую любовь», непротивление злу насилием, религиозное и нравственное самосовершенствование как средство преобразования обществ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C:\Documents and Settings\Дом2\Рабочий стол\р\т.jpg"/>
          <p:cNvPicPr/>
          <p:nvPr/>
        </p:nvPicPr>
        <p:blipFill>
          <a:blip r:embed="rId1"/>
          <a:stretch/>
        </p:blipFill>
        <p:spPr>
          <a:xfrm>
            <a:off x="6858000" y="928800"/>
            <a:ext cx="1918800" cy="247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6200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Философия Западной Европ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 rot="21402000">
            <a:off x="45684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bfecff"/>
              </a:gs>
              <a:gs pos="100000">
                <a:srgbClr val="e6f7ff"/>
              </a:gs>
            </a:gsLst>
            <a:lin ang="15996000"/>
          </a:gradFill>
          <a:ln w="9360">
            <a:solidFill>
              <a:srgbClr val="46aac4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6000"/>
          </a:bodyPr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ШОПЕНГАУЭР (Schopenhauer) Артур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-иррационалист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главном сочинении «Мир как воля и представление» сущность мира и человека предстает как бессознательная «воля к жизни». «Освобождение» от мира — через сострадание, бескорыстное эстетическое созерцание, аскетизм — достигается в состоянии, близком буддийской нирван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ИЦШЕ (Nietzsche) Фридри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емецкий философ, представитель философии жиз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280" indent="-323280">
              <a:lnSpc>
                <a:spcPct val="100000"/>
              </a:lnSpc>
              <a:spcBef>
                <a:spcPts val="641"/>
              </a:spcBef>
              <a:buClr>
                <a:srgbClr val="0070c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В сочинениях, написанных в жанре философско-художественной прозы, выступал с анархической критикой культуры. В мифе о «сверхчеловеке» индивидуалистический культ сильной личности сочетался у Ницше с романтическим идеалом «человека будущег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Documents and Settings\Дом2\Рабочий стол\р\ш.jpeg"/>
          <p:cNvPicPr/>
          <p:nvPr/>
        </p:nvPicPr>
        <p:blipFill>
          <a:blip r:embed="rId1"/>
          <a:stretch/>
        </p:blipFill>
        <p:spPr>
          <a:xfrm>
            <a:off x="7358040" y="1714320"/>
            <a:ext cx="1540800" cy="21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C:\Documents and Settings\Дом2\Рабочий стол\р\н.jpg"/>
          <p:cNvPicPr/>
          <p:nvPr/>
        </p:nvPicPr>
        <p:blipFill>
          <a:blip r:embed="rId2"/>
          <a:stretch/>
        </p:blipFill>
        <p:spPr>
          <a:xfrm>
            <a:off x="7215120" y="4000680"/>
            <a:ext cx="1714320" cy="26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13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8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2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 rot="332400">
            <a:off x="-897480" y="1414800"/>
            <a:ext cx="8686440" cy="446148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53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торая половина </a:t>
            </a: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XIX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                        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РЕА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ъективное отображение существенных сторон жизни в сочетании с высотой и истинностью авторского идеала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Воспроизведение типичных характеров, конфликтов, ситуаций при полноте их художественной индивидуализации (т. е. конкретизации как национальных, исторических, социальных примет, так и физических, интеллектуальных и духовных особенностей)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8200" indent="-35820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Преобладающий интерес к проблеме «личность и общество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Литературно – художественные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аправлен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 rot="21162600">
            <a:off x="457200" y="1856880"/>
            <a:ext cx="8229240" cy="4714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5762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</a:tabLst>
            </a:pPr>
            <a:r>
              <a:rPr b="0" lang="ru-RU" sz="45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endParaRPr b="0" lang="ru-RU" sz="45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                      </a:t>
            </a: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онец век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 кризис позитивистского миропонимания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утрата веры в общественный прогресс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  </a:t>
            </a:r>
            <a:r>
              <a:rPr b="1" i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интерес к подсознательному;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НАТУРАЛИЗМ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) стремление к «объективному» бесстрастному воспроизведению реальности, уподобляя художественное познание научному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)  копирование отталкивающих (нередко низменных) сторон жизни, повышенный интерес к физиологическим, преимущественно сексуальным, проявлениям человеческой природы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                                                              </a:t>
            </a:r>
            <a:r>
              <a:rPr b="1" lang="ru-RU" sz="7200" spc="-1" strike="noStrike">
                <a:solidFill>
                  <a:srgbClr val="c00000"/>
                </a:solidFill>
                <a:latin typeface="Calibri"/>
              </a:rPr>
              <a:t>ИМПРЕССИОНИЗМ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тремление наиболее естественно и непредвзято запечатлеть реальный мир в его подвижности и изменчивости, передать свои мимолетные впечатления. 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1" lang="ru-RU" sz="7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        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71320" y="1143000"/>
            <a:ext cx="8229240" cy="392868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7000"/>
          </a:bodyPr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торая половина </a:t>
            </a:r>
            <a:r>
              <a:rPr b="1" lang="en-US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века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ОМА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Художественные достоинства русского роман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лубокий психологиз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гармоническое сочетание социальных, философских, общечеловеческих проблем;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-310680">
              <a:lnSpc>
                <a:spcPct val="100000"/>
              </a:lnSpc>
              <a:spcBef>
                <a:spcPts val="561"/>
              </a:spcBef>
              <a:buClr>
                <a:srgbClr val="984807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высокий уровень литературного язы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chemeClr val="accent2"/>
                </a:solidFill>
                <a:latin typeface="Calibri"/>
              </a:rPr>
              <a:t>                              </a:t>
            </a:r>
            <a:r>
              <a:rPr b="1" lang="ru-RU" sz="28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А.Гончаров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И.С.Тургенев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3106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Ф.М.Достоевский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Л.Н.Толсто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трелка вправо 9"/>
          <p:cNvSpPr/>
          <p:nvPr/>
        </p:nvSpPr>
        <p:spPr>
          <a:xfrm>
            <a:off x="5230080" y="1688040"/>
            <a:ext cx="465120" cy="19728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cc6d20"/>
              </a:gs>
              <a:gs pos="100000">
                <a:srgbClr val="ff9033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8" name="Picture 2" descr="C:\Documents and Settings\Дом2\Рабочий стол\р\г.jpeg"/>
          <p:cNvPicPr/>
          <p:nvPr/>
        </p:nvPicPr>
        <p:blipFill>
          <a:blip r:embed="rId1"/>
          <a:stretch/>
        </p:blipFill>
        <p:spPr>
          <a:xfrm>
            <a:off x="714240" y="5214960"/>
            <a:ext cx="1254600" cy="1428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C:\Documents and Settings\Дом2\Рабочий стол\р\д.jpeg"/>
          <p:cNvPicPr/>
          <p:nvPr/>
        </p:nvPicPr>
        <p:blipFill>
          <a:blip r:embed="rId2"/>
          <a:stretch/>
        </p:blipFill>
        <p:spPr>
          <a:xfrm>
            <a:off x="2286000" y="5214960"/>
            <a:ext cx="1320480" cy="14727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C:\Documents and Settings\Дом2\Рабочий стол\р\т.jpeg"/>
          <p:cNvPicPr/>
          <p:nvPr/>
        </p:nvPicPr>
        <p:blipFill>
          <a:blip r:embed="rId3"/>
          <a:stretch/>
        </p:blipFill>
        <p:spPr>
          <a:xfrm>
            <a:off x="5643720" y="5143680"/>
            <a:ext cx="1142640" cy="1520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:\Documents and Settings\Дом2\Рабочий стол\р\11.jpeg"/>
          <p:cNvPicPr/>
          <p:nvPr/>
        </p:nvPicPr>
        <p:blipFill>
          <a:blip r:embed="rId4"/>
          <a:stretch/>
        </p:blipFill>
        <p:spPr>
          <a:xfrm>
            <a:off x="7358040" y="5072040"/>
            <a:ext cx="1142640" cy="1614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Documents and Settings\Дом2\Рабочий стол\книга.gif"/>
          <p:cNvPicPr/>
          <p:nvPr/>
        </p:nvPicPr>
        <p:blipFill>
          <a:blip r:embed="rId5"/>
          <a:stretch/>
        </p:blipFill>
        <p:spPr>
          <a:xfrm>
            <a:off x="4000320" y="5357880"/>
            <a:ext cx="1504440" cy="107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 rot="502200">
            <a:off x="497160" y="1602360"/>
            <a:ext cx="8229240" cy="39740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698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Ведущие жанры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Конец </a:t>
            </a:r>
            <a:r>
              <a:rPr b="1" lang="en-US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XIX</a:t>
            </a:r>
            <a:r>
              <a:rPr b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 века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ВЕСТЬ, РАССКАЗ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Причины возникновения малых жанр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Утрата обобщающего взгляда на жизнь;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-403560">
              <a:lnSpc>
                <a:spcPct val="100000"/>
              </a:lnSpc>
              <a:spcBef>
                <a:spcPts val="641"/>
              </a:spcBef>
              <a:buClr>
                <a:srgbClr val="403152"/>
              </a:buClr>
              <a:buFont typeface="Arial"/>
              <a:buChar char="-"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4">
                    <a:lumMod val="50000"/>
                  </a:schemeClr>
                </a:solidFill>
                <a:latin typeface="Calibri"/>
              </a:rPr>
              <a:t>Интерес к частной жизни обыкновенного, «среднего» человека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Ведущие мастера жанр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Г.Короленко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В.М.Гарш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40356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Стрелка вправо 5"/>
          <p:cNvSpPr/>
          <p:nvPr/>
        </p:nvSpPr>
        <p:spPr>
          <a:xfrm rot="607800">
            <a:off x="3300480" y="1916280"/>
            <a:ext cx="694080" cy="227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pic>
        <p:nvPicPr>
          <p:cNvPr id="176" name="Picture 3" descr="C:\Documents and Settings\Дом2\Рабочий стол\р\кор.jpeg"/>
          <p:cNvPicPr/>
          <p:nvPr/>
        </p:nvPicPr>
        <p:blipFill>
          <a:blip r:embed="rId1"/>
          <a:stretch/>
        </p:blipFill>
        <p:spPr>
          <a:xfrm rot="833400">
            <a:off x="1072080" y="4483080"/>
            <a:ext cx="1121040" cy="1754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Дом2\Рабочий стол\р\ч.jpeg"/>
          <p:cNvPicPr/>
          <p:nvPr/>
        </p:nvPicPr>
        <p:blipFill>
          <a:blip r:embed="rId2"/>
          <a:stretch/>
        </p:blipFill>
        <p:spPr>
          <a:xfrm rot="868200">
            <a:off x="3477960" y="5275800"/>
            <a:ext cx="1275120" cy="1698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Дом2\Рабочий стол\р\гар.jpeg"/>
          <p:cNvPicPr/>
          <p:nvPr/>
        </p:nvPicPr>
        <p:blipFill>
          <a:blip r:embed="rId3"/>
          <a:stretch/>
        </p:blipFill>
        <p:spPr>
          <a:xfrm rot="724200">
            <a:off x="6194160" y="5109840"/>
            <a:ext cx="1184760" cy="15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РАМАТУРГ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 rot="20981400">
            <a:off x="457200" y="1599840"/>
            <a:ext cx="8229240" cy="452556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5576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Жанры и направления драматурги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</a:t>
            </a: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Вторая половина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атирическая комедия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В.Сухово-Кобылин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историческая драма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–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.А.Мей,  А.К.Толсто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водевили –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.А.Крыл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психологическ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народная комедия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</a:t>
            </a:r>
            <a:r>
              <a:rPr b="1" lang="ru-RU" sz="3200" spc="-1" strike="noStrike">
                <a:solidFill>
                  <a:schemeClr val="dk1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А.Н.Островски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стихотворная драм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                              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Конец 19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chemeClr val="dk1"/>
                </a:solidFill>
                <a:latin typeface="Calibri"/>
              </a:rPr>
              <a:t>«новая драма»   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-  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А.П.Чех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952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Правая фигурная скобка 3"/>
          <p:cNvSpPr/>
          <p:nvPr/>
        </p:nvSpPr>
        <p:spPr>
          <a:xfrm rot="20940000">
            <a:off x="4373280" y="3713040"/>
            <a:ext cx="356760" cy="1094040"/>
          </a:xfrm>
          <a:prstGeom prst="rightBrace">
            <a:avLst>
              <a:gd name="adj1" fmla="val 8333"/>
              <a:gd name="adj2" fmla="val 50000"/>
            </a:avLst>
          </a:prstGeom>
          <a:noFill/>
          <a:ln>
            <a:solidFill>
              <a:srgbClr val="c0504d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2">
            <a:schemeClr val="accent2"/>
          </a:lnRef>
          <a:fillRef idx="0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Documents and Settings\Дом2\Рабочий стол\р\сух.jpg"/>
          <p:cNvPicPr/>
          <p:nvPr/>
        </p:nvPicPr>
        <p:blipFill>
          <a:blip r:embed="rId1"/>
          <a:stretch/>
        </p:blipFill>
        <p:spPr>
          <a:xfrm>
            <a:off x="642960" y="714240"/>
            <a:ext cx="1199880" cy="1333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7429680" y="1000080"/>
            <a:ext cx="999720" cy="1351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C:\Documents and Settings\Дом2\Рабочий стол\р\остр.jpg"/>
          <p:cNvPicPr/>
          <p:nvPr/>
        </p:nvPicPr>
        <p:blipFill>
          <a:blip r:embed="rId3"/>
          <a:stretch/>
        </p:blipFill>
        <p:spPr>
          <a:xfrm rot="21325200">
            <a:off x="7414560" y="2830320"/>
            <a:ext cx="1169280" cy="1470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C:\Documents and Settings\Дом2\Рабочий стол\р\ч.jpeg"/>
          <p:cNvPicPr/>
          <p:nvPr/>
        </p:nvPicPr>
        <p:blipFill>
          <a:blip r:embed="rId4"/>
          <a:stretch/>
        </p:blipFill>
        <p:spPr>
          <a:xfrm>
            <a:off x="5786280" y="4643280"/>
            <a:ext cx="1411920" cy="188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1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114264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7200"/>
            <a:ext cx="8229240" cy="4214520"/>
          </a:xfrm>
          <a:prstGeom prst="rect">
            <a:avLst/>
          </a:prstGeom>
          <a:gradFill rotWithShape="0">
            <a:gsLst>
              <a:gs pos="0">
                <a:srgbClr val="d9caee"/>
              </a:gs>
              <a:gs pos="100000">
                <a:srgbClr val="f1eaf8"/>
              </a:gs>
            </a:gsLst>
            <a:lin ang="16200000"/>
          </a:gradFill>
          <a:ln w="9360">
            <a:solidFill>
              <a:srgbClr val="7d5fa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4000"/>
          </a:bodyPr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Основные направления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Вторая половина </a:t>
            </a:r>
            <a:r>
              <a:rPr b="1" lang="en-US" sz="3200" spc="-1" strike="noStrike">
                <a:solidFill>
                  <a:srgbClr val="7030a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 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«пушкинское»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chemeClr val="accent2"/>
                </a:solidFill>
                <a:latin typeface="Calibri"/>
              </a:rPr>
              <a:t>       «гоголевское»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(«чистое искусство»)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chemeClr val="dk1"/>
                </a:solidFill>
                <a:latin typeface="Calibri"/>
              </a:rPr>
              <a:t>                      (реалистическое)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роблемы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философские 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4">
                    <a:lumMod val="75000"/>
                  </a:schemeClr>
                </a:solidFill>
                <a:latin typeface="Calibri"/>
              </a:rPr>
              <a:t>                             социальные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А.Фе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Н.А.Некрас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А.К.Толстой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Н.А.Добролюбов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Выгнутая вверх стрелка 23"/>
          <p:cNvSpPr/>
          <p:nvPr/>
        </p:nvSpPr>
        <p:spPr>
          <a:xfrm rot="7326000">
            <a:off x="3058920" y="24609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2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Выгнутая вверх стрелка 25"/>
          <p:cNvSpPr/>
          <p:nvPr/>
        </p:nvSpPr>
        <p:spPr>
          <a:xfrm rot="7932600">
            <a:off x="2869560" y="3879360"/>
            <a:ext cx="571320" cy="285480"/>
          </a:xfrm>
          <a:prstGeom prst="curvedDown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2532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Выгнутая вниз стрелка 27"/>
          <p:cNvSpPr/>
          <p:nvPr/>
        </p:nvSpPr>
        <p:spPr>
          <a:xfrm rot="3145200">
            <a:off x="4994640" y="388368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Выгнутая вниз стрелка 28"/>
          <p:cNvSpPr/>
          <p:nvPr/>
        </p:nvSpPr>
        <p:spPr>
          <a:xfrm rot="3145200">
            <a:off x="5066280" y="2383560"/>
            <a:ext cx="552600" cy="25668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gradFill rotWithShape="0">
            <a:gsLst>
              <a:gs pos="0">
                <a:srgbClr val="5e437f"/>
              </a:gs>
              <a:gs pos="100000">
                <a:srgbClr val="7b57a5"/>
              </a:gs>
            </a:gsLst>
            <a:lin ang="19344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Дом2\Рабочий стол\р\фет.jpeg"/>
          <p:cNvPicPr/>
          <p:nvPr/>
        </p:nvPicPr>
        <p:blipFill>
          <a:blip r:embed="rId1"/>
          <a:stretch/>
        </p:blipFill>
        <p:spPr>
          <a:xfrm>
            <a:off x="142920" y="5143680"/>
            <a:ext cx="1074240" cy="14997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C:\Documents and Settings\Дом2\Рабочий стол\р\толст.jpg"/>
          <p:cNvPicPr/>
          <p:nvPr/>
        </p:nvPicPr>
        <p:blipFill>
          <a:blip r:embed="rId2"/>
          <a:stretch/>
        </p:blipFill>
        <p:spPr>
          <a:xfrm>
            <a:off x="2357280" y="5409360"/>
            <a:ext cx="1071360" cy="1448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C:\Documents and Settings\Дом2\Рабочий стол\р\некр.jpeg"/>
          <p:cNvPicPr/>
          <p:nvPr/>
        </p:nvPicPr>
        <p:blipFill>
          <a:blip r:embed="rId3"/>
          <a:stretch/>
        </p:blipFill>
        <p:spPr>
          <a:xfrm>
            <a:off x="4857840" y="5353560"/>
            <a:ext cx="1142640" cy="1504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C:\Documents and Settings\Дом2\Рабочий стол\р\добр.jpeg"/>
          <p:cNvPicPr/>
          <p:nvPr/>
        </p:nvPicPr>
        <p:blipFill>
          <a:blip r:embed="rId4"/>
          <a:stretch/>
        </p:blipFill>
        <p:spPr>
          <a:xfrm>
            <a:off x="7429680" y="5429160"/>
            <a:ext cx="1225800" cy="142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2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7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7500600" cy="607176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Русская литература второй половины </a:t>
            </a:r>
            <a:r>
              <a:rPr b="1" i="1" lang="en-US" sz="4400" spc="-1" strike="noStrike">
                <a:solidFill>
                  <a:srgbClr val="ff0000"/>
                </a:solidFill>
                <a:latin typeface="Lucida Handwriting"/>
              </a:rPr>
              <a:t>XIX</a:t>
            </a:r>
            <a:r>
              <a:rPr b="1" i="1" lang="ru-RU" sz="4400" spc="-1" strike="noStrike">
                <a:solidFill>
                  <a:srgbClr val="ff0000"/>
                </a:solidFill>
                <a:latin typeface="Lucida Sans Unicode"/>
              </a:rPr>
              <a:t> века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ПОРВАЛАСЬ  ЦЕПЬ ВЕЛИКАЯ…»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52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ОЭЗИЯ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Основные направления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       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Конец </a:t>
            </a:r>
            <a:r>
              <a:rPr b="1" lang="en-US" sz="3200" spc="-1" strike="noStrike">
                <a:solidFill>
                  <a:srgbClr val="ff0000"/>
                </a:solidFill>
                <a:latin typeface="Monotype Corsiva"/>
              </a:rPr>
              <a:t>XIX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века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импрессионизм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             символизм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ct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i="1" lang="ru-RU" sz="2600" spc="-1" strike="noStrike">
                <a:solidFill>
                  <a:srgbClr val="0070c0"/>
                </a:solidFill>
                <a:latin typeface="Monotype Corsiva"/>
              </a:rPr>
              <a:t>«… погоня за неуловимыми оттенками, за тёмным и бессознательным в нашей чувствительности – характерная черта грядущей поэзии».</a:t>
            </a:r>
            <a:endParaRPr b="0" lang="ru-RU" sz="2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                                                                          </a:t>
            </a: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Д.С.Мережковский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Стрелка вниз 9"/>
          <p:cNvSpPr/>
          <p:nvPr/>
        </p:nvSpPr>
        <p:spPr>
          <a:xfrm rot="2139000">
            <a:off x="2612520" y="270000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833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9" name="Стрелка вниз 10"/>
          <p:cNvSpPr/>
          <p:nvPr/>
        </p:nvSpPr>
        <p:spPr>
          <a:xfrm rot="19959600">
            <a:off x="6095520" y="2697120"/>
            <a:ext cx="35676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4556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5" dur="indefinite" restart="never" nodeType="tmRoot">
          <p:childTnLst>
            <p:seq>
              <p:cTn id="1266" dur="indefinite" nodeType="mainSeq">
                <p:childTnLst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3" dur="20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285840" y="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РЕФОРМЫ  60-70-ых годов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 rot="198000">
            <a:off x="459720" y="1506240"/>
            <a:ext cx="4974120" cy="4525560"/>
          </a:xfrm>
          <a:prstGeom prst="rect">
            <a:avLst/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398000"/>
          </a:gradFill>
          <a:ln w="9360">
            <a:solidFill>
              <a:srgbClr val="4a7ebb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60000"/>
          </a:bodyPr>
          <a:p>
            <a:pPr marL="293760" indent="-293760">
              <a:lnSpc>
                <a:spcPct val="100000"/>
              </a:lnSpc>
              <a:spcBef>
                <a:spcPts val="680"/>
              </a:spcBef>
              <a:buClr>
                <a:srgbClr val="ff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ff0000"/>
                </a:solidFill>
                <a:latin typeface="Monotype Corsiva"/>
              </a:rPr>
              <a:t>крестьянская реформа 1861 г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земская реформа 1864 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судебная реформа 1864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цензурная реформа 1865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городская реформа 1870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военные реформы 1860-7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морские реформы 1850-60-х г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финансовые реформы 1860-х гг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-293760">
              <a:lnSpc>
                <a:spcPct val="100000"/>
              </a:lnSpc>
              <a:spcBef>
                <a:spcPts val="641"/>
              </a:spcBef>
              <a:buClr>
                <a:srgbClr val="254061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университетская реформа 1863г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Проведены самодержавием в условиях обострения социального кризис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3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chemeClr val="accent1">
                    <a:lumMod val="50000"/>
                  </a:schemeClr>
                </a:solidFill>
                <a:latin typeface="Monotype Corsiva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Monotype Corsiva"/>
              </a:rPr>
              <a:t>Способствовали развитию капитализм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Documents and Settings\Дом2\Рабочий стол\р\1.jpg"/>
          <p:cNvPicPr/>
          <p:nvPr/>
        </p:nvPicPr>
        <p:blipFill>
          <a:blip r:embed="rId2"/>
          <a:stretch/>
        </p:blipFill>
        <p:spPr>
          <a:xfrm rot="20898000">
            <a:off x="4938480" y="1727640"/>
            <a:ext cx="3428640" cy="46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1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7" dur="2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0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 rot="876000">
            <a:off x="45684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7070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ЭКОНОМИЧЕСКИЙ КРИЗИС: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 rot="568800">
            <a:off x="428400" y="1928520"/>
            <a:ext cx="8229240" cy="4525560"/>
          </a:xfrm>
          <a:prstGeom prst="rect">
            <a:avLst/>
          </a:prstGeom>
          <a:gradFill rotWithShape="0">
            <a:gsLst>
              <a:gs pos="0">
                <a:srgbClr val="ffc1be"/>
              </a:gs>
              <a:gs pos="100000">
                <a:srgbClr val="ffe5e5"/>
              </a:gs>
            </a:gsLst>
            <a:lin ang="16764000"/>
          </a:gradFill>
          <a:ln w="9360">
            <a:solidFill>
              <a:srgbClr val="be4b48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абсолютное падение производств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едогрузка производственных мощностей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рост безработицы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c00000"/>
              </a:buClr>
              <a:buFont typeface="Arial"/>
              <a:buChar char="•"/>
            </a:pPr>
            <a:r>
              <a:rPr b="0" i="1" lang="ru-RU" sz="3200" spc="-1" strike="noStrike">
                <a:solidFill>
                  <a:srgbClr val="c00000"/>
                </a:solidFill>
                <a:latin typeface="Calibri"/>
              </a:rPr>
              <a:t>нарушения в денежно-кредитной и валютно-финансовой сферах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240" cy="13568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 1853-1856 гг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(Восточная война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428920"/>
            <a:ext cx="8229240" cy="4142880"/>
          </a:xfrm>
          <a:prstGeom prst="rect">
            <a:avLst/>
          </a:prstGeom>
          <a:blipFill rotWithShape="0">
            <a:blip r:embed="rId2"/>
            <a:tile tx="0" ty="0" sx="100000" sy="100000" algn="tl"/>
          </a:blipFill>
          <a:ln w="0">
            <a:noFill/>
          </a:ln>
        </p:spPr>
        <p:txBody>
          <a:bodyPr anchor="t">
            <a:normAutofit fontScale="76000"/>
          </a:bodyPr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йна Российской империи против коалиции Великобритании, Франции, Османской империи и Сардинского королевства за преобладание на Черном море и в зоне Черноморских проливо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     </a:t>
            </a:r>
            <a:r>
              <a:rPr b="1" i="1" lang="ru-RU" sz="3200" spc="-1" strike="noStrike">
                <a:solidFill>
                  <a:schemeClr val="accent2">
                    <a:lumMod val="50000"/>
                  </a:schemeClr>
                </a:solidFill>
                <a:latin typeface="Arial Unicode MS"/>
                <a:ea typeface="Arial Unicode MS"/>
              </a:rPr>
              <a:t>Военная и экономическая отсталость России от западных держав обусловила ее поражение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815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	</a:t>
            </a:r>
            <a:r>
              <a:rPr b="1" i="1" lang="ru-RU" sz="3200" spc="-1" strike="noStrike">
                <a:solidFill>
                  <a:srgbClr val="1e1c11"/>
                </a:solidFill>
                <a:latin typeface="Arial Unicode MS"/>
                <a:ea typeface="Arial Unicode MS"/>
              </a:rPr>
              <a:t> </a:t>
            </a:r>
            <a:r>
              <a:rPr b="1" i="1" lang="ru-RU" sz="3200" spc="-1" strike="noStrike">
                <a:solidFill>
                  <a:srgbClr val="c00000"/>
                </a:solidFill>
                <a:latin typeface="Monotype Corsiva"/>
                <a:ea typeface="Arial Unicode MS"/>
              </a:rPr>
              <a:t>Потери России в Крымской войне - 500 000 человек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Прямая со стрелкой 5"/>
          <p:cNvCxnSpPr/>
          <p:nvPr/>
        </p:nvCxnSpPr>
        <p:spPr>
          <a:xfrm flipH="1">
            <a:off x="4428000" y="3501000"/>
            <a:ext cx="2160" cy="357480"/>
          </a:xfrm>
          <a:prstGeom prst="straightConnector1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  <a:effectLst>
            <a:outerShdw dist="317520" dir="5400000" blurRad="152280" rotWithShape="0">
              <a:srgbClr val="000000">
                <a:alpha val="1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КРЫМСКАЯ ВОЙН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2" descr="C:\Documents and Settings\Дом2\Рабочий стол\Крымская война.bmp"/>
          <p:cNvPicPr/>
          <p:nvPr/>
        </p:nvPicPr>
        <p:blipFill>
          <a:blip r:embed="rId2"/>
          <a:stretch/>
        </p:blipFill>
        <p:spPr>
          <a:xfrm>
            <a:off x="-1000080" y="1785960"/>
            <a:ext cx="8072280" cy="4500360"/>
          </a:xfrm>
          <a:prstGeom prst="rect">
            <a:avLst/>
          </a:prstGeom>
          <a:ln w="0">
            <a:noFill/>
          </a:ln>
          <a:scene3d>
            <a:camera prst="perspectiveHeroicExtremeLeftFacing"/>
            <a:lightRig dir="t" rig="threePt"/>
          </a:scene3d>
          <a:sp3d>
            <a:bevelT prst="angle"/>
          </a:sp3d>
        </p:spPr>
      </p:pic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Историческая ситуация.</a:t>
            </a:r>
            <a:br>
              <a:rPr sz="4400"/>
            </a:b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857160" y="1714320"/>
            <a:ext cx="8086320" cy="4571640"/>
          </a:xfrm>
          <a:prstGeom prst="rect">
            <a:avLst/>
          </a:prstGeom>
          <a:blipFill rotWithShape="0">
            <a:blip r:embed="rId1"/>
            <a:tile tx="0" ty="0" sx="100000" sy="100000" algn="tl"/>
          </a:blip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21"/>
              </a:spcBef>
              <a:buNone/>
              <a:tabLst>
                <a:tab algn="l" pos="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600" spc="-1" strike="noStrike">
                <a:solidFill>
                  <a:srgbClr val="c00000"/>
                </a:solidFill>
                <a:latin typeface="Calibri"/>
              </a:rPr>
              <a:t>Основная цель: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Calibri"/>
              </a:rPr>
              <a:t>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Monotype Corsiva"/>
              </a:rPr>
              <a:t>споры о путях развития России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низ 5"/>
          <p:cNvSpPr/>
          <p:nvPr/>
        </p:nvSpPr>
        <p:spPr>
          <a:xfrm>
            <a:off x="3357720" y="3643200"/>
            <a:ext cx="484200" cy="49968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c2f2c"/>
              </a:gs>
              <a:gs pos="100000">
                <a:srgbClr val="cb3d3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  <a:scene3d>
            <a:camera prst="perspectiveHeroicExtremeLeftFacing"/>
            <a:lightRig dir="t" rig="threePt">
              <a:rot lat="0" lon="0" rev="1200000"/>
            </a:lightRig>
          </a:scene3d>
          <a:sp3d>
            <a:bevelT w="63500" h="25400"/>
          </a:sp3d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357120"/>
            <a:ext cx="8229240" cy="1142640"/>
          </a:xfrm>
          <a:prstGeom prst="rect">
            <a:avLst/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 w="9360">
            <a:solidFill>
              <a:srgbClr val="f59240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ЗАПАД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71320" y="1643040"/>
            <a:ext cx="8229240" cy="45255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74000"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торонники развития страны по западноевропейскому пу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Критиковали самодержавие и крепостничество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Выдвигали проекты освобождения крестьян с земл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Главные представители: П. В. Анненков, В. П. Боткин, Т. Н. Грановский, К. Д. Кавелин, М. Н. Катков, И. С. Тургенев, П. Я. Чаадаев, Б. Н. Чичерин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984807"/>
              </a:buClr>
              <a:buFont typeface="Arial"/>
              <a:buChar char="•"/>
            </a:pPr>
            <a:r>
              <a:rPr b="1" lang="ru-RU" sz="3200" spc="-1" strike="noStrike">
                <a:solidFill>
                  <a:schemeClr val="accent6">
                    <a:lumMod val="50000"/>
                  </a:schemeClr>
                </a:solidFill>
                <a:latin typeface="Monotype Corsiva"/>
              </a:rPr>
              <a:t>Сотрудничали в журналах «Отечественные записки», «Современник», Русский вестник»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ОБЩЕСТВЕННЫЕ ТЕЧЕНИЯ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ЛАВЯНОФИ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8760" y="928800"/>
            <a:ext cx="8229240" cy="5643360"/>
          </a:xfrm>
          <a:prstGeom prst="rect">
            <a:avLst/>
          </a:prstGeom>
          <a:gradFill rotWithShape="0">
            <a:gsLst>
              <a:gs pos="0">
                <a:srgbClr val="e3fbc2"/>
              </a:gs>
              <a:gs pos="100000">
                <a:srgbClr val="f4ffe6"/>
              </a:gs>
            </a:gsLst>
            <a:lin ang="16200000"/>
          </a:gradFill>
          <a:ln w="9360">
            <a:solidFill>
              <a:srgbClr val="98b855"/>
            </a:solidFill>
            <a:round/>
          </a:ln>
          <a:effectLst>
            <a:outerShdw dist="20160" dir="5400000" blurRad="3996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с обоснованием особого, отличного от западноевропейского, пути исторического развития России, усматривая ее самобытность в крестьянской общине, православии как единственно истинном христианстве;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Выступали за отмену крепостного права, смертной казни, за свободу печа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Главные представител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И. С. и К. С. Аксаковы, И. В. и П. В. Киреевские, А. И. Кошелев, Ю. Ф. Самарин, А. С. Хомяков, В. А. Черкасский и др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Близки к славянофилам были В. И. Даль, А. Н. Островский, А. А. Григорьев, 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chemeClr val="accent3">
                    <a:lumMod val="50000"/>
                  </a:schemeClr>
                </a:solidFill>
                <a:latin typeface="Calibri"/>
              </a:rPr>
              <a:t>Ф. И. Тютчев и др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  <Words>986</Words>
  <Paragraphs>3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0T08:59:24Z</dcterms:created>
  <dc:creator>Эмилия</dc:creator>
  <dc:description/>
  <dc:language>en-US</dc:language>
  <cp:lastModifiedBy>LEGION</cp:lastModifiedBy>
  <dcterms:modified xsi:type="dcterms:W3CDTF">2015-01-20T13:35:31Z</dcterms:modified>
  <cp:revision>65</cp:revision>
  <dc:subject/>
  <dc:title>Русская литература 2 половины 19 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0</vt:r8>
  </property>
</Properties>
</file>