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E4A52-70A8-4FAB-B5FF-48BA4FC27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«Русская литера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ыполнила 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МОУ «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г. Орен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НАСЫРОВА Э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5D9D85-5E68-498E-8166-79B706D90CE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родническая идеология, представлявшая собой разновидность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утопического соци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99CF2D-6A86-4A42-95C9-BDB74A4EDAE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ВЕН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Сотрудничали в журналах «Время», «Эпо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54A070-8730-4109-A027-21EA02ECA11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СТО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Проповедовали на основе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48E064-A1F3-4348-95F8-4AD306F5C4D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илософия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ОПЕНГАУЭР (Schopenhauer) Арт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-иррационал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ЦШЕ (Nietzsche) Фрид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, представитель философ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66DE9B-95EB-4A6A-A51A-BBDF2007FEC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торая половин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обладающий интерес к проблеме «личность и общ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BCF08A-AFD5-4B50-ABC7-6936E5DBCE5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                      </a:t>
            </a: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онец 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кризис позитивистского миропоним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утрата веры в общественный прогр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интерес к подсознательно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АТУР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ИМПРЕССИОН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74E4C6-800A-4FE8-B6B5-CB4C71AB2C0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века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Художественные достоинства русского ром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лубокий психологи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армоническое сочетание социальных, философских, общечеловеческих пробл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ысокий уровень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2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А.Гончаров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Ф.М.Достоевский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Л.Н.Тол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360C39-C7FB-4675-A51D-8BF47DACE5A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Конец </a:t>
            </a:r>
            <a:r>
              <a:rPr b="1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века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ЕСТЬ,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Причины возникновения малых жан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Утрата обобщающего взгляда на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Интерес к частной жизни обыкновенного, «среднего»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Г.Короленк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М.Га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16CEF5-D85E-4F61-9847-318232BE710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АМАТ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ры и направления драмат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торая половина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тирическая комед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В.Сухово-Кобы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рическая др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.А.Мей,  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девили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Кры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одная комед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Н.Ост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отворн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Конец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овая драма»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B5527B-2553-419E-9F67-F8A2A946FD1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20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«пушкинское»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       «гоголев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(«чистое искусство»)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                     (реалистическо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философские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	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                             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А.Фет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  Н.А.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К.Толстой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Н.А.Добро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178E2D-799F-41EC-A63A-846A466996E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20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DD83A4-5D67-45EE-9B2D-F3F56FB302F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импрессионизм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    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1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ru-RU" sz="1050" spc="-1" strike="noStrike">
                <a:solidFill>
                  <a:srgbClr val="c00000"/>
                </a:solidFill>
                <a:latin typeface="Monotype Corsiva"/>
              </a:rPr>
              <a:t>Д.С.Мережковск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B00F80-4F81-46D1-9F10-9F67685B67B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ОРМЫ  60-70-ых г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D9F09B-D542-45A4-809A-380E994DF9A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КРИЗИС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бсолютное падение произ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догрузка производственных мощ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ост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рушения в денежно-кредитной и валютно-финансов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D2EA10-3C55-4364-9D4C-03001D2E012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 1853-1856 гг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осточная войн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09D372-15E4-4720-B807-AE2751EAD8D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D63AC4-5477-4B60-BDEF-5CEDF311C83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ЕСТВЕННЫЕ Т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0D2DEB-9F5A-4BAE-AFCC-95153B607C3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А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AA9B03-E4AF-4259-9ED7-937A42E6CC5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ВЯНОФ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за отмену крепостного права, смертной казни, за свободу печ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ла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Близки к славянофилам были В. И. Даль, А. Н. Островский, А. А. Григорьев,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Ф. И. Тютче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08119A-6D46-43F9-B982-AA920740BC9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EDD-B4E7-408C-BC66-A2D6C554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A70-4CC8-4410-9959-28F178F6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863-2A1D-4E16-ADA2-475AE34B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2D9-3670-4BCE-ABF3-906ED621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E1AD-5DC4-4F78-88BD-57200D73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750B-1DD3-4C13-870C-856973E2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A949-A35D-4602-94A6-657036A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00FE-8926-4DDE-B744-6FBD4539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598C-BD16-4E1D-A62D-ADB6475D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CC81-6039-4E22-8600-BB9A55A7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6B8A-0F8E-4495-B9EF-28FD3746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6CE-0388-463F-A88F-61F9772A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B85A-9D41-4AB7-8C53-82A0E97C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AF63-61C9-43F4-8F1E-689F1392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125-E2EC-4C5E-815C-EBD96CAB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FB18-AA61-4031-B6BC-E91DA985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42D8-D343-42FE-B86B-87B8CF11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0E83-1B20-4F78-8047-1FAA0E1E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E360-DAE0-45E9-985F-83256CB0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E12E-4B5C-45F7-B8AC-0530B551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EA1B-FAB5-4B97-A6C9-6399E1F2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279D-3B39-4DE4-91B7-F5E1A5B4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40A-54C7-4C57-A757-FCEB6B64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C330-DD42-4F8D-BF54-A787EA5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0483-1A9F-4E24-87FD-1682E551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9CB3-F797-43A4-9CC3-BD374DD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52F7-F8C0-4BBB-B4F0-B3CE14F0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5054-E89A-48CE-926B-0EA5255A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FF2C-BC50-40D4-BEF4-8ECC7053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7262-4FFD-4C8B-9210-19E46BF8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48A-DD10-4A32-84C7-9FE99340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770-18E2-4626-AFCE-1C52FF4E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00B-AAE4-4F8D-8D0E-E25D3183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290-5BAC-48E3-8128-0BAF1E43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A3A-BEAF-4411-B247-CAED1B9D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B0A-3AE5-4790-A8F5-C8935CCF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402584-3E52-430F-851C-9BA81C4F2C7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2444E2-7B56-4144-AC03-7D460123E7D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9E66B5-01B5-4978-9009-2DE49609A5E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4038120" cy="519696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1000"/>
          </a:bodyPr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РЕЗЕНТА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урока литерату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о тем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«Русская литература второй половины </a:t>
            </a:r>
            <a:r>
              <a:rPr b="1" lang="en-US" sz="2800" spc="-1" strike="noStrike">
                <a:solidFill>
                  <a:schemeClr val="lt1"/>
                </a:solidFill>
                <a:latin typeface="Monotype Corsiva"/>
              </a:rPr>
              <a:t>XIX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ека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ыполнила учитель русского языка и литератур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МОУ «СОШ № 5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г. Оренбург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НАСЫРОВА Э.С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1\Мои документы\Альбомы\я\мама 1.jpg"/>
          <p:cNvPicPr/>
          <p:nvPr/>
        </p:nvPicPr>
        <p:blipFill>
          <a:blip r:embed="rId1"/>
          <a:stretch/>
        </p:blipFill>
        <p:spPr>
          <a:xfrm>
            <a:off x="4509720" y="928800"/>
            <a:ext cx="3905280" cy="52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РО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35715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родническая идеология, представлявшая собой разновидность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утопического социал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ЧВЕН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42872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отрудничали в журналах «Время», «Эпох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ОЛСТОВЦ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946800">
            <a:off x="456840" y="2214360"/>
            <a:ext cx="8229240" cy="39114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7142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Проповедовали на основе 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Дом2\Рабочий стол\р\т.jpg"/>
          <p:cNvPicPr/>
          <p:nvPr/>
        </p:nvPicPr>
        <p:blipFill>
          <a:blip r:embed="rId1"/>
          <a:stretch/>
        </p:blipFill>
        <p:spPr>
          <a:xfrm>
            <a:off x="6858000" y="928800"/>
            <a:ext cx="191880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ософия Западной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402000">
            <a:off x="45684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5996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ОПЕНГАУЭР (Schopenhauer) Арту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-иррационалист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ЦШЕ (Nietzsche) Фридр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, представитель философии жиз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Documents and Settings\Дом2\Рабочий стол\р\ш.jpeg"/>
          <p:cNvPicPr/>
          <p:nvPr/>
        </p:nvPicPr>
        <p:blipFill>
          <a:blip r:embed="rId1"/>
          <a:stretch/>
        </p:blipFill>
        <p:spPr>
          <a:xfrm>
            <a:off x="7358040" y="1714320"/>
            <a:ext cx="1540800" cy="21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Дом2\Рабочий стол\р\н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320" cy="26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 rot="332400">
            <a:off x="-897480" y="1414800"/>
            <a:ext cx="8686440" cy="4461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53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торая половина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ЕА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еобладающий интерес к проблеме «личность и обществ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1162600">
            <a:off x="457200" y="1856880"/>
            <a:ext cx="8229240" cy="4714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5762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                      </a:t>
            </a: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нец ве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 кризис позитивистского миропонимания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утрата веры в общественный прогресс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интерес к подсознательному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УРАЛИЗМ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МПРЕССИОНИЗМ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229240" cy="39286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7000"/>
          </a:bodyPr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торая половина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века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МА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Художественные достоинства русского роман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лубокий психологиз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армоническое сочетание социальных, философских, общечеловеческих пробл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ысокий уровень литературного язы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А.Гончаров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С.Тургене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Ф.М.Достоевский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.Н.Толст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право 9"/>
          <p:cNvSpPr/>
          <p:nvPr/>
        </p:nvSpPr>
        <p:spPr>
          <a:xfrm>
            <a:off x="5230080" y="1688040"/>
            <a:ext cx="465120" cy="197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C:\Documents and Settings\Дом2\Рабочий стол\р\г.jpeg"/>
          <p:cNvPicPr/>
          <p:nvPr/>
        </p:nvPicPr>
        <p:blipFill>
          <a:blip r:embed="rId1"/>
          <a:stretch/>
        </p:blipFill>
        <p:spPr>
          <a:xfrm>
            <a:off x="714240" y="5214960"/>
            <a:ext cx="125460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Дом2\Рабочий стол\р\д.jpeg"/>
          <p:cNvPicPr/>
          <p:nvPr/>
        </p:nvPicPr>
        <p:blipFill>
          <a:blip r:embed="rId2"/>
          <a:stretch/>
        </p:blipFill>
        <p:spPr>
          <a:xfrm>
            <a:off x="2286000" y="5214960"/>
            <a:ext cx="1320480" cy="147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Дом2\Рабочий стол\р\т.jpeg"/>
          <p:cNvPicPr/>
          <p:nvPr/>
        </p:nvPicPr>
        <p:blipFill>
          <a:blip r:embed="rId3"/>
          <a:stretch/>
        </p:blipFill>
        <p:spPr>
          <a:xfrm>
            <a:off x="5643720" y="5143680"/>
            <a:ext cx="1142640" cy="152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Дом2\Рабочий стол\р\11.jpeg"/>
          <p:cNvPicPr/>
          <p:nvPr/>
        </p:nvPicPr>
        <p:blipFill>
          <a:blip r:embed="rId4"/>
          <a:stretch/>
        </p:blipFill>
        <p:spPr>
          <a:xfrm>
            <a:off x="7358040" y="5072040"/>
            <a:ext cx="1142640" cy="161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Дом2\Рабочий стол\книга.gif"/>
          <p:cNvPicPr/>
          <p:nvPr/>
        </p:nvPicPr>
        <p:blipFill>
          <a:blip r:embed="rId5"/>
          <a:stretch/>
        </p:blipFill>
        <p:spPr>
          <a:xfrm>
            <a:off x="4000320" y="5357880"/>
            <a:ext cx="150444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 rot="502200">
            <a:off x="497160" y="1602360"/>
            <a:ext cx="8229240" cy="39740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698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ец </a:t>
            </a:r>
            <a:r>
              <a:rPr b="1" lang="en-US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века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ВЕСТЬ, РАССК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Причины возникновения малых жанр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трата обобщающего взгляда на жиз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нтерес к частной жизни обыкновенного, «среднего» челове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Г.Короленко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М.Гарш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право 5"/>
          <p:cNvSpPr/>
          <p:nvPr/>
        </p:nvSpPr>
        <p:spPr>
          <a:xfrm rot="607800">
            <a:off x="3300480" y="1916280"/>
            <a:ext cx="694080" cy="22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6" name="Picture 3" descr="C:\Documents and Settings\Дом2\Рабочий стол\р\кор.jpeg"/>
          <p:cNvPicPr/>
          <p:nvPr/>
        </p:nvPicPr>
        <p:blipFill>
          <a:blip r:embed="rId1"/>
          <a:stretch/>
        </p:blipFill>
        <p:spPr>
          <a:xfrm rot="833400">
            <a:off x="1072080" y="4483080"/>
            <a:ext cx="1121040" cy="175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Дом2\Рабочий стол\р\ч.jpeg"/>
          <p:cNvPicPr/>
          <p:nvPr/>
        </p:nvPicPr>
        <p:blipFill>
          <a:blip r:embed="rId2"/>
          <a:stretch/>
        </p:blipFill>
        <p:spPr>
          <a:xfrm rot="868200">
            <a:off x="3477960" y="5275800"/>
            <a:ext cx="1275120" cy="169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2\Рабочий стол\р\гар.jpeg"/>
          <p:cNvPicPr/>
          <p:nvPr/>
        </p:nvPicPr>
        <p:blipFill>
          <a:blip r:embed="rId3"/>
          <a:stretch/>
        </p:blipFill>
        <p:spPr>
          <a:xfrm rot="724200">
            <a:off x="6194160" y="5109840"/>
            <a:ext cx="11847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АМАТУРГ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 rot="20981400">
            <a:off x="457200" y="1599840"/>
            <a:ext cx="822924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5576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Жанры и направления драматург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торая половина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атирическая комедия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В.Сухово-Кобы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историческая драма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.А.Мей,  А.К.Толст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водевили –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.А.Кры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психологическ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народная комедия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Н.Остров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тихотворн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Конец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«новая драма»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авая фигурная скобка 3"/>
          <p:cNvSpPr/>
          <p:nvPr/>
        </p:nvSpPr>
        <p:spPr>
          <a:xfrm rot="20940000">
            <a:off x="4373280" y="3713040"/>
            <a:ext cx="356760" cy="10940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c0504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2"/>
          </a:lnRef>
          <a:fillRef idx="0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Дом2\Рабочий стол\р\сух.jpg"/>
          <p:cNvPicPr/>
          <p:nvPr/>
        </p:nvPicPr>
        <p:blipFill>
          <a:blip r:embed="rId1"/>
          <a:stretch/>
        </p:blipFill>
        <p:spPr>
          <a:xfrm>
            <a:off x="642960" y="714240"/>
            <a:ext cx="1199880" cy="133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7429680" y="1000080"/>
            <a:ext cx="999720" cy="135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Дом2\Рабочий стол\р\остр.jpg"/>
          <p:cNvPicPr/>
          <p:nvPr/>
        </p:nvPicPr>
        <p:blipFill>
          <a:blip r:embed="rId3"/>
          <a:stretch/>
        </p:blipFill>
        <p:spPr>
          <a:xfrm rot="21325200">
            <a:off x="7414560" y="2830320"/>
            <a:ext cx="1169280" cy="147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Documents and Settings\Дом2\Рабочий стол\р\ч.jpeg"/>
          <p:cNvPicPr/>
          <p:nvPr/>
        </p:nvPicPr>
        <p:blipFill>
          <a:blip r:embed="rId4"/>
          <a:stretch/>
        </p:blipFill>
        <p:spPr>
          <a:xfrm>
            <a:off x="5786280" y="4643280"/>
            <a:ext cx="1411920" cy="188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2145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4000"/>
          </a:bodyPr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сновные напр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32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«пушкинское»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«гоголевско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(«чистое искусство»)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                      (реалистическое)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обл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философские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                            социаль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А.Ф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Н.А.Некр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К.Толстой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Н.А.Добролюб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Выгнутая вверх стрелка 23"/>
          <p:cNvSpPr/>
          <p:nvPr/>
        </p:nvSpPr>
        <p:spPr>
          <a:xfrm rot="7326000">
            <a:off x="3058920" y="24609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2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Выгнутая вверх стрелка 25"/>
          <p:cNvSpPr/>
          <p:nvPr/>
        </p:nvSpPr>
        <p:spPr>
          <a:xfrm rot="7932600">
            <a:off x="2869560" y="38793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2532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низ стрелка 27"/>
          <p:cNvSpPr/>
          <p:nvPr/>
        </p:nvSpPr>
        <p:spPr>
          <a:xfrm rot="3145200">
            <a:off x="4994640" y="388368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ыгнутая вниз стрелка 28"/>
          <p:cNvSpPr/>
          <p:nvPr/>
        </p:nvSpPr>
        <p:spPr>
          <a:xfrm rot="3145200">
            <a:off x="5066280" y="238356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Дом2\Рабочий стол\р\фет.jpeg"/>
          <p:cNvPicPr/>
          <p:nvPr/>
        </p:nvPicPr>
        <p:blipFill>
          <a:blip r:embed="rId1"/>
          <a:stretch/>
        </p:blipFill>
        <p:spPr>
          <a:xfrm>
            <a:off x="142920" y="5143680"/>
            <a:ext cx="1074240" cy="149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2357280" y="5409360"/>
            <a:ext cx="1071360" cy="144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Дом2\Рабочий стол\р\некр.jpeg"/>
          <p:cNvPicPr/>
          <p:nvPr/>
        </p:nvPicPr>
        <p:blipFill>
          <a:blip r:embed="rId3"/>
          <a:stretch/>
        </p:blipFill>
        <p:spPr>
          <a:xfrm>
            <a:off x="4857840" y="5353560"/>
            <a:ext cx="1142640" cy="150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Дом2\Рабочий стол\р\добр.jpeg"/>
          <p:cNvPicPr/>
          <p:nvPr/>
        </p:nvPicPr>
        <p:blipFill>
          <a:blip r:embed="rId4"/>
          <a:stretch/>
        </p:blipFill>
        <p:spPr>
          <a:xfrm>
            <a:off x="7429680" y="5429160"/>
            <a:ext cx="122580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500600" cy="60717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44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сновные направ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импрессионизм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     симво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.С.Мережк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9"/>
          <p:cNvSpPr/>
          <p:nvPr/>
        </p:nvSpPr>
        <p:spPr>
          <a:xfrm rot="2139000">
            <a:off x="2612520" y="270000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833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Стрелка вниз 10"/>
          <p:cNvSpPr/>
          <p:nvPr/>
        </p:nvSpPr>
        <p:spPr>
          <a:xfrm rot="19959600">
            <a:off x="6095520" y="269712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455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ФОРМЫ  60-70-ых годо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 rot="198000">
            <a:off x="459720" y="1506240"/>
            <a:ext cx="4974120" cy="4525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398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8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Дом2\Рабочий стол\р\1.jpg"/>
          <p:cNvPicPr/>
          <p:nvPr/>
        </p:nvPicPr>
        <p:blipFill>
          <a:blip r:embed="rId2"/>
          <a:stretch/>
        </p:blipFill>
        <p:spPr>
          <a:xfrm rot="20898000">
            <a:off x="4938480" y="1727640"/>
            <a:ext cx="3428640" cy="46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876000">
            <a:off x="45684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07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КОНОМИЧЕСКИЙ КРИЗИС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568800">
            <a:off x="428400" y="192852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764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бсолютное падение производ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едогрузка производственных мощност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рост безработиц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арушения в денежно-кредитной и валютно-финансовой сфер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240" cy="13568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 1853-1856 гг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Восточная войн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240" cy="4142880"/>
          </a:xfrm>
          <a:prstGeom prst="rect">
            <a:avLst/>
          </a:prstGeom>
          <a:blipFill rotWithShape="0">
            <a:blip r:embed="rId2"/>
            <a:tile tx="0" ty="0" sx="100000" sy="100000" algn="tl"/>
          </a:blipFill>
          <a:ln w="0">
            <a:noFill/>
          </a:ln>
        </p:spPr>
        <p:txBody>
          <a:bodyPr anchor="t">
            <a:normAutofit fontScale="76000"/>
          </a:bodyPr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/>
          <p:nvPr/>
        </p:nvCxnSpPr>
        <p:spPr>
          <a:xfrm flipH="1">
            <a:off x="4428000" y="3501000"/>
            <a:ext cx="2160" cy="3574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317520" dir="5400000" blurRad="15228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Дом2\Рабочий стол\Крымская война.bmp"/>
          <p:cNvPicPr/>
          <p:nvPr/>
        </p:nvPicPr>
        <p:blipFill>
          <a:blip r:embed="rId2"/>
          <a:stretch/>
        </p:blipFill>
        <p:spPr>
          <a:xfrm>
            <a:off x="-1000080" y="1785960"/>
            <a:ext cx="8072280" cy="4500360"/>
          </a:xfrm>
          <a:prstGeom prst="rect">
            <a:avLst/>
          </a:prstGeom>
          <a:ln w="0">
            <a:noFill/>
          </a:ln>
          <a:scene3d>
            <a:camera prst="perspectiveHeroicExtremeLeftFacing"/>
            <a:lightRig dir="t" rig="threePt"/>
          </a:scene3d>
          <a:sp3d>
            <a:bevelT prst="angle"/>
          </a:sp3d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857160" y="1714320"/>
            <a:ext cx="8086320" cy="457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Основная цель: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"/>
          <p:cNvSpPr/>
          <p:nvPr/>
        </p:nvSpPr>
        <p:spPr>
          <a:xfrm>
            <a:off x="3357720" y="364320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perspectiveHeroicExtremeLeftFacing"/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А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29240" cy="452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74000"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ОФИ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240" cy="56433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за отмену крепостного права, смертной казни, за свободу печа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лавные представител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Близки к славянофилам были В. И. Даль, А. Н. Островский, А. А. Григорьев,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Ф. И. Тютчев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986</Words>
  <Paragraphs>3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9:24Z</dcterms:created>
  <dc:creator>Эмилия</dc:creator>
  <dc:description/>
  <dc:language>en-US</dc:language>
  <cp:lastModifiedBy>LEGION</cp:lastModifiedBy>
  <dcterms:modified xsi:type="dcterms:W3CDTF">2015-01-20T13:35:31Z</dcterms:modified>
  <cp:revision>65</cp:revision>
  <dc:subject/>
  <dc:title>Русская литература 2 половины 19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