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8FC34-1B2E-477F-9095-646EC333E95B}"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УТУРИЗМ КАК ЛИТЕРАТУРНОЕ НАПРАВЛЕНИЕ.</a:t>
            </a:r>
            <a:br>
              <a:rPr sz="1200"/>
            </a:br>
            <a:r>
              <a:rPr b="0" lang="ru-RU" sz="1200" spc="-1" strike="noStrike">
                <a:solidFill>
                  <a:srgbClr val="000000"/>
                </a:solidFill>
                <a:latin typeface="Calibri"/>
              </a:rPr>
              <a:t>                       РУССКИЕ ФУТУРИСТЫ.</a:t>
            </a:r>
            <a:br>
              <a:rPr sz="1200"/>
            </a:br>
            <a:r>
              <a:rPr b="0" lang="ru-RU" sz="1200" spc="-1" strike="noStrike">
                <a:solidFill>
                  <a:srgbClr val="000000"/>
                </a:solidFill>
                <a:latin typeface="Calibri"/>
              </a:rPr>
              <a:t>                        ЛИРИКА  И. СЕВЕРЯН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D5863-05A1-45AE-8162-8A9328312105}"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 </a:t>
            </a:r>
            <a:r>
              <a:rPr b="1" i="1" lang="ru-RU" sz="1800" spc="-1" strike="noStrike">
                <a:solidFill>
                  <a:srgbClr val="000000"/>
                </a:solidFill>
                <a:latin typeface="Calibri"/>
              </a:rPr>
              <a:t>ФОРМИРОВАНИЕ И ТЕОРЕТИЧЕСКОЕ САМООПРЕДЕЛЕНИЕ ФУТУРИЗМА.</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ВРЕМЯ РОЖДЕНИЯ ФУТУРИЗМА – 1910 ГОД. ПЕРВЫЙ СБОРНИК «САДОК СУДЕЙ» (АВТОРЫ:Д.БУРЛЮК, В. ХЛЕБНИКОВ, В. КАМЕ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ПЕРВАЯ ДЕКЛАРАЦИЯ – 1912 ГОД «ПОЩЕЧИНА ОБЩЕСТВЕННОМУ ВКУСУ». («ТОЛЬКО МЫ – ЭТО ЛИЦО НАШЕГО ВРЕМЕН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МАНИФЕСТ ИЗ СБОРНИКА «САДОК СУДЕЙ – </a:t>
            </a:r>
            <a:r>
              <a:rPr b="1" i="1" lang="en-US" sz="1200" spc="-1" strike="noStrike">
                <a:solidFill>
                  <a:srgbClr val="000000"/>
                </a:solidFill>
                <a:latin typeface="Lucida Console"/>
              </a:rPr>
              <a:t>II</a:t>
            </a:r>
            <a:r>
              <a:rPr b="1" i="1" lang="ru-RU" sz="1200" spc="-1" strike="noStrike">
                <a:solidFill>
                  <a:srgbClr val="000000"/>
                </a:solidFill>
                <a:latin typeface="Lucida Console"/>
              </a:rPr>
              <a:t> » - 1913 ГОД. ПРОГРАММА КОНКРЕТИЗИРОВАНА: ОТРИЦАНИЕ ГРАММАТИКИ, СИНТАКСИСА, ПРАВОПИСАНИЯ; НОВЫЕ РИФМЫ, РАЗМЕРЫ СТИХА; НОВЫЕ СЛОВА И НОВЫЕ ТЕМЫ; ПРЕЗРЕНИЕ К СЛАВЕ: «НАМ ИЗВЕСТНЫ ЧУВСТВА, НЕ ЖИВШИЕ ДО НАС. МЫ НОВЫЕ ЛЮДИ НОВОЙ ЖИЗНИ».</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EDBB8-5149-4788-BC82-409270D7E899}"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ировки внутри те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3434-8C95-40AD-9388-0CBF75CCD8F3}"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Georgia"/>
              </a:rPr>
              <a:t>ВЕЛИМИР ХЛЕБНИК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Велимир (Виктор) Владимирович Хлебников (1885-1922) родился в Астраханской губернии, сын ученого-натуралиста. Учился в Казанском университете, затем с 1908 г. - в Петербургском; курса не закончил. В печати дебютировал в 1908 г.; выступал на страницах первого сборника футуристов "Садок судей" (1910). Один из ведущих участников движения футуристов в России, подписавший все их манифесты. Хлебникову принадлежит и русское название футуристов - "будетляне". Являя собой странную фигуру в литературном мире, вел неустроенную, полу бродячую жизнь, был редкостным бессребреником, называл себя дервишем, йогом, марсианином.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57F8-D544-4C80-9E58-384AFEDAC8E6}"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Rockwell"/>
              </a:rPr>
              <a:t>ИГОРЬ СЕВЕРЯНИН(ЛОТАРЕВ) 1887 – 1941 Г.Г.</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Rockwell Extra Bold"/>
              </a:rPr>
              <a:t>     </a:t>
            </a:r>
            <a:r>
              <a:rPr b="1" i="1" lang="ru-RU" sz="1200" spc="-1" strike="noStrike">
                <a:solidFill>
                  <a:srgbClr val="000000"/>
                </a:solidFill>
                <a:latin typeface="Rockwell Extra Bold"/>
              </a:rPr>
              <a:t>СЕВЕРЯНИНА СОПРОВОЖДАЛА СКАНДАЛЬНАЯ ИЗВЕСТНОСТЬ, ВОСТОРЖЕННЫЕ СЛАВОСЛОВИЯ И ЗЛОБНЫЕ НАПАДКИ. ШУМНЫЙ УСПЕХ ПРИНЕСЛА ПОЭТУ КНИГА «ГРОМОКИПЯЩИЙ КУБОК» 1913 Г.  ОН СТАЛ ОДНИМ ИЗ ПОЭТИЧЕСКИХ КУМИРОВ 1910 ГОДОВ. ЕГО УСПЕХУ СПОСОБСТВОВАЛА ОСОБАЯ МАНЕРА ИСПОЛНЕНИЯ СВОИХ СТИХОТВОРЕНИЙ. ЕМУ ПРИНАДЛЕЖИТ ОТКРЫТИЕ НОВОГО ЖАНРА В ЭСТРАДНОМ ИСКУССТВЕ – ЖАНРА АВТОРСКОГО ЧТЕНИЯ СТИХ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DC58-C76B-459C-8C94-E981A7883483}"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просы для повторения</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ЙТЕ ОПРЕДЕЛЕНИЕ ФУТУРИЗМУ.</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НАЗЫВАЛСЯ 1-Й РУССКИЙ ФУТУРИСТИЧЕСКИЙ СБОРНИК?</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НАЗЫВАЛАСЬ ДЕКЛАРАЦИЯ ФУТУРИСТОВ, ОПУБЛИКОВАННАЯ В 1912 Г.?</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ЗВАНО ЖЕЛАНИЕ ФУТУРИСТОВ ОТКАЗАТЬСЯ ОТ ПРОШЛОГО ЛИТЕРАТУРНОГО НАСЛЕДИЯ?</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ЗОВИТЕ ПОЭТОВ ПРИНАДЛЕЖАВШИХ К РАЗЛИЧНЫМ ФУТУРИСТИЧЕСКИМ ГРУППИРОВКАМ?</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ЧИСЛИТЕ ХАРАКТЕРНЫЕ ЧЕРТЫ ТВОРЧЕСТВА И. СЕВЕРЯНИ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4291-2063-4E60-91CC-D27A30532B21}"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УТУРИЗМ –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 ИЗ АВАНГАРДНЫХ ТЕЧЕНИЙ В ЛИТЕРАТУРЕ И ИСКУССТВЕ НАЧАЛА 20 – ГО ВЕКА. СНАЧАЛА СФОРМИРОВАЛСЯ В ПРОСТРАНСТВЕННЫХ ФОРМАХ ИСКУССТВА:СКУЛЬПТУРЕ И ЖИВОПИСИ, ПОТОМ В ЛИТЕРАТУРЕ.</a:t>
            </a: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89BF-09C3-4F81-9795-F306D99F440B}"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АВАНГАРДНЫЕ ТЕЧЕНИЯ В ЖИВОПИСИ НАЧАЛА</a:t>
            </a:r>
            <a:br>
              <a:rPr sz="1800"/>
            </a:br>
            <a:r>
              <a:rPr b="1" i="1" lang="ru-RU" sz="1800" spc="-1" strike="noStrike">
                <a:solidFill>
                  <a:srgbClr val="000000"/>
                </a:solidFill>
                <a:latin typeface="Calibri"/>
              </a:rPr>
              <a:t> 20 – ГО ВЕКА</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РУССКИЕ ХУДОЖНИКИ АВАНГАРДИСТЫ, ОТКАЗАВШИСЬ ОТ РЕАЛИЗМА ПЕРЕДВИЖНИКОВ, ЛИРИЗМА ВРУБЕЛЯ, ЖИВОПИСИ НЕСТЕРОВА, КУСТОДИЕВА ОРИЕНТИРОВАЛИСЬ НА ЭКСПЕРИМЕНТЫ ФРАНЦУЗСКИХ АВАНГАРДИСТОВ, НА ТАК НАЗЫВАЕМЫЙ КУДИЗМ ПИКАССО И ЛЕЖ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ВОЗНИКЛИ ОБЪЕДИНЕНИЯ С НЕОБЫЧНЫМИ НАЗВАНИЯМИ «БУБНОВЫЙ ВАЛЕТ», «ОСЛИНЫЙ ХВОСТ». ДЕЯТЕЛЬНОСТЬ МНОГИХ АБСТРАКЦИОНИСТОВ, ЧАСТО УТВЕРЖДАВШИХ СЕБЯ ПОСРЕДСТВОМ СКАНДАЛОВ, ШОКИРУЮЩИХ ПРИЕМОВ ПСЕВДОТВОРЧЕСТВА, «ГЕНИЕВ БЕЗ ГЕНИАЛЬНОСТИ», БУДЕТ МНОГОКРАТНО ВЫСМЕИВАТЬСЯ. НО ПРИ ВСЕМ ОБИЛИИ НАСМЕШЕК, ИРОНИИ ОНИ ВЫДВИНУЛИ СВОИХ КЛАССИКОВ В ЛИЦЕ К. МАЛЕВИЧА, М. ШАГАЛА.                         </a:t>
            </a:r>
            <a:r>
              <a:rPr b="1" i="1" lang="ru-RU" sz="1200" spc="-1" strike="noStrike">
                <a:solidFill>
                  <a:srgbClr val="000000"/>
                </a:solidFill>
                <a:latin typeface="Calibri"/>
              </a:rPr>
              <a:t>	</a:t>
            </a:r>
            <a:r>
              <a:rPr b="1" i="1" lang="ru-RU" sz="1200" spc="-1" strike="noStrike">
                <a:solidFill>
                  <a:srgbClr val="000000"/>
                </a:solidFill>
                <a:latin typeface="Calibri"/>
              </a:rPr>
              <a:t>ОНИ ОПРЕДЕЛИИ МНОГИЕ ХУДОЖЕСТВЕНННЫЕ РЕШЕНИЯ ФУТУРИСТОВ В ПОЭЗИИ, ТЕАТРЕ, МУЗЫКЕ, БОЛЬШИНСТВО ИЗ КОТОРЫХ СОВМЕЩАЛИ ЗАНЯТИЯ ЛИТЕРАТУРОЙ И ЖИВОПИСЬЮ.  </a:t>
            </a:r>
            <a:br>
              <a:rPr sz="1200"/>
            </a:br>
            <a:r>
              <a:rPr b="1" i="1" lang="ru-RU" sz="1200" spc="-1" strike="noStrike">
                <a:solidFill>
                  <a:srgbClr val="000000"/>
                </a:solidFill>
                <a:latin typeface="Calibri"/>
              </a:rPr>
              <a:t>	</a:t>
            </a:r>
            <a:r>
              <a:rPr b="1" i="1" lang="ru-RU" sz="1200" spc="-1" strike="noStrike">
                <a:solidFill>
                  <a:srgbClr val="000000"/>
                </a:solidFill>
                <a:latin typeface="Calibri"/>
              </a:rPr>
              <a:t>ПЕРВАЯ ВЫСТАВКА РУССКОГО АВАНГАРДА СОСТОЯЛАСЬ В 1907 Г. В  МОСКВЕ. </a:t>
            </a:r>
            <a:br>
              <a:rPr sz="1200"/>
            </a:br>
            <a:r>
              <a:rPr b="1" i="1" lang="ru-RU" sz="1200" spc="-1" strike="noStrike">
                <a:solidFill>
                  <a:srgbClr val="000000"/>
                </a:solidFill>
                <a:latin typeface="Calibri"/>
              </a:rPr>
              <a:t>	</a:t>
            </a:r>
            <a:r>
              <a:rPr b="1" i="1" lang="ru-RU" sz="1200" spc="-1" strike="noStrike">
                <a:solidFill>
                  <a:srgbClr val="000000"/>
                </a:solidFill>
                <a:latin typeface="Calibri"/>
              </a:rPr>
              <a:t>СВОИ РАБОТЫ ПОКАЗАЛИ М. ЛАРИОНОВ, Н. ГОНЧАРОВА, Д. и Н. БУРЛЮКИ, Г. ЯКУЛОВ, А. ЛЕНТУЛОВ. ЭТО УЖЕ БЫЛА НОВАЯ ШКОЛА ЖИВОПИС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9D28-FF05-473F-9272-8E2B74F2296E}"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МАРТ – АПРЕЛЬ 1910 ГОДА.МОСКВА </a:t>
            </a:r>
            <a:br>
              <a:rPr sz="1800"/>
            </a:br>
            <a:r>
              <a:rPr b="1" i="1" lang="ru-RU" sz="1800" spc="-1" strike="noStrike">
                <a:solidFill>
                  <a:srgbClr val="000000"/>
                </a:solidFill>
                <a:latin typeface="Calibri"/>
              </a:rPr>
              <a:t>ВЫСТАВКА «БУБНОВЫЙ ВАЛЕТ», ДАВШЕЕ НАЗВАНИЕ ОДНОИМЕННОМУ ХУДОЖЕСТВЕННОМУ ОБЪЕДИНЕНИЮ.</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Unicode MS"/>
              </a:rPr>
              <a:t>ЖИВОПИСЦЕВ ЭТОГО ОБЪЕДИНЕНИЯ  ПРИВЛЕКАЛА ЭНЕРГИЯ ЦВЕТА И ПРОСТРАНСТВА. ГЛАВНЫЙ ХУДОЖЕСТВЕННЫЙ ПРИЕМ  - ПРОСТОТА, ДОВЕДЕННАЯ ПОЧТИ ДО ГРОТЕСКА, ИЗОБРАЖЕНИЕ ПРЕДМЕТОВ РЕАЛЬНОГО МИРА КАК ПОСТОЯННО ДВИЖУЩИХСЯ  АБСТРАКТНЫХ ФОРМ. ВЫСТАВКА ИМЕЛА ШУМНЫЙ СКАНДАЛЬНЫЙ УСПЕХ. А. ЛЕНТУЛОВ ПОКАЗАЛ ЗНАМЕНИТЫЕ ПОСТРОЙКИ МОСКОВСКОГО КРЕМЛЯ И КРАСНОЙ ПЛОЩАДИ В ТАКОМ ВИДЕ, ЧТО КАЖЕТСЯ БУДТО ВСЕ ЧАСТИ ЗДАНИЙ ,СДВИНУВШИСЬ СО СВОИХ МЕСТ, КРУЖАТСЯ В СТРЕМИТЕЛЬНОМ ТАНЦ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D68D2-DBBF-45A4-A908-73BE890EF19D}"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1" i="1" lang="ru-RU" sz="1200" spc="-1" strike="noStrike">
                <a:solidFill>
                  <a:srgbClr val="ff0000"/>
                </a:solidFill>
                <a:latin typeface="Century"/>
              </a:rPr>
              <a:t>ВНОВЬ ВОЗНИКШИЕ АВАНГАРДИСТСКИЕ ТЕЧЕНИЯ В МИРОВОЙ ЖИВОПИСИ ВЫЗЫВАЛИ ОБИЛИЕ НАСМЕШЕК И ИРОНИИ, НО ОНИ ВЫДВИНУЛИ СВОИХ КЛАССИКОВ В ЛИЦЕ К. МАЛЕВИЧА С ЕГО «ЧЕРНЫМ КВАДРАТОМ» И М. ШАГАЛА С ПАРЯЩИМИ ФИГУРАМИ. ОНИ ОПРЕДЕЛИЛИ МНОГИЕ ХУДОЖЕСТВЕННЫЕ РЕШЕНИЯ ФУТУРИСТОВ В ПОЭЗИИ, ТЕАТРЕ, МУЗЫКЕ. В ЧАСТНОСТИ – ТАК НАЗЫВАЕМЫХ КУБОФУТУРИСТОВ, САМОГО АГРЕССИВНОГО КРЫЛА В РУССКОЙ ПОЭЗИИ.</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Lucida Console"/>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Lucida Console"/>
              </a:rPr>
              <a:t>Я И ДЕРЕВНЯ. 1911 Г.                                       СКРИПАЧ. 1911 – 1914 ГГ.</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М. ШАГАЛ, ИМЕЯ ЯРКО ВЫРАЖЕННЫЕ  НАЦИОНАЛЬНЫЕ КОРНИ, УДИВИТЕЛЬНО ЕСТЕСТВЕННО, С ЛЕГКОСТЬЮ ОСВАИВАЛ</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 </a:t>
            </a:r>
            <a:r>
              <a:rPr b="0" lang="ru-RU" sz="800" spc="-1" strike="noStrike">
                <a:solidFill>
                  <a:srgbClr val="ff0000"/>
                </a:solidFill>
                <a:latin typeface="Calibri"/>
              </a:rPr>
              <a:t>ТРАДИЦИИ РАЗНЫХ СТРАН, ЭПОХ И СТИЛЕЙ, СОХРАНЯЯ ПРИ ЭТОМ СВОЙ НЕПОВТОРИМЫЙ ПОЧЕРК.</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0D254-4188-4FFE-A066-E000CF26D845}"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Rockwell Extra Bold"/>
              </a:rPr>
              <a:t>ТВОРЧЕСТВО ВАСИЛИЯ КАНДИНСКОГО – УНИКАЛЬНОЕ ЯВЛЕНИЕ РУССКОГО И ЕВРОПЕЙСКОГО ИСКУССТВА. ОН СОВЕРШИЛ ПОДЛИННЫЙ ПЕРЕВОРОТ В ЖИВОПИСИ, СОЗДАВ ПЕРВЫЕ АБСТРАКТНЫЕ КОМПОЗИЦИИ.ОН СОСРЕДОТОЧИЛ ВСЕ СРЕДСТВА ЖИВОПИСИ НА ПЕРЕДАЧЕ СЛОЖНОЙ СИСТЕМЫ ЧУВСТВ И ОЩУЩЕНИЙ ХУДОЖНИКА.</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Calibri"/>
              </a:rPr>
              <a:t>КОМПОЗИЦИЯ </a:t>
            </a:r>
            <a:r>
              <a:rPr b="0" i="1" lang="en-US" sz="1000" spc="-1" strike="noStrike">
                <a:solidFill>
                  <a:srgbClr val="000000"/>
                </a:solidFill>
                <a:latin typeface="Calibri"/>
              </a:rPr>
              <a:t>VI</a:t>
            </a:r>
            <a:r>
              <a:rPr b="0" i="1" lang="ru-RU" sz="1000" spc="-1" strike="noStrike">
                <a:solidFill>
                  <a:srgbClr val="000000"/>
                </a:solidFill>
                <a:latin typeface="Calibri"/>
              </a:rPr>
              <a:t>.</a:t>
            </a:r>
            <a:r>
              <a:rPr b="0" i="1" lang="en-US" sz="1000" spc="-1" strike="noStrike">
                <a:solidFill>
                  <a:srgbClr val="000000"/>
                </a:solidFill>
                <a:latin typeface="Calibri"/>
              </a:rPr>
              <a:t> </a:t>
            </a:r>
            <a:r>
              <a:rPr b="0" i="1" lang="ru-RU" sz="1000" spc="-1" strike="noStrike">
                <a:solidFill>
                  <a:srgbClr val="000000"/>
                </a:solidFill>
                <a:latin typeface="Calibri"/>
              </a:rPr>
              <a:t>1913 Г.                                                       ИМПРОВИЗАЦИЯ КЛАММ, 1914 Г.</a:t>
            </a:r>
            <a:endParaRPr b="0" lang="en-US" sz="10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4662A-FD8C-47E2-A7CE-81D7B889ED53}"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МАЛЕВИЧ НЕ ПОЛУЧИЛ СИСТЕМАТИЧЕСКОГО ХУДОЖЕСТВЕННОГО ОБРАЗОВАНИЯ 1-Й ЭТАП ТВОРЧЕСТВА СВЯЗАН С ИМПРЕССИОНИЗМОМ. ОН ПЫТАЛСЯ РЕШАТЬ ЗАДАЧИ СОЧЕТАНИЯ ОБЪЕМНОСТИ И ПЛОСКОСТНОСТИ В ИЗОБРАЖЕНИИ ЧЕЛОВЕЧЕСКИХ ФИГУР, ПОИСКИ ДЕКОРАТИВНОГО ЭФФЕКТА В ЦВЕТОВЫХ СООТНОШЕНИЯХ. СОЗДАЛ РЯД РАБОТ, В КОТОРЫХ СТРЕМИЛСЯ СОЕДИНИТЬ ЧЕРТЫ КУБИЗМА И ФУТУРИЗМ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САРЬ», 1912 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 КВАДРАТ», 1914-15 Г Г.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900" spc="-1" strike="noStrike">
                <a:solidFill>
                  <a:srgbClr val="000000"/>
                </a:solidFill>
                <a:latin typeface="Calibri"/>
              </a:rPr>
              <a:t>«УСОВЕРШЕНСТВОВАННЫЙ Ч. КВАДРАТ»</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8365-6B23-483B-BC69-A17B79AE832F}"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Е. ТАТЛИН – ХУДОЖНИК РУССКОГО АВАНГАРДА, РОДОНАЧАЛЬНИК КОНСТРУКТИВИЗМА. В РАННИХ РАБОТАХ ОЩУЩАЕТСЯ СИЛЬНОЕ ВЛИЯНИЕ ИМПРЕССИОНИСТОВ. КАРТИНЫ 10 – Х ГОДОВ ОКРАШЕНЫ СВЕТЛЫМ ЮМОРОМ. НА АВТОПОРТРЕТЕ 1911 Г. ОН ПРЕДСТАЕТ МАТРОСОМ ШХУНЫ «СТЕРЕГУЩИЙ» ПРЕНЕБРЕГАЕТ РЕАЛЬНОЙ ФОРМОЙ, БОЛЬШЕ ИНТЕРЕСУЕТСЯ КОНСТРУКТИВНЫМИ ВОЗМОЖНОСТЯМИ ФИГУРЫ. РАБОТАЯ НАД КОНТУРОМ, ИСКАЛ БОЛЕЕ ВЫРАЗИТЕЛЬНЫЕ РАКУРСЫ. СОЗДАЛ НОВЫЙ ЖАНР – КОНТРРЕЛЬЕФОВ- АБСТРАКТНЫХ ПРИЕМОВ КОМПОЗИЦИИ. ТАК ПОДОШЕЛ К ОТКРЫТИЮ КОНСТРУКТИВИЗМА. САМОЕ ИЗВЕСТНОЕ ПРОИЗВЕДЕНИЕ ПРОЕКТ ПАМЯТНИКА </a:t>
            </a:r>
            <a:r>
              <a:rPr b="0" lang="en-US" sz="1200" spc="-1" strike="noStrike">
                <a:solidFill>
                  <a:srgbClr val="000000"/>
                </a:solidFill>
                <a:latin typeface="Calibri"/>
              </a:rPr>
              <a:t>III</a:t>
            </a:r>
            <a:r>
              <a:rPr b="0" lang="ru-RU" sz="1200" spc="-1" strike="noStrike">
                <a:solidFill>
                  <a:srgbClr val="000000"/>
                </a:solidFill>
                <a:latin typeface="Calibri"/>
              </a:rPr>
              <a:t> ИНТЕРНАЦИОНАЛ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F4E82-087C-49ED-8895-C85A337207FA}"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5B1FE-573C-4AF8-90E3-7D7E7A307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1FEAD-AD85-475B-A202-5F023639A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E4409-0748-4524-ADAD-B0FAE01CE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7949A-2473-4F48-8753-EC199B45E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3817FD-AF36-4AB2-949C-AF2E6FBB3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FF27B-CE44-4F28-A59D-7E2AC23CD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E4197-CAE8-471C-B392-F7E66B483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B9B49-F8EC-4D6B-A008-3104E728F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5FD3D-1E48-45CD-8D33-8742B2763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FC60B-AAAB-4B16-B241-5CFE3E5F0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7DEB0-34D4-45A2-9F74-601870F6E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0FE8C-AECC-4890-B691-228B14C96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C16FC-CC6D-49EB-B182-3E0FE336B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B7322-CFB0-4790-B89C-A2C1D3038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441C3-E541-49CA-A63F-38E196FDB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BC986B-7FFD-44D5-82EC-3E802859C9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B0433E-AEB8-47EC-B402-3BC9CA12E0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D9039-3567-4FDE-9D5C-AC75F1F00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66243-7DDC-48A9-B91D-78971EB27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B7C19-60FA-42A3-9011-FA6CFF191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C4D13-4E4D-4386-A506-F78DF3311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703CE-1549-4A22-80EF-2DB4F7118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5042D-5580-4BC5-B67D-D214EC3F6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7A672-3E36-41F9-9D13-221C06FB8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point.org</a:t>
            </a:r>
            <a:endParaRPr b="0" lang="en-US" sz="1200" spc="-1" strike="noStrike">
              <a:solidFill>
                <a:srgbClr val="000000"/>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D0DA9-3052-45CE-8C2B-4CC0FB65B56A}"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000000"/>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31F0E-F12A-40B5-AA29-CB126D17C6B2}" type="slidenum">
              <a:rPr b="0" lang="ru-RU"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685080" y="-4894560"/>
            <a:ext cx="20628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ФУТУРИЗМ КАК ЛИТЕРАТУРНОЕ НАПРАВЛЕНИЕ.</a:t>
            </a:r>
            <a:br>
              <a:rPr sz="2400"/>
            </a:br>
            <a:r>
              <a:rPr b="0" lang="ru-RU" sz="2400" spc="-1" strike="noStrike">
                <a:solidFill>
                  <a:srgbClr val="eaeaea"/>
                </a:solidFill>
                <a:latin typeface="Verdana"/>
              </a:rPr>
              <a:t>                       РУССКИЕ ФУТУРИСТЫ.</a:t>
            </a:r>
            <a:br>
              <a:rPr sz="2400"/>
            </a:br>
            <a:r>
              <a:rPr b="0" lang="ru-RU" sz="2400" spc="-1" strike="noStrike">
                <a:solidFill>
                  <a:srgbClr val="eaeaea"/>
                </a:solidFill>
                <a:latin typeface="Verdana"/>
              </a:rPr>
              <a:t>                        ЛИРИКА  И. СЕВЕРЯНИНА</a:t>
            </a:r>
            <a:endParaRPr b="0" lang="en-US" sz="2400" spc="-1" strike="noStrike">
              <a:solidFill>
                <a:srgbClr val="eaeaea"/>
              </a:solidFill>
              <a:latin typeface="Verdana"/>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solidFill>
            <a:srgbClr val="00ffff"/>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cc"/>
                </a:solidFill>
                <a:latin typeface="Arial"/>
              </a:rPr>
              <a:t> </a:t>
            </a:r>
            <a:r>
              <a:rPr b="1" i="1" lang="ru-RU" sz="2800" spc="-1" strike="noStrike">
                <a:solidFill>
                  <a:srgbClr val="ffffcc"/>
                </a:solidFill>
                <a:latin typeface="Arial"/>
              </a:rPr>
              <a:t>ФОРМИРОВАНИЕ И ТЕОРЕТИЧЕСКОЕ САМООПРЕДЕЛЕНИЕ ФУТУРИЗМА.</a:t>
            </a:r>
            <a:endParaRPr b="0" lang="en-US" sz="28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ВРЕМЯ РОЖДЕНИЯ ФУТУРИЗМА – 1910 ГОД. ПЕРВЫЙ СБОРНИК «САДОК СУДЕЙ» (АВТОРЫ:Д.БУРЛЮК, В. ХЛЕБНИКОВ, В. КАМЕНСКИЙ).</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ПЕРВАЯ ДЕКЛАРАЦИЯ – 1912 ГОД «ПОЩЕЧИНА ОБЩЕСТВЕННОМУ ВКУСУ». («ТОЛЬКО МЫ – ЭТО ЛИЦО НАШЕГО ВРЕМЕНИ»).</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МАНИФЕСТ ИЗ СБОРНИКА «САДОК СУДЕЙ – </a:t>
            </a:r>
            <a:r>
              <a:rPr b="1" i="1" lang="en-US" sz="1800" spc="-1" strike="noStrike">
                <a:solidFill>
                  <a:srgbClr val="eaeaea"/>
                </a:solidFill>
                <a:latin typeface="Lucida Console"/>
              </a:rPr>
              <a:t>II</a:t>
            </a:r>
            <a:r>
              <a:rPr b="1" i="1" lang="ru-RU" sz="1800" spc="-1" strike="noStrike">
                <a:solidFill>
                  <a:srgbClr val="eaeaea"/>
                </a:solidFill>
                <a:latin typeface="Lucida Console"/>
              </a:rPr>
              <a:t> » - 1913 ГОД. ПРОГРАММА КОНКРЕТИЗИРОВАНА: ОТРИЦАНИЕ ГРАММАТИКИ, СИНТАКСИСА, ПРАВОПИСАНИЯ; НОВЫЕ РИФМЫ, РАЗМЕРЫ СТИХА; НОВЫЕ СЛОВА И НОВЫЕ ТЕМЫ; ПРЕЗРЕНИЕ К СЛАВЕ: «НАМ ИЗВЕСТНЫ ЧУВСТВА, НЕ ЖИВШИЕ ДО НАС. МЫ НОВЫЕ ЛЮДИ НОВОЙ ЖИЗНИ».</a:t>
            </a:r>
            <a:br>
              <a:rPr sz="1800"/>
            </a:br>
            <a:r>
              <a:rPr b="1" i="1" lang="ru-RU" sz="1800" spc="-1" strike="noStrike">
                <a:solidFill>
                  <a:srgbClr val="eaeaea"/>
                </a:solidFill>
                <a:latin typeface="Lucida Console"/>
              </a:rPr>
              <a:t> </a:t>
            </a:r>
            <a:endParaRPr b="0" lang="en-US" sz="1800" spc="-1" strike="noStrike">
              <a:solidFill>
                <a:srgbClr val="eaeaea"/>
              </a:solidFill>
              <a:latin typeface="Verdana"/>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Группировки внутри течения</a:t>
            </a:r>
            <a:endParaRPr b="0" lang="en-US" sz="4400" spc="-1" strike="noStrike">
              <a:solidFill>
                <a:srgbClr val="ffffcc"/>
              </a:solidFill>
              <a:latin typeface="Arial"/>
            </a:endParaRPr>
          </a:p>
        </p:txBody>
      </p:sp>
      <p:grpSp>
        <p:nvGrpSpPr>
          <p:cNvPr id="174" name="Organization Chart 5"/>
          <p:cNvGrpSpPr/>
          <p:nvPr/>
        </p:nvGrpSpPr>
        <p:grpSpPr>
          <a:xfrm>
            <a:off x="431640" y="2328840"/>
            <a:ext cx="8208720" cy="1522440"/>
            <a:chOff x="431640" y="2328840"/>
            <a:chExt cx="8208720" cy="1522440"/>
          </a:xfrm>
        </p:grpSpPr>
        <p:cxnSp>
          <p:nvCxnSpPr>
            <p:cNvPr id="175" name="_s2052"/>
            <p:cNvCxnSpPr>
              <a:stCxn id="176" idx="0"/>
              <a:endCxn id="177" idx="2"/>
            </p:cNvCxnSpPr>
            <p:nvPr/>
          </p:nvCxnSpPr>
          <p:spPr>
            <a:xfrm flipV="1" rot="16200000">
              <a:off x="6013440" y="1307520"/>
              <a:ext cx="229320" cy="3184920"/>
            </a:xfrm>
            <a:prstGeom prst="bentConnector3">
              <a:avLst>
                <a:gd name="adj1" fmla="val 50000"/>
              </a:avLst>
            </a:prstGeom>
            <a:ln w="28440">
              <a:solidFill>
                <a:srgbClr val="eaeaea"/>
              </a:solidFill>
              <a:miter/>
            </a:ln>
          </p:spPr>
        </p:cxnSp>
        <p:cxnSp>
          <p:nvCxnSpPr>
            <p:cNvPr id="178" name="_s2053"/>
            <p:cNvCxnSpPr>
              <a:stCxn id="179" idx="0"/>
              <a:endCxn id="177" idx="2"/>
            </p:cNvCxnSpPr>
            <p:nvPr/>
          </p:nvCxnSpPr>
          <p:spPr>
            <a:xfrm flipV="1" rot="16200000">
              <a:off x="4952520" y="2368440"/>
              <a:ext cx="229320" cy="1062720"/>
            </a:xfrm>
            <a:prstGeom prst="bentConnector3">
              <a:avLst>
                <a:gd name="adj1" fmla="val 50000"/>
              </a:avLst>
            </a:prstGeom>
            <a:ln w="28440">
              <a:solidFill>
                <a:srgbClr val="eaeaea"/>
              </a:solidFill>
              <a:miter/>
            </a:ln>
          </p:spPr>
        </p:cxnSp>
        <p:cxnSp>
          <p:nvCxnSpPr>
            <p:cNvPr id="180" name="_s2054"/>
            <p:cNvCxnSpPr>
              <a:stCxn id="181" idx="0"/>
              <a:endCxn id="177" idx="2"/>
            </p:cNvCxnSpPr>
            <p:nvPr/>
          </p:nvCxnSpPr>
          <p:spPr>
            <a:xfrm flipH="1" flipV="1" rot="5400000">
              <a:off x="3890520" y="2368800"/>
              <a:ext cx="229320" cy="1062720"/>
            </a:xfrm>
            <a:prstGeom prst="bentConnector3">
              <a:avLst>
                <a:gd name="adj1" fmla="val 50000"/>
              </a:avLst>
            </a:prstGeom>
            <a:ln w="28440">
              <a:solidFill>
                <a:srgbClr val="eaeaea"/>
              </a:solidFill>
              <a:miter/>
            </a:ln>
          </p:spPr>
        </p:cxnSp>
        <p:cxnSp>
          <p:nvCxnSpPr>
            <p:cNvPr id="182" name="_s2055"/>
            <p:cNvCxnSpPr>
              <a:stCxn id="183" idx="0"/>
              <a:endCxn id="177" idx="2"/>
            </p:cNvCxnSpPr>
            <p:nvPr/>
          </p:nvCxnSpPr>
          <p:spPr>
            <a:xfrm flipH="1" flipV="1" rot="5400000">
              <a:off x="2829240" y="1307520"/>
              <a:ext cx="229320" cy="3184920"/>
            </a:xfrm>
            <a:prstGeom prst="bentConnector3">
              <a:avLst>
                <a:gd name="adj1" fmla="val 50000"/>
              </a:avLst>
            </a:prstGeom>
            <a:ln w="28440">
              <a:solidFill>
                <a:srgbClr val="eaeaea"/>
              </a:solidFill>
              <a:miter/>
            </a:ln>
          </p:spPr>
        </p:cxnSp>
        <p:sp>
          <p:nvSpPr>
            <p:cNvPr id="177" name="_s2056"/>
            <p:cNvSpPr/>
            <p:nvPr/>
          </p:nvSpPr>
          <p:spPr>
            <a:xfrm>
              <a:off x="3697560" y="2328840"/>
              <a:ext cx="167868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aeaea"/>
                  </a:solidFill>
                  <a:latin typeface="Arial"/>
                </a:rPr>
                <a:t>ФУТУРИЗМ</a:t>
              </a:r>
              <a:endParaRPr b="0" lang="en-US" sz="1200" spc="-1" strike="noStrike">
                <a:solidFill>
                  <a:srgbClr val="eaeaea"/>
                </a:solidFill>
                <a:latin typeface="Verdana"/>
              </a:endParaRPr>
            </a:p>
          </p:txBody>
        </p:sp>
        <p:sp>
          <p:nvSpPr>
            <p:cNvPr id="183" name="_s2057"/>
            <p:cNvSpPr/>
            <p:nvPr/>
          </p:nvSpPr>
          <p:spPr>
            <a:xfrm>
              <a:off x="4316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t>
              </a:r>
              <a:r>
                <a:rPr b="0" lang="en-US" sz="1100" spc="-1" strike="noStrike">
                  <a:solidFill>
                    <a:srgbClr val="eaeaea"/>
                  </a:solidFill>
                  <a:latin typeface="Arial"/>
                </a:rPr>
                <a:t>ГИЛЕЯ» - </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КУБОФУТУРИСТЫ:</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ХЛЕБНИКОВ,</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МАЯКОВСКИЙ. </a:t>
              </a:r>
              <a:endParaRPr b="0" lang="en-US" sz="1100" spc="-1" strike="noStrike">
                <a:solidFill>
                  <a:srgbClr val="eaeaea"/>
                </a:solidFill>
                <a:latin typeface="Verdana"/>
              </a:endParaRPr>
            </a:p>
          </p:txBody>
        </p:sp>
        <p:sp>
          <p:nvSpPr>
            <p:cNvPr id="181" name="_s2058"/>
            <p:cNvSpPr/>
            <p:nvPr/>
          </p:nvSpPr>
          <p:spPr>
            <a:xfrm>
              <a:off x="25538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АССОЦИАЦИЯ</a:t>
              </a:r>
              <a:endParaRPr b="0" lang="en-US" sz="9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eaeaea"/>
                  </a:solidFill>
                  <a:latin typeface="Arial"/>
                </a:rPr>
                <a:t> </a:t>
              </a:r>
              <a:r>
                <a:rPr b="0" lang="en-US" sz="900" spc="-1" strike="noStrike">
                  <a:solidFill>
                    <a:srgbClr val="eaeaea"/>
                  </a:solidFill>
                  <a:latin typeface="Arial"/>
                </a:rPr>
                <a:t>ЭГОФУТУРИСТОВ»</a:t>
              </a:r>
              <a:endParaRPr b="0" lang="en-US" sz="9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СЕВЕРЯНИН</a:t>
              </a:r>
              <a:endParaRPr b="0" lang="en-US" sz="900" spc="-1" strike="noStrike">
                <a:solidFill>
                  <a:srgbClr val="eaeaea"/>
                </a:solidFill>
                <a:latin typeface="Verdana"/>
              </a:endParaRPr>
            </a:p>
          </p:txBody>
        </p:sp>
        <p:sp>
          <p:nvSpPr>
            <p:cNvPr id="179" name="_s2059"/>
            <p:cNvSpPr/>
            <p:nvPr/>
          </p:nvSpPr>
          <p:spPr>
            <a:xfrm>
              <a:off x="46760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МЕЗОНИН ПОЭЗИИ»</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ШЕРШЕНЕВИЧ</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76" name="_s2060"/>
            <p:cNvSpPr/>
            <p:nvPr/>
          </p:nvSpPr>
          <p:spPr>
            <a:xfrm>
              <a:off x="67982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ЦЕНТРИФУГА»</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ПАСТЕРНАК</a:t>
              </a:r>
              <a:endParaRPr b="0" lang="en-US" sz="1200" spc="-1" strike="noStrike">
                <a:solidFill>
                  <a:srgbClr val="eaeaea"/>
                </a:solidFill>
                <a:latin typeface="Verdana"/>
              </a:endParaRPr>
            </a:p>
          </p:txBody>
        </p:sp>
      </p:gr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Georgia"/>
              </a:rPr>
              <a:t>ВЕЛИМИР ХЛЕБНИКОВ</a:t>
            </a:r>
            <a:endParaRPr b="0" lang="en-US" sz="4400" spc="-1" strike="noStrike">
              <a:solidFill>
                <a:srgbClr val="ffffcc"/>
              </a:solidFill>
              <a:latin typeface="Arial"/>
            </a:endParaRPr>
          </a:p>
        </p:txBody>
      </p:sp>
      <p:pic>
        <p:nvPicPr>
          <p:cNvPr id="186" name="Picture 4" descr="khlebnik"/>
          <p:cNvPicPr/>
          <p:nvPr/>
        </p:nvPicPr>
        <p:blipFill>
          <a:blip r:embed="rId1"/>
          <a:stretch/>
        </p:blipFill>
        <p:spPr>
          <a:xfrm>
            <a:off x="1096920" y="1925640"/>
            <a:ext cx="2762280" cy="3879720"/>
          </a:xfrm>
          <a:prstGeom prst="rect">
            <a:avLst/>
          </a:prstGeom>
          <a:ln w="0">
            <a:noFill/>
          </a:ln>
        </p:spPr>
      </p:pic>
      <p:sp>
        <p:nvSpPr>
          <p:cNvPr id="18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Georgia"/>
              </a:rPr>
              <a:t>Велимир (Виктор) Владимирович Хлебников (1885-1922) родился в Астраханской губернии, сын ученого-натуралиста. Учился в Казанском университете, затем с 1908 г. - в Петербургском; курса не закончил. В печати дебютировал в 1908 г.; выступал на страницах первого сборника футуристов "Садок судей" (1910). Один из ведущих участников движения футуристов в России, подписавший все их манифесты. Хлебникову принадлежит и русское название футуристов - "будетляне". Являя собой странную фигуру в литературном мире, вел неустроенную, полу бродячую жизнь, был редкостным бессребреником, называл себя дервишем, йогом, марсианином. </a:t>
            </a:r>
            <a:endParaRPr b="0" lang="en-US" sz="1400" spc="-1" strike="noStrike">
              <a:solidFill>
                <a:srgbClr val="eaeaea"/>
              </a:solidFill>
              <a:latin typeface="Verdana"/>
            </a:endParaRPr>
          </a:p>
        </p:txBody>
      </p:sp>
      <p:sp>
        <p:nvSpPr>
          <p:cNvPr id="188" name="Text Box 12"/>
          <p:cNvSpPr/>
          <p:nvPr/>
        </p:nvSpPr>
        <p:spPr>
          <a:xfrm>
            <a:off x="4840200" y="172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Rockwell"/>
              </a:rPr>
              <a:t>ИГОРЬ СЕВЕРЯНИН(ЛОТАРЕВ) 1887 – 1941 Г.Г.</a:t>
            </a:r>
            <a:endParaRPr b="0" lang="en-US" sz="2400" spc="-1" strike="noStrike">
              <a:solidFill>
                <a:srgbClr val="ffffcc"/>
              </a:solidFill>
              <a:latin typeface="Arial"/>
            </a:endParaRPr>
          </a:p>
        </p:txBody>
      </p:sp>
      <p:sp>
        <p:nvSpPr>
          <p:cNvPr id="19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Rockwell Extra Bold"/>
              </a:rPr>
              <a:t>     </a:t>
            </a:r>
            <a:r>
              <a:rPr b="1" i="1" lang="ru-RU" sz="1800" spc="-1" strike="noStrike">
                <a:solidFill>
                  <a:srgbClr val="eaeaea"/>
                </a:solidFill>
                <a:latin typeface="Rockwell Extra Bold"/>
              </a:rPr>
              <a:t>СЕВЕРЯНИНА СОПРОВОЖДАЛА СКАНДАЛЬНАЯ ИЗВЕСТНОСТЬ, ВОСТОРЖЕННЫЕ СЛАВОСЛОВИЯ И ЗЛОБНЫЕ НАПАДКИ. ШУМНЫЙ УСПЕХ ПРИНЕСЛА ПОЭТУ КНИГА «ГРОМОКИПЯЩИЙ КУБОК» 1913 Г.  ОН СТАЛ ОДНИМ ИЗ ПОЭТИЧЕСКИХ КУМИРОВ 1910 ГОДОВ. ЕГО УСПЕХУ СПОСОБСТВОВАЛА ОСОБАЯ МАНЕРА ИСПОЛНЕНИЯ СВОИХ СТИХОТВОРЕНИЙ. ЕМУ ПРИНАДЛЕЖИТ ОТКРЫТИЕ НОВОГО ЖАНРА В ЭСТРАДНОМ ИСКУССТВЕ – ЖАНРА АВТОРСКОГО ЧТЕНИЯ СТИХОВ.</a:t>
            </a:r>
            <a:endParaRPr b="0" lang="en-US" sz="1800" spc="-1" strike="noStrike">
              <a:solidFill>
                <a:srgbClr val="eaeaea"/>
              </a:solidFill>
              <a:latin typeface="Verdana"/>
            </a:endParaRPr>
          </a:p>
        </p:txBody>
      </p:sp>
      <p:pic>
        <p:nvPicPr>
          <p:cNvPr id="192" name="Picture 5" descr="сев"/>
          <p:cNvPicPr/>
          <p:nvPr/>
        </p:nvPicPr>
        <p:blipFill>
          <a:blip r:embed="rId1"/>
          <a:stretch/>
        </p:blipFill>
        <p:spPr>
          <a:xfrm>
            <a:off x="703440" y="1600200"/>
            <a:ext cx="3551040" cy="453060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Безымянный"/>
          <p:cNvPicPr/>
          <p:nvPr/>
        </p:nvPicPr>
        <p:blipFill>
          <a:blip r:embed="rId1"/>
          <a:stretch/>
        </p:blipFill>
        <p:spPr>
          <a:xfrm>
            <a:off x="324000" y="404640"/>
            <a:ext cx="8496000" cy="612000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Вопросы для повторения</a:t>
            </a:r>
            <a:endParaRPr b="0" lang="en-US" sz="4400" spc="-1" strike="noStrike">
              <a:solidFill>
                <a:srgbClr val="ffffcc"/>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ДАЙТЕ ОПРЕДЕЛЕНИЕ ФУТУРИЗМУ.</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КАК НАЗЫВАЛСЯ 1-Й РУССКИЙ ФУТУРИСТИЧЕСКИЙ СБОРНИК?</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КАК НАЗЫВАЛАСЬ ДЕКЛАРАЦИЯ ФУТУРИСТОВ, ОПУБЛИКОВАННАЯ В 1912 Г.?</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ЧЕМ ВЫЗВАНО ЖЕЛАНИЕ ФУТУРИСТОВ ОТКАЗАТЬСЯ ОТ ПРОШЛОГО ЛИТЕРАТУРНОГО НАСЛЕДИЯ?</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НАЗОВИТЕ ПОЭТОВ ПРИНАДЛЕЖАВШИХ К РАЗЛИЧНЫМ ФУТУРИСТИЧЕСКИМ ГРУППИРОВКАМ?</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ПЕРЕЧИСЛИТЕ ХАРАКТЕРНЫЕ ЧЕРТЫ ТВОРЧЕСТВА И. СЕВЕРЯНИНА.</a:t>
            </a:r>
            <a:endParaRPr b="0" lang="en-US" sz="2400" spc="-1" strike="noStrike">
              <a:solidFill>
                <a:srgbClr val="eaeaea"/>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41440" y="-5370840"/>
            <a:ext cx="14472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Arial"/>
            </a:endParaRPr>
          </a:p>
        </p:txBody>
      </p:sp>
      <p:grpSp>
        <p:nvGrpSpPr>
          <p:cNvPr id="125" name="Organization Chart 7"/>
          <p:cNvGrpSpPr/>
          <p:nvPr/>
        </p:nvGrpSpPr>
        <p:grpSpPr>
          <a:xfrm>
            <a:off x="1892160" y="2205000"/>
            <a:ext cx="5648400" cy="1143000"/>
            <a:chOff x="1892160" y="2205000"/>
            <a:chExt cx="5648400" cy="1143000"/>
          </a:xfrm>
        </p:grpSpPr>
        <p:cxnSp>
          <p:nvCxnSpPr>
            <p:cNvPr id="126" name="_s1028"/>
            <p:cNvCxnSpPr>
              <a:stCxn id="127" idx="0"/>
              <a:endCxn id="128" idx="2"/>
            </p:cNvCxnSpPr>
            <p:nvPr/>
          </p:nvCxnSpPr>
          <p:spPr>
            <a:xfrm flipV="1" rot="16200000">
              <a:off x="5581080" y="1796040"/>
              <a:ext cx="229320" cy="1959840"/>
            </a:xfrm>
            <a:prstGeom prst="bentConnector3">
              <a:avLst>
                <a:gd name="adj1" fmla="val 50000"/>
              </a:avLst>
            </a:prstGeom>
            <a:ln w="28440">
              <a:solidFill>
                <a:srgbClr val="eaeaea"/>
              </a:solidFill>
              <a:miter/>
            </a:ln>
          </p:spPr>
        </p:cxnSp>
        <p:cxnSp>
          <p:nvCxnSpPr>
            <p:cNvPr id="129" name="_s1029"/>
            <p:cNvCxnSpPr>
              <a:stCxn id="130" idx="0"/>
              <a:endCxn id="128" idx="2"/>
            </p:cNvCxnSpPr>
            <p:nvPr/>
          </p:nvCxnSpPr>
          <p:spPr>
            <a:xfrm flipV="1">
              <a:off x="4716000" y="2661480"/>
              <a:ext cx="2520" cy="229320"/>
            </a:xfrm>
            <a:prstGeom prst="bentConnector2">
              <a:avLst/>
            </a:prstGeom>
            <a:ln w="28440">
              <a:solidFill>
                <a:srgbClr val="eaeaea"/>
              </a:solidFill>
              <a:miter/>
            </a:ln>
          </p:spPr>
        </p:cxnSp>
        <p:cxnSp>
          <p:nvCxnSpPr>
            <p:cNvPr id="131" name="_s1030"/>
            <p:cNvCxnSpPr>
              <a:stCxn id="132" idx="0"/>
              <a:endCxn id="128" idx="2"/>
            </p:cNvCxnSpPr>
            <p:nvPr/>
          </p:nvCxnSpPr>
          <p:spPr>
            <a:xfrm flipH="1" flipV="1" rot="5400000">
              <a:off x="3622320" y="1796400"/>
              <a:ext cx="229320" cy="1959480"/>
            </a:xfrm>
            <a:prstGeom prst="bentConnector3">
              <a:avLst>
                <a:gd name="adj1" fmla="val 50000"/>
              </a:avLst>
            </a:prstGeom>
            <a:ln w="28440">
              <a:solidFill>
                <a:srgbClr val="eaeaea"/>
              </a:solidFill>
              <a:miter/>
            </a:ln>
          </p:spPr>
        </p:cxnSp>
        <p:sp>
          <p:nvSpPr>
            <p:cNvPr id="128" name="_s1031"/>
            <p:cNvSpPr/>
            <p:nvPr/>
          </p:nvSpPr>
          <p:spPr>
            <a:xfrm>
              <a:off x="3519360" y="2205000"/>
              <a:ext cx="239400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СЕРЕБРЯНЫЙ ВЕК</a:t>
              </a:r>
              <a:endParaRPr b="0" lang="en-US" sz="1800" spc="-1" strike="noStrike">
                <a:solidFill>
                  <a:srgbClr val="eaeaea"/>
                </a:solidFill>
                <a:latin typeface="Verdana"/>
              </a:endParaRPr>
            </a:p>
          </p:txBody>
        </p:sp>
        <p:sp>
          <p:nvSpPr>
            <p:cNvPr id="132" name="_s1032"/>
            <p:cNvSpPr/>
            <p:nvPr/>
          </p:nvSpPr>
          <p:spPr>
            <a:xfrm>
              <a:off x="1892160" y="2890800"/>
              <a:ext cx="173052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СИМВОЛИЗМ</a:t>
              </a:r>
              <a:endParaRPr b="0" lang="en-US" sz="1800" spc="-1" strike="noStrike">
                <a:solidFill>
                  <a:srgbClr val="eaeaea"/>
                </a:solidFill>
                <a:latin typeface="Verdana"/>
              </a:endParaRPr>
            </a:p>
          </p:txBody>
        </p:sp>
        <p:sp>
          <p:nvSpPr>
            <p:cNvPr id="130" name="_s1033"/>
            <p:cNvSpPr/>
            <p:nvPr/>
          </p:nvSpPr>
          <p:spPr>
            <a:xfrm>
              <a:off x="3851280" y="2890800"/>
              <a:ext cx="173052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ФУТУРИЗМ</a:t>
              </a:r>
              <a:endParaRPr b="0" lang="en-US" sz="1800" spc="-1" strike="noStrike">
                <a:solidFill>
                  <a:srgbClr val="eaeaea"/>
                </a:solidFill>
                <a:latin typeface="Verdana"/>
              </a:endParaRPr>
            </a:p>
          </p:txBody>
        </p:sp>
        <p:sp>
          <p:nvSpPr>
            <p:cNvPr id="127" name="_s1034"/>
            <p:cNvSpPr/>
            <p:nvPr/>
          </p:nvSpPr>
          <p:spPr>
            <a:xfrm>
              <a:off x="5810400" y="2890800"/>
              <a:ext cx="173016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АКМЕИЗМ</a:t>
              </a:r>
              <a:endParaRPr b="0" lang="en-US" sz="1800" spc="-1" strike="noStrike">
                <a:solidFill>
                  <a:srgbClr val="eaeaea"/>
                </a:solidFill>
                <a:latin typeface="Verdana"/>
              </a:endParaRPr>
            </a:p>
          </p:txBody>
        </p:sp>
      </p:gr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41440" y="-4477680"/>
            <a:ext cx="6984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solidFill>
            <a:srgbClr val="badfe2"/>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3200" spc="-1" strike="noStrike">
                <a:solidFill>
                  <a:srgbClr val="eaeaea"/>
                </a:solidFill>
                <a:latin typeface="Verdana"/>
              </a:rPr>
              <a:t>ФУТУРИЗМ –    </a:t>
            </a: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3200" spc="-1" strike="noStrike">
                <a:solidFill>
                  <a:srgbClr val="eaeaea"/>
                </a:solidFill>
                <a:latin typeface="Verdana"/>
              </a:rPr>
              <a:t>ОДНО ИЗ АВАНГАРДНЫХ ТЕЧЕНИЙ В ЛИТЕРАТУРЕ И ИСКУССТВЕ НАЧАЛА 20 – ГО ВЕКА. СНАЧАЛА СФОРМИРОВАЛСЯ В ПРОСТРАНСТВЕННЫХ ФОРМАХ ИСКУССТВА:СКУЛЬПТУРЕ И ЖИВОПИСИ, ПОТОМ В ЛИТЕРАТУРЕ.</a:t>
            </a:r>
            <a:endParaRPr b="0" lang="en-US" sz="3200" spc="-1" strike="noStrike">
              <a:solidFill>
                <a:srgbClr val="eaeaea"/>
              </a:solidFill>
              <a:latin typeface="Verdana"/>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Arial"/>
              </a:rPr>
              <a:t>АВАНГАРДНЫЕ ТЕЧЕНИЯ В ЖИВОПИСИ НАЧАЛА</a:t>
            </a:r>
            <a:br>
              <a:rPr sz="2000"/>
            </a:br>
            <a:r>
              <a:rPr b="1" i="1" lang="ru-RU" sz="2000" spc="-1" strike="noStrike">
                <a:solidFill>
                  <a:srgbClr val="ffffcc"/>
                </a:solidFill>
                <a:latin typeface="Arial"/>
              </a:rPr>
              <a:t> 20 – ГО ВЕКА</a:t>
            </a:r>
            <a:endParaRPr b="0" lang="en-US" sz="20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РУССКИЕ ХУДОЖНИКИ АВАНГАРДИСТЫ, ОТКАЗАВШИСЬ ОТ РЕАЛИЗМА ПЕРЕДВИЖНИКОВ, ЛИРИЗМА ВРУБЕЛЯ, ЖИВОПИСИ НЕСТЕРОВА, КУСТОДИЕВА ОРИЕНТИРОВАЛИСЬ НА ЭКСПЕРИМЕНТЫ ФРАНЦУЗСКИХ АВАНГАРДИСТОВ, НА ТАК НАЗЫВАЕМЫЙ КУДИЗМ ПИКАССО И ЛЕЖЕ.</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ВОЗНИКЛИ ОБЪЕДИНЕНИЯ С НЕОБЫЧНЫМИ НАЗВАНИЯМИ «БУБНОВЫЙ ВАЛЕТ», «ОСЛИНЫЙ ХВОСТ». ДЕЯТЕЛЬНОСТЬ МНОГИХ АБСТРАКЦИОНИСТОВ, ЧАСТО УТВЕРЖДАВШИХ СЕБЯ ПОСРЕДСТВОМ СКАНДАЛОВ, ШОКИРУЮЩИХ ПРИЕМОВ ПСЕВДОТВОРЧЕСТВА, «ГЕНИЕВ БЕЗ ГЕНИАЛЬНОСТИ», БУДЕТ МНОГОКРАТНО ВЫСМЕИВАТЬСЯ. НО ПРИ ВСЕМ ОБИЛИИ НАСМЕШЕК, ИРОНИИ ОНИ ВЫДВИНУЛИ СВОИХ КЛАССИКОВ В ЛИЦЕ К. МАЛЕВИЧА, М. ШАГАЛА.                         </a:t>
            </a:r>
            <a:r>
              <a:rPr b="1" i="1" lang="ru-RU" sz="1400" spc="-1" strike="noStrike">
                <a:solidFill>
                  <a:srgbClr val="eaeaea"/>
                </a:solidFill>
                <a:latin typeface="Verdana"/>
              </a:rPr>
              <a:t>	</a:t>
            </a:r>
            <a:r>
              <a:rPr b="1" i="1" lang="ru-RU" sz="1400" spc="-1" strike="noStrike">
                <a:solidFill>
                  <a:srgbClr val="eaeaea"/>
                </a:solidFill>
                <a:latin typeface="Verdana"/>
              </a:rPr>
              <a:t>ОНИ ОПРЕДЕЛИИ МНОГИЕ ХУДОЖЕСТВЕНННЫЕ РЕШЕНИЯ ФУТУРИСТОВ В ПОЭЗИИ, ТЕАТРЕ, МУЗЫКЕ, БОЛЬШИНСТВО ИЗ КОТОРЫХ СОВМЕЩАЛИ ЗАНЯТИЯ ЛИТЕРАТУРОЙ И ЖИВОПИСЬЮ.  </a:t>
            </a:r>
            <a:br>
              <a:rPr sz="1400"/>
            </a:br>
            <a:r>
              <a:rPr b="1" i="1" lang="ru-RU" sz="1400" spc="-1" strike="noStrike">
                <a:solidFill>
                  <a:srgbClr val="eaeaea"/>
                </a:solidFill>
                <a:latin typeface="Verdana"/>
              </a:rPr>
              <a:t>	</a:t>
            </a:r>
            <a:r>
              <a:rPr b="1" i="1" lang="ru-RU" sz="1400" spc="-1" strike="noStrike">
                <a:solidFill>
                  <a:srgbClr val="eaeaea"/>
                </a:solidFill>
                <a:latin typeface="Verdana"/>
              </a:rPr>
              <a:t>ПЕРВАЯ ВЫСТАВКА РУССКОГО АВАНГАРДА СОСТОЯЛАСЬ В 1907 Г. В  МОСКВЕ. </a:t>
            </a:r>
            <a:br>
              <a:rPr sz="1400"/>
            </a:br>
            <a:r>
              <a:rPr b="1" i="1" lang="ru-RU" sz="1400" spc="-1" strike="noStrike">
                <a:solidFill>
                  <a:srgbClr val="eaeaea"/>
                </a:solidFill>
                <a:latin typeface="Verdana"/>
              </a:rPr>
              <a:t>	</a:t>
            </a:r>
            <a:r>
              <a:rPr b="1" i="1" lang="ru-RU" sz="1400" spc="-1" strike="noStrike">
                <a:solidFill>
                  <a:srgbClr val="eaeaea"/>
                </a:solidFill>
                <a:latin typeface="Verdana"/>
              </a:rPr>
              <a:t>СВОИ РАБОТЫ ПОКАЗАЛИ М. ЛАРИОНОВ, Н. ГОНЧАРОВА, Д. и Н. БУРЛЮКИ, Г. ЯКУЛОВ, А. ЛЕНТУЛОВ. ЭТО УЖЕ БЫЛА НОВАЯ ШКОЛА ЖИВОПИСИ.</a:t>
            </a:r>
            <a:r>
              <a:rPr b="0" lang="ru-RU" sz="1400" spc="-1" strike="noStrike">
                <a:solidFill>
                  <a:srgbClr val="eaeaea"/>
                </a:solidFill>
                <a:latin typeface="Verdana"/>
              </a:rPr>
              <a:t> </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endParaRPr b="0" lang="en-US" sz="1400" spc="-1" strike="noStrike">
              <a:solidFill>
                <a:srgbClr val="eaeaea"/>
              </a:solidFill>
              <a:latin typeface="Verdana"/>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Arial"/>
              </a:rPr>
              <a:t>МАРТ – АПРЕЛЬ 1910 ГОДА.МОСКВА </a:t>
            </a:r>
            <a:br>
              <a:rPr sz="2000"/>
            </a:br>
            <a:r>
              <a:rPr b="1" i="1" lang="ru-RU" sz="2000" spc="-1" strike="noStrike">
                <a:solidFill>
                  <a:srgbClr val="ffffcc"/>
                </a:solidFill>
                <a:latin typeface="Arial"/>
              </a:rPr>
              <a:t>ВЫСТАВКА «БУБНОВЫЙ ВАЛЕТ», ДАВШЕЕ НАЗВАНИЕ ОДНОИМЕННОМУ ХУДОЖЕСТВЕННОМУ ОБЪЕДИНЕНИЮ.</a:t>
            </a:r>
            <a:endParaRPr b="0" lang="en-US" sz="20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Unicode MS"/>
              </a:rPr>
              <a:t>ЖИВОПИСЦЕВ ЭТОГО ОБЪЕДИНЕНИЯ  ПРИВЛЕКАЛА ЭНЕРГИЯ ЦВЕТА И ПРОСТРАНСТВА. ГЛАВНЫЙ ХУДОЖЕСТВЕННЫЙ ПРИЕМ  - ПРОСТОТА, ДОВЕДЕННАЯ ПОЧТИ ДО ГРОТЕСКА, ИЗОБРАЖЕНИЕ ПРЕДМЕТОВ РЕАЛЬНОГО МИРА КАК ПОСТОЯННО ДВИЖУЩИХСЯ  АБСТРАКТНЫХ ФОРМ. ВЫСТАВКА ИМЕЛА ШУМНЫЙ СКАНДАЛЬНЫЙ УСПЕХ. А. ЛЕНТУЛОВ ПОКАЗАЛ ЗНАМЕНИТЫЕ ПОСТРОЙКИ МОСКОВСКОГО КРЕМЛЯ И КРАСНОЙ ПЛОЩАДИ В ТАКОМ ВИДЕ, ЧТО КАЖЕТСЯ БУДТО ВСЕ ЧАСТИ ЗДАНИЙ ,СДВИНУВШИСЬ СО СВОИХ МЕСТ, КРУЖАТСЯ В СТРЕМИТЕЛЬНОМ ТАНЦЕ.</a:t>
            </a:r>
            <a:endParaRPr b="0" lang="en-US" sz="1400" spc="-1" strike="noStrike">
              <a:solidFill>
                <a:srgbClr val="eaeaea"/>
              </a:solidFill>
              <a:latin typeface="Verdana"/>
            </a:endParaRPr>
          </a:p>
        </p:txBody>
      </p:sp>
      <p:sp>
        <p:nvSpPr>
          <p:cNvPr id="142" name="Rectangle 7"/>
          <p:cNvSpPr/>
          <p:nvPr/>
        </p:nvSpPr>
        <p:spPr>
          <a:xfrm>
            <a:off x="755640" y="3645000"/>
            <a:ext cx="792180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Arial"/>
              </a:rPr>
              <a:t>                   </a:t>
            </a:r>
            <a:r>
              <a:rPr b="1" i="1" lang="ru-RU" sz="1800" spc="-1" strike="noStrike">
                <a:solidFill>
                  <a:srgbClr val="eaeaea"/>
                </a:solidFill>
                <a:latin typeface="Arial"/>
              </a:rPr>
              <a:t>1912 ГОД. ВЫСТАВКА «ОСЛИНЫЙ ХВОСТ».</a:t>
            </a:r>
            <a:r>
              <a:rPr b="0" i="1" lang="ru-RU" sz="1800" spc="-1" strike="noStrike">
                <a:solidFill>
                  <a:srgbClr val="eaeaea"/>
                </a:solidFill>
                <a:latin typeface="Arial"/>
              </a:rPr>
              <a:t> </a:t>
            </a:r>
            <a:endParaRPr b="0" lang="en-US" sz="1800" spc="-1" strike="noStrike">
              <a:solidFill>
                <a:srgbClr val="eaeaea"/>
              </a:solidFill>
              <a:latin typeface="Verdana"/>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a:rPr>
              <a:t>ХУДОЖНИКИ, УЧАСТВОВШИЕ В ЭТОЙ ВЫСТАВКЕ, СТРЕМИЛИСЬ СОЕДИНИТЬ ЖИВОПИСНЫЕ ПРИЕМЫ ЕВРОПЕЙСКОЙ ШКОЛЫ С ДОСТИЖЕНИЯМИ РУССКОЙ ИКОНОПИСИ И ВЫШИВКИ.УЧАСТНИКАМ ВЫСТАВОК НЕ УДАЛОСЬ СОЗДАТЬ ЦЕЛЬНОГО НАПРАВЛЕНИЯ, И КАЖДЫЙ ПОШЕЛ СВОИМ ПУТЕМ, НО НАЗВАНИЕ «ОСЛИНЫЙ ХВОСТ» ПРОЧНО СВЯЗАНО С ПОНЯТИЕМ ПРИВИТИВИЗМ.</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a:rPr>
              <a:t>	</a:t>
            </a:r>
            <a:r>
              <a:rPr b="1" i="1" lang="ru-RU" sz="1400" spc="-1" strike="noStrike">
                <a:solidFill>
                  <a:srgbClr val="eaeaea"/>
                </a:solidFill>
                <a:latin typeface="Arial"/>
              </a:rPr>
              <a:t>М. ЛАРИОНОВ В НАЧАЛЕ 10 – Х ГОДОВ ПРИШЕЛ К ИДЕЕ ЛУЧИЗМА – ОДНОГО ИЗ ПЕРВЫХ ВАРИАНТОВ БЕСПРЕДМЕТНОЙ ЖИВОПИСИ. В ПЕРВЫХ «ЛУЧИСТЫХ» ПОЛОТНАХ ХОРОШО ЗАМЕТНЫ МОТИВЫ ПРИРОДЫ. «ЛУЧИЗМ ИМЕЕТ В ВИДУ ПРОСТРАНСТВЕННЫЕ ФОРМЫ, КОТОРЫЕ МОГУТ ВОЗНИКАТЬ ОТ ПЕРЕСЕЧЕНИЯ ЛУЧЕЙ РАЗЛИЧНЫХ ПРЕДМЕТОВ, ФОРМЫ, ВЫДЕЛЕННЫЕ ВОЛЕЙ ХУДОЖНИКА».</a:t>
            </a:r>
            <a:endParaRPr b="0" lang="en-US" sz="1400" spc="-1" strike="noStrike">
              <a:solidFill>
                <a:srgbClr val="eaeaea"/>
              </a:solidFill>
              <a:latin typeface="Verdana"/>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r>
              <a:rPr b="1" i="1" lang="ru-RU" sz="1400" spc="-1" strike="noStrike">
                <a:solidFill>
                  <a:srgbClr val="ff0000"/>
                </a:solidFill>
                <a:latin typeface="Century"/>
              </a:rPr>
              <a:t>ВНОВЬ ВОЗНИКШИЕ АВАНГАРДИСТСКИЕ ТЕЧЕНИЯ В МИРОВОЙ ЖИВОПИСИ ВЫЗЫВАЛИ ОБИЛИЕ НАСМЕШЕК И ИРОНИИ, НО ОНИ ВЫДВИНУЛИ СВОИХ КЛАССИКОВ В ЛИЦЕ К. МАЛЕВИЧА С ЕГО «ЧЕРНЫМ КВАДРАТОМ» И М. ШАГАЛА С ПАРЯЩИМИ ФИГУРАМИ. ОНИ ОПРЕДЕЛИЛИ МНОГИЕ ХУДОЖЕСТВЕННЫЕ РЕШЕНИЯ ФУТУРИСТОВ В ПОЭЗИИ, ТЕАТРЕ, МУЗЫКЕ. В ЧАСТНОСТИ – ТАК НАЗЫВАЕМЫХ КУБОФУТУРИСТОВ, САМОГО АГРЕССИВНОГО КРЫЛА В РУССКОЙ ПОЭЗИИ.</a:t>
            </a:r>
            <a:endParaRPr b="0" lang="en-US" sz="1400" spc="-1" strike="noStrike">
              <a:solidFill>
                <a:srgbClr val="ffffcc"/>
              </a:solidFill>
              <a:latin typeface="Arial"/>
            </a:endParaRPr>
          </a:p>
        </p:txBody>
      </p:sp>
      <p:pic>
        <p:nvPicPr>
          <p:cNvPr id="145" name="Picture 5" descr="Я и деревня"/>
          <p:cNvPicPr/>
          <p:nvPr/>
        </p:nvPicPr>
        <p:blipFill>
          <a:blip r:embed="rId1"/>
          <a:stretch/>
        </p:blipFill>
        <p:spPr>
          <a:xfrm>
            <a:off x="828720" y="1844640"/>
            <a:ext cx="3024000" cy="3171960"/>
          </a:xfrm>
          <a:prstGeom prst="rect">
            <a:avLst/>
          </a:prstGeom>
          <a:ln w="0">
            <a:noFill/>
          </a:ln>
        </p:spPr>
      </p:pic>
      <p:sp>
        <p:nvSpPr>
          <p:cNvPr id="146" name="PlaceHolder 2"/>
          <p:cNvSpPr>
            <a:spLocks noGrp="1"/>
          </p:cNvSpPr>
          <p:nvPr>
            <p:ph/>
          </p:nvPr>
        </p:nvSpPr>
        <p:spPr>
          <a:xfrm>
            <a:off x="457200" y="4947840"/>
            <a:ext cx="8229600" cy="11826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eaeaea"/>
                </a:solidFill>
                <a:latin typeface="Lucida Console"/>
              </a:rPr>
              <a:t>      </a:t>
            </a:r>
            <a:endParaRPr b="0" lang="en-US" sz="900" spc="-1" strike="noStrike">
              <a:solidFill>
                <a:srgbClr val="eaeaea"/>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eaeaea"/>
                </a:solidFill>
                <a:latin typeface="Lucida Console"/>
              </a:rPr>
              <a:t>Я И ДЕРЕВНЯ. 1911 Г.                                       СКРИПАЧ. 1911 – 1914 ГГ.</a:t>
            </a: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80000"/>
              </a:lnSpc>
              <a:spcBef>
                <a:spcPts val="2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0000"/>
                </a:solidFill>
                <a:latin typeface="Verdana"/>
              </a:rPr>
              <a:t>М. ШАГАЛ, ИМЕЯ ЯРКО ВЫРАЖЕННЫЕ  НАЦИОНАЛЬНЫЕ КОРНИ, УДИВИТЕЛЬНО ЕСТЕСТВЕННО, С ЛЕГКОСТЬЮ ОСВАИВАЛ</a:t>
            </a: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0000"/>
                </a:solidFill>
                <a:latin typeface="Verdana"/>
              </a:rPr>
              <a:t> </a:t>
            </a:r>
            <a:r>
              <a:rPr b="0" lang="ru-RU" sz="900" spc="-1" strike="noStrike">
                <a:solidFill>
                  <a:srgbClr val="ff0000"/>
                </a:solidFill>
                <a:latin typeface="Verdana"/>
              </a:rPr>
              <a:t>ТРАДИЦИИ РАЗНЫХ СТРАН, ЭПОХ И СТИЛЕЙ, СОХРАНЯЯ ПРИ ЭТОМ СВОЙ НЕПОВТОРИМЫЙ ПОЧЕРК.</a:t>
            </a:r>
            <a:endParaRPr b="0" lang="en-US" sz="900" spc="-1" strike="noStrike">
              <a:solidFill>
                <a:srgbClr val="eaeaea"/>
              </a:solidFill>
              <a:latin typeface="Verdana"/>
            </a:endParaRPr>
          </a:p>
        </p:txBody>
      </p:sp>
      <p:pic>
        <p:nvPicPr>
          <p:cNvPr id="147" name="Picture 11" descr="Скрипач"/>
          <p:cNvPicPr/>
          <p:nvPr/>
        </p:nvPicPr>
        <p:blipFill>
          <a:blip r:embed="rId2"/>
          <a:stretch/>
        </p:blipFill>
        <p:spPr>
          <a:xfrm>
            <a:off x="5505480" y="1844640"/>
            <a:ext cx="2463840" cy="295596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Rockwell Extra Bold"/>
              </a:rPr>
              <a:t>ТВОРЧЕСТВО ВАСИЛИЯ КАНДИНСКОГО – УНИКАЛЬНОЕ ЯВЛЕНИЕ РУССКОГО И ЕВРОПЕЙСКОГО ИСКУССТВА. ОН СОВЕРШИЛ ПОДЛИННЫЙ ПЕРЕВОРОТ В ЖИВОПИСИ, СОЗДАВ ПЕРВЫЕ АБСТРАКТНЫЕ КОМПОЗИЦИИ.ОН СОСРЕДОТОЧИЛ ВСЕ СРЕДСТВА ЖИВОПИСИ НА ПЕРЕДАЧЕ СЛОЖНОЙ СИСТЕМЫ ЧУВСТВ И ОЩУЩЕНИЙ ХУДОЖНИКА.</a:t>
            </a:r>
            <a:endParaRPr b="0" lang="en-US" sz="1600" spc="-1" strike="noStrike">
              <a:solidFill>
                <a:srgbClr val="ffffcc"/>
              </a:solidFill>
              <a:latin typeface="Arial"/>
            </a:endParaRPr>
          </a:p>
        </p:txBody>
      </p:sp>
      <p:sp>
        <p:nvSpPr>
          <p:cNvPr id="150" name=""/>
          <p:cNvSpPr txBox="1"/>
          <p:nvPr/>
        </p:nvSpPr>
        <p:spPr>
          <a:xfrm>
            <a:off x="466200" y="1630080"/>
            <a:ext cx="40402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 name="PlaceHolder 2"/>
          <p:cNvSpPr>
            <a:spLocks noGrp="1"/>
          </p:cNvSpPr>
          <p:nvPr>
            <p:ph/>
          </p:nvPr>
        </p:nvSpPr>
        <p:spPr>
          <a:xfrm>
            <a:off x="457200" y="4440240"/>
            <a:ext cx="8229600" cy="1690560"/>
          </a:xfrm>
          <a:prstGeom prst="rect">
            <a:avLst/>
          </a:prstGeom>
          <a:noFill/>
          <a:ln w="0">
            <a:noFill/>
          </a:ln>
        </p:spPr>
        <p:txBody>
          <a:bodyPr anchor="t">
            <a:normAutofit/>
          </a:bodyPr>
          <a:p>
            <a:pPr marL="343080" indent="-343080">
              <a:spcBef>
                <a:spcPts val="3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eaeaea"/>
                </a:solidFill>
                <a:latin typeface="Verdana"/>
              </a:rPr>
              <a:t>КОМПОЗИЦИЯ </a:t>
            </a:r>
            <a:r>
              <a:rPr b="0" i="1" lang="en-US" sz="1200" spc="-1" strike="noStrike">
                <a:solidFill>
                  <a:srgbClr val="eaeaea"/>
                </a:solidFill>
                <a:latin typeface="Verdana"/>
              </a:rPr>
              <a:t>VI</a:t>
            </a:r>
            <a:r>
              <a:rPr b="0" i="1" lang="ru-RU" sz="1200" spc="-1" strike="noStrike">
                <a:solidFill>
                  <a:srgbClr val="eaeaea"/>
                </a:solidFill>
                <a:latin typeface="Verdana"/>
              </a:rPr>
              <a:t>.</a:t>
            </a:r>
            <a:r>
              <a:rPr b="0" i="1" lang="en-US" sz="1200" spc="-1" strike="noStrike">
                <a:solidFill>
                  <a:srgbClr val="eaeaea"/>
                </a:solidFill>
                <a:latin typeface="Verdana"/>
              </a:rPr>
              <a:t> </a:t>
            </a:r>
            <a:r>
              <a:rPr b="0" i="1" lang="ru-RU" sz="1200" spc="-1" strike="noStrike">
                <a:solidFill>
                  <a:srgbClr val="eaeaea"/>
                </a:solidFill>
                <a:latin typeface="Verdana"/>
              </a:rPr>
              <a:t>1913 Г.                                                       ИМПРОВИЗАЦИЯ КЛАММ, 1914 Г.</a:t>
            </a:r>
            <a:endParaRPr b="0" lang="en-US" sz="1200" spc="-1" strike="noStrike">
              <a:solidFill>
                <a:srgbClr val="eaeaea"/>
              </a:solidFill>
              <a:latin typeface="Verdana"/>
            </a:endParaRPr>
          </a:p>
        </p:txBody>
      </p:sp>
      <p:pic>
        <p:nvPicPr>
          <p:cNvPr id="153" name="Picture 12" descr="Импровизация Кламм"/>
          <p:cNvPicPr/>
          <p:nvPr/>
        </p:nvPicPr>
        <p:blipFill>
          <a:blip r:embed="rId1"/>
          <a:stretch/>
        </p:blipFill>
        <p:spPr>
          <a:xfrm>
            <a:off x="4788000" y="1700280"/>
            <a:ext cx="3541680" cy="2244600"/>
          </a:xfrm>
          <a:prstGeom prst="rect">
            <a:avLst/>
          </a:prstGeom>
          <a:ln w="0">
            <a:noFill/>
          </a:ln>
        </p:spPr>
      </p:pic>
      <p:pic>
        <p:nvPicPr>
          <p:cNvPr id="154" name="Picture 13" descr="Композиция VI"/>
          <p:cNvPicPr/>
          <p:nvPr/>
        </p:nvPicPr>
        <p:blipFill>
          <a:blip r:embed="rId2"/>
          <a:stretch/>
        </p:blipFill>
        <p:spPr>
          <a:xfrm>
            <a:off x="611280" y="1700280"/>
            <a:ext cx="3887640" cy="2249280"/>
          </a:xfrm>
          <a:prstGeom prst="rect">
            <a:avLst/>
          </a:prstGeom>
          <a:ln w="0">
            <a:noFill/>
          </a:ln>
        </p:spPr>
      </p:pic>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Arial"/>
              </a:rPr>
              <a:t>К. МАЛЕВИЧ НЕ ПОЛУЧИЛ СИСТЕМАТИЧЕСКОГО ХУДОЖЕСТВЕННОГО ОБРАЗОВАНИЯ 1-Й ЭТАП ТВОРЧЕСТВА СВЯЗАН С ИМПРЕССИОНИЗМОМ. ОН ПЫТАЛСЯ РЕШАТЬ ЗАДАЧИ СОЧЕТАНИЯ ОБЪЕМНОСТИ И ПЛОСКОСТНОСТИ В ИЗОБРАЖЕНИИ ЧЕЛОВЕЧЕСКИХ ФИГУР, ПОИСКИ ДЕКОРАТИВНОГО ЭФФЕКТА В ЦВЕТОВЫХ СООТНОШЕНИЯХ. СОЗДАЛ РЯД РАБОТ, В КОТОРЫХ СТРЕМИЛСЯ СОЕДИНИТЬ ЧЕРТЫ КУБИЗМА И ФУТУРИЗМА.</a:t>
            </a:r>
            <a:endParaRPr b="0" lang="en-US" sz="1400" spc="-1" strike="noStrike">
              <a:solidFill>
                <a:srgbClr val="ffffcc"/>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Verdana"/>
              </a:rPr>
              <a:t>«КОСАРЬ», 1912 Г.            </a:t>
            </a:r>
            <a:endParaRPr b="0" lang="en-US" sz="1400" spc="-1" strike="noStrike">
              <a:solidFill>
                <a:srgbClr val="eaeaea"/>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Verdana"/>
              </a:rPr>
              <a:t>«Ч. КВАДРАТ», 1914-15 Г Г.                         </a:t>
            </a:r>
            <a:r>
              <a:rPr b="0" lang="ru-RU" sz="1400" spc="-1" strike="noStrike">
                <a:solidFill>
                  <a:srgbClr val="eaeaea"/>
                </a:solidFill>
                <a:latin typeface="Verdana"/>
              </a:rPr>
              <a:t>	</a:t>
            </a:r>
            <a:r>
              <a:rPr b="0" lang="ru-RU" sz="1400" spc="-1" strike="noStrike">
                <a:solidFill>
                  <a:srgbClr val="eaeaea"/>
                </a:solidFill>
                <a:latin typeface="Verdana"/>
              </a:rPr>
              <a:t>	</a:t>
            </a:r>
            <a:r>
              <a:rPr b="0" lang="ru-RU" sz="1400" spc="-1" strike="noStrike">
                <a:solidFill>
                  <a:srgbClr val="eaeaea"/>
                </a:solidFill>
                <a:latin typeface="Verdana"/>
              </a:rPr>
              <a:t>	</a:t>
            </a:r>
            <a:r>
              <a:rPr b="0" lang="ru-RU" sz="1400" spc="-1" strike="noStrike">
                <a:solidFill>
                  <a:srgbClr val="eaeaea"/>
                </a:solidFill>
                <a:latin typeface="Verdana"/>
              </a:rPr>
              <a:t>                                                                                          </a:t>
            </a:r>
            <a:endParaRPr b="0" lang="en-US" sz="1400" spc="-1" strike="noStrike">
              <a:solidFill>
                <a:srgbClr val="eaeaea"/>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000" spc="-1" strike="noStrike">
                <a:solidFill>
                  <a:srgbClr val="eaeaea"/>
                </a:solidFill>
                <a:latin typeface="Verdana"/>
              </a:rPr>
              <a:t>«УСОВЕРШЕНСТВОВАННЫЙ Ч. КВАДРАТ»</a:t>
            </a:r>
            <a:r>
              <a:rPr b="0" lang="ru-RU" sz="1400" spc="-1" strike="noStrike">
                <a:solidFill>
                  <a:srgbClr val="eaeaea"/>
                </a:solidFill>
                <a:latin typeface="Verdana"/>
              </a:rPr>
              <a:t>          </a:t>
            </a:r>
            <a:endParaRPr b="0" lang="en-US" sz="1400" spc="-1" strike="noStrike">
              <a:solidFill>
                <a:srgbClr val="eaeaea"/>
              </a:solidFill>
              <a:latin typeface="Verdana"/>
            </a:endParaRPr>
          </a:p>
        </p:txBody>
      </p:sp>
      <p:pic>
        <p:nvPicPr>
          <p:cNvPr id="158" name="Picture 5" descr="Усовершенствованная картина Казимира Малевича Черный квадрат"/>
          <p:cNvPicPr/>
          <p:nvPr/>
        </p:nvPicPr>
        <p:blipFill>
          <a:blip r:embed="rId1"/>
          <a:stretch/>
        </p:blipFill>
        <p:spPr>
          <a:xfrm>
            <a:off x="6300720" y="2997360"/>
            <a:ext cx="2322720" cy="3097080"/>
          </a:xfrm>
          <a:prstGeom prst="rect">
            <a:avLst/>
          </a:prstGeom>
          <a:ln w="0">
            <a:noFill/>
          </a:ln>
        </p:spPr>
      </p:pic>
      <p:pic>
        <p:nvPicPr>
          <p:cNvPr id="159" name="Picture 6" descr="Черный супрематический квадрат"/>
          <p:cNvPicPr/>
          <p:nvPr/>
        </p:nvPicPr>
        <p:blipFill>
          <a:blip r:embed="rId2"/>
          <a:stretch/>
        </p:blipFill>
        <p:spPr>
          <a:xfrm>
            <a:off x="3132000" y="3141720"/>
            <a:ext cx="2697480" cy="2808360"/>
          </a:xfrm>
          <a:prstGeom prst="rect">
            <a:avLst/>
          </a:prstGeom>
          <a:ln w="0">
            <a:noFill/>
          </a:ln>
        </p:spPr>
      </p:pic>
      <p:pic>
        <p:nvPicPr>
          <p:cNvPr id="160" name="Picture 7" descr="Косарь"/>
          <p:cNvPicPr/>
          <p:nvPr/>
        </p:nvPicPr>
        <p:blipFill>
          <a:blip r:embed="rId3"/>
          <a:stretch/>
        </p:blipFill>
        <p:spPr>
          <a:xfrm>
            <a:off x="611280" y="2997360"/>
            <a:ext cx="1778040" cy="309564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Arial"/>
              </a:rPr>
              <a:t>В. Е. ТАТЛИН – ХУДОЖНИК РУССКОГО АВАНГАРДА, РОДОНАЧАЛЬНИК КОНСТРУКТИВИЗМА. В РАННИХ РАБОТАХ ОЩУЩАЕТСЯ СИЛЬНОЕ ВЛИЯНИЕ ИМПРЕССИОНИСТОВ. КАРТИНЫ 10 – Х ГОДОВ ОКРАШЕНЫ СВЕТЛЫМ ЮМОРОМ. НА АВТОПОРТРЕТЕ 1911 Г. ОН ПРЕДСТАЕТ МАТРОСОМ ШХУНЫ «СТЕРЕГУЩИЙ» ПРЕНЕБРЕГАЕТ РЕАЛЬНОЙ ФОРМОЙ, БОЛЬШЕ ИНТЕРЕСУЕТСЯ КОНСТРУКТИВНЫМИ ВОЗМОЖНОСТЯМИ ФИГУРЫ. РАБОТАЯ НАД КОНТУРОМ, ИСКАЛ БОЛЕЕ ВЫРАЗИТЕЛЬНЫЕ РАКУРСЫ. СОЗДАЛ НОВЫЙ ЖАНР – КОНТРРЕЛЬЕФОВ- АБСТРАКТНЫХ ПРИЕМОВ КОМПОЗИЦИИ. ТАК ПОДОШЕЛ К ОТКРЫТИЮ КОНСТРУКТИВИЗМА. САМОЕ ИЗВЕСТНОЕ ПРОИЗВЕДЕНИЕ ПРОЕКТ ПАМЯТНИКА </a:t>
            </a:r>
            <a:r>
              <a:rPr b="0" lang="en-US" sz="1200" spc="-1" strike="noStrike">
                <a:solidFill>
                  <a:srgbClr val="ffffcc"/>
                </a:solidFill>
                <a:latin typeface="Arial"/>
              </a:rPr>
              <a:t>III</a:t>
            </a:r>
            <a:r>
              <a:rPr b="0" lang="ru-RU" sz="1200" spc="-1" strike="noStrike">
                <a:solidFill>
                  <a:srgbClr val="ffffcc"/>
                </a:solidFill>
                <a:latin typeface="Arial"/>
              </a:rPr>
              <a:t> ИНТЕРНАЦИОНАЛУ.</a:t>
            </a:r>
            <a:endParaRPr b="0" lang="en-US" sz="1200" spc="-1" strike="noStrike">
              <a:solidFill>
                <a:srgbClr val="ffffcc"/>
              </a:solidFill>
              <a:latin typeface="Arial"/>
            </a:endParaRPr>
          </a:p>
        </p:txBody>
      </p:sp>
      <p:sp>
        <p:nvSpPr>
          <p:cNvPr id="163"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4"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 name=""/>
          <p:cNvSpPr txBox="1"/>
          <p:nvPr/>
        </p:nvSpPr>
        <p:spPr>
          <a:xfrm>
            <a:off x="4648320" y="3939840"/>
            <a:ext cx="4038480" cy="219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6" name="Picture 8" descr="Натурщица"/>
          <p:cNvPicPr/>
          <p:nvPr/>
        </p:nvPicPr>
        <p:blipFill>
          <a:blip r:embed="rId1"/>
          <a:stretch/>
        </p:blipFill>
        <p:spPr>
          <a:xfrm>
            <a:off x="5219640" y="1557360"/>
            <a:ext cx="3025800" cy="2400120"/>
          </a:xfrm>
          <a:prstGeom prst="rect">
            <a:avLst/>
          </a:prstGeom>
          <a:ln w="0">
            <a:noFill/>
          </a:ln>
        </p:spPr>
      </p:pic>
      <p:pic>
        <p:nvPicPr>
          <p:cNvPr id="167" name="Picture 9" descr="Матрос"/>
          <p:cNvPicPr/>
          <p:nvPr/>
        </p:nvPicPr>
        <p:blipFill>
          <a:blip r:embed="rId2"/>
          <a:stretch/>
        </p:blipFill>
        <p:spPr>
          <a:xfrm>
            <a:off x="5651640" y="4005360"/>
            <a:ext cx="2120760" cy="2160360"/>
          </a:xfrm>
          <a:prstGeom prst="rect">
            <a:avLst/>
          </a:prstGeom>
          <a:ln w="0">
            <a:noFill/>
          </a:ln>
        </p:spPr>
      </p:pic>
      <p:pic>
        <p:nvPicPr>
          <p:cNvPr id="168" name="Picture 10" descr="Модель памятника III Интернационала"/>
          <p:cNvPicPr/>
          <p:nvPr/>
        </p:nvPicPr>
        <p:blipFill>
          <a:blip r:embed="rId3"/>
          <a:stretch/>
        </p:blipFill>
        <p:spPr>
          <a:xfrm>
            <a:off x="826920" y="1628640"/>
            <a:ext cx="3259440" cy="453564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18:32:56Z</dcterms:created>
  <dc:creator>вероника</dc:creator>
  <dc:description/>
  <dc:language>en-US</dc:language>
  <cp:lastModifiedBy>LEGION</cp:lastModifiedBy>
  <dcterms:modified xsi:type="dcterms:W3CDTF">2015-01-20T13:36:00Z</dcterms:modified>
  <cp:revision>60</cp:revision>
  <dc:subject/>
  <dc:title>Слайд 1</dc:title>
</cp:coreProperties>
</file>