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763BE-7B87-4158-A9FC-93457A214F9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dobe Caslon Pro"/>
              </a:rPr>
              <a:t>Глобализация мировой экономики</a:t>
            </a:r>
            <a:endParaRPr b="0" lang="en-US" sz="4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Работу выполнила ученица группы 1510</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Марикуца Мари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F3ECA-C196-4EF6-B14D-6E83203F67B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alibri"/>
              </a:rPr>
              <a:t>     </a:t>
            </a:r>
            <a:r>
              <a:rPr b="0" lang="ru-RU" sz="1200" spc="-1" strike="noStrike">
                <a:solidFill>
                  <a:srgbClr val="ffffff"/>
                </a:solidFill>
                <a:latin typeface="Adobe Caslon Pro"/>
              </a:rPr>
              <a:t>Современные транснациональные корпорации (их еще принято называть глобальными корпорациями), в отличие от прежних ТНК производственного типа, действуют преимущественно на информационных и финансовых рынках. Происходит планетарное объединение этих рынков, формируется единое мировое финансово-информационное пространство. Соответственно возрастает роль ТНК и тесно с ними связанных наднациональных экономических структур и организаций (таких, как </a:t>
            </a:r>
            <a:r>
              <a:rPr b="0" lang="ru-RU" sz="1200" spc="-1" strike="noStrike">
                <a:solidFill>
                  <a:srgbClr val="ffffff"/>
                </a:solidFill>
                <a:latin typeface="Adobe Caslon Pro"/>
              </a:rPr>
              <a:t>Международный</a:t>
            </a:r>
            <a:r>
              <a:rPr b="0" lang="ru-RU" sz="1200" spc="-1" strike="noStrike">
                <a:solidFill>
                  <a:srgbClr val="ffffff"/>
                </a:solidFill>
                <a:latin typeface="Adobe Caslon Pro"/>
              </a:rPr>
              <a:t> валютный фонд, Международный банк реконструкции и развития, Международная финансовая корпорация и др.).</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В настоящее время 80% новейших технологий создаются ТНК, доходы которых в ряде случаев превышают валовой национальный доход отдельных, довольно крупных стран. Достаточно сказать, что в списке 100 крупнейших экономик мира 51 позицию занимают ТНК. Причем сфера деятельности значительной части из них связана с разработкой гипертехнологий (или метатехнологий), к которым можно отнести сетевые компьютеры, новейшие компьютерные программы, организационные технологии, технологии формирования общественного мнения и массового сознания и др. Именно разработчики и владельцы подобных технологий контролируют сегодня финансовые рынки и определяют облик мировой экономики.</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Примерно 1/5 дохода промышленно развитых стран и 1/3 развивающихся стран напрямую зависят от экспорта. По оценкам, в мире 40-45% занятых в обрабатывающей промышленности и примерно 10-12% в сфере услуг прямо или косвенно связаны с внешней торговлей, которая остается основным средством перераспределения мирового дохода.</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D63C2-A332-424B-8C38-357E575DB16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333399"/>
                </a:solidFill>
                <a:latin typeface="Adobe Caslon Pro"/>
              </a:rPr>
              <a:t>      </a:t>
            </a:r>
            <a:r>
              <a:rPr b="0" lang="ru-RU" sz="1400" spc="-1" strike="noStrike" u="sng">
                <a:solidFill>
                  <a:srgbClr val="333399"/>
                </a:solidFill>
                <a:uFillTx/>
                <a:latin typeface="Adobe Caslon Pro"/>
              </a:rPr>
              <a:t>Некоторые аспекты влияния глобализации на национальную экономику заслуживают особого упоминания:</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Прежде всего отметим чрезвычайно высокие темпы роста прямых иностранных инвестиций, намного превосходящие темпы роста мировой торговли. Эти капиталовложения играют ключевую роль в трансферте технологий, промышленной реструктуризации, образовании глобальных предприятий, что оказывает непосредственное воздействие на национальную экономику.</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Второй аспект касается влияния на технологические инновации. Новые технологии, как уже отмечалось, являются одной из движущих сил глобализации, но она, в свою очередь усиливая конкуренцию, стимулирует их дальнейшее развитие и распространение среди стран.</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Наконец, в результате глобализации происходит рост торговли услугами, включая финансовые, юридические, управленческие, информационные и все виды «невидимых» услуг, которые превращаются в основной фактор международных торговых отношений. Если в 1970 г. с экспортом услуг было связано менее 1/3 прямых иностранных инвестиций, то в настоящее время эта доля возросла до 50%, причем интеллектуальный капитал стал наиболее важным товаром на мировом рынке.</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alibri"/>
              </a:rPr>
              <a:t>      </a:t>
            </a:r>
            <a:r>
              <a:rPr b="0" lang="ru-RU" sz="1200" spc="-1" strike="noStrike">
                <a:solidFill>
                  <a:srgbClr val="ffffff"/>
                </a:solidFill>
                <a:latin typeface="Adobe Caslon Pro"/>
              </a:rPr>
              <a:t>Результатом углубления интернационализационного процесса являются взаимозависимости и взаимодействия национальных экономик. Это можно воспринимать и интерпретировать как интеграцию государств в структуру, близкую к единой интернациональной экономической системе. Хотя основная часть глобального продукта потребляется в странах-производителях, национальное развитие все более увязывается с глобальными структурами и становится более многосторонним и разноплановым, чем это было в прошлом.</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AB91F-F17E-43BF-ADC6-CA81B982C89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     </a:t>
            </a:r>
            <a:r>
              <a:rPr b="0" lang="ru-RU" sz="1200" spc="-1" strike="noStrike">
                <a:solidFill>
                  <a:srgbClr val="ffffff"/>
                </a:solidFill>
                <a:latin typeface="Adobe Caslon Pro"/>
              </a:rPr>
              <a:t>Процесс глобализации протекает в условиях сильно поляризованной мировой системы в плане экономической мощи и возможностей. Такое положение является потенциальным источником рисков, проблем и конфликтов. Несколько ведущих стран контролируют значительную часть производства и потребления, даже не прибегая к политическому или экономическому давлению. Их внутренние приоритеты и ценностные ориентиры накладывают отпечаток на все крупнейшие сферы интернационализации. Подавляющая часть (85-90%) всех ТНК базируется в развитых странах, но такие корпорации в последние годы стали создаваться и в развивающихся государствах. К концу 1990-х гг. насчитывалось около 4,2 тыс. латиноамериканских и восточноазиатских ТНК и несколько сотен ТНК в европейских странах переходной экономики. Среди пятидесяти самых крупных ТНК развивающихся стран восемь принадлежат Южной Корее, столько же — Китаю, семь — Мексике, шесть — Бразилии, по четыре — Тайваню, Гонконгу и Сингапуру, три — Малайзии и по одной Таиланду, Филиппинам и Чили. Молодые транснациональные корпорации этих стран, такие, как южнокорейские «Дэу» и «Самсунг», китайская «Чайна кемиклс», тайваньская «Та-тунг», мексиканская «Кемекс», бразильская «Петролео бразильеро» и другие, энергично борются за место на мировом рынке.</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12095-68C5-4640-B0F5-E86AEE1DFDD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ffffff"/>
                </a:solidFill>
                <a:latin typeface="Adobe Caslon Pro"/>
              </a:rPr>
              <a:t>Национальным государствам приходится все больше считаться с ТНК как с могущественными партнерами, а порой и соперниками в борьбе за влияние на национальную экономику. Правилом стали соглашения между ТНК и национальными правительствами об условиях такого сотрудничеств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Более широкие перспективы открылись и перед неправительственными организациями, вышедшими, как и в случае с глобальными фирмами, на многонациональный или мировой уровень. Новую глобальную роль стали играть даже такие международные организации, как ООН, МВФ, Всемирный банк, ВТО. Таким образом, многонациональные предприятия и другие организации, как частные, так и государственные, превратились в основных действующих лиц глобальной экономики.</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127A3-5E61-4180-A828-09E83F33995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ffffff"/>
                </a:solidFill>
                <a:latin typeface="Adobe Caslon Pro"/>
              </a:rPr>
              <a:t>Пятый источник кроется в особенностях культурного развития. Речь идет о тенденции формирования глобализованных однородных средств массовой информации, искусства, попкультуры, повсеместного использования английского языка в качестве всеобщего средства общения.</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Стоит сказать еще об одной важнейшей особенности глобализации мировой экономики — это бурное развитие финансовых рынков в последние годы XX в. Новая роль финансовых рынков (валютных, фондовых, кредитных) за последние годы резко изменила архитектуру мировой экономики. Еще несколько десятков лет назад основной целью финансовых рынков было обеспечение функционирования реального сектора экономики. В последние годы мировой финансовый рынок стал проявлять самодостаточность. В результате сегодня мы видим рост объема этого рынка в разы, что стало результатом широкого спектра спекулятивных операций, вызванных либерализацией экономических отношений. Одним словом, процесс получения денег из денег значительно упростился благодаря исключению из него собственно самого производства какого-либо товара или услуг. Производство заменили спекулятивные операции с различными производными финансовыми инструментами, такими, как фьючерсы и опционы, а также игра на разнице курсов мировых валют.</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A60AA-6576-4406-A932-07ADC0A6985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ffffff"/>
                </a:solidFill>
                <a:latin typeface="Adobe Caslon Pro"/>
              </a:rPr>
              <a:t>Это самый сложный и наиболее продвинутый в плане интернационализации процесс, являющийся результатом углубления финансовых связей стран, либерализации цен и инвестиционных потоков, создания глобальных транснациональных финансовых групп. По темпам прироста объем займов на международном рынке капитала в предшествующие 10-15 лет превысил на 60% объем внешней торговли и на 130% валовой мировой продукт. Увеличивается количество международных организаций-инвесторов. В глобализации финансов часто усматривают причину роста спекуляций и отвлечения со спекулятивными целями капитала от производства и создания новых рабочих мест.</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Процесс финансовой глобализации сконцентрирован прежде всего в трех основных центрах мировой экономики: США, Западной Европе и Японии. Финансовая же спекуляция выходит далеко за границы этой триады. Глобальный оборот на рынке валют ежесуточно достигает 0,9-1,1 трлн. долларов. Приток спекулятивного капитала может не только превысить нужды той или иной страны, но и дестабилизировать ее положение. Быстрая глобализация финансов по-прежнему остается важнейшей причиной уязвимости мировой экономики. Интеграция финансовых рынков повышает риск системных сбоев.</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06932-8779-4FFB-92C2-5EC0095A2A3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3366"/>
                </a:solidFill>
                <a:uFillTx/>
                <a:latin typeface="Calibri"/>
              </a:rPr>
              <a:t>Все вышеизложенное позволяет нам отметить ряд преимуществ от глобализационного процесса:</a:t>
            </a:r>
            <a:endParaRPr b="0" lang="en-US" sz="1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глобализация вызвала обострение международной конкуренции. Конкуренция и расширение рынка ведут к углублению специализации и международного разделения труда, стимулирующих в свою очередь рост производства не только на национальном, но и на мировом уровне;</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еще одно преимущество глобализации — экономия на масштабах производства, что потенциально может привести к сокращению издержек и снижению цен, а следовательно, к устойчивому экономическому росту;</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преимущества глобализации связаны также с выигрышем от торговли на взаимовыгодной основе, удовлетворяющей все стороны, в качестве которых могут выступать отдельные лица, фирмы и другие организации, страны, торговые союзы и даже целые континенты;</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глобализация может привести к повышению производительности труда в результате рационализации производства на глобальном уровне и распространения передовой технологии, а также конкурентного давления в пользу непрерывного внедрения инноваций в мировом масштабе.</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В целом преимущества глобализации позволяют улучшить свое положение всем партнерам, получающим возможность, увеличив производство, повысить уровень заработной платы и жизненные стандарты.</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843FE-49EC-43F4-AED2-5103BF78A54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3366"/>
                </a:solidFill>
                <a:uFillTx/>
                <a:latin typeface="Calibri"/>
              </a:rPr>
              <a:t>Глобализация несет с собой не только преимущества, она чревата негативными последствиями или потенциальными проблемами, в которых некоторые ее критики усматривают большую опасность.</a:t>
            </a:r>
            <a:endParaRPr b="0" lang="en-US" sz="1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Первая угроза в связи с глобализацией вызвана тем, что ее преимущества, которые людям понятны, будут, однако, распределяться неравномерно. В краткосрочной перспективе, как известно, изменения в обрабатывающей промышленности, сфере услуг приводят к тому, что отрасли, получающие выгоды от внешней торговли, и отрасли, связанные с экспортом, испытывают больший приток капитала и квалифицированной рабочей силы. В то же время ряд отраслей значительно проигрывает от глобализационных процессов, теряя свои конкурентные преимущества из-за возросшей открытости рынка. Такие отрасли вынуждены прилагать дополнительные усилия, чтобы приспособиться к изменившимся не в их пользу хозяйственным условиям. Это означает возможность оттока капиталов и рабочей силы из этих отраслей, что послужит главной причиной для принятия адаптационных мер, сопряженных с очень большими затратами. Адаптационные меры чреваты для людей потерей работы, необходимостью поиска другого рабочего места, переквалификации, что приводит не только к семейным проблемам, но и требует крупных социальных расходов, причем в короткие сроки. В конечном итоге произойдет перераспределение рабочей силы, но поначалу социальные издержки будут очень велики. Это относится не только к отраслям, которые в Европе были существенно трансформированы в последние тридцать лет. Следует признать, что подобные перемены таят в себе серьезную угрозу сложившейся хозяйственной структуре, и правительства должны взять на себя тяжелое бремя социальных расходов, связанных с выплатой компенсаций, переподготовкой, выплатой пособий по безработице, оказанием поддержки малообеспеченным семьям.</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D2458-83DB-4A94-9B4B-9C31D70A846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Второй угрозой многие считают деиндустриализацию экономики, поскольку глобальная открытость ассоциируется со снижением занятости в обрабатывающих отраслях как в Европе, так и в США. На самом деле, однако, этот процесс не является следствием глобализации, хотя и протекает параллельно с ним. Деиндустриализация — нормальное явление, порождаемое технологическим прогрессом и экономическим развитием. Действительно, доля обрабатывающих отраслей в экономике промышленно развитых стран резко снижается, но это снижение балансируется быстрым ростом удельного веса сферы услуг, включая финансовый сектор.</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Следующая угроза, которую таит в себе глобализация, связывается с заметным увеличением разрыва в уровнях заработной платы квалифицированных и менее квалифицированных работников, а также с ростом безработицы среди последних. Сегодня, однако, это отнюдь не обязательно является следствием интенсификации международной торговли. Более важно то обстоятельство, что повышается спрос на квалифицированные кадры в отраслях и на предприятиях. Это вызвано тем, что конкуренция со стороны трудоемких товаров, выпущенных в странах с низким уровнем заработной платы и невысокой квалификацией работников, влечет за собой снижение цен на аналогичную продукцию европейских фирм и сокращение их прибылей. В подобных условиях европейские компании прекращают выпуск убыточной продукции и переходят к производству товаров, требующих использования высококвалифицированного персонала. В результате рабочие с более низкой квалификацией остаются невостребованными, их доходы падают.</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В качестве четвертой угрозы отмечают перевод фирмами стран с высокой стоимостью рабочей силы части своих производственных мощностей в страны с низкой оплатой труда. Экспорт рабочих мест может оказаться нежелательным для экономики ряда государств. Однако подобная угроза не слишком опасна.</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FC3C5-2FA1-4ACF-B63F-5FE23F8C3E8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Пятую угрозу связывают с мобильностью рабочей силы. Сегодня много говорится о свободном обмене товарами, услугами и капиталом и значительно меньше — о свободе перемещения рабочей силы. В связи с этим поднимается вопрос о влиянии глобализации на занятость. В отсутствие адекватных мер проблема безработицы может стать потенциальным источником глобальной нестабильности. Разбазаривание людских ресурсов в виде безработицы или частичной занятости — главная потеря мирового сообщества в целом, и особенно некоторых стран, которые тратили большие средства на образование. Высокий уровень безработицы в середине 1990-х гг. сигнализирует о наличии крупных структурных проблем и политических ошибок в рамках мировой экономики. Эти факторы свидетельствуют о необходимости эффективного управления изменениями на всех уровнях, особенно в сферах, которые непосредственно влияют на условия жизни людей. В частности, спорен вопрос о том, может ли международная миграция содействовать решению проблем занятости и бедности. Сегодня рынки труда интернационализированы в значительно меньшей степени, чем рынки товаров или капитал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Глобализация с ее глубокими экономическими, технологическими и социальными преобразованиями несомненно повлияет на мировую экосистему. А это типичная проблема общечеловеческой безопасности. До сих пор вину за общий ущерб окружающей среде возлагают на развитые страны, хотя основной вред они причиняют все же себе.</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Можно назвать несколько источников будущих конфликтов, которые возникнут в связи с использованием экосистемы. Борьба за водные ресурсы, вероятно, выльется в острые региональные конфликты. Будущее тропических лесов и последствия их вырубки уже стали предметом глубоких раздоров между государствами из-за расхождений в интересах и политических целях. В целом мир уже не может себе позволить бездумно расходовать ресурсы, нанося непоправимый вред среде обитани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3D9C8-545E-450C-8A0F-9977144AE04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Глобализация — это процесс, в ходе которого мир преобразуется в единую глобальную систему. Вопрос о глобализации стал весьма актуальным в 1990-е годы, хотя различные аспекты этого процесса серьезно обсуждались учеными, уже начиная с 1960-1970-х годов.</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7CFC9-45EE-4D08-A7CF-9EC3D61BD08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Важным источником напряженностей и конфликтов может стать также массовая урбанизация, связанная с глобальными демографическими, технологическими и структурными изменениями. Города уже становятся ключевыми элементами общества в масштабе стран и мира в целом, а также основными каналами распространения влияния глобализации по ряду причин. Во-первых, снабжение городов продовольствием и энергией зависит во многих странах не от местных источников, а от импортных ресурсов. Далее, города являются основными центрами глобальной стандартизации потребления, культур. В них же транснациональные компании действуют наиболее активно. Урбанизация, видимо, усилит процесс глобализации, а кооперация между крупными городами в политическом и институциональном плане станет новой областью международных отношений.</a:t>
            </a:r>
            <a:endParaRPr b="0" lang="en-US" sz="12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dobe Caslon Pro"/>
              </a:rPr>
              <a:t>     </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E403E-928C-45EA-B7D1-9C346F7EF02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Глобализация углубляет, расширяет и ускоряет всемирные взаимосвязи и взаимозависимости во всех сферах сегодняшней общественной жизни. Как видим, глобализация в мировом масштабе имеет как положительные, так и отрицательные стороны, но это объективный процесс, к которому надо приспосабливаться всем субъектам международной жизни.</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68CEC-15B2-4A8B-8C00-7CA2AD7C357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663300"/>
                </a:solidFill>
                <a:latin typeface="Adobe Caslon Pro"/>
              </a:rPr>
              <a:t>Контрольные вопросы:</a:t>
            </a: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dobe Caslon Pro"/>
              </a:rPr>
              <a:t>Какова роль глобализации в мировой экономике?</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dobe Caslon Pro"/>
              </a:rPr>
              <a:t>Как глобализация может отразиться на малом бизнесе украинских предпринимателей?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dobe Caslon Pro"/>
              </a:rPr>
              <a:t>В чем заключается позитивное влияние глобализации, а в чем негативное?</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9D866-2706-43BC-8205-9FB2DB53B55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dobe Caslon Pro"/>
              </a:rPr>
              <a:t>Записать:</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333300"/>
                </a:solidFill>
                <a:latin typeface="Adobe Caslon Pro"/>
              </a:rPr>
              <a:t>Глобализация мировой экономики - это преобразование мирового пространства в единую зону, где свободно перемещаются информация, товары и услуги, капитал, где непринужденно распространяются идеи и беспрепятственно передвигаются их носители, стимулируя развитие современных институтов и отлаживая механизмы их взаимодействи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6887A-34E3-4F10-8764-9C11D15191E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dobe Caslon Pro"/>
              </a:rPr>
              <a:t>&gt;&gt;</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dobe Caslon Pro"/>
              </a:rPr>
              <a:t>Глобализация подразумевает образование единого (всеобщего) международного экономического, правового и культурно-информационного пространства. Иными словами, феномен глобализации выходит за чисто экономические рамки и оказывает заметное влияние на все основные сферы общественной деятельности — политику, идеологию, культуру. Он, несомненно, будет играть определяющую роль в мировой экономике XXI в., придавая мощный импульс формированию новой системы международных экономических и политических отношений.</a:t>
            </a:r>
            <a:endParaRPr b="0" lang="en-US" sz="1200" spc="-1" strike="noStrike">
              <a:solidFill>
                <a:srgbClr val="000000"/>
              </a:solidFill>
              <a:latin typeface="Calibri"/>
            </a:endParaRPr>
          </a:p>
        </p:txBody>
      </p:sp>
      <p:sp>
        <p:nvSpPr>
          <p:cNvPr id="1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DCA4D-3F63-4802-A11E-D3C25F8E4EF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dobe Caslon Pro"/>
              </a:rPr>
              <a:t>Чем вызвана глобализация?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7E85D-46AB-4434-AF51-ABF0260FC18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Во-первых, глобализация вызвана объективными факторами мирового развития, углублением международного разделения труда, научно-техническим прогрессом в области транспорта и средств связи, сокращающим так называемое экономическое расстояние между странами. Позволяя получать необходимую информацию из любой точки планеты в реальном режиме времени и быстро принимать решения, современные системы телекоммуникаций беспрецедентно облегчают организацию международного инвестирования капиталов, кооперирования производства и маркетинга. В условиях информационного интегрирования мира намного ускоряется передача технологий и заимствование иностранного опыта хозяйствования. Складываются предпосылки для глобализации таких процессов, которые до сих пор оставались локальными по самой своей природе, например, получение высшего образования вдали от лучших учебных центров мира.</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9106E-656F-4F6C-9C18-F90723CEE3A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Второй источник глобализации — либерализация торговли и другие формы экономической либерализации, вызвавшие ограничение политики протекционизма и сделавшие мировую торговлю более свободной. В результате были существенно снижены тарифы, устранены многие иные барьеры в торговле товарами и услугами. Другие либерализационные меры привели к усилению движения капитала и остальных факторов производства.</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38326-2B59-40E1-A6B9-25078D8465E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dobe Caslon Pro"/>
              </a:rPr>
              <a:t>    </a:t>
            </a:r>
            <a:r>
              <a:rPr b="0" lang="ru-RU" sz="1200" spc="-1" strike="noStrike">
                <a:solidFill>
                  <a:srgbClr val="ffffff"/>
                </a:solidFill>
                <a:latin typeface="Adobe Caslon Pro"/>
              </a:rPr>
              <a:t>Третьим источником иитернационализационного процесса и одним из основных источников глобализации стал феномен транснационализации, в рамках которой определенная доля производства, потребления, экспорта, импорта и дохода страны зависит от решений международных центров за пределами данного государства. В качестве ведущих сил </a:t>
            </a:r>
            <a:r>
              <a:rPr b="0" lang="ru-RU" sz="1400" spc="-1" strike="noStrike">
                <a:solidFill>
                  <a:srgbClr val="ffffff"/>
                </a:solidFill>
                <a:latin typeface="Adobe Caslon Pro"/>
              </a:rPr>
              <a:t>здесь</a:t>
            </a:r>
            <a:r>
              <a:rPr b="0" lang="ru-RU" sz="1200" spc="-1" strike="noStrike">
                <a:solidFill>
                  <a:srgbClr val="ffffff"/>
                </a:solidFill>
                <a:latin typeface="Adobe Caslon Pro"/>
              </a:rPr>
              <a:t> выступают транснациональные компании (ТНК), которые сами являются одновременно и результатом, и главными действующими лицами интернационализации.</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Глобализация сказывается на экономике всех стран. Она затрагивает производство товаров и услуг, использование рабочей силы, инвестиции, технологии и их распространение из одних стран в другие. Все это в конечном итоге отражается на эффективности производства, производительности труда и конкурентоспособности. Именно глобализация вызвала обострение международной конкуренции.</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07AF9-4AC4-414E-9946-6C889438083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Процесс глобализации экономики ускорился в последние десятилетия, когда различные рынки, в частности, капитала, технологии и товаров, а в известной степени и труда, становились все более взаимосвязанными и интегрированными в многослойную сеть ТНК. Хотя определенное количество ТНК оперирует в традиционном торговом секторе, в целом международные фирмы выступают за промышленную реструктуризацию многих развивающихся стран путем создания новых отраслей, в частности, автомобильной, нефтехимической, машиностроительной, электронной и др., и модернизации традиционных, включая текстильную и пищевую.</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99CBE-5A33-4131-9D66-A1DF828A62F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66333E-46D0-4EC5-99AC-05F4B204B3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26DB6B-5444-480D-8540-D15D86789D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5EAEEF-D8D4-4CA5-9549-A03C79A0AD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7070A7-58B8-48E9-A777-C944AD3F19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3C152E-1C7E-462A-ACA0-04970950FD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20AC0-550D-482E-BE28-EB9C5D3CEF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E8FA46-F449-4232-8932-EE9AF1C1C9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935AFB-33EA-4221-88A9-A7354BD97C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066AC7-7B1C-4887-BF2B-9420224C63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7C18B-6179-4EBC-86D6-46C93D5FF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979B1-B8F6-4A5F-8C7F-64D7569253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777A1-DCA4-477E-AF36-F4DABFED01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35C75-98DA-4AED-9171-F69B2204EF55}"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55640" y="220500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00"/>
                </a:solidFill>
                <a:latin typeface="Adobe Caslon Pro"/>
              </a:rPr>
              <a:t>Глобализация мировой экономики</a:t>
            </a:r>
            <a:endParaRPr b="0" lang="en-US" sz="6000" spc="-1" strike="noStrike">
              <a:solidFill>
                <a:srgbClr val="000000"/>
              </a:solidFill>
              <a:latin typeface="Arial"/>
            </a:endParaRPr>
          </a:p>
        </p:txBody>
      </p:sp>
      <p:sp>
        <p:nvSpPr>
          <p:cNvPr id="49" name="PlaceHolder 2"/>
          <p:cNvSpPr>
            <a:spLocks noGrp="1"/>
          </p:cNvSpPr>
          <p:nvPr>
            <p:ph type="subTitle"/>
          </p:nvPr>
        </p:nvSpPr>
        <p:spPr>
          <a:xfrm>
            <a:off x="1692360" y="5734080"/>
            <a:ext cx="6759360" cy="1008000"/>
          </a:xfrm>
          <a:prstGeom prst="rect">
            <a:avLst/>
          </a:prstGeom>
          <a:noFill/>
          <a:ln w="0">
            <a:noFill/>
          </a:ln>
        </p:spPr>
        <p:txBody>
          <a:bodyPr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dobe Caslon Pro"/>
              </a:rPr>
              <a:t>Работу выполнила ученица группы 1510</a:t>
            </a:r>
            <a:endParaRPr b="0" lang="en-US" sz="20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dobe Caslon Pro"/>
              </a:rPr>
              <a:t> </a:t>
            </a:r>
            <a:r>
              <a:rPr b="0" lang="ru-RU" sz="2000" spc="-1" strike="noStrike">
                <a:solidFill>
                  <a:srgbClr val="ffffff"/>
                </a:solidFill>
                <a:latin typeface="Adobe Caslon Pro"/>
              </a:rPr>
              <a:t>Марикуца Мария</a:t>
            </a:r>
            <a:endParaRPr b="0" lang="en-US" sz="2000" spc="-1" strike="noStrike">
              <a:solidFill>
                <a:srgbClr val="000000"/>
              </a:solidFill>
              <a:latin typeface="Arial"/>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468360" y="404280"/>
            <a:ext cx="8229600" cy="7083720"/>
          </a:xfrm>
          <a:prstGeom prst="rect">
            <a:avLst/>
          </a:prstGeom>
          <a:noFill/>
          <a:ln w="0">
            <a:noFill/>
          </a:ln>
        </p:spPr>
        <p:txBody>
          <a:bodyPr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dobe Caslon Pro"/>
              </a:rPr>
              <a:t>Современные транснациональные корпорации (их еще принято называть глобальными корпорациями), в отличие от прежних ТНК производственного типа, действуют преимущественно на информационных и финансовых рынках. Происходит планетарное объединение этих рынков, формируется единое мировое финансово-информационное пространство. Соответственно возрастает роль ТНК и тесно с ними связанных наднациональных экономических структур и организаций (таких, как </a:t>
            </a:r>
            <a:r>
              <a:rPr b="0" lang="ru-RU" sz="1800" spc="-1" strike="noStrike">
                <a:solidFill>
                  <a:srgbClr val="ffffff"/>
                </a:solidFill>
                <a:latin typeface="Adobe Caslon Pro"/>
              </a:rPr>
              <a:t>Международный</a:t>
            </a:r>
            <a:r>
              <a:rPr b="0" lang="ru-RU" sz="1800" spc="-1" strike="noStrike">
                <a:solidFill>
                  <a:srgbClr val="ffffff"/>
                </a:solidFill>
                <a:latin typeface="Adobe Caslon Pro"/>
              </a:rPr>
              <a:t> валютный фонд, Международный банк реконструкции и развития, Международная финансовая корпорация и др.).</a:t>
            </a: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dobe Caslon Pro"/>
              </a:rPr>
              <a:t>     </a:t>
            </a:r>
            <a:r>
              <a:rPr b="0" lang="ru-RU" sz="1800" spc="-1" strike="noStrike">
                <a:solidFill>
                  <a:srgbClr val="ffffff"/>
                </a:solidFill>
                <a:latin typeface="Adobe Caslon Pro"/>
              </a:rPr>
              <a:t>В настоящее время 80% новейших технологий создаются ТНК, доходы которых в ряде случаев превышают валовой национальный доход отдельных, довольно крупных стран. Достаточно сказать, что в списке 100 крупнейших экономик мира 51 позицию занимают ТНК. Причем сфера деятельности значительной части из них связана с разработкой гипертехнологий (или метатехнологий), к которым можно отнести сетевые компьютеры, новейшие компьютерные программы, организационные технологии, технологии формирования общественного мнения и массового сознания и др. Именно разработчики и владельцы подобных технологий контролируют сегодня финансовые рынки и определяют облик мировой экономики.</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dobe Caslon Pro"/>
              </a:rPr>
              <a:t>      </a:t>
            </a:r>
            <a:r>
              <a:rPr b="0" lang="ru-RU" sz="1800" spc="-1" strike="noStrike">
                <a:solidFill>
                  <a:srgbClr val="ffffff"/>
                </a:solidFill>
                <a:latin typeface="Adobe Caslon Pro"/>
              </a:rPr>
              <a:t>Примерно 1/5 дохода промышленно развитых стран и 1/3 развивающихся стран напрямую зависят от экспорта. По оценкам, в мире 40-45% занятых в обрабатывающей промышленности и примерно 10-12% в сфере услуг прямо или косвенно связаны с внешней торговлей, которая остается основным средством перераспределения мирового дохода.</a:t>
            </a:r>
            <a:endParaRPr b="0" lang="en-US" sz="1800" spc="-1" strike="noStrike">
              <a:solidFill>
                <a:srgbClr val="000000"/>
              </a:solidFill>
              <a:latin typeface="Arial"/>
            </a:endParaRPr>
          </a:p>
        </p:txBody>
      </p:sp>
      <p:sp>
        <p:nvSpPr>
          <p:cNvPr id="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9">
                                  <p:stCondLst>
                                    <p:cond delay="0"/>
                                  </p:stCondLst>
                                  <p:childTnLst>
                                    <p:set>
                                      <p:cBhvr>
                                        <p:cTn id="86" dur="1" fill="hold">
                                          <p:stCondLst>
                                            <p:cond delay="0"/>
                                          </p:stCondLst>
                                        </p:cTn>
                                        <p:tgtEl>
                                          <p:spTgt spid="70">
                                            <p:txEl>
                                              <p:pRg st="0" end="0"/>
                                            </p:txEl>
                                          </p:spTgt>
                                        </p:tgtEl>
                                        <p:attrNameLst>
                                          <p:attrName>style.visibility</p:attrName>
                                        </p:attrNameLst>
                                      </p:cBhvr>
                                      <p:to>
                                        <p:strVal val="visible"/>
                                      </p:to>
                                    </p:set>
                                    <p:animEffect filter="dissolve" transition="in">
                                      <p:cBhvr additive="repl">
                                        <p:cTn id="87" dur="500"/>
                                        <p:tgtEl>
                                          <p:spTgt spid="70">
                                            <p:txEl>
                                              <p:pRg st="0" end="0"/>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9">
                                  <p:stCondLst>
                                    <p:cond delay="0"/>
                                  </p:stCondLst>
                                  <p:childTnLst>
                                    <p:set>
                                      <p:cBhvr>
                                        <p:cTn id="91" dur="1" fill="hold">
                                          <p:stCondLst>
                                            <p:cond delay="0"/>
                                          </p:stCondLst>
                                        </p:cTn>
                                        <p:tgtEl>
                                          <p:spTgt spid="70">
                                            <p:txEl>
                                              <p:pRg st="2" end="2"/>
                                            </p:txEl>
                                          </p:spTgt>
                                        </p:tgtEl>
                                        <p:attrNameLst>
                                          <p:attrName>style.visibility</p:attrName>
                                        </p:attrNameLst>
                                      </p:cBhvr>
                                      <p:to>
                                        <p:strVal val="visible"/>
                                      </p:to>
                                    </p:set>
                                    <p:animEffect filter="dissolve" transition="in">
                                      <p:cBhvr additive="repl">
                                        <p:cTn id="92" dur="500"/>
                                        <p:tgtEl>
                                          <p:spTgt spid="70">
                                            <p:txEl>
                                              <p:pRg st="2" end="2"/>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9">
                                  <p:stCondLst>
                                    <p:cond delay="0"/>
                                  </p:stCondLst>
                                  <p:childTnLst>
                                    <p:set>
                                      <p:cBhvr>
                                        <p:cTn id="96" dur="1" fill="hold">
                                          <p:stCondLst>
                                            <p:cond delay="0"/>
                                          </p:stCondLst>
                                        </p:cTn>
                                        <p:tgtEl>
                                          <p:spTgt spid="70">
                                            <p:txEl>
                                              <p:pRg st="4" end="4"/>
                                            </p:txEl>
                                          </p:spTgt>
                                        </p:tgtEl>
                                        <p:attrNameLst>
                                          <p:attrName>style.visibility</p:attrName>
                                        </p:attrNameLst>
                                      </p:cBhvr>
                                      <p:to>
                                        <p:strVal val="visible"/>
                                      </p:to>
                                    </p:set>
                                    <p:animEffect filter="dissolve" transition="in">
                                      <p:cBhvr additive="repl">
                                        <p:cTn id="97" dur="500"/>
                                        <p:tgtEl>
                                          <p:spTgt spid="7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324000" y="188640"/>
            <a:ext cx="8229600" cy="6453000"/>
          </a:xfrm>
          <a:prstGeom prst="rect">
            <a:avLst/>
          </a:prstGeom>
          <a:noFill/>
          <a:ln w="0">
            <a:noFill/>
          </a:ln>
        </p:spPr>
        <p:txBody>
          <a:bodyPr anchor="t">
            <a:normAutofit fontScale="92000"/>
          </a:bodyPr>
          <a:p>
            <a:pPr marL="315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53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5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99"/>
                </a:solidFill>
                <a:latin typeface="Adobe Caslon Pro"/>
              </a:rPr>
              <a:t>      </a:t>
            </a:r>
            <a:r>
              <a:rPr b="0" lang="ru-RU" sz="1800" spc="-1" strike="noStrike" u="sng">
                <a:solidFill>
                  <a:srgbClr val="333399"/>
                </a:solidFill>
                <a:uFillTx/>
                <a:latin typeface="Adobe Caslon Pro"/>
              </a:rPr>
              <a:t>Некоторые аспекты влияния глобализации на национальную экономику заслуживают особого упоминания:</a:t>
            </a:r>
            <a:endParaRPr b="0" lang="en-US" sz="1800" spc="-1" strike="noStrike">
              <a:solidFill>
                <a:srgbClr val="000000"/>
              </a:solidFill>
              <a:latin typeface="Arial"/>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dobe Caslon Pro"/>
              </a:rPr>
              <a:t>      </a:t>
            </a:r>
            <a:r>
              <a:rPr b="0" lang="ru-RU" sz="1600" spc="-1" strike="noStrike">
                <a:solidFill>
                  <a:srgbClr val="ffffff"/>
                </a:solidFill>
                <a:latin typeface="Adobe Caslon Pro"/>
              </a:rPr>
              <a:t>Прежде всего отметим чрезвычайно высокие темпы роста прямых иностранных инвестиций, намного превосходящие темпы роста мировой торговли. Эти капиталовложения играют ключевую роль в трансферте технологий, промышленной реструктуризации, образовании глобальных предприятий, что оказывает непосредственное воздействие на национальную экономику.</a:t>
            </a:r>
            <a:endParaRPr b="0" lang="en-US" sz="1600" spc="-1" strike="noStrike">
              <a:solidFill>
                <a:srgbClr val="000000"/>
              </a:solidFill>
              <a:latin typeface="Arial"/>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dobe Caslon Pro"/>
              </a:rPr>
              <a:t>      </a:t>
            </a:r>
            <a:r>
              <a:rPr b="0" lang="ru-RU" sz="1600" spc="-1" strike="noStrike">
                <a:solidFill>
                  <a:srgbClr val="ffffff"/>
                </a:solidFill>
                <a:latin typeface="Adobe Caslon Pro"/>
              </a:rPr>
              <a:t>Второй аспект касается влияния на технологические инновации. Новые технологии, как уже отмечалось, являются одной из движущих сил глобализации, но она, в свою очередь усиливая конкуренцию, стимулирует их дальнейшее развитие и распространение среди стран.</a:t>
            </a:r>
            <a:endParaRPr b="0" lang="en-US" sz="1600" spc="-1" strike="noStrike">
              <a:solidFill>
                <a:srgbClr val="000000"/>
              </a:solidFill>
              <a:latin typeface="Arial"/>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dobe Caslon Pro"/>
              </a:rPr>
              <a:t>      </a:t>
            </a:r>
            <a:r>
              <a:rPr b="0" lang="ru-RU" sz="1600" spc="-1" strike="noStrike">
                <a:solidFill>
                  <a:srgbClr val="ffffff"/>
                </a:solidFill>
                <a:latin typeface="Adobe Caslon Pro"/>
              </a:rPr>
              <a:t>Наконец, в результате глобализации происходит рост торговли услугами, включая финансовые, юридические, управленческие, информационные и все виды «невидимых» услуг, которые превращаются в основной фактор международных торговых отношений. Если в 1970 г. с экспортом услуг было связано менее 1/3 прямых иностранных инвестиций, то в настоящее время эта доля возросла до 50%, причем интеллектуальный капитал стал наиболее важным товаром на мировом рынке.</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dobe Caslon Pro"/>
              </a:rPr>
              <a:t>Результатом углубления интернационализационного процесса являются взаимозависимости и взаимодействия национальных экономик. Это можно воспринимать и интерпретировать как интеграцию государств в структуру, близкую к единой интернациональной экономической системе. Хотя основная часть глобального продукта потребляется в странах-производителях, национальное развитие все более увязывается с глобальными структурами и становится более многосторонним и разноплановым, чем это было в прошлом.</a:t>
            </a:r>
            <a:endParaRPr b="0" lang="en-US" sz="1600" spc="-1" strike="noStrike">
              <a:solidFill>
                <a:srgbClr val="000000"/>
              </a:solidFill>
              <a:latin typeface="Arial"/>
            </a:endParaRPr>
          </a:p>
        </p:txBody>
      </p:sp>
      <p:sp>
        <p:nvSpPr>
          <p:cNvPr id="7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42">
                                  <p:stCondLst>
                                    <p:cond delay="0"/>
                                  </p:stCondLst>
                                  <p:childTnLst>
                                    <p:set>
                                      <p:cBhvr>
                                        <p:cTn id="103" dur="1" fill="hold">
                                          <p:stCondLst>
                                            <p:cond delay="0"/>
                                          </p:stCondLst>
                                        </p:cTn>
                                        <p:tgtEl>
                                          <p:spTgt spid="72">
                                            <p:txEl>
                                              <p:pRg st="2" end="2"/>
                                            </p:txEl>
                                          </p:spTgt>
                                        </p:tgtEl>
                                        <p:attrNameLst>
                                          <p:attrName>style.visibility</p:attrName>
                                        </p:attrNameLst>
                                      </p:cBhvr>
                                      <p:to>
                                        <p:strVal val="visible"/>
                                      </p:to>
                                    </p:set>
                                    <p:animEffect filter="fade" transition="in">
                                      <p:cBhvr additive="repl">
                                        <p:cTn id="104" dur="1000"/>
                                        <p:tgtEl>
                                          <p:spTgt spid="72">
                                            <p:txEl>
                                              <p:pRg st="2" end="2"/>
                                            </p:txEl>
                                          </p:spTgt>
                                        </p:tgtEl>
                                      </p:cBhvr>
                                    </p:animEffect>
                                    <p:anim calcmode="lin" valueType="num">
                                      <p:cBhvr additive="repl">
                                        <p:cTn id="105" dur="1000" fill="hold"/>
                                        <p:tgtEl>
                                          <p:spTgt spid="72">
                                            <p:txEl>
                                              <p:pRg st="2" end="2"/>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7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42">
                                  <p:stCondLst>
                                    <p:cond delay="0"/>
                                  </p:stCondLst>
                                  <p:childTnLst>
                                    <p:set>
                                      <p:cBhvr>
                                        <p:cTn id="110" dur="1" fill="hold">
                                          <p:stCondLst>
                                            <p:cond delay="0"/>
                                          </p:stCondLst>
                                        </p:cTn>
                                        <p:tgtEl>
                                          <p:spTgt spid="72">
                                            <p:txEl>
                                              <p:pRg st="4" end="4"/>
                                            </p:txEl>
                                          </p:spTgt>
                                        </p:tgtEl>
                                        <p:attrNameLst>
                                          <p:attrName>style.visibility</p:attrName>
                                        </p:attrNameLst>
                                      </p:cBhvr>
                                      <p:to>
                                        <p:strVal val="visible"/>
                                      </p:to>
                                    </p:set>
                                    <p:animEffect filter="fade" transition="in">
                                      <p:cBhvr additive="repl">
                                        <p:cTn id="111" dur="1000"/>
                                        <p:tgtEl>
                                          <p:spTgt spid="72">
                                            <p:txEl>
                                              <p:pRg st="4" end="4"/>
                                            </p:txEl>
                                          </p:spTgt>
                                        </p:tgtEl>
                                      </p:cBhvr>
                                    </p:animEffect>
                                    <p:anim calcmode="lin" valueType="num">
                                      <p:cBhvr additive="repl">
                                        <p:cTn id="112" dur="1000" fill="hold"/>
                                        <p:tgtEl>
                                          <p:spTgt spid="72">
                                            <p:txEl>
                                              <p:pRg st="4" end="4"/>
                                            </p:txEl>
                                          </p:spTgt>
                                        </p:tgtEl>
                                        <p:attrNameLst>
                                          <p:attrName>ppt_x</p:attrName>
                                        </p:attrNameLst>
                                      </p:cBhvr>
                                      <p:tavLst>
                                        <p:tav tm="0">
                                          <p:val>
                                            <p:strVal val="#ppt_x"/>
                                          </p:val>
                                        </p:tav>
                                        <p:tav tm="100000">
                                          <p:val>
                                            <p:strVal val="#ppt_x"/>
                                          </p:val>
                                        </p:tav>
                                      </p:tavLst>
                                    </p:anim>
                                    <p:anim calcmode="lin" valueType="num">
                                      <p:cBhvr additive="repl">
                                        <p:cTn id="113" dur="1000" fill="hold"/>
                                        <p:tgtEl>
                                          <p:spTgt spid="7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42">
                                  <p:stCondLst>
                                    <p:cond delay="0"/>
                                  </p:stCondLst>
                                  <p:childTnLst>
                                    <p:set>
                                      <p:cBhvr>
                                        <p:cTn id="117" dur="1" fill="hold">
                                          <p:stCondLst>
                                            <p:cond delay="0"/>
                                          </p:stCondLst>
                                        </p:cTn>
                                        <p:tgtEl>
                                          <p:spTgt spid="72">
                                            <p:txEl>
                                              <p:pRg st="6" end="6"/>
                                            </p:txEl>
                                          </p:spTgt>
                                        </p:tgtEl>
                                        <p:attrNameLst>
                                          <p:attrName>style.visibility</p:attrName>
                                        </p:attrNameLst>
                                      </p:cBhvr>
                                      <p:to>
                                        <p:strVal val="visible"/>
                                      </p:to>
                                    </p:set>
                                    <p:animEffect filter="fade" transition="in">
                                      <p:cBhvr additive="repl">
                                        <p:cTn id="118" dur="1000"/>
                                        <p:tgtEl>
                                          <p:spTgt spid="72">
                                            <p:txEl>
                                              <p:pRg st="6" end="6"/>
                                            </p:txEl>
                                          </p:spTgt>
                                        </p:tgtEl>
                                      </p:cBhvr>
                                    </p:animEffect>
                                    <p:anim calcmode="lin" valueType="num">
                                      <p:cBhvr additive="repl">
                                        <p:cTn id="119" dur="1000" fill="hold"/>
                                        <p:tgtEl>
                                          <p:spTgt spid="72">
                                            <p:txEl>
                                              <p:pRg st="6" end="6"/>
                                            </p:txEl>
                                          </p:spTgt>
                                        </p:tgtEl>
                                        <p:attrNameLst>
                                          <p:attrName>ppt_x</p:attrName>
                                        </p:attrNameLst>
                                      </p:cBhvr>
                                      <p:tavLst>
                                        <p:tav tm="0">
                                          <p:val>
                                            <p:strVal val="#ppt_x"/>
                                          </p:val>
                                        </p:tav>
                                        <p:tav tm="100000">
                                          <p:val>
                                            <p:strVal val="#ppt_x"/>
                                          </p:val>
                                        </p:tav>
                                      </p:tavLst>
                                    </p:anim>
                                    <p:anim calcmode="lin" valueType="num">
                                      <p:cBhvr additive="repl">
                                        <p:cTn id="120" dur="1000" fill="hold"/>
                                        <p:tgtEl>
                                          <p:spTgt spid="72">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42">
                                  <p:stCondLst>
                                    <p:cond delay="0"/>
                                  </p:stCondLst>
                                  <p:childTnLst>
                                    <p:set>
                                      <p:cBhvr>
                                        <p:cTn id="124" dur="1" fill="hold">
                                          <p:stCondLst>
                                            <p:cond delay="0"/>
                                          </p:stCondLst>
                                        </p:cTn>
                                        <p:tgtEl>
                                          <p:spTgt spid="72">
                                            <p:txEl>
                                              <p:pRg st="8" end="8"/>
                                            </p:txEl>
                                          </p:spTgt>
                                        </p:tgtEl>
                                        <p:attrNameLst>
                                          <p:attrName>style.visibility</p:attrName>
                                        </p:attrNameLst>
                                      </p:cBhvr>
                                      <p:to>
                                        <p:strVal val="visible"/>
                                      </p:to>
                                    </p:set>
                                    <p:animEffect filter="fade" transition="in">
                                      <p:cBhvr additive="repl">
                                        <p:cTn id="125" dur="1000"/>
                                        <p:tgtEl>
                                          <p:spTgt spid="72">
                                            <p:txEl>
                                              <p:pRg st="8" end="8"/>
                                            </p:txEl>
                                          </p:spTgt>
                                        </p:tgtEl>
                                      </p:cBhvr>
                                    </p:animEffect>
                                    <p:anim calcmode="lin" valueType="num">
                                      <p:cBhvr additive="repl">
                                        <p:cTn id="126" dur="1000" fill="hold"/>
                                        <p:tgtEl>
                                          <p:spTgt spid="72">
                                            <p:txEl>
                                              <p:pRg st="8" end="8"/>
                                            </p:txEl>
                                          </p:spTgt>
                                        </p:tgtEl>
                                        <p:attrNameLst>
                                          <p:attrName>ppt_x</p:attrName>
                                        </p:attrNameLst>
                                      </p:cBhvr>
                                      <p:tavLst>
                                        <p:tav tm="0">
                                          <p:val>
                                            <p:strVal val="#ppt_x"/>
                                          </p:val>
                                        </p:tav>
                                        <p:tav tm="100000">
                                          <p:val>
                                            <p:strVal val="#ppt_x"/>
                                          </p:val>
                                        </p:tav>
                                      </p:tavLst>
                                    </p:anim>
                                    <p:anim calcmode="lin" valueType="num">
                                      <p:cBhvr additive="repl">
                                        <p:cTn id="127" dur="1000" fill="hold"/>
                                        <p:tgtEl>
                                          <p:spTgt spid="72">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42">
                                  <p:stCondLst>
                                    <p:cond delay="0"/>
                                  </p:stCondLst>
                                  <p:childTnLst>
                                    <p:set>
                                      <p:cBhvr>
                                        <p:cTn id="131" dur="1" fill="hold">
                                          <p:stCondLst>
                                            <p:cond delay="0"/>
                                          </p:stCondLst>
                                        </p:cTn>
                                        <p:tgtEl>
                                          <p:spTgt spid="72">
                                            <p:txEl>
                                              <p:pRg st="10" end="10"/>
                                            </p:txEl>
                                          </p:spTgt>
                                        </p:tgtEl>
                                        <p:attrNameLst>
                                          <p:attrName>style.visibility</p:attrName>
                                        </p:attrNameLst>
                                      </p:cBhvr>
                                      <p:to>
                                        <p:strVal val="visible"/>
                                      </p:to>
                                    </p:set>
                                    <p:animEffect filter="fade" transition="in">
                                      <p:cBhvr additive="repl">
                                        <p:cTn id="132" dur="1000"/>
                                        <p:tgtEl>
                                          <p:spTgt spid="72">
                                            <p:txEl>
                                              <p:pRg st="10" end="10"/>
                                            </p:txEl>
                                          </p:spTgt>
                                        </p:tgtEl>
                                      </p:cBhvr>
                                    </p:animEffect>
                                    <p:anim calcmode="lin" valueType="num">
                                      <p:cBhvr additive="repl">
                                        <p:cTn id="133" dur="1000" fill="hold"/>
                                        <p:tgtEl>
                                          <p:spTgt spid="72">
                                            <p:txEl>
                                              <p:pRg st="10" end="10"/>
                                            </p:txEl>
                                          </p:spTgt>
                                        </p:tgtEl>
                                        <p:attrNameLst>
                                          <p:attrName>ppt_x</p:attrName>
                                        </p:attrNameLst>
                                      </p:cBhvr>
                                      <p:tavLst>
                                        <p:tav tm="0">
                                          <p:val>
                                            <p:strVal val="#ppt_x"/>
                                          </p:val>
                                        </p:tav>
                                        <p:tav tm="100000">
                                          <p:val>
                                            <p:strVal val="#ppt_x"/>
                                          </p:val>
                                        </p:tav>
                                      </p:tavLst>
                                    </p:anim>
                                    <p:anim calcmode="lin" valueType="num">
                                      <p:cBhvr additive="repl">
                                        <p:cTn id="134" dur="1000" fill="hold"/>
                                        <p:tgtEl>
                                          <p:spTgt spid="72">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468360" y="333360"/>
            <a:ext cx="8229600" cy="71280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dobe Caslon Pro"/>
              </a:rPr>
              <a:t>     </a:t>
            </a:r>
            <a:r>
              <a:rPr b="0" lang="ru-RU" sz="2000" spc="-1" strike="noStrike">
                <a:solidFill>
                  <a:srgbClr val="ffffff"/>
                </a:solidFill>
                <a:latin typeface="Adobe Caslon Pro"/>
              </a:rPr>
              <a:t>Процесс глобализации протекает в условиях сильно поляризованной мировой системы в плане экономической мощи и возможностей. Такое положение является потенциальным источником рисков, проблем и конфликтов. Несколько ведущих стран контролируют значительную часть производства и потребления, даже не прибегая к политическому или экономическому давлению. Их внутренние приоритеты и ценностные ориентиры накладывают отпечаток на все крупнейшие сферы интернационализации. Подавляющая часть (85-90%) всех ТНК базируется в развитых странах, но такие корпорации в последние годы стали создаваться и в развивающихся государствах. К концу 1990-х гг. насчитывалось около 4,2 тыс. латиноамериканских и восточноазиатских ТНК и несколько сотен ТНК в европейских странах переходной экономики. Среди пятидесяти самых крупных ТНК развивающихся стран восемь принадлежат Южной Корее, столько же — Китаю, семь — Мексике, шесть — Бразилии, по четыре — Тайваню, Гонконгу и Сингапуру, три — Малайзии и по одной Таиланду, Филиппинам и Чили. Молодые транснациональные корпорации этих стран, такие, как южнокорейские «Дэу» и «Самсунг», китайская «Чайна кемиклс», тайваньская «Та-тунг», мексиканская «Кемекс», бразильская «Петролео бразильеро» и другие, энергично борются за место на мировом рынке.</a:t>
            </a:r>
            <a:endParaRPr b="0" lang="en-US" sz="2000" spc="-1" strike="noStrike">
              <a:solidFill>
                <a:srgbClr val="000000"/>
              </a:solidFill>
              <a:latin typeface="Arial"/>
            </a:endParaRPr>
          </a:p>
        </p:txBody>
      </p:sp>
      <p:sp>
        <p:nvSpPr>
          <p:cNvPr id="7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0">
                                  <p:stCondLst>
                                    <p:cond delay="0"/>
                                  </p:stCondLst>
                                  <p:childTnLst>
                                    <p:set>
                                      <p:cBhvr>
                                        <p:cTn id="140" dur="1" fill="hold">
                                          <p:stCondLst>
                                            <p:cond delay="0"/>
                                          </p:stCondLst>
                                        </p:cTn>
                                        <p:tgtEl>
                                          <p:spTgt spid="74">
                                            <p:txEl>
                                              <p:pRg st="0" end="0"/>
                                            </p:txEl>
                                          </p:spTgt>
                                        </p:tgtEl>
                                        <p:attrNameLst>
                                          <p:attrName>style.visibility</p:attrName>
                                        </p:attrNameLst>
                                      </p:cBhvr>
                                      <p:to>
                                        <p:strVal val="visible"/>
                                      </p:to>
                                    </p:set>
                                    <p:animEffect filter="fade" transition="in">
                                      <p:cBhvr additive="repl">
                                        <p:cTn id="141" dur="1000">
                                          <p:stCondLst>
                                            <p:cond delay="0"/>
                                          </p:stCondLst>
                                        </p:cTn>
                                        <p:tgtEl>
                                          <p:spTgt spid="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p:nvPr>
        </p:nvSpPr>
        <p:spPr>
          <a:xfrm>
            <a:off x="395280" y="333000"/>
            <a:ext cx="8229600" cy="5721480"/>
          </a:xfrm>
          <a:prstGeom prst="rect">
            <a:avLst/>
          </a:prstGeom>
          <a:noFill/>
          <a:ln w="0">
            <a:noFill/>
          </a:ln>
        </p:spPr>
        <p:txBody>
          <a:bodyPr anchor="t">
            <a:normAutofit fontScale="96000"/>
          </a:bodyPr>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ffffff"/>
                </a:solidFill>
                <a:latin typeface="Adobe Caslon Pro"/>
              </a:rPr>
              <a:t>Национальным государствам приходится все больше считаться с ТНК как с могущественными партнерами, а порой и соперниками в борьбе за влияние на национальную экономику. Правилом стали соглашения между ТНК и национальными правительствами об условиях такого сотрудничества.</a:t>
            </a:r>
            <a:endParaRPr b="0" lang="en-US" sz="2400" spc="-1" strike="noStrike">
              <a:solidFill>
                <a:srgbClr val="000000"/>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dobe Caslon Pro"/>
              </a:rPr>
              <a:t>    </a:t>
            </a:r>
            <a:r>
              <a:rPr b="0" lang="ru-RU" sz="2400" spc="-1" strike="noStrike">
                <a:solidFill>
                  <a:srgbClr val="ffffff"/>
                </a:solidFill>
                <a:latin typeface="Adobe Caslon Pro"/>
              </a:rPr>
              <a:t>Более широкие перспективы открылись и перед неправительственными организациями, вышедшими, как и в случае с глобальными фирмами, на многонациональный или мировой уровень. Новую глобальную роль стали играть даже такие международные организации, как ООН, МВФ, Всемирный банк, ВТО. Таким образом, многонациональные предприятия и другие организации, как частные, так и государственные, превратились в основных действующих лиц глобальной экономики.</a:t>
            </a:r>
            <a:endParaRPr b="0" lang="en-US" sz="2400" spc="-1" strike="noStrike">
              <a:solidFill>
                <a:srgbClr val="000000"/>
              </a:solidFill>
              <a:latin typeface="Arial"/>
            </a:endParaRPr>
          </a:p>
        </p:txBody>
      </p:sp>
      <p:sp>
        <p:nvSpPr>
          <p:cNvPr id="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10">
                                  <p:stCondLst>
                                    <p:cond delay="0"/>
                                  </p:stCondLst>
                                  <p:childTnLst>
                                    <p:set>
                                      <p:cBhvr>
                                        <p:cTn id="147" dur="1" fill="hold">
                                          <p:stCondLst>
                                            <p:cond delay="0"/>
                                          </p:stCondLst>
                                        </p:cTn>
                                        <p:tgtEl>
                                          <p:spTgt spid="76">
                                            <p:txEl>
                                              <p:pRg st="0" end="0"/>
                                            </p:txEl>
                                          </p:spTgt>
                                        </p:tgtEl>
                                        <p:attrNameLst>
                                          <p:attrName>style.visibility</p:attrName>
                                        </p:attrNameLst>
                                      </p:cBhvr>
                                      <p:to>
                                        <p:strVal val="visible"/>
                                      </p:to>
                                    </p:set>
                                    <p:animEffect filter="fade" transition="in">
                                      <p:cBhvr additive="repl">
                                        <p:cTn id="148" dur="2000"/>
                                        <p:tgtEl>
                                          <p:spTgt spid="76">
                                            <p:txEl>
                                              <p:pRg st="0" end="0"/>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0">
                                  <p:stCondLst>
                                    <p:cond delay="0"/>
                                  </p:stCondLst>
                                  <p:childTnLst>
                                    <p:set>
                                      <p:cBhvr>
                                        <p:cTn id="152" dur="1" fill="hold">
                                          <p:stCondLst>
                                            <p:cond delay="0"/>
                                          </p:stCondLst>
                                        </p:cTn>
                                        <p:tgtEl>
                                          <p:spTgt spid="76">
                                            <p:txEl>
                                              <p:pRg st="2" end="2"/>
                                            </p:txEl>
                                          </p:spTgt>
                                        </p:tgtEl>
                                        <p:attrNameLst>
                                          <p:attrName>style.visibility</p:attrName>
                                        </p:attrNameLst>
                                      </p:cBhvr>
                                      <p:to>
                                        <p:strVal val="visible"/>
                                      </p:to>
                                    </p:set>
                                    <p:animEffect filter="fade" transition="in">
                                      <p:cBhvr additive="repl">
                                        <p:cTn id="153" dur="2000"/>
                                        <p:tgtEl>
                                          <p:spTgt spid="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395280" y="333000"/>
            <a:ext cx="8229600" cy="6769080"/>
          </a:xfrm>
          <a:prstGeom prst="rect">
            <a:avLst/>
          </a:prstGeom>
          <a:noFill/>
          <a:ln w="0">
            <a:noFill/>
          </a:ln>
        </p:spPr>
        <p:txBody>
          <a:bodyPr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ffffff"/>
                </a:solidFill>
                <a:latin typeface="Adobe Caslon Pro"/>
              </a:rPr>
              <a:t>Пятый источник кроется в особенностях культурного развития. Речь идет о тенденции формирования глобализованных однородных средств массовой информации, искусства, попкультуры, повсеместного использования английского языка в качестве всеобщего средства общения.</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dobe Caslon Pro"/>
              </a:rPr>
              <a:t>     </a:t>
            </a:r>
            <a:r>
              <a:rPr b="0" lang="ru-RU" sz="2000" spc="-1" strike="noStrike">
                <a:solidFill>
                  <a:srgbClr val="ffffff"/>
                </a:solidFill>
                <a:latin typeface="Adobe Caslon Pro"/>
              </a:rPr>
              <a:t>Стоит сказать еще об одной важнейшей особенности глобализации мировой экономики — это бурное развитие финансовых рынков в последние годы XX в. Новая роль финансовых рынков (валютных, фондовых, кредитных) за последние годы резко изменила архитектуру мировой экономики. Еще несколько десятков лет назад основной целью финансовых рынков было обеспечение функционирования реального сектора экономики. В последние годы мировой финансовый рынок стал проявлять самодостаточность. В результате сегодня мы видим рост объема этого рынка в разы, что стало результатом широкого спектра спекулятивных операций, вызванных либерализацией экономических отношений. Одним словом, процесс получения денег из денег значительно упростился благодаря исключению из него собственно самого производства какого-либо товара или услуг. Производство заменили спекулятивные операции с различными производными финансовыми инструментами, такими, как фьючерсы и опционы, а также игра на разнице курсов мировых валют.</a:t>
            </a:r>
            <a:endParaRPr b="0" lang="en-US" sz="2000" spc="-1" strike="noStrike">
              <a:solidFill>
                <a:srgbClr val="000000"/>
              </a:solidFill>
              <a:latin typeface="Arial"/>
            </a:endParaRPr>
          </a:p>
        </p:txBody>
      </p:sp>
      <p:sp>
        <p:nvSpPr>
          <p:cNvPr id="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78">
                                            <p:txEl>
                                              <p:pRg st="0" end="0"/>
                                            </p:txEl>
                                          </p:spTgt>
                                        </p:tgtEl>
                                        <p:attrNameLst>
                                          <p:attrName>style.visibility</p:attrName>
                                        </p:attrNameLst>
                                      </p:cBhvr>
                                      <p:to>
                                        <p:strVal val="visible"/>
                                      </p:to>
                                    </p:set>
                                    <p:animEffect filter="wipe(left)" transition="in">
                                      <p:cBhvr additive="repl">
                                        <p:cTn id="160" dur="500"/>
                                        <p:tgtEl>
                                          <p:spTgt spid="78">
                                            <p:txEl>
                                              <p:pRg st="0" end="0"/>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78">
                                            <p:txEl>
                                              <p:pRg st="2" end="2"/>
                                            </p:txEl>
                                          </p:spTgt>
                                        </p:tgtEl>
                                        <p:attrNameLst>
                                          <p:attrName>style.visibility</p:attrName>
                                        </p:attrNameLst>
                                      </p:cBhvr>
                                      <p:to>
                                        <p:strVal val="visible"/>
                                      </p:to>
                                    </p:set>
                                    <p:animEffect filter="wipe(left)" transition="in">
                                      <p:cBhvr additive="repl">
                                        <p:cTn id="165" dur="500"/>
                                        <p:tgtEl>
                                          <p:spTgt spid="7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457200" y="404640"/>
            <a:ext cx="8229600" cy="70567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ffffff"/>
                </a:solidFill>
                <a:latin typeface="Adobe Caslon Pro"/>
              </a:rPr>
              <a:t>Это самый сложный и наиболее продвинутый в плане интернационализации процесс, являющийся результатом углубления финансовых связей стран, либерализации цен и инвестиционных потоков, создания глобальных транснациональных финансовых групп. По темпам прироста объем займов на международном рынке капитала в предшествующие 10-15 лет превысил на 60% объем внешней торговли и на 130% валовой мировой продукт. Увеличивается количество международных организаций-инвесторов. В глобализации финансов часто усматривают причину роста спекуляций и отвлечения со спекулятивными целями капитала от производства и создания новых рабочих мест.</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dobe Caslon Pro"/>
              </a:rPr>
              <a:t>     </a:t>
            </a:r>
            <a:r>
              <a:rPr b="0" lang="ru-RU" sz="2000" spc="-1" strike="noStrike">
                <a:solidFill>
                  <a:srgbClr val="ffffff"/>
                </a:solidFill>
                <a:latin typeface="Adobe Caslon Pro"/>
              </a:rPr>
              <a:t>Процесс финансовой глобализации сконцентрирован прежде всего в трех основных центрах мировой экономики: США, Западной Европе и Японии. Финансовая же спекуляция выходит далеко за границы этой триады. Глобальный оборот на рынке валют ежесуточно достигает 0,9-1,1 трлн. долларов. Приток спекулятивного капитала может не только превысить нужды той или иной страны, но и дестабилизировать ее положение. Быстрая глобализация финансов по-прежнему остается важнейшей причиной уязвимости мировой экономики. Интеграция финансовых рынков повышает риск системных сбоев.</a:t>
            </a:r>
            <a:endParaRPr b="0" lang="en-US" sz="2000" spc="-1" strike="noStrike">
              <a:solidFill>
                <a:srgbClr val="000000"/>
              </a:solidFill>
              <a:latin typeface="Arial"/>
            </a:endParaRPr>
          </a:p>
        </p:txBody>
      </p:sp>
      <p:sp>
        <p:nvSpPr>
          <p:cNvPr id="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80">
                                            <p:txEl>
                                              <p:pRg st="0" end="0"/>
                                            </p:txEl>
                                          </p:spTgt>
                                        </p:tgtEl>
                                        <p:attrNameLst>
                                          <p:attrName>style.visibility</p:attrName>
                                        </p:attrNameLst>
                                      </p:cBhvr>
                                      <p:to>
                                        <p:strVal val="visible"/>
                                      </p:to>
                                    </p:set>
                                    <p:animEffect filter="wipe(left)" transition="in">
                                      <p:cBhvr additive="repl">
                                        <p:cTn id="172" dur="500"/>
                                        <p:tgtEl>
                                          <p:spTgt spid="80">
                                            <p:txEl>
                                              <p:pRg st="0" end="0"/>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2" presetSubtype="8">
                                  <p:stCondLst>
                                    <p:cond delay="0"/>
                                  </p:stCondLst>
                                  <p:childTnLst>
                                    <p:set>
                                      <p:cBhvr>
                                        <p:cTn id="176" dur="1" fill="hold">
                                          <p:stCondLst>
                                            <p:cond delay="0"/>
                                          </p:stCondLst>
                                        </p:cTn>
                                        <p:tgtEl>
                                          <p:spTgt spid="80">
                                            <p:txEl>
                                              <p:pRg st="2" end="2"/>
                                            </p:txEl>
                                          </p:spTgt>
                                        </p:tgtEl>
                                        <p:attrNameLst>
                                          <p:attrName>style.visibility</p:attrName>
                                        </p:attrNameLst>
                                      </p:cBhvr>
                                      <p:to>
                                        <p:strVal val="visible"/>
                                      </p:to>
                                    </p:set>
                                    <p:animEffect filter="wipe(left)" transition="in">
                                      <p:cBhvr additive="repl">
                                        <p:cTn id="177" dur="500"/>
                                        <p:tgtEl>
                                          <p:spTgt spid="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3366"/>
                </a:solidFill>
                <a:uFillTx/>
                <a:latin typeface="Arial"/>
              </a:rPr>
              <a:t>Все вышеизложенное позволяет нам отметить ряд преимуществ от глобализационного процесса:</a:t>
            </a:r>
            <a:endParaRPr b="0" lang="en-US" sz="2400" spc="-1" strike="noStrike">
              <a:solidFill>
                <a:srgbClr val="000000"/>
              </a:solidFill>
              <a:latin typeface="Arial"/>
            </a:endParaRPr>
          </a:p>
        </p:txBody>
      </p:sp>
      <p:sp>
        <p:nvSpPr>
          <p:cNvPr id="83" name="PlaceHolder 2"/>
          <p:cNvSpPr>
            <a:spLocks noGrp="1"/>
          </p:cNvSpPr>
          <p:nvPr>
            <p:ph/>
          </p:nvPr>
        </p:nvSpPr>
        <p:spPr>
          <a:xfrm>
            <a:off x="468360" y="1628640"/>
            <a:ext cx="8300880" cy="4525920"/>
          </a:xfrm>
          <a:prstGeom prst="rect">
            <a:avLst/>
          </a:prstGeom>
          <a:noFill/>
          <a:ln w="0">
            <a:noFill/>
          </a:ln>
        </p:spPr>
        <p:txBody>
          <a:bodyPr anchor="t">
            <a:normAutofit/>
          </a:bodyPr>
          <a:p>
            <a:pPr marL="343080" indent="-343080">
              <a:lnSpc>
                <a:spcPct val="80000"/>
              </a:lnSpc>
              <a:spcBef>
                <a:spcPts val="400"/>
              </a:spcBef>
              <a:buClr>
                <a:srgbClr val="003366"/>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dobe Caslon Pro"/>
              </a:rPr>
              <a:t>глобализация вызвала обострение международной конкуренции. Конкуренция и расширение рынка ведут к углублению специализации и международного разделения труда, стимулирующих в свою очередь рост производства не только на национальном, но и на мировом уровне;</a:t>
            </a:r>
            <a:endParaRPr b="0" lang="en-US" sz="1600" spc="-1" strike="noStrike">
              <a:solidFill>
                <a:srgbClr val="000000"/>
              </a:solidFill>
              <a:latin typeface="Arial"/>
            </a:endParaRPr>
          </a:p>
          <a:p>
            <a:pPr marL="343080" indent="-343080">
              <a:lnSpc>
                <a:spcPct val="80000"/>
              </a:lnSpc>
              <a:spcBef>
                <a:spcPts val="400"/>
              </a:spcBef>
              <a:buClr>
                <a:srgbClr val="003366"/>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dobe Caslon Pro"/>
              </a:rPr>
              <a:t>еще одно преимущество глобализации — экономия на масштабах производства, что потенциально может привести к сокращению издержек и снижению цен, а следовательно, к устойчивому экономическому росту;</a:t>
            </a:r>
            <a:endParaRPr b="0" lang="en-US" sz="1600" spc="-1" strike="noStrike">
              <a:solidFill>
                <a:srgbClr val="000000"/>
              </a:solidFill>
              <a:latin typeface="Arial"/>
            </a:endParaRPr>
          </a:p>
          <a:p>
            <a:pPr marL="343080" indent="-343080">
              <a:lnSpc>
                <a:spcPct val="80000"/>
              </a:lnSpc>
              <a:spcBef>
                <a:spcPts val="400"/>
              </a:spcBef>
              <a:buClr>
                <a:srgbClr val="003366"/>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dobe Caslon Pro"/>
              </a:rPr>
              <a:t>преимущества глобализации связаны также с выигрышем от торговли на взаимовыгодной основе, удовлетворяющей все стороны, в качестве которых могут выступать отдельные лица, фирмы и другие организации, страны, торговые союзы и даже целые континенты;</a:t>
            </a:r>
            <a:endParaRPr b="0" lang="en-US" sz="1600" spc="-1" strike="noStrike">
              <a:solidFill>
                <a:srgbClr val="000000"/>
              </a:solidFill>
              <a:latin typeface="Arial"/>
            </a:endParaRPr>
          </a:p>
          <a:p>
            <a:pPr marL="343080" indent="-343080">
              <a:lnSpc>
                <a:spcPct val="80000"/>
              </a:lnSpc>
              <a:spcBef>
                <a:spcPts val="400"/>
              </a:spcBef>
              <a:buClr>
                <a:srgbClr val="003366"/>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dobe Caslon Pro"/>
              </a:rPr>
              <a:t>глобализация может привести к повышению производительности труда в результате рационализации производства на глобальном уровне и распространения передовой технологии, а также конкурентного давления в пользу непрерывного внедрения инноваций в мировом масштабе.</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dobe Caslon Pro"/>
              </a:rPr>
              <a:t>В целом преимущества глобализации позволяют улучшить свое положение всем партнерам, получающим возможность, увеличив производство, повысить уровень заработной платы и жизненные стандарты.</a:t>
            </a:r>
            <a:endParaRPr b="0" lang="en-US" sz="1600" spc="-1" strike="noStrike">
              <a:solidFill>
                <a:srgbClr val="000000"/>
              </a:solidFill>
              <a:latin typeface="Arial"/>
            </a:endParaRPr>
          </a:p>
        </p:txBody>
      </p:sp>
      <p:sp>
        <p:nvSpPr>
          <p:cNvPr id="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178" dur="indefinite" restart="never" nodeType="tmRoot">
          <p:childTnLst>
            <p:seq>
              <p:cTn id="179" dur="indefinite" nodeType="mainSeq">
                <p:childTnLst>
                  <p:par>
                    <p:cTn id="180" nodeType="clickEffect" fill="hold">
                      <p:stCondLst>
                        <p:cond delay="0"/>
                      </p:stCondLst>
                      <p:childTnLst>
                        <p:par>
                          <p:cTn id="181" nodeType="withEffect" fill="hold">
                            <p:stCondLst>
                              <p:cond delay="0"/>
                            </p:stCondLst>
                            <p:childTnLst>
                              <p:par>
                                <p:cTn id="182" nodeType="withEffect" fill="hold" presetClass="entr" presetID="10">
                                  <p:stCondLst>
                                    <p:cond delay="0"/>
                                  </p:stCondLst>
                                  <p:childTnLst>
                                    <p:set>
                                      <p:cBhvr>
                                        <p:cTn id="183" dur="1" fill="hold">
                                          <p:stCondLst>
                                            <p:cond delay="0"/>
                                          </p:stCondLst>
                                        </p:cTn>
                                        <p:tgtEl>
                                          <p:spTgt spid="82"/>
                                        </p:tgtEl>
                                        <p:attrNameLst>
                                          <p:attrName>style.visibility</p:attrName>
                                        </p:attrNameLst>
                                      </p:cBhvr>
                                      <p:to>
                                        <p:strVal val="visible"/>
                                      </p:to>
                                    </p:set>
                                    <p:animEffect filter="fade" transition="in">
                                      <p:cBhvr additive="repl">
                                        <p:cTn id="184" dur="500"/>
                                        <p:tgtEl>
                                          <p:spTgt spid="82"/>
                                        </p:tgtEl>
                                      </p:cBhvr>
                                    </p:animEffect>
                                  </p:childTnLst>
                                </p:cTn>
                              </p:par>
                              <p:par>
                                <p:cTn id="185" nodeType="withEffect" fill="hold" presetClass="entr" presetID="10">
                                  <p:stCondLst>
                                    <p:cond delay="0"/>
                                  </p:stCondLst>
                                  <p:childTnLst>
                                    <p:set>
                                      <p:cBhvr>
                                        <p:cTn id="186" dur="1" fill="hold">
                                          <p:stCondLst>
                                            <p:cond delay="0"/>
                                          </p:stCondLst>
                                        </p:cTn>
                                        <p:tgtEl>
                                          <p:spTgt spid="83"/>
                                        </p:tgtEl>
                                        <p:attrNameLst>
                                          <p:attrName>style.visibility</p:attrName>
                                        </p:attrNameLst>
                                      </p:cBhvr>
                                      <p:to>
                                        <p:strVal val="visible"/>
                                      </p:to>
                                    </p:set>
                                    <p:animEffect filter="fade" transition="in">
                                      <p:cBhvr additive="repl">
                                        <p:cTn id="187"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3366"/>
                </a:solidFill>
                <a:uFillTx/>
                <a:latin typeface="Arial"/>
              </a:rPr>
              <a:t>Глобализация несет с собой не только преимущества, она чревата негативными последствиями или потенциальными проблемами, в которых некоторые ее критики усматривают большую опасность.</a:t>
            </a:r>
            <a:endParaRPr b="0" lang="en-US" sz="2000" spc="-1" strike="noStrike">
              <a:solidFill>
                <a:srgbClr val="000000"/>
              </a:solidFill>
              <a:latin typeface="Arial"/>
            </a:endParaRPr>
          </a:p>
        </p:txBody>
      </p:sp>
      <p:sp>
        <p:nvSpPr>
          <p:cNvPr id="86" name="PlaceHolder 2"/>
          <p:cNvSpPr>
            <a:spLocks noGrp="1"/>
          </p:cNvSpPr>
          <p:nvPr>
            <p:ph/>
          </p:nvPr>
        </p:nvSpPr>
        <p:spPr>
          <a:xfrm>
            <a:off x="457200" y="1599840"/>
            <a:ext cx="8229600" cy="5645160"/>
          </a:xfrm>
          <a:prstGeom prst="rect">
            <a:avLst/>
          </a:prstGeom>
          <a:noFill/>
          <a:ln w="0">
            <a:noFill/>
          </a:ln>
        </p:spPr>
        <p:txBody>
          <a:bodyPr anchor="t">
            <a:normAutofit/>
          </a:bodyPr>
          <a:p>
            <a:pPr marL="343080" indent="-343080">
              <a:lnSpc>
                <a:spcPct val="80000"/>
              </a:lnSpc>
              <a:spcBef>
                <a:spcPts val="400"/>
              </a:spcBef>
              <a:buClr>
                <a:srgbClr val="003366"/>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dobe Caslon Pro"/>
              </a:rPr>
              <a:t>Первая угроза в связи с глобализацией вызвана тем, что ее преимущества, которые людям понятны, будут, однако, распределяться неравномерно. В краткосрочной перспективе, как известно, изменения в обрабатывающей промышленности, сфере услуг приводят к тому, что отрасли, получающие выгоды от внешней торговли, и отрасли, связанные с экспортом, испытывают больший приток капитала и квалифицированной рабочей силы. В то же время ряд отраслей значительно проигрывает от глобализационных процессов, теряя свои конкурентные преимущества из-за возросшей открытости рынка. Такие отрасли вынуждены прилагать дополнительные усилия, чтобы приспособиться к изменившимся не в их пользу хозяйственным условиям. Это означает возможность оттока капиталов и рабочей силы из этих отраслей, что послужит главной причиной для принятия адаптационных мер, сопряженных с очень большими затратами. Адаптационные меры чреваты для людей потерей работы, необходимостью поиска другого рабочего места, переквалификации, что приводит не только к семейным проблемам, но и требует крупных социальных расходов, причем в короткие сроки. В конечном итоге произойдет перераспределение рабочей силы, но поначалу социальные издержки будут очень велики. Это относится не только к отраслям, которые в Европе были существенно трансформированы в последние тридцать лет. Следует признать, что подобные перемены таят в себе серьезную угрозу сложившейся хозяйственной структуре, и правительства должны взять на себя тяжелое бремя социальных расходов, связанных с выплатой компенсаций, переподготовкой, выплатой пособий по безработице, оказанием поддержки малообеспеченным семьям.</a:t>
            </a:r>
            <a:endParaRPr b="0" lang="en-US" sz="1600" spc="-1" strike="noStrike">
              <a:solidFill>
                <a:srgbClr val="000000"/>
              </a:solidFill>
              <a:latin typeface="Arial"/>
            </a:endParaRPr>
          </a:p>
        </p:txBody>
      </p:sp>
      <p:sp>
        <p:nvSpPr>
          <p:cNvPr id="8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188" dur="indefinite" restart="never" nodeType="tmRoot">
          <p:childTnLst>
            <p:seq>
              <p:cTn id="189" dur="indefinite" nodeType="mainSeq">
                <p:childTnLst>
                  <p:par>
                    <p:cTn id="190" nodeType="clickEffect" fill="hold">
                      <p:stCondLst>
                        <p:cond delay="0"/>
                      </p:stCondLst>
                      <p:childTnLst>
                        <p:par>
                          <p:cTn id="191" nodeType="withEffect" fill="hold">
                            <p:stCondLst>
                              <p:cond delay="0"/>
                            </p:stCondLst>
                            <p:childTnLst>
                              <p:par>
                                <p:cTn id="192" nodeType="withEffect" fill="hold" presetClass="entr" presetID="10">
                                  <p:stCondLst>
                                    <p:cond delay="0"/>
                                  </p:stCondLst>
                                  <p:childTnLst>
                                    <p:set>
                                      <p:cBhvr>
                                        <p:cTn id="193" dur="1" fill="hold">
                                          <p:stCondLst>
                                            <p:cond delay="0"/>
                                          </p:stCondLst>
                                        </p:cTn>
                                        <p:tgtEl>
                                          <p:spTgt spid="85"/>
                                        </p:tgtEl>
                                        <p:attrNameLst>
                                          <p:attrName>style.visibility</p:attrName>
                                        </p:attrNameLst>
                                      </p:cBhvr>
                                      <p:to>
                                        <p:strVal val="visible"/>
                                      </p:to>
                                    </p:set>
                                    <p:animEffect filter="fade" transition="in">
                                      <p:cBhvr additive="repl">
                                        <p:cTn id="194" dur="500"/>
                                        <p:tgtEl>
                                          <p:spTgt spid="85"/>
                                        </p:tgtEl>
                                      </p:cBhvr>
                                    </p:animEffect>
                                  </p:childTnLst>
                                </p:cTn>
                              </p:par>
                              <p:par>
                                <p:cTn id="195" nodeType="withEffect" fill="hold" presetClass="entr" presetID="10">
                                  <p:stCondLst>
                                    <p:cond delay="0"/>
                                  </p:stCondLst>
                                  <p:childTnLst>
                                    <p:set>
                                      <p:cBhvr>
                                        <p:cTn id="196" dur="1" fill="hold">
                                          <p:stCondLst>
                                            <p:cond delay="0"/>
                                          </p:stCondLst>
                                        </p:cTn>
                                        <p:tgtEl>
                                          <p:spTgt spid="86"/>
                                        </p:tgtEl>
                                        <p:attrNameLst>
                                          <p:attrName>style.visibility</p:attrName>
                                        </p:attrNameLst>
                                      </p:cBhvr>
                                      <p:to>
                                        <p:strVal val="visible"/>
                                      </p:to>
                                    </p:set>
                                    <p:animEffect filter="fade" transition="in">
                                      <p:cBhvr additive="repl">
                                        <p:cTn id="197"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333360"/>
            <a:ext cx="8229600" cy="7416720"/>
          </a:xfrm>
          <a:prstGeom prst="rect">
            <a:avLst/>
          </a:prstGeom>
          <a:noFill/>
          <a:ln w="0">
            <a:noFill/>
          </a:ln>
        </p:spPr>
        <p:txBody>
          <a:bodyPr anchor="t">
            <a:normAutofit/>
          </a:bodyPr>
          <a:p>
            <a:pPr marL="343080" indent="-343080">
              <a:lnSpc>
                <a:spcPct val="80000"/>
              </a:lnSpc>
              <a:spcBef>
                <a:spcPts val="400"/>
              </a:spcBef>
              <a:buClr>
                <a:srgbClr val="003366"/>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dobe Caslon Pro"/>
              </a:rPr>
              <a:t>Второй угрозой многие считают деиндустриализацию экономики, поскольку глобальная открытость ассоциируется со снижением занятости в обрабатывающих отраслях как в Европе, так и в США. На самом деле, однако, этот процесс не является следствием глобализации, хотя и протекает параллельно с ним. Деиндустриализация — нормальное явление, порождаемое технологическим прогрессом и экономическим развитием. Действительно, доля обрабатывающих отраслей в экономике промышленно развитых стран резко снижается, но это снижение балансируется быстрым ростом удельного веса сферы услуг, включая финансовый сектор.</a:t>
            </a:r>
            <a:endParaRPr b="0" lang="en-US" sz="1600" spc="-1" strike="noStrike">
              <a:solidFill>
                <a:srgbClr val="000000"/>
              </a:solidFill>
              <a:latin typeface="Arial"/>
            </a:endParaRPr>
          </a:p>
          <a:p>
            <a:pPr marL="343080" indent="-343080">
              <a:lnSpc>
                <a:spcPct val="80000"/>
              </a:lnSpc>
              <a:spcBef>
                <a:spcPts val="400"/>
              </a:spcBef>
              <a:buClr>
                <a:srgbClr val="003366"/>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dobe Caslon Pro"/>
              </a:rPr>
              <a:t>Следующая угроза, которую таит в себе глобализация, связывается с заметным увеличением разрыва в уровнях заработной платы квалифицированных и менее квалифицированных работников, а также с ростом безработицы среди последних. Сегодня, однако, это отнюдь не обязательно является следствием интенсификации международной торговли. Более важно то обстоятельство, что повышается спрос на квалифицированные кадры в отраслях и на предприятиях. Это вызвано тем, что конкуренция со стороны трудоемких товаров, выпущенных в странах с низким уровнем заработной платы и невысокой квалификацией работников, влечет за собой снижение цен на аналогичную продукцию европейских фирм и сокращение их прибылей. В подобных условиях европейские компании прекращают выпуск убыточной продукции и переходят к производству товаров, требующих использования высококвалифицированного персонала. В результате рабочие с более низкой квалификацией остаются невостребованными, их доходы падают.</a:t>
            </a:r>
            <a:endParaRPr b="0" lang="en-US" sz="1600" spc="-1" strike="noStrike">
              <a:solidFill>
                <a:srgbClr val="000000"/>
              </a:solidFill>
              <a:latin typeface="Arial"/>
            </a:endParaRPr>
          </a:p>
          <a:p>
            <a:pPr marL="343080" indent="-343080">
              <a:lnSpc>
                <a:spcPct val="80000"/>
              </a:lnSpc>
              <a:spcBef>
                <a:spcPts val="400"/>
              </a:spcBef>
              <a:buClr>
                <a:srgbClr val="003366"/>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dobe Caslon Pro"/>
              </a:rPr>
              <a:t>В качестве четвертой угрозы отмечают перевод фирмами стран с высокой стоимостью рабочей силы части своих производственных мощностей в страны с низкой оплатой труда. Экспорт рабочих мест может оказаться нежелательным для экономики ряда государств. Однако подобная угроза не слишком опасна.</a:t>
            </a:r>
            <a:endParaRPr b="0" lang="en-US" sz="1600" spc="-1" strike="noStrike">
              <a:solidFill>
                <a:srgbClr val="000000"/>
              </a:solidFill>
              <a:latin typeface="Arial"/>
            </a:endParaRPr>
          </a:p>
        </p:txBody>
      </p:sp>
      <p:sp>
        <p:nvSpPr>
          <p:cNvPr id="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198" dur="indefinite" restart="never" nodeType="tmRoot">
          <p:childTnLst>
            <p:seq>
              <p:cTn id="199" dur="indefinite" nodeType="mainSeq">
                <p:childTnLst>
                  <p:par>
                    <p:cTn id="200" nodeType="clickEffect" fill="hold">
                      <p:stCondLst>
                        <p:cond delay="0"/>
                      </p:stCondLst>
                      <p:childTnLst>
                        <p:par>
                          <p:cTn id="201" nodeType="withEffect" fill="hold">
                            <p:stCondLst>
                              <p:cond delay="0"/>
                            </p:stCondLst>
                            <p:childTnLst>
                              <p:par>
                                <p:cTn id="202" nodeType="withEffect" fill="hold" presetClass="entr" presetID="10">
                                  <p:stCondLst>
                                    <p:cond delay="0"/>
                                  </p:stCondLst>
                                  <p:childTnLst>
                                    <p:set>
                                      <p:cBhvr>
                                        <p:cTn id="203" dur="1" fill="hold">
                                          <p:stCondLst>
                                            <p:cond delay="0"/>
                                          </p:stCondLst>
                                        </p:cTn>
                                        <p:tgtEl>
                                          <p:spTgt spid="88"/>
                                        </p:tgtEl>
                                        <p:attrNameLst>
                                          <p:attrName>style.visibility</p:attrName>
                                        </p:attrNameLst>
                                      </p:cBhvr>
                                      <p:to>
                                        <p:strVal val="visible"/>
                                      </p:to>
                                    </p:set>
                                    <p:animEffect filter="fade" transition="in">
                                      <p:cBhvr additive="repl">
                                        <p:cTn id="204"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57200" y="333000"/>
            <a:ext cx="8229600" cy="5792760"/>
          </a:xfrm>
          <a:prstGeom prst="rect">
            <a:avLst/>
          </a:prstGeom>
          <a:noFill/>
          <a:ln w="0">
            <a:noFill/>
          </a:ln>
        </p:spPr>
        <p:txBody>
          <a:bodyPr anchor="t">
            <a:normAutofit fontScale="98000"/>
          </a:bodyPr>
          <a:p>
            <a:pPr marL="335880" indent="-335880">
              <a:lnSpc>
                <a:spcPct val="80000"/>
              </a:lnSpc>
              <a:spcBef>
                <a:spcPts val="400"/>
              </a:spcBef>
              <a:buClr>
                <a:srgbClr val="003366"/>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dobe Caslon Pro"/>
              </a:rPr>
              <a:t>Пятую угрозу связывают с мобильностью рабочей силы. Сегодня много говорится о свободном обмене товарами, услугами и капиталом и значительно меньше — о свободе перемещения рабочей силы. В связи с этим поднимается вопрос о влиянии глобализации на занятость. В отсутствие адекватных мер проблема безработицы может стать потенциальным источником глобальной нестабильности. Разбазаривание людских ресурсов в виде безработицы или частичной занятости — главная потеря мирового сообщества в целом, и особенно некоторых стран, которые тратили большие средства на образование. Высокий уровень безработицы в середине 1990-х гг. сигнализирует о наличии крупных структурных проблем и политических ошибок в рамках мировой экономики. Эти факторы свидетельствуют о необходимости эффективного управления изменениями на всех уровнях, особенно в сферах, которые непосредственно влияют на условия жизни людей. В частности, спорен вопрос о том, может ли международная миграция содействовать решению проблем занятости и бедности. Сегодня рынки труда интернационализированы в значительно меньшей степени, чем рынки товаров или капитала.</a:t>
            </a:r>
            <a:endParaRPr b="0" lang="en-US" sz="1600" spc="-1" strike="noStrike">
              <a:solidFill>
                <a:srgbClr val="000000"/>
              </a:solidFill>
              <a:latin typeface="Arial"/>
            </a:endParaRPr>
          </a:p>
          <a:p>
            <a:pPr marL="335880" indent="-335880">
              <a:lnSpc>
                <a:spcPct val="80000"/>
              </a:lnSpc>
              <a:spcBef>
                <a:spcPts val="400"/>
              </a:spcBef>
              <a:buClr>
                <a:srgbClr val="003366"/>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dobe Caslon Pro"/>
              </a:rPr>
              <a:t>Глобализация с ее глубокими экономическими, технологическими и социальными преобразованиями несомненно повлияет на мировую экосистему. А это типичная проблема общечеловеческой безопасности. До сих пор вину за общий ущерб окружающей среде возлагают на развитые страны, хотя основной вред они причиняют все же себе.</a:t>
            </a:r>
            <a:endParaRPr b="0" lang="en-US" sz="1600" spc="-1" strike="noStrike">
              <a:solidFill>
                <a:srgbClr val="000000"/>
              </a:solidFill>
              <a:latin typeface="Arial"/>
            </a:endParaRPr>
          </a:p>
          <a:p>
            <a:pPr marL="335880" indent="-335880">
              <a:lnSpc>
                <a:spcPct val="80000"/>
              </a:lnSpc>
              <a:spcBef>
                <a:spcPts val="400"/>
              </a:spcBef>
              <a:buClr>
                <a:srgbClr val="003366"/>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dobe Caslon Pro"/>
              </a:rPr>
              <a:t>Можно назвать несколько источников будущих конфликтов, которые возникнут в связи с использованием экосистемы. Борьба за водные ресурсы, вероятно, выльется в острые региональные конфликты. Будущее тропических лесов и последствия их вырубки уже стали предметом глубоких раздоров между государствами из-за расхождений в интересах и политических целях. В целом мир уже не может себе позволить бездумно расходовать ресурсы, нанося непоправимый вред среде обитания.</a:t>
            </a:r>
            <a:endParaRPr b="0" lang="en-US" sz="1600" spc="-1" strike="noStrike">
              <a:solidFill>
                <a:srgbClr val="000000"/>
              </a:solidFill>
              <a:latin typeface="Arial"/>
            </a:endParaRPr>
          </a:p>
        </p:txBody>
      </p:sp>
      <p:sp>
        <p:nvSpPr>
          <p:cNvPr id="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205" dur="indefinite" restart="never" nodeType="tmRoot">
          <p:childTnLst>
            <p:seq>
              <p:cTn id="206" dur="indefinite" nodeType="mainSeq">
                <p:childTnLst>
                  <p:par>
                    <p:cTn id="207" nodeType="clickEffect" fill="hold">
                      <p:stCondLst>
                        <p:cond delay="0"/>
                      </p:stCondLst>
                      <p:childTnLst>
                        <p:par>
                          <p:cTn id="208" nodeType="withEffect" fill="hold">
                            <p:stCondLst>
                              <p:cond delay="0"/>
                            </p:stCondLst>
                            <p:childTnLst>
                              <p:par>
                                <p:cTn id="209" nodeType="withEffect" fill="hold" presetClass="entr" presetID="10">
                                  <p:stCondLst>
                                    <p:cond delay="0"/>
                                  </p:stCondLst>
                                  <p:childTnLst>
                                    <p:set>
                                      <p:cBhvr>
                                        <p:cTn id="210" dur="1" fill="hold">
                                          <p:stCondLst>
                                            <p:cond delay="0"/>
                                          </p:stCondLst>
                                        </p:cTn>
                                        <p:tgtEl>
                                          <p:spTgt spid="90"/>
                                        </p:tgtEl>
                                        <p:attrNameLst>
                                          <p:attrName>style.visibility</p:attrName>
                                        </p:attrNameLst>
                                      </p:cBhvr>
                                      <p:to>
                                        <p:strVal val="visible"/>
                                      </p:to>
                                    </p:set>
                                    <p:animEffect filter="fade" transition="in">
                                      <p:cBhvr additive="repl">
                                        <p:cTn id="211"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dobe Caslon Pro"/>
              </a:rPr>
              <a:t>Глобализация — это процесс, в ходе которого мир преобразуется в единую глобальную систему. Вопрос о глобализации стал весьма актуальным в 1990-е годы, хотя различные аспекты этого процесса серьезно обсуждались учеными, уже начиная с 1960-1970-х годов.</a:t>
            </a:r>
            <a:endParaRPr b="0" lang="en-US" sz="3200" spc="-1" strike="noStrike">
              <a:solidFill>
                <a:srgbClr val="000000"/>
              </a:solidFill>
              <a:latin typeface="Arial"/>
            </a:endParaRPr>
          </a:p>
        </p:txBody>
      </p:sp>
      <p:sp>
        <p:nvSpPr>
          <p:cNvPr id="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push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0">
                                  <p:stCondLst>
                                    <p:cond delay="0"/>
                                  </p:stCondLst>
                                  <p:iterate type="lt">
                                    <p:tmAbs val="50"/>
                                  </p:iterate>
                                  <p:childTnLst>
                                    <p:set>
                                      <p:cBhvr>
                                        <p:cTn id="6" dur="1" fill="hold">
                                          <p:stCondLst>
                                            <p:cond delay="0"/>
                                          </p:stCondLst>
                                        </p:cTn>
                                        <p:tgtEl>
                                          <p:spTgt spid="52">
                                            <p:txEl>
                                              <p:pRg st="0" end="0"/>
                                            </p:txEl>
                                          </p:spTgt>
                                        </p:tgtEl>
                                        <p:attrNameLst>
                                          <p:attrName>style.visibility</p:attrName>
                                        </p:attrNameLst>
                                      </p:cBhvr>
                                      <p:to>
                                        <p:strVal val="visible"/>
                                      </p:to>
                                    </p:set>
                                    <p:animEffect filter="fade" transition="in">
                                      <p:cBhvr additive="repl">
                                        <p:cTn id="7" dur="500"/>
                                        <p:tgtEl>
                                          <p:spTgt spid="52">
                                            <p:txEl>
                                              <p:pRg st="0" end="0"/>
                                            </p:txEl>
                                          </p:spTgt>
                                        </p:tgtEl>
                                      </p:cBhvr>
                                    </p:animEffect>
                                    <p:anim calcmode="lin" valueType="num">
                                      <p:cBhvr additive="repl">
                                        <p:cTn id="8" dur="500" fill="hold"/>
                                        <p:tgtEl>
                                          <p:spTgt spid="52">
                                            <p:txEl>
                                              <p:pRg st="0" end="0"/>
                                            </p:txEl>
                                          </p:spTgt>
                                        </p:tgtEl>
                                        <p:attrNameLst>
                                          <p:attrName>ppt_x</p:attrName>
                                        </p:attrNameLst>
                                      </p:cBhvr>
                                      <p:tavLst>
                                        <p:tav tm="0">
                                          <p:val>
                                            <p:strVal val="#ppt_x-.1"/>
                                          </p:val>
                                        </p:tav>
                                        <p:tav tm="100000">
                                          <p:val>
                                            <p:strVal val="#ppt_x"/>
                                          </p:val>
                                        </p:tav>
                                      </p:tavLst>
                                    </p:anim>
                                    <p:anim calcmode="lin" valueType="num">
                                      <p:cBhvr additive="repl">
                                        <p:cTn id="9" dur="500" fill="hold"/>
                                        <p:tgtEl>
                                          <p:spTgt spid="5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343080">
              <a:lnSpc>
                <a:spcPct val="80000"/>
              </a:lnSpc>
              <a:spcBef>
                <a:spcPts val="400"/>
              </a:spcBef>
              <a:buClr>
                <a:srgbClr val="003366"/>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dobe Caslon Pro"/>
              </a:rPr>
              <a:t>Важным источником напряженностей и конфликтов может стать также массовая урбанизация, связанная с глобальными демографическими, технологическими и структурными изменениями. Города уже становятся ключевыми элементами общества в масштабе стран и мира в целом, а также основными каналами распространения влияния глобализации по ряду причин. Во-первых, снабжение городов продовольствием и энергией зависит во многих странах не от местных источников, а от импортных ресурсов. Далее, города являются основными центрами глобальной стандартизации потребления, культур. В них же транснациональные компании действуют наиболее активно. Урбанизация, видимо, усилит процесс глобализации, а кооперация между крупными городами в политическом и институциональном плане станет новой областью международных отношений.</a:t>
            </a:r>
            <a:endParaRPr b="0" lang="en-US" sz="16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dobe Caslon Pro"/>
              </a:rPr>
              <a:t>     </a:t>
            </a:r>
            <a:endParaRPr b="0" lang="en-US" sz="2400" spc="-1" strike="noStrike">
              <a:solidFill>
                <a:srgbClr val="000000"/>
              </a:solidFill>
              <a:latin typeface="Arial"/>
            </a:endParaRPr>
          </a:p>
        </p:txBody>
      </p:sp>
      <p:sp>
        <p:nvSpPr>
          <p:cNvPr id="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212" dur="indefinite" restart="never" nodeType="tmRoot">
          <p:childTnLst>
            <p:seq>
              <p:cTn id="213" dur="indefinite" nodeType="mainSeq">
                <p:childTnLst>
                  <p:par>
                    <p:cTn id="214" nodeType="clickEffect" fill="hold">
                      <p:stCondLst>
                        <p:cond delay="0"/>
                      </p:stCondLst>
                      <p:childTnLst>
                        <p:par>
                          <p:cTn id="215" nodeType="withEffect" fill="hold">
                            <p:stCondLst>
                              <p:cond delay="0"/>
                            </p:stCondLst>
                            <p:childTnLst>
                              <p:par>
                                <p:cTn id="216" nodeType="withEffect" fill="hold" presetClass="entr" presetID="10">
                                  <p:stCondLst>
                                    <p:cond delay="0"/>
                                  </p:stCondLst>
                                  <p:childTnLst>
                                    <p:set>
                                      <p:cBhvr>
                                        <p:cTn id="217" dur="1" fill="hold">
                                          <p:stCondLst>
                                            <p:cond delay="0"/>
                                          </p:stCondLst>
                                        </p:cTn>
                                        <p:tgtEl>
                                          <p:spTgt spid="92"/>
                                        </p:tgtEl>
                                        <p:attrNameLst>
                                          <p:attrName>style.visibility</p:attrName>
                                        </p:attrNameLst>
                                      </p:cBhvr>
                                      <p:to>
                                        <p:strVal val="visible"/>
                                      </p:to>
                                    </p:set>
                                    <p:animEffect filter="fade" transition="in">
                                      <p:cBhvr additive="repl">
                                        <p:cTn id="218"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324000" y="1125360"/>
            <a:ext cx="8229600" cy="438336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dobe Caslon Pro"/>
              </a:rPr>
              <a:t>    </a:t>
            </a:r>
            <a:r>
              <a:rPr b="0" lang="ru-RU" sz="2800" spc="-1" strike="noStrike">
                <a:solidFill>
                  <a:srgbClr val="ffffff"/>
                </a:solidFill>
                <a:latin typeface="Adobe Caslon Pro"/>
              </a:rPr>
              <a:t>Глобализация углубляет, расширяет и ускоряет всемирные взаимосвязи и взаимозависимости во всех сферах сегодняшней общественной жизни. Как видим, глобализация в мировом масштабе имеет как положительные, так и отрицательные стороны, но это объективный процесс, к которому надо приспосабливаться всем субъектам международной жизни.</a:t>
            </a:r>
            <a:endParaRPr b="0" lang="en-US" sz="2800" spc="-1" strike="noStrike">
              <a:solidFill>
                <a:srgbClr val="000000"/>
              </a:solidFill>
              <a:latin typeface="Arial"/>
            </a:endParaRPr>
          </a:p>
        </p:txBody>
      </p:sp>
      <p:sp>
        <p:nvSpPr>
          <p:cNvPr id="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94">
                                            <p:txEl>
                                              <p:pRg st="0" end="0"/>
                                            </p:txEl>
                                          </p:spTgt>
                                        </p:tgtEl>
                                        <p:attrNameLst>
                                          <p:attrName>style.visibility</p:attrName>
                                        </p:attrNameLst>
                                      </p:cBhvr>
                                      <p:to>
                                        <p:strVal val="visible"/>
                                      </p:to>
                                    </p:set>
                                    <p:animEffect filter="wipe(left)" transition="in">
                                      <p:cBhvr additive="repl">
                                        <p:cTn id="225" dur="500"/>
                                        <p:tgtEl>
                                          <p:spTgt spid="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663300"/>
                </a:solidFill>
                <a:latin typeface="Adobe Caslon Pro"/>
              </a:rPr>
              <a:t>Контрольные вопросы:</a:t>
            </a:r>
            <a:endParaRPr b="0" lang="en-US" sz="36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dobe Caslon Pro"/>
              </a:rPr>
              <a:t>Какова роль глобализации в мировой экономике?</a:t>
            </a:r>
            <a:endParaRPr b="0" lang="en-US" sz="3200" spc="-1" strike="noStrike">
              <a:solidFill>
                <a:srgbClr val="000000"/>
              </a:solidFill>
              <a:latin typeface="Arial"/>
            </a:endParaRPr>
          </a:p>
          <a:p>
            <a:pPr marL="343080" indent="-343080">
              <a:lnSpc>
                <a:spcPct val="100000"/>
              </a:lnSpc>
              <a:spcBef>
                <a:spcPts val="799"/>
              </a:spcBef>
              <a:buClr>
                <a:srgbClr val="000000"/>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dobe Caslon Pro"/>
              </a:rPr>
              <a:t>Как глобализация может отразиться на малом бизнесе украинских предпринимателей?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dobe Caslon Pro"/>
              </a:rPr>
              <a:t>В чем заключается позитивное влияние глобализации, а в чем негативное?</a:t>
            </a:r>
            <a:endParaRPr b="0" lang="en-US" sz="3200" spc="-1" strike="noStrike">
              <a:solidFill>
                <a:srgbClr val="000000"/>
              </a:solidFill>
              <a:latin typeface="Arial"/>
            </a:endParaRPr>
          </a:p>
        </p:txBody>
      </p:sp>
      <p:sp>
        <p:nvSpPr>
          <p:cNvPr id="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nodeType="clickEffect" fill="hold">
                      <p:stCondLst>
                        <p:cond delay="0"/>
                      </p:stCondLst>
                      <p:childTnLst>
                        <p:par>
                          <p:cTn id="229" nodeType="withEffect" fill="hold">
                            <p:stCondLst>
                              <p:cond delay="0"/>
                            </p:stCondLst>
                            <p:childTnLst>
                              <p:par>
                                <p:cTn id="230" nodeType="withEffect" fill="hold" presetClass="entr" presetID="10">
                                  <p:stCondLst>
                                    <p:cond delay="0"/>
                                  </p:stCondLst>
                                  <p:childTnLst>
                                    <p:set>
                                      <p:cBhvr>
                                        <p:cTn id="231" dur="1" fill="hold">
                                          <p:stCondLst>
                                            <p:cond delay="0"/>
                                          </p:stCondLst>
                                        </p:cTn>
                                        <p:tgtEl>
                                          <p:spTgt spid="96"/>
                                        </p:tgtEl>
                                        <p:attrNameLst>
                                          <p:attrName>style.visibility</p:attrName>
                                        </p:attrNameLst>
                                      </p:cBhvr>
                                      <p:to>
                                        <p:strVal val="visible"/>
                                      </p:to>
                                    </p:set>
                                    <p:animEffect filter="fade" transition="in">
                                      <p:cBhvr additive="repl">
                                        <p:cTn id="232" dur="500"/>
                                        <p:tgtEl>
                                          <p:spTgt spid="96"/>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97">
                                            <p:txEl>
                                              <p:pRg st="0" end="0"/>
                                            </p:txEl>
                                          </p:spTgt>
                                        </p:tgtEl>
                                        <p:attrNameLst>
                                          <p:attrName>style.visibility</p:attrName>
                                        </p:attrNameLst>
                                      </p:cBhvr>
                                      <p:to>
                                        <p:strVal val="visible"/>
                                      </p:to>
                                    </p:set>
                                    <p:animEffect filter="wipe(left)" transition="in">
                                      <p:cBhvr additive="repl">
                                        <p:cTn id="237" dur="500"/>
                                        <p:tgtEl>
                                          <p:spTgt spid="97">
                                            <p:txEl>
                                              <p:pRg st="0" end="0"/>
                                            </p:txEl>
                                          </p:spTgt>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22" presetSubtype="8">
                                  <p:stCondLst>
                                    <p:cond delay="0"/>
                                  </p:stCondLst>
                                  <p:childTnLst>
                                    <p:set>
                                      <p:cBhvr>
                                        <p:cTn id="241" dur="1" fill="hold">
                                          <p:stCondLst>
                                            <p:cond delay="0"/>
                                          </p:stCondLst>
                                        </p:cTn>
                                        <p:tgtEl>
                                          <p:spTgt spid="97">
                                            <p:txEl>
                                              <p:pRg st="1" end="1"/>
                                            </p:txEl>
                                          </p:spTgt>
                                        </p:tgtEl>
                                        <p:attrNameLst>
                                          <p:attrName>style.visibility</p:attrName>
                                        </p:attrNameLst>
                                      </p:cBhvr>
                                      <p:to>
                                        <p:strVal val="visible"/>
                                      </p:to>
                                    </p:set>
                                    <p:animEffect filter="wipe(left)" transition="in">
                                      <p:cBhvr additive="repl">
                                        <p:cTn id="242" dur="500"/>
                                        <p:tgtEl>
                                          <p:spTgt spid="97">
                                            <p:txEl>
                                              <p:pRg st="1" end="1"/>
                                            </p:txEl>
                                          </p:spTgt>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2" presetSubtype="8">
                                  <p:stCondLst>
                                    <p:cond delay="0"/>
                                  </p:stCondLst>
                                  <p:childTnLst>
                                    <p:set>
                                      <p:cBhvr>
                                        <p:cTn id="246" dur="1" fill="hold">
                                          <p:stCondLst>
                                            <p:cond delay="0"/>
                                          </p:stCondLst>
                                        </p:cTn>
                                        <p:tgtEl>
                                          <p:spTgt spid="97">
                                            <p:txEl>
                                              <p:pRg st="2" end="2"/>
                                            </p:txEl>
                                          </p:spTgt>
                                        </p:tgtEl>
                                        <p:attrNameLst>
                                          <p:attrName>style.visibility</p:attrName>
                                        </p:attrNameLst>
                                      </p:cBhvr>
                                      <p:to>
                                        <p:strVal val="visible"/>
                                      </p:to>
                                    </p:set>
                                    <p:animEffect filter="wipe(left)" transition="in">
                                      <p:cBhvr additive="repl">
                                        <p:cTn id="247" dur="500"/>
                                        <p:tgtEl>
                                          <p:spTgt spid="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u="sng">
                <a:solidFill>
                  <a:srgbClr val="000000"/>
                </a:solidFill>
                <a:uFillTx/>
                <a:latin typeface="Adobe Caslon Pro"/>
              </a:rPr>
              <a:t>Записать:</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333300"/>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333300"/>
                </a:solidFill>
                <a:latin typeface="Adobe Caslon Pro"/>
              </a:rPr>
              <a:t>Глобализация мировой экономики - это преобразование мирового пространства в единую зону, где свободно перемещаются информация, товары и услуги, капитал, где непринужденно распространяются идеи и беспрепятственно передвигаются их носители, стимулируя развитие современных институтов и отлаживая механизмы их взаимодействия.</a:t>
            </a:r>
            <a:endParaRPr b="0" lang="en-US" sz="2800" spc="-1" strike="noStrike">
              <a:solidFill>
                <a:srgbClr val="000000"/>
              </a:solidFill>
              <a:latin typeface="Arial"/>
            </a:endParaRPr>
          </a:p>
        </p:txBody>
      </p:sp>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push dir="r"/>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withEffect" fill="hold" presetClass="entr" presetID="2" presetSubtype="9">
                                  <p:stCondLst>
                                    <p:cond delay="0"/>
                                  </p:stCondLst>
                                  <p:iterate type="lt">
                                    <p:tmAbs val="50"/>
                                  </p:iterate>
                                  <p:childTnLst>
                                    <p:set>
                                      <p:cBhvr>
                                        <p:cTn id="15" dur="1" fill="hold">
                                          <p:stCondLst>
                                            <p:cond delay="0"/>
                                          </p:stCondLst>
                                        </p:cTn>
                                        <p:tgtEl>
                                          <p:spTgt spid="54"/>
                                        </p:tgtEl>
                                        <p:attrNameLst>
                                          <p:attrName>style.visibility</p:attrName>
                                        </p:attrNameLst>
                                      </p:cBhvr>
                                      <p:to>
                                        <p:strVal val="visible"/>
                                      </p:to>
                                    </p:set>
                                    <p:anim calcmode="lin" valueType="num">
                                      <p:cBhvr additive="base">
                                        <p:cTn id="16" dur="500" fill="hold">
                                          <p:stCondLst>
                                            <p:cond delay="0"/>
                                          </p:stCondLst>
                                        </p:cTn>
                                        <p:tgtEl>
                                          <p:spTgt spid="54"/>
                                        </p:tgtEl>
                                        <p:attrNameLst>
                                          <p:attrName>ppt_x</p:attrName>
                                        </p:attrNameLst>
                                      </p:cBhvr>
                                      <p:tavLst>
                                        <p:tav tm="0">
                                          <p:val>
                                            <p:strVal val="0-#ppt_w/2"/>
                                          </p:val>
                                        </p:tav>
                                        <p:tav tm="100000">
                                          <p:val>
                                            <p:strVal val="#ppt_x"/>
                                          </p:val>
                                        </p:tav>
                                      </p:tavLst>
                                    </p:anim>
                                    <p:anim calcmode="lin" valueType="num">
                                      <p:cBhvr additive="base">
                                        <p:cTn id="17" dur="500" fill="hold">
                                          <p:stCondLst>
                                            <p:cond delay="0"/>
                                          </p:stCondLst>
                                        </p:cTn>
                                        <p:tgtEl>
                                          <p:spTgt spid="54"/>
                                        </p:tgtEl>
                                        <p:attrNameLst>
                                          <p:attrName>ppt_y</p:attrName>
                                        </p:attrNameLst>
                                      </p:cBhvr>
                                      <p:tavLst>
                                        <p:tav tm="0">
                                          <p:val>
                                            <p:strVal val="0-#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40">
                                  <p:stCondLst>
                                    <p:cond delay="0"/>
                                  </p:stCondLst>
                                  <p:iterate type="lt">
                                    <p:tmAbs val="50"/>
                                  </p:iterate>
                                  <p:childTnLst>
                                    <p:set>
                                      <p:cBhvr>
                                        <p:cTn id="21" dur="1" fill="hold">
                                          <p:stCondLst>
                                            <p:cond delay="0"/>
                                          </p:stCondLst>
                                        </p:cTn>
                                        <p:tgtEl>
                                          <p:spTgt spid="55">
                                            <p:txEl>
                                              <p:pRg st="0" end="0"/>
                                            </p:txEl>
                                          </p:spTgt>
                                        </p:tgtEl>
                                        <p:attrNameLst>
                                          <p:attrName>style.visibility</p:attrName>
                                        </p:attrNameLst>
                                      </p:cBhvr>
                                      <p:to>
                                        <p:strVal val="visible"/>
                                      </p:to>
                                    </p:set>
                                    <p:animEffect filter="fade" transition="in">
                                      <p:cBhvr additive="repl">
                                        <p:cTn id="22" dur="500"/>
                                        <p:tgtEl>
                                          <p:spTgt spid="55">
                                            <p:txEl>
                                              <p:pRg st="0" end="0"/>
                                            </p:txEl>
                                          </p:spTgt>
                                        </p:tgtEl>
                                      </p:cBhvr>
                                    </p:animEffect>
                                    <p:anim calcmode="lin" valueType="num">
                                      <p:cBhvr additive="repl">
                                        <p:cTn id="23" dur="500" fill="hold"/>
                                        <p:tgtEl>
                                          <p:spTgt spid="55">
                                            <p:txEl>
                                              <p:pRg st="0" end="0"/>
                                            </p:txEl>
                                          </p:spTgt>
                                        </p:tgtEl>
                                        <p:attrNameLst>
                                          <p:attrName>ppt_x</p:attrName>
                                        </p:attrNameLst>
                                      </p:cBhvr>
                                      <p:tavLst>
                                        <p:tav tm="0">
                                          <p:val>
                                            <p:strVal val="#ppt_x-.1"/>
                                          </p:val>
                                        </p:tav>
                                        <p:tav tm="100000">
                                          <p:val>
                                            <p:strVal val="#ppt_x"/>
                                          </p:val>
                                        </p:tav>
                                      </p:tavLst>
                                    </p:anim>
                                    <p:anim calcmode="lin" valueType="num">
                                      <p:cBhvr additive="repl">
                                        <p:cTn id="24" dur="500" fill="hold"/>
                                        <p:tgtEl>
                                          <p:spTgt spid="5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dobe Caslon Pro"/>
              </a:rPr>
              <a:t>&gt;&gt;</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lnSpc>
                <a:spcPct val="80000"/>
              </a:lnSpc>
              <a:spcBef>
                <a:spcPts val="700"/>
              </a:spcBef>
              <a:buClr>
                <a:srgbClr val="000000"/>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dobe Caslon Pro"/>
              </a:rPr>
              <a:t>Глобализация подразумевает образование единого (всеобщего) международного экономического, правового и культурно-информационного пространства. Иными словами, феномен глобализации выходит за чисто экономические рамки и оказывает заметное влияние на все основные сферы общественной деятельности — политику, идеологию, культуру. Он, несомненно, будет играть определяющую роль в мировой экономике XXI в., придавая мощный импульс формированию новой системы международных экономических и политических отношений.</a:t>
            </a:r>
            <a:endParaRPr b="0" lang="en-US" sz="2800" spc="-1" strike="noStrike">
              <a:solidFill>
                <a:srgbClr val="000000"/>
              </a:solidFill>
              <a:latin typeface="Arial"/>
            </a:endParaRPr>
          </a:p>
        </p:txBody>
      </p:sp>
      <p:sp>
        <p:nvSpPr>
          <p:cNvPr id="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push dir="r"/>
  </p:transition>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ntr" presetID="2" presetSubtype="9">
                                  <p:stCondLst>
                                    <p:cond delay="0"/>
                                  </p:stCondLst>
                                  <p:iterate type="lt">
                                    <p:tmAbs val="80"/>
                                  </p:iterate>
                                  <p:childTnLst>
                                    <p:set>
                                      <p:cBhvr>
                                        <p:cTn id="30" dur="1" fill="hold">
                                          <p:stCondLst>
                                            <p:cond delay="0"/>
                                          </p:stCondLst>
                                        </p:cTn>
                                        <p:tgtEl>
                                          <p:spTgt spid="57"/>
                                        </p:tgtEl>
                                        <p:attrNameLst>
                                          <p:attrName>style.visibility</p:attrName>
                                        </p:attrNameLst>
                                      </p:cBhvr>
                                      <p:to>
                                        <p:strVal val="visible"/>
                                      </p:to>
                                    </p:set>
                                    <p:anim calcmode="lin" valueType="num">
                                      <p:cBhvr additive="base">
                                        <p:cTn id="31" dur="800" fill="hold">
                                          <p:stCondLst>
                                            <p:cond delay="0"/>
                                          </p:stCondLst>
                                        </p:cTn>
                                        <p:tgtEl>
                                          <p:spTgt spid="57"/>
                                        </p:tgtEl>
                                        <p:attrNameLst>
                                          <p:attrName>ppt_x</p:attrName>
                                        </p:attrNameLst>
                                      </p:cBhvr>
                                      <p:tavLst>
                                        <p:tav tm="0">
                                          <p:val>
                                            <p:strVal val="0-#ppt_w/2"/>
                                          </p:val>
                                        </p:tav>
                                        <p:tav tm="100000">
                                          <p:val>
                                            <p:strVal val="#ppt_x"/>
                                          </p:val>
                                        </p:tav>
                                      </p:tavLst>
                                    </p:anim>
                                    <p:anim calcmode="lin" valueType="num">
                                      <p:cBhvr additive="base">
                                        <p:cTn id="32" dur="800" fill="hold">
                                          <p:stCondLst>
                                            <p:cond delay="0"/>
                                          </p:stCondLst>
                                        </p:cTn>
                                        <p:tgtEl>
                                          <p:spTgt spid="57"/>
                                        </p:tgtEl>
                                        <p:attrNameLst>
                                          <p:attrName>ppt_y</p:attrName>
                                        </p:attrNameLst>
                                      </p:cBhvr>
                                      <p:tavLst>
                                        <p:tav tm="0">
                                          <p:val>
                                            <p:strVal val="0-#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40">
                                  <p:stCondLst>
                                    <p:cond delay="0"/>
                                  </p:stCondLst>
                                  <p:iterate type="lt">
                                    <p:tmAbs val="50"/>
                                  </p:iterate>
                                  <p:childTnLst>
                                    <p:set>
                                      <p:cBhvr>
                                        <p:cTn id="36" dur="1" fill="hold">
                                          <p:stCondLst>
                                            <p:cond delay="0"/>
                                          </p:stCondLst>
                                        </p:cTn>
                                        <p:tgtEl>
                                          <p:spTgt spid="58">
                                            <p:txEl>
                                              <p:pRg st="0" end="0"/>
                                            </p:txEl>
                                          </p:spTgt>
                                        </p:tgtEl>
                                        <p:attrNameLst>
                                          <p:attrName>style.visibility</p:attrName>
                                        </p:attrNameLst>
                                      </p:cBhvr>
                                      <p:to>
                                        <p:strVal val="visible"/>
                                      </p:to>
                                    </p:set>
                                    <p:animEffect filter="fade" transition="in">
                                      <p:cBhvr additive="repl">
                                        <p:cTn id="37" dur="500"/>
                                        <p:tgtEl>
                                          <p:spTgt spid="58">
                                            <p:txEl>
                                              <p:pRg st="0" end="0"/>
                                            </p:txEl>
                                          </p:spTgt>
                                        </p:tgtEl>
                                      </p:cBhvr>
                                    </p:animEffect>
                                    <p:anim calcmode="lin" valueType="num">
                                      <p:cBhvr additive="repl">
                                        <p:cTn id="38" dur="500" fill="hold"/>
                                        <p:tgtEl>
                                          <p:spTgt spid="58">
                                            <p:txEl>
                                              <p:pRg st="0" end="0"/>
                                            </p:txEl>
                                          </p:spTgt>
                                        </p:tgtEl>
                                        <p:attrNameLst>
                                          <p:attrName>ppt_x</p:attrName>
                                        </p:attrNameLst>
                                      </p:cBhvr>
                                      <p:tavLst>
                                        <p:tav tm="0">
                                          <p:val>
                                            <p:strVal val="#ppt_x-.1"/>
                                          </p:val>
                                        </p:tav>
                                        <p:tav tm="100000">
                                          <p:val>
                                            <p:strVal val="#ppt_x"/>
                                          </p:val>
                                        </p:tav>
                                      </p:tavLst>
                                    </p:anim>
                                    <p:anim calcmode="lin" valueType="num">
                                      <p:cBhvr additive="repl">
                                        <p:cTn id="39" dur="5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539640" y="1341000"/>
            <a:ext cx="8229600" cy="381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800" spc="-1" strike="noStrike">
                <a:solidFill>
                  <a:srgbClr val="ffffff"/>
                </a:solidFill>
                <a:latin typeface="Adobe Caslon Pro"/>
              </a:rPr>
              <a:t>Чем вызвана глобализация? </a:t>
            </a:r>
            <a:endParaRPr b="0" lang="en-US" sz="8800" spc="-1" strike="noStrike">
              <a:solidFill>
                <a:srgbClr val="000000"/>
              </a:solidFill>
              <a:latin typeface="Arial"/>
            </a:endParaRPr>
          </a:p>
        </p:txBody>
      </p:sp>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withEffect" fill="hold" presetClass="entr" presetID="23" presetSubtype="16">
                                  <p:stCondLst>
                                    <p:cond delay="0"/>
                                  </p:stCondLst>
                                  <p:childTnLst>
                                    <p:set>
                                      <p:cBhvr>
                                        <p:cTn id="45" dur="1" fill="hold">
                                          <p:stCondLst>
                                            <p:cond delay="0"/>
                                          </p:stCondLst>
                                        </p:cTn>
                                        <p:tgtEl>
                                          <p:spTgt spid="60"/>
                                        </p:tgtEl>
                                        <p:attrNameLst>
                                          <p:attrName>style.visibility</p:attrName>
                                        </p:attrNameLst>
                                      </p:cBhvr>
                                      <p:to>
                                        <p:strVal val="visible"/>
                                      </p:to>
                                    </p:set>
                                    <p:anim calcmode="lin" valueType="num">
                                      <p:cBhvr additive="repl">
                                        <p:cTn id="46" dur="500" fill="hold"/>
                                        <p:tgtEl>
                                          <p:spTgt spid="60"/>
                                        </p:tgtEl>
                                        <p:attrNameLst>
                                          <p:attrName>ppt_w</p:attrName>
                                        </p:attrNameLst>
                                      </p:cBhvr>
                                      <p:tavLst>
                                        <p:tav tm="0">
                                          <p:val>
                                            <p:fltVal val="0"/>
                                          </p:val>
                                        </p:tav>
                                        <p:tav tm="100000">
                                          <p:val>
                                            <p:strVal val="#ppt_w"/>
                                          </p:val>
                                        </p:tav>
                                      </p:tavLst>
                                    </p:anim>
                                    <p:anim calcmode="lin" valueType="num">
                                      <p:cBhvr additive="repl">
                                        <p:cTn id="47" dur="500" fill="hold"/>
                                        <p:tgtEl>
                                          <p:spTgt spid="6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468360" y="333360"/>
            <a:ext cx="8229600" cy="4525920"/>
          </a:xfrm>
          <a:prstGeom prst="rect">
            <a:avLst/>
          </a:prstGeom>
          <a:noFill/>
          <a:ln w="0">
            <a:noFill/>
          </a:ln>
        </p:spPr>
        <p:txBody>
          <a:bodyPr anchor="t">
            <a:normAutofit fontScale="83000"/>
          </a:bodyPr>
          <a:p>
            <a:pPr marL="284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dobe Caslon Pro"/>
              </a:rPr>
              <a:t>     </a:t>
            </a:r>
            <a:r>
              <a:rPr b="0" lang="ru-RU" sz="2400" spc="-1" strike="noStrike">
                <a:solidFill>
                  <a:srgbClr val="ffffff"/>
                </a:solidFill>
                <a:latin typeface="Adobe Caslon Pro"/>
              </a:rPr>
              <a:t>Во-первых, глобализация вызвана объективными факторами мирового развития, углублением международного разделения труда, научно-техническим прогрессом в области транспорта и средств связи, сокращающим так называемое экономическое расстояние между странами. Позволяя получать необходимую информацию из любой точки планеты в реальном режиме времени и быстро принимать решения, современные системы телекоммуникаций беспрецедентно облегчают организацию международного инвестирования капиталов, кооперирования производства и маркетинга. В условиях информационного интегрирования мира намного ускоряется передача технологий и заимствование иностранного опыта хозяйствования. Складываются предпосылки для глобализации таких процессов, которые до сих пор оставались локальными по самой своей природе, например, получение высшего образования вдали от лучших учебных центров мира.</a:t>
            </a:r>
            <a:endParaRPr b="0" lang="en-US" sz="2400" spc="-1" strike="noStrike">
              <a:solidFill>
                <a:srgbClr val="000000"/>
              </a:solidFill>
              <a:latin typeface="Arial"/>
            </a:endParaRPr>
          </a:p>
        </p:txBody>
      </p:sp>
      <p:sp>
        <p:nvSpPr>
          <p:cNvPr id="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62">
                                            <p:txEl>
                                              <p:pRg st="0" end="0"/>
                                            </p:txEl>
                                          </p:spTgt>
                                        </p:tgtEl>
                                        <p:attrNameLst>
                                          <p:attrName>style.visibility</p:attrName>
                                        </p:attrNameLst>
                                      </p:cBhvr>
                                      <p:to>
                                        <p:strVal val="visible"/>
                                      </p:to>
                                    </p:set>
                                    <p:animEffect filter="wipe(left)" transition="in">
                                      <p:cBhvr additive="repl">
                                        <p:cTn id="54" dur="500"/>
                                        <p:tgtEl>
                                          <p:spTgt spid="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468360" y="476280"/>
            <a:ext cx="8229600" cy="4525920"/>
          </a:xfrm>
          <a:prstGeom prst="rect">
            <a:avLst/>
          </a:prstGeom>
          <a:noFill/>
          <a:ln w="0">
            <a:noFill/>
          </a:ln>
        </p:spPr>
        <p:txBody>
          <a:bodyPr anchor="t">
            <a:normAutofit fontScale="93000"/>
          </a:bodyPr>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dobe Caslon Pro"/>
              </a:rPr>
              <a:t>   </a:t>
            </a:r>
            <a:r>
              <a:rPr b="0" lang="ru-RU" sz="2800" spc="-1" strike="noStrike">
                <a:solidFill>
                  <a:srgbClr val="ffffff"/>
                </a:solidFill>
                <a:latin typeface="Adobe Caslon Pro"/>
              </a:rPr>
              <a:t>Второй источник глобализации — либерализация торговли и другие формы экономической либерализации, вызвавшие ограничение политики протекционизма и сделавшие мировую торговлю более свободной. В результате были существенно снижены тарифы, устранены многие иные барьеры в торговле товарами и услугами. Другие либерализационные меры привели к усилению движения капитала и остальных факторов производства.</a:t>
            </a:r>
            <a:endParaRPr b="0" lang="en-US" sz="2800" spc="-1" strike="noStrike">
              <a:solidFill>
                <a:srgbClr val="000000"/>
              </a:solidFill>
              <a:latin typeface="Arial"/>
            </a:endParaRPr>
          </a:p>
        </p:txBody>
      </p:sp>
      <p:sp>
        <p:nvSpPr>
          <p:cNvPr id="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64">
                                            <p:txEl>
                                              <p:pRg st="0" end="0"/>
                                            </p:txEl>
                                          </p:spTgt>
                                        </p:tgtEl>
                                        <p:attrNameLst>
                                          <p:attrName>style.visibility</p:attrName>
                                        </p:attrNameLst>
                                      </p:cBhvr>
                                      <p:to>
                                        <p:strVal val="visible"/>
                                      </p:to>
                                    </p:set>
                                    <p:animEffect filter="wipe(left)" transition="in">
                                      <p:cBhvr additive="repl">
                                        <p:cTn id="61" dur="500"/>
                                        <p:tgtEl>
                                          <p:spTgt spid="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68360" y="981000"/>
            <a:ext cx="8229600" cy="4525920"/>
          </a:xfrm>
          <a:prstGeom prst="rect">
            <a:avLst/>
          </a:prstGeom>
          <a:noFill/>
          <a:ln w="0">
            <a:noFill/>
          </a:ln>
        </p:spPr>
        <p:txBody>
          <a:bodyPr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dobe Caslon Pro"/>
              </a:rPr>
              <a:t>    </a:t>
            </a:r>
            <a:r>
              <a:rPr b="0" lang="ru-RU" sz="2000" spc="-1" strike="noStrike">
                <a:solidFill>
                  <a:srgbClr val="ffffff"/>
                </a:solidFill>
                <a:latin typeface="Adobe Caslon Pro"/>
              </a:rPr>
              <a:t>Третьим источником иитернационализационного процесса и одним из основных источников глобализации стал феномен транснационализации, в рамках которой определенная доля производства, потребления, экспорта, импорта и дохода страны зависит от решений международных центров за пределами данного государства. В качестве ведущих сил </a:t>
            </a:r>
            <a:r>
              <a:rPr b="0" lang="ru-RU" sz="2400" spc="-1" strike="noStrike">
                <a:solidFill>
                  <a:srgbClr val="ffffff"/>
                </a:solidFill>
                <a:latin typeface="Adobe Caslon Pro"/>
              </a:rPr>
              <a:t>здесь</a:t>
            </a:r>
            <a:r>
              <a:rPr b="0" lang="ru-RU" sz="2000" spc="-1" strike="noStrike">
                <a:solidFill>
                  <a:srgbClr val="ffffff"/>
                </a:solidFill>
                <a:latin typeface="Adobe Caslon Pro"/>
              </a:rPr>
              <a:t> выступают транснациональные компании (ТНК), которые сами являются одновременно и результатом, и главными действующими лицами интернационализации.</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dobe Caslon Pro"/>
              </a:rPr>
              <a:t>     </a:t>
            </a:r>
            <a:r>
              <a:rPr b="0" lang="ru-RU" sz="2000" spc="-1" strike="noStrike">
                <a:solidFill>
                  <a:srgbClr val="ffffff"/>
                </a:solidFill>
                <a:latin typeface="Adobe Caslon Pro"/>
              </a:rPr>
              <a:t>Глобализация сказывается на экономике всех стран. Она затрагивает производство товаров и услуг, использование рабочей силы, инвестиции, технологии и их распространение из одних стран в другие. Все это в конечном итоге отражается на эффективности производства, производительности труда и конкурентоспособности. Именно глобализация вызвала обострение международной конкуренции.</a:t>
            </a:r>
            <a:endParaRPr b="0" lang="en-US" sz="2000" spc="-1" strike="noStrike">
              <a:solidFill>
                <a:srgbClr val="000000"/>
              </a:solidFill>
              <a:latin typeface="Arial"/>
            </a:endParaRPr>
          </a:p>
        </p:txBody>
      </p:sp>
      <p:sp>
        <p:nvSpPr>
          <p:cNvPr id="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66">
                                            <p:txEl>
                                              <p:pRg st="0" end="0"/>
                                            </p:txEl>
                                          </p:spTgt>
                                        </p:tgtEl>
                                        <p:attrNameLst>
                                          <p:attrName>style.visibility</p:attrName>
                                        </p:attrNameLst>
                                      </p:cBhvr>
                                      <p:to>
                                        <p:strVal val="visible"/>
                                      </p:to>
                                    </p:set>
                                    <p:animEffect filter="wipe(left)" transition="in">
                                      <p:cBhvr additive="repl">
                                        <p:cTn id="68" dur="500"/>
                                        <p:tgtEl>
                                          <p:spTgt spid="66">
                                            <p:txEl>
                                              <p:pRg st="0" end="0"/>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66">
                                            <p:txEl>
                                              <p:pRg st="2" end="2"/>
                                            </p:txEl>
                                          </p:spTgt>
                                        </p:tgtEl>
                                        <p:attrNameLst>
                                          <p:attrName>style.visibility</p:attrName>
                                        </p:attrNameLst>
                                      </p:cBhvr>
                                      <p:to>
                                        <p:strVal val="visible"/>
                                      </p:to>
                                    </p:set>
                                    <p:animEffect filter="wipe(left)" transition="in">
                                      <p:cBhvr additive="repl">
                                        <p:cTn id="73" dur="500"/>
                                        <p:tgtEl>
                                          <p:spTgt spid="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457200" y="549000"/>
            <a:ext cx="8229600" cy="5576760"/>
          </a:xfrm>
          <a:prstGeom prst="rect">
            <a:avLst/>
          </a:prstGeom>
          <a:noFill/>
          <a:ln w="0">
            <a:noFill/>
          </a:ln>
        </p:spPr>
        <p:txBody>
          <a:bodyPr anchor="t">
            <a:normAutofit fontScale="94000"/>
          </a:bodyPr>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dobe Caslon Pro"/>
              </a:rPr>
              <a:t>    </a:t>
            </a:r>
            <a:r>
              <a:rPr b="0" lang="ru-RU" sz="2800" spc="-1" strike="noStrike">
                <a:solidFill>
                  <a:srgbClr val="ffffff"/>
                </a:solidFill>
                <a:latin typeface="Adobe Caslon Pro"/>
              </a:rPr>
              <a:t>Процесс глобализации экономики ускорился в последние десятилетия, когда различные рынки, в частности, капитала, технологии и товаров, а в известной степени и труда, становились все более взаимосвязанными и интегрированными в многослойную сеть ТНК. Хотя определенное количество ТНК оперирует в традиционном торговом секторе, в целом международные фирмы выступают за промышленную реструктуризацию многих развивающихся стран путем создания новых отраслей, в частности, автомобильной, нефтехимической, машиностроительной, электронной и др., и модернизации традиционных, включая текстильную и пищевую.</a:t>
            </a:r>
            <a:endParaRPr b="0" lang="en-US" sz="2800" spc="-1" strike="noStrike">
              <a:solidFill>
                <a:srgbClr val="000000"/>
              </a:solidFill>
              <a:latin typeface="Arial"/>
            </a:endParaRPr>
          </a:p>
        </p:txBody>
      </p:sp>
      <p:sp>
        <p:nvSpPr>
          <p:cNvPr id="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9">
                                  <p:stCondLst>
                                    <p:cond delay="0"/>
                                  </p:stCondLst>
                                  <p:childTnLst>
                                    <p:set>
                                      <p:cBhvr>
                                        <p:cTn id="79" dur="1" fill="hold">
                                          <p:stCondLst>
                                            <p:cond delay="0"/>
                                          </p:stCondLst>
                                        </p:cTn>
                                        <p:tgtEl>
                                          <p:spTgt spid="68">
                                            <p:txEl>
                                              <p:pRg st="0" end="0"/>
                                            </p:txEl>
                                          </p:spTgt>
                                        </p:tgtEl>
                                        <p:attrNameLst>
                                          <p:attrName>style.visibility</p:attrName>
                                        </p:attrNameLst>
                                      </p:cBhvr>
                                      <p:to>
                                        <p:strVal val="visible"/>
                                      </p:to>
                                    </p:set>
                                    <p:animEffect filter="dissolve" transition="in">
                                      <p:cBhvr additive="repl">
                                        <p:cTn id="80" dur="500"/>
                                        <p:tgtEl>
                                          <p:spTgt spid="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6T06:22:33Z</dcterms:created>
  <dc:creator>Masha</dc:creator>
  <dc:description/>
  <dc:language>en-US</dc:language>
  <cp:lastModifiedBy>LEGION</cp:lastModifiedBy>
  <dcterms:modified xsi:type="dcterms:W3CDTF">2014-11-10T08:37:52Z</dcterms:modified>
  <cp:revision>6</cp:revision>
  <dc:subject/>
  <dc:title>Глобализация мировой экономики</dc:title>
</cp:coreProperties>
</file>