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1D03-1A53-4CE2-A51E-053F3E1917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Monotype Corsiva"/>
              </a:rPr>
              <a:t>(06.06.1799 - 10.02.1837)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Автор: Маракова Е.М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2956-7C5A-4B0E-9087-08CD39762D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D21E-EEF8-4032-A382-D815C5C6BD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 1820 г. Пушкин прожил на Кавказе, где начал поэму "Кавказский пленник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трех лет Пушкин жил в Кишинев на квартире у Инз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ые поэмы Пушки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вказский пленни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ратья - разбойник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ахчисарайский фонта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Гаврилиад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9488-AAFD-4374-AC5B-8354FCC9E2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августа 1824 г прибыл в Михайловское , куда был выслан из-за разногласий на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чена работа над поэмой 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сана шутливая поэма "Граф Нулин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4FDF-B923-4A4F-8394-E65BC40598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Пушкин с фельдъегерем был отправлен в Москву на свидание с Николаем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1827 года Пушкин ведет праздную жизнь, задумывается над устройством семейной жиз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1828 году он делает попытку вступить в брак с Анной Оленин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ишет неоконченный роман "Арап Петра Великого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эму "Полтава"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AE64-4EC8-4A06-AFD6-A7A0EE9FCA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29 г. он посватался в Москве к юной красавице Наталии Николаевне 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и годы напис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Полтав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 стихотво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в журн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Роман в письма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EF61-022E-4AAF-AC4B-D6F19866C7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мая 1830 г. состоялась. наконец, помолвка Пушкина с Н.Н. Гонча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 отправился в с.Болдино, чтобы оформить дела по введению во владение им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AE57-0952-4CD4-B99F-E594BFBDD1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Болдинская осень" 183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вести Белкин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аленькие трагед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упой рыцар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оцарт и Сальер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менный гост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р во время чум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Домик в Коломн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"Евгений Онег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ь "История села Горюхи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азка о попе и работнике его Балд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е стать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о стихотво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ED94-9414-42D9-AB9E-CB6BFD0BCF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декабря 1830 г. поэт вернулся в Моск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февраля 1831 г. состоялось венчание с Н.Н.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написана "Сказка о царе Салта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сьмо Онегина к Татья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ины октября 1831 г. и уже до конца жизни Пушкин с семьей живет в Петербур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2 рождается дочь Мария, 1833 г. - сын Александр, 1835 г. - Григорий, 1836 г. - Ната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F863-4A9E-4F69-B1D7-E5CC6FCC46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ая дочь, Мари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-1919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, Александр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3-1914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F77C-6F72-4F08-B8E0-1DA09A9863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сын, Григорий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5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ая дочь, Наталь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6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4765-CDBF-46DE-ACF1-DBB3E76FC7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 и семья Пушк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78CC-00B1-41B2-8F01-10D5D513E8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1836 года умерла мать Пушк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057B-F2A8-4CDE-8E14-6BE72DB8E0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эль с Дантесом состоялась 27 января 1837 года на Черной речке у Комендантской 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0C92-597F-4E8B-A5D7-AC17F079E5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0BE6-B68D-484D-A634-BF56FE2106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етство и семья Пушкин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26 мая 1799 года в Москве в дворянской помещичьей семье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принадлежала к самой образованной части москов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3837-0809-4B17-9B04-211C5A14C3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доме собирались поэты, художники, музыка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его, Сергей Львович (1771 -1848 ), происходил из помещичьей, когда-то богат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C763-85A9-4953-8D57-4202F5BC27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2B33-F894-494A-B268-91723CFA67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Александра у Пушкиных были дети - старшая дочь Ольга и младший сын Л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ему компенсировала знаменитая няня Арина Родионо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208F-C41B-4B96-B185-A7ED259559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 лет Александр был отвезен учиться в Царскосельский Лицей под Петербур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занятий в Лицее была обширной, но не столь глубоко продума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3ECC-4888-42B7-80C4-C61ECDBD70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 в коллегию иностранных д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(около двух месяцев) провел в Михайловском, псковском имении мате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года почти безвыездно оставался в 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ет над поэмой "Руслан и Людмил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74B0-B417-4D1B-B018-861C71BE83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791-D996-41F3-AB02-2CBFC9AF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1C9-5D60-4C0D-8E7C-74C871D9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24C-1617-4F58-A132-B0293A46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8FB-37C4-4545-BA04-0C34067D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F072-5AE9-4ADF-A4CC-74AC09CC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5F0A-AC1F-465A-B3FA-80A3B85E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21CF-35E5-4F7F-A2B3-F97B65E9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8A56-434C-4A23-87F1-0E10ECB5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639F-847C-4098-8063-114E3031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52A2-B3BA-4438-849D-6329B46A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ECC1-2C12-4AE5-BAFE-BDBF622D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CBF-F397-4597-87C4-4094436C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0333-22FB-4A91-8F11-A57F5C37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89BD-243E-46F1-8F97-D149803D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AF2D-391F-43D8-B2B2-062F5BE1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FB1A-7F70-4736-BE68-75DE62DD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8BBE-B648-4BA4-8F31-B27285FC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8CB-A0BE-4D5C-85CF-B052F6DB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449-6404-4EED-BCF8-649EBD6C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065-B5C0-487D-AC33-37ABBCC3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568-3A84-4FF5-A96F-7B87B888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934-29E2-4CEB-9819-1EA2FF0B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9D0-A2D7-47AD-9B37-5DB9C344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0E6-9C69-41F6-A6A4-60121AE8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93C9-1A31-4ABE-BDB7-B18472089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CFAB-F468-4907-9026-D5FAB5C2B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ushkin/pushkin_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a_n_n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А.С. Пушк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33600"/>
            <a:ext cx="3573360" cy="4581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8"/>
          <p:cNvSpPr txBox="1"/>
          <p:nvPr/>
        </p:nvSpPr>
        <p:spPr>
          <a:xfrm>
            <a:off x="0" y="177840"/>
            <a:ext cx="914400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39257">
                        <a:alpha val="55294"/>
                      </a:srgbClr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лександр Сергеевич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39257">
                      <a:alpha val="55294"/>
                    </a:srgbClr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4716360" y="1736640"/>
            <a:ext cx="35258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55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ушкин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55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851280" y="3294000"/>
            <a:ext cx="511344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Monotype Corsiva"/>
              </a:rPr>
              <a:t>(06.06.1799 - 10.02.1837)</a:t>
            </a:r>
            <a:r>
              <a:rPr b="0" lang="ru-RU" sz="2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Автор: Маракова Е.М.</a:t>
            </a:r>
            <a:r>
              <a:rPr b="0" lang="ru-RU" sz="3200" spc="-1" strike="noStrike">
                <a:solidFill>
                  <a:srgbClr val="d7d1b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1620000"/>
            <a:ext cx="52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Александр I"/>
          <p:cNvPicPr/>
          <p:nvPr/>
        </p:nvPicPr>
        <p:blipFill>
          <a:blip r:embed="rId1"/>
          <a:stretch/>
        </p:blipFill>
        <p:spPr>
          <a:xfrm>
            <a:off x="5940360" y="1125360"/>
            <a:ext cx="2595600" cy="3951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6591240" y="50842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39257"/>
                </a:solidFill>
                <a:latin typeface="Monotype Corsiva"/>
              </a:rPr>
              <a:t>На Юге (1820-1834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6919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 1820 г. Пушкин прожил на Кавказе, где начал поэму "Кавказский пленник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140360" y="378936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жные поэмы Пушк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вказский пленник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ратья - разбойник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ахчисарайский фонта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Гаврилиад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bio_11_4"/>
          <p:cNvPicPr/>
          <p:nvPr/>
        </p:nvPicPr>
        <p:blipFill>
          <a:blip r:embed="rId1"/>
          <a:stretch/>
        </p:blipFill>
        <p:spPr>
          <a:xfrm>
            <a:off x="0" y="2276640"/>
            <a:ext cx="4084560" cy="28843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0"/>
          <p:cNvSpPr/>
          <p:nvPr/>
        </p:nvSpPr>
        <p:spPr>
          <a:xfrm>
            <a:off x="4140360" y="1844640"/>
            <a:ext cx="50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чение трех лет Пушкин жил в Кишинев на квартире у Ин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644364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Михайловское (1824-1826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932360" y="1265400"/>
            <a:ext cx="42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августа 1824 г прибыл в Михайловское , куда был выслан из-за разногласий на служ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mesta_12_1"/>
          <p:cNvPicPr/>
          <p:nvPr/>
        </p:nvPicPr>
        <p:blipFill>
          <a:blip r:embed="rId1"/>
          <a:stretch/>
        </p:blipFill>
        <p:spPr>
          <a:xfrm>
            <a:off x="0" y="907920"/>
            <a:ext cx="4862520" cy="30844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1695600" y="40050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1150920" y="4652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ена работа над поэмой 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а шутливая поэма "Граф Нулин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94036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Конец двадцатых годов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132000" y="148428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нтябре Пушкин с фельдъегерем был отправлен в Москву на свидание с Николаем I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37771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827 года Пушкин ведет праздную жизнь, задумывается над устройством семей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28 году он делает попытку вступить в брак с Анной Олени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шет неоконченный роман "Арап Петра Великого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у "Полтав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Николай I - Николай Павлович"/>
          <p:cNvPicPr/>
          <p:nvPr/>
        </p:nvPicPr>
        <p:blipFill>
          <a:blip r:embed="rId1"/>
          <a:stretch/>
        </p:blipFill>
        <p:spPr>
          <a:xfrm>
            <a:off x="179280" y="189000"/>
            <a:ext cx="2860920" cy="31464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1"/>
          <p:cNvSpPr/>
          <p:nvPr/>
        </p:nvSpPr>
        <p:spPr>
          <a:xfrm>
            <a:off x="975600" y="335772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колай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4885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643280" y="42372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е 1829 г. он посватался в Москве к юной красавице Наталии Николаевне 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>
            <a:hlinkClick r:id="rId1"/>
          </p:cNvPr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5"/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3902040" y="2712960"/>
            <a:ext cx="1428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9"/>
          <p:cNvSpPr/>
          <p:nvPr/>
        </p:nvSpPr>
        <p:spPr>
          <a:xfrm>
            <a:off x="4859280" y="2913120"/>
            <a:ext cx="42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и годы напис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Полт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стихотв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 в жур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Роман в письмах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1" descr="pushkina_n_n"/>
          <p:cNvPicPr/>
          <p:nvPr/>
        </p:nvPicPr>
        <p:blipFill>
          <a:blip r:embed="rId2"/>
          <a:stretch/>
        </p:blipFill>
        <p:spPr>
          <a:xfrm>
            <a:off x="179280" y="333360"/>
            <a:ext cx="4289400" cy="52704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Болдинская осень 1830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3716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отправился в с.Болдино, чтобы оформить дела по введению во владение им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Болдино"/>
          <p:cNvPicPr/>
          <p:nvPr/>
        </p:nvPicPr>
        <p:blipFill>
          <a:blip r:embed="rId1"/>
          <a:stretch/>
        </p:blipFill>
        <p:spPr>
          <a:xfrm>
            <a:off x="0" y="981000"/>
            <a:ext cx="1871640" cy="249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Болдино"/>
          <p:cNvPicPr/>
          <p:nvPr/>
        </p:nvPicPr>
        <p:blipFill>
          <a:blip r:embed="rId2"/>
          <a:stretch/>
        </p:blipFill>
        <p:spPr>
          <a:xfrm>
            <a:off x="2050920" y="907920"/>
            <a:ext cx="1871640" cy="2494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0"/>
          <p:cNvSpPr/>
          <p:nvPr/>
        </p:nvSpPr>
        <p:spPr>
          <a:xfrm>
            <a:off x="4067280" y="126828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мая 1830 г. состоялась. наконец, помолвка Пушкина с Н.Н. Гончар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1" descr="boldino_09"/>
          <p:cNvPicPr/>
          <p:nvPr/>
        </p:nvPicPr>
        <p:blipFill>
          <a:blip r:embed="rId1"/>
          <a:stretch/>
        </p:blipFill>
        <p:spPr>
          <a:xfrm>
            <a:off x="0" y="620640"/>
            <a:ext cx="2954160" cy="42213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3"/>
          <p:cNvSpPr/>
          <p:nvPr/>
        </p:nvSpPr>
        <p:spPr>
          <a:xfrm>
            <a:off x="2916360" y="260280"/>
            <a:ext cx="6227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Болдинская осень" 1830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овести Белкин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аленькие трагеди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упой рыцар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оцарт и Сальер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менный гост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р во время чум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Домик в Коломн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 "Евгений Онеги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сть "История села Горюх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азка о попе и работнике его Балд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ие стат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стихотвор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485928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Тридцатые годы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8384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декабря 1830 г. поэт вернулся в Моск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 февраля 1831 г. состоялось венчание с Н.Н.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 время написана "Сказка о царе Салта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сьмо Онегина к Татья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редины октября 1831 г. и уже до конца жизни Пушкин с семьей живет в Петербу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2 рождается дочь Мария, 1833 г. - сын Александр, 1835 г. - Григорий, 1836 г. - Нат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5" descr="pushkina_m_a"/>
          <p:cNvPicPr/>
          <p:nvPr/>
        </p:nvPicPr>
        <p:blipFill>
          <a:blip r:embed="rId1"/>
          <a:stretch/>
        </p:blipFill>
        <p:spPr>
          <a:xfrm>
            <a:off x="0" y="0"/>
            <a:ext cx="206532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5"/>
          <p:cNvGraphicFramePr/>
          <p:nvPr/>
        </p:nvGraphicFramePr>
        <p:xfrm>
          <a:off x="2050920" y="0"/>
          <a:ext cx="2428920" cy="29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0"/>
                    <a:ext cx="242892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Picture 19" descr="pushkin_a_a"/>
          <p:cNvPicPr/>
          <p:nvPr/>
        </p:nvPicPr>
        <p:blipFill>
          <a:blip r:embed="rId4"/>
          <a:stretch/>
        </p:blipFill>
        <p:spPr>
          <a:xfrm>
            <a:off x="0" y="3506760"/>
            <a:ext cx="239724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22"/>
          <p:cNvGraphicFramePr/>
          <p:nvPr/>
        </p:nvGraphicFramePr>
        <p:xfrm>
          <a:off x="2411280" y="3300480"/>
          <a:ext cx="2422800" cy="35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300480"/>
                    <a:ext cx="24228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30"/>
          <p:cNvSpPr/>
          <p:nvPr/>
        </p:nvSpPr>
        <p:spPr>
          <a:xfrm>
            <a:off x="4356000" y="47592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ая дочь, Мари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2-1919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4932360" y="3933720"/>
            <a:ext cx="42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ий сын, Александр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3-1914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4"/>
          <p:cNvGraphicFramePr/>
          <p:nvPr/>
        </p:nvGraphicFramePr>
        <p:xfrm>
          <a:off x="0" y="4098960"/>
          <a:ext cx="222732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98960"/>
                    <a:ext cx="222732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6"/>
          <p:cNvSpPr/>
          <p:nvPr/>
        </p:nvSpPr>
        <p:spPr>
          <a:xfrm>
            <a:off x="2700360" y="450828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ая дочь, Наталь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6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pushkin_g_a"/>
          <p:cNvPicPr/>
          <p:nvPr/>
        </p:nvPicPr>
        <p:blipFill>
          <a:blip r:embed="rId3"/>
          <a:stretch/>
        </p:blipFill>
        <p:spPr>
          <a:xfrm>
            <a:off x="6854760" y="0"/>
            <a:ext cx="2289240" cy="37116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1187280" y="404640"/>
            <a:ext cx="55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ий сын, Григорий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5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Содержание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1" action="ppaction://hlinksldjump"/>
              </a:rPr>
              <a:t>Детство и семья Пушк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2" action="ppaction://hlinksldjump"/>
              </a:rPr>
              <a:t>Л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3" action="ppaction://hlinksldjump"/>
              </a:rPr>
              <a:t>Петербург (1817 - 18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4" action="ppaction://hlinksldjump"/>
              </a:rPr>
              <a:t>На Юге (1820-18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5" action="ppaction://hlinksldjump"/>
              </a:rPr>
              <a:t>Михайловское (1824-182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6" action="ppaction://hlinksldjump"/>
              </a:rPr>
              <a:t>Конец двадцаты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7" action="ppaction://hlinksldjump"/>
              </a:rPr>
              <a:t>Болдинская осень 1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8" action="ppaction://hlinksldjump"/>
              </a:rPr>
              <a:t>Тридцат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47736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рте 1836 года умерла мать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6" descr="dantes"/>
          <p:cNvPicPr/>
          <p:nvPr/>
        </p:nvPicPr>
        <p:blipFill>
          <a:blip r:embed="rId1"/>
          <a:stretch/>
        </p:blipFill>
        <p:spPr>
          <a:xfrm>
            <a:off x="5423040" y="260280"/>
            <a:ext cx="3720960" cy="4149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5947560" y="4582080"/>
            <a:ext cx="295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нар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известного художн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. Дантес-Геккерн. 1830-е г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1619280" y="4149360"/>
            <a:ext cx="59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эль с Дантесом состоялась 27 января 1837 года на Черной речке у Комендантской 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Дуэль"/>
          <p:cNvPicPr/>
          <p:nvPr/>
        </p:nvPicPr>
        <p:blipFill>
          <a:blip r:embed="rId1"/>
          <a:stretch/>
        </p:blipFill>
        <p:spPr>
          <a:xfrm>
            <a:off x="250920" y="260280"/>
            <a:ext cx="3655800" cy="3198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Умирающий Пушкин"/>
          <p:cNvPicPr/>
          <p:nvPr/>
        </p:nvPicPr>
        <p:blipFill>
          <a:blip r:embed="rId2"/>
          <a:stretch/>
        </p:blipFill>
        <p:spPr>
          <a:xfrm>
            <a:off x="5219640" y="260280"/>
            <a:ext cx="3652920" cy="319572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250920" y="69228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bio_4_3"/>
          <p:cNvPicPr/>
          <p:nvPr/>
        </p:nvPicPr>
        <p:blipFill>
          <a:blip r:embed="rId1"/>
          <a:stretch/>
        </p:blipFill>
        <p:spPr>
          <a:xfrm>
            <a:off x="5749920" y="404640"/>
            <a:ext cx="3394080" cy="4526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659640" y="494100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ила Пушк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093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Детство и семья Пушкина.</a:t>
            </a: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250920" y="5373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авье де Местр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-ребенок. 1800-1802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ллическая пластинка,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3564000" y="1487880"/>
            <a:ext cx="514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26 мая 1799 года в Москве в дворянской помещичьей семье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принадлежала к самой образованной части московского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179280" y="497124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"/>
          <p:cNvGraphicFramePr/>
          <p:nvPr/>
        </p:nvGraphicFramePr>
        <p:xfrm>
          <a:off x="395280" y="1197000"/>
          <a:ext cx="30481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30481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0" y="3200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179280" y="18900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х доме собирались поэты, художники, музыка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5216400" y="2876400"/>
            <a:ext cx="34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 на Немецкой улице в Москв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родился А.С.Пушки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фотографии конца XIX 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3851280" y="464040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его, Сергей Львович (1771 -1848 ), происходил из помещичьей, когда-то богатой сем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pushkin_s_l"/>
          <p:cNvPicPr/>
          <p:nvPr/>
        </p:nvPicPr>
        <p:blipFill>
          <a:blip r:embed="rId1"/>
          <a:stretch/>
        </p:blipFill>
        <p:spPr>
          <a:xfrm>
            <a:off x="179280" y="2060640"/>
            <a:ext cx="3434040" cy="4309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545760" y="6276960"/>
            <a:ext cx="20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Кампель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Л. Пушкин. 18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bio_11_1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29098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79280" y="260280"/>
            <a:ext cx="55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5651640" y="620640"/>
          <a:ext cx="332892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620640"/>
                    <a:ext cx="332892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4"/>
          <p:cNvSpPr/>
          <p:nvPr/>
        </p:nvSpPr>
        <p:spPr>
          <a:xfrm>
            <a:off x="5731920" y="4508640"/>
            <a:ext cx="308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атюра Ксавье де Местр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О. Пушкина. 180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24000" y="234936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2700360" y="18900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Александра у Пушкиных были дети - старшая дочь Ольга и младший сын Л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41688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ему компенсировала знаменитая няня Арина Родион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" descr="pushkin_l_s"/>
          <p:cNvPicPr/>
          <p:nvPr/>
        </p:nvPicPr>
        <p:blipFill>
          <a:blip r:embed="rId1"/>
          <a:stretch/>
        </p:blipFill>
        <p:spPr>
          <a:xfrm>
            <a:off x="6578640" y="0"/>
            <a:ext cx="2565360" cy="3317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avlischeva_o_s"/>
          <p:cNvPicPr/>
          <p:nvPr/>
        </p:nvPicPr>
        <p:blipFill>
          <a:blip r:embed="rId2"/>
          <a:stretch/>
        </p:blipFill>
        <p:spPr>
          <a:xfrm>
            <a:off x="0" y="0"/>
            <a:ext cx="2548080" cy="2922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6443640" y="3285360"/>
            <a:ext cx="28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О.Орловски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С. Пушкин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половина 182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55600" y="292500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.А. Плюшар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.С. Павлище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едина 183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arina"/>
          <p:cNvPicPr/>
          <p:nvPr/>
        </p:nvPicPr>
        <p:blipFill>
          <a:blip r:embed="rId3"/>
          <a:stretch/>
        </p:blipFill>
        <p:spPr>
          <a:xfrm>
            <a:off x="3419640" y="2565360"/>
            <a:ext cx="2249280" cy="3314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3"/>
          <p:cNvSpPr/>
          <p:nvPr/>
        </p:nvSpPr>
        <p:spPr>
          <a:xfrm>
            <a:off x="2922840" y="5877720"/>
            <a:ext cx="312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.П. Серяк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ельеф Арины Родионовн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по кости 184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973920" y="0"/>
            <a:ext cx="217008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Лицей.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348000" y="1052640"/>
            <a:ext cx="57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2 лет Александр был отвезен учиться в Царскосельский Лицей под Петербур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bio_4_1"/>
          <p:cNvPicPr/>
          <p:nvPr/>
        </p:nvPicPr>
        <p:blipFill>
          <a:blip r:embed="rId1"/>
          <a:stretch/>
        </p:blipFill>
        <p:spPr>
          <a:xfrm>
            <a:off x="0" y="549360"/>
            <a:ext cx="3274920" cy="4878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1"/>
          <p:cNvSpPr/>
          <p:nvPr/>
        </p:nvSpPr>
        <p:spPr>
          <a:xfrm>
            <a:off x="753840" y="5373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арское Се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3276720" y="364464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занятий в Лицее была обширной, но не столь глубоко продума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0" y="21744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основывалос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манном характер педагогических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ние и уважение к личности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телесных нака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 чести и товари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bio_11_2"/>
          <p:cNvPicPr/>
          <p:nvPr/>
        </p:nvPicPr>
        <p:blipFill>
          <a:blip r:embed="rId1"/>
          <a:stretch/>
        </p:blipFill>
        <p:spPr>
          <a:xfrm>
            <a:off x="1763640" y="2565360"/>
            <a:ext cx="5081760" cy="3202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2994120" y="5734080"/>
            <a:ext cx="28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А.Т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арское Село. Лицей. 18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22764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Петербург (1817 - 1820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90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 в коллегию иностранных д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572000" y="1484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пуск (около двух месяцев) провел в Михайловском, псковском имении мате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года почти безвыездно оставался в Петер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ет над поэмой "Руслан и Людмил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bio_11_3"/>
          <p:cNvPicPr/>
          <p:nvPr/>
        </p:nvPicPr>
        <p:blipFill>
          <a:blip r:embed="rId1"/>
          <a:stretch/>
        </p:blipFill>
        <p:spPr>
          <a:xfrm>
            <a:off x="0" y="1628640"/>
            <a:ext cx="4451400" cy="2919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1"/>
          <p:cNvSpPr/>
          <p:nvPr/>
        </p:nvSpPr>
        <p:spPr>
          <a:xfrm>
            <a:off x="690120" y="4509360"/>
            <a:ext cx="31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 Александров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.С. Иванова 1837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. Вид усадьб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5:04:45Z</dcterms:created>
  <dc:creator>MoD</dc:creator>
  <dc:description/>
  <dc:language>en-US</dc:language>
  <cp:lastModifiedBy>LEGION</cp:lastModifiedBy>
  <dcterms:modified xsi:type="dcterms:W3CDTF">2015-01-20T13:39:39Z</dcterms:modified>
  <cp:revision>10</cp:revision>
  <dc:subject/>
  <dc:title>Слайд 1</dc:title>
</cp:coreProperties>
</file>