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7150-A511-4E33-97D7-4554A58994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Monotype Corsiva"/>
              </a:rPr>
              <a:t>(06.06.1799 - 10.02.1837)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Автор: Маракова Е.М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2A3B-307D-44A8-ACDC-19B6B01AC4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2D24-7E5F-47C5-A9A2-A7AE6DD8E7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 1820 г. Пушкин прожил на Кавказе, где начал поэму "Кавказский пленник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трех лет Пушкин жил в Кишинев на квартире у Инз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ые поэмы Пушки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вказский пленни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ратья - разбойник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ахчисарайский фонта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Гаврилиад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F0CD-1439-41CD-8395-0EA4F90B7F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августа 1824 г прибыл в Михайловское , куда был выслан из-за разногласий на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чена работа над поэмой 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сана шутливая поэма "Граф Нулин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BC96-B900-4D0E-A422-474BCE9C56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Пушкин с фельдъегерем был отправлен в Москву на свидание с Николаем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1827 года Пушкин ведет праздную жизнь, задумывается над устройством семейной жиз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1828 году он делает попытку вступить в брак с Анной Оленин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ишет неоконченный роман "Арап Петра Великого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эму "Полтава"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D668-D199-474E-9739-AE58779B05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29 г. он посватался в Москве к юной красавице Наталии Николаевне 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и годы напис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Полтав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 стихотво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в журн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Роман в письма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CD80-6094-4924-A0FF-FF1C2D1BDA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мая 1830 г. состоялась. наконец, помолвка Пушкина с Н.Н. Гонча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 отправился в с.Болдино, чтобы оформить дела по введению во владение им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4FB5-74BA-43DB-A908-0D37073EF5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Болдинская осень" 183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вести Белкин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аленькие трагед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упой рыцар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оцарт и Сальер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менный гост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р во время чум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Домик в Коломн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"Евгений Онег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ь "История села Горюхи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азка о попе и работнике его Балд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е стать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о стихотво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2171-03BD-46A4-B9BB-667C505457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декабря 1830 г. поэт вернулся в Моск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февраля 1831 г. состоялось венчание с Н.Н.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написана "Сказка о царе Салта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сьмо Онегина к Татья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ины октября 1831 г. и уже до конца жизни Пушкин с семьей живет в Петербур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2 рождается дочь Мария, 1833 г. - сын Александр, 1835 г. - Григорий, 1836 г. - Ната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9173-77F3-4671-8937-73C1FC7439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ая дочь, Мари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-1919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, Александр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3-1914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E51D-D555-4FFA-949A-CB4ECFBCAB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сын, Григорий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5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ая дочь, Наталь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6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F095-8454-4B3D-A1EA-067A48B628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 и семья Пушк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E6F3-2E4E-4703-8DF1-F1AE2A498A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1836 года умерла мать Пушк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5FB3-67DA-4A95-9416-73E577BB7D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эль с Дантесом состоялась 27 января 1837 года на Черной речке у Комендантской 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D5BF-82F3-4EA8-BAAC-F98251BAE6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132D-48DE-47FF-A4F2-5976FF690C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етство и семья Пушкин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26 мая 1799 года в Москве в дворянской помещичьей семье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принадлежала к самой образованной части москов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79DF-36DD-44C2-8824-A0164A08A9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доме собирались поэты, художники, музыка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его, Сергей Львович (1771 -1848 ), происходил из помещичьей, когда-то богат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C716-08D7-40BE-BE3C-0E381138A9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F2B2-91E6-405C-B8B9-C9623B29EE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Александра у Пушкиных были дети - старшая дочь Ольга и младший сын Л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ему компенсировала знаменитая няня Арина Родионо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E289-84B4-400D-AFB8-6E171075E4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 лет Александр был отвезен учиться в Царскосельский Лицей под Петербур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занятий в Лицее была обширной, но не столь глубоко продума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2E6A-08E8-4C69-A0AD-0638A4A94B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 в коллегию иностранных д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(около двух месяцев) провел в Михайловском, псковском имении мате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года почти безвыездно оставался в 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ет над поэмой "Руслан и Людмил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02D2-9C60-4E42-93C5-B1B7F3C275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318-6CDA-4A75-AF38-F5A89371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7E0-4809-43C5-B81F-121B9D97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A1B-5123-47FD-9E49-44F6C3C8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F3B-60CB-4F2F-B6E8-74BCB0C4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08EC-1D66-49F4-94DD-10249566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694B-C81F-45CF-A0D7-FF23E3C7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8A60-6585-41BA-93FE-90652A7F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4326-BEC6-4A3C-99B7-FC76FABE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7008-86D0-4620-B7F3-24CB5AE8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9AA3-06E1-4A29-8DD2-24598802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AC65-5F35-4EB2-B196-E04F44A5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2F3-FDF3-4271-AC05-A4FEFF90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8A28-A4A6-4E44-ACB5-69401A98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A986-5E6F-4B99-B643-81A999A9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5D80-B464-43BC-9B64-6A6FE0FA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0199-5B86-422E-98A7-7FA3E383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FA51-8F7E-45AD-8D68-BE976832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FAA-4D1B-40CE-815F-3F2840AF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3A8-C19F-4B6A-945E-EC2DE861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F66-4954-484C-B4E4-CB1B3AFE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3AB-17D4-4661-AF5D-04016887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64C-FC83-49C0-B385-E1414170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28F-FBF6-4DF5-A000-8E5FC6AE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05A-C411-4C61-8232-7754C20D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6179-DCB7-48AE-9E87-25FEAD3FA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8485-6C8E-4E82-B481-1AB85519BF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ushkin/pushkin_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a_n_n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А.С. Пушк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33600"/>
            <a:ext cx="3573360" cy="4581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8"/>
          <p:cNvSpPr txBox="1"/>
          <p:nvPr/>
        </p:nvSpPr>
        <p:spPr>
          <a:xfrm>
            <a:off x="0" y="177840"/>
            <a:ext cx="914400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39257">
                        <a:alpha val="55294"/>
                      </a:srgbClr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лександр Сергеевич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39257">
                      <a:alpha val="55294"/>
                    </a:srgbClr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4716360" y="1736640"/>
            <a:ext cx="35258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55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ушкин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55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851280" y="3294000"/>
            <a:ext cx="511344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Monotype Corsiva"/>
              </a:rPr>
              <a:t>(06.06.1799 - 10.02.1837)</a:t>
            </a:r>
            <a:r>
              <a:rPr b="0" lang="ru-RU" sz="2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Автор: Маракова Е.М.</a:t>
            </a:r>
            <a:r>
              <a:rPr b="0" lang="ru-RU" sz="3200" spc="-1" strike="noStrike">
                <a:solidFill>
                  <a:srgbClr val="d7d1b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1620000"/>
            <a:ext cx="52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Александр I"/>
          <p:cNvPicPr/>
          <p:nvPr/>
        </p:nvPicPr>
        <p:blipFill>
          <a:blip r:embed="rId1"/>
          <a:stretch/>
        </p:blipFill>
        <p:spPr>
          <a:xfrm>
            <a:off x="5940360" y="1125360"/>
            <a:ext cx="2595600" cy="3951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6591240" y="50842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39257"/>
                </a:solidFill>
                <a:latin typeface="Monotype Corsiva"/>
              </a:rPr>
              <a:t>На Юге (1820-1834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6919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 1820 г. Пушкин прожил на Кавказе, где начал поэму "Кавказский пленник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140360" y="378936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жные поэмы Пушк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вказский пленник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ратья - разбойник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ахчисарайский фонта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Гаврилиад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bio_11_4"/>
          <p:cNvPicPr/>
          <p:nvPr/>
        </p:nvPicPr>
        <p:blipFill>
          <a:blip r:embed="rId1"/>
          <a:stretch/>
        </p:blipFill>
        <p:spPr>
          <a:xfrm>
            <a:off x="0" y="2276640"/>
            <a:ext cx="4084560" cy="28843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0"/>
          <p:cNvSpPr/>
          <p:nvPr/>
        </p:nvSpPr>
        <p:spPr>
          <a:xfrm>
            <a:off x="4140360" y="1844640"/>
            <a:ext cx="50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чение трех лет Пушкин жил в Кишинев на квартире у Ин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644364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Михайловское (1824-1826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932360" y="1265400"/>
            <a:ext cx="42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августа 1824 г прибыл в Михайловское , куда был выслан из-за разногласий на служ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mesta_12_1"/>
          <p:cNvPicPr/>
          <p:nvPr/>
        </p:nvPicPr>
        <p:blipFill>
          <a:blip r:embed="rId1"/>
          <a:stretch/>
        </p:blipFill>
        <p:spPr>
          <a:xfrm>
            <a:off x="0" y="907920"/>
            <a:ext cx="4862520" cy="30844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1695600" y="40050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1150920" y="4652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ена работа над поэмой 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а шутливая поэма "Граф Нулин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94036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Конец двадцатых годов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132000" y="148428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нтябре Пушкин с фельдъегерем был отправлен в Москву на свидание с Николаем I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37771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827 года Пушкин ведет праздную жизнь, задумывается над устройством семей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28 году он делает попытку вступить в брак с Анной Олени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шет неоконченный роман "Арап Петра Великого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у "Полтав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Николай I - Николай Павлович"/>
          <p:cNvPicPr/>
          <p:nvPr/>
        </p:nvPicPr>
        <p:blipFill>
          <a:blip r:embed="rId1"/>
          <a:stretch/>
        </p:blipFill>
        <p:spPr>
          <a:xfrm>
            <a:off x="179280" y="189000"/>
            <a:ext cx="2860920" cy="31464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1"/>
          <p:cNvSpPr/>
          <p:nvPr/>
        </p:nvSpPr>
        <p:spPr>
          <a:xfrm>
            <a:off x="975600" y="335772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колай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4885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643280" y="42372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е 1829 г. он посватался в Москве к юной красавице Наталии Николаевне 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>
            <a:hlinkClick r:id="rId1"/>
          </p:cNvPr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5"/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3902040" y="2712960"/>
            <a:ext cx="1428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9"/>
          <p:cNvSpPr/>
          <p:nvPr/>
        </p:nvSpPr>
        <p:spPr>
          <a:xfrm>
            <a:off x="4859280" y="2913120"/>
            <a:ext cx="42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и годы напис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Полт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стихотв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 в жур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Роман в письмах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1" descr="pushkina_n_n"/>
          <p:cNvPicPr/>
          <p:nvPr/>
        </p:nvPicPr>
        <p:blipFill>
          <a:blip r:embed="rId2"/>
          <a:stretch/>
        </p:blipFill>
        <p:spPr>
          <a:xfrm>
            <a:off x="179280" y="333360"/>
            <a:ext cx="4289400" cy="52704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Болдинская осень 1830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3716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отправился в с.Болдино, чтобы оформить дела по введению во владение им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Болдино"/>
          <p:cNvPicPr/>
          <p:nvPr/>
        </p:nvPicPr>
        <p:blipFill>
          <a:blip r:embed="rId1"/>
          <a:stretch/>
        </p:blipFill>
        <p:spPr>
          <a:xfrm>
            <a:off x="0" y="981000"/>
            <a:ext cx="1871640" cy="249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Болдино"/>
          <p:cNvPicPr/>
          <p:nvPr/>
        </p:nvPicPr>
        <p:blipFill>
          <a:blip r:embed="rId2"/>
          <a:stretch/>
        </p:blipFill>
        <p:spPr>
          <a:xfrm>
            <a:off x="2050920" y="907920"/>
            <a:ext cx="1871640" cy="2494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0"/>
          <p:cNvSpPr/>
          <p:nvPr/>
        </p:nvSpPr>
        <p:spPr>
          <a:xfrm>
            <a:off x="4067280" y="126828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мая 1830 г. состоялась. наконец, помолвка Пушкина с Н.Н. Гончар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1" descr="boldino_09"/>
          <p:cNvPicPr/>
          <p:nvPr/>
        </p:nvPicPr>
        <p:blipFill>
          <a:blip r:embed="rId1"/>
          <a:stretch/>
        </p:blipFill>
        <p:spPr>
          <a:xfrm>
            <a:off x="0" y="620640"/>
            <a:ext cx="2954160" cy="42213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3"/>
          <p:cNvSpPr/>
          <p:nvPr/>
        </p:nvSpPr>
        <p:spPr>
          <a:xfrm>
            <a:off x="2916360" y="260280"/>
            <a:ext cx="6227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Болдинская осень" 1830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овести Белкин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аленькие трагеди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упой рыцар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оцарт и Сальер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менный гост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р во время чум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Домик в Коломн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 "Евгений Онеги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сть "История села Горюх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азка о попе и работнике его Балд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ие стат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стихотвор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485928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Тридцатые годы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8384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декабря 1830 г. поэт вернулся в Моск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 февраля 1831 г. состоялось венчание с Н.Н.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 время написана "Сказка о царе Салта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сьмо Онегина к Татья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редины октября 1831 г. и уже до конца жизни Пушкин с семьей живет в Петербу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2 рождается дочь Мария, 1833 г. - сын Александр, 1835 г. - Григорий, 1836 г. - Нат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5" descr="pushkina_m_a"/>
          <p:cNvPicPr/>
          <p:nvPr/>
        </p:nvPicPr>
        <p:blipFill>
          <a:blip r:embed="rId1"/>
          <a:stretch/>
        </p:blipFill>
        <p:spPr>
          <a:xfrm>
            <a:off x="0" y="0"/>
            <a:ext cx="206532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5"/>
          <p:cNvGraphicFramePr/>
          <p:nvPr/>
        </p:nvGraphicFramePr>
        <p:xfrm>
          <a:off x="2050920" y="0"/>
          <a:ext cx="2428920" cy="29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0"/>
                    <a:ext cx="242892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Picture 19" descr="pushkin_a_a"/>
          <p:cNvPicPr/>
          <p:nvPr/>
        </p:nvPicPr>
        <p:blipFill>
          <a:blip r:embed="rId4"/>
          <a:stretch/>
        </p:blipFill>
        <p:spPr>
          <a:xfrm>
            <a:off x="0" y="3506760"/>
            <a:ext cx="239724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22"/>
          <p:cNvGraphicFramePr/>
          <p:nvPr/>
        </p:nvGraphicFramePr>
        <p:xfrm>
          <a:off x="2411280" y="3300480"/>
          <a:ext cx="2422800" cy="35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300480"/>
                    <a:ext cx="24228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30"/>
          <p:cNvSpPr/>
          <p:nvPr/>
        </p:nvSpPr>
        <p:spPr>
          <a:xfrm>
            <a:off x="4356000" y="47592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ая дочь, Мари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2-1919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4932360" y="3933720"/>
            <a:ext cx="42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ий сын, Александр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3-1914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4"/>
          <p:cNvGraphicFramePr/>
          <p:nvPr/>
        </p:nvGraphicFramePr>
        <p:xfrm>
          <a:off x="0" y="4098960"/>
          <a:ext cx="222732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98960"/>
                    <a:ext cx="222732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6"/>
          <p:cNvSpPr/>
          <p:nvPr/>
        </p:nvSpPr>
        <p:spPr>
          <a:xfrm>
            <a:off x="2700360" y="450828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ая дочь, Наталь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6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pushkin_g_a"/>
          <p:cNvPicPr/>
          <p:nvPr/>
        </p:nvPicPr>
        <p:blipFill>
          <a:blip r:embed="rId3"/>
          <a:stretch/>
        </p:blipFill>
        <p:spPr>
          <a:xfrm>
            <a:off x="6854760" y="0"/>
            <a:ext cx="2289240" cy="37116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1187280" y="404640"/>
            <a:ext cx="55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ий сын, Григорий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5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Содержание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1" action="ppaction://hlinksldjump"/>
              </a:rPr>
              <a:t>Детство и семья Пушк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2" action="ppaction://hlinksldjump"/>
              </a:rPr>
              <a:t>Л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3" action="ppaction://hlinksldjump"/>
              </a:rPr>
              <a:t>Петербург (1817 - 18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4" action="ppaction://hlinksldjump"/>
              </a:rPr>
              <a:t>На Юге (1820-18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5" action="ppaction://hlinksldjump"/>
              </a:rPr>
              <a:t>Михайловское (1824-182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6" action="ppaction://hlinksldjump"/>
              </a:rPr>
              <a:t>Конец двадцаты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7" action="ppaction://hlinksldjump"/>
              </a:rPr>
              <a:t>Болдинская осень 1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8" action="ppaction://hlinksldjump"/>
              </a:rPr>
              <a:t>Тридцат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47736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рте 1836 года умерла мать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6" descr="dantes"/>
          <p:cNvPicPr/>
          <p:nvPr/>
        </p:nvPicPr>
        <p:blipFill>
          <a:blip r:embed="rId1"/>
          <a:stretch/>
        </p:blipFill>
        <p:spPr>
          <a:xfrm>
            <a:off x="5423040" y="260280"/>
            <a:ext cx="3720960" cy="4149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5947560" y="4582080"/>
            <a:ext cx="295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нар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известного художн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. Дантес-Геккерн. 1830-е г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1619280" y="4149360"/>
            <a:ext cx="59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эль с Дантесом состоялась 27 января 1837 года на Черной речке у Комендантской 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Дуэль"/>
          <p:cNvPicPr/>
          <p:nvPr/>
        </p:nvPicPr>
        <p:blipFill>
          <a:blip r:embed="rId1"/>
          <a:stretch/>
        </p:blipFill>
        <p:spPr>
          <a:xfrm>
            <a:off x="250920" y="260280"/>
            <a:ext cx="3655800" cy="3198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Умирающий Пушкин"/>
          <p:cNvPicPr/>
          <p:nvPr/>
        </p:nvPicPr>
        <p:blipFill>
          <a:blip r:embed="rId2"/>
          <a:stretch/>
        </p:blipFill>
        <p:spPr>
          <a:xfrm>
            <a:off x="5219640" y="260280"/>
            <a:ext cx="3652920" cy="319572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250920" y="69228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bio_4_3"/>
          <p:cNvPicPr/>
          <p:nvPr/>
        </p:nvPicPr>
        <p:blipFill>
          <a:blip r:embed="rId1"/>
          <a:stretch/>
        </p:blipFill>
        <p:spPr>
          <a:xfrm>
            <a:off x="5749920" y="404640"/>
            <a:ext cx="3394080" cy="4526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659640" y="494100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ила Пушк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093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Детство и семья Пушкина.</a:t>
            </a: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250920" y="5373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авье де Местр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-ребенок. 1800-1802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ллическая пластинка,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3564000" y="1487880"/>
            <a:ext cx="514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26 мая 1799 года в Москве в дворянской помещичьей семье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принадлежала к самой образованной части московского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179280" y="497124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"/>
          <p:cNvGraphicFramePr/>
          <p:nvPr/>
        </p:nvGraphicFramePr>
        <p:xfrm>
          <a:off x="395280" y="1197000"/>
          <a:ext cx="30481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30481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0" y="3200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179280" y="18900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х доме собирались поэты, художники, музыка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5216400" y="2876400"/>
            <a:ext cx="34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 на Немецкой улице в Москв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родился А.С.Пушки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фотографии конца XIX 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3851280" y="464040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его, Сергей Львович (1771 -1848 ), происходил из помещичьей, когда-то богатой сем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pushkin_s_l"/>
          <p:cNvPicPr/>
          <p:nvPr/>
        </p:nvPicPr>
        <p:blipFill>
          <a:blip r:embed="rId1"/>
          <a:stretch/>
        </p:blipFill>
        <p:spPr>
          <a:xfrm>
            <a:off x="179280" y="2060640"/>
            <a:ext cx="3434040" cy="4309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545760" y="6276960"/>
            <a:ext cx="20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Кампель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Л. Пушкин. 18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bio_11_1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29098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79280" y="260280"/>
            <a:ext cx="55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5651640" y="620640"/>
          <a:ext cx="332892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620640"/>
                    <a:ext cx="332892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4"/>
          <p:cNvSpPr/>
          <p:nvPr/>
        </p:nvSpPr>
        <p:spPr>
          <a:xfrm>
            <a:off x="5731920" y="4508640"/>
            <a:ext cx="308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атюра Ксавье де Местр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О. Пушкина. 180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24000" y="234936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2700360" y="18900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Александра у Пушкиных были дети - старшая дочь Ольга и младший сын Л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41688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ему компенсировала знаменитая няня Арина Родион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" descr="pushkin_l_s"/>
          <p:cNvPicPr/>
          <p:nvPr/>
        </p:nvPicPr>
        <p:blipFill>
          <a:blip r:embed="rId1"/>
          <a:stretch/>
        </p:blipFill>
        <p:spPr>
          <a:xfrm>
            <a:off x="6578640" y="0"/>
            <a:ext cx="2565360" cy="3317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avlischeva_o_s"/>
          <p:cNvPicPr/>
          <p:nvPr/>
        </p:nvPicPr>
        <p:blipFill>
          <a:blip r:embed="rId2"/>
          <a:stretch/>
        </p:blipFill>
        <p:spPr>
          <a:xfrm>
            <a:off x="0" y="0"/>
            <a:ext cx="2548080" cy="2922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6443640" y="3285360"/>
            <a:ext cx="28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О.Орловски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С. Пушкин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половина 182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55600" y="292500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.А. Плюшар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.С. Павлище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едина 183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arina"/>
          <p:cNvPicPr/>
          <p:nvPr/>
        </p:nvPicPr>
        <p:blipFill>
          <a:blip r:embed="rId3"/>
          <a:stretch/>
        </p:blipFill>
        <p:spPr>
          <a:xfrm>
            <a:off x="3419640" y="2565360"/>
            <a:ext cx="2249280" cy="3314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3"/>
          <p:cNvSpPr/>
          <p:nvPr/>
        </p:nvSpPr>
        <p:spPr>
          <a:xfrm>
            <a:off x="2922840" y="5877720"/>
            <a:ext cx="312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.П. Серяк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ельеф Арины Родионовн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по кости 184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973920" y="0"/>
            <a:ext cx="217008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Лицей.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348000" y="1052640"/>
            <a:ext cx="57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2 лет Александр был отвезен учиться в Царскосельский Лицей под Петербур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bio_4_1"/>
          <p:cNvPicPr/>
          <p:nvPr/>
        </p:nvPicPr>
        <p:blipFill>
          <a:blip r:embed="rId1"/>
          <a:stretch/>
        </p:blipFill>
        <p:spPr>
          <a:xfrm>
            <a:off x="0" y="549360"/>
            <a:ext cx="3274920" cy="4878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1"/>
          <p:cNvSpPr/>
          <p:nvPr/>
        </p:nvSpPr>
        <p:spPr>
          <a:xfrm>
            <a:off x="753840" y="5373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арское Се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3276720" y="364464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занятий в Лицее была обширной, но не столь глубоко продума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0" y="21744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основывалос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манном характер педагогических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ние и уважение к личности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телесных нака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 чести и товари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bio_11_2"/>
          <p:cNvPicPr/>
          <p:nvPr/>
        </p:nvPicPr>
        <p:blipFill>
          <a:blip r:embed="rId1"/>
          <a:stretch/>
        </p:blipFill>
        <p:spPr>
          <a:xfrm>
            <a:off x="1763640" y="2565360"/>
            <a:ext cx="5081760" cy="3202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2994120" y="5734080"/>
            <a:ext cx="28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А.Т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арское Село. Лицей. 18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22764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Петербург (1817 - 1820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90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 в коллегию иностранных д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572000" y="1484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пуск (около двух месяцев) провел в Михайловском, псковском имении мате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года почти безвыездно оставался в Петер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ет над поэмой "Руслан и Людмил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bio_11_3"/>
          <p:cNvPicPr/>
          <p:nvPr/>
        </p:nvPicPr>
        <p:blipFill>
          <a:blip r:embed="rId1"/>
          <a:stretch/>
        </p:blipFill>
        <p:spPr>
          <a:xfrm>
            <a:off x="0" y="1628640"/>
            <a:ext cx="4451400" cy="2919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1"/>
          <p:cNvSpPr/>
          <p:nvPr/>
        </p:nvSpPr>
        <p:spPr>
          <a:xfrm>
            <a:off x="690120" y="4509360"/>
            <a:ext cx="31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 Александров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.С. Иванова 1837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. Вид усадьб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5:04:45Z</dcterms:created>
  <dc:creator>MoD</dc:creator>
  <dc:description/>
  <dc:language>en-US</dc:language>
  <cp:lastModifiedBy>LEGION</cp:lastModifiedBy>
  <dcterms:modified xsi:type="dcterms:W3CDTF">2015-01-20T13:39:39Z</dcterms:modified>
  <cp:revision>10</cp:revision>
  <dc:subject/>
  <dc:title>Слайд 1</dc:title>
</cp:coreProperties>
</file>