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A56B-C620-433F-B207-9000C54EBD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ама «Г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32F6-4C59-48BA-93E5-4958A03E2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0F8C-85CB-4939-8B45-2A06BDB2C9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6718-DADF-43BE-83F0-7ACDCE21A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литературы 10 клас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атерина в борьбе за свои человеческие пра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B093-5F88-4EDC-9D13-014A23126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8BF3-66B7-42D2-9E7D-864FA4164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141B-E72E-462D-85C0-8DCCA02ED1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E4BD-B47D-47E2-8F78-63633EEE38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Жизнь Катерины в родительском дом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190D-54F9-49A3-B34F-E1D977E12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Катерины в доме Кабан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4D27-AADC-4034-9369-F864D0842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 харак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AAB3-2B75-49AC-8F8D-6A88367BC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7852-E0C7-4256-9DB8-DAD270589F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A9D-C643-4FDF-A0C4-F73654CB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5E2-6ACE-4DD0-9E9A-563C311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7AA-EBF2-468A-8042-DB79CE2B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2B0-209C-48DF-9497-1B63E5E1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3B90-1A9B-40DA-81DB-79DC494C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5185-01C7-4051-9A26-90715E22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2185-3B71-4BF0-B3B7-6C5AB7B8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EABA-086B-4017-86BE-09BF38B7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0579-ED8A-451A-B7F2-422F00DA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0FF1-C05A-4260-A042-F703D711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D0A4-F56C-485C-9F82-5E5C39D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DAE-FF9F-46CD-962E-5C84D32A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EF00-47CD-4C7A-A176-5292D3BE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1598-5DB0-4599-89F8-0C62BC92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81C7-7B8E-430A-8CE7-BEA1D574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7CDE-9C87-4E28-9660-5C39F432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6206-69DE-44A9-9EF5-1DD6F2D8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B68-44EE-4723-BC29-2EABD553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448-9830-47E5-923E-6A064D6B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C95-D568-42F9-8686-02959644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0E47-0858-4B8F-98BF-400B64F3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50C-F749-4309-A146-939B0F06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59C-93E0-4C06-BDF2-BCFFE541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540-8630-4356-8A9C-255F5C1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5EDB-D8AC-4694-842A-EC1661EB29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1666-1EA8-4D85-A9AD-76D0F633CB1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LEGION</cp:lastModifiedBy>
  <dcterms:modified xsi:type="dcterms:W3CDTF">2015-01-20T13:40:30Z</dcterms:modified>
  <cp:revision>55</cp:revision>
  <dc:subject/>
  <dc:title>Урок-обобщение по экономике для 6 классов</dc:title>
</cp:coreProperties>
</file>