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9526-9CA1-48FD-8F4A-0C7448EC16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ама «Гроз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B5BF-550E-4D06-BEEB-7ADA134081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1DE3-2A56-432B-96EB-FC52C61CE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42D8-0B6F-4F21-973B-161C363ED1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литературы 10 класс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Катерина в борьбе за свои человеческие прав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C725-ED52-419C-B9E5-A437816F85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4635-B962-4503-9C7D-86CD525158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3503-936F-41B9-A00A-89494928ED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FEFA-125F-4EC7-8B74-53DDD4A862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Жизнь Катерины в родительском дом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AD1C-1224-445D-B23C-3B20B1C29F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ь Катерины в доме Кабан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BE76-4081-482A-A487-FE199C892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 характе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A5F2-D85A-43DD-8104-AFE52A08E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345C-1C45-4CDD-866C-CA0944E335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8E6-515F-41A6-A843-65EEE220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8B8-CFBE-421D-8DEA-B3380EE3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D4A-E8B3-4ABE-A60B-3BE4F467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616-E05C-4438-B63F-C5FEBF70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9D6A-A3BC-4899-812D-E4B065B6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BB77-6106-4F77-94CF-F372074F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815C-C225-46CA-B945-0B1229B3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FFAC-F17B-4B8C-AC7E-430C4A0C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CEB9-BAA0-4086-8D42-9E4FD6DD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057B-828F-48B3-B59C-702D57D8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4D05-E77E-4557-8FCA-0763DF7E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380-9A2D-494B-9379-BA680367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DD7C-446A-4AE6-88F9-20D3F1F1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6295-B155-4290-8EAF-A01511E0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4A14-B7EA-46F0-B82B-E06D0D7B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002E-BDCF-468C-967F-6DAB279C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E5E4-A3D9-4F81-95A4-7761176C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050-2C78-45D3-8BE0-85C29B29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943-80CF-4688-B8BD-CD36CF61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CF20-C257-4802-A063-D012897B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BB4-8092-4579-9032-DA3DE58E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654-B9C1-4048-ACD1-57635200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9C7-DD80-4C6D-AD7D-42798F59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133-3EFF-4C6E-B72E-D155D39B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EB2C-9C2D-4819-8A76-4FEAC9955E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0F97-AF2A-4E79-8A62-2AE68FCAC8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143000"/>
            <a:ext cx="8362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Драма «Гроза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lit17-18p"/>
          <p:cNvPicPr/>
          <p:nvPr/>
        </p:nvPicPr>
        <p:blipFill>
          <a:blip r:embed="rId1"/>
          <a:stretch/>
        </p:blipFill>
        <p:spPr>
          <a:xfrm>
            <a:off x="0" y="0"/>
            <a:ext cx="327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36_2_25"/>
          <p:cNvPicPr/>
          <p:nvPr/>
        </p:nvPicPr>
        <p:blipFill>
          <a:blip r:embed="rId1"/>
          <a:stretch/>
        </p:blipFill>
        <p:spPr>
          <a:xfrm>
            <a:off x="4284720" y="2349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36_2_53"/>
          <p:cNvPicPr/>
          <p:nvPr/>
        </p:nvPicPr>
        <p:blipFill>
          <a:blip r:embed="rId2"/>
          <a:stretch/>
        </p:blipFill>
        <p:spPr>
          <a:xfrm>
            <a:off x="4500720" y="5300640"/>
            <a:ext cx="952200" cy="7714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311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Урок литературы 10 класс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«Катерина в борьбе за свои человеческие права»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07664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 уро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lit17-10"/>
          <p:cNvPicPr/>
          <p:nvPr/>
        </p:nvPicPr>
        <p:blipFill>
          <a:blip r:embed="rId1"/>
          <a:stretch/>
        </p:blipFill>
        <p:spPr>
          <a:xfrm>
            <a:off x="1042920" y="549360"/>
            <a:ext cx="6553440" cy="40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lit17-13p"/>
          <p:cNvPicPr/>
          <p:nvPr/>
        </p:nvPicPr>
        <p:blipFill>
          <a:blip r:embed="rId1"/>
          <a:stretch/>
        </p:blipFill>
        <p:spPr>
          <a:xfrm>
            <a:off x="4309920" y="2060640"/>
            <a:ext cx="3502080" cy="3384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. Жизнь Катерины в родительском доме.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Жизнь Катерины в доме Кабаново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черты характер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3:31:57Z</dcterms:created>
  <dc:creator>Ewgeniy</dc:creator>
  <dc:description/>
  <dc:language>en-US</dc:language>
  <cp:lastModifiedBy>LEGION</cp:lastModifiedBy>
  <dcterms:modified xsi:type="dcterms:W3CDTF">2015-01-20T13:40:30Z</dcterms:modified>
  <cp:revision>55</cp:revision>
  <dc:subject/>
  <dc:title>Урок-обобщение по экономике для 6 классов</dc:title>
</cp:coreProperties>
</file>