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C066-3803-451E-9DD1-2E864714F5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ама «Гроз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6077-43CE-4496-885B-9414DB53C3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E5BF-CCD6-4D05-A8D6-457EC7DFD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A89F-DC73-4813-AA5E-700518CC7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литературы 10 класс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«Катерина в борьбе за свои человеческие прав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FFD2D-0B5B-4F97-B92D-8F71B77FFB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05CB-7B6E-473F-90D0-E816C1B189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58D6-B0A6-4F95-8649-31A585024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C5D4-D215-4436-B211-1D31E820EE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Жизнь Катерины в родительском доме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1312-484B-4DD7-AA4A-5F5D71DA1A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 Катерины в доме Кабан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8E0A-FD23-4F6E-AFFC-93E1DC493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черты характе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79E1-0696-45F6-BBED-82A81192D6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67D0-20C5-44DB-93A3-824DEE70F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6498-7A10-440F-B873-D9A68DD2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BC8C-BA85-4A65-A311-A31FA431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0762-EC67-4A82-AE5D-71EDEB5C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C2FF-7017-4D06-ACEF-0B9004408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7165A-E85B-445B-9954-30476B8A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C573-FD75-430B-A561-229323B0C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4083-C2F4-4CC2-9A09-AEE49906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D0A9-68E4-4F13-82B6-D4B1A8EFB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1AFD-496C-4751-AD7A-EE5F522DA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4789-3C2E-49D5-A9E6-7DF189750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1420-567E-4BC7-8A25-7534A6F2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CDF-D289-4619-B00F-1B907E20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FA4B-700C-4B0A-89F9-EDEEB8CDF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3C23E-96C4-4298-B868-04F1811E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0829-0554-44FE-A28D-E959AA2E2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1761-C27F-4CB9-9A53-8B8F4F06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818C-4FD3-4F03-B5AD-E787FF244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65E-13D5-4220-A8FB-1408DEDE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B444-4B46-477F-AF3F-C1ED5F35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FCB-24ED-4784-9E33-FF882A60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A60-A2FF-4AF3-8A5C-80FAF12D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A070-5B46-4403-AD97-1F84055A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DAB-492D-4C09-ADB1-9C1543A5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3BE8-4959-431F-B394-6324B5E8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A18E-BB81-4DC5-977D-555EE068C7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9894-FA78-4BF8-A97B-926A2A2D69B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1143000"/>
            <a:ext cx="8362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Драма «Гроза»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Н.Остр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lit17-18p"/>
          <p:cNvPicPr/>
          <p:nvPr/>
        </p:nvPicPr>
        <p:blipFill>
          <a:blip r:embed="rId1"/>
          <a:stretch/>
        </p:blipFill>
        <p:spPr>
          <a:xfrm>
            <a:off x="0" y="0"/>
            <a:ext cx="327672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330033"/>
                </a:solidFill>
                <a:latin typeface="Times New Roman"/>
              </a:rPr>
              <a:t>Домашнее зад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раницы учебника. Сжатый переск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 по карточ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ьеса «Бесприданница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е задание: составить тест по содержанию пьес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Бесприданница» (10 вопрос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работ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ще раз повторите все, и хорошенько подготовьтесь к творческой рабо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36_2_25"/>
          <p:cNvPicPr/>
          <p:nvPr/>
        </p:nvPicPr>
        <p:blipFill>
          <a:blip r:embed="rId1"/>
          <a:stretch/>
        </p:blipFill>
        <p:spPr>
          <a:xfrm>
            <a:off x="4284720" y="23493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36_2_53"/>
          <p:cNvPicPr/>
          <p:nvPr/>
        </p:nvPicPr>
        <p:blipFill>
          <a:blip r:embed="rId2"/>
          <a:stretch/>
        </p:blipFill>
        <p:spPr>
          <a:xfrm>
            <a:off x="4500720" y="5300640"/>
            <a:ext cx="952200" cy="77148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2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9311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Урок литературы 10 класс</a:t>
            </a:r>
            <a:br>
              <a:rPr sz="3600"/>
            </a:br>
            <a:r>
              <a:rPr b="1" i="1" lang="ru-RU" sz="3600" spc="-1" strike="noStrike">
                <a:solidFill>
                  <a:srgbClr val="330033"/>
                </a:solidFill>
                <a:latin typeface="Times New Roman"/>
              </a:rPr>
              <a:t>«Катерина в борьбе за свои человеческие права»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4076640"/>
            <a:ext cx="7772400" cy="20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-  Малицкая И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У «Дружбин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енбург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ль-Илецкий рай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Задачи урока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а Катерины в драме А.Н.Островского Гро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анализировать эпизоды, раскрывающие характер геро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готовиться к творческой работе по образу Катер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атерина –луч света в темном царств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.А.Добролю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lit17-10"/>
          <p:cNvPicPr/>
          <p:nvPr/>
        </p:nvPicPr>
        <p:blipFill>
          <a:blip r:embed="rId1"/>
          <a:stretch/>
        </p:blipFill>
        <p:spPr>
          <a:xfrm>
            <a:off x="1042920" y="549360"/>
            <a:ext cx="6553440" cy="4032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баних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lit17-13p"/>
          <p:cNvPicPr/>
          <p:nvPr/>
        </p:nvPicPr>
        <p:blipFill>
          <a:blip r:embed="rId1"/>
          <a:stretch/>
        </p:blipFill>
        <p:spPr>
          <a:xfrm>
            <a:off x="4309920" y="2060640"/>
            <a:ext cx="3502080" cy="33843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33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. Жизнь Катерины в родительском доме. </a:t>
            </a:r>
            <a:br>
              <a:rPr sz="3200"/>
            </a:b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Сердечное отношение 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сещение церкви, слушание рассказов странниц, богомолок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тносительная своб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ты характера, развившиеся под влиянием жизни у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езненная впечатлительность, экзальтирова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мантическое отношение к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Жизнь Катерины в доме Кабановой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стокое отношение Кабаних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янный духовный бу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онимание ее натуры и стремлений Тихо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ияние жизни у Кабановых на Катер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знание своей обречен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мкнутость, разочарованность в семейной жиз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астное стремление к свободе, любви, сча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Основные черты характера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стность, непосредствен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ральная чист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ительность, муж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астность натуры, глубина чувст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мление к своб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ичность н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заурядный 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брота, бескорыст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ель Катерины - стихийный протест против гнетущих порядков общества («темного царства»)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ьесе впервые прозвучал гневный протест против самодурства, семейного деспотизма. Этот протест стихийно выражен Катериной. Читая пьесу, увидели, как постепенно в этой чистой, мечтательной, непосредственной женщине, жаждущей настоящей любви, подлинного счастья, все начинает возмущаться, кипеть и негодовать против фальши, лицемерия, искусственности отношений в патриархальной семье, где царствует Кабаниха. Самоубийство Катерины - это не проявление слабости духа, а результат полной безысходности ее положения и невозможности примирения с нравственностью домостроевского режима. Драма доказывает, что счастье женщины невозможно в браке, основанном на денежном расчете, в семье лицемер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30T13:31:57Z</dcterms:created>
  <dc:creator>Ewgeniy</dc:creator>
  <dc:description/>
  <dc:language>en-US</dc:language>
  <cp:lastModifiedBy>LEGION</cp:lastModifiedBy>
  <dcterms:modified xsi:type="dcterms:W3CDTF">2015-01-20T13:40:30Z</dcterms:modified>
  <cp:revision>55</cp:revision>
  <dc:subject/>
  <dc:title>Урок-обобщение по экономике для 6 классов</dc:title>
</cp:coreProperties>
</file>