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dt" idx="9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ftr" idx="9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6"/>
          <p:cNvSpPr>
            <a:spLocks noGrp="1"/>
          </p:cNvSpPr>
          <p:nvPr>
            <p:ph type="sldNum" idx="9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674E-72D8-47C9-8E15-3851344557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8_&#1075;&#1086;&#1076;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660A-9ECA-4ABD-9BFF-279B788182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ужба навек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шинская площадь в Моск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A33A-6C39-4615-AF8C-D628352D77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вторы популярных эстрадных пес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а стихи Вознесе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FB36-F064-40EC-A68A-2BD7756835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в Переделки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3D5A-A7F4-45B8-9FFB-0CC8A27F90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РФ Д.А.Медведев вручает Вознесенскому Орден «За заслуги перед Отечеством» II степ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AE0C-B84F-45FE-858D-896699F5A5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нчался 1 июня 2010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E722-E9D0-48CD-A21F-ED606B816A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Могила Андрея Андрее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F47C-EF04-4300-BE93-0046A5DEB5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удущий поэ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 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 отцом Андре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иколаевиче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естрой Наталь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F04B-A550-4987-BEE2-8931F18614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957год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он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осков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рхитектур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нститу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5BBE-5844-4EE0-9712-E759815CD0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 его жена З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огуслав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0A2D-5DFD-4E1A-AA17-FBE0ECC933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99"/>
                </a:solidFill>
                <a:latin typeface="Arial"/>
                <a:ea typeface="Arial"/>
              </a:rPr>
              <a:t>Первые сбор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6693-799E-4A26-B92D-3318B215A8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 в Архитектур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ылайте широ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вники в амур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йклубы в роко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D6F8-2256-46B2-8B0E-489B725E84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Ушаков «Модный поэ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н сменною модой недель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гда-то пленял молодёж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к что ж ты, цветок рукодельн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егодня не модно цветёшь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9293-62DC-404F-8C01-E5D30DE5DE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 Андре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гастрол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CF7D-B2D8-4F9E-BB45-C362C61B6A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есенский получил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78 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сударственную премию СССР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7300-EE5F-44A2-B421-C37E22CB5F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9A58C-4FC5-428A-8696-9D145A29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766A-CB1C-4A0B-BA82-F5DA4A8A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A2662-6CD0-4E35-8684-929CF434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245B5-9C7D-4DA6-8265-3E39D34A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42353-E5BB-44AA-9D4D-228B6EDD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E0A67-F8D7-447F-A08F-E7735ABF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500D0-26BA-4612-80A4-95C4BC2B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E1274-71A9-435E-AAD2-9D63DD0C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D29E6-4F26-4D41-B1D5-D9328985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11DBA-B9A1-4259-8292-FF0C8CE6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F6401-4867-4DF1-8C8A-8799BD1E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F049A-2EEA-4B92-BD48-C244C12A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AAB48-35EF-4BA2-AB1D-04749780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9504B-3576-4F00-9FFD-DE297A57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074CB-7E61-4872-9188-B6C99F02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FD6F1-024F-4DF3-886D-A5DA47CB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1E123-C9FD-4790-927A-F2A94329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988A9-945C-48AC-A871-A2DA4BB5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48BDD-A508-44FB-A07E-1F4D0A86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19BB5-8CB2-42F7-A031-20C2CDCA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92D9E-E459-4D97-A7A7-7C261B73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40F7F-8D7E-45F6-BF58-44EF9387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D3D44-6CED-451A-8BC2-925CB794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0A162-8BA5-4FA6-AE5E-56ACDC09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3405F-4CCB-4101-BAE4-B4E68990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8ACB8-E385-4587-84A2-CAEE2B52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540F3-B324-41A3-8E70-921E00C6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AD95F-27C6-4F50-90FB-E33C9A7E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12770-6B93-4537-A85C-C389EB24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E7229-0F91-4857-880E-5774FCEF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A7A57-701A-4A9D-B615-ECAEDB6D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5AF3B-8AB4-46A8-8489-81B7D6EF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BE692-1EC9-4E8B-ADF1-8EBA50EF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AD667-03D4-494F-BA35-E6C44606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0426-C834-4451-A1AC-DB2E695F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64FAF-FFDC-4F67-AA9E-7A23153E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27241-43DE-4DAC-AAD1-E2FAA93D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73043-30A9-4D79-9A36-30F50335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FA42D-AC62-433F-BB17-8AE2E562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B7CEA-BFCD-45A8-84A7-1CDD39D1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5D475-6173-4DFC-ACA4-EAA952AA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4D313-996B-43A5-B5A6-21BD4795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6AA34-7DEB-4CC4-A788-E4F1FA96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6E31C-116B-4C7B-8130-4D28C30D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06DF8-B4B7-4535-815E-A4272F12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8212-4182-4540-A2FE-046449D4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C74DF-340F-4D66-B0B9-98088D52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31B70-4FB5-41FF-9847-BACA396F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9A511-E25D-4771-A4C1-C02E12AF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AFEC6-D15C-4FF5-8811-EE64D52B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32DB1-1CD8-490D-8273-A36E1566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62554B-18CB-4CE9-93E5-204595B7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60D9F-FB27-4537-87A5-9EFE551C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AEA5A-D261-475B-9DB7-1932F7BB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E6A8B-A5B6-4193-A7F5-FD508BB7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3778F-5D08-4E98-BBF8-BABD5918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30E6-7C70-47B7-9823-6F2C4FD5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2F5C2-B563-4B86-ABF4-A645459C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711A6-1002-45DA-84D3-A31E0AB6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6C666-9E90-4300-8C0F-DE926FD6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E0B7E-AB72-43EF-8A43-CC6A6E27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0E3A2C-1774-4C14-8091-0F64D4D9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E2C8E-2B94-418B-8F80-4CC53430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BBC48-BCB9-411E-AD5A-E2D17A6B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7FE336-F2CE-400F-9B38-E16154FC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065E6-D64D-46E7-BE0E-F5E37CB8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15074C-D1F5-4489-BF34-84E158B2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9423-8855-4505-8791-BE4010C9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FC52C-9B76-438E-92F4-2D6BF8D4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3775E-0BEF-48AA-B025-20B697EB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D375C9-F0F3-45D8-BC6E-9C4A82EA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0051E-C30A-4C55-8F09-047D4891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2D9D1-6BCA-4EAD-A746-DDA98BA4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33682-9D72-4C9D-954B-4C489DB6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BCF28-F423-47D3-BC27-9CB4A950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4878B-9610-4460-8D56-5C2856F5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BED39F-74C0-490B-9671-E0339AFA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FD2BA3-9097-404A-AF6E-791C6860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5919-97CB-4C48-9A6D-6E6AC429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7BDC24-4B7F-44A8-B7C5-60F9EE08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63A6DF-40E5-4A4E-ACB6-39CDBA09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CE67E4-490A-4C97-B30F-B8F8374F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034919-C29E-446F-B025-0F4F486B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A8C868-64F3-46D9-B6D2-DCDD65A9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47B0F-1227-46A4-93F9-F9B2F196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838721-B72A-4FDF-8667-11A5AFAE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DBF7F4-3276-49C2-9338-9403C570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20BDAB-9732-462E-9607-B4AE8094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4EF78-4190-4AA3-8806-9E5EF52C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66F4-3147-480E-9936-37795F52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04B478-CEBF-4FCE-BC66-7F0EE02C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C9D9D4-1B9C-4B04-9149-5CF102FD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A97EAE-569F-463E-87BA-18C314EE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732969-CAAE-4F5C-B7A2-25C909E9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1B1186-E581-4318-9177-8C2764EB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8DAB70-7019-4E58-A6CC-C1F7E5A1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9F38D3-B971-42D9-9B83-DBC8A801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C38803-E8CB-48CE-8B91-5DE2CF51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9FA42F-330F-484D-B94B-AB10A681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C88F65-1F7B-4E96-8220-AC24158E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F583-13B4-40F1-9130-3699D99D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6FEBB4-5FCB-48CC-AE50-5BDF14D3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12D7CB-DD58-4517-9B91-E6476BEC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FA429D-16D8-4B00-B19F-C06830DF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AE180D-7C2D-4547-B64D-57B5EBCD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A307DB-383E-4FC9-9609-AE803491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73FCA-B884-4FBD-ADAF-3FC55B29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67082-6C67-42BE-A5F1-A04069CF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BAECD5-D0B4-4E62-9CA3-49F09C91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7658A2-05EA-4D91-954A-0E87E7E3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8338B9-F0DC-4F47-8FE0-12B3F033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45DCC-EB19-47DE-A58B-53029333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618A-7336-444E-A7F2-BB40D66F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4CAAA3-5133-4358-AD6D-D90760FD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28ED4F-16AA-41D6-B358-AAECC5B9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E866E7-AAB1-4444-9B45-04776B27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E4211A-A78F-41B8-B0BC-22FA298F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3F3711-5297-492B-9E79-9066BF8A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54AF19-EDB5-445C-8982-336ADFF2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A21815-AF29-4949-B1AA-D94C5119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B298C6-D6A0-4566-98B8-CB1F1845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F73D28-C709-4A94-8D4C-BFA7D978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D70ECF-EC9F-46B3-ACC6-103763E5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B4F4-1084-4301-BAD9-6D71CE73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1DBBBA-B47E-4D6C-B6F3-5067FF63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89D9C5-0A16-46EA-9656-A8526EA4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5C1665-7C4B-484D-A396-952ABDF0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2056BE-0273-4249-8349-78D68A3C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863EBA-1B6F-4004-B57C-F21A154A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1088A2-8479-40D9-8127-1DFBF783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4C86CA-4195-4CB4-BD09-0FEAB7F4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B7A299-09A4-4E6D-BBB7-6D1DB36C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241C39-BC8A-43ED-9FEC-B625286C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1E28CA-E8F1-4D5E-AAB0-05EA772D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13D6-1D5C-46B8-8709-9074C423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BC471B-8D22-4BEE-B3A0-C497538B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7F2775-3221-4EFC-B6E6-F9F9D7A4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9B63BC-5C18-4697-940D-DFD96566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D35E61-C36D-41AA-817A-2DE63DCC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CB60DA-021A-4B9B-8F85-D9152CE5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2B7758-531A-48E5-8B3C-43A5A7D8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DC54A7-42F9-4E1A-AD84-D6E1C052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072EE2-9B47-42CC-B1C8-7B7F637F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418200-7B12-44B3-8917-71E9594C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4B9351-5B1C-438B-9D2E-24EB2274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B853-48A0-4B08-AE45-6B47D554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71B923-A577-406F-B622-058BE0E4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6798AF-229A-42F9-9661-084C7598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1D108D-4348-4B8A-ADFD-B2021AD9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CE78AD-19B1-4D4F-A04C-8A96C0C2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1CE1FD-C198-44A9-B6DE-68B97D98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5CC797-B786-43DB-94B5-AFE5E183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E83E5E-BEBB-454B-922B-FF42BE4F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13D643-A71D-4033-97D8-E047E8F6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002656-6898-4B4E-B71A-6C0B5AFC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A544AE-22B9-48DF-B563-DE1A064E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6927-59FB-4052-99FC-A76C1CF2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D04635-9B8A-4A3D-96F2-F7E7E8E6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7B2E8D-D768-4D3C-AD33-7D05DC7B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5AD102-4497-4B33-AEDA-8ECD16D9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DDF980-287E-4B8E-9ED8-1FA1E17E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F8AC59-327F-4BF7-B0B2-1FEF0663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967B5D-6923-4352-8AFD-455F3FD8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77610C-6BB3-4D52-9BF7-C369296D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F5A116-6FC7-483A-8002-D0602BF2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92E807-D07B-4168-86C8-4FD8B030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570583-F1ED-43BB-B40F-D256A56D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7FACF-9C01-4B72-9F72-D431D550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F0A3FC-8975-40DD-8B3D-1434A81B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AF1023-DE4E-48D1-91C3-A69D3571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CDF2EB-D55F-4E01-8583-0BB302C5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D9B2C7-2B4E-4CCC-A115-7CAF6374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3A3116-0850-4AD9-8F2D-5591E254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50C967-4B6F-4245-BC96-6432A8AA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36AC65-50A8-4A38-BC2A-FED703FA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E14028-CA06-4091-BB5A-E9E89F6E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666364-F61E-4656-9CCB-650BBF49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09B0B5-0023-4030-B4A4-388D289B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36433-EB5F-412F-8280-77145E91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3575FD-FD38-4D81-9CB5-94905ABB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9CD940-EDB2-4A47-B5B5-038684F4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F2AD68-FCF8-49E5-B493-04DE368C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ECF717-9F93-4B94-B33B-A5487498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63D844-E048-4C4C-8800-FF4B130C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A132C9-C2EC-4DAD-9088-B34FC8C9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B559C3-1A63-4E8B-A716-4EB0C6EA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09A192-CDA6-488F-9D9C-760659D6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5EAF64-16BC-4263-B45F-F087D89C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D71F07-E9DE-4024-B1CB-880FEEB1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6C3CC-442D-43CD-B0BB-91EC679F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C1B48B-6249-49A9-A723-63BC0091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62DB61-8321-4015-A1DF-E9825780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1F71FD-AB5B-4A95-B236-71834025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00552E-0736-4454-BA9A-CF729C63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6C83FF-086E-427C-92CD-51168BDA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21553D-328F-43E2-89C0-EB7FC614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169506-2A34-44A8-9B1C-C6C1ADB7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9DF5D1-590E-4B5E-B18D-5F9472FC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F12365-6EF8-449F-BA24-5E411A13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7582B5-FCE4-4E83-A400-486928B9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BC440-865C-4C6E-BCAD-D9AB0061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D1C867-0741-4468-B465-55684CD2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472BFE-4293-4F13-B9E2-AC0E4F19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335809-8409-490B-8CC2-4B1C19A6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490573-7BA3-4A2B-A37E-A5A9F4A1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40EE2C-5F24-4DD0-8210-DD78255E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4C71F4-D751-4DBB-94C1-D4949E52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0CA87F-96E0-41EC-B3E1-420CD25D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7D8C26-9F6D-4C97-9F8B-3F58566C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983E7E-B85E-4E67-846A-0A503D9B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F94EDB-5B0A-4B2E-9318-F4A6641C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DCFFE-72B8-4C8D-8617-E699D751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352415-A93D-44B7-B7F5-772B405E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3044F0-45F2-4908-B9D3-DDB7440D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69D108-803B-4960-B30F-17D3908E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E21B03-481B-4442-B7EB-63EEC84A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F7E7E6-C085-460B-B7A4-671BB2D6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D07FA2-486B-4684-B48F-1C8CC56D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2E5714-BBED-4FB7-B599-3853D390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289EF7-33BE-4713-B959-80DB5F8A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D551DD-DDA7-46C9-B44B-D60D02C5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465EA4-ED33-4375-A4DA-F294B72A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4C846-A9BB-4826-9118-7E2346E8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44D74-8BCF-41B2-918E-B7D07483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E7DFF3-6431-447A-BB2B-34CE9EE9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D7915A-6E68-4420-81A0-FA66993D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612F7D-E57C-4DF9-B162-95DBC9F7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3D0CE1-9BCD-4C54-A417-F85D934C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C4C846-2790-4136-A12A-AF156CB3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1380E2-B00E-461F-B473-BDD4EE30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4E6E35-F4F7-4B51-A1FC-6709D298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BC1E25-E8F9-4BC1-93D9-8E7136A8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610B4D-2376-4FA1-99C8-4784B113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D206AB-8DC5-461B-91C0-05978572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E2191-530D-4FDE-81D5-03D789BC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2E6781-7111-40B8-ABCE-A757075C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FC1A2D-2274-43CB-A615-6228D6E2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F8D48E-28CD-4038-B51C-2BCD1457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8E8773-9F1C-4C69-A7A0-CE1B423A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50DA6B-599A-4613-95CE-A9A6C2A4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FA0ACA-36FA-41E4-9C2A-F1E844D9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9FBD8A-BE50-448D-AE40-3B2AB0F8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8EFBD0-C4F4-41E1-8FDE-E9FCED2A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D0CB53-AD37-441F-80FE-A2F11983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349705-F64C-4354-A2AF-19C9FC0A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4B571-7EC8-4F43-ACB9-05915D55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F1B1B9-EAF7-41D4-9284-D5543C23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4580B8-40BB-4B96-B8C9-2B21ABD9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07E0B3-0ECC-4253-A876-6EF150B3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95EEF9-970F-4861-9942-1AFC445A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E08494-882E-4EC9-A7C1-E2D9F1EF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97A384-8856-4C11-9978-5BA43C9D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23678C-DF7F-410C-B19C-A943C031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CC0071-ECEF-44BC-BBB2-93986E5A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FD4AA3-7202-455B-84A7-A47966B4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F1F822-8B5B-4F8C-8315-7A1ADF24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B879A-137D-4DA8-A284-2C36EC4C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F18231-29D2-4E5B-9D73-29AC3B94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728039-0184-459B-8025-379D9FF9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A90E85-E818-4B94-87D0-F6CF878C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BF7B7B-62DB-42E3-9F9A-718BE8B8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E1E301-D2FB-4A3D-8DCA-C343B922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C500AA-0891-493D-99E0-41ED6474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5F61BC-126E-49FE-943A-4278563D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D02F22-A05D-43EF-8DC9-723E2356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1D9AC3-5ECB-4016-8239-350CECBE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08DA81-A3B9-491A-8EE8-A5F44017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0FBC3-ED55-4886-AF9F-612C5365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7760BB-0662-4226-BDBA-855A2A9D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EC4B02-ED55-4302-83C0-F8488437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FAA733-3547-4695-9FD9-6C1CA274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F1A01E-078E-4C70-AB82-9EB7D0A5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B880C4-EC50-425C-B8EB-7A302D0B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93F53D-B259-470F-9433-E046BBBC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B1736E-F955-40C7-BF80-B965EB39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0DF9A6-E7B4-494B-8302-F5714FC2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431094-16F5-4EFA-ABF5-E83A1DD8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E6937E-391F-4AB5-ADC8-6EEB6F21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91FE3-D1CA-4491-A6D0-B6538B29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5EC0CB-37F1-4D4D-87DE-3C31C65A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4706CF-29F9-43D3-A8CD-A933F10F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B19DAF-9A71-4A0F-8572-E1D883B9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7D48CA-77F3-4541-A6AC-BFD7CC1E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B18C85-2511-4D24-91D1-BA820AB9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618DC2-6105-4AEF-A175-8849D919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01C019-2AF1-472C-9ED2-AFA34C55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60EE58-6547-4AA9-AD93-AC52D504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9B1AE1-EF54-4084-AD79-235C6A6F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1C3743-9DFA-403E-9B50-5C751E0E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4DA40-DBD8-45C1-BA99-2BFFE82B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158F86-0592-4919-89F8-1E9581D4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73FCE7-4300-4D54-940E-043B49CE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109E5D-A31E-4F82-ABA1-760879F9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E64C87-01A4-48F5-A803-B5979F74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1B619E-3FEE-4119-99C8-D8243532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C628A5-DBCE-4C1B-B63C-065C01E7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0DB043-B51F-4E33-A2BC-04A9CDD0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7140D3-3460-47B1-B4AF-CC674DE5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FE82F1-A42A-471C-AA98-8F7E8B3B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AB408B-DC34-46B9-9DA5-E2E17597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74679-E453-45F4-AE6F-B5306D2B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019326-732B-448B-A384-C0DFAFD1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BFBD6B-5799-424D-9887-0E3FF76E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495965-5C86-49C5-BA17-2224F5A8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11201-6BDC-49A2-9DFF-F9B6AFF1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E6510-35C8-4C89-A065-4A95EECE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6FF35-8F27-4BA1-8069-3E17ACC3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297FB-8EE1-4752-8FC1-716F2DE6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42C2F-2FE1-44F2-99CB-09FB444B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0731B-3B4A-4100-8782-35035DB8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2016D-00DC-436E-8FC0-71314E85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77B9C-8D40-4A48-A69C-F710AC23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29997-B519-47E8-8AFF-8B7736A7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31D64-8228-4A8B-AB33-8CBDB813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A90CF-DDF8-433C-A60E-F2D5DDC3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C6AFA-3827-46FC-BA8D-1A418FCE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07621-0FED-4C85-B19F-1D1AAD48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103A0-F1DA-4309-8F3F-1B962BA8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AC7C5-4037-44F9-BAD2-AE068EAB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E41E4-F43F-4854-898A-AB171ACD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E9E32F-1F3B-4275-9C7E-CF033F72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2F2D5-95B1-4326-9D94-229112C8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E7B3E-5C2F-4001-B77D-3014285E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511120-7C7D-4E71-AB04-D9C5A8E7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D3AA4E-6E0F-49D9-9E77-EFCE58B4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BB9791-C74F-45CC-BC51-87D87F03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6CBF9-AF30-496F-BDA7-64C4E536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6711B-9EE7-4671-B337-AD9377FC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AD213-B849-4402-A79D-D4E6EA6E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86537-40F5-42A2-8EA0-B64D22A8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33FC6-714D-4A20-88D2-119CCCD7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15DFE-316C-4D69-BE05-BDB9F1D6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73A86-5F49-4B09-87B7-74D937BF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BDBBC-B8D8-459A-98A5-BF954014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149C4-78A2-4A97-B797-7705E45E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16FD5-4C61-41F7-8E9A-A188B617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C41CC-E59C-4165-A748-F90705B8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DD45A-2C5E-4B70-A25F-F6E1745B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2C0A4-6359-4AB6-AEC2-56C6A73B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3A7F-7D48-420A-8FF6-24605686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5917D-B1AC-4D92-9E2F-55725CB7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35B45-C2DD-490D-BE52-AF80A47B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AAD13-49FF-4F04-A407-374D5100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91AEF-A1DF-42D4-A542-40BA1E70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E4F1C-7B42-4FA2-AB4C-0808575F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646DF-37B8-4786-A584-F1A31BAB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0E773-8F11-4B13-A455-4CB8144D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77893-57FD-4421-A0B0-CCF3E7E5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3478E-A076-4D74-AD2A-F980CA92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D9051-C42F-4E9D-8612-FCA91B00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92130-8E19-463B-A2D5-BC09B2EC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6E94A-83F3-488D-BBDD-72517E02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39923-DE4B-4FC9-B249-1B74234D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1D9A0-7977-479E-AF1B-6F6DA168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50B30-3157-4A45-8E52-F81EE9CC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27C8F-7503-4D3F-97A7-03691FC3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6ECD61-F3C7-4458-983F-0E1ED84B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9DBFB8-0BAE-4563-8190-458D76C8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59A26C-6268-41D5-9EA7-51A6552D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41A91A-D949-4F5E-9EBB-E9F21EF6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67A4BF-9DB0-4A2F-B029-6CBB1160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8E53C-48AD-4865-A300-58C4F424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840E8A-E813-4A6A-99AC-85AC627F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71F1FF-676E-4D11-BEFE-B2FD389E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9D17D4-2A9E-4373-852B-1B556BC2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39E6D1-5B06-4F50-A588-03FF9CD9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1301E9-2C3A-4085-99FC-FBA07E37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0F86D8-0222-4C46-B1D0-16CC53DB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C93C1B-0027-4862-B576-ECCE8ED0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CF04F-764E-4D20-A918-E7B1922E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11F32-A337-4149-9C9B-728DE935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230A4-81D0-4692-B90F-101D7D4C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1B32-404B-48FE-87E9-AFE7F6B1B5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1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1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819F-EFC7-4097-8AB5-19AE7161B76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66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89CE-E062-4518-ABC5-B7178F1993C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0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0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3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4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5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29A5-DCD7-4456-BDF2-D606E00340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1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4F0F-5F54-4D6A-954B-5DC15C07259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0257-A8A0-4E8E-9F0A-36B301627B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0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1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2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DB2C-06C1-4C06-806D-DDF35861AF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10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58C7-23B5-4F5B-A592-4EF008147D8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5453-69C6-449E-BA39-311982E2EB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0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C2FD-9324-40FE-BC23-437B4A3A8E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27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916E-633F-4E6E-BC20-A6A057E4A25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AD91-1A8E-4D5A-8E8A-477C04753C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5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0DA1-D8B2-4BCE-95E9-E7D8ECC1587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6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DEDA-1B27-4E2F-B2A5-4E5E7DB17B3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5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426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427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9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430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43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43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4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435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436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8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439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442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44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7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448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451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3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454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6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457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9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460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2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463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4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5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466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8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469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472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4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475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7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478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0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481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2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3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48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5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6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87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8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9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90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1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2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9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4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5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496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7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8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00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501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2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3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504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5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507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9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510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1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2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513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4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5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516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8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519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1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522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4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525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528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53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534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535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3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544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236B-2167-4FDA-BEE8-4C997283903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600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601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3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6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607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 type="dt" idx="6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 type="ftr" idx="6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 type="sldNum" idx="6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43E1-D63D-4A79-8D26-A9F5396FAB7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5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656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9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4BE5-144B-454B-8445-38C07191FC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927B-175E-46D2-9E61-C71750F180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76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76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6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 type="dt" idx="7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 type="ftr" idx="7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EF20-927F-45EE-BC70-260BE7F0C0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0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811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 type="dt" idx="7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 type="ftr" idx="8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 type="sldNum" idx="8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D3E5-95EC-47C6-BB8C-A638A78A15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56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58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8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8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0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90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2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dt" idx="8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 type="ftr" idx="8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773E-7DD6-4A23-AC20-FB63A2AEE23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96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08CB-CA79-4E98-AB40-045C5504E5D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9EE9-4189-4089-876D-D00CDAF7209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01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02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3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 type="dt" idx="8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40C4-9B01-4323-998D-FBBC62A1B60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0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11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0913-1BA3-42F7-A14A-FB3A6144F29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6DD3-D117-4385-B977-206EECD5B8F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0A31-17A0-46C5-B837-6CF02B2BB9D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9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9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9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9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0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0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0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1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1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1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1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2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2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2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3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3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3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4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4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4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4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5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5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6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6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6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6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7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7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7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8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8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8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FD43-1ED9-460A-8B01-7FC1F516329F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53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5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6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8CAB-9967-49B0-8D4C-345010C63E0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C0A5-C5E9-4BB2-B357-C14323906F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13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9B8C-E00C-4927-B07D-86045B21BF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8_&#1075;&#1086;&#1076;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1" name="Picture 10" descr="paint5"/>
          <p:cNvPicPr/>
          <p:nvPr/>
        </p:nvPicPr>
        <p:blipFill>
          <a:blip r:embed="rId1"/>
          <a:stretch/>
        </p:blipFill>
        <p:spPr>
          <a:xfrm>
            <a:off x="395280" y="549360"/>
            <a:ext cx="4284720" cy="5759280"/>
          </a:xfrm>
          <a:prstGeom prst="rect">
            <a:avLst/>
          </a:prstGeom>
          <a:ln w="0">
            <a:noFill/>
          </a:ln>
        </p:spPr>
      </p:pic>
      <p:sp>
        <p:nvSpPr>
          <p:cNvPr id="2262" name="WordArt 11"/>
          <p:cNvSpPr txBox="1"/>
          <p:nvPr/>
        </p:nvSpPr>
        <p:spPr>
          <a:xfrm>
            <a:off x="4859280" y="1557360"/>
            <a:ext cx="39988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др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дрееви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несенски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3" name="WordArt 12"/>
          <p:cNvSpPr txBox="1"/>
          <p:nvPr/>
        </p:nvSpPr>
        <p:spPr>
          <a:xfrm>
            <a:off x="5867280" y="4869000"/>
            <a:ext cx="2210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33-201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«Дружба навеки»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ишинская площадь в Москве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98" name="Picture 4" descr="unnamed"/>
          <p:cNvPicPr/>
          <p:nvPr/>
        </p:nvPicPr>
        <p:blipFill>
          <a:blip r:embed="rId1"/>
          <a:stretch/>
        </p:blipFill>
        <p:spPr>
          <a:xfrm>
            <a:off x="5651640" y="1916280"/>
            <a:ext cx="2881080" cy="396072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5" descr="4e527de3bb212"/>
          <p:cNvPicPr/>
          <p:nvPr/>
        </p:nvPicPr>
        <p:blipFill>
          <a:blip r:embed="rId2"/>
          <a:stretch/>
        </p:blipFill>
        <p:spPr>
          <a:xfrm>
            <a:off x="1476360" y="184464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2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1" name="Picture 7" descr="633220"/>
          <p:cNvPicPr/>
          <p:nvPr/>
        </p:nvPicPr>
        <p:blipFill>
          <a:blip r:embed="rId1"/>
          <a:stretch/>
        </p:blipFill>
        <p:spPr>
          <a:xfrm>
            <a:off x="6588000" y="333360"/>
            <a:ext cx="2411640" cy="2411280"/>
          </a:xfrm>
          <a:prstGeom prst="rect">
            <a:avLst/>
          </a:prstGeom>
          <a:ln w="0">
            <a:noFill/>
          </a:ln>
        </p:spPr>
      </p:pic>
      <p:pic>
        <p:nvPicPr>
          <p:cNvPr id="2302" name="Picture 8" descr="23ce7d125755d0044b4fb9b8d0f73d28"/>
          <p:cNvPicPr/>
          <p:nvPr/>
        </p:nvPicPr>
        <p:blipFill>
          <a:blip r:embed="rId2"/>
          <a:stretch/>
        </p:blipFill>
        <p:spPr>
          <a:xfrm>
            <a:off x="3635280" y="3357720"/>
            <a:ext cx="2363760" cy="3357360"/>
          </a:xfrm>
          <a:prstGeom prst="rect">
            <a:avLst/>
          </a:prstGeom>
          <a:ln w="0">
            <a:noFill/>
          </a:ln>
        </p:spPr>
      </p:pic>
      <p:pic>
        <p:nvPicPr>
          <p:cNvPr id="2303" name="Picture 4" descr="yap5"/>
          <p:cNvPicPr/>
          <p:nvPr/>
        </p:nvPicPr>
        <p:blipFill>
          <a:blip r:embed="rId3"/>
          <a:stretch/>
        </p:blipFill>
        <p:spPr>
          <a:xfrm>
            <a:off x="395280" y="2060640"/>
            <a:ext cx="2448000" cy="2442960"/>
          </a:xfrm>
          <a:prstGeom prst="rect">
            <a:avLst/>
          </a:prstGeom>
          <a:ln w="0">
            <a:noFill/>
          </a:ln>
        </p:spPr>
      </p:pic>
      <p:sp>
        <p:nvSpPr>
          <p:cNvPr id="2304" name="WordArt 5"/>
          <p:cNvSpPr txBox="1"/>
          <p:nvPr/>
        </p:nvSpPr>
        <p:spPr>
          <a:xfrm>
            <a:off x="1116000" y="333360"/>
            <a:ext cx="67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вторы популярных эстрадных пес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стихи Вознесенског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5" name="WordArt 9"/>
          <p:cNvSpPr txBox="1"/>
          <p:nvPr/>
        </p:nvSpPr>
        <p:spPr>
          <a:xfrm>
            <a:off x="468360" y="5013360"/>
            <a:ext cx="244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.Пугачёва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Миллион алых роз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6" name="WordArt 10"/>
          <p:cNvSpPr txBox="1"/>
          <p:nvPr/>
        </p:nvSpPr>
        <p:spPr>
          <a:xfrm>
            <a:off x="6335640" y="321300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.Осин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лачет деву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автомат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7" name="AutoShape 13"/>
          <p:cNvSpPr/>
          <p:nvPr/>
        </p:nvSpPr>
        <p:spPr>
          <a:xfrm>
            <a:off x="1403280" y="450864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AutoShape 14"/>
          <p:cNvSpPr/>
          <p:nvPr/>
        </p:nvSpPr>
        <p:spPr>
          <a:xfrm>
            <a:off x="7524720" y="2781360"/>
            <a:ext cx="287280" cy="288720"/>
          </a:xfrm>
          <a:prstGeom prst="downArrow">
            <a:avLst>
              <a:gd name="adj1" fmla="val 50000"/>
              <a:gd name="adj2" fmla="val 25125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WordArt 15"/>
          <p:cNvSpPr txBox="1"/>
          <p:nvPr/>
        </p:nvSpPr>
        <p:spPr>
          <a:xfrm>
            <a:off x="3708360" y="1557360"/>
            <a:ext cx="216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.Гнатюк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Танец н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рабан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10" name="AutoShape 16"/>
          <p:cNvSpPr/>
          <p:nvPr/>
        </p:nvSpPr>
        <p:spPr>
          <a:xfrm>
            <a:off x="4572000" y="2637000"/>
            <a:ext cx="3589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2" name="Picture 4" descr="79706224_voznes_kedr_pastern_royaljpg"/>
          <p:cNvPicPr/>
          <p:nvPr/>
        </p:nvPicPr>
        <p:blipFill>
          <a:blip r:embed="rId1"/>
          <a:stretch/>
        </p:blipFill>
        <p:spPr>
          <a:xfrm>
            <a:off x="5292720" y="1268280"/>
            <a:ext cx="3490920" cy="2589480"/>
          </a:xfrm>
          <a:prstGeom prst="rect">
            <a:avLst/>
          </a:prstGeom>
          <a:ln w="0">
            <a:noFill/>
          </a:ln>
        </p:spPr>
      </p:pic>
      <p:pic>
        <p:nvPicPr>
          <p:cNvPr id="2313" name="Picture 5" descr="3870"/>
          <p:cNvPicPr/>
          <p:nvPr/>
        </p:nvPicPr>
        <p:blipFill>
          <a:blip r:embed="rId2"/>
          <a:stretch/>
        </p:blipFill>
        <p:spPr>
          <a:xfrm>
            <a:off x="3203640" y="3878280"/>
            <a:ext cx="3313080" cy="2909880"/>
          </a:xfrm>
          <a:prstGeom prst="rect">
            <a:avLst/>
          </a:prstGeom>
          <a:ln w="0">
            <a:noFill/>
          </a:ln>
        </p:spPr>
      </p:pic>
      <p:pic>
        <p:nvPicPr>
          <p:cNvPr id="2314" name="Picture 6" descr="news-kedrov_200906050156412"/>
          <p:cNvPicPr/>
          <p:nvPr/>
        </p:nvPicPr>
        <p:blipFill>
          <a:blip r:embed="rId3"/>
          <a:stretch/>
        </p:blipFill>
        <p:spPr>
          <a:xfrm>
            <a:off x="468360" y="1341360"/>
            <a:ext cx="3382920" cy="2536920"/>
          </a:xfrm>
          <a:prstGeom prst="rect">
            <a:avLst/>
          </a:prstGeom>
          <a:ln w="0">
            <a:noFill/>
          </a:ln>
        </p:spPr>
      </p:pic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Жизнь в Переделкин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зидент РФ Д.А.Медведев вручает Вознесенскому Орден «За заслуги перед Отечеством» II степени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318" name="Picture 4" descr="poet0106"/>
          <p:cNvPicPr/>
          <p:nvPr/>
        </p:nvPicPr>
        <p:blipFill>
          <a:blip r:embed="rId1"/>
          <a:stretch/>
        </p:blipFill>
        <p:spPr>
          <a:xfrm>
            <a:off x="1979640" y="2349360"/>
            <a:ext cx="5545080" cy="4157640"/>
          </a:xfrm>
          <a:prstGeom prst="rect">
            <a:avLst/>
          </a:prstGeom>
          <a:ln w="0">
            <a:noFill/>
          </a:ln>
        </p:spPr>
      </p:pic>
      <p:sp>
        <p:nvSpPr>
          <p:cNvPr id="2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кончался 1 июня 2010 год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1" name="Picture 4" descr="1275473529502283"/>
          <p:cNvPicPr/>
          <p:nvPr/>
        </p:nvPicPr>
        <p:blipFill>
          <a:blip r:embed="rId1"/>
          <a:stretch/>
        </p:blipFill>
        <p:spPr>
          <a:xfrm>
            <a:off x="1692360" y="2133720"/>
            <a:ext cx="5832360" cy="3882960"/>
          </a:xfrm>
          <a:prstGeom prst="rect">
            <a:avLst/>
          </a:prstGeom>
          <a:ln w="0">
            <a:noFill/>
          </a:ln>
        </p:spPr>
      </p:pic>
      <p:sp>
        <p:nvSpPr>
          <p:cNvPr id="232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Arial"/>
              </a:rPr>
              <a:t>Могила Андрея Андреевича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4" name="Picture 4" descr="voznesenskiy-andrei3"/>
          <p:cNvPicPr/>
          <p:nvPr/>
        </p:nvPicPr>
        <p:blipFill>
          <a:blip r:embed="rId1"/>
          <a:stretch/>
        </p:blipFill>
        <p:spPr>
          <a:xfrm>
            <a:off x="4572000" y="234936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2325" name="Picture 5" descr="43116_64295_f"/>
          <p:cNvPicPr/>
          <p:nvPr/>
        </p:nvPicPr>
        <p:blipFill>
          <a:blip r:embed="rId2"/>
          <a:stretch/>
        </p:blipFill>
        <p:spPr>
          <a:xfrm>
            <a:off x="755640" y="1773360"/>
            <a:ext cx="3348000" cy="4464000"/>
          </a:xfrm>
          <a:prstGeom prst="rect">
            <a:avLst/>
          </a:prstGeom>
          <a:ln w="0">
            <a:noFill/>
          </a:ln>
        </p:spPr>
      </p:pic>
      <p:sp>
        <p:nvSpPr>
          <p:cNvPr id="2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7" name="Picture 4" descr="Voznesenskii2"/>
          <p:cNvPicPr/>
          <p:nvPr/>
        </p:nvPicPr>
        <p:blipFill>
          <a:blip r:embed="rId1"/>
          <a:stretch/>
        </p:blipFill>
        <p:spPr>
          <a:xfrm>
            <a:off x="2124000" y="189000"/>
            <a:ext cx="4937040" cy="6408720"/>
          </a:xfrm>
          <a:prstGeom prst="rect">
            <a:avLst/>
          </a:prstGeom>
          <a:ln w="0">
            <a:noFill/>
          </a:ln>
        </p:spPr>
      </p:pic>
      <p:sp>
        <p:nvSpPr>
          <p:cNvPr id="2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Picture 4" descr="59897034_Voznesenskiy_"/>
          <p:cNvPicPr/>
          <p:nvPr/>
        </p:nvPicPr>
        <p:blipFill>
          <a:blip r:embed="rId1"/>
          <a:stretch/>
        </p:blipFill>
        <p:spPr>
          <a:xfrm>
            <a:off x="2195640" y="189000"/>
            <a:ext cx="5030640" cy="6524640"/>
          </a:xfrm>
          <a:prstGeom prst="rect">
            <a:avLst/>
          </a:prstGeom>
          <a:ln w="0">
            <a:noFill/>
          </a:ln>
        </p:spPr>
      </p:pic>
      <p:sp>
        <p:nvSpPr>
          <p:cNvPr id="2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4" descr="35-50-1b"/>
          <p:cNvPicPr/>
          <p:nvPr/>
        </p:nvPicPr>
        <p:blipFill>
          <a:blip r:embed="rId1"/>
          <a:stretch/>
        </p:blipFill>
        <p:spPr>
          <a:xfrm>
            <a:off x="1258920" y="260280"/>
            <a:ext cx="6912000" cy="6272280"/>
          </a:xfrm>
          <a:prstGeom prst="rect">
            <a:avLst/>
          </a:prstGeom>
          <a:ln w="0">
            <a:noFill/>
          </a:ln>
        </p:spPr>
      </p:pic>
      <p:sp>
        <p:nvSpPr>
          <p:cNvPr id="2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3" name="Picture 4" descr="336161768"/>
          <p:cNvPicPr/>
          <p:nvPr/>
        </p:nvPicPr>
        <p:blipFill>
          <a:blip r:embed="rId1"/>
          <a:stretch/>
        </p:blipFill>
        <p:spPr>
          <a:xfrm>
            <a:off x="2190600" y="81000"/>
            <a:ext cx="4762800" cy="6696000"/>
          </a:xfrm>
          <a:prstGeom prst="rect">
            <a:avLst/>
          </a:prstGeom>
          <a:ln w="0">
            <a:noFill/>
          </a:ln>
        </p:spPr>
      </p:pic>
      <p:sp>
        <p:nvSpPr>
          <p:cNvPr id="2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5" name="Picture 5" descr="a-voz"/>
          <p:cNvPicPr/>
          <p:nvPr/>
        </p:nvPicPr>
        <p:blipFill>
          <a:blip r:embed="rId1"/>
          <a:stretch/>
        </p:blipFill>
        <p:spPr>
          <a:xfrm>
            <a:off x="395280" y="260280"/>
            <a:ext cx="4668840" cy="6308640"/>
          </a:xfrm>
          <a:prstGeom prst="rect">
            <a:avLst/>
          </a:prstGeom>
          <a:ln w="0">
            <a:noFill/>
          </a:ln>
        </p:spPr>
      </p:pic>
      <p:sp>
        <p:nvSpPr>
          <p:cNvPr id="2266" name="WordArt 6"/>
          <p:cNvSpPr txBox="1"/>
          <p:nvPr/>
        </p:nvSpPr>
        <p:spPr>
          <a:xfrm>
            <a:off x="5219640" y="1916280"/>
            <a:ext cx="3745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дущий поэ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дрей Вознесенс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отцом Андрее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иколаевичем 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строй Наталь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8" name="Picture 4" descr="001"/>
          <p:cNvPicPr/>
          <p:nvPr/>
        </p:nvPicPr>
        <p:blipFill>
          <a:blip r:embed="rId1"/>
          <a:stretch/>
        </p:blipFill>
        <p:spPr>
          <a:xfrm>
            <a:off x="4721400" y="333360"/>
            <a:ext cx="4152600" cy="6191280"/>
          </a:xfrm>
          <a:prstGeom prst="rect">
            <a:avLst/>
          </a:prstGeom>
          <a:ln w="0">
            <a:noFill/>
          </a:ln>
        </p:spPr>
      </p:pic>
      <p:sp>
        <p:nvSpPr>
          <p:cNvPr id="2269" name="WordArt 5"/>
          <p:cNvSpPr txBox="1"/>
          <p:nvPr/>
        </p:nvSpPr>
        <p:spPr>
          <a:xfrm>
            <a:off x="468360" y="1557360"/>
            <a:ext cx="41749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57год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нч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сковск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хитектурн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ститу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1" name="Picture 4" descr="1287698477724448"/>
          <p:cNvPicPr/>
          <p:nvPr/>
        </p:nvPicPr>
        <p:blipFill>
          <a:blip r:embed="rId1"/>
          <a:stretch/>
        </p:blipFill>
        <p:spPr>
          <a:xfrm>
            <a:off x="611280" y="189000"/>
            <a:ext cx="3529080" cy="2417760"/>
          </a:xfrm>
          <a:prstGeom prst="rect">
            <a:avLst/>
          </a:prstGeom>
          <a:ln w="0">
            <a:noFill/>
          </a:ln>
        </p:spPr>
      </p:pic>
      <p:pic>
        <p:nvPicPr>
          <p:cNvPr id="2272" name="Picture 5" descr="1077569"/>
          <p:cNvPicPr/>
          <p:nvPr/>
        </p:nvPicPr>
        <p:blipFill>
          <a:blip r:embed="rId2"/>
          <a:stretch/>
        </p:blipFill>
        <p:spPr>
          <a:xfrm>
            <a:off x="395280" y="2781360"/>
            <a:ext cx="2803680" cy="3736800"/>
          </a:xfrm>
          <a:prstGeom prst="rect">
            <a:avLst/>
          </a:prstGeom>
          <a:ln w="0">
            <a:noFill/>
          </a:ln>
        </p:spPr>
      </p:pic>
      <p:pic>
        <p:nvPicPr>
          <p:cNvPr id="2273" name="Picture 6" descr="5b8015e7"/>
          <p:cNvPicPr/>
          <p:nvPr/>
        </p:nvPicPr>
        <p:blipFill>
          <a:blip r:embed="rId3"/>
          <a:stretch/>
        </p:blipFill>
        <p:spPr>
          <a:xfrm>
            <a:off x="5076720" y="189000"/>
            <a:ext cx="3529080" cy="2363760"/>
          </a:xfrm>
          <a:prstGeom prst="rect">
            <a:avLst/>
          </a:prstGeom>
          <a:ln w="0">
            <a:noFill/>
          </a:ln>
        </p:spPr>
      </p:pic>
      <p:pic>
        <p:nvPicPr>
          <p:cNvPr id="2274" name="Picture 7" descr="voznesenskiy"/>
          <p:cNvPicPr/>
          <p:nvPr/>
        </p:nvPicPr>
        <p:blipFill>
          <a:blip r:embed="rId4"/>
          <a:stretch/>
        </p:blipFill>
        <p:spPr>
          <a:xfrm>
            <a:off x="6137280" y="2781360"/>
            <a:ext cx="2741760" cy="3787560"/>
          </a:xfrm>
          <a:prstGeom prst="rect">
            <a:avLst/>
          </a:prstGeom>
          <a:ln w="0">
            <a:noFill/>
          </a:ln>
        </p:spPr>
      </p:pic>
      <p:sp>
        <p:nvSpPr>
          <p:cNvPr id="2275" name="WordArt 8"/>
          <p:cNvSpPr txBox="1"/>
          <p:nvPr/>
        </p:nvSpPr>
        <p:spPr>
          <a:xfrm>
            <a:off x="3419640" y="2997360"/>
            <a:ext cx="251928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знесен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его жена Зо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гуславс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2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2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2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7" name="Picture 4" descr="9785264005480"/>
          <p:cNvPicPr/>
          <p:nvPr/>
        </p:nvPicPr>
        <p:blipFill>
          <a:blip r:embed="rId1"/>
          <a:stretch/>
        </p:blipFill>
        <p:spPr>
          <a:xfrm>
            <a:off x="611280" y="1125360"/>
            <a:ext cx="2347920" cy="3184560"/>
          </a:xfrm>
          <a:prstGeom prst="rect">
            <a:avLst/>
          </a:prstGeom>
          <a:ln w="0">
            <a:noFill/>
          </a:ln>
        </p:spPr>
      </p:pic>
      <p:pic>
        <p:nvPicPr>
          <p:cNvPr id="2278" name="Picture 5" descr="paint2"/>
          <p:cNvPicPr/>
          <p:nvPr/>
        </p:nvPicPr>
        <p:blipFill>
          <a:blip r:embed="rId2"/>
          <a:stretch/>
        </p:blipFill>
        <p:spPr>
          <a:xfrm>
            <a:off x="6156360" y="1268280"/>
            <a:ext cx="2617920" cy="3311640"/>
          </a:xfrm>
          <a:prstGeom prst="rect">
            <a:avLst/>
          </a:prstGeom>
          <a:ln w="0">
            <a:noFill/>
          </a:ln>
        </p:spPr>
      </p:pic>
      <p:pic>
        <p:nvPicPr>
          <p:cNvPr id="2279" name="Picture 7" descr="1002559481"/>
          <p:cNvPicPr/>
          <p:nvPr/>
        </p:nvPicPr>
        <p:blipFill>
          <a:blip r:embed="rId3"/>
          <a:stretch/>
        </p:blipFill>
        <p:spPr>
          <a:xfrm>
            <a:off x="3419640" y="2924280"/>
            <a:ext cx="2539800" cy="3543120"/>
          </a:xfrm>
          <a:prstGeom prst="rect">
            <a:avLst/>
          </a:prstGeom>
          <a:ln w="0">
            <a:noFill/>
          </a:ln>
        </p:spPr>
      </p:pic>
      <p:sp>
        <p:nvSpPr>
          <p:cNvPr id="2280" name="WordArt 8"/>
          <p:cNvSpPr txBox="1"/>
          <p:nvPr/>
        </p:nvSpPr>
        <p:spPr>
          <a:xfrm>
            <a:off x="2916360" y="260280"/>
            <a:ext cx="40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Первые сборн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  <p:sp>
        <p:nvSpPr>
          <p:cNvPr id="2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2" name="Picture 4" descr="7197_voznes"/>
          <p:cNvPicPr/>
          <p:nvPr/>
        </p:nvPicPr>
        <p:blipFill>
          <a:blip r:embed="rId1"/>
          <a:stretch/>
        </p:blipFill>
        <p:spPr>
          <a:xfrm>
            <a:off x="250920" y="692280"/>
            <a:ext cx="3470040" cy="5329080"/>
          </a:xfrm>
          <a:prstGeom prst="rect">
            <a:avLst/>
          </a:prstGeom>
          <a:ln w="0">
            <a:noFill/>
          </a:ln>
        </p:spPr>
      </p:pic>
      <p:sp>
        <p:nvSpPr>
          <p:cNvPr id="2283" name="PlaceHolder 1"/>
          <p:cNvSpPr>
            <a:spLocks noGrp="1"/>
          </p:cNvSpPr>
          <p:nvPr>
            <p:ph/>
          </p:nvPr>
        </p:nvSpPr>
        <p:spPr>
          <a:xfrm>
            <a:off x="2987640" y="2268000"/>
            <a:ext cx="5905440" cy="26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ожар в Архитектурном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ылайте широко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оровники в амурах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Райклубы в рококо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иколай Ушаков «Модный поэт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178920" y="2743200"/>
            <a:ext cx="59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н сменною модой недельн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огда-то пленял молодёж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к что ж ты, цветок рукодельны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егодня не модно цветёшь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7" name="Picture 4" descr="ushakov_a00095dc"/>
          <p:cNvPicPr/>
          <p:nvPr/>
        </p:nvPicPr>
        <p:blipFill>
          <a:blip r:embed="rId1"/>
          <a:stretch/>
        </p:blipFill>
        <p:spPr>
          <a:xfrm>
            <a:off x="6156360" y="2492280"/>
            <a:ext cx="2701800" cy="3529080"/>
          </a:xfrm>
          <a:prstGeom prst="rect">
            <a:avLst/>
          </a:prstGeom>
          <a:ln w="0">
            <a:noFill/>
          </a:ln>
        </p:spPr>
      </p:pic>
      <p:sp>
        <p:nvSpPr>
          <p:cNvPr id="228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9" name="Picture 4" descr="229DA8BC1E82537AE38B415E1B6CC6"/>
          <p:cNvPicPr/>
          <p:nvPr/>
        </p:nvPicPr>
        <p:blipFill>
          <a:blip r:embed="rId1"/>
          <a:stretch/>
        </p:blipFill>
        <p:spPr>
          <a:xfrm>
            <a:off x="468360" y="189000"/>
            <a:ext cx="2298600" cy="381636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5" descr="andrey_voznesenskiy_foto_mk_18"/>
          <p:cNvPicPr/>
          <p:nvPr/>
        </p:nvPicPr>
        <p:blipFill>
          <a:blip r:embed="rId2"/>
          <a:stretch/>
        </p:blipFill>
        <p:spPr>
          <a:xfrm>
            <a:off x="6372360" y="3284640"/>
            <a:ext cx="2409840" cy="331920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6" descr="05f9a605d8d47b169d4aeb245e6"/>
          <p:cNvPicPr/>
          <p:nvPr/>
        </p:nvPicPr>
        <p:blipFill>
          <a:blip r:embed="rId3"/>
          <a:stretch/>
        </p:blipFill>
        <p:spPr>
          <a:xfrm>
            <a:off x="2916360" y="2205000"/>
            <a:ext cx="3262320" cy="3451320"/>
          </a:xfrm>
          <a:prstGeom prst="rect">
            <a:avLst/>
          </a:prstGeom>
          <a:ln w="0">
            <a:noFill/>
          </a:ln>
        </p:spPr>
      </p:pic>
      <p:sp>
        <p:nvSpPr>
          <p:cNvPr id="2292" name="WordArt 7"/>
          <p:cNvSpPr txBox="1"/>
          <p:nvPr/>
        </p:nvSpPr>
        <p:spPr>
          <a:xfrm>
            <a:off x="4716360" y="115920"/>
            <a:ext cx="3868920" cy="19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дрей Андрееви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астролирует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9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417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ознесенский получил в </a:t>
            </a:r>
            <a:r>
              <a:rPr b="0" lang="ru-RU" sz="3400" spc="-1" strike="noStrike" u="sng">
                <a:solidFill>
                  <a:srgbClr val="ff7c80"/>
                </a:solidFill>
                <a:uFillTx/>
                <a:latin typeface="Arial"/>
                <a:hlinkClick r:id="rId1"/>
              </a:rPr>
              <a:t>1978 году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Государственную премию СССР.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5" name="Picture 4" descr="1168d"/>
          <p:cNvPicPr/>
          <p:nvPr/>
        </p:nvPicPr>
        <p:blipFill>
          <a:blip r:embed="rId2"/>
          <a:stretch/>
        </p:blipFill>
        <p:spPr>
          <a:xfrm>
            <a:off x="4500720" y="981000"/>
            <a:ext cx="4309920" cy="4967280"/>
          </a:xfrm>
          <a:prstGeom prst="rect">
            <a:avLst/>
          </a:prstGeom>
          <a:ln w="0">
            <a:noFill/>
          </a:ln>
        </p:spPr>
      </p:pic>
      <p:sp>
        <p:nvSpPr>
          <p:cNvPr id="2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3:52:32Z</dcterms:created>
  <dc:creator>Вика</dc:creator>
  <dc:description/>
  <dc:language>en-US</dc:language>
  <cp:lastModifiedBy>LEGION</cp:lastModifiedBy>
  <dcterms:modified xsi:type="dcterms:W3CDTF">2015-01-20T13:41:14Z</dcterms:modified>
  <cp:revision>8</cp:revision>
  <dc:subject/>
  <dc:title>Слайд 1</dc:title>
</cp:coreProperties>
</file>