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1B07-FD44-4FA2-A62C-9B1991D16F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6AEE-A55D-4E92-97FB-3AFCAD71E9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жба наве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шинская площадь в Моск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DD95-2E69-4CD9-AF88-4A936B6F29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вторы популярных эстрадных пес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а стихи Вознес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015-3077-4A56-AAC2-F53802284F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в Переделки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1F2-6892-4BE1-BBA7-5BB44EAA2C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РФ Д.А.Медведев вручает Вознесенскому Орден «За заслуги перед Отечеством» II степ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533B-FC0C-44D2-842F-3D6A0D3A21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чался 1 июня 201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A458-73C1-4CA8-9856-B1D9467D97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Могила Андрея Андрее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6994-8187-444C-BE41-7B2D731423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ущий поэ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отцом Андре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иколаевиче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строй Наталь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943B-CFF6-499E-975F-D35DEBC105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957год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рхитекту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нститу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3911-B56F-4522-AFBD-7183F792B3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его жена З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гусла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7DD4-AB01-4D51-B4EE-A22959446E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99"/>
                </a:solidFill>
                <a:latin typeface="Arial"/>
                <a:ea typeface="Arial"/>
              </a:rPr>
              <a:t>Первые сбор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2E7-FAF2-4AA9-A2D9-60110136A6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 в Архитектур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айте широ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вники в амур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клубы в роко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0896-7561-43F7-AE7A-970F6242D6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Ушаков «Модный поэ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 сменною модой нед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гда-то пленял молодё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к что ж ты, цветок рукодель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годня не модно цветёшь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428D-B204-450B-9576-2B6AAB9BD9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гастрол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45CC-B276-403C-ABEA-EC66B46384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есенский получил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78 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ую премию ССС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4A1A-CB5D-441F-999B-6A85480846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4713-7FCD-4C95-97DB-65154465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35C8-7AD6-4CA5-8347-B735F322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08962-9FA3-45A3-91C2-F1ABE15C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B05A5-D34E-4241-BF59-3912899C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34179-BDBC-4D08-AA89-8B3A1784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8118E-9B49-4210-B81F-556C9E7E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10B76-21EF-4E46-97C6-7D1AC6B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78D3A-8B9B-4CCA-A90D-DF29C31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3CD42-7539-427E-B21E-80CE3E5C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D5109-2D34-4942-9088-05B7D72B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9B22E-9245-49BD-BF0E-0EE40816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96873-9C0E-4040-B231-04D9F50E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0B7D-A21A-4690-B44A-4D9FCB41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A22B1-E6C9-451A-8F29-4BA984D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706C9-5DD5-435D-B9CB-A8390557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4015E-189A-4686-97C3-9B4E46FB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AF1A6-E4B9-44B7-A982-F794ACF0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CE898-58C9-4B2D-8AC6-6B6BD24A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73BAF-8FD2-4090-AD05-4703ED84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85359-702B-4E42-958C-DDF2AAAD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73BCD-131D-4060-834A-4A0C1E1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E0B18-5E1F-4314-B5EF-E22772E0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12290-2429-4D16-B781-0B226ECB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62EF-B33C-4F44-B85C-5714588B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89FF9-D91B-4648-BBAF-940B0D6A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FCFC1-C1A5-4ED6-8419-54CFB501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5FE13-894A-49B5-AA81-F80B58D3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92808-1830-499B-9FF8-297F2EE6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E5CCB-D9FF-4EAE-B1B6-A9D2B37D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B0C4D-A0C4-4B4D-AE6B-4E1F4372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07353-604E-49F8-BEDC-7AAC697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EF6D8-B412-4491-AEEB-1207CD5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350F5-FDD9-4379-B0FF-15C9A23D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B5D9C-51A2-4371-B58F-2C59DF3D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9537-0CD0-4C86-A469-0A729681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04AE5-65EE-4A8F-8AD1-0C5ABBEF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6F939-E107-438D-A777-561DCCEC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2E2C3-51B1-4271-B397-D0521FFF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27A36-A348-4D8A-939D-B1C16167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6344E-FEC8-472E-A13C-F904EDA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4D442-2841-4402-AEC9-BA342020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C089E-4619-429B-98B6-782D6880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741E0-F5B0-4C02-A378-66A4CF04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95DE8-9AA5-4895-BEFC-1F230AC2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38EC8-40E2-42E9-8F3C-A533B82A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4C53-E568-4F29-96BA-51A84708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BD3F1-63B2-4470-B5B2-A60ED76A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4E5C5-90CD-4DFE-9EF9-86C37D8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C558E-3A15-4F82-874D-AE6F9B18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06A97-C01F-401E-BD7B-4CAFB758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5D4E4-4455-4979-A318-DC767B49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106FC-162E-4EAD-AB1C-95DC6B3B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85404-49AA-42C3-BF5F-44F9C66E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1CE09-B3FE-40D6-978C-4BBC5C29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C6090-7752-41C0-BA48-C24276E0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EE0CD-098A-413E-A88C-5784D36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9D9C-1E41-4D1A-80FC-7923646D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9476C-534D-4B78-90A5-2310F681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8E4AC-817E-48A8-B2FF-85206F7C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9AD65-62EB-4CD5-B71B-1250BE14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78271-99F6-48D8-AB70-C7F8193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CD4ED-65FC-42BC-B1FA-202B52B3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EBE94-659B-46E5-BE94-91377908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4CEEE-C689-4519-9241-576B92A8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1541C-F278-4D79-93C6-0721CF8A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9B20D-EF9A-41D4-87AB-40196467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94861-8C8D-4228-B0DE-ACF39E1F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9322-EA5C-4976-9A4A-735958FB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18574-8A22-46B2-BE2C-2F5AF76A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C1063-547E-4783-B614-B92B3091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A271C-D6C6-4D25-8ABF-0884F6FA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51229-C18C-46F3-91E5-309F1A0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17823-0E74-4302-BF93-2F94DFC2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4704C-034D-42F6-83C1-E0FD9C3E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D3B48-6272-4F2F-8A44-98AA9C1D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BDF51-42D0-49BC-B223-4BB6DC3A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00E7B-7C98-4C85-A946-598D84AD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B98CC-B4EE-4170-9FF4-83400D8E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0C98-90DC-49A8-9BEB-F889C522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8988F-A0AA-4DF3-BB8D-CC86BF57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1758F-5DB1-45A9-90B7-E0C12E1C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6EACC-2334-4AEC-A3BD-86DF948A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ADC03-4894-4910-BF94-F829B73F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EEFEC-5039-471D-9DE9-F54076DC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DBF73-5733-442E-A83A-66F3D3E2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6E323-82CA-48E3-AA53-C2523579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89666-257A-4D58-B55E-D9ACDC37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34E06-515A-40CB-9139-03EF00B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32866-54E4-4506-BD12-F88459A3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E1BD-27FC-4704-823C-C2CC7E5B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E3443-DF82-42E1-8AE1-494A57E1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A5CB8-3D69-431D-89A4-E548FB1F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3C478-4561-4FDE-924D-A2A0D0AC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927FF-C4B0-447A-B04F-F2C4F939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9A4F3-94BD-466E-8973-CE854A72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855E7-653F-4102-936B-2910BDE4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A1B2C-586C-43BE-991B-950912D2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84DD5-00A1-42EB-A64E-75D88822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A0AA4-30B5-47C5-A3F0-4863E4F3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94ECA-9EC1-4F16-9602-4493BDE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F6C8-26EB-475B-BD6E-35A1219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F7E96-623B-43AE-B7F1-CB0CB86E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F6CBF-F8FE-4F33-A979-FEE44FC8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B128C-A6B8-47F7-AF4D-E392F872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8F9C0-8B03-4919-9425-7023911B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F7284-4123-4D23-9D47-454047FF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17E1CF-9C89-43D4-85FF-A5AC85EE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EED29-291C-4F50-9A15-D3AD3B80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E6367-F358-49FA-AB0A-FBA38A75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4DE94-75F8-4D0D-87AA-A4515ED7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C8616-247F-4F18-9FAE-D1E32432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1F79-9E8D-4323-9933-9345BF3C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6961-122E-4AF7-AA5F-C3A13BC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4414C-6F4E-4043-B463-AAD08173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2E72A-ED4E-49C3-A162-080BA7CB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DB215-2569-4A93-9CC6-564EAD29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D9108-14B4-4CAF-A023-64F75FC9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9C768-74E0-40BC-BB4D-19CF8FAF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F58D09-DC61-4872-821D-F4D28502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92A3E-3881-4D9F-BCE6-847122C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A7DC5-A056-42D4-B61D-C72A17CB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72DB5F-478D-47A5-BA5B-08A94C2F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291A7-4843-456A-82C2-5880442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8C14-1FDA-4549-B598-6CDC734F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D3288-E2BB-4FB0-B58B-0F7DFD50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BB4E7-C86B-4742-AA39-B792C11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61E38F-9CAD-4399-949B-F319F901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A4E65-B8AD-4313-9A3C-0C1C309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6A988-166B-422F-84D7-B433D0F9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60EE7-8D35-4FD7-B412-9FA68D4B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7744C-54D6-4B0D-82FC-147B74B4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194A7-43BC-4C47-A3F9-FC097314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D4247-8E76-4CFA-A589-B2EE88DC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AB5CF-7CD6-4CF0-B59D-04887807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D81D-C0BF-430F-A73E-141A05B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5B2B2-A81D-43B4-A69E-46197E92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490A2-CDE3-46DE-ACA9-756630A0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86839-E654-42B7-AE05-877F3006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4B4721-4E0F-4D72-8D21-7BA4398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80E35-5D32-4862-82DC-A64905D7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D68DE-D929-466B-99D6-058572B4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4063E-7B5B-496C-9884-B2E47ED9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E2D09E-A8EA-4560-B5C1-0366C357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13D15-818E-4F1B-AD3A-352F00DF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BA245-CD74-4B84-BED6-D9C573A0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857F-23FA-4348-8B36-1316ACE0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CEBC3-0810-43B5-AF6B-41CE3C6B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F0978-D2D5-4F9A-921D-262A8F88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B7403-FDA6-4222-AC07-9028ABB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48355-2A7F-4DFE-ACF8-84FD64E3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E6AD5-03AA-4E8A-91CE-40F7E188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B4F46-271C-467F-8187-56B5ED9A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0DC2A-3529-4D13-B585-DC84B88D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D945C-E593-4753-80D4-CDC387EB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D0833-F62B-4F60-9A24-5C9DDAD2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7B147-CEA3-4726-A2ED-5C6C519F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DC19-CB1A-4850-A1AD-5844F335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750C2-D2C3-4414-BE84-C5C2DC50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D3614F-2D68-420F-BFCA-63426E73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BD8CF7-471C-4F8A-8CD8-83683A4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35EBF-7A85-4739-A2CC-A43718ED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5AA615-2AB8-4640-95EA-28254B35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0ADDC4-2843-4179-A3DB-E2A9B0E0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46314E-CFDF-42D6-B838-541D35A6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A7DDD-BE7E-4BA1-80F5-E7DD0520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E9F7A-D89C-4BAB-BE73-D54D878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6A045-0623-4D5E-A1E4-BB600EA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FB32-DD35-4794-A763-6038F202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BE110-A286-4058-AA76-D5745D37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783B6-3F16-4D28-9F07-1CCA5362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64B47-14EA-4E04-BAC5-D937CE85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D14C63-99E6-4C6E-AAB6-E5D88207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90E78-E82A-4374-AC1B-9F770122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D9DA2F-03AA-482B-A48A-C750E599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C704A8-7500-4CD1-A639-4C3823D6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BC8FAB-4C5D-45A0-B702-C8135EA4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723032-9DC2-4494-B31D-C7313B21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1422DA-CF8F-4205-8FF8-DA16548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1262-82AF-4C06-B2F2-607CC6B3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93309-856E-4995-9BB8-DA3B2739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390BB4-FC40-4FAB-8B9C-4E53C95C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4D19ED-7EB1-4337-9AC8-BBE29E59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FDD256-D97A-46A8-BE55-8168930D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4E244-2ED5-495B-8EFA-14ED31EB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49BE7-D13C-4598-B128-E4E62887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065FD8-73EF-4ADD-8522-B8CB309D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507197-0F99-4D16-8E63-1C38A7BE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F89DF2-67F7-408E-873A-0DC9A70D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A6A694-FF2A-478C-886E-A1B45281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9E11-AEB9-4B98-844C-C045069D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4D1675-7AB6-45EE-A0D0-C39D49AD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9D2781-6909-44FE-9C78-4CAD3C41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2600D0-B32E-4C79-A2B5-E71C54B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8AF19C-C5FD-4AE9-B4A2-31202861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FFFFD3-E948-411C-9A17-AD2D50AA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282799-B428-45E3-9685-CCE8E604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20603B-7E61-4EAB-95F4-B12E9870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585087-C2F9-4EE4-A1A0-D869CD86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93A48B-C8BA-4899-9B18-440C774E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49BD68-7B78-4A7D-92CA-CAD989B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67CF-1410-48C9-B67C-AECAC978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878758-158C-4327-A136-92250AB3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E463DB-67A6-4DE9-932C-A3944FA4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4639DA-866B-4D66-A84A-F09A01A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2646E4-8F25-4505-A8AD-52B65C22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121D38-4AA9-4D51-BE7F-BB596F9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63B1D4-D925-4961-9DCF-C0164D0E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2733D6-4208-4906-9969-C96D8BDC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1ED821-D319-4676-AF25-217BE1DC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0106ED-3C5E-4956-A04B-66E5D8EA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A13C34-D285-49F7-BD36-E871CDE7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5BD4-CC3F-43D2-8B2D-990CDCE0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44939D-9017-4F5A-8F3E-15A54B71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0CD683-77BA-4F64-A537-DA16672F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A724AB-15C1-45AA-802E-9C0CE512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94712F-837F-48E0-9E3E-0FA8EA99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808FD3-ADE3-45BE-B022-11A847B7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450B4F-1612-4E39-A03D-3CBEA0EF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F17554-0635-4C42-9893-AFB4B8A7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D01EBF-9718-4674-A40C-7B037ED2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892303-7FF8-4BC0-B5C4-8C8273D2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9CBB48-B397-4A41-997B-D1551835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FF04-0B8F-42FB-9B79-11DEA48B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8E36-DBA4-45D7-BF79-9F4D6C07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2BD541-4989-430D-B9DA-C67995AD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C30C52-B1EB-427E-8D8F-97CF3EE1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754D4D-2D28-4D93-96E9-B9B3ABCC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F7AFF1-6B04-4AFE-99C2-80BE1804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72B399-DA28-4F0C-9C0A-D1A57B86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46A2CE-C0BA-4339-A1A5-57139622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54E726-B4B8-4C56-8E0B-F7F83B29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3F4848-71AC-4E96-BF7E-CFB37CB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928813-3E28-426C-AE53-C195B6B1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ABB48D-1A0F-4A60-8721-18EE1B91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D455-B16A-4476-BCB4-6866504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BEF6E3-490E-4B2C-AD92-C74819F4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5013DB-8CF8-4C6D-8C33-81097295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4AE943-ED4A-4BB8-8B44-BE9C723F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129B7F-D953-427B-8805-91F1D992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BFA368-B0D2-406A-B88D-8393A35E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EBD01C-EC5B-4A80-821D-435C0CE7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337868-91FC-4DA4-AD77-14567593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0459A2-0B1B-4EFD-8449-93679BC4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FECDF4-2971-4E46-B4A9-F3AA6E42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35A47D-7196-465D-949B-1ADAE62C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C826-EB05-408E-B586-51B6C925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B94FF6-3680-4BA3-84C7-E066F458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A14862-2C26-4A55-902E-2E0251B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26C0EA-5E66-4377-8B15-2D1A39C8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7C7099-AD8F-491F-AFC0-D9DE8A78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51405D-87F5-460B-8548-E642F145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2625F2-CCAF-4AEF-990D-011860FF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3BAB02-57BF-4F60-8929-32F3A971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8AD187-5E9B-4F4A-9ECB-9F4B31E0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CDA8C0-7B8D-4518-AAFA-AAE9E687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8A73F2-E0C0-4827-A2EA-5792A3F6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D7E7-484C-4C2A-9006-F6B8296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41764F-D46B-431B-BAD0-21E01242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BE5968-7156-4F4E-B39E-1A82CEC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A951CA-2B54-40D4-B248-E71366DE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C6DD13-389B-4F15-A9EE-E912AE8D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5F45DE-CA61-4CE0-94F5-AC07E58C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B7D8EA-621E-45A2-82C9-308970DE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E3F910-4460-4FC9-B0C5-C7C60C78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B0DD71-4371-4910-BFFB-4240869B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2DA902-D660-4D6C-A6C7-7D66E315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F1E92E-EF84-4F37-83F3-C8478CAE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C4DD-3815-42C1-B671-3E93AA42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C58CF9-ECA7-4020-A55D-38291082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D7967B-9533-45AA-A9BF-D2E4A601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9536CD-8FE7-4FEA-9BC8-B205F3D9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565417-195A-4A49-92C1-AB1D480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DF60E0-7A07-4023-A208-B696CAE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120F57-AE65-4E05-9EDD-6A3ACA5E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66D2C8-4220-4FE0-9BE1-33A42CFB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87B08E-EC42-4912-BA23-894D35C7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2A9C87-A657-45AD-92A7-8139510A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DADC36-5012-4CE5-88C2-4ACDD58A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43E3-81D4-43DD-A1C2-B4733062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561709-AA4C-4082-BA1F-07C08CB8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5ACC72-E3F5-4089-B4C7-704DABBE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E024F5-9C12-462C-9392-52971EE0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216DBF-C1B3-4003-865D-677E1AF3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0945BB-35F7-4814-A431-D8860AED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FA3C6C-46E6-44D7-BD2A-DC020141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1ABD2E-F7F9-4BC0-90DE-49FCC79B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292DC7-417B-48E4-B79E-648518F4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979DA0-A6BC-4776-921D-91327A4B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9A0955-7F57-4F8F-A627-07F9ABF6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BE8D-1971-4659-A9BC-C7A7E367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1C2090-8134-4FFE-920B-55B82A62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B23693-712F-4E18-A0C2-099756CC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9306F4-F4F7-4FAC-9AD4-63FE99CA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4A0615-25AE-4A8C-836E-C3C1CAE6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698A2C-289A-435A-A1BF-352AAC32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078563-66F6-4487-BF59-55B3CC3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1D94C3-52A9-4FB2-82AC-15FFDBC7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1FC1C0-80F3-45D4-BF9A-6E34222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66DC96-2416-4542-B26A-7463A82C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6CC27C-7837-415D-8E4E-F84B37B1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C7B0E-0F19-4228-955E-690BFF4D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4DF09B-B145-4276-8394-43C09A93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DC07B9-88C5-40FB-AD54-569AA78C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1A0FE3-346D-4F31-A72E-5F1423F9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AFF4-C303-48EB-BD8D-B2A98E50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F6B0-A826-4808-BA1E-D542E31D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FA43-E06C-409B-BFFD-D5598901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6CA6-123C-45D8-9EB7-C86E8DAB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5C3E-5237-488D-809D-3A5775B6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13A53-B0CF-4D6E-8300-D00E4F92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B0DF-0C53-430B-A402-AA52DF6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4B0E-0384-4F5A-84BE-1BA6C2F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AC323-5703-4EE7-8872-97158186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06BC-6195-4A4A-A9C8-077816CF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9A06C-4199-49F9-9922-870D36D1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5154-7E35-48F9-B6D8-BCF96FCC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82EE1-7DC9-4EF3-9B70-C58BCE55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DB08-2035-4BEF-BAC4-1B158D52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01FAE-3FF3-4811-875E-17BCB0CE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D1E7D-CE23-474A-935C-14A5FF93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A4DE6-FE63-42BB-A283-3CEBED1E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29BB1-06C6-49A6-8965-FCB50D73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B2AAF-A21E-4654-A486-780D6D62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E0E04-0B35-4965-BCFC-95144B1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B31AB-BE5F-4394-A6AC-DA75E5E8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1E70F-7595-4C80-A5C0-B2D47B35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11551-56DE-42EB-A0CB-F701276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6F6DA-7B97-4384-9A62-FD35DEDD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0B46-2EFE-4387-842B-717D415E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0FEAE-94CA-49C1-AACA-1CD37592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E33C5-7B67-43D2-BE7F-94BA952F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2B3D-A5D1-4194-AADD-C8A8A6F0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190F7-B244-4834-A067-F8C58DAC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84ED9-388F-4183-8E35-F204682B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48A2D-5373-43FC-BD09-E951B5B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2CAE7-3595-4F36-B916-EEFDAA9A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58B2F-3828-41A0-B2D3-3E249FC0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C3C17-D6A9-489D-9A3F-CD616B1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52827-D0A0-4EA4-97E0-A0BE7639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28FF-F2DD-40CD-BBB8-F1668CE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AA14-FB1A-4B46-93F1-9F28763C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A1B2-67B0-451E-B9EF-9C6CC5B0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157AF-6908-4B3C-B1BA-F441DFEB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FC07C-1262-44C4-8F81-18D92A65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E1857-6CB4-424A-B7FD-37124CAC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00E6-865E-46C8-807A-0BD9262F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E60C3-8338-494B-B90B-1E31F964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62463-4FA0-4B2C-8135-D316D034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9688E-E898-40FA-9647-AD14B78E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7E617-0435-4189-8F5E-3179219A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183F-E00F-4984-A3E7-0AB92FB6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97095-36F5-438C-92A2-381AB703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74FE8-1B70-4C81-B938-3F5EF412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4DC84-E012-44C5-B984-CBC00730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2638C-0807-49E9-9BD7-55AE6629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3A83B-9F95-4CF7-9807-DA51345D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3E490-EFA2-4A09-9959-04825E55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A750D-ED45-44B2-981C-03EE4EB5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3DFB0-2278-4E83-9BD1-C9DD375B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981DC-1D96-4341-958A-347974E2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8FAEE-EEAB-4237-9FDF-19E5720D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B9D0-8C93-4B0F-BC68-43AE179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ECACA-7A88-4B82-B9EE-41D46070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0AB32-AA68-47AB-A275-F1441CFB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513494-60F3-4596-A667-8F5697DE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39A95-5455-41E7-BA54-9B2AE81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8B8ADE-E5AF-4A2E-AF61-A94511D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0B87A-26A9-49A4-B9DE-003C3E89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E00E54-F938-4F7E-889B-5D609FFD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B0206-96F5-4658-8681-ECC95C8C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3AB6A-3BE0-485F-A78E-E51279C8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C26C2-4138-4EA8-A652-C480B60D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51A-044A-4EAD-A851-0CD0CE71CA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67F1-B42E-4F4A-B74C-4DBE6E35D4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B61D-0D33-452E-9755-6ABF0F8A71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E402-508E-44CF-9D20-1259957207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1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42F5-3772-4EAC-98CA-0FCD54D443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24C4-8733-49BB-9AC0-F7FFF2BB2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2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DEE7-C626-4944-9DFD-BDF61FDD97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1830-F1CF-439A-894F-E203A8A5CD4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4700-3CEA-431E-95F8-3115A8A4F0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0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8B06-8CBA-41B8-B54F-C3E567E53E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7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22A6-4787-4742-896D-B4E3AEA0BB9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F8E5-AA1D-468F-8587-C4BAFA4EBF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8512-9348-430B-AD16-A09798343F7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72B2-1FEE-49F5-A3AB-A91ED6C3356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42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2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43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3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3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3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4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4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5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5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6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6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7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7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8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8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9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0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0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1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1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2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2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53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53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54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980A-D3C7-418F-841A-5372791E178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0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0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0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6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E69F-E491-4642-9F19-75D922EA081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FF92-D5D7-4AB8-87E3-D0E217298D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239E-D11E-4992-B981-5B2DC03188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6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6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6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F9D3-F11F-4535-9AF8-BFBDF9B730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81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7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8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8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DC85-85E9-46C8-8C26-BE8505BADB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5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8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0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0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dt" idx="8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 type="ftr" idx="8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6165-F3C0-46DA-A153-F7BE4AA0CB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6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3D5D-D31E-4452-B871-C7DF286988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19EF-CC84-49A7-A56A-232CB046117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8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0B5C-AD35-4748-9A4C-6595EBD6223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7808-2033-4F07-B3BC-F498F764B1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D7C7-9BA6-4C67-B445-2F0E51F33DD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6877-4CDC-4617-92B4-7AC4C37B563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E9B5-3EA4-4D2B-B919-3F612752873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5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6554-C56A-4E01-B04A-B99AC5F80A4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46AA-3C35-44B5-9509-173FFA9EA3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5104-E154-4A96-A314-BCD008A5EE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10" descr="paint5"/>
          <p:cNvPicPr/>
          <p:nvPr/>
        </p:nvPicPr>
        <p:blipFill>
          <a:blip r:embed="rId1"/>
          <a:stretch/>
        </p:blipFill>
        <p:spPr>
          <a:xfrm>
            <a:off x="395280" y="549360"/>
            <a:ext cx="4284720" cy="5759280"/>
          </a:xfrm>
          <a:prstGeom prst="rect">
            <a:avLst/>
          </a:prstGeom>
          <a:ln w="0">
            <a:noFill/>
          </a:ln>
        </p:spPr>
      </p:pic>
      <p:sp>
        <p:nvSpPr>
          <p:cNvPr id="2262" name="WordArt 11"/>
          <p:cNvSpPr txBox="1"/>
          <p:nvPr/>
        </p:nvSpPr>
        <p:spPr>
          <a:xfrm>
            <a:off x="4859280" y="1557360"/>
            <a:ext cx="39988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несе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3" name="WordArt 12"/>
          <p:cNvSpPr txBox="1"/>
          <p:nvPr/>
        </p:nvSpPr>
        <p:spPr>
          <a:xfrm>
            <a:off x="5867280" y="4869000"/>
            <a:ext cx="22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33-20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Дружба навеки»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ишинская площадь в Москв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8" name="Picture 4" descr="unnamed"/>
          <p:cNvPicPr/>
          <p:nvPr/>
        </p:nvPicPr>
        <p:blipFill>
          <a:blip r:embed="rId1"/>
          <a:stretch/>
        </p:blipFill>
        <p:spPr>
          <a:xfrm>
            <a:off x="565164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4e527de3bb212"/>
          <p:cNvPicPr/>
          <p:nvPr/>
        </p:nvPicPr>
        <p:blipFill>
          <a:blip r:embed="rId2"/>
          <a:stretch/>
        </p:blipFill>
        <p:spPr>
          <a:xfrm>
            <a:off x="1476360" y="184464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1" name="Picture 7" descr="633220"/>
          <p:cNvPicPr/>
          <p:nvPr/>
        </p:nvPicPr>
        <p:blipFill>
          <a:blip r:embed="rId1"/>
          <a:stretch/>
        </p:blipFill>
        <p:spPr>
          <a:xfrm>
            <a:off x="6588000" y="33336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23ce7d125755d0044b4fb9b8d0f73d28"/>
          <p:cNvPicPr/>
          <p:nvPr/>
        </p:nvPicPr>
        <p:blipFill>
          <a:blip r:embed="rId2"/>
          <a:stretch/>
        </p:blipFill>
        <p:spPr>
          <a:xfrm>
            <a:off x="3635280" y="3357720"/>
            <a:ext cx="2363760" cy="33573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4" descr="yap5"/>
          <p:cNvPicPr/>
          <p:nvPr/>
        </p:nvPicPr>
        <p:blipFill>
          <a:blip r:embed="rId3"/>
          <a:stretch/>
        </p:blipFill>
        <p:spPr>
          <a:xfrm>
            <a:off x="395280" y="2060640"/>
            <a:ext cx="2448000" cy="2442960"/>
          </a:xfrm>
          <a:prstGeom prst="rect">
            <a:avLst/>
          </a:prstGeom>
          <a:ln w="0">
            <a:noFill/>
          </a:ln>
        </p:spPr>
      </p:pic>
      <p:sp>
        <p:nvSpPr>
          <p:cNvPr id="2304" name="WordArt 5"/>
          <p:cNvSpPr txBox="1"/>
          <p:nvPr/>
        </p:nvSpPr>
        <p:spPr>
          <a:xfrm>
            <a:off x="1116000" y="33336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популярных эстрадных пес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ихи Вознес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5" name="WordArt 9"/>
          <p:cNvSpPr txBox="1"/>
          <p:nvPr/>
        </p:nvSpPr>
        <p:spPr>
          <a:xfrm>
            <a:off x="468360" y="501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Пугачёва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иллион алых роз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6" name="WordArt 10"/>
          <p:cNvSpPr txBox="1"/>
          <p:nvPr/>
        </p:nvSpPr>
        <p:spPr>
          <a:xfrm>
            <a:off x="6335640" y="3213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Осин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ачет дев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втома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7" name="AutoShape 13"/>
          <p:cNvSpPr/>
          <p:nvPr/>
        </p:nvSpPr>
        <p:spPr>
          <a:xfrm>
            <a:off x="1403280" y="4508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AutoShape 14"/>
          <p:cNvSpPr/>
          <p:nvPr/>
        </p:nvSpPr>
        <p:spPr>
          <a:xfrm>
            <a:off x="7524720" y="278136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WordArt 15"/>
          <p:cNvSpPr txBox="1"/>
          <p:nvPr/>
        </p:nvSpPr>
        <p:spPr>
          <a:xfrm>
            <a:off x="3708360" y="155736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Гнатюк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анец 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бан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10" name="AutoShape 16"/>
          <p:cNvSpPr/>
          <p:nvPr/>
        </p:nvSpPr>
        <p:spPr>
          <a:xfrm>
            <a:off x="4572000" y="263700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4" descr="79706224_voznes_kedr_pastern_royaljpg"/>
          <p:cNvPicPr/>
          <p:nvPr/>
        </p:nvPicPr>
        <p:blipFill>
          <a:blip r:embed="rId1"/>
          <a:stretch/>
        </p:blipFill>
        <p:spPr>
          <a:xfrm>
            <a:off x="5292720" y="1268280"/>
            <a:ext cx="3490920" cy="258948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5" descr="3870"/>
          <p:cNvPicPr/>
          <p:nvPr/>
        </p:nvPicPr>
        <p:blipFill>
          <a:blip r:embed="rId2"/>
          <a:stretch/>
        </p:blipFill>
        <p:spPr>
          <a:xfrm>
            <a:off x="3203640" y="3878280"/>
            <a:ext cx="3313080" cy="29098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6" descr="news-kedrov_200906050156412"/>
          <p:cNvPicPr/>
          <p:nvPr/>
        </p:nvPicPr>
        <p:blipFill>
          <a:blip r:embed="rId3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Жизнь в Переделки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идент РФ Д.А.Медведев вручает Вознесенскому Орден «За заслуги перед Отечеством» II степен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318" name="Picture 4" descr="poet0106"/>
          <p:cNvPicPr/>
          <p:nvPr/>
        </p:nvPicPr>
        <p:blipFill>
          <a:blip r:embed="rId1"/>
          <a:stretch/>
        </p:blipFill>
        <p:spPr>
          <a:xfrm>
            <a:off x="1979640" y="2349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нчался 1 июня 2010 го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1" name="Picture 4" descr="1275473529502283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882960"/>
          </a:xfrm>
          <a:prstGeom prst="rect">
            <a:avLst/>
          </a:prstGeom>
          <a:ln w="0">
            <a:noFill/>
          </a:ln>
        </p:spPr>
      </p:pic>
      <p:sp>
        <p:nvSpPr>
          <p:cNvPr id="23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Могила Андрея Андреевича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4" name="Picture 4" descr="voznesenskiy-andrei3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" descr="43116_64295_f"/>
          <p:cNvPicPr/>
          <p:nvPr/>
        </p:nvPicPr>
        <p:blipFill>
          <a:blip r:embed="rId2"/>
          <a:stretch/>
        </p:blipFill>
        <p:spPr>
          <a:xfrm>
            <a:off x="75564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4" descr="Voznesenskii2"/>
          <p:cNvPicPr/>
          <p:nvPr/>
        </p:nvPicPr>
        <p:blipFill>
          <a:blip r:embed="rId1"/>
          <a:stretch/>
        </p:blipFill>
        <p:spPr>
          <a:xfrm>
            <a:off x="2124000" y="189000"/>
            <a:ext cx="4937040" cy="6408720"/>
          </a:xfrm>
          <a:prstGeom prst="rect">
            <a:avLst/>
          </a:prstGeom>
          <a:ln w="0">
            <a:noFill/>
          </a:ln>
        </p:spPr>
      </p:pic>
      <p:sp>
        <p:nvSpPr>
          <p:cNvPr id="2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4" descr="59897034_Voznesenskiy_"/>
          <p:cNvPicPr/>
          <p:nvPr/>
        </p:nvPicPr>
        <p:blipFill>
          <a:blip r:embed="rId1"/>
          <a:stretch/>
        </p:blipFill>
        <p:spPr>
          <a:xfrm>
            <a:off x="2195640" y="189000"/>
            <a:ext cx="5030640" cy="6524640"/>
          </a:xfrm>
          <a:prstGeom prst="rect">
            <a:avLst/>
          </a:prstGeom>
          <a:ln w="0">
            <a:noFill/>
          </a:ln>
        </p:spPr>
      </p:pic>
      <p:sp>
        <p:nvSpPr>
          <p:cNvPr id="2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4" descr="35-50-1b"/>
          <p:cNvPicPr/>
          <p:nvPr/>
        </p:nvPicPr>
        <p:blipFill>
          <a:blip r:embed="rId1"/>
          <a:stretch/>
        </p:blipFill>
        <p:spPr>
          <a:xfrm>
            <a:off x="1258920" y="260280"/>
            <a:ext cx="6912000" cy="6272280"/>
          </a:xfrm>
          <a:prstGeom prst="rect">
            <a:avLst/>
          </a:prstGeom>
          <a:ln w="0">
            <a:noFill/>
          </a:ln>
        </p:spPr>
      </p:pic>
      <p:sp>
        <p:nvSpPr>
          <p:cNvPr id="2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4" descr="336161768"/>
          <p:cNvPicPr/>
          <p:nvPr/>
        </p:nvPicPr>
        <p:blipFill>
          <a:blip r:embed="rId1"/>
          <a:stretch/>
        </p:blipFill>
        <p:spPr>
          <a:xfrm>
            <a:off x="2190600" y="81000"/>
            <a:ext cx="4762800" cy="6696000"/>
          </a:xfrm>
          <a:prstGeom prst="rect">
            <a:avLst/>
          </a:prstGeom>
          <a:ln w="0">
            <a:noFill/>
          </a:ln>
        </p:spPr>
      </p:pic>
      <p:sp>
        <p:nvSpPr>
          <p:cNvPr id="2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Picture 5" descr="a-voz"/>
          <p:cNvPicPr/>
          <p:nvPr/>
        </p:nvPicPr>
        <p:blipFill>
          <a:blip r:embed="rId1"/>
          <a:stretch/>
        </p:blipFill>
        <p:spPr>
          <a:xfrm>
            <a:off x="395280" y="260280"/>
            <a:ext cx="4668840" cy="6308640"/>
          </a:xfrm>
          <a:prstGeom prst="rect">
            <a:avLst/>
          </a:prstGeom>
          <a:ln w="0">
            <a:noFill/>
          </a:ln>
        </p:spPr>
      </p:pic>
      <p:sp>
        <p:nvSpPr>
          <p:cNvPr id="2266" name="WordArt 6"/>
          <p:cNvSpPr txBox="1"/>
          <p:nvPr/>
        </p:nvSpPr>
        <p:spPr>
          <a:xfrm>
            <a:off x="5219640" y="1916280"/>
            <a:ext cx="374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ущий 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отцом Андре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евичем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строй Наталь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8" name="Picture 4" descr="001"/>
          <p:cNvPicPr/>
          <p:nvPr/>
        </p:nvPicPr>
        <p:blipFill>
          <a:blip r:embed="rId1"/>
          <a:stretch/>
        </p:blipFill>
        <p:spPr>
          <a:xfrm>
            <a:off x="4721400" y="333360"/>
            <a:ext cx="4152600" cy="6191280"/>
          </a:xfrm>
          <a:prstGeom prst="rect">
            <a:avLst/>
          </a:prstGeom>
          <a:ln w="0">
            <a:noFill/>
          </a:ln>
        </p:spPr>
      </p:pic>
      <p:sp>
        <p:nvSpPr>
          <p:cNvPr id="2269" name="WordArt 5"/>
          <p:cNvSpPr txBox="1"/>
          <p:nvPr/>
        </p:nvSpPr>
        <p:spPr>
          <a:xfrm>
            <a:off x="468360" y="1557360"/>
            <a:ext cx="417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7год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сков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хитектур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ститу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1" name="Picture 4" descr="1287698477724448"/>
          <p:cNvPicPr/>
          <p:nvPr/>
        </p:nvPicPr>
        <p:blipFill>
          <a:blip r:embed="rId1"/>
          <a:stretch/>
        </p:blipFill>
        <p:spPr>
          <a:xfrm>
            <a:off x="611280" y="189000"/>
            <a:ext cx="3529080" cy="24177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5" descr="1077569"/>
          <p:cNvPicPr/>
          <p:nvPr/>
        </p:nvPicPr>
        <p:blipFill>
          <a:blip r:embed="rId2"/>
          <a:stretch/>
        </p:blipFill>
        <p:spPr>
          <a:xfrm>
            <a:off x="395280" y="2781360"/>
            <a:ext cx="2803680" cy="37368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6" descr="5b8015e7"/>
          <p:cNvPicPr/>
          <p:nvPr/>
        </p:nvPicPr>
        <p:blipFill>
          <a:blip r:embed="rId3"/>
          <a:stretch/>
        </p:blipFill>
        <p:spPr>
          <a:xfrm>
            <a:off x="5076720" y="189000"/>
            <a:ext cx="3529080" cy="2363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7" descr="voznesenskiy"/>
          <p:cNvPicPr/>
          <p:nvPr/>
        </p:nvPicPr>
        <p:blipFill>
          <a:blip r:embed="rId4"/>
          <a:stretch/>
        </p:blipFill>
        <p:spPr>
          <a:xfrm>
            <a:off x="6137280" y="2781360"/>
            <a:ext cx="2741760" cy="3787560"/>
          </a:xfrm>
          <a:prstGeom prst="rect">
            <a:avLst/>
          </a:prstGeom>
          <a:ln w="0">
            <a:noFill/>
          </a:ln>
        </p:spPr>
      </p:pic>
      <p:sp>
        <p:nvSpPr>
          <p:cNvPr id="2275" name="WordArt 8"/>
          <p:cNvSpPr txBox="1"/>
          <p:nvPr/>
        </p:nvSpPr>
        <p:spPr>
          <a:xfrm>
            <a:off x="3419640" y="2997360"/>
            <a:ext cx="2519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нес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го жена З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услав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2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4" descr="9785264005480"/>
          <p:cNvPicPr/>
          <p:nvPr/>
        </p:nvPicPr>
        <p:blipFill>
          <a:blip r:embed="rId1"/>
          <a:stretch/>
        </p:blipFill>
        <p:spPr>
          <a:xfrm>
            <a:off x="611280" y="1125360"/>
            <a:ext cx="2347920" cy="31845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5" descr="paint2"/>
          <p:cNvPicPr/>
          <p:nvPr/>
        </p:nvPicPr>
        <p:blipFill>
          <a:blip r:embed="rId2"/>
          <a:stretch/>
        </p:blipFill>
        <p:spPr>
          <a:xfrm>
            <a:off x="6156360" y="1268280"/>
            <a:ext cx="2617920" cy="33116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7" descr="1002559481"/>
          <p:cNvPicPr/>
          <p:nvPr/>
        </p:nvPicPr>
        <p:blipFill>
          <a:blip r:embed="rId3"/>
          <a:stretch/>
        </p:blipFill>
        <p:spPr>
          <a:xfrm>
            <a:off x="3419640" y="2924280"/>
            <a:ext cx="2539800" cy="3543120"/>
          </a:xfrm>
          <a:prstGeom prst="rect">
            <a:avLst/>
          </a:prstGeom>
          <a:ln w="0">
            <a:noFill/>
          </a:ln>
        </p:spPr>
      </p:pic>
      <p:sp>
        <p:nvSpPr>
          <p:cNvPr id="2280" name="WordArt 8"/>
          <p:cNvSpPr txBox="1"/>
          <p:nvPr/>
        </p:nvSpPr>
        <p:spPr>
          <a:xfrm>
            <a:off x="2916360" y="26028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Первые сборн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2" name="Picture 4" descr="7197_voznes"/>
          <p:cNvPicPr/>
          <p:nvPr/>
        </p:nvPicPr>
        <p:blipFill>
          <a:blip r:embed="rId1"/>
          <a:stretch/>
        </p:blipFill>
        <p:spPr>
          <a:xfrm>
            <a:off x="250920" y="692280"/>
            <a:ext cx="3470040" cy="5329080"/>
          </a:xfrm>
          <a:prstGeom prst="rect">
            <a:avLst/>
          </a:prstGeom>
          <a:ln w="0">
            <a:noFill/>
          </a:ln>
        </p:spPr>
      </p:pic>
      <p:sp>
        <p:nvSpPr>
          <p:cNvPr id="2283" name="PlaceHolder 1"/>
          <p:cNvSpPr>
            <a:spLocks noGrp="1"/>
          </p:cNvSpPr>
          <p:nvPr>
            <p:ph/>
          </p:nvPr>
        </p:nvSpPr>
        <p:spPr>
          <a:xfrm>
            <a:off x="2987640" y="2268000"/>
            <a:ext cx="5905440" cy="26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жар в Архитектурн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ылайте широк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ровники в амурах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айклубы в рокок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иколай Ушаков «Модный поэт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78920" y="274320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н сменною модой неде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-то пленял молодёж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к что ж ты, цветок рукод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егодня не модно цветёш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7" name="Picture 4" descr="ushakov_a00095dc"/>
          <p:cNvPicPr/>
          <p:nvPr/>
        </p:nvPicPr>
        <p:blipFill>
          <a:blip r:embed="rId1"/>
          <a:stretch/>
        </p:blipFill>
        <p:spPr>
          <a:xfrm>
            <a:off x="6156360" y="2492280"/>
            <a:ext cx="2701800" cy="3529080"/>
          </a:xfrm>
          <a:prstGeom prst="rect">
            <a:avLst/>
          </a:prstGeom>
          <a:ln w="0">
            <a:noFill/>
          </a:ln>
        </p:spPr>
      </p:pic>
      <p:sp>
        <p:nvSpPr>
          <p:cNvPr id="228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4" descr="229DA8BC1E82537AE38B415E1B6CC6"/>
          <p:cNvPicPr/>
          <p:nvPr/>
        </p:nvPicPr>
        <p:blipFill>
          <a:blip r:embed="rId1"/>
          <a:stretch/>
        </p:blipFill>
        <p:spPr>
          <a:xfrm>
            <a:off x="468360" y="189000"/>
            <a:ext cx="2298600" cy="3816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andrey_voznesenskiy_foto_mk_18"/>
          <p:cNvPicPr/>
          <p:nvPr/>
        </p:nvPicPr>
        <p:blipFill>
          <a:blip r:embed="rId2"/>
          <a:stretch/>
        </p:blipFill>
        <p:spPr>
          <a:xfrm>
            <a:off x="6372360" y="3284640"/>
            <a:ext cx="2409840" cy="3319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05f9a605d8d47b169d4aeb245e6"/>
          <p:cNvPicPr/>
          <p:nvPr/>
        </p:nvPicPr>
        <p:blipFill>
          <a:blip r:embed="rId3"/>
          <a:stretch/>
        </p:blipFill>
        <p:spPr>
          <a:xfrm>
            <a:off x="2916360" y="2205000"/>
            <a:ext cx="3262320" cy="3451320"/>
          </a:xfrm>
          <a:prstGeom prst="rect">
            <a:avLst/>
          </a:prstGeom>
          <a:ln w="0">
            <a:noFill/>
          </a:ln>
        </p:spPr>
      </p:pic>
      <p:sp>
        <p:nvSpPr>
          <p:cNvPr id="2292" name="WordArt 7"/>
          <p:cNvSpPr txBox="1"/>
          <p:nvPr/>
        </p:nvSpPr>
        <p:spPr>
          <a:xfrm>
            <a:off x="4716360" y="115920"/>
            <a:ext cx="38689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стролируе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1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ознесенский получил в </a:t>
            </a:r>
            <a:r>
              <a:rPr b="0" lang="ru-RU" sz="34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1978 году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Государственную премию СССР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4" descr="1168d"/>
          <p:cNvPicPr/>
          <p:nvPr/>
        </p:nvPicPr>
        <p:blipFill>
          <a:blip r:embed="rId2"/>
          <a:stretch/>
        </p:blipFill>
        <p:spPr>
          <a:xfrm>
            <a:off x="4500720" y="981000"/>
            <a:ext cx="4309920" cy="4967280"/>
          </a:xfrm>
          <a:prstGeom prst="rect">
            <a:avLst/>
          </a:prstGeom>
          <a:ln w="0">
            <a:noFill/>
          </a:ln>
        </p:spPr>
      </p:pic>
      <p:sp>
        <p:nvSpPr>
          <p:cNvPr id="2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52:32Z</dcterms:created>
  <dc:creator>Вика</dc:creator>
  <dc:description/>
  <dc:language>en-US</dc:language>
  <cp:lastModifiedBy>LEGION</cp:lastModifiedBy>
  <dcterms:modified xsi:type="dcterms:W3CDTF">2015-01-20T13:41:14Z</dcterms:modified>
  <cp:revision>8</cp:revision>
  <dc:subject/>
  <dc:title>Слайд 1</dc:title>
</cp:coreProperties>
</file>