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1557-894B-4F3F-8824-8D2AEF0650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409C-E8FB-4782-A0BE-83F5273943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жба наве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шинская площадь в Моск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A98F-995A-4E1C-AB72-FBB8D447ED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вторы популярных эстрадных пес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а стихи Вознес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7DE5-671E-4505-92A0-AEE39B2EA3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в Переделки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3C0A-B760-49DF-AC17-610A8D51D1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РФ Д.А.Медведев вручает Вознесенскому Орден «За заслуги перед Отечеством» II степ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DD6-47A5-4151-93EA-5DE1D10CC0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чался 1 июня 201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A7FB-8F25-401A-97FD-364B736035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Могила Андрея Андрее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A427-F34E-4599-95BA-C3C054A6F3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ущий поэ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отцом Андре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иколаевиче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строй Наталь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400E-1372-4AE4-A678-C80C23FDE5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957год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рхитекту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нститу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1253-074F-4A20-83A2-D814324ADB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его жена З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гусла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74F1-46C2-4AE1-A4EA-60915C2FEF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99"/>
                </a:solidFill>
                <a:latin typeface="Arial"/>
                <a:ea typeface="Arial"/>
              </a:rPr>
              <a:t>Первые сбор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52B4-1BC2-4563-990A-4CFBACB3CD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 в Архитектур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айте широ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вники в амур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клубы в роко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8162-3E3F-460D-9576-2049E06DAC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Ушаков «Модный поэ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 сменною модой нед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гда-то пленял молодё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к что ж ты, цветок рукодель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годня не модно цветёшь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800-4B6B-4B5C-9379-D65C440B8F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гастрол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7B3B-FEE2-4354-AC3C-42ECDB2233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есенский получил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78 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ую премию ССС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7E2A-556D-4AA0-A736-241F1BADC7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7A81-D173-433F-8E21-A3A58916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52FD-586C-4F8F-8734-C3BD9B6E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71C50-4529-4344-B0E7-7C2FCA1A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1D254-803D-46B1-85EC-B3C2F7AF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56C58-8D85-4FBD-883A-A648F41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8BBE4-1219-4709-A264-831F80B7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02299-993C-4CBD-9843-5AD7285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F698D-E957-43D6-B064-4D7D28B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A0898-0223-474F-B563-058D9299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69A35-826B-4E77-B143-9681846E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0CAB8-360E-4E78-87B7-C379B07B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3B7CF-C367-4BF4-A62B-488AA916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536B-2F3A-4AAB-9792-94A142CD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F6CBC-144A-4E57-8F6F-8A82E155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A53E8-AEC2-4F48-8AD1-BB2AB986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3D39B-7D3C-4AFC-A3EA-833D7A49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A9501-4925-4338-98F7-37103A11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AECE1-934C-498E-A8C2-A7812190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394E6-232B-41E4-9BF2-093C273C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95161-AE9C-4263-A891-6AF3ED08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F6F6D-D01F-449B-8BC2-A715E6C3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27475-FD35-47DA-9DFD-EA5743A4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3A184-AA4C-4DDB-91C9-E4BE65AE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E009-214F-420E-9974-1BC3B38A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F8EF1-884E-4A11-89F2-82D1DDAB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60CAF-D345-4DCA-B9D3-2B4D8454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9F7F2-11D3-4528-884F-7E4E85D9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8B5DF-A083-4AA2-ADCD-F091848C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4BD54-0874-494D-9DCD-FB063EEA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0264F-83F1-4857-B9A3-52A03C3A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CB610-FA2E-487E-A94E-3EA5EB7D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9634C-0F0D-461B-B54A-F77CDB9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25002-F6DC-4F15-A817-6E9532D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D1184-4889-4CF2-8674-6199B6B1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A230-932F-43C9-ACE9-3A97ACBB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AEDC5-3D98-400E-807B-BB7262AB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65439-31A8-42B0-945C-35BC3B52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1C7C5-0316-4E70-9BDE-12D8381A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183B0-5A32-432B-B739-71B06233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F512F-8596-46D7-9319-CAD71713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DAB5F-FBAB-4F5C-9E80-C5D4C198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F072D-04F3-4A30-BDC2-9C55BB30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60309-BB75-408B-B03D-03B33E71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58A4A-BBB3-4E7D-AC56-B548094E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B3B6A-8CE8-4066-9A45-94111EC7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0AE1-3D85-45F8-A921-D6C33FAD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F487E-027A-48F6-B289-A00AA144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8B628-9FCE-45B8-A40E-2BF577AB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A0C2-F305-4B03-B10D-C75E3FAE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B2A20-D144-42BD-B034-345E6F1A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188BB-0F38-407C-BB79-C095E131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8F79F-0E00-456E-9AF3-BD083545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1A8D4-2B54-4CBF-8746-C288780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4FD83-B05D-491A-89A5-B6FA3F52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A5892-D905-45CC-A8B5-45FD408C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15B34-F65C-4C20-9CE9-4502B06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2A77-10C9-4DA2-AF2C-DD298A03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4897E-856F-4651-97FA-8D2E84E9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FBA88-4B92-4C50-A784-A55C99C7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D0C9C-3799-4EFB-B108-C4193CFE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632DD-29AD-4DB5-A597-667FB7A8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61BB3-2030-402D-82AD-AD4D7DBE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24BE7-B480-4AD2-8088-3C8B2FC4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AAD53-FB58-4A40-9D2A-1BA2187A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8161A-5B75-4122-A4BA-CB670E2C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4E485-2C3F-4F54-9C46-A982B6B7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87373-70B7-4B0C-944B-B1171AD3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6DC4-E43F-40B2-869B-F45EB6CF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01CF4-4B48-4617-9F28-043A13CD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B1D31-CC97-4963-997A-0100BC37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07EB3-0C1E-4CA7-9944-0E0BE5F9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84DA4-3A15-49EB-A072-26A95D28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8D786-D9E0-4DC0-B1B3-0FD6F9D8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771CE-36B7-4E94-AB07-4E614CC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03502-DB64-49FC-9146-665BE875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F2011-CD51-4D24-BC51-40144134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57F56-121D-4947-A69A-BBB3B47B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EF6BA-6203-4993-B168-E12BF91D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B673-C6F5-48FC-B354-99153704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EA31B-5352-4438-B645-6A5FB58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0CBEA-B2A1-4285-AEDE-81B3BA3C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BBAC8-8431-47EC-957B-BDBAEC66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ECF37-BAE2-41E9-95CD-8A7143BD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C3502-0C75-48F1-9847-E7737DD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301B2-F373-4C68-8C5E-FD0E9027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53DC9-77F5-4D1E-99F6-19916B4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7FF3D-B902-461F-9448-E72C3BC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CEF6E-6E1E-43A5-A3D5-3145010C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CBF9A-C7B2-4AD3-A092-645D06F2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5EE2-30AF-4669-8FA7-21DEB471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BA63B-0459-4CE4-806D-B7BD31B8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BB071-BFD7-4F9A-93A6-4059C422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9EEF5-90F5-48B8-9181-45CA5E6C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BC3B0-E69B-4DA2-8402-89B62231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4DE02-665B-4B84-92C9-07D92D7D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4FD79-56FC-438E-BF00-5084A00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CF3B4-EC1E-47A3-A7A0-1215A666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0C98B-F448-47C1-B9F2-87EC82A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A8C6F-77E8-4AC4-B3CA-F0EAF67F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4A870-1E5B-46A4-9C56-410118B6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BBAC-F164-48C5-A364-8746BFDB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7C1E2-870D-4D38-8328-4B3E85C2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5C1EC9-58CF-450D-A990-9821096C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70983-7E92-44FF-BFA8-383D42D8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179BC-3DB8-4360-AA5E-856D75E4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902B1-71DE-4246-A666-6D951D4B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693E1-F467-4251-86D5-C9034050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231AA-A283-4C68-9890-13503921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C990C-581D-4698-8964-F16E8A6E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08557-BC10-4798-9AC0-28414007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AAED6-C34D-47BC-9CAC-AAA4F8C6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B85F-894E-4A2C-AE96-28BD3A37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E98C-9159-474B-8279-D6DE1FB4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20C91-DF77-442B-870C-20558FF5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73EDD-45E0-4B9E-8AB1-67FCFA48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5876C-C434-4413-A62D-4302A577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CD8C9-C237-4ED1-BAB7-CF6FC78E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64056-ABBD-4BDC-A43B-49A1FE4E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22D92-E855-4466-9B00-4C688353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1CC479-71F9-4245-88EC-75C01228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D9573-5C3E-4967-A1E7-6613ECCA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BFC84-39FC-4AC7-90C4-C3FB42EB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6EEDC-A162-47FC-BF8B-A9126E36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F9A3-5A65-4756-B834-FEAC24B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9B223-925A-4C75-B577-10FB93F6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EEBB6-85D9-4840-998B-44CD1FBC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670EE-4AF7-44A4-9F70-8CDBBB67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0C3F9-AA46-4211-AEB2-D2BA5AA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B7B480-3034-46A7-9EE2-54DA0DC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1D27F-5001-4D70-A0DF-AFC4E6A8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92CEB-0B1C-40AF-B2FE-C50D0F15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07325-312F-4877-A538-0C474602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FE8CF-CA6A-4F38-8F23-4ECD9B4D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B7CE7-0620-48BC-A2F9-E9123799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3DDC-1B7A-44CD-A671-5320498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3CE43B-0DCA-4451-A932-714E4731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C8CE4-208A-41BA-BE9A-933325D6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08B8A3-F41F-4C2E-B780-26562049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1CD375-9DA2-4A58-A85C-EB56216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93516-9DD6-44E3-A684-9EC5B5BB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D59507-6113-4791-9666-196A5417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1F6E2E-DF3D-451D-A6B1-26F9FA64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2BC2D-4E30-4DC1-A9BF-E8849642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13BE0-324B-4FD4-BDFB-2BB3EF78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55373-1C2E-4A7A-B8D5-CA88A574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D539-9B5A-43C9-B029-C543E233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B5A71-438D-41B9-896C-F1B3DEA9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8623E3-6135-4890-B607-AD2EA50A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F0FCE-3D7C-4B00-9916-9A520148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17C5AF-39BE-4E35-9ABC-F28AFD40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5D2B1-08B5-4456-BC42-CF566BAA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B11835-12B0-41A2-A82D-C676D499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C445F-BC37-4C5B-97AE-D24AE5EC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A9465-1BDC-42E6-A4B5-E2E15AF5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CD8E50-9DF0-4008-B379-F0FED607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26DF4-55A8-42FA-B90F-D4F42979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EE9C-FD52-4915-9A52-FFAAE5F0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955D9-92BA-4677-A435-ADC11192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1B0688-B32E-4607-8FB2-BACBC6AB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E79FD-2362-44C9-B597-F2402D1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A98A5A-F973-4398-89B9-1463A6D0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92AB68-5F5C-4F31-9A34-33D8D1A6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BAD429-BB52-41CA-BF15-A6AAC705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F7975B-879F-45FB-8FEF-81BB94AF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06694-4B6D-4921-BBA0-A25D9A9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036682-C57E-473D-B3E6-39D6E357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2BC8E4-C65F-49A2-AD9D-2CCC47B0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F56C-366A-47E0-840E-1F7E9557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B8838-B75A-4541-9E75-E7538454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88172-8E80-43FC-AC39-33C4EDBE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052C7-6CE7-4F7A-8F1F-4468C83F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83D50E-88B4-4B11-A157-9FE33C3C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8BC1F5-8863-4FA8-BC64-B7EA3BD9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5297A0-0D08-40A9-95AB-4FCF6E4B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BF8207-C42C-4524-A48A-1D84DF4C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AAEC50-FEA4-4D87-A4AA-82C32057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E2408D-B2DE-4F76-AE0C-18A9C0AD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76B184-5831-4F54-9DEF-4C6FA4B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D7A5-29F6-4A2C-8AD8-8030F93B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6EBFBC-2481-45FC-ABA1-40277EA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5FAA5B-BC55-4E56-9CF5-AE27D9E2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2BCD32-18C7-4E79-95C0-FC9D1503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B47C6-E024-4E8D-9ABD-FCFF67C5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E9427F-577C-4EBF-9E15-544C5C7C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F74379-BD48-4512-95CD-45F1A2F1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FCFD46-D859-490F-A443-0FA29DDD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2D1B7E-356C-4F7B-AB62-DF76E673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7167FC-C6D5-4EA4-9C54-CE6230D1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D91DE9-074E-418C-954F-4BB228A5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C4F2-0E55-4222-AEF8-54A65B38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794E7C-F0F5-45B6-B218-3308D16D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F5D2F-8024-4FB4-B3A2-B276575C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51F775-4B7C-4CAD-BD19-008BBB6A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5A4D7F-418F-49C3-B5DD-641B10F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06630B-34F4-427B-818C-CEB1254D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B23926-67C1-497F-A448-45B44E27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3AD95C-5E15-4222-B844-515574AE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8C5BBA-9BED-4A87-92C3-3B60E23D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A97FF5-AE92-4F3E-9172-2F918407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772613-B0EF-484C-A8D4-7542B872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B7B5-2B6B-4721-AFDE-EDE43737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9F928E-CD64-473C-BBFC-B4B9106B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86D099-981D-4CF7-9D46-86DFA7FC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531617-86B0-4669-A1A3-FE0CC602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90A54A-B4F4-45FF-AEF9-6062B79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846C74-5403-4F98-BF35-E2F0B84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32206B-B460-48F1-956E-FF99DA19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384100-9249-4772-AE33-D6C45742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2900A1-B115-4C20-B689-E9E0CB9F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CE095D-A504-41A0-BF85-12994843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DB9A2E-6FFA-4B82-8CC8-05F0532A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0E21-04E7-41EF-A2A6-75613A98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4C6F81-4AA9-46BB-9B9F-316181DC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54A73A-708B-4059-9FDA-4D6E163F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D3B4C1-8AA4-4AD2-98FD-E7CF6899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E7B021-DD13-4C03-AA14-1C51BBB9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B5AB3D-6734-4418-A654-60D66F58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949899-0C7C-41D1-8BA0-1BD6FF1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24F895-2F46-4DEF-95B9-115B1D2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0116CA-1935-42EE-947B-5E847734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666004-9608-433A-A16D-5470D8D0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406476-709C-4F02-B5E0-7B39BDD2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BEC5-9887-44BD-A008-A9061665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EE89-135B-499C-840F-B8F9989D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943799-FB00-4C91-8E0C-E3E49D1F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55D22E-B541-448A-84C4-AA0230DB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AA5D6C-35BB-4D16-8C34-3899FA84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D07534-B8A0-41BF-9A78-03D23AC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CE3D46-173D-4873-9721-8E15DCC3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2CCF9D-02A9-4593-9BE7-7C2F1785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59207C-B48C-4D3A-BD19-04731046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7EC61D-00E7-4FDD-A4C4-64C2E181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0ECA47-7D32-4E85-8B4B-91B9594C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FDB2C5-99ED-4E54-8140-FB80457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94F1-58A4-4847-ACAE-B1C6C80D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EF2AF2-DB41-4FB0-8595-B5DDF864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13EBA3-EB09-4002-964B-354DCBCB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4A8ED3-2027-4813-9396-1ACD3CA4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B110F4-E636-4B96-848F-4CA67E49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93F876-F2ED-42D8-A4B4-D5C4EC65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52939A-3111-4450-AEFE-1CB07137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DA1A39-D216-4EAB-B46B-0B42AE0B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A6ABD3-D33A-4EF8-BF17-526480FD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5E75FD-A287-4F97-82A6-958DEA9D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C04DCE-5647-4B24-B1F5-7D66FAC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EFE3-7925-42BB-BF6F-24DDA675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5302AE-A4EA-45DF-A982-C6B3668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CE975D-1A21-4ECB-B1A2-537E58C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F802A9-58BD-41ED-87C8-98CAA1D4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D2E485-7532-47CB-BCDA-A737691B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B84287-4775-469C-8DB7-93186E79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247107-5D49-41AB-9239-AD3A85C5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69204D-5782-4133-A7C1-645AC34F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CD3F5B-D9F3-4F54-B9F7-402036B2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A07EE9-5215-4333-955D-B72BFC83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4828D0-13FD-45A1-A7D9-CB869EB2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DDBA-86F7-4143-A0E0-B5CDA6E3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9FCFEA-20E1-43BD-B03E-CB557631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E785B2-3D6C-4911-B399-3FBFB69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FAF30C-8A74-4F4A-80C6-25D45EB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61D6AC-8081-4AC5-AADC-F8FE1512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AC39C8-BF0C-4366-A8D4-A837F5C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8FABF0-5D0E-4E1C-9940-865E3EB1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F4A5A5-BEA2-4EE7-88C5-99A4D0CD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E60B6E-2DA1-4954-B5A9-697E8023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EA72C4-A74D-4B0C-94E2-53AAC72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47C70C-3644-48FB-94D8-25CDF994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D1F6-3262-433D-AB1F-29593606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7FD6E3-31E3-4440-8229-A84ABCCA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6FA128-2688-4C51-934C-D135461F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023B5D-0670-4034-BAC6-89244401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CC09D2-E1D8-432C-8F00-7D9EF3DE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F02926-CFCB-4EF9-B5D4-AC8E731D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85A18D-3925-48BD-B8E6-21BF80E3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305C24-8525-4479-8438-6BA37CCE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C955E7-C15D-4B60-91CB-62D2A697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FA6173-C6F4-4F9F-97AE-EAD70705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857846-B2B9-434B-9A00-641353B4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159D8-C4FD-423B-8C3F-39E14407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987727-6587-4EA0-A3B3-0D609427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376687-D5C6-4568-8E06-23D997B4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8319A6-69E9-4E32-8DF5-022B0AE3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E0399B-42B6-425C-90BD-C3E24600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D3CF9A-2AE7-4A7F-A947-819B7B19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E3C08D-90B7-4970-8B6C-4159ED97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D6EAD1-7B12-41CB-BEE3-DA856462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11AFFA-17CB-4907-82D7-CC842BFD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76E53C-D132-4E87-B601-0B1DBE69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26B520-7C52-4A0F-A3D6-7BA94BAA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854B-9503-4B9C-8CC6-6C89DC84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C952E3-D709-4791-B8BA-018E8663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9AE327-8EAF-4EE0-ADB7-14E3D88D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48D9BA-0255-49AE-8C9F-2951B216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1D708E-6D34-4FE7-8CEE-EB20D91E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2605F9-F984-414D-AEFB-3E55C964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BA42DE-74C8-4CDC-A4AC-8E45AE32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C11B91-BB8F-4BE9-B0AF-F0D690EC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B38767-C308-40E2-A90A-6CFD443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71247E-3689-48E9-AC51-E3785D6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E1A3E8-D5AF-4E75-8828-8DEC019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F6586-3819-4935-9341-5E9591BB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42A792-1CF6-4136-985F-91AE8E22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AA5723-450E-4B67-9D7C-5A33E6D6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7D9C4A-2E76-4A04-AB22-C0C76E2B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42AF-F5E6-4BE8-8094-859D564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C1A5-578A-41C1-9A5E-591C43F6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B20E-ECAB-4FB9-A00B-7746BCF1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38E2D-D9FD-494F-88D2-A58F18B7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3385-7E92-4F9E-93AE-9A28D641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76CD-F5FC-451E-B990-F02B1259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180E-6161-471A-9468-7C718CE1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309B-61F0-45FB-BA4F-621D36A9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AD3E-6246-4877-9542-55D8631B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6EC46-3B37-4C5C-B184-1BC4CA01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5CC8-38E7-4537-9AF6-957A7838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2EFC-8890-453A-8404-1A16A078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8FF05-6C2C-46A8-B641-523B65AE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EFA3-579D-41E5-8B8A-6971905D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061B7-3BBB-4257-816F-EF47F220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0A2F8-8037-4B0C-9057-A6DE7AB9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45C4A-32E8-4666-915E-5F47EAEF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6A70A-867A-4709-9AF8-678AD807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F3734-1904-49AF-B0AB-EC8B0EC7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C7B17-9BA9-4E30-A789-24D0703F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A52A9-037B-4AD8-9653-04F8B669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CC5E6-315E-433C-AEEC-EE1CE313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ABAF4-7542-4C25-AD43-D748CB68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467AC-E736-4EA9-B9F5-80960B72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6196-3A04-4885-A55D-1012B01A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390F7-AB10-43A3-A5AE-34C25011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C6652-209C-4DFA-B9D0-FBAED83F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81C8B-8C5B-424C-A596-B5F10FBB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986B-81F5-4EF9-AE0D-59FBAB6C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C4E0-B921-4E44-903B-83F4876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A0E55-4AED-484A-8F04-24C1CBAE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A343C-27B0-4F94-9A72-2854E3F9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7AF64-3150-48C4-B5BE-65A62DC4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69AA-DAD0-4733-815E-84BC135F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3909E-1837-4ADC-BE30-BD24B426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5221-AD8F-4726-8E59-213CD8ED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3DE77-AE80-429E-9A84-D027827E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4F4D-F75A-4185-BBCB-CCFF7690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FDE43-A29C-4D82-A9B8-B0E1F56D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F79B8-46C1-493D-8413-5B63C5F9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750AA-54BF-497B-8D51-61F4EF7A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9B0A2-8B0C-4A66-A4EF-C7B8371C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9F502-E89F-4C2B-ACB7-FEBA0FF3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A63B8-4C68-42A0-A590-E32257E2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32576-B26B-4577-804D-3847F9FF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7B04E-8A46-4B43-AB60-7427D014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B194D-FD07-44EB-BD02-50F1438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2D376-1240-4B99-BC29-DCC718EB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C69C7-5D27-42CC-B207-980D48D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B8A98-AFA2-4CB1-9BCD-5E6C3495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B643F-AB66-4C13-9489-23076A60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D04FF-3C6D-40A2-80B4-648C3386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72C346-6F87-4350-A00F-2E4C0546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A49D6-1E0A-4D73-9736-AD3FA9CF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E9C4F-1332-4909-AEE1-FEB55641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F4AA82-C355-4AAA-9F60-68056C1B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883D05-7521-4871-B652-FC7D6CE9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B82E-55F0-4135-9A8E-5FC82E66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DBD01-A662-4048-9751-E57BA4B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34EB10-CD2E-4B50-A45A-39AF3A5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33875C-B3D8-40EC-AA9A-70EBEEDD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018A3D-A6BF-45CA-93EC-224EA17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A2EB1A-E937-4958-BB37-02A0EC09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284A0-4506-403B-8949-4DDD29B1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F27DB9-7BF5-400F-9EC9-75ECA245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F167E-5277-4DED-8579-B10064FC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9B77E-3436-4902-9D22-23BC1837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A1F20-8E09-4012-8B90-30685D2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114F-A663-44FE-867A-89194DEA84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EC3B-2F50-4373-AE78-873BDE4A64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3D6-ADC5-4EA7-8B54-4A59DF852E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A06E-5E91-4B56-A7B4-77F59AC9B7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1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EDD1-B019-4264-8320-0DA4D04DF44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87FA-E9F1-45EC-8309-ACA3B533C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2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5166-BAFE-4CE7-85AE-532E5F44CC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9552-8541-49F9-ACE2-27016EB8C15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D417-E579-4D2E-9E49-5FB5E7AC70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0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780B-2616-4BA0-A1C3-931B686FBD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7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9E97-50C5-4AFC-BA95-C7CAF1C682D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2DD9-06E4-4B26-8B3B-5687AB70F5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05EE-2F6E-4F33-B1CE-381CC63845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F0F-2BD4-4F33-B907-ECFB3B72652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42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2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43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3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3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3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4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4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5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5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6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6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7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7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8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8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9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0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0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1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1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2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2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53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53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54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D5A2-7EFC-4CE0-B0E0-D1A828FC2D2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0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0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0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6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CDF4-B5B3-45A2-ABBF-6BE3A0B3B84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6418-42EA-43C0-827F-92DCA9337C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A6A-331D-4454-AF43-44FC45095D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6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6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6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5D86-ABE7-489E-85B0-02069D4EBD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81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7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8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8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DB13-900D-4875-B5A9-26D4EF2F9E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5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8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0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0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dt" idx="8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 type="ftr" idx="8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6439-9001-47E3-947F-839AB7D103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6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2A9F-2AFF-4306-85F1-5BB27C886C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198C-4A4C-4AFF-A76D-544AFB54E9D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8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B1A3-57CA-47B3-BD6B-99643387CFC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A782-B7F9-4B9C-9CBC-CA35D80117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98FF-0176-45B4-ACDE-7E96363EFE2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C7C9-0360-41E0-8560-E22D993E6F6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13DF-A7B8-4D33-8396-85E0781CEBD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5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D813-69BF-4691-B01D-9F222BA32B6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33A-1CB2-40EC-BAC3-2D1B126DE6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3DF5-9CA4-447E-B1B8-4AB5822707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10" descr="paint5"/>
          <p:cNvPicPr/>
          <p:nvPr/>
        </p:nvPicPr>
        <p:blipFill>
          <a:blip r:embed="rId1"/>
          <a:stretch/>
        </p:blipFill>
        <p:spPr>
          <a:xfrm>
            <a:off x="395280" y="549360"/>
            <a:ext cx="4284720" cy="5759280"/>
          </a:xfrm>
          <a:prstGeom prst="rect">
            <a:avLst/>
          </a:prstGeom>
          <a:ln w="0">
            <a:noFill/>
          </a:ln>
        </p:spPr>
      </p:pic>
      <p:sp>
        <p:nvSpPr>
          <p:cNvPr id="2262" name="WordArt 11"/>
          <p:cNvSpPr txBox="1"/>
          <p:nvPr/>
        </p:nvSpPr>
        <p:spPr>
          <a:xfrm>
            <a:off x="4859280" y="1557360"/>
            <a:ext cx="39988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несе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3" name="WordArt 12"/>
          <p:cNvSpPr txBox="1"/>
          <p:nvPr/>
        </p:nvSpPr>
        <p:spPr>
          <a:xfrm>
            <a:off x="5867280" y="4869000"/>
            <a:ext cx="22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33-20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Дружба навеки»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ишинская площадь в Москв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8" name="Picture 4" descr="unnamed"/>
          <p:cNvPicPr/>
          <p:nvPr/>
        </p:nvPicPr>
        <p:blipFill>
          <a:blip r:embed="rId1"/>
          <a:stretch/>
        </p:blipFill>
        <p:spPr>
          <a:xfrm>
            <a:off x="565164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4e527de3bb212"/>
          <p:cNvPicPr/>
          <p:nvPr/>
        </p:nvPicPr>
        <p:blipFill>
          <a:blip r:embed="rId2"/>
          <a:stretch/>
        </p:blipFill>
        <p:spPr>
          <a:xfrm>
            <a:off x="1476360" y="184464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1" name="Picture 7" descr="633220"/>
          <p:cNvPicPr/>
          <p:nvPr/>
        </p:nvPicPr>
        <p:blipFill>
          <a:blip r:embed="rId1"/>
          <a:stretch/>
        </p:blipFill>
        <p:spPr>
          <a:xfrm>
            <a:off x="6588000" y="33336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23ce7d125755d0044b4fb9b8d0f73d28"/>
          <p:cNvPicPr/>
          <p:nvPr/>
        </p:nvPicPr>
        <p:blipFill>
          <a:blip r:embed="rId2"/>
          <a:stretch/>
        </p:blipFill>
        <p:spPr>
          <a:xfrm>
            <a:off x="3635280" y="3357720"/>
            <a:ext cx="2363760" cy="33573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4" descr="yap5"/>
          <p:cNvPicPr/>
          <p:nvPr/>
        </p:nvPicPr>
        <p:blipFill>
          <a:blip r:embed="rId3"/>
          <a:stretch/>
        </p:blipFill>
        <p:spPr>
          <a:xfrm>
            <a:off x="395280" y="2060640"/>
            <a:ext cx="2448000" cy="2442960"/>
          </a:xfrm>
          <a:prstGeom prst="rect">
            <a:avLst/>
          </a:prstGeom>
          <a:ln w="0">
            <a:noFill/>
          </a:ln>
        </p:spPr>
      </p:pic>
      <p:sp>
        <p:nvSpPr>
          <p:cNvPr id="2304" name="WordArt 5"/>
          <p:cNvSpPr txBox="1"/>
          <p:nvPr/>
        </p:nvSpPr>
        <p:spPr>
          <a:xfrm>
            <a:off x="1116000" y="33336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популярных эстрадных пес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ихи Вознес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5" name="WordArt 9"/>
          <p:cNvSpPr txBox="1"/>
          <p:nvPr/>
        </p:nvSpPr>
        <p:spPr>
          <a:xfrm>
            <a:off x="468360" y="501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Пугачёва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иллион алых роз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6" name="WordArt 10"/>
          <p:cNvSpPr txBox="1"/>
          <p:nvPr/>
        </p:nvSpPr>
        <p:spPr>
          <a:xfrm>
            <a:off x="6335640" y="3213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Осин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ачет дев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втома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7" name="AutoShape 13"/>
          <p:cNvSpPr/>
          <p:nvPr/>
        </p:nvSpPr>
        <p:spPr>
          <a:xfrm>
            <a:off x="1403280" y="4508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AutoShape 14"/>
          <p:cNvSpPr/>
          <p:nvPr/>
        </p:nvSpPr>
        <p:spPr>
          <a:xfrm>
            <a:off x="7524720" y="278136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WordArt 15"/>
          <p:cNvSpPr txBox="1"/>
          <p:nvPr/>
        </p:nvSpPr>
        <p:spPr>
          <a:xfrm>
            <a:off x="3708360" y="155736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Гнатюк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анец 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бан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10" name="AutoShape 16"/>
          <p:cNvSpPr/>
          <p:nvPr/>
        </p:nvSpPr>
        <p:spPr>
          <a:xfrm>
            <a:off x="4572000" y="263700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4" descr="79706224_voznes_kedr_pastern_royaljpg"/>
          <p:cNvPicPr/>
          <p:nvPr/>
        </p:nvPicPr>
        <p:blipFill>
          <a:blip r:embed="rId1"/>
          <a:stretch/>
        </p:blipFill>
        <p:spPr>
          <a:xfrm>
            <a:off x="5292720" y="1268280"/>
            <a:ext cx="3490920" cy="258948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5" descr="3870"/>
          <p:cNvPicPr/>
          <p:nvPr/>
        </p:nvPicPr>
        <p:blipFill>
          <a:blip r:embed="rId2"/>
          <a:stretch/>
        </p:blipFill>
        <p:spPr>
          <a:xfrm>
            <a:off x="3203640" y="3878280"/>
            <a:ext cx="3313080" cy="29098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6" descr="news-kedrov_200906050156412"/>
          <p:cNvPicPr/>
          <p:nvPr/>
        </p:nvPicPr>
        <p:blipFill>
          <a:blip r:embed="rId3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Жизнь в Переделки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идент РФ Д.А.Медведев вручает Вознесенскому Орден «За заслуги перед Отечеством» II степен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318" name="Picture 4" descr="poet0106"/>
          <p:cNvPicPr/>
          <p:nvPr/>
        </p:nvPicPr>
        <p:blipFill>
          <a:blip r:embed="rId1"/>
          <a:stretch/>
        </p:blipFill>
        <p:spPr>
          <a:xfrm>
            <a:off x="1979640" y="2349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нчался 1 июня 2010 го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1" name="Picture 4" descr="1275473529502283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882960"/>
          </a:xfrm>
          <a:prstGeom prst="rect">
            <a:avLst/>
          </a:prstGeom>
          <a:ln w="0">
            <a:noFill/>
          </a:ln>
        </p:spPr>
      </p:pic>
      <p:sp>
        <p:nvSpPr>
          <p:cNvPr id="23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Могила Андрея Андреевича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4" name="Picture 4" descr="voznesenskiy-andrei3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" descr="43116_64295_f"/>
          <p:cNvPicPr/>
          <p:nvPr/>
        </p:nvPicPr>
        <p:blipFill>
          <a:blip r:embed="rId2"/>
          <a:stretch/>
        </p:blipFill>
        <p:spPr>
          <a:xfrm>
            <a:off x="75564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4" descr="Voznesenskii2"/>
          <p:cNvPicPr/>
          <p:nvPr/>
        </p:nvPicPr>
        <p:blipFill>
          <a:blip r:embed="rId1"/>
          <a:stretch/>
        </p:blipFill>
        <p:spPr>
          <a:xfrm>
            <a:off x="2124000" y="189000"/>
            <a:ext cx="4937040" cy="6408720"/>
          </a:xfrm>
          <a:prstGeom prst="rect">
            <a:avLst/>
          </a:prstGeom>
          <a:ln w="0">
            <a:noFill/>
          </a:ln>
        </p:spPr>
      </p:pic>
      <p:sp>
        <p:nvSpPr>
          <p:cNvPr id="2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4" descr="59897034_Voznesenskiy_"/>
          <p:cNvPicPr/>
          <p:nvPr/>
        </p:nvPicPr>
        <p:blipFill>
          <a:blip r:embed="rId1"/>
          <a:stretch/>
        </p:blipFill>
        <p:spPr>
          <a:xfrm>
            <a:off x="2195640" y="189000"/>
            <a:ext cx="5030640" cy="6524640"/>
          </a:xfrm>
          <a:prstGeom prst="rect">
            <a:avLst/>
          </a:prstGeom>
          <a:ln w="0">
            <a:noFill/>
          </a:ln>
        </p:spPr>
      </p:pic>
      <p:sp>
        <p:nvSpPr>
          <p:cNvPr id="2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4" descr="35-50-1b"/>
          <p:cNvPicPr/>
          <p:nvPr/>
        </p:nvPicPr>
        <p:blipFill>
          <a:blip r:embed="rId1"/>
          <a:stretch/>
        </p:blipFill>
        <p:spPr>
          <a:xfrm>
            <a:off x="1258920" y="260280"/>
            <a:ext cx="6912000" cy="6272280"/>
          </a:xfrm>
          <a:prstGeom prst="rect">
            <a:avLst/>
          </a:prstGeom>
          <a:ln w="0">
            <a:noFill/>
          </a:ln>
        </p:spPr>
      </p:pic>
      <p:sp>
        <p:nvSpPr>
          <p:cNvPr id="2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4" descr="336161768"/>
          <p:cNvPicPr/>
          <p:nvPr/>
        </p:nvPicPr>
        <p:blipFill>
          <a:blip r:embed="rId1"/>
          <a:stretch/>
        </p:blipFill>
        <p:spPr>
          <a:xfrm>
            <a:off x="2190600" y="81000"/>
            <a:ext cx="4762800" cy="6696000"/>
          </a:xfrm>
          <a:prstGeom prst="rect">
            <a:avLst/>
          </a:prstGeom>
          <a:ln w="0">
            <a:noFill/>
          </a:ln>
        </p:spPr>
      </p:pic>
      <p:sp>
        <p:nvSpPr>
          <p:cNvPr id="2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Picture 5" descr="a-voz"/>
          <p:cNvPicPr/>
          <p:nvPr/>
        </p:nvPicPr>
        <p:blipFill>
          <a:blip r:embed="rId1"/>
          <a:stretch/>
        </p:blipFill>
        <p:spPr>
          <a:xfrm>
            <a:off x="395280" y="260280"/>
            <a:ext cx="4668840" cy="6308640"/>
          </a:xfrm>
          <a:prstGeom prst="rect">
            <a:avLst/>
          </a:prstGeom>
          <a:ln w="0">
            <a:noFill/>
          </a:ln>
        </p:spPr>
      </p:pic>
      <p:sp>
        <p:nvSpPr>
          <p:cNvPr id="2266" name="WordArt 6"/>
          <p:cNvSpPr txBox="1"/>
          <p:nvPr/>
        </p:nvSpPr>
        <p:spPr>
          <a:xfrm>
            <a:off x="5219640" y="1916280"/>
            <a:ext cx="374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ущий 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отцом Андре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евичем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строй Наталь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8" name="Picture 4" descr="001"/>
          <p:cNvPicPr/>
          <p:nvPr/>
        </p:nvPicPr>
        <p:blipFill>
          <a:blip r:embed="rId1"/>
          <a:stretch/>
        </p:blipFill>
        <p:spPr>
          <a:xfrm>
            <a:off x="4721400" y="333360"/>
            <a:ext cx="4152600" cy="6191280"/>
          </a:xfrm>
          <a:prstGeom prst="rect">
            <a:avLst/>
          </a:prstGeom>
          <a:ln w="0">
            <a:noFill/>
          </a:ln>
        </p:spPr>
      </p:pic>
      <p:sp>
        <p:nvSpPr>
          <p:cNvPr id="2269" name="WordArt 5"/>
          <p:cNvSpPr txBox="1"/>
          <p:nvPr/>
        </p:nvSpPr>
        <p:spPr>
          <a:xfrm>
            <a:off x="468360" y="1557360"/>
            <a:ext cx="417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7год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сков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хитектур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ститу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1" name="Picture 4" descr="1287698477724448"/>
          <p:cNvPicPr/>
          <p:nvPr/>
        </p:nvPicPr>
        <p:blipFill>
          <a:blip r:embed="rId1"/>
          <a:stretch/>
        </p:blipFill>
        <p:spPr>
          <a:xfrm>
            <a:off x="611280" y="189000"/>
            <a:ext cx="3529080" cy="24177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5" descr="1077569"/>
          <p:cNvPicPr/>
          <p:nvPr/>
        </p:nvPicPr>
        <p:blipFill>
          <a:blip r:embed="rId2"/>
          <a:stretch/>
        </p:blipFill>
        <p:spPr>
          <a:xfrm>
            <a:off x="395280" y="2781360"/>
            <a:ext cx="2803680" cy="37368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6" descr="5b8015e7"/>
          <p:cNvPicPr/>
          <p:nvPr/>
        </p:nvPicPr>
        <p:blipFill>
          <a:blip r:embed="rId3"/>
          <a:stretch/>
        </p:blipFill>
        <p:spPr>
          <a:xfrm>
            <a:off x="5076720" y="189000"/>
            <a:ext cx="3529080" cy="2363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7" descr="voznesenskiy"/>
          <p:cNvPicPr/>
          <p:nvPr/>
        </p:nvPicPr>
        <p:blipFill>
          <a:blip r:embed="rId4"/>
          <a:stretch/>
        </p:blipFill>
        <p:spPr>
          <a:xfrm>
            <a:off x="6137280" y="2781360"/>
            <a:ext cx="2741760" cy="3787560"/>
          </a:xfrm>
          <a:prstGeom prst="rect">
            <a:avLst/>
          </a:prstGeom>
          <a:ln w="0">
            <a:noFill/>
          </a:ln>
        </p:spPr>
      </p:pic>
      <p:sp>
        <p:nvSpPr>
          <p:cNvPr id="2275" name="WordArt 8"/>
          <p:cNvSpPr txBox="1"/>
          <p:nvPr/>
        </p:nvSpPr>
        <p:spPr>
          <a:xfrm>
            <a:off x="3419640" y="2997360"/>
            <a:ext cx="2519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нес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го жена З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услав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2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4" descr="9785264005480"/>
          <p:cNvPicPr/>
          <p:nvPr/>
        </p:nvPicPr>
        <p:blipFill>
          <a:blip r:embed="rId1"/>
          <a:stretch/>
        </p:blipFill>
        <p:spPr>
          <a:xfrm>
            <a:off x="611280" y="1125360"/>
            <a:ext cx="2347920" cy="31845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5" descr="paint2"/>
          <p:cNvPicPr/>
          <p:nvPr/>
        </p:nvPicPr>
        <p:blipFill>
          <a:blip r:embed="rId2"/>
          <a:stretch/>
        </p:blipFill>
        <p:spPr>
          <a:xfrm>
            <a:off x="6156360" y="1268280"/>
            <a:ext cx="2617920" cy="33116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7" descr="1002559481"/>
          <p:cNvPicPr/>
          <p:nvPr/>
        </p:nvPicPr>
        <p:blipFill>
          <a:blip r:embed="rId3"/>
          <a:stretch/>
        </p:blipFill>
        <p:spPr>
          <a:xfrm>
            <a:off x="3419640" y="2924280"/>
            <a:ext cx="2539800" cy="3543120"/>
          </a:xfrm>
          <a:prstGeom prst="rect">
            <a:avLst/>
          </a:prstGeom>
          <a:ln w="0">
            <a:noFill/>
          </a:ln>
        </p:spPr>
      </p:pic>
      <p:sp>
        <p:nvSpPr>
          <p:cNvPr id="2280" name="WordArt 8"/>
          <p:cNvSpPr txBox="1"/>
          <p:nvPr/>
        </p:nvSpPr>
        <p:spPr>
          <a:xfrm>
            <a:off x="2916360" y="26028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Первые сборн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2" name="Picture 4" descr="7197_voznes"/>
          <p:cNvPicPr/>
          <p:nvPr/>
        </p:nvPicPr>
        <p:blipFill>
          <a:blip r:embed="rId1"/>
          <a:stretch/>
        </p:blipFill>
        <p:spPr>
          <a:xfrm>
            <a:off x="250920" y="692280"/>
            <a:ext cx="3470040" cy="5329080"/>
          </a:xfrm>
          <a:prstGeom prst="rect">
            <a:avLst/>
          </a:prstGeom>
          <a:ln w="0">
            <a:noFill/>
          </a:ln>
        </p:spPr>
      </p:pic>
      <p:sp>
        <p:nvSpPr>
          <p:cNvPr id="2283" name="PlaceHolder 1"/>
          <p:cNvSpPr>
            <a:spLocks noGrp="1"/>
          </p:cNvSpPr>
          <p:nvPr>
            <p:ph/>
          </p:nvPr>
        </p:nvSpPr>
        <p:spPr>
          <a:xfrm>
            <a:off x="2987640" y="2268000"/>
            <a:ext cx="5905440" cy="26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жар в Архитектурн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ылайте широк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ровники в амурах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айклубы в рокок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иколай Ушаков «Модный поэт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78920" y="274320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н сменною модой неде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-то пленял молодёж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к что ж ты, цветок рукод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егодня не модно цветёш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7" name="Picture 4" descr="ushakov_a00095dc"/>
          <p:cNvPicPr/>
          <p:nvPr/>
        </p:nvPicPr>
        <p:blipFill>
          <a:blip r:embed="rId1"/>
          <a:stretch/>
        </p:blipFill>
        <p:spPr>
          <a:xfrm>
            <a:off x="6156360" y="2492280"/>
            <a:ext cx="2701800" cy="3529080"/>
          </a:xfrm>
          <a:prstGeom prst="rect">
            <a:avLst/>
          </a:prstGeom>
          <a:ln w="0">
            <a:noFill/>
          </a:ln>
        </p:spPr>
      </p:pic>
      <p:sp>
        <p:nvSpPr>
          <p:cNvPr id="228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4" descr="229DA8BC1E82537AE38B415E1B6CC6"/>
          <p:cNvPicPr/>
          <p:nvPr/>
        </p:nvPicPr>
        <p:blipFill>
          <a:blip r:embed="rId1"/>
          <a:stretch/>
        </p:blipFill>
        <p:spPr>
          <a:xfrm>
            <a:off x="468360" y="189000"/>
            <a:ext cx="2298600" cy="3816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andrey_voznesenskiy_foto_mk_18"/>
          <p:cNvPicPr/>
          <p:nvPr/>
        </p:nvPicPr>
        <p:blipFill>
          <a:blip r:embed="rId2"/>
          <a:stretch/>
        </p:blipFill>
        <p:spPr>
          <a:xfrm>
            <a:off x="6372360" y="3284640"/>
            <a:ext cx="2409840" cy="3319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05f9a605d8d47b169d4aeb245e6"/>
          <p:cNvPicPr/>
          <p:nvPr/>
        </p:nvPicPr>
        <p:blipFill>
          <a:blip r:embed="rId3"/>
          <a:stretch/>
        </p:blipFill>
        <p:spPr>
          <a:xfrm>
            <a:off x="2916360" y="2205000"/>
            <a:ext cx="3262320" cy="3451320"/>
          </a:xfrm>
          <a:prstGeom prst="rect">
            <a:avLst/>
          </a:prstGeom>
          <a:ln w="0">
            <a:noFill/>
          </a:ln>
        </p:spPr>
      </p:pic>
      <p:sp>
        <p:nvSpPr>
          <p:cNvPr id="2292" name="WordArt 7"/>
          <p:cNvSpPr txBox="1"/>
          <p:nvPr/>
        </p:nvSpPr>
        <p:spPr>
          <a:xfrm>
            <a:off x="4716360" y="115920"/>
            <a:ext cx="38689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стролируе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1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ознесенский получил в </a:t>
            </a:r>
            <a:r>
              <a:rPr b="0" lang="ru-RU" sz="34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1978 году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Государственную премию СССР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4" descr="1168d"/>
          <p:cNvPicPr/>
          <p:nvPr/>
        </p:nvPicPr>
        <p:blipFill>
          <a:blip r:embed="rId2"/>
          <a:stretch/>
        </p:blipFill>
        <p:spPr>
          <a:xfrm>
            <a:off x="4500720" y="981000"/>
            <a:ext cx="4309920" cy="4967280"/>
          </a:xfrm>
          <a:prstGeom prst="rect">
            <a:avLst/>
          </a:prstGeom>
          <a:ln w="0">
            <a:noFill/>
          </a:ln>
        </p:spPr>
      </p:pic>
      <p:sp>
        <p:nvSpPr>
          <p:cNvPr id="2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52:32Z</dcterms:created>
  <dc:creator>Вика</dc:creator>
  <dc:description/>
  <dc:language>en-US</dc:language>
  <cp:lastModifiedBy>LEGION</cp:lastModifiedBy>
  <dcterms:modified xsi:type="dcterms:W3CDTF">2015-01-20T13:41:14Z</dcterms:modified>
  <cp:revision>8</cp:revision>
  <dc:subject/>
  <dc:title>Слайд 1</dc:title>
</cp:coreProperties>
</file>