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F6F1-703E-4402-97A8-3A76025FC3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-былина «Садко» Римского- Корса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щие герои и персонажи оп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D392-881E-4743-8E5B-33F5A7A94B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39FA-A30A-4938-A8C8-8E002F37A2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ко путешеств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3574-94C6-4BC1-89F4-20478255CA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ие приключения и дальни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4C19-593C-4A66-A0AC-EF0312D6FF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не морском, во владениях  морского ца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4F43-CF3D-4D9D-AD08-CE0ABE90C0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Загадочная и обворожительная Волх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1182-5B0D-4EAC-A918-5096E8D1A6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ецкие и сердечные, грустные и веселые песни Садко покорили силы природы, подводное царство, принесли славу великому Новго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евна Волхова, дочь морского царя, очарована музыкой Садко. Она пробудила в царевне человеческую душу, сердце, которое любит и стра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30D4-4C96-4BAF-8C9A-B215C634BE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8DBC-EBF2-4283-AAF6-299AE11A59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A0D4-30ED-42FE-AC12-D0C85B5BEA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до оперного жан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C7B4-5D20-4118-B187-5C896D06CC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«Садко», как и в любой сказке, много чудес. Но самое главное чудо сотворило искусство , когда превратило фантастическое существо, бездушную красавицу Волхову, в чудесного доброго человека, которая горячо любит и готова отдать свою жизнь во имя счастья людей. Она спасла Садко, а сама осталась на земле и превратилась в реку Волх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7AA3-621D-4E01-92C2-C01E5643B9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6DC5-1EEC-48FB-843A-945DB52C20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ера «Садко» - шедевр русской классической музы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-былине , Садко, предстает перед нами, как  русский Орфей, который своим искусством покоряет природу, покоряет сказочных существ и даже  волшебница Волхова начинает чувствовать и переживать, как настоящих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F3E3-8A8A-464E-BA0A-ED7B508D1F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Андреевич Римский-Корсаков   (1844 – 190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-былина «Садко» -  одно из первых значительных произведений композитора. Сначала Римский-Корсаков сочинил симфоническую картину «Садко». Позже он ее использовал для создания оперы-бы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FB2D-1725-4163-8EE6-67A7D78314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озитор - сказоч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 написал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ер и большинство из них на сказочные сюж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снову оперы «Садко» композитор положил северорусскую новгородскую былину про бесстрашного мореплавателя и талантливого музыканта Садко, про волшебную силу его искус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BEDE-1E2A-469D-9D44-F0DD2CEA05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ва мира- реальный и сказочны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ва музыкальных лейтмотива в опер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ль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новгородский люд, жена Садко- Любава Буслаевна, Садко, Гость Варяжский, гость Индийский, гость Веденецкий(из Венеции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зоч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Царевна Волхова, морские царевны-лебеди, золотые рыбк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й лейтмоти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й лейтмоти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овгор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FB37-2E1E-4F47-9F2E-257527EC69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 скалы грозные дробятся с ревом вол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9878-473F-47D4-8519-C0B43256C0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сподин Великий Новгор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к во славном Нове-го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ыл Садко, веселый молоде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 имел он златой каз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имел лишь гусельки  яровч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пирам ходил-играл Садк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шал купцов, людей посад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E9FF-C1AF-463A-B8EC-ECCD355F77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ствующие герои и персона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вгородский люд, новгородские куп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42FD-B046-4AF5-84E3-18EBF14703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ость хвалит свою страну. Куда отправится Садк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D849-F3B5-4A6F-9E7B-D693CD6E2F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4A8-6207-4A56-9720-6E0018E5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9EA-E895-4028-B6CE-0C2453E3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7DA-F367-4A3F-83CE-1F46E6B3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D32-3063-4132-975E-2A7B7E6F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1649-9512-4619-B2FF-6366CE1C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6C52-E2E3-42A6-AC2F-6DA0CA70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168C-810B-4C47-8A45-642D1BF1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D0AF-5E77-4D79-9B79-9D388873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AD7D-ED0A-4CE4-AF61-EC9D5319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AD4C-B831-49AB-84D8-DC67B730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E5F8-0AF8-465A-9F0F-D0B814F7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347-BB1D-4905-BD9C-A47C295E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0200-3626-45D6-8F3E-2440A352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841C-8C4B-48C2-A12B-0098CD19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CD07-7FB0-4445-9B78-6BBF8079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3732-CFA4-42B2-997D-C6898DBD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3D17-AC1C-4A47-B6CF-B7F87EE3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79A-7678-4A56-A8BD-971BF4D5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C8B6-4FA9-425D-82B5-4035BC4C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4B08-F5A5-4FCA-83FE-E0C7C15D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CEBE-AAB8-45CD-904C-96E02DF3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954-DDDC-4285-82EA-06181980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7F7-F439-4A9C-8CC1-E177406E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3C09-C58F-471D-8F04-D6C0DDE6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2E4D-7CE8-4E93-84C5-B816B459D820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2D6C-4780-40F0-8575-512F548CA00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5C72-7B26-4155-8713-95D745EB77F6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EFAE-9E95-4B6E-8F5D-ED8D9DCAD99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60480" y="1255680"/>
            <a:ext cx="8454960" cy="2438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цены из опер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ействующие герои и персонажи оперы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28560" y="285480"/>
            <a:ext cx="3900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Главные герои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8" name="Содержимое 3" descr="садко5.jpg"/>
          <p:cNvPicPr/>
          <p:nvPr/>
        </p:nvPicPr>
        <p:blipFill>
          <a:blip r:embed="rId1"/>
          <a:stretch/>
        </p:blipFill>
        <p:spPr>
          <a:xfrm>
            <a:off x="571680" y="857160"/>
            <a:ext cx="357660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9" name="TextBox 4"/>
          <p:cNvSpPr/>
          <p:nvPr/>
        </p:nvSpPr>
        <p:spPr>
          <a:xfrm>
            <a:off x="214200" y="54291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адк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купец, певец, гусляр, отважный путешественник-мореплава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Рисунок 5" descr="Садко7 Забела-Врубель - Волхова.jpg"/>
          <p:cNvPicPr/>
          <p:nvPr/>
        </p:nvPicPr>
        <p:blipFill>
          <a:blip r:embed="rId2"/>
          <a:stretch/>
        </p:blipFill>
        <p:spPr>
          <a:xfrm>
            <a:off x="5786280" y="928800"/>
            <a:ext cx="2590920" cy="387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1" name="TextBox 6"/>
          <p:cNvSpPr/>
          <p:nvPr/>
        </p:nvSpPr>
        <p:spPr>
          <a:xfrm>
            <a:off x="5143680" y="507204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лхо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очь морского царя, красавица, волшебница, кудесниц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42720" y="428760"/>
            <a:ext cx="62866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Садко путешественник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4" name="Содержимое 5" descr="Садко2эскиз декорация.jpg"/>
          <p:cNvPicPr/>
          <p:nvPr/>
        </p:nvPicPr>
        <p:blipFill>
          <a:blip r:embed="rId1"/>
          <a:stretch/>
        </p:blipFill>
        <p:spPr>
          <a:xfrm>
            <a:off x="1071720" y="1428840"/>
            <a:ext cx="6667200" cy="3409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5" name="TextBox 3"/>
          <p:cNvSpPr/>
          <p:nvPr/>
        </p:nvSpPr>
        <p:spPr>
          <a:xfrm>
            <a:off x="642960" y="528624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Отправился Садко в самую загадочную страну, в Веденец, за счастьем для Новгор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57840" y="928800"/>
            <a:ext cx="39002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f5f9"/>
                </a:solidFill>
                <a:latin typeface="Calibri"/>
              </a:rPr>
              <a:t>Морские приключения и дальние страны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8" name="Содержимое 3" descr="Садко5 Декорации.jpg"/>
          <p:cNvPicPr/>
          <p:nvPr/>
        </p:nvPicPr>
        <p:blipFill>
          <a:blip r:embed="rId1"/>
          <a:stretch/>
        </p:blipFill>
        <p:spPr>
          <a:xfrm>
            <a:off x="142920" y="1143000"/>
            <a:ext cx="3500280" cy="2590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9" name="Рисунок 4" descr="Садко птица счастья.jpeg"/>
          <p:cNvPicPr/>
          <p:nvPr/>
        </p:nvPicPr>
        <p:blipFill>
          <a:blip r:embed="rId2"/>
          <a:stretch/>
        </p:blipFill>
        <p:spPr>
          <a:xfrm>
            <a:off x="3714840" y="3143160"/>
            <a:ext cx="5244840" cy="3519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3920" y="642960"/>
            <a:ext cx="66438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На дне морском, во владениях  морского цар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2" name="Содержимое 3" descr="Садко2.jpg"/>
          <p:cNvPicPr/>
          <p:nvPr/>
        </p:nvPicPr>
        <p:blipFill>
          <a:blip r:embed="rId1"/>
          <a:stretch/>
        </p:blipFill>
        <p:spPr>
          <a:xfrm>
            <a:off x="214200" y="1785960"/>
            <a:ext cx="317340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3" name="Рисунок 5" descr="Садко11.jpg"/>
          <p:cNvPicPr/>
          <p:nvPr/>
        </p:nvPicPr>
        <p:blipFill>
          <a:blip r:embed="rId2"/>
          <a:stretch/>
        </p:blipFill>
        <p:spPr>
          <a:xfrm>
            <a:off x="3571920" y="2000160"/>
            <a:ext cx="5357880" cy="357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6" name="Содержимое 3" descr="Волхова опера садко.jpg"/>
          <p:cNvPicPr/>
          <p:nvPr/>
        </p:nvPicPr>
        <p:blipFill>
          <a:blip r:embed="rId1"/>
          <a:stretch/>
        </p:blipFill>
        <p:spPr>
          <a:xfrm>
            <a:off x="5286240" y="214200"/>
            <a:ext cx="3392640" cy="479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7" name="Рисунок 4" descr="Садко3 Волхова - Забела-Врубель.jpg"/>
          <p:cNvPicPr/>
          <p:nvPr/>
        </p:nvPicPr>
        <p:blipFill>
          <a:blip r:embed="rId2"/>
          <a:srcRect l="3170" t="4274" r="3338" b="16677"/>
          <a:stretch/>
        </p:blipFill>
        <p:spPr>
          <a:xfrm>
            <a:off x="571680" y="214200"/>
            <a:ext cx="4214520" cy="2643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8" name="Рисунок 5" descr="Врубель Волхова2.jpg"/>
          <p:cNvPicPr/>
          <p:nvPr/>
        </p:nvPicPr>
        <p:blipFill>
          <a:blip r:embed="rId3"/>
          <a:stretch/>
        </p:blipFill>
        <p:spPr>
          <a:xfrm>
            <a:off x="171360" y="2901960"/>
            <a:ext cx="2632320" cy="3882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6"/>
          <p:cNvSpPr/>
          <p:nvPr/>
        </p:nvSpPr>
        <p:spPr>
          <a:xfrm>
            <a:off x="2428920" y="521496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агадочная и обворожительная Волх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43080" y="785520"/>
            <a:ext cx="404352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ила искусств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олодецкие и сердечные, грустные и веселые песни Садко покорили силы природы, подводное царство, принесли славу великому Новгород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Царевна Волхова, дочь морского царя, очарована музыкой Садко. Она пробудила в царевне человеческую душу, сердце, которое любит и страдает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8840" y="713880"/>
            <a:ext cx="675792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Сцены из оперы «Садко»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5" name="Содержимое 3" descr="Садко111.jpg"/>
          <p:cNvPicPr/>
          <p:nvPr/>
        </p:nvPicPr>
        <p:blipFill>
          <a:blip r:embed="rId1"/>
          <a:stretch/>
        </p:blipFill>
        <p:spPr>
          <a:xfrm>
            <a:off x="1214280" y="1643040"/>
            <a:ext cx="663444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928440"/>
            <a:ext cx="79293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цены из оперы «Садко»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8" name="Содержимое 3" descr="Садко1.jpg"/>
          <p:cNvPicPr/>
          <p:nvPr/>
        </p:nvPicPr>
        <p:blipFill>
          <a:blip r:embed="rId1"/>
          <a:stretch/>
        </p:blipFill>
        <p:spPr>
          <a:xfrm>
            <a:off x="857160" y="1928880"/>
            <a:ext cx="6972480" cy="3556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9" name="TextBox 3"/>
          <p:cNvSpPr/>
          <p:nvPr/>
        </p:nvSpPr>
        <p:spPr>
          <a:xfrm>
            <a:off x="1500120" y="5572080"/>
            <a:ext cx="58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аморские чудеса или чуде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дводного 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99760" y="928800"/>
            <a:ext cx="6186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Чудо оперного жанр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72" name="Содержимое 3" descr="Садко.jpg"/>
          <p:cNvPicPr/>
          <p:nvPr/>
        </p:nvPicPr>
        <p:blipFill>
          <a:blip r:embed="rId1"/>
          <a:stretch/>
        </p:blipFill>
        <p:spPr>
          <a:xfrm>
            <a:off x="1214280" y="1785960"/>
            <a:ext cx="6667560" cy="3762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3" name="TextBox 3"/>
          <p:cNvSpPr/>
          <p:nvPr/>
        </p:nvSpPr>
        <p:spPr>
          <a:xfrm>
            <a:off x="1000080" y="564372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ину не только можно рассказать но и спеть и даже поставить опе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56920" y="928440"/>
            <a:ext cx="4186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ила искусств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 опере «Садко», как и в любой сказке, много чудес. Но самое главное чудо сотворило искусство , когда превратило фантастическое существо, бездушную красавицу Волхову, в чудесного доброго человека, которая горячо любит и готова отдать свою жизнь во имя счастья людей. Она спасла Садко, а сама осталась на земле и превратилась в реку Волхов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Авторы «Садко»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6" name="Picture 2" descr="F:\ПОРТРЕТЫ КОМПОЗИТОРОВ\Портреты\Портреты композиторов\rimskii-korsakov.jpg"/>
          <p:cNvPicPr/>
          <p:nvPr/>
        </p:nvPicPr>
        <p:blipFill>
          <a:blip r:embed="rId1"/>
          <a:stretch/>
        </p:blipFill>
        <p:spPr>
          <a:xfrm>
            <a:off x="214200" y="2500200"/>
            <a:ext cx="3692520" cy="3143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7" name="TextBox 5"/>
          <p:cNvSpPr/>
          <p:nvPr/>
        </p:nvSpPr>
        <p:spPr>
          <a:xfrm>
            <a:off x="4000680" y="2643120"/>
            <a:ext cx="45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Музык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композитор Римский Корса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000680" y="4500720"/>
            <a:ext cx="418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Литератур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русская  был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92844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Опера «Садко» - шедевр русской классической музыки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7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опере-былине , Садко, предстает перед нами, как  русский Орфей, который своим искусством покоряет природу, покоряет сказочных существ и даже  волшебница Волхова начинает чувствовать и переживать, как настоящих человек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Николай Андреевич Римский-Корсаков   (1844 – 1908)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Опера-былина «Садко» -  одно из первых значительных произведений композитора. Сначала Римский-Корсаков сочинил симфоническую картину «Садко». Позже он ее использовал для создания оперы-былин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0080" y="713880"/>
            <a:ext cx="6114960" cy="7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Композитор - сказочник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Он написал </a:t>
            </a: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15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опер и большинство из них на сказочные сюжет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В основу оперы «Садко» композитор положил северорусскую новгородскую былину про бесстрашного мореплавателя и талантливого музыканта Садко, про волшебную силу его искусств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Два мира- реальный и сказочный</a:t>
            </a:r>
            <a:br>
              <a:rPr sz="3600"/>
            </a:b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Два музыкальных лейтмотива в опере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Реаль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  <a:ea typeface="Arial"/>
              </a:rPr>
              <a:t>новгородский люд, жена Садко- Любава Буслаевна, Садко, Гость Варяжский, гость Индийский, гость Веденецкий(из Венеции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казоч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Царевна Волхова, морские царевны-лебеди, золотые рыбки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1-й лейтмоти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мор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2-й лейтмоти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Новгород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3920" y="57132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bf5f9"/>
                </a:solidFill>
                <a:latin typeface="Calibri"/>
              </a:rPr>
              <a:t>О скалы грозные дробятся с ревом волны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0" name="Содержимое 3" descr="Оскалы грозные.. Песнь Варяжского гостя.jpg"/>
          <p:cNvPicPr/>
          <p:nvPr/>
        </p:nvPicPr>
        <p:blipFill>
          <a:blip r:embed="rId1"/>
          <a:stretch/>
        </p:blipFill>
        <p:spPr>
          <a:xfrm>
            <a:off x="1643040" y="1857240"/>
            <a:ext cx="5715000" cy="4048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1" name="TextBox 3"/>
          <p:cNvSpPr/>
          <p:nvPr/>
        </p:nvSpPr>
        <p:spPr>
          <a:xfrm>
            <a:off x="816840" y="6072120"/>
            <a:ext cx="82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тупление в опере рисует нам образ грозного мо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9720" y="856800"/>
            <a:ext cx="690084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Господин Великий Новгород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5114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Как во славном Нове-город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Был Садко, веселый молодец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Не имел он златой казны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 имел лишь гусельки  яровчаты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 пирам ходил-играл Садко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тешал купцов, людей посадских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5" name="Рисунок 3" descr="md_poster[1].jpg"/>
          <p:cNvPicPr/>
          <p:nvPr/>
        </p:nvPicPr>
        <p:blipFill>
          <a:blip r:embed="rId1"/>
          <a:stretch/>
        </p:blipFill>
        <p:spPr>
          <a:xfrm>
            <a:off x="5546880" y="1928880"/>
            <a:ext cx="3179520" cy="4429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32976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Девствующие герои и персонаж</a:t>
            </a: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и</a:t>
            </a:r>
            <a:br>
              <a:rPr sz="4000"/>
            </a:br>
            <a:r>
              <a:rPr b="1" i="1" lang="ru-RU" sz="4000" spc="-1" strike="noStrike">
                <a:solidFill>
                  <a:srgbClr val="dbf5f9"/>
                </a:solidFill>
                <a:latin typeface="Calibri"/>
              </a:rPr>
              <a:t>Новгородский люд, новгородские купцы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892520" y="5929200"/>
            <a:ext cx="55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клон вам гости именит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Содержимое 8" descr="Садко4.jpg"/>
          <p:cNvPicPr/>
          <p:nvPr/>
        </p:nvPicPr>
        <p:blipFill>
          <a:blip r:embed="rId1"/>
          <a:stretch/>
        </p:blipFill>
        <p:spPr>
          <a:xfrm>
            <a:off x="1143000" y="1928880"/>
            <a:ext cx="6939000" cy="3830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Каждый гость хвалит свою страну. Куда отправится Садко?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2" name="Содержимое 3" descr="Варяжский гость из оперы Садко.jpg"/>
          <p:cNvPicPr/>
          <p:nvPr/>
        </p:nvPicPr>
        <p:blipFill>
          <a:blip r:embed="rId1"/>
          <a:stretch/>
        </p:blipFill>
        <p:spPr>
          <a:xfrm>
            <a:off x="500040" y="2214720"/>
            <a:ext cx="2752920" cy="380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3" name="Рисунок 4" descr="Садко6 Алексеев - индийский гость.jpg"/>
          <p:cNvPicPr/>
          <p:nvPr/>
        </p:nvPicPr>
        <p:blipFill>
          <a:blip r:embed="rId2"/>
          <a:stretch/>
        </p:blipFill>
        <p:spPr>
          <a:xfrm>
            <a:off x="5786280" y="1857240"/>
            <a:ext cx="2357640" cy="357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4" name="TextBox 5"/>
          <p:cNvSpPr/>
          <p:nvPr/>
        </p:nvSpPr>
        <p:spPr>
          <a:xfrm>
            <a:off x="269280" y="614376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аряжский г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432400" y="600084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ндийский г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1:35:43Z</dcterms:created>
  <dc:creator>МОУ СОШ №3</dc:creator>
  <dc:description/>
  <dc:language>en-US</dc:language>
  <cp:lastModifiedBy>LEGION</cp:lastModifiedBy>
  <dcterms:modified xsi:type="dcterms:W3CDTF">2015-01-20T13:42:00Z</dcterms:modified>
  <cp:revision>44</cp:revision>
  <dc:subject/>
  <dc:title>Опера «Садко» Римского- Корсакова</dc:title>
</cp:coreProperties>
</file>