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CD94-3DBF-4ED5-B965-595D9EDDF7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-былина «Садко» Римского- Корсак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ены из оп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ующие герои и персонажи оп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4C79-E9AC-4AB7-A78A-5E959A56B35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е геро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2E76-3636-48DA-AE1D-F216C255B3E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дко путешестве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509D-2999-4865-8C89-A1EB10EED67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ские приключения и дальние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0A5E-8B95-4752-8DC4-0924BB14A54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не морском, во владениях  морского ца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4F46-C4CB-4A83-B5B4-E3C73A91774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Загадочная и обворожительная Волх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0E7D-F32B-4501-AF67-A158A17F6D1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а искус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децкие и сердечные, грустные и веселые песни Садко покорили силы природы, подводное царство, принесли славу великому Новгор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евна Волхова, дочь морского царя, очарована музыкой Садко. Она пробудила в царевне человеческую душу, сердце, которое любит и страд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D2AF-7118-4522-A65D-451787F1D65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ены из оперы «Садк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9C43-1A5E-427A-B327-F64E65D541E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ены из оперы «Садк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76C2-0C6C-4F9D-A655-B46F6D3F2FD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до оперного жан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C827-3F75-4AA1-9D4E-A3D34B04E02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а искус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пере «Садко», как и в любой сказке, много чудес. Но самое главное чудо сотворило искусство , когда превратило фантастическое существо, бездушную красавицу Волхову, в чудесного доброго человека, которая горячо любит и готова отдать свою жизнь во имя счастья людей. Она спасла Садко, а сама осталась на земле и превратилась в реку Волхо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23DD-D23D-4334-B177-AADB162D4C9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ы «Садк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662D-B6BA-4044-94A5-B663C960D53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ера «Садко» - шедевр русской классической музы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пере-былине , Садко, предстает перед нами, как  русский Орфей, который своим искусством покоряет природу, покоряет сказочных существ и даже  волшебница Волхова начинает чувствовать и переживать, как настоящих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6C62-1D66-4141-9974-DC69943E7F6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Андреевич Римский-Корсаков   (1844 – 190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-былина «Садко» -  одно из первых значительных произведений композитора. Сначала Римский-Корсаков сочинил симфоническую картину «Садко». Позже он ее использовал для создания оперы-был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A0D5-D9B7-455F-9778-4DDF51F0E5F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озитор - сказочн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н написал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опер и большинство из них на сказочные сюж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основу оперы «Садко» композитор положил северорусскую новгородскую былину про бесстрашного мореплавателя и талантливого музыканта Садко, про волшебную силу его искус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941D-85DB-4D1B-B2E4-1B94AC1A342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ва мира- реальный и сказочный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ва музыкальных лейтмотива в опер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аль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  <a:ea typeface="Arial"/>
              </a:rPr>
              <a:t>новгородский люд, жена Садко- Любава Буслаевна, Садко, Гость Варяжский, гость Индийский, гость Веденецкий(из Венеции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азоч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Царевна Волхова, морские царевны-лебеди, золотые рыбк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-й лейтмоти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р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-й лейтмоти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овгор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4861-AB74-4708-8545-A50B596A468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 скалы грозные дробятся с ревом вол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D82E-4475-4224-ADA5-0223E344EFA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сподин Великий Новгор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к во славном Нове-гор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ыл Садко, веселый молоде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 имел он златой казн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имел лишь гусельки  яровча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 пирам ходил-играл Садк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тешал купцов, людей посадс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46B7-DF48-4B3B-B8B6-9BCA7CBB59D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вствующие герои и персонаж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овгородский люд, новгородские куп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C8DB-FC80-41CC-9609-94E84BF5BF3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гость хвалит свою страну. Куда отправится Садк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E072-9959-4C91-BEFC-0EE6875E476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9596-13DD-41C6-99CF-FDB4AC62B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B447-F67E-4EC5-A186-60A6C4CE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9D3B-77F0-4D3C-AA7F-9418905E1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087F-2CC2-425A-916C-B27A5AC0C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86B6-1D18-4ECE-B769-E0BCDDCFC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CB72-66E5-4D09-A78C-65A07BE8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A228-9443-4957-A7AF-E2DDD1C1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641E-2AA7-4CD8-AC56-3B015626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75CC-64F6-4911-A41F-B72AAF80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134C-CAC1-4563-B1BF-12CCC9FA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E12C-4BAD-4EF9-B7ED-80338A6A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826D-42DA-4738-867A-3D473DE5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7B31-F785-4632-AE1D-576A6AC7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23FA-75B1-4A0C-BE3B-0D0E7409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4324-356C-4F94-A302-E55222F8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215A-90DD-4B8E-BCA8-263EEDF30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992A-7404-4C16-88B7-793C70FA7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47B1-ADF2-47C8-AF11-932D5780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37A7-88B8-49AF-AC39-17BF07E6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CA33-4A66-43BE-8FA5-D4BC3947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A80E-3595-47AC-B253-F83896C9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47BB-C7D3-4E32-A8A0-C65AF996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9026-2AC8-4B9D-8330-E3B833C9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4E51-ECF5-439E-BF1D-A87217DC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DD0B-47C5-4DED-A758-A3A77EDE50DD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61FE-6880-46CE-BF9F-66762668AB6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B2A3-968A-4EB9-A4C9-52E87B54AD85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B277-6FEE-4D04-B5F0-A76FEADB5F3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60480" y="1255680"/>
            <a:ext cx="8454960" cy="2438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цены из опер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ействующие герои и персонажи оперы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28560" y="285480"/>
            <a:ext cx="390060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Главные герои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38" name="Содержимое 3" descr="садко5.jpg"/>
          <p:cNvPicPr/>
          <p:nvPr/>
        </p:nvPicPr>
        <p:blipFill>
          <a:blip r:embed="rId1"/>
          <a:stretch/>
        </p:blipFill>
        <p:spPr>
          <a:xfrm>
            <a:off x="571680" y="857160"/>
            <a:ext cx="3576600" cy="4389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9" name="TextBox 4"/>
          <p:cNvSpPr/>
          <p:nvPr/>
        </p:nvSpPr>
        <p:spPr>
          <a:xfrm>
            <a:off x="214200" y="5429160"/>
            <a:ext cx="44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адк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купец, певец, гусляр, отважный путешественник-мореплавате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Рисунок 5" descr="Садко7 Забела-Врубель - Волхова.jpg"/>
          <p:cNvPicPr/>
          <p:nvPr/>
        </p:nvPicPr>
        <p:blipFill>
          <a:blip r:embed="rId2"/>
          <a:stretch/>
        </p:blipFill>
        <p:spPr>
          <a:xfrm>
            <a:off x="5786280" y="928800"/>
            <a:ext cx="2590920" cy="3878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1" name="TextBox 6"/>
          <p:cNvSpPr/>
          <p:nvPr/>
        </p:nvSpPr>
        <p:spPr>
          <a:xfrm>
            <a:off x="5143680" y="5072040"/>
            <a:ext cx="40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олхов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дочь морского царя, красавица, волшебница, кудесница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42720" y="428760"/>
            <a:ext cx="628668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Calibri"/>
              </a:rPr>
              <a:t>Садко путешественник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44" name="Содержимое 5" descr="Садко2эскиз декорация.jpg"/>
          <p:cNvPicPr/>
          <p:nvPr/>
        </p:nvPicPr>
        <p:blipFill>
          <a:blip r:embed="rId1"/>
          <a:stretch/>
        </p:blipFill>
        <p:spPr>
          <a:xfrm>
            <a:off x="1071720" y="1428840"/>
            <a:ext cx="6667200" cy="3409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5" name="TextBox 3"/>
          <p:cNvSpPr/>
          <p:nvPr/>
        </p:nvSpPr>
        <p:spPr>
          <a:xfrm>
            <a:off x="642960" y="5286240"/>
            <a:ext cx="82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Отправился Садко в самую загадочную страну, в Веденец, за счастьем для Новгор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857840" y="928800"/>
            <a:ext cx="390024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f5f9"/>
                </a:solidFill>
                <a:latin typeface="Calibri"/>
              </a:rPr>
              <a:t>Морские приключения и дальние страны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48" name="Содержимое 3" descr="Садко5 Декорации.jpg"/>
          <p:cNvPicPr/>
          <p:nvPr/>
        </p:nvPicPr>
        <p:blipFill>
          <a:blip r:embed="rId1"/>
          <a:stretch/>
        </p:blipFill>
        <p:spPr>
          <a:xfrm>
            <a:off x="142920" y="1143000"/>
            <a:ext cx="3500280" cy="2590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49" name="Рисунок 4" descr="Садко птица счастья.jpeg"/>
          <p:cNvPicPr/>
          <p:nvPr/>
        </p:nvPicPr>
        <p:blipFill>
          <a:blip r:embed="rId2"/>
          <a:stretch/>
        </p:blipFill>
        <p:spPr>
          <a:xfrm>
            <a:off x="3714840" y="3143160"/>
            <a:ext cx="5244840" cy="3519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3920" y="642960"/>
            <a:ext cx="66438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Calibri"/>
              </a:rPr>
              <a:t>На дне морском, во владениях  морского царя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52" name="Содержимое 3" descr="Садко2.jpg"/>
          <p:cNvPicPr/>
          <p:nvPr/>
        </p:nvPicPr>
        <p:blipFill>
          <a:blip r:embed="rId1"/>
          <a:stretch/>
        </p:blipFill>
        <p:spPr>
          <a:xfrm>
            <a:off x="214200" y="1785960"/>
            <a:ext cx="3173400" cy="4389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53" name="Рисунок 5" descr="Садко11.jpg"/>
          <p:cNvPicPr/>
          <p:nvPr/>
        </p:nvPicPr>
        <p:blipFill>
          <a:blip r:embed="rId2"/>
          <a:stretch/>
        </p:blipFill>
        <p:spPr>
          <a:xfrm>
            <a:off x="3571920" y="2000160"/>
            <a:ext cx="5357880" cy="3571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56" name="Содержимое 3" descr="Волхова опера садко.jpg"/>
          <p:cNvPicPr/>
          <p:nvPr/>
        </p:nvPicPr>
        <p:blipFill>
          <a:blip r:embed="rId1"/>
          <a:stretch/>
        </p:blipFill>
        <p:spPr>
          <a:xfrm>
            <a:off x="5286240" y="214200"/>
            <a:ext cx="3392640" cy="4792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57" name="Рисунок 4" descr="Садко3 Волхова - Забела-Врубель.jpg"/>
          <p:cNvPicPr/>
          <p:nvPr/>
        </p:nvPicPr>
        <p:blipFill>
          <a:blip r:embed="rId2"/>
          <a:srcRect l="3170" t="4274" r="3338" b="16677"/>
          <a:stretch/>
        </p:blipFill>
        <p:spPr>
          <a:xfrm>
            <a:off x="571680" y="214200"/>
            <a:ext cx="4214520" cy="2643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58" name="Рисунок 5" descr="Врубель Волхова2.jpg"/>
          <p:cNvPicPr/>
          <p:nvPr/>
        </p:nvPicPr>
        <p:blipFill>
          <a:blip r:embed="rId3"/>
          <a:stretch/>
        </p:blipFill>
        <p:spPr>
          <a:xfrm>
            <a:off x="171360" y="2901960"/>
            <a:ext cx="2632320" cy="3882960"/>
          </a:xfrm>
          <a:prstGeom prst="rect">
            <a:avLst/>
          </a:prstGeom>
          <a:ln w="0">
            <a:noFill/>
          </a:ln>
        </p:spPr>
      </p:pic>
      <p:sp>
        <p:nvSpPr>
          <p:cNvPr id="159" name="TextBox 6"/>
          <p:cNvSpPr/>
          <p:nvPr/>
        </p:nvSpPr>
        <p:spPr>
          <a:xfrm>
            <a:off x="2428920" y="5214960"/>
            <a:ext cx="650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Загадочная и обворожительная Волх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43080" y="785520"/>
            <a:ext cx="404352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Сила искусства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Молодецкие и сердечные, грустные и веселые песни Садко покорили силы природы, подводное царство, принесли славу великому Новгороду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Царевна Волхова, дочь морского царя, очарована музыкой Садко. Она пробудила в царевне человеческую душу, сердце, которое любит и страдает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8840" y="713880"/>
            <a:ext cx="675792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 </a:t>
            </a: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Сцены из оперы «Садко»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65" name="Содержимое 3" descr="Садко111.jpg"/>
          <p:cNvPicPr/>
          <p:nvPr/>
        </p:nvPicPr>
        <p:blipFill>
          <a:blip r:embed="rId1"/>
          <a:stretch/>
        </p:blipFill>
        <p:spPr>
          <a:xfrm>
            <a:off x="1214280" y="1643040"/>
            <a:ext cx="6634440" cy="4389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66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5880" y="928440"/>
            <a:ext cx="79293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Сцены из оперы «Садко»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68" name="Содержимое 3" descr="Садко1.jpg"/>
          <p:cNvPicPr/>
          <p:nvPr/>
        </p:nvPicPr>
        <p:blipFill>
          <a:blip r:embed="rId1"/>
          <a:stretch/>
        </p:blipFill>
        <p:spPr>
          <a:xfrm>
            <a:off x="857160" y="1928880"/>
            <a:ext cx="6972480" cy="3556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69" name="TextBox 3"/>
          <p:cNvSpPr/>
          <p:nvPr/>
        </p:nvSpPr>
        <p:spPr>
          <a:xfrm>
            <a:off x="1500120" y="5572080"/>
            <a:ext cx="585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Заморские чудеса или чудес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одводного ми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99760" y="928800"/>
            <a:ext cx="6186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Чудо оперного жанра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72" name="Содержимое 3" descr="Садко.jpg"/>
          <p:cNvPicPr/>
          <p:nvPr/>
        </p:nvPicPr>
        <p:blipFill>
          <a:blip r:embed="rId1"/>
          <a:stretch/>
        </p:blipFill>
        <p:spPr>
          <a:xfrm>
            <a:off x="1214280" y="1785960"/>
            <a:ext cx="6667560" cy="3762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73" name="TextBox 3"/>
          <p:cNvSpPr/>
          <p:nvPr/>
        </p:nvSpPr>
        <p:spPr>
          <a:xfrm>
            <a:off x="1000080" y="5643720"/>
            <a:ext cx="721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лину не только можно рассказать но и спеть и даже поставить опер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356920" y="928440"/>
            <a:ext cx="4186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Сила искусства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 опере «Садко», как и в любой сказке, много чудес. Но самое главное чудо сотворило искусство , когда превратило фантастическое существо, бездушную красавицу Волхову, в чудесного доброго человека, которая горячо любит и готова отдать свою жизнь во имя счастья людей. Она спасла Садко, а сама осталась на земле и превратилась в реку Волхову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Авторы «Садко»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6" name="Picture 2" descr="F:\ПОРТРЕТЫ КОМПОЗИТОРОВ\Портреты\Портреты композиторов\rimskii-korsakov.jpg"/>
          <p:cNvPicPr/>
          <p:nvPr/>
        </p:nvPicPr>
        <p:blipFill>
          <a:blip r:embed="rId1"/>
          <a:stretch/>
        </p:blipFill>
        <p:spPr>
          <a:xfrm>
            <a:off x="214200" y="2500200"/>
            <a:ext cx="3692520" cy="3143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7" name="TextBox 5"/>
          <p:cNvSpPr/>
          <p:nvPr/>
        </p:nvSpPr>
        <p:spPr>
          <a:xfrm>
            <a:off x="4000680" y="2643120"/>
            <a:ext cx="45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Музыка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композитор Римский Корса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4000680" y="4500720"/>
            <a:ext cx="418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Литература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русская  был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928440"/>
            <a:ext cx="7372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Calibri"/>
              </a:rPr>
              <a:t>Опера «Садко» - шедевр русской классической музыки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7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опере-былине , Садко, предстает перед нами, как  русский Орфей, который своим искусством покоряет природу, покоряет сказочных существ и даже  волшебница Волхова начинает чувствовать и переживать, как настоящих человек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Calibri"/>
              </a:rPr>
              <a:t>Николай Андреевич Римский-Корсаков   (1844 – 1908)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Опера-былина «Садко» -  одно из первых значительных произведений композитора. Сначала Римский-Корсаков сочинил симфоническую картину «Садко». Позже он ее использовал для создания оперы-былины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0080" y="713880"/>
            <a:ext cx="6114960" cy="776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Calibri"/>
              </a:rPr>
              <a:t>Композитор - сказочник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Он написал </a:t>
            </a:r>
            <a:r>
              <a:rPr b="1" i="1" lang="ru-RU" sz="3200" spc="-1" strike="noStrike">
                <a:solidFill>
                  <a:srgbClr val="ffffff"/>
                </a:solidFill>
                <a:latin typeface="Constantia"/>
              </a:rPr>
              <a:t>15</a:t>
            </a: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 опер и большинство из них на сказочные сюжеты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В основу оперы «Садко» композитор положил северорусскую новгородскую былину про бесстрашного мореплавателя и талантливого музыканта Садко, про волшебную силу его искусств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f5f9"/>
                </a:solidFill>
                <a:latin typeface="Calibri"/>
              </a:rPr>
              <a:t>Два мира- реальный и сказочный</a:t>
            </a:r>
            <a:br>
              <a:rPr sz="3600"/>
            </a:br>
            <a:r>
              <a:rPr b="1" lang="ru-RU" sz="3600" spc="-1" strike="noStrike">
                <a:solidFill>
                  <a:srgbClr val="dbf5f9"/>
                </a:solidFill>
                <a:latin typeface="Calibri"/>
              </a:rPr>
              <a:t>Два музыкальных лейтмотива в опере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712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Реальный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 </a:t>
            </a:r>
            <a:r>
              <a:rPr b="0" i="1" lang="ru-RU" sz="2600" spc="-1" strike="noStrike">
                <a:solidFill>
                  <a:srgbClr val="ffffff"/>
                </a:solidFill>
                <a:latin typeface="Calibri"/>
                <a:ea typeface="Arial"/>
              </a:rPr>
              <a:t>новгородский люд, жена Садко- Любава Буслаевна, Садко, Гость Варяжский, гость Индийский, гость Веденецкий(из Венеции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Сказочный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 </a:t>
            </a:r>
            <a:r>
              <a:rPr b="0" i="1" lang="ru-RU" sz="2600" spc="-1" strike="noStrike">
                <a:solidFill>
                  <a:srgbClr val="ffffff"/>
                </a:solidFill>
                <a:latin typeface="Calibri"/>
              </a:rPr>
              <a:t>Царевна Волхова, морские царевны-лебеди, золотые рыбки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1-й лейтмотив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мор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2-й лейтмотив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Новгород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3920" y="57132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bf5f9"/>
                </a:solidFill>
                <a:latin typeface="Calibri"/>
              </a:rPr>
              <a:t>О скалы грозные дробятся с ревом волны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0" name="Содержимое 3" descr="Оскалы грозные.. Песнь Варяжского гостя.jpg"/>
          <p:cNvPicPr/>
          <p:nvPr/>
        </p:nvPicPr>
        <p:blipFill>
          <a:blip r:embed="rId1"/>
          <a:stretch/>
        </p:blipFill>
        <p:spPr>
          <a:xfrm>
            <a:off x="1643040" y="1857240"/>
            <a:ext cx="5715000" cy="4048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21" name="TextBox 3"/>
          <p:cNvSpPr/>
          <p:nvPr/>
        </p:nvSpPr>
        <p:spPr>
          <a:xfrm>
            <a:off x="816840" y="6072120"/>
            <a:ext cx="82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тупление в опере рисует нам образ грозного мор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9720" y="856800"/>
            <a:ext cx="690084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Calibri"/>
              </a:rPr>
              <a:t>Господин Великий Новгород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34640"/>
            <a:ext cx="5114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Как во славном Нове-город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Был Садко, веселый молодец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Не имел он златой казны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А имел лишь гусельки  яровчаты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о пирам ходил-играл Садко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отешал купцов, людей посадских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5" name="Рисунок 3" descr="md_poster[1].jpg"/>
          <p:cNvPicPr/>
          <p:nvPr/>
        </p:nvPicPr>
        <p:blipFill>
          <a:blip r:embed="rId1"/>
          <a:stretch/>
        </p:blipFill>
        <p:spPr>
          <a:xfrm>
            <a:off x="5546880" y="1928880"/>
            <a:ext cx="3179520" cy="44290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32976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f5f9"/>
                </a:solidFill>
                <a:latin typeface="Calibri"/>
              </a:rPr>
              <a:t>Девствующие герои и персонаж</a:t>
            </a:r>
            <a:r>
              <a:rPr b="0" lang="ru-RU" sz="4000" spc="-1" strike="noStrike">
                <a:solidFill>
                  <a:srgbClr val="dbf5f9"/>
                </a:solidFill>
                <a:latin typeface="Calibri"/>
              </a:rPr>
              <a:t>и</a:t>
            </a:r>
            <a:br>
              <a:rPr sz="4000"/>
            </a:br>
            <a:r>
              <a:rPr b="1" i="1" lang="ru-RU" sz="4000" spc="-1" strike="noStrike">
                <a:solidFill>
                  <a:srgbClr val="dbf5f9"/>
                </a:solidFill>
                <a:latin typeface="Calibri"/>
              </a:rPr>
              <a:t>Новгородский люд, новгородские купцы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1892520" y="5929200"/>
            <a:ext cx="55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оклон вам гости именит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Содержимое 8" descr="Садко4.jpg"/>
          <p:cNvPicPr/>
          <p:nvPr/>
        </p:nvPicPr>
        <p:blipFill>
          <a:blip r:embed="rId1"/>
          <a:stretch/>
        </p:blipFill>
        <p:spPr>
          <a:xfrm>
            <a:off x="1143000" y="1928880"/>
            <a:ext cx="6939000" cy="3830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0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Calibri"/>
              </a:rPr>
              <a:t>Каждый гость хвалит свою страну. Куда отправится Садко?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32" name="Содержимое 3" descr="Варяжский гость из оперы Садко.jpg"/>
          <p:cNvPicPr/>
          <p:nvPr/>
        </p:nvPicPr>
        <p:blipFill>
          <a:blip r:embed="rId1"/>
          <a:stretch/>
        </p:blipFill>
        <p:spPr>
          <a:xfrm>
            <a:off x="500040" y="2214720"/>
            <a:ext cx="2752920" cy="3809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33" name="Рисунок 4" descr="Садко6 Алексеев - индийский гость.jpg"/>
          <p:cNvPicPr/>
          <p:nvPr/>
        </p:nvPicPr>
        <p:blipFill>
          <a:blip r:embed="rId2"/>
          <a:stretch/>
        </p:blipFill>
        <p:spPr>
          <a:xfrm>
            <a:off x="5786280" y="1857240"/>
            <a:ext cx="2357640" cy="3571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4" name="TextBox 5"/>
          <p:cNvSpPr/>
          <p:nvPr/>
        </p:nvSpPr>
        <p:spPr>
          <a:xfrm>
            <a:off x="269280" y="614376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аряжский г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5432400" y="6000840"/>
            <a:ext cx="33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Индийский г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1:35:43Z</dcterms:created>
  <dc:creator>МОУ СОШ №3</dc:creator>
  <dc:description/>
  <dc:language>en-US</dc:language>
  <cp:lastModifiedBy>LEGION</cp:lastModifiedBy>
  <dcterms:modified xsi:type="dcterms:W3CDTF">2015-01-20T13:42:00Z</dcterms:modified>
  <cp:revision>44</cp:revision>
  <dc:subject/>
  <dc:title>Опера «Садко» Римского- Корсакова</dc:title>
</cp:coreProperties>
</file>