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4049-74CA-40A3-A742-108EA6F29A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-былина «Садко» Римского- Корса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щие герои и персонажи оп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C179-5EDD-493B-B6D5-5AE8A76F92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5BD3-4933-40E9-A6D0-8CE91FB5D1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ко путешеств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9A8E-1848-41FC-8FB6-EAB00F1907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ие приключения и дальни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0DC2-0EDA-4F9A-AC80-0B398412AF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не морском, во владениях  морского ца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7AF6-3F99-4ED4-B1A2-A1EE42D867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Загадочная и обворожительная Волх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59B5-AD62-4707-8473-D6D9845D40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ецкие и сердечные, грустные и веселые песни Садко покорили силы природы, подводное царство, принесли славу великому Новго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евна Волхова, дочь морского царя, очарована музыкой Садко. Она пробудила в царевне человеческую душу, сердце, которое любит и стра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2FBB-00A3-4E91-9C4F-0146BED0A2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9F6B-C1EE-449C-AEF8-ED83908628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1E30-F01F-4308-843A-27AD5193E5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до оперного жан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DEBB-57C2-4DF5-8822-9410941B79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«Садко», как и в любой сказке, много чудес. Но самое главное чудо сотворило искусство , когда превратило фантастическое существо, бездушную красавицу Волхову, в чудесного доброго человека, которая горячо любит и готова отдать свою жизнь во имя счастья людей. Она спасла Садко, а сама осталась на земле и превратилась в реку Волх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35B2-870A-4509-B254-AA56A9DFA8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F6DA-2F3D-40E6-BA00-4FD66CC738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ера «Садко» - шедевр русской классической музы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-былине , Садко, предстает перед нами, как  русский Орфей, который своим искусством покоряет природу, покоряет сказочных существ и даже  волшебница Волхова начинает чувствовать и переживать, как настоящих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F3BB-A785-4DB6-AAC8-CEC719CD86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Андреевич Римский-Корсаков   (1844 – 190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-былина «Садко» -  одно из первых значительных произведений композитора. Сначала Римский-Корсаков сочинил симфоническую картину «Садко». Позже он ее использовал для создания оперы-бы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4BFB-9C3F-47A7-9D59-86998BF233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озитор - сказоч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 написал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ер и большинство из них на сказочные сюж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снову оперы «Садко» композитор положил северорусскую новгородскую былину про бесстрашного мореплавателя и талантливого музыканта Садко, про волшебную силу его искус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F671-4F04-4CC3-A0BA-C4A666618C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ва мира- реальный и сказочны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ва музыкальных лейтмотива в опер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ль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новгородский люд, жена Садко- Любава Буслаевна, Садко, Гость Варяжский, гость Индийский, гость Веденецкий(из Венеции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зоч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Царевна Волхова, морские царевны-лебеди, золотые рыбк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й лейтмоти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й лейтмоти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овгор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054B-27C4-4E6F-AE4C-EAC44F8329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 скалы грозные дробятся с ревом вол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4EC0-2162-4F4B-A557-66FA1D522C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сподин Великий Новгор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к во славном Нове-го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ыл Садко, веселый молоде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 имел он златой каз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имел лишь гусельки  яровч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пирам ходил-играл Садк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шал купцов, людей посад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82BD-D0F9-45A3-B78D-B1B354A658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ствующие герои и персона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вгородский люд, новгородские куп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D867-BED5-4F88-AB21-42DEFDEF1A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ость хвалит свою страну. Куда отправится Садк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3448-A817-41DF-9EA0-5E252813E2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22AC-7138-4DCA-B6FB-0154EBE8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A910-C1B9-42E1-936C-2B2DA242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B54-A58F-4FB7-AE26-7EDC0CAD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C0A-B5E9-4385-B47C-669F9247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4228-88D6-48EF-B6D3-59C0F48C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ACC0-808A-485A-BCDC-D075632F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EC47-B04E-49E3-A31A-D89E82BA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C6E5-1E8A-43F9-A73F-43281467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249F-11D1-4D66-8CB7-1D81B575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3F6A-AAB6-4478-8647-A4D8E967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2CCA-0EC8-451D-84BA-E3176A4A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72F-FD26-4978-BFE2-D5E825F2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BBA2-8C59-4FF8-A67E-7822B8B1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67D3-ABED-4D84-92AA-91D9755F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C6F1-23B2-4101-8820-34456FA4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BD37-B859-4E24-86E0-6324CF6A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C416-5A48-4C41-AAF4-95FC7D01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C16-EE91-46F0-8901-77AB7DE6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4A0-07A1-429D-8323-D6E3A47B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3CB-8AF3-4679-A4D0-F867F8BB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E77-9BDC-4CBD-B5B8-F3C4CF3E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995-7AFC-4C4F-A150-76A94A4F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48EF-A214-4283-9754-54C81A93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185-A086-4045-9E64-CDD6BC21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7D52-1A8F-4FB4-A750-C6B0BE3C3971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DE5A-2798-4CED-9884-BD19A432FD6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7162-2FE6-4799-8009-A1DFD8AF7F0F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B513-B785-4076-BB72-862EDDD7C6E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60480" y="1255680"/>
            <a:ext cx="8454960" cy="2438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цены из опер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ействующие герои и персонажи оперы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28560" y="285480"/>
            <a:ext cx="3900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Главные герои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8" name="Содержимое 3" descr="садко5.jpg"/>
          <p:cNvPicPr/>
          <p:nvPr/>
        </p:nvPicPr>
        <p:blipFill>
          <a:blip r:embed="rId1"/>
          <a:stretch/>
        </p:blipFill>
        <p:spPr>
          <a:xfrm>
            <a:off x="571680" y="857160"/>
            <a:ext cx="357660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9" name="TextBox 4"/>
          <p:cNvSpPr/>
          <p:nvPr/>
        </p:nvSpPr>
        <p:spPr>
          <a:xfrm>
            <a:off x="214200" y="54291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адк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купец, певец, гусляр, отважный путешественник-мореплава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Рисунок 5" descr="Садко7 Забела-Врубель - Волхова.jpg"/>
          <p:cNvPicPr/>
          <p:nvPr/>
        </p:nvPicPr>
        <p:blipFill>
          <a:blip r:embed="rId2"/>
          <a:stretch/>
        </p:blipFill>
        <p:spPr>
          <a:xfrm>
            <a:off x="5786280" y="928800"/>
            <a:ext cx="2590920" cy="387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1" name="TextBox 6"/>
          <p:cNvSpPr/>
          <p:nvPr/>
        </p:nvSpPr>
        <p:spPr>
          <a:xfrm>
            <a:off x="5143680" y="507204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лхо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очь морского царя, красавица, волшебница, кудесниц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42720" y="428760"/>
            <a:ext cx="62866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Садко путешественник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4" name="Содержимое 5" descr="Садко2эскиз декорация.jpg"/>
          <p:cNvPicPr/>
          <p:nvPr/>
        </p:nvPicPr>
        <p:blipFill>
          <a:blip r:embed="rId1"/>
          <a:stretch/>
        </p:blipFill>
        <p:spPr>
          <a:xfrm>
            <a:off x="1071720" y="1428840"/>
            <a:ext cx="6667200" cy="3409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5" name="TextBox 3"/>
          <p:cNvSpPr/>
          <p:nvPr/>
        </p:nvSpPr>
        <p:spPr>
          <a:xfrm>
            <a:off x="642960" y="528624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Отправился Садко в самую загадочную страну, в Веденец, за счастьем для Новгор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57840" y="928800"/>
            <a:ext cx="39002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f5f9"/>
                </a:solidFill>
                <a:latin typeface="Calibri"/>
              </a:rPr>
              <a:t>Морские приключения и дальние страны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8" name="Содержимое 3" descr="Садко5 Декорации.jpg"/>
          <p:cNvPicPr/>
          <p:nvPr/>
        </p:nvPicPr>
        <p:blipFill>
          <a:blip r:embed="rId1"/>
          <a:stretch/>
        </p:blipFill>
        <p:spPr>
          <a:xfrm>
            <a:off x="142920" y="1143000"/>
            <a:ext cx="3500280" cy="2590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9" name="Рисунок 4" descr="Садко птица счастья.jpeg"/>
          <p:cNvPicPr/>
          <p:nvPr/>
        </p:nvPicPr>
        <p:blipFill>
          <a:blip r:embed="rId2"/>
          <a:stretch/>
        </p:blipFill>
        <p:spPr>
          <a:xfrm>
            <a:off x="3714840" y="3143160"/>
            <a:ext cx="5244840" cy="3519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3920" y="642960"/>
            <a:ext cx="66438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На дне морском, во владениях  морского цар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2" name="Содержимое 3" descr="Садко2.jpg"/>
          <p:cNvPicPr/>
          <p:nvPr/>
        </p:nvPicPr>
        <p:blipFill>
          <a:blip r:embed="rId1"/>
          <a:stretch/>
        </p:blipFill>
        <p:spPr>
          <a:xfrm>
            <a:off x="214200" y="1785960"/>
            <a:ext cx="317340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3" name="Рисунок 5" descr="Садко11.jpg"/>
          <p:cNvPicPr/>
          <p:nvPr/>
        </p:nvPicPr>
        <p:blipFill>
          <a:blip r:embed="rId2"/>
          <a:stretch/>
        </p:blipFill>
        <p:spPr>
          <a:xfrm>
            <a:off x="3571920" y="2000160"/>
            <a:ext cx="5357880" cy="357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6" name="Содержимое 3" descr="Волхова опера садко.jpg"/>
          <p:cNvPicPr/>
          <p:nvPr/>
        </p:nvPicPr>
        <p:blipFill>
          <a:blip r:embed="rId1"/>
          <a:stretch/>
        </p:blipFill>
        <p:spPr>
          <a:xfrm>
            <a:off x="5286240" y="214200"/>
            <a:ext cx="3392640" cy="479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7" name="Рисунок 4" descr="Садко3 Волхова - Забела-Врубель.jpg"/>
          <p:cNvPicPr/>
          <p:nvPr/>
        </p:nvPicPr>
        <p:blipFill>
          <a:blip r:embed="rId2"/>
          <a:srcRect l="3170" t="4274" r="3338" b="16677"/>
          <a:stretch/>
        </p:blipFill>
        <p:spPr>
          <a:xfrm>
            <a:off x="571680" y="214200"/>
            <a:ext cx="4214520" cy="2643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8" name="Рисунок 5" descr="Врубель Волхова2.jpg"/>
          <p:cNvPicPr/>
          <p:nvPr/>
        </p:nvPicPr>
        <p:blipFill>
          <a:blip r:embed="rId3"/>
          <a:stretch/>
        </p:blipFill>
        <p:spPr>
          <a:xfrm>
            <a:off x="171360" y="2901960"/>
            <a:ext cx="2632320" cy="3882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6"/>
          <p:cNvSpPr/>
          <p:nvPr/>
        </p:nvSpPr>
        <p:spPr>
          <a:xfrm>
            <a:off x="2428920" y="521496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агадочная и обворожительная Волх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43080" y="785520"/>
            <a:ext cx="404352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ила искусств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олодецкие и сердечные, грустные и веселые песни Садко покорили силы природы, подводное царство, принесли славу великому Новгород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Царевна Волхова, дочь морского царя, очарована музыкой Садко. Она пробудила в царевне человеческую душу, сердце, которое любит и страдает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8840" y="713880"/>
            <a:ext cx="675792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Сцены из оперы «Садко»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5" name="Содержимое 3" descr="Садко111.jpg"/>
          <p:cNvPicPr/>
          <p:nvPr/>
        </p:nvPicPr>
        <p:blipFill>
          <a:blip r:embed="rId1"/>
          <a:stretch/>
        </p:blipFill>
        <p:spPr>
          <a:xfrm>
            <a:off x="1214280" y="1643040"/>
            <a:ext cx="663444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928440"/>
            <a:ext cx="79293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цены из оперы «Садко»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8" name="Содержимое 3" descr="Садко1.jpg"/>
          <p:cNvPicPr/>
          <p:nvPr/>
        </p:nvPicPr>
        <p:blipFill>
          <a:blip r:embed="rId1"/>
          <a:stretch/>
        </p:blipFill>
        <p:spPr>
          <a:xfrm>
            <a:off x="857160" y="1928880"/>
            <a:ext cx="6972480" cy="3556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9" name="TextBox 3"/>
          <p:cNvSpPr/>
          <p:nvPr/>
        </p:nvSpPr>
        <p:spPr>
          <a:xfrm>
            <a:off x="1500120" y="5572080"/>
            <a:ext cx="58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аморские чудеса или чуде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дводного 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99760" y="928800"/>
            <a:ext cx="6186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Чудо оперного жанр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72" name="Содержимое 3" descr="Садко.jpg"/>
          <p:cNvPicPr/>
          <p:nvPr/>
        </p:nvPicPr>
        <p:blipFill>
          <a:blip r:embed="rId1"/>
          <a:stretch/>
        </p:blipFill>
        <p:spPr>
          <a:xfrm>
            <a:off x="1214280" y="1785960"/>
            <a:ext cx="6667560" cy="3762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3" name="TextBox 3"/>
          <p:cNvSpPr/>
          <p:nvPr/>
        </p:nvSpPr>
        <p:spPr>
          <a:xfrm>
            <a:off x="1000080" y="564372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ину не только можно рассказать но и спеть и даже поставить опе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56920" y="928440"/>
            <a:ext cx="4186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ила искусств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 опере «Садко», как и в любой сказке, много чудес. Но самое главное чудо сотворило искусство , когда превратило фантастическое существо, бездушную красавицу Волхову, в чудесного доброго человека, которая горячо любит и готова отдать свою жизнь во имя счастья людей. Она спасла Садко, а сама осталась на земле и превратилась в реку Волхов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Авторы «Садко»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6" name="Picture 2" descr="F:\ПОРТРЕТЫ КОМПОЗИТОРОВ\Портреты\Портреты композиторов\rimskii-korsakov.jpg"/>
          <p:cNvPicPr/>
          <p:nvPr/>
        </p:nvPicPr>
        <p:blipFill>
          <a:blip r:embed="rId1"/>
          <a:stretch/>
        </p:blipFill>
        <p:spPr>
          <a:xfrm>
            <a:off x="214200" y="2500200"/>
            <a:ext cx="3692520" cy="3143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7" name="TextBox 5"/>
          <p:cNvSpPr/>
          <p:nvPr/>
        </p:nvSpPr>
        <p:spPr>
          <a:xfrm>
            <a:off x="4000680" y="2643120"/>
            <a:ext cx="45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Музык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композитор Римский Корса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000680" y="4500720"/>
            <a:ext cx="418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Литератур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русская  был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92844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Опера «Садко» - шедевр русской классической музыки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7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опере-былине , Садко, предстает перед нами, как  русский Орфей, который своим искусством покоряет природу, покоряет сказочных существ и даже  волшебница Волхова начинает чувствовать и переживать, как настоящих человек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Николай Андреевич Римский-Корсаков   (1844 – 1908)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Опера-былина «Садко» -  одно из первых значительных произведений композитора. Сначала Римский-Корсаков сочинил симфоническую картину «Садко». Позже он ее использовал для создания оперы-былин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0080" y="713880"/>
            <a:ext cx="6114960" cy="7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Композитор - сказочник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Он написал </a:t>
            </a: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15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опер и большинство из них на сказочные сюжет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В основу оперы «Садко» композитор положил северорусскую новгородскую былину про бесстрашного мореплавателя и талантливого музыканта Садко, про волшебную силу его искусств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Два мира- реальный и сказочный</a:t>
            </a:r>
            <a:br>
              <a:rPr sz="3600"/>
            </a:b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Два музыкальных лейтмотива в опере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Реаль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  <a:ea typeface="Arial"/>
              </a:rPr>
              <a:t>новгородский люд, жена Садко- Любава Буслаевна, Садко, Гость Варяжский, гость Индийский, гость Веденецкий(из Венеции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казоч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Царевна Волхова, морские царевны-лебеди, золотые рыбки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1-й лейтмоти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мор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2-й лейтмоти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Новгород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3920" y="57132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bf5f9"/>
                </a:solidFill>
                <a:latin typeface="Calibri"/>
              </a:rPr>
              <a:t>О скалы грозные дробятся с ревом волны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0" name="Содержимое 3" descr="Оскалы грозные.. Песнь Варяжского гостя.jpg"/>
          <p:cNvPicPr/>
          <p:nvPr/>
        </p:nvPicPr>
        <p:blipFill>
          <a:blip r:embed="rId1"/>
          <a:stretch/>
        </p:blipFill>
        <p:spPr>
          <a:xfrm>
            <a:off x="1643040" y="1857240"/>
            <a:ext cx="5715000" cy="4048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1" name="TextBox 3"/>
          <p:cNvSpPr/>
          <p:nvPr/>
        </p:nvSpPr>
        <p:spPr>
          <a:xfrm>
            <a:off x="816840" y="6072120"/>
            <a:ext cx="82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тупление в опере рисует нам образ грозного мо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9720" y="856800"/>
            <a:ext cx="690084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Господин Великий Новгород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5114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Как во славном Нове-город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Был Садко, веселый молодец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Не имел он златой казны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 имел лишь гусельки  яровчаты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 пирам ходил-играл Садко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тешал купцов, людей посадских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5" name="Рисунок 3" descr="md_poster[1].jpg"/>
          <p:cNvPicPr/>
          <p:nvPr/>
        </p:nvPicPr>
        <p:blipFill>
          <a:blip r:embed="rId1"/>
          <a:stretch/>
        </p:blipFill>
        <p:spPr>
          <a:xfrm>
            <a:off x="5546880" y="1928880"/>
            <a:ext cx="3179520" cy="4429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32976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Девствующие герои и персонаж</a:t>
            </a: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и</a:t>
            </a:r>
            <a:br>
              <a:rPr sz="4000"/>
            </a:br>
            <a:r>
              <a:rPr b="1" i="1" lang="ru-RU" sz="4000" spc="-1" strike="noStrike">
                <a:solidFill>
                  <a:srgbClr val="dbf5f9"/>
                </a:solidFill>
                <a:latin typeface="Calibri"/>
              </a:rPr>
              <a:t>Новгородский люд, новгородские купцы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892520" y="5929200"/>
            <a:ext cx="55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клон вам гости именит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Содержимое 8" descr="Садко4.jpg"/>
          <p:cNvPicPr/>
          <p:nvPr/>
        </p:nvPicPr>
        <p:blipFill>
          <a:blip r:embed="rId1"/>
          <a:stretch/>
        </p:blipFill>
        <p:spPr>
          <a:xfrm>
            <a:off x="1143000" y="1928880"/>
            <a:ext cx="6939000" cy="3830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Каждый гость хвалит свою страну. Куда отправится Садко?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2" name="Содержимое 3" descr="Варяжский гость из оперы Садко.jpg"/>
          <p:cNvPicPr/>
          <p:nvPr/>
        </p:nvPicPr>
        <p:blipFill>
          <a:blip r:embed="rId1"/>
          <a:stretch/>
        </p:blipFill>
        <p:spPr>
          <a:xfrm>
            <a:off x="500040" y="2214720"/>
            <a:ext cx="2752920" cy="380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3" name="Рисунок 4" descr="Садко6 Алексеев - индийский гость.jpg"/>
          <p:cNvPicPr/>
          <p:nvPr/>
        </p:nvPicPr>
        <p:blipFill>
          <a:blip r:embed="rId2"/>
          <a:stretch/>
        </p:blipFill>
        <p:spPr>
          <a:xfrm>
            <a:off x="5786280" y="1857240"/>
            <a:ext cx="2357640" cy="357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4" name="TextBox 5"/>
          <p:cNvSpPr/>
          <p:nvPr/>
        </p:nvSpPr>
        <p:spPr>
          <a:xfrm>
            <a:off x="269280" y="614376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аряжский г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432400" y="600084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ндийский г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1:35:43Z</dcterms:created>
  <dc:creator>МОУ СОШ №3</dc:creator>
  <dc:description/>
  <dc:language>en-US</dc:language>
  <cp:lastModifiedBy>LEGION</cp:lastModifiedBy>
  <dcterms:modified xsi:type="dcterms:W3CDTF">2015-01-20T13:42:00Z</dcterms:modified>
  <cp:revision>44</cp:revision>
  <dc:subject/>
  <dc:title>Опера «Садко» Римского- Корсакова</dc:title>
</cp:coreProperties>
</file>