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ED37-D005-49AA-BAB7-4B950F7018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Римского- Корса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е герои и персонажи оп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DC84-AD57-4FF4-8020-893F9431E3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7C28-DCF4-4914-8DF9-9AAFD0BA66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ко путешеств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4755-254E-4163-A3E0-12FD00842F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ие приключения и дальн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817C-9BFB-40ED-B2DB-C5222F77EB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не морском, во владениях  морского ц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F6C5-50B7-4FC1-B028-38E5F2DEF1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Загадочная и обворожительная Волх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E6AC-90C6-4FAC-8FEF-49ECC33FD9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55B-FDB9-4E4B-B3DE-81E00DC872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65F-A674-4B54-BE9D-19B41CE2DD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ены из опе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34AD-9EB4-433B-BCB0-2C6DDC2692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о оперного жан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5687-1C9B-4396-986B-1B33B4F7B5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а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99EE-84BF-4D64-995A-BBF535FBED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ы «Садк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7105-B5FC-4E57-B650-58B52C34BB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CF23-0A70-469C-91C3-8964BDBB5A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B323-B606-41BD-8BED-69A34ED75A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озитор - сказочн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 написа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ер и большинство из них на сказочные сюж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1941-1DBF-4706-95F0-BBC5ACA99E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ира- реальный и сказочный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а музыкальных лейтмотива в опер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зоч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й лейтмоти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вг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8DC8-E7E4-47FA-BEDF-A1AE5D864E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 скалы грозные дробятся с ревом вол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150B-E73D-425B-A93C-B6A025F2F4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сподин Великий Новгор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во славном Нове-гор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ыл Садко, веселый молоде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имел он златой каз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имел лишь гусельки  яровч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пирам ходил-играл Садк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тешал купцов, людей посад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8D89-D66B-49CE-B8F0-819495E197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вствующие герои и персона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вгородский люд, новгородские куп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BCC7-3B4E-431B-8AE4-819272C693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6815-84CD-4CA5-80CA-66E899C57C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42D-ACA5-4D5B-90C4-3C2885CB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CFD-6DB3-4E0B-9B31-218B164F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7D67-BF4A-48ED-9ED7-24D02DF8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B26A-3ABB-40FD-B20C-71FE87C3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7E81-DABF-410D-8DB4-219B6FCD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15A1-14F0-4362-809B-34F41032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B494-711D-4790-A7C7-AF1AE970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5B2A-15BB-4AA0-B111-70A7ED81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5E07-0F31-40ED-BFE0-9B44C8F3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7455-ED7A-4F0C-B8FD-269D5FA6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5937-F7BF-4D06-ADFA-86AD661A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7179-D262-4AA5-8C95-2B59B16C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DDE8-2EC1-4573-81D1-B118DDFC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7D79-7D53-4047-BAA4-58A88C11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4C78-D5A7-4B8F-A253-CDAD4070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23A1-91F4-49E8-93A6-9627B928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C911-492A-4F51-9101-046C1627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C0B-26EC-4A77-9491-7C360E69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BDC-41E1-4476-B9F6-D45C640B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1C7-EE67-4518-B9F7-9B1A14EA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A1C-4424-470E-894A-91E5C36A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A55C-CDB3-4F6D-9FF5-0BE41EA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5B4-9169-4CEE-B11D-7B08D716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D10-BCC2-4465-8E93-874B8BD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9B84-B5C8-47AC-B8DB-07AD686BD5B5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6C8E-5EE1-489F-BBAB-F8FC61BF363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0FAF-BF8B-4179-8810-77B7748AF27B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F316-CDD9-45B0-A8C4-3E62CDAADD1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60480" y="1255680"/>
            <a:ext cx="845496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цены из оп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ействующие герои и персонажи оперы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28560" y="285480"/>
            <a:ext cx="3900600" cy="57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Главные герои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8" name="Содержимое 3" descr="садко5.jpg"/>
          <p:cNvPicPr/>
          <p:nvPr/>
        </p:nvPicPr>
        <p:blipFill>
          <a:blip r:embed="rId1"/>
          <a:stretch/>
        </p:blipFill>
        <p:spPr>
          <a:xfrm>
            <a:off x="571680" y="857160"/>
            <a:ext cx="35766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9" name="TextBox 4"/>
          <p:cNvSpPr/>
          <p:nvPr/>
        </p:nvSpPr>
        <p:spPr>
          <a:xfrm>
            <a:off x="214200" y="5429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ад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купец, певец, гусляр, отважный путешественник-мореплав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Рисунок 5" descr="Садко7 Забела-Врубель - Волхова.jpg"/>
          <p:cNvPicPr/>
          <p:nvPr/>
        </p:nvPicPr>
        <p:blipFill>
          <a:blip r:embed="rId2"/>
          <a:stretch/>
        </p:blipFill>
        <p:spPr>
          <a:xfrm>
            <a:off x="5786280" y="928800"/>
            <a:ext cx="2590920" cy="387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TextBox 6"/>
          <p:cNvSpPr/>
          <p:nvPr/>
        </p:nvSpPr>
        <p:spPr>
          <a:xfrm>
            <a:off x="5143680" y="507204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лх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дочь морского царя, красавица, волшебница, кудесниц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42720" y="428760"/>
            <a:ext cx="628668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Садко путешественник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4" name="Содержимое 5" descr="Садко2эскиз декорация.jpg"/>
          <p:cNvPicPr/>
          <p:nvPr/>
        </p:nvPicPr>
        <p:blipFill>
          <a:blip r:embed="rId1"/>
          <a:stretch/>
        </p:blipFill>
        <p:spPr>
          <a:xfrm>
            <a:off x="1071720" y="1428840"/>
            <a:ext cx="6667200" cy="3409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5" name="TextBox 3"/>
          <p:cNvSpPr/>
          <p:nvPr/>
        </p:nvSpPr>
        <p:spPr>
          <a:xfrm>
            <a:off x="642960" y="5286240"/>
            <a:ext cx="82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Отправился Садко в самую загадочную страну, в Веденец, за счастьем для Новгор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7840" y="928800"/>
            <a:ext cx="39002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alibri"/>
              </a:rPr>
              <a:t>Морские приключения и дальние страны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8" name="Содержимое 3" descr="Садко5 Декорации.jpg"/>
          <p:cNvPicPr/>
          <p:nvPr/>
        </p:nvPicPr>
        <p:blipFill>
          <a:blip r:embed="rId1"/>
          <a:stretch/>
        </p:blipFill>
        <p:spPr>
          <a:xfrm>
            <a:off x="142920" y="1143000"/>
            <a:ext cx="350028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9" name="Рисунок 4" descr="Садко птица счастья.jpeg"/>
          <p:cNvPicPr/>
          <p:nvPr/>
        </p:nvPicPr>
        <p:blipFill>
          <a:blip r:embed="rId2"/>
          <a:stretch/>
        </p:blipFill>
        <p:spPr>
          <a:xfrm>
            <a:off x="3714840" y="3143160"/>
            <a:ext cx="5244840" cy="35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3920" y="642960"/>
            <a:ext cx="66438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а дне морском, во владениях  морского царя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2" name="Содержимое 3" descr="Садко2.jpg"/>
          <p:cNvPicPr/>
          <p:nvPr/>
        </p:nvPicPr>
        <p:blipFill>
          <a:blip r:embed="rId1"/>
          <a:stretch/>
        </p:blipFill>
        <p:spPr>
          <a:xfrm>
            <a:off x="214200" y="1785960"/>
            <a:ext cx="317340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3" name="Рисунок 5" descr="Садко11.jpg"/>
          <p:cNvPicPr/>
          <p:nvPr/>
        </p:nvPicPr>
        <p:blipFill>
          <a:blip r:embed="rId2"/>
          <a:stretch/>
        </p:blipFill>
        <p:spPr>
          <a:xfrm>
            <a:off x="3571920" y="2000160"/>
            <a:ext cx="535788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6" name="Содержимое 3" descr="Волхова опера садко.jpg"/>
          <p:cNvPicPr/>
          <p:nvPr/>
        </p:nvPicPr>
        <p:blipFill>
          <a:blip r:embed="rId1"/>
          <a:stretch/>
        </p:blipFill>
        <p:spPr>
          <a:xfrm>
            <a:off x="5286240" y="214200"/>
            <a:ext cx="3392640" cy="479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7" name="Рисунок 4" descr="Садко3 Волхова - Забела-Врубель.jpg"/>
          <p:cNvPicPr/>
          <p:nvPr/>
        </p:nvPicPr>
        <p:blipFill>
          <a:blip r:embed="rId2"/>
          <a:srcRect l="3170" t="4274" r="3338" b="16677"/>
          <a:stretch/>
        </p:blipFill>
        <p:spPr>
          <a:xfrm>
            <a:off x="571680" y="214200"/>
            <a:ext cx="4214520" cy="2643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58" name="Рисунок 5" descr="Врубель Волхова2.jpg"/>
          <p:cNvPicPr/>
          <p:nvPr/>
        </p:nvPicPr>
        <p:blipFill>
          <a:blip r:embed="rId3"/>
          <a:stretch/>
        </p:blipFill>
        <p:spPr>
          <a:xfrm>
            <a:off x="171360" y="2901960"/>
            <a:ext cx="2632320" cy="388296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2428920" y="521496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Загадочная и обворожительная Волх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43080" y="785520"/>
            <a:ext cx="40435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Молодецкие и сердечные, грустные и веселые песни Садко покорили силы природы, подводное царство, принесли славу великому Новгород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Царевна Волхова, дочь морского царя, очарована музыкой Садко. Она пробудила в царевне человеческую душу, сердце, которое любит и страдает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8840" y="713880"/>
            <a:ext cx="675792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45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5" name="Содержимое 3" descr="Садко111.jpg"/>
          <p:cNvPicPr/>
          <p:nvPr/>
        </p:nvPicPr>
        <p:blipFill>
          <a:blip r:embed="rId1"/>
          <a:stretch/>
        </p:blipFill>
        <p:spPr>
          <a:xfrm>
            <a:off x="1214280" y="1643040"/>
            <a:ext cx="6634440" cy="4389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928440"/>
            <a:ext cx="79293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цены из опе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68" name="Содержимое 3" descr="Садко1.jpg"/>
          <p:cNvPicPr/>
          <p:nvPr/>
        </p:nvPicPr>
        <p:blipFill>
          <a:blip r:embed="rId1"/>
          <a:stretch/>
        </p:blipFill>
        <p:spPr>
          <a:xfrm>
            <a:off x="857160" y="1928880"/>
            <a:ext cx="6972480" cy="3556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3"/>
          <p:cNvSpPr/>
          <p:nvPr/>
        </p:nvSpPr>
        <p:spPr>
          <a:xfrm>
            <a:off x="1500120" y="5572080"/>
            <a:ext cx="58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Заморские чудеса или чуде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одводного ми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8660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Чудо оперного жанр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72" name="Содержимое 3" descr="Садко.jpg"/>
          <p:cNvPicPr/>
          <p:nvPr/>
        </p:nvPicPr>
        <p:blipFill>
          <a:blip r:embed="rId1"/>
          <a:stretch/>
        </p:blipFill>
        <p:spPr>
          <a:xfrm>
            <a:off x="1214280" y="1785960"/>
            <a:ext cx="6667560" cy="3762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3" name="TextBox 3"/>
          <p:cNvSpPr/>
          <p:nvPr/>
        </p:nvSpPr>
        <p:spPr>
          <a:xfrm>
            <a:off x="1000080" y="564372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ну не только можно рассказать но и спеть и даже поставить опе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56920" y="928440"/>
            <a:ext cx="418644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Сила искусства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 опере «Садко», как и в любой сказке, много чудес. Но самое главное чудо сотворило искусство , когда превратило фантастическое существо, бездушную красавицу Волхову, в чудесного доброго человека, которая горячо любит и готова отдать свою жизнь во имя счастья людей. Она спасла Садко, а сама осталась на земле и превратилась в реку Волхову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dbf5f9"/>
                </a:solidFill>
                <a:latin typeface="Calibri"/>
              </a:rPr>
              <a:t>Авторы «Садко»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6" name="Picture 2" descr="F:\ПОРТРЕТЫ КОМПОЗИТОРОВ\Портреты\Портреты композиторов\rimskii-korsakov.jpg"/>
          <p:cNvPicPr/>
          <p:nvPr/>
        </p:nvPicPr>
        <p:blipFill>
          <a:blip r:embed="rId1"/>
          <a:stretch/>
        </p:blipFill>
        <p:spPr>
          <a:xfrm>
            <a:off x="214200" y="2500200"/>
            <a:ext cx="3692520" cy="314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5"/>
          <p:cNvSpPr/>
          <p:nvPr/>
        </p:nvSpPr>
        <p:spPr>
          <a:xfrm>
            <a:off x="4000680" y="264312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Музык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композитор Римский Корса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4000680" y="4500720"/>
            <a:ext cx="418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Литература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русская  бы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9284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Опера «Садко» - шедевр русской классической музыки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опере-былине , Садко, предстает перед нами, как  русский Орфей, который своим искусством покоряет природу, покоряет сказочных существ и даже  волшебница Волхова начинает чувствовать и переживать, как настоящих челове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Николай Андреевич Римский-Корсаков   (1844 – 1908)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Опера-былина «Садко» -  одно из первых значительных произведений композитора. Сначала Римский-Корсаков сочинил симфоническую картину «Садко». Позже он ее использовал для создания оперы-былин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713880"/>
            <a:ext cx="6114960" cy="7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Композитор - сказочник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Он написал </a:t>
            </a:r>
            <a:r>
              <a:rPr b="1" i="1" lang="ru-RU" sz="3200" spc="-1" strike="noStrike">
                <a:solidFill>
                  <a:srgbClr val="ffffff"/>
                </a:solidFill>
                <a:latin typeface="Constantia"/>
              </a:rPr>
              <a:t>15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 опер и большинство из них на сказочные сюж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В основу оперы «Садко» композитор положил северорусскую новгородскую былину про бесстрашного мореплавателя и талантливого музыканта Садко, про волшебную силу его искусств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ира- реальный и сказочный</a:t>
            </a:r>
            <a:br>
              <a:rPr sz="3600"/>
            </a:br>
            <a:r>
              <a:rPr b="1" lang="ru-RU" sz="3600" spc="-1" strike="noStrike">
                <a:solidFill>
                  <a:srgbClr val="dbf5f9"/>
                </a:solidFill>
                <a:latin typeface="Calibri"/>
              </a:rPr>
              <a:t>Два музыкальных лейтмотива в опере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7120" y="1928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Реаль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  <a:ea typeface="Arial"/>
              </a:rPr>
              <a:t>новгородский люд, жена Садко- Любава Буслаевна, Садко, Гость Варяжский, гость Индийский, гость Веденецкий(из Венеции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казочный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Царевна Волхова, морские царевны-лебеди, золотые рыбки</a:t>
            </a: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1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мор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2-й лейтмоти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Новгород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3920" y="57132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dbf5f9"/>
                </a:solidFill>
                <a:latin typeface="Calibri"/>
              </a:rPr>
              <a:t>О скалы грозные дробятся с ревом волны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Содержимое 3" descr="Оскалы грозные.. Песнь Варяжского гостя.jpg"/>
          <p:cNvPicPr/>
          <p:nvPr/>
        </p:nvPicPr>
        <p:blipFill>
          <a:blip r:embed="rId1"/>
          <a:stretch/>
        </p:blipFill>
        <p:spPr>
          <a:xfrm>
            <a:off x="1643040" y="1857240"/>
            <a:ext cx="5715000" cy="404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3"/>
          <p:cNvSpPr/>
          <p:nvPr/>
        </p:nvSpPr>
        <p:spPr>
          <a:xfrm>
            <a:off x="816840" y="607212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тупление в опере рисует нам образ грозного мор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9720" y="856800"/>
            <a:ext cx="690084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f5f9"/>
                </a:solidFill>
                <a:latin typeface="Calibri"/>
              </a:rPr>
              <a:t>Господин Великий Новгород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5114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Как во славном Нове-город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Был Садко, веселый молодец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Не имел он златой казны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 имел лишь гусельки  яровчаты;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 пирам ходил-играл Садко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тешал купцов, людей посадских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Рисунок 3" descr="md_poster[1].jpg"/>
          <p:cNvPicPr/>
          <p:nvPr/>
        </p:nvPicPr>
        <p:blipFill>
          <a:blip r:embed="rId1"/>
          <a:stretch/>
        </p:blipFill>
        <p:spPr>
          <a:xfrm>
            <a:off x="5546880" y="1928880"/>
            <a:ext cx="3179520" cy="44290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32976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f5f9"/>
                </a:solidFill>
                <a:latin typeface="Calibri"/>
              </a:rPr>
              <a:t>Девствующие герои и персонаж</a:t>
            </a:r>
            <a:r>
              <a:rPr b="0" lang="ru-RU" sz="4000" spc="-1" strike="noStrike">
                <a:solidFill>
                  <a:srgbClr val="dbf5f9"/>
                </a:solidFill>
                <a:latin typeface="Calibri"/>
              </a:rPr>
              <a:t>и</a:t>
            </a:r>
            <a:br>
              <a:rPr sz="4000"/>
            </a:br>
            <a:r>
              <a:rPr b="1" i="1" lang="ru-RU" sz="4000" spc="-1" strike="noStrike">
                <a:solidFill>
                  <a:srgbClr val="dbf5f9"/>
                </a:solidFill>
                <a:latin typeface="Calibri"/>
              </a:rPr>
              <a:t>Новгородский люд, новгородские купцы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1892520" y="5929200"/>
            <a:ext cx="55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оклон вам гости имени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Содержимое 8" descr="Садко4.jpg"/>
          <p:cNvPicPr/>
          <p:nvPr/>
        </p:nvPicPr>
        <p:blipFill>
          <a:blip r:embed="rId1"/>
          <a:stretch/>
        </p:blipFill>
        <p:spPr>
          <a:xfrm>
            <a:off x="1143000" y="1928880"/>
            <a:ext cx="6939000" cy="3830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f5f9"/>
                </a:solidFill>
                <a:latin typeface="Calibri"/>
              </a:rPr>
              <a:t>Каждый гость хвалит свою страну. Куда отправится Садко?</a:t>
            </a:r>
            <a:endParaRPr b="0" lang="en-US" sz="3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32" name="Содержимое 3" descr="Варяжский гость из оперы Садко.jpg"/>
          <p:cNvPicPr/>
          <p:nvPr/>
        </p:nvPicPr>
        <p:blipFill>
          <a:blip r:embed="rId1"/>
          <a:stretch/>
        </p:blipFill>
        <p:spPr>
          <a:xfrm>
            <a:off x="500040" y="2214720"/>
            <a:ext cx="275292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Рисунок 4" descr="Садко6 Алексеев - индийский гость.jpg"/>
          <p:cNvPicPr/>
          <p:nvPr/>
        </p:nvPicPr>
        <p:blipFill>
          <a:blip r:embed="rId2"/>
          <a:stretch/>
        </p:blipFill>
        <p:spPr>
          <a:xfrm>
            <a:off x="5786280" y="1857240"/>
            <a:ext cx="2357640" cy="3571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4" name="TextBox 5"/>
          <p:cNvSpPr/>
          <p:nvPr/>
        </p:nvSpPr>
        <p:spPr>
          <a:xfrm>
            <a:off x="269280" y="61437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аряж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5432400" y="600084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ндийский г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35:43Z</dcterms:created>
  <dc:creator>МОУ СОШ №3</dc:creator>
  <dc:description/>
  <dc:language>en-US</dc:language>
  <cp:lastModifiedBy>LEGION</cp:lastModifiedBy>
  <dcterms:modified xsi:type="dcterms:W3CDTF">2015-01-20T13:42:00Z</dcterms:modified>
  <cp:revision>44</cp:revision>
  <dc:subject/>
  <dc:title>Опера «Садко» Римского- Корсакова</dc:title>
</cp:coreProperties>
</file>