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886EA-C204-46AE-8617-0C16839AE61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умма углов треугольника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шение зада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20C72-D78F-4D62-9CC5-D874A2A5643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ыполните тес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В треугольнике АВС угол А равен 90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0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этом другие два угл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один острый, другой может быть прямым или тупы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оба остры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могут быть как острыми, так и тупыми или прямы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796C8-FED1-4AA4-A573-4B33180D366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В треугольнике АВС угол В – тупой, при этом другие два угла могут быть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только остры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острыми и тупы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острыми и прямы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99C78-6251-4C1B-8DCB-A2B3A8E1A78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В тупоугольном треугольнике могут бы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прямой и острый угл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тупой и прямой угл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тупой и острый угл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AB794-9E68-49DF-AD7E-A42F56C3DEA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В остроугольном треугольнике могут бы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все углы остры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один угол тупо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один прямой уго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6FB80-1033-4ADF-9036-45CA1F06586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В прямоугольном треугольнике могут бы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прямой и тупой угл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два прямых угл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два острых уг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3A32C-000F-4D81-9314-845BDFC20DD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Цели урок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Ввести понятие остроугольного, прямоугольного, тупоугольного треугольн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Совершенствовать навыки решения задач на применение теоремы о сумме углов треугольн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2A5DD-1366-4573-BE14-80F98CF150C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упоугольный треугольн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один из углов треугольника тупой, то треугольник называется тупоугольны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0920C-A4D7-40EA-9481-02F6671361C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ямоугольный треугольн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один из углов треугольника прямой, то треугольник называется прямоугольны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20C3D-A98F-49D7-A2F7-B6269756363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орона треугольника, лежащая против прямого угла называется </a:t>
            </a:r>
            <a:r>
              <a:rPr b="1" lang="ru-RU" sz="1200" spc="-1" strike="noStrike">
                <a:solidFill>
                  <a:srgbClr val="ff66ff"/>
                </a:solidFill>
                <a:latin typeface="Calibri"/>
              </a:rPr>
              <a:t>гипотенузо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а две другие называются </a:t>
            </a:r>
            <a:r>
              <a:rPr b="1" lang="ru-RU" sz="1200" spc="-1" strike="noStrike">
                <a:solidFill>
                  <a:srgbClr val="ff66ff"/>
                </a:solidFill>
                <a:latin typeface="Calibri"/>
              </a:rPr>
              <a:t>катет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F3823-4E95-4996-B0D9-F99E2934103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троугольный треугольн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все три угла треугольника острые, то треугольник называется остроугольны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07A90-A203-4857-897A-2487714CD84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едствие из теоремы о сумме углов треугольн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Докажите, что треугольник имеет хотя бы два острых уг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1F88C-64DB-4CF2-9D97-42126B9E80D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йдит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FBF1B-05E5-4C5C-B631-52F5D546D7E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йдит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8729D-3560-487F-BB0B-7F6EF9C0A28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0BC3-D5D1-4CDA-8020-3142CD1B5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9EF4-C1BC-48F7-BC73-1B77A27E3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22B2-1E39-45BD-8CC7-6EB3179F6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96A9-5B26-497B-9C2B-8B3F3340C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CE774-1991-469A-903A-8AD609D11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D0DE9-B77A-4C36-BC8E-A485611F1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0822F-E51C-4F00-ADB2-BF9DBE232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66CB3-138F-4388-A9EB-C6D98FE8D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EBE69-3E33-4B60-AC1C-4537AC10D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5691D-128C-4665-A611-890AFE346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D4E6A-DE39-4B35-8B8D-B59D9C896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77E7-E772-4662-BA8B-16B585025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521D4-D4F8-4729-822D-3394B151A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F1267-A3BF-4F42-852B-22705867C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C8196-87C2-47E7-87B2-C4FBAC98C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6D319-5925-4F9B-94B7-C775F19FA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9260D-0EF1-474D-B676-FF2C1708B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91CB-6B92-4D52-9AEB-DAF523567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BD13-A86D-495F-A6A1-4932A430B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9533-62ED-471D-A441-EA3BA5CB2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230E-A45F-4C84-AB8B-85B1CCA49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6138-5E90-4178-B843-7514D7C70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790E-B055-4A45-A9FF-874C9BF52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1ECC-7B8A-426D-B350-668E6B7D6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EC4BD-0306-49BC-A113-3FD1D2AF585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79FED-655A-44DC-BE0F-E3FA88B1BEC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52280" y="990720"/>
            <a:ext cx="8763120" cy="3124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ccecff"/>
                </a:solidFill>
                <a:latin typeface="Arial"/>
              </a:rPr>
              <a:t>Сумма углов треугольника</a:t>
            </a:r>
            <a:br>
              <a:rPr sz="5000"/>
            </a:br>
            <a:br>
              <a:rPr sz="5000"/>
            </a:br>
            <a:r>
              <a:rPr b="1" lang="ru-RU" sz="5000" spc="-1" strike="noStrike">
                <a:solidFill>
                  <a:srgbClr val="ccecff"/>
                </a:solidFill>
                <a:latin typeface="Arial"/>
              </a:rPr>
              <a:t>Решение задач</a:t>
            </a:r>
            <a:endParaRPr b="0" lang="en-US" sz="5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Выполните тест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. В треугольнике АВС угол А равен 90</a:t>
            </a:r>
            <a:r>
              <a:rPr b="0" lang="ru-RU" sz="4000" spc="-1" strike="noStrike" baseline="30000">
                <a:solidFill>
                  <a:srgbClr val="ffffff"/>
                </a:solidFill>
                <a:latin typeface="Arial"/>
              </a:rPr>
              <a:t>0,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ри этом другие два угла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а) один острый, другой может быть прямым или тупым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б) оба острые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) могут быть как острыми, так и тупыми или прямым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1" name="Object 7"/>
              <p:cNvSpPr txBox="1"/>
              <p:nvPr/>
            </p:nvSpPr>
            <p:spPr>
              <a:xfrm>
                <a:off x="6086520" y="3938760"/>
                <a:ext cx="1158840" cy="21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1066320" y="380520"/>
            <a:ext cx="762012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2. В треугольнике АВС угол В – тупой, при этом другие два угла могут быть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а) только острыми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б) острыми и тупыми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) острыми и прямыми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1142640" y="1143000"/>
            <a:ext cx="75438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3. В тупоугольном треугольнике могут быть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а) прямой и острый углы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б) тупой и прямой углы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) тупой и острый углы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990720" y="228600"/>
            <a:ext cx="769608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. В остроугольном треугольнике могут быть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а) все углы острые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б) один угол тупой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) один прямой угол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1142640" y="152280"/>
            <a:ext cx="7543800" cy="59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5. В прямоугольном треугольнике могут быть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а) прямой и тупой углы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б) два прямых угла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) два острых угла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Цели урока.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1. Ввести понятие остроугольного, прямоугольного, тупоугольного треугольнико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2. Совершенствовать навыки решения задач на применение теоремы о сумме углов треугольник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Тупоугольный треугольник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сли один из углов треугольника тупой, то треугольник называется тупоугольны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Picture 4" descr=""/>
          <p:cNvPicPr/>
          <p:nvPr/>
        </p:nvPicPr>
        <p:blipFill>
          <a:blip r:embed="rId1"/>
          <a:stretch/>
        </p:blipFill>
        <p:spPr>
          <a:xfrm>
            <a:off x="4038480" y="3048120"/>
            <a:ext cx="4800600" cy="3109680"/>
          </a:xfrm>
          <a:prstGeom prst="rect">
            <a:avLst/>
          </a:prstGeom>
          <a:ln w="0">
            <a:noFill/>
          </a:ln>
        </p:spPr>
      </p:pic>
      <p:sp>
        <p:nvSpPr>
          <p:cNvPr id="2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рямоугольный треугольник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сли один из углов треугольника прямой, то треугольник называется прямоугольны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Picture 4" descr=""/>
          <p:cNvPicPr/>
          <p:nvPr/>
        </p:nvPicPr>
        <p:blipFill>
          <a:blip r:embed="rId1"/>
          <a:stretch/>
        </p:blipFill>
        <p:spPr>
          <a:xfrm>
            <a:off x="4191120" y="2743200"/>
            <a:ext cx="3962160" cy="3929040"/>
          </a:xfrm>
          <a:prstGeom prst="rect">
            <a:avLst/>
          </a:prstGeom>
          <a:ln w="0">
            <a:noFill/>
          </a:ln>
        </p:spPr>
      </p:pic>
      <p:sp>
        <p:nvSpPr>
          <p:cNvPr id="2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609480" y="0"/>
            <a:ext cx="82296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торона треугольника, лежащая против прямого угла называется </a:t>
            </a:r>
            <a:r>
              <a:rPr b="1" lang="ru-RU" sz="3200" spc="-1" strike="noStrike">
                <a:solidFill>
                  <a:srgbClr val="ff66ff"/>
                </a:solidFill>
                <a:latin typeface="Arial"/>
              </a:rPr>
              <a:t>гипотенузой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, а две другие называются </a:t>
            </a:r>
            <a:r>
              <a:rPr b="1" lang="ru-RU" sz="3200" spc="-1" strike="noStrike">
                <a:solidFill>
                  <a:srgbClr val="ff66ff"/>
                </a:solidFill>
                <a:latin typeface="Arial"/>
              </a:rPr>
              <a:t>катетам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4" descr=""/>
          <p:cNvPicPr/>
          <p:nvPr/>
        </p:nvPicPr>
        <p:blipFill>
          <a:blip r:embed="rId1"/>
          <a:stretch/>
        </p:blipFill>
        <p:spPr>
          <a:xfrm>
            <a:off x="1752480" y="1676520"/>
            <a:ext cx="5486400" cy="4524120"/>
          </a:xfrm>
          <a:prstGeom prst="rect">
            <a:avLst/>
          </a:prstGeom>
          <a:ln w="0">
            <a:noFill/>
          </a:ln>
        </p:spPr>
      </p:pic>
      <p:sp>
        <p:nvSpPr>
          <p:cNvPr id="2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Остроугольный треугольник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сли все три угла треугольника острые, то треугольник называется остроугольны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Picture 5" descr=""/>
          <p:cNvPicPr/>
          <p:nvPr/>
        </p:nvPicPr>
        <p:blipFill>
          <a:blip r:embed="rId1"/>
          <a:srcRect l="0" t="2805" r="5130" b="0"/>
          <a:stretch/>
        </p:blipFill>
        <p:spPr>
          <a:xfrm>
            <a:off x="4495680" y="2743200"/>
            <a:ext cx="3810240" cy="3571920"/>
          </a:xfrm>
          <a:prstGeom prst="rect">
            <a:avLst/>
          </a:prstGeom>
          <a:ln w="0">
            <a:noFill/>
          </a:ln>
        </p:spPr>
      </p:pic>
      <p:sp>
        <p:nvSpPr>
          <p:cNvPr id="23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Следствие из теоремы о сумме углов треугольника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Докажите, что треугольник имеет хотя бы два острых угла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50292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Найдите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Object 4"/>
              <p:cNvSpPr txBox="1"/>
              <p:nvPr/>
            </p:nvSpPr>
            <p:spPr>
              <a:xfrm>
                <a:off x="4343400" y="152280"/>
                <a:ext cx="2451240" cy="152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А</m:t>
                    </m:r>
                    <m:r>
                      <m:t xml:space="preserve">,</m:t>
                    </m:r>
                    <m:r>
                      <m:t xml:space="preserve">∠</m:t>
                    </m:r>
                    <m:sPre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С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43" name="Picture 7" descr=""/>
          <p:cNvPicPr/>
          <p:nvPr/>
        </p:nvPicPr>
        <p:blipFill>
          <a:blip r:embed="rId1"/>
          <a:stretch/>
        </p:blipFill>
        <p:spPr>
          <a:xfrm>
            <a:off x="1676520" y="1295280"/>
            <a:ext cx="6019560" cy="5243760"/>
          </a:xfrm>
          <a:prstGeom prst="rect">
            <a:avLst/>
          </a:prstGeom>
          <a:ln w="0">
            <a:noFill/>
          </a:ln>
        </p:spPr>
      </p:pic>
      <p:sp>
        <p:nvSpPr>
          <p:cNvPr id="2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396252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Найдите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Object 5"/>
              <p:cNvSpPr txBox="1"/>
              <p:nvPr/>
            </p:nvSpPr>
            <p:spPr>
              <a:xfrm>
                <a:off x="3657600" y="228600"/>
                <a:ext cx="3809880" cy="15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В</m:t>
                    </m:r>
                    <m:r>
                      <m:t xml:space="preserve">,</m:t>
                    </m:r>
                    <m:r>
                      <m:t xml:space="preserve">∠</m:t>
                    </m:r>
                    <m:r>
                      <m:t xml:space="preserve">А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47" name="Picture 7" descr=""/>
          <p:cNvPicPr/>
          <p:nvPr/>
        </p:nvPicPr>
        <p:blipFill>
          <a:blip r:embed="rId1"/>
          <a:stretch/>
        </p:blipFill>
        <p:spPr>
          <a:xfrm>
            <a:off x="1905120" y="1295280"/>
            <a:ext cx="5384520" cy="5410440"/>
          </a:xfrm>
          <a:prstGeom prst="rect">
            <a:avLst/>
          </a:prstGeom>
          <a:ln w="0">
            <a:noFill/>
          </a:ln>
        </p:spPr>
      </p:pic>
      <p:sp>
        <p:nvSpPr>
          <p:cNvPr id="2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1-23T11:41:22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