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8BCC4-128C-42E8-AE27-749E9A96D8E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умма углов треугольника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шение зада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3170A-D87C-417B-B511-686030FE40A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ыполните тес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В треугольнике АВС угол А равен 90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0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этом другие два угл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один острый, другой может быть прямым или тупы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оба остры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могут быть как острыми, так и тупыми или прямы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A2DA2-5DC3-46F1-AD0D-A981EB8E9B5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В треугольнике АВС угол В – тупой, при этом другие два угла могут быть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только остры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острыми и тупы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острыми и прямы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C7DA8-C273-4343-B8DC-A549CD52C34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В тупоугольном треугольнике могут бы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прямой и острый угл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тупой и прямой угл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тупой и острый угл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F262F-B795-4DEC-9AA1-80AF78F5DA6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В остроугольном треугольнике могут бы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все углы остры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один угол тупо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один прямой уго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AA290-6814-482F-88E1-BC80818C5D7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В прямоугольном треугольнике могут бы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прямой и тупой угл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два прямых угл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два острых уг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417DB-8090-4EDC-B93E-C2DB51DDB90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Цели урок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Ввести понятие остроугольного, прямоугольного, тупоугольного треугольн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Совершенствовать навыки решения задач на применение теоремы о сумме углов треугольн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4529E-2C07-4456-8460-2F2E2596160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упоугольный треугольн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один из углов треугольника тупой, то треугольник называется тупоугольны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CD4D5-D092-4E0C-BD79-6FF993F3C09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ямоугольный треугольн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один из углов треугольника прямой, то треугольник называется прямоугольны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7CBA5-8D6C-482A-AEBF-0CF07767F81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орона треугольника, лежащая против прямого угла называется </a:t>
            </a:r>
            <a:r>
              <a:rPr b="1" lang="ru-RU" sz="1200" spc="-1" strike="noStrike">
                <a:solidFill>
                  <a:srgbClr val="ff66ff"/>
                </a:solidFill>
                <a:latin typeface="Calibri"/>
              </a:rPr>
              <a:t>гипотенузо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а две другие называются </a:t>
            </a:r>
            <a:r>
              <a:rPr b="1" lang="ru-RU" sz="1200" spc="-1" strike="noStrike">
                <a:solidFill>
                  <a:srgbClr val="ff66ff"/>
                </a:solidFill>
                <a:latin typeface="Calibri"/>
              </a:rPr>
              <a:t>катет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F627D-05CB-4774-AC9B-B58A0720F02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троугольный треугольн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все три угла треугольника острые, то треугольник называется остроугольны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3EBB5-9E76-4BF4-92AE-48E9F57653E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едствие из теоремы о сумме углов треугольн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Докажите, что треугольник имеет хотя бы два острых уг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4ED9E-7108-4232-AB01-2641DBECDDB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йдит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69228-6B0E-4530-B3A8-AF2A033E0D3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йдит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DFD9F-AD8D-4573-A16A-079DFC67502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A2C2-33B8-4697-B8EC-AE6A0D180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B980-E2AE-4DB8-812D-4D7A5316D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8028-E4FC-416C-8014-38CF3D6B6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1324-3D3E-4F5B-A856-8A2B58C25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6E52C-0A26-4F8A-9AA3-BC454B978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DA4DF-F295-4916-B4F8-642FFE4A1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F9F6D-9C45-4ABE-B2FE-8DFBBDB75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4C170-183A-4883-91F3-8ADAFA277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22E1A-3BFD-48D8-8276-278D38349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27FEA-EBF7-4086-9D3F-BD4175CAA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4E0E2-439D-4245-8359-6C6873E1B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ABDD-0B42-44BB-AA41-34C9E8734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5D26F-5660-4EE3-8AD8-E93FA2D9A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B8AD3-4681-4EA5-A71C-C0FEDA010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51685-62A1-41DE-8037-E18027FAA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7DD9C-7E91-426F-8C48-FB264E670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3FF25-EDF4-49EF-9308-D8C15177C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7E05-B0A7-4BAC-AE0C-77B467557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AFBB-69FF-4410-B3FB-C6DA7E0F6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2EC2-64F3-43BE-BACC-A754B962F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0112-563D-40BF-8228-F5A13EC58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20E1-6CAB-498D-B853-BB7E45F7C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77AC-EEA6-422D-B5E3-E3C36A721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22BC-0C15-48EA-9EAB-1113D7202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6AE30-3084-4D36-9D52-1C1FA53E4F7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00A9F-CD24-482B-84F4-20A05AFD171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52280" y="990720"/>
            <a:ext cx="8763120" cy="3124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ccecff"/>
                </a:solidFill>
                <a:latin typeface="Arial"/>
              </a:rPr>
              <a:t>Сумма углов треугольника</a:t>
            </a:r>
            <a:br>
              <a:rPr sz="5000"/>
            </a:br>
            <a:br>
              <a:rPr sz="5000"/>
            </a:br>
            <a:r>
              <a:rPr b="1" lang="ru-RU" sz="5000" spc="-1" strike="noStrike">
                <a:solidFill>
                  <a:srgbClr val="ccecff"/>
                </a:solidFill>
                <a:latin typeface="Arial"/>
              </a:rPr>
              <a:t>Решение задач</a:t>
            </a:r>
            <a:endParaRPr b="0" lang="en-US" sz="5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Выполните тест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. В треугольнике АВС угол А равен 90</a:t>
            </a:r>
            <a:r>
              <a:rPr b="0" lang="ru-RU" sz="4000" spc="-1" strike="noStrike" baseline="30000">
                <a:solidFill>
                  <a:srgbClr val="ffffff"/>
                </a:solidFill>
                <a:latin typeface="Arial"/>
              </a:rPr>
              <a:t>0,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ри этом другие два угла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а) один острый, другой может быть прямым или тупым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б) оба острые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) могут быть как острыми, так и тупыми или прямым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1" name="Object 7"/>
              <p:cNvSpPr txBox="1"/>
              <p:nvPr/>
            </p:nvSpPr>
            <p:spPr>
              <a:xfrm>
                <a:off x="6086520" y="3938760"/>
                <a:ext cx="1158840" cy="21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1066320" y="380520"/>
            <a:ext cx="762012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2. В треугольнике АВС угол В – тупой, при этом другие два угла могут быть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а) только острыми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б) острыми и тупыми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) острыми и прямыми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1142640" y="1143000"/>
            <a:ext cx="75438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3. В тупоугольном треугольнике могут быть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а) прямой и острый углы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б) тупой и прямой углы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) тупой и острый углы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990720" y="228600"/>
            <a:ext cx="769608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. В остроугольном треугольнике могут быть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а) все углы острые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б) один угол тупой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) один прямой угол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1142640" y="152280"/>
            <a:ext cx="7543800" cy="59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5. В прямоугольном треугольнике могут быть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а) прямой и тупой углы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б) два прямых угла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) два острых угла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Цели урока.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1. Ввести понятие остроугольного, прямоугольного, тупоугольного треугольнико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2. Совершенствовать навыки решения задач на применение теоремы о сумме углов треугольник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Тупоугольный треугольник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сли один из углов треугольника тупой, то треугольник называется тупоугольны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Picture 4" descr=""/>
          <p:cNvPicPr/>
          <p:nvPr/>
        </p:nvPicPr>
        <p:blipFill>
          <a:blip r:embed="rId1"/>
          <a:stretch/>
        </p:blipFill>
        <p:spPr>
          <a:xfrm>
            <a:off x="4038480" y="3048120"/>
            <a:ext cx="4800600" cy="3109680"/>
          </a:xfrm>
          <a:prstGeom prst="rect">
            <a:avLst/>
          </a:prstGeom>
          <a:ln w="0">
            <a:noFill/>
          </a:ln>
        </p:spPr>
      </p:pic>
      <p:sp>
        <p:nvSpPr>
          <p:cNvPr id="2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рямоугольный треугольник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сли один из углов треугольника прямой, то треугольник называется прямоугольны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Picture 4" descr=""/>
          <p:cNvPicPr/>
          <p:nvPr/>
        </p:nvPicPr>
        <p:blipFill>
          <a:blip r:embed="rId1"/>
          <a:stretch/>
        </p:blipFill>
        <p:spPr>
          <a:xfrm>
            <a:off x="4191120" y="2743200"/>
            <a:ext cx="3962160" cy="3929040"/>
          </a:xfrm>
          <a:prstGeom prst="rect">
            <a:avLst/>
          </a:prstGeom>
          <a:ln w="0">
            <a:noFill/>
          </a:ln>
        </p:spPr>
      </p:pic>
      <p:sp>
        <p:nvSpPr>
          <p:cNvPr id="2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609480" y="0"/>
            <a:ext cx="82296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торона треугольника, лежащая против прямого угла называется </a:t>
            </a:r>
            <a:r>
              <a:rPr b="1" lang="ru-RU" sz="3200" spc="-1" strike="noStrike">
                <a:solidFill>
                  <a:srgbClr val="ff66ff"/>
                </a:solidFill>
                <a:latin typeface="Arial"/>
              </a:rPr>
              <a:t>гипотенузой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, а две другие называются </a:t>
            </a:r>
            <a:r>
              <a:rPr b="1" lang="ru-RU" sz="3200" spc="-1" strike="noStrike">
                <a:solidFill>
                  <a:srgbClr val="ff66ff"/>
                </a:solidFill>
                <a:latin typeface="Arial"/>
              </a:rPr>
              <a:t>катетам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4" descr=""/>
          <p:cNvPicPr/>
          <p:nvPr/>
        </p:nvPicPr>
        <p:blipFill>
          <a:blip r:embed="rId1"/>
          <a:stretch/>
        </p:blipFill>
        <p:spPr>
          <a:xfrm>
            <a:off x="1752480" y="1676520"/>
            <a:ext cx="5486400" cy="4524120"/>
          </a:xfrm>
          <a:prstGeom prst="rect">
            <a:avLst/>
          </a:prstGeom>
          <a:ln w="0">
            <a:noFill/>
          </a:ln>
        </p:spPr>
      </p:pic>
      <p:sp>
        <p:nvSpPr>
          <p:cNvPr id="2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Остроугольный треугольник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сли все три угла треугольника острые, то треугольник называется остроугольны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Picture 5" descr=""/>
          <p:cNvPicPr/>
          <p:nvPr/>
        </p:nvPicPr>
        <p:blipFill>
          <a:blip r:embed="rId1"/>
          <a:srcRect l="0" t="2805" r="5130" b="0"/>
          <a:stretch/>
        </p:blipFill>
        <p:spPr>
          <a:xfrm>
            <a:off x="4495680" y="2743200"/>
            <a:ext cx="3810240" cy="3571920"/>
          </a:xfrm>
          <a:prstGeom prst="rect">
            <a:avLst/>
          </a:prstGeom>
          <a:ln w="0">
            <a:noFill/>
          </a:ln>
        </p:spPr>
      </p:pic>
      <p:sp>
        <p:nvSpPr>
          <p:cNvPr id="23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Следствие из теоремы о сумме углов треугольника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Докажите, что треугольник имеет хотя бы два острых угла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50292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Найдите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Object 4"/>
              <p:cNvSpPr txBox="1"/>
              <p:nvPr/>
            </p:nvSpPr>
            <p:spPr>
              <a:xfrm>
                <a:off x="4343400" y="152280"/>
                <a:ext cx="2451240" cy="152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А</m:t>
                    </m:r>
                    <m:r>
                      <m:t xml:space="preserve">,</m:t>
                    </m:r>
                    <m:r>
                      <m:t xml:space="preserve">∠</m:t>
                    </m:r>
                    <m:sPre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С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43" name="Picture 7" descr=""/>
          <p:cNvPicPr/>
          <p:nvPr/>
        </p:nvPicPr>
        <p:blipFill>
          <a:blip r:embed="rId1"/>
          <a:stretch/>
        </p:blipFill>
        <p:spPr>
          <a:xfrm>
            <a:off x="1676520" y="1295280"/>
            <a:ext cx="6019560" cy="5243760"/>
          </a:xfrm>
          <a:prstGeom prst="rect">
            <a:avLst/>
          </a:prstGeom>
          <a:ln w="0">
            <a:noFill/>
          </a:ln>
        </p:spPr>
      </p:pic>
      <p:sp>
        <p:nvSpPr>
          <p:cNvPr id="2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396252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Найдите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Object 5"/>
              <p:cNvSpPr txBox="1"/>
              <p:nvPr/>
            </p:nvSpPr>
            <p:spPr>
              <a:xfrm>
                <a:off x="3657600" y="228600"/>
                <a:ext cx="3809880" cy="15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В</m:t>
                    </m:r>
                    <m:r>
                      <m:t xml:space="preserve">,</m:t>
                    </m:r>
                    <m:r>
                      <m:t xml:space="preserve">∠</m:t>
                    </m:r>
                    <m:r>
                      <m:t xml:space="preserve">А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47" name="Picture 7" descr=""/>
          <p:cNvPicPr/>
          <p:nvPr/>
        </p:nvPicPr>
        <p:blipFill>
          <a:blip r:embed="rId1"/>
          <a:stretch/>
        </p:blipFill>
        <p:spPr>
          <a:xfrm>
            <a:off x="1905120" y="1295280"/>
            <a:ext cx="5384520" cy="5410440"/>
          </a:xfrm>
          <a:prstGeom prst="rect">
            <a:avLst/>
          </a:prstGeom>
          <a:ln w="0">
            <a:noFill/>
          </a:ln>
        </p:spPr>
      </p:pic>
      <p:sp>
        <p:nvSpPr>
          <p:cNvPr id="2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1-23T11:41:22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