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AF30-7B8D-4384-AD65-FFC595E108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умма углов треугольника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шение зада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8816-9E0F-4598-9ECA-B3B88943CF0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полните тес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треугольнике АВС угол А равен 9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0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другие два уг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один острый, другой может быть прямым или тупы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ба остр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могут быть как острыми, так и тупыми или прям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E3E6-3A2E-44E6-9D7D-12DF6AE3F6E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 треугольнике АВС угол В – тупой, при этом другие два угла могут быт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только остр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стрыми и туп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острыми и прям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3CD9-24BC-4E8B-A876-D0636E7DB4D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 тупоугольном треугольнике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ямой и острый уг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тупой и прямой уг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тупой и острый уг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500B-67A3-49D9-AECF-BEC2A64CC42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остроугольном треугольнике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 углы остр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дин угол туп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один прямой уг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179B-C673-408F-9298-21829C2D8A1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 прямоугольном треугольнике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ямой и тупой уг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два прямых уг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два острых уг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89B9-2720-47F1-A3D1-D627DAFEDF2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и уро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вести понятие остроугольного, прямоугольного, тупоугольного треуг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овершенствовать навыки решения задач на применение теоремы о сумме углов треуг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A5B5-1573-4F37-9994-3F3E110966F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поугольный треуголь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дин из углов треугольника тупой, то треугольник называется тупоуго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77CA-B842-4552-996C-264875EF986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угольный треуголь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дин из углов треугольника прямой, то треугольник называется прямоуго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5BB1-49D5-4C0A-8C67-DBBD9DD71AA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рона треугольника, лежащая против прямого угла называется </a:t>
            </a:r>
            <a:r>
              <a:rPr b="1" lang="ru-RU" sz="1200" spc="-1" strike="noStrike">
                <a:solidFill>
                  <a:srgbClr val="ff66ff"/>
                </a:solidFill>
                <a:latin typeface="Calibri"/>
              </a:rPr>
              <a:t>гипотенуз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две другие называются </a:t>
            </a:r>
            <a:r>
              <a:rPr b="1" lang="ru-RU" sz="1200" spc="-1" strike="noStrike">
                <a:solidFill>
                  <a:srgbClr val="ff66ff"/>
                </a:solidFill>
                <a:latin typeface="Calibri"/>
              </a:rPr>
              <a:t>кате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E907-8228-4951-9532-B8ED9B9FA43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угольный треуголь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се три угла треугольника острые, то треугольник называется остроуго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CD39-1C64-48FB-B100-84AE9691005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ствие из теоремы о сумме углов треуголь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Докажите, что треугольник имеет хотя бы два острых уг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2AFA-7301-4018-8EEB-9F64AB6E1FF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0603-761F-4B22-B79E-C90F87D6FCE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2EA1-D824-4DE2-B53C-7A86E8BF70D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FFDB-952A-4A0E-BE47-6776A2DB3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5124-F472-4252-9F8C-D312E001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18BA-938C-4DBB-B8D9-B9A8E8EA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5953-3BF5-4431-B1FD-3396B67A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77DC-B71F-46EA-AFB1-A6900300B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1915-38F1-48C7-96B5-C7D31608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E429-0B5C-444B-8D4B-37A0A731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9F1C-28C3-48AC-8844-425E0691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23A2-B053-40A7-816C-A7E2ADC9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C4AA-9F41-4BB1-8CED-9CA6833E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776B-8737-42E1-96BD-E9200320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F533-4E10-4281-9EB4-62ECFDFF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FE87-5F8B-48B8-8F27-48096538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6547-6C95-4C3F-AFDD-251CC667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9046-8A55-4577-93CD-0FBC9779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A633-1205-439C-ACDB-ED5C45D4F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6573-9FD7-4E6D-8F28-B008D88E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BAFA-8A89-46FF-8282-A7BFABFF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B2CF-FD4C-41D2-84CF-913E4E6E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37A9-7A9F-4EAA-9D7D-D3388432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33FC-C81D-4D4D-95B5-E5369EB5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C838-9D66-47FA-9AA7-5411C747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BDE6-4571-4EF7-8E07-9147301D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6FF1-301B-4B78-8959-F0828E80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9585-EAAE-4FD2-9E1F-5F8BD32FCA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F14D-A160-4966-A463-383369CBBDB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763120" cy="3124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cecff"/>
                </a:solidFill>
                <a:latin typeface="Arial"/>
              </a:rPr>
              <a:t>Сумма углов треугольника</a:t>
            </a:r>
            <a:br>
              <a:rPr sz="5000"/>
            </a:br>
            <a:br>
              <a:rPr sz="5000"/>
            </a:br>
            <a:r>
              <a:rPr b="1" lang="ru-RU" sz="5000" spc="-1" strike="noStrike">
                <a:solidFill>
                  <a:srgbClr val="ccecff"/>
                </a:solidFill>
                <a:latin typeface="Arial"/>
              </a:rPr>
              <a:t>Решение задач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Выполните тест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 В треугольнике АВС угол А равен 90</a:t>
            </a:r>
            <a:r>
              <a:rPr b="0" lang="ru-RU" sz="4000" spc="-1" strike="noStrike" baseline="30000">
                <a:solidFill>
                  <a:srgbClr val="ffffff"/>
                </a:solidFill>
                <a:latin typeface="Arial"/>
              </a:rPr>
              <a:t>0,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 этом другие два угл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один острый, другой может быть прямым или тупым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оба остры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могут быть как острыми, так и тупыми или прямы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7"/>
              <p:cNvSpPr txBox="1"/>
              <p:nvPr/>
            </p:nvSpPr>
            <p:spPr>
              <a:xfrm>
                <a:off x="6086520" y="3938760"/>
                <a:ext cx="1158840" cy="21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066320" y="380520"/>
            <a:ext cx="762012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2. В треугольнике АВС угол В – тупой, при этом другие два угла могут быть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только острым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острыми и тупым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острыми и прямым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142640" y="1143000"/>
            <a:ext cx="7543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3. В тупоугольном треугольнике могут бы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прямой и острый углы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тупой и прямой углы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тупой и острый угл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990720" y="228600"/>
            <a:ext cx="76960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 В остроугольном треугольнике могут бы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все углы остры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один угол тупой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один прямой уго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142640" y="152280"/>
            <a:ext cx="75438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5. В прямоугольном треугольнике могут бы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прямой и тупой углы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два прямых угла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два острых угл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Цели урока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. Ввести понятие остроугольного, прямоугольного, тупоугольного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. Совершенствовать навыки решения задач на применение теоремы о сумме углов треугольн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упоугольный треуголь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один из углов треугольника тупой, то треугольник называется тупоуго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4038480" y="3048120"/>
            <a:ext cx="4800600" cy="310968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ямоугольный треуголь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один из углов треугольника прямой, то треугольник называется прямоуго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4191120" y="2743200"/>
            <a:ext cx="3962160" cy="392904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орона треугольника, лежащая против прямого угла называется </a:t>
            </a: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гипотенузо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а две другие называются </a:t>
            </a: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катет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486400" cy="452412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строугольный треуголь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все три угла треугольника острые, то треугольник называется остроуго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rcRect l="0" t="2805" r="5130" b="0"/>
          <a:stretch/>
        </p:blipFill>
        <p:spPr>
          <a:xfrm>
            <a:off x="4495680" y="2743200"/>
            <a:ext cx="3810240" cy="357192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ледствие из теоремы о сумме углов треугольни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окажите, что треугольник имеет хотя бы два острых угл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5029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йдит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4343400" y="152280"/>
                <a:ext cx="245124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t xml:space="preserve">,</m:t>
                    </m:r>
                    <m:r>
                      <m:t xml:space="preserve">∠</m:t>
                    </m:r>
                    <m:sPre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3" name="Picture 7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019560" cy="524376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962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йдит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5"/>
              <p:cNvSpPr txBox="1"/>
              <p:nvPr/>
            </p:nvSpPr>
            <p:spPr>
              <a:xfrm>
                <a:off x="3657600" y="228600"/>
                <a:ext cx="38098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В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84520" cy="541044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3T11:41:2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