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ACEA-6309-429E-A350-8F4FE7F559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умма углов треугольник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C252-F8B6-4DEC-B28C-25E05C4F8B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полните те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В треугольнике АВС угол А равен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другие два уг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дин острый, другой может быть прямым или туп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ба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могут быть как острыми, так и тупыми или пря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5EAA-27EC-4BF5-B9B5-FD6F11DC9C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 треугольнике АВС угол В – тупой, при этом другие два угла могут быть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только остр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стрыми и туп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стрыми и прям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CC91-CA39-4A7B-9ADC-EE986C8D75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туп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остры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тупой и прям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тупой и острый уг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2E0A-3A22-496B-B110-DA53C36E33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остр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 углы остры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дин угол туп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956E-C10D-4E20-BC09-362D0ACEFD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прямоугольном треугольнике могут бы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ямой и тупой уг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два прямых уг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CEFD-ED87-4730-8F60-D1F50A57ED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и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вести понятие остроугольного, прямоугольного, тупоугольного треуголь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FDF45-616B-471E-8EDE-6252BDAC95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п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тупой, то треугольник называется туп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EEC25-F88F-4D7F-BA95-5B903ACBA2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один из углов треугольника прямой, 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B1D2-E6AA-4518-8B33-FD6A64C06B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а треугольника, лежащая против прямого угла называе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две другие называются </a:t>
            </a: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атет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3BC0-7578-4C1E-BD96-50F414FBF1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угольный треуголь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се три угла треугольника острые, то треугольник называется остр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A761-6073-4915-A882-C70D19A7CC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ствие из теоремы о сумме углов треуго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Докажите, что треугольник имеет хотя бы два острых уг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3CFE-FB4B-4020-B4B6-A727484359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A949-CF68-44AE-BB68-FF876C8128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F095-F18D-4E57-A9F4-7A4B6CE9E7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FEB-6A4B-4879-9A50-5352263C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AEF0-9A41-4964-8AB9-83B926B8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A32F-D38A-4F91-A2E9-B841F2B1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F190-DE05-49F3-9602-7838D3D7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AA43-0851-4306-B911-BA731878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7944-097D-4B3A-B874-ABF78B28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3EBB-3440-4EF5-BAF6-3DCAA31B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7CB2-C5DF-4A0B-93E4-B77C68F3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6832-3D71-4D87-8967-5782AF35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4B79-E77C-45D0-855C-4AAE05D0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136D-7BFD-45AD-81A9-910789B9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684-B3DC-43D9-9A4E-C726A0A3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F6B46-1B2B-4067-B7D3-78FB081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9CB0-8A34-48C9-9A82-7ED6BE07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44FF-CC73-4BCE-8458-1787C73E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E896-BE0E-4EDF-BEA3-9D94AF98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CF89-2CAE-4F87-AE7C-2A4B63AA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302-8A43-4667-A726-363B2EB0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1F9D-ED01-4458-A0AF-BC17E09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A3D-73A6-4FD8-8F3F-CE36B8B8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5B4-2D98-47F5-842B-008CE6FE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7C8-7D3B-4132-A76B-4A982A50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C32-80BC-4207-8432-1F3C0D83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BC12-56FB-486B-A538-D7363D4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427A-93B7-4328-B1FD-0F948C30D3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0E27-B328-4451-B723-3EFA13A396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Сумма углов треугольника</a:t>
            </a:r>
            <a:br>
              <a:rPr sz="5000"/>
            </a:br>
            <a:br>
              <a:rPr sz="5000"/>
            </a:br>
            <a:r>
              <a:rPr b="1" lang="ru-RU" sz="50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Выполните тест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треугольнике АВС угол А равен 90</a:t>
            </a:r>
            <a:r>
              <a:rPr b="0" lang="ru-RU" sz="4000" spc="-1" strike="noStrike" baseline="30000">
                <a:solidFill>
                  <a:srgbClr val="ffffff"/>
                </a:solidFill>
                <a:latin typeface="Arial"/>
              </a:rPr>
              <a:t>0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 этом другие два угл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один острый, другой может быть прямым или тупы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ба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могут быть как острыми, так и тупыми или прямы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6086520" y="3938760"/>
                <a:ext cx="115884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762012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2. В треугольнике АВС угол В – тупой, при этом другие два угла могут быт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только остр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стрыми и тупым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стрыми и прямы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42640" y="1143000"/>
            <a:ext cx="7543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3. В туп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остры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тупой и прям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тупой и острый угл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90720" y="228600"/>
            <a:ext cx="76960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. В остр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все углы остры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один угол тупой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один прямой уго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142640" y="152280"/>
            <a:ext cx="75438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5. В прямоугольном треугольнике могут быть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) прямой и тупой углы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б) два прямых угла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)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Цели урок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1. Ввести понятие остроугольного, прямоугольного, тупоугольного треугольник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2. Совершенствовать навыки решения задач на применение теоремы о сумме углов треугольни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уп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тупой, то треугольник называется туп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038480" y="3048120"/>
            <a:ext cx="4800600" cy="3109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ям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один из углов треугольника прямой, то треугольник называется прям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3962160" cy="392904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орона треугольника, лежащая против прямого угла называе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гипотенузо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а две другие называются </a:t>
            </a: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катет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486400" cy="4524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строугольный треугольни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все три угла треугольника острые, то треугольник называется остроуголь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rcRect l="0" t="2805" r="5130" b="0"/>
          <a:stretch/>
        </p:blipFill>
        <p:spPr>
          <a:xfrm>
            <a:off x="4495680" y="2743200"/>
            <a:ext cx="3810240" cy="35719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ледствие из теоремы о сумме углов треугольник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кажите, что треугольник имеет хотя бы два острых уг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5029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"/>
              <p:cNvSpPr txBox="1"/>
              <p:nvPr/>
            </p:nvSpPr>
            <p:spPr>
              <a:xfrm>
                <a:off x="4343400" y="152280"/>
                <a:ext cx="24512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А</m:t>
                    </m:r>
                    <m:r>
                      <m:t xml:space="preserve">,</m:t>
                    </m:r>
                    <m:r>
                      <m:t xml:space="preserve">∠</m:t>
                    </m:r>
                    <m:sPre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3" name="Picture 7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6019560" cy="52437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962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айдит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5"/>
              <p:cNvSpPr txBox="1"/>
              <p:nvPr/>
            </p:nvSpPr>
            <p:spPr>
              <a:xfrm>
                <a:off x="3657600" y="228600"/>
                <a:ext cx="38098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В</m:t>
                    </m:r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84520" cy="541044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1:41:22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