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97E1-91CF-4C4C-BCD3-62A5C999D7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геометр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56CE-5B7B-4DB4-BF47-5D3EE26FF1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ожим на отрез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у Е такую, ч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=BE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=AE.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угольни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C тупой и поэтому больше уг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E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сторо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сторон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й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пу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три случая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по доказанному выше в пункте 2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=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тиворечит условию. Ес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только что доказали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пять противоречит условию. Остается третья возможност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ма доказ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8F54-EB77-4EFD-A7A8-8E1531F886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Расстояние от точки до плос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стоянием от точки до плоск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 наименьшему расстоянию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точек эт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EE9D-025D-4A14-A011-ED70BD8ECF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т разных точек до плос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ямая АВ пересекает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точке С. Тогда расстояния от точек А и В 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как отрезки АС и В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CC5F-125A-4673-B279-9750AB2DD1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два случая. В случае 1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находятся по одну сторону о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ортогональные проекции точек А и В на плоскость —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. Тогда пряма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ртогональной проекцией прям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проходит через точку С. В плоскости , проходящей через прям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, и поэтому их катеты пропорциональны гипотенуз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080B-CFB3-470C-8ACD-50B01F777D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я от середины отрез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до плоск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ние 2 (свойство расстояния от середины отрезка до плоск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расстояния от точек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вны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оответственно. Тогда расстояние от середины С отрезка АВ до этой плоскости рав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разные стороны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8832-A603-4908-B21C-26FB16EE1B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Теорема о трех перпендику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ерпендикуляр АВ на эту плоскость, наклонная АС, 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ортогональной проекции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она перпендикулярна и наклонной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кло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ям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2E96-2EC8-4942-B05A-23C5CCFC09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Угол между наклонной и плос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и наклонная пряма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 между наклонной и ее ортогональной проекцией на плоскост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F3F4-DA4C-4138-9C8F-09907BADBC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ерпендикуляр, наклонная и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 образ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рямоугольный 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2810-E394-468D-BA42-409175CF86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: Аверкина Т.П., учитель МОУ «Тархановская СОШ» Ичалковского района 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D1D2-F053-46B2-8A4B-5122861C7E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402-D8A2-41AD-B0F9-097AF7C882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ой проекц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фиг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ортогональных проекций на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точек этой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DEE3-041E-46DF-8747-2B92AD8B6D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через точк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надлежащую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пендикуляром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щенным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 — произвольная точка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личная от В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клонн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ой проекцие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BEB0-0623-4E75-AFEC-511285F3D6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4864-B031-4BC0-A681-D6DE64F37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ведены перпендикуля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ве наклонны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огда отрезки 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ые проекции этих отрезков на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треугольник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C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й перпендикуля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это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и проекции В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411F-6543-4578-959E-4F5D2DE012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общий кат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Если наклонн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, то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по катету и гипотенузе, и тог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=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если равны проекции 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эти же треугольники равны по двум катетам, и тогда у них равны и гипотенуз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05B8-351E-428D-802A-8850532F32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E74-2737-430C-A31B-14EE69B7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862-9498-46F5-8FFC-770F55B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217-3E36-4F94-9104-E8A2F897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8D8-16AF-422E-A3EA-4236B5E8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56F0-EF47-4495-8A53-2F7BC527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3641-26DB-43DF-B652-309A3E95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F77E-C59B-4C9E-855A-10BAAB5F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B809-E1D1-4221-B535-6BC6970E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10C5-FA11-4FF0-BE44-407FC181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9BAC-3FFF-4EBA-8132-1972DF41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9B95-73B1-457C-81C3-A80645EB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1EC-0F96-48DC-9D1E-4AF0E36D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7B19-22D5-4B5B-A7F9-E5E7715D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25C6-6C04-447B-8D84-D856C313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3B26-5C1C-4602-9F5F-BB038DA4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E22A-5644-4823-AA6C-C6337135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3ABD-8A76-4674-8BFF-11E5A520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9EE-CE79-4EF2-B6ED-F501D553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FB4-BC71-4C5D-AC3B-FF374101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5E5-AA2F-4A35-B570-DEC5F8F9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D40-58C7-4E81-AA0D-9FF45BA4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A79-7F1F-4F93-9B2D-F5D9C9C0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969-42DE-43B5-9A14-0DC16E6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D13-E8BF-409F-AD73-95E3522B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BB48-045B-4CCE-8595-CC47ADFB75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B505-4106-4FCB-8B74-D333CB56C6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LEGION</cp:lastModifiedBy>
  <dcterms:modified xsi:type="dcterms:W3CDTF">2015-01-23T11:45:02Z</dcterms:modified>
  <cp:revision>60</cp:revision>
  <dc:subject/>
  <dc:title>Перпендикуляр и наклонная</dc:title>
</cp:coreProperties>
</file>