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FA1B3-73B6-48DE-9406-4390CE7F154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пендикуляр и накло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геометрии в 10 класс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36C35-DA0A-4D05-9B41-FC887A2D3A3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Свойства ортогональной проек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ажем третье утверждение: одна наклонная длиннее другой тогда и только тогда, когда ортогональная проекция первой наклонной длиннее ортогональной проекции второй наклонной. Пусть, например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С &gt;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BD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ложим на отрезке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С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чку Е такую, что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BD=BE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гда и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D=AE.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реугольнике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СЕ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гол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EC тупой и поэтому больше угл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E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овательно, сторона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С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е стороны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Е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ной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тно, пусть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С &gt;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D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ы три случая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BC=BD;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С &lt;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BD;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)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С &gt;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BD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BC=BD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 по доказанному выше в пункте 2,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C=AD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противоречит условию. Есл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С &lt;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BD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мы только что доказали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С &lt;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D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опять противоречит условию. Остается третья возможность: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С &gt;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BD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ема доказа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D8D7D-982A-49F8-BFB4-D62AC4B9DA2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Расстояние от точки до плоск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сстоянием от точки до плоскост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не проходящей через эту точку) называется длина перпендикуляра, опущенного из точки на эту плоскость. Из теоремы о свойствах ортогональной проекции следует, что расстояние от точк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плоскост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но наименьшему расстоянию от точк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точек этой плоск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8B2C8-6608-407F-8145-EAE3D301451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Свойство расстоян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от разных точек до плоск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мечание 1 (свойство расстоянии от разных точек до плоскости). Пусть две точки А и В не принадлежат плоскост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а прямая АВ пересекает плоскость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точке С. Тогда расстояния от точек А и В до плоскост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сятся как отрезки АС и ВС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F36B4-2C6F-4763-8976-E55550187D5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казательств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им два случая. В случае 1 точк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В находятся по одну сторону от плоскост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им ортогональные проекции точек А и В на плоскость — точк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i="1" lang="ru-RU" sz="1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ветственно. Тогда прямая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ется ортогональной проекцией прямой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и проходит через точку С. В плоскости , проходящей через прямые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i="1" lang="ru-RU" sz="1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i="1" lang="ru-RU" sz="1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оугольные треугольник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обны, и поэтому их катеты пропорциональны гипотенуза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лучай 2, когда точки А и В расположены по разную сторону от плоскости, разберите самостоятельно. Замечание 1 доказа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89DC1-02F3-4A43-A931-12FC5721C20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Свойство расстояния от середины отрез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до плоск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мечание 2 (свойство расстояния от середины отрезка до плоскост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усть расстояния от точек А 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 плоскост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i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равны а 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соответственно. Тогда расстояние от середины С отрезка АВ до этой плоскости рав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сли точк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расположены по одну сторону от плоскост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i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сли точк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расположены по одну сторону от   если точки А 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расположены по разные стороны 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лоскост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чк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расположены по одну сторону от   если точки А 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расположены по одну сторону от плоскост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41677-9F21-4B29-826C-9CCF20C25CF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Теорема о трех перпендикуляр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Calibri"/>
              </a:rPr>
              <a:t>Прямая, лежащая в плоскости, перпендикулярна наклонной тогда и только тогда, когда она перпендикулярна ее ортогональной проекци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оказательство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усть даны плоскость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i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перпендикуляр АВ на эту плоскость, наклонная АС, и прямая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в плоскост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i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Нам надо доказать два взаимно обратных утверждения. Первое утверждение: если прямая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пендикулярна наклонной АС, то она перпендикулярна и ее ортогональной проекции ВС. И обратно: если прямая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пендикулярна ортогональной проекции ВС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о она перпендикулярна и наклонной А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пендикуляр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В к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плоскость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i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клонн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С 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ямая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плоскост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i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4FE40-BCA9-460A-894A-3C5E5E3F7A2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Угол между наклонной и плоск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сть даны плоскость и наклонная прямая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глом между прямой и плоскостью называется угол между прямой и ее ортогональной проекцией на эту плоскость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прямая параллельна плоскости, то угол между ней и плоскостью считается равным нулю. Если прямая перпендикулярна плоскости, то угол между ней и плоскостью прямой, т. е. равен 90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гол между наклонной и ее ортогональной проекцией на плоскость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90A71-93B6-4071-9003-74269E27ACA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Перпендикуляр, наклонная и 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ортогональная проекция образу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прямоугольный треугольни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7DA71-DE59-4AFF-BABB-E54BA44DA27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втор: Аверкина Т.П., учитель МОУ «Тархановская СОШ» Ичалковского района 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2E8E4-ED37-4FFD-BE79-80A372FCF2C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одном из предыдущих уроков вы познакомились с понятием проекции точки на данную плоскость параллельно данной прям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этом уроке вы продолжите изучение прямых и плоскостей; узнаете, как находится угол между прямой и плоскостью. Вы познакомитесь с понятием ортогональной проекции на плоскость и рассмотрите ее свойства. На уроке будут даны определения расстояния от точки до плоскости и от точки до прямой, угла между прямой и плоскостью. Будет доказана знаменитая теорема о трех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пендикуляр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1EEB4-6737-4F47-9063-C62BC73A27C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Ортогональная проек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ртогональной проекцие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чк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данную плоскость называется проекция точки на эту плоскость параллельно прямой, перпендикулярной этой плоскости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ртогональная проекция фигуры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данную плоскость p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ит из ортогональных проекций на плоскость p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х точек этой фиг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тогональная проекция часто используется для изображения пространственных тел на плоскости, особенно в технических чертежах. Она дает более реалистическое изображение, чем произвольная параллельная проекция, особенно круглых те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E85CE-E28C-413A-BDD6-97DFB81B71A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пендикуляр и накло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сть через точку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принадлежащую плоскост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роведена прямая, перпендикулярная этой плоскости и пересекающая ее в точке В. Тогда отрезок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ывается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ерпендикуляром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ущенным из точк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эту плоскость, а сама точка В — основанием этого перпендикуляра. Любой отрезок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С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де С — произвольная точка плоскост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тличная от В, называется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клонно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этой плоск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метим, что точка В в этом определении является ортогональной проекцией точк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отрезок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С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ортогональной проекцией наклонной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Ортогональные проекции обладают всеми свойствами обычных параллельных проекций, но имеют и ряд новых свой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B1AFC-C037-4689-B0CB-C430D45083D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Свойства ортогональной проек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сть из одной точки к плоскости проведены перпендикуляр и несколько наклонных. Тогда справедливы следующие утверж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      Любая наклонная длиннее как перпендикуляра, так и ортогональной проекции наклонной на эту плоск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        Равные наклонные имеют и равные ортогональные проекции, и наоборот, наклонные, имеющие равные проекции, также рав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       Одна наклонная длиннее другой тогда и только тогда, когда ортогональная проекция первой наклонной длиннее ортогональной проекции второй наклонн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919D4-DE0C-436F-84E0-60FC77704C8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Свойства ортогональной проек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казатель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сть из точк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плоскост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оведены перпендикуляр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две наклонные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С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тогда отрезки ВС и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BD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ортогональные проекции этих отрезков на плоскость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ажем первое утверждение: любая наклонная длиннее как перпендикуляра, так и ортогональной проекции наклонной на эту плоскость. Рассмотрим, например, наклонну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и треугольник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BC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ный перпендикуляром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, этой наклонной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, и ее ортогональной проекцией ВС. Этот треугольник прямоугольный с прямым углом в вершине В и гипотенузой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, которая, как мы знаем из планиметрии, длиннее каждого из катетов, т.е. и перпендикуляр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, и проекции В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5030A-815A-4E3A-827A-C908E106A29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Свойства ортогональной проек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ерь докажем второе утверждение, а именно: равные наклонные имеют и равные ортогональные проекции, и наоборот, наклонные, имеющие равные проекции, также рав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им прямоугольные треугольник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 и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BD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имеют общий катет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Если наклонные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и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D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ны, то прямоугольные треугольник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 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ны по катету и гипотенузе, и тогд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C=BD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тно, если равны проекции ВС 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D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 эти же треугольники равны по двум катетам, и тогда у них равны и гипотенузы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и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92FC3-58C3-432C-8240-BE7AAB6A32E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A203-86EF-4EA3-ABAE-2B19CDAD0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A4C9-A34D-4825-BABB-6F11C2455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4ECB-DFEF-43A1-8E2A-5DB3D102A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C9C9-72EA-4CDB-A09C-B4F437533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073CD-8D02-4D9C-8A13-C02186798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2CF33-7E95-406D-93AF-D79ACC5F0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B44B6-9FBB-470D-B3C9-E0CB252C9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F3356-75A5-4A6B-A3AB-FD70C93A5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E8765-0020-4B59-8AE5-D2B7F4FC0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3EC3F-E844-4C35-A95E-2592DF180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4F136-2D88-4BD4-BF06-C527931E2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83B5-D411-4CBC-BBA8-BF1CE6DE7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4AFC3-6F12-41A0-AC3B-0B2CF8C6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E51CE-99FB-47AA-96BD-D65AC2D1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CED8B-2744-4812-8687-3B1E8C7BE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75AF8-690B-42EA-9665-E669427D4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FC86A-6CFF-4CFC-9F3D-3579D8C67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BC7B-101A-4C4A-BADC-41320F018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B394-A479-402A-99DF-467914615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95A8-6404-41D6-96B4-6F60B4CBF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E4C7-D847-46D7-BED5-D9EAFACFC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1688-6CFA-45CA-BE8D-4B2E9615B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83AE-72DF-47D9-844D-17983ACF3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1A17-1AC2-41A8-AB3A-45AFBC3FD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71C44-A58E-43CF-A1D0-B1FAD874F87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805E4-39F3-44C9-AA76-66F113E0629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Перпендикуляр и наклонная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ок геометрии в 10 клас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1486800" y="0"/>
            <a:ext cx="654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Свойства ортогональной проек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250920" y="620640"/>
            <a:ext cx="4572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кажем третье утверждение: одна наклонная длиннее другой тогда и только тогда, когда ортогональная проекция первой наклонной длиннее ортогональной проекции второй наклонной. Пусть, например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 &g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ложим на отрезке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чку Е такую, что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=BE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гда 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D=AE.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треугольнике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СЕ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гол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EC тупой и поэтому больше угл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едовательно, сторона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С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е стороны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Е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вной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тно, пусть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С &g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D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можны три случая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C=BD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 &l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)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 &g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C=BD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 по доказанному выше в пункте 2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=AD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противоречит условию. Есл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 &l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мы только что доказали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С &l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D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опять противоречит условию. Остается третья возможность: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 &g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орема доказа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5364000" y="5013360"/>
            <a:ext cx="35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ВС больш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D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С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е стороны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Е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вной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D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7" descr=""/>
          <p:cNvPicPr/>
          <p:nvPr/>
        </p:nvPicPr>
        <p:blipFill>
          <a:blip r:embed="rId1"/>
          <a:stretch/>
        </p:blipFill>
        <p:spPr>
          <a:xfrm>
            <a:off x="4894200" y="1413000"/>
            <a:ext cx="4249800" cy="336204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6" descr=""/>
          <p:cNvPicPr/>
          <p:nvPr/>
        </p:nvPicPr>
        <p:blipFill>
          <a:blip r:embed="rId1"/>
          <a:stretch/>
        </p:blipFill>
        <p:spPr>
          <a:xfrm>
            <a:off x="5724360" y="1413000"/>
            <a:ext cx="3019680" cy="386712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7"/>
          <p:cNvSpPr/>
          <p:nvPr/>
        </p:nvSpPr>
        <p:spPr>
          <a:xfrm>
            <a:off x="1410480" y="260280"/>
            <a:ext cx="636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Расстояние от точки до плоско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684360" y="907920"/>
            <a:ext cx="4824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сстоянием от точки до плоскост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не проходящей через эту точку) называется длина перпендикуляра, опущенного из точки на эту плоскость. Из теоремы о свойствах ортогональной проекции следует, что расстояние от точк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плоскост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вно наименьшему расстоянию от точк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точек этой плоск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6"/>
          <p:cNvSpPr/>
          <p:nvPr/>
        </p:nvSpPr>
        <p:spPr>
          <a:xfrm>
            <a:off x="1120680" y="189000"/>
            <a:ext cx="5627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Свойство расстоян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от разных точек до плоск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1476360" y="1557360"/>
            <a:ext cx="6335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мечание 1 (свойство расстоянии от разных точек до плоскости). Пусть две точки А и В не принадлежат плоскост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а прямая АВ пересекает плоскост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точке С. Тогда расстояния от точек А и В до плоскост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носятся как отрезки АС и ВС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8" descr=""/>
          <p:cNvPicPr/>
          <p:nvPr/>
        </p:nvPicPr>
        <p:blipFill>
          <a:blip r:embed="rId1"/>
          <a:stretch/>
        </p:blipFill>
        <p:spPr>
          <a:xfrm>
            <a:off x="3203640" y="5229360"/>
            <a:ext cx="2520720" cy="107604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4"/>
          <p:cNvSpPr/>
          <p:nvPr/>
        </p:nvSpPr>
        <p:spPr>
          <a:xfrm>
            <a:off x="250920" y="193680"/>
            <a:ext cx="5111640" cy="61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казательств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им два случая. В случае 1 точк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В находятся по одну сторону от плоскост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им ортогональные проекции точек А и В на плоскость — точк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тветственно. Тогда прямая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вляется ортогональной проекцией прямой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и проходит через точку С. В плоскости , проходящей через прямы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ямоугольные треугольник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обны, и поэтому их катеты пропорциональны гипотенуза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"/>
          <p:cNvPicPr/>
          <p:nvPr/>
        </p:nvPicPr>
        <p:blipFill>
          <a:blip r:embed="rId1"/>
          <a:stretch/>
        </p:blipFill>
        <p:spPr>
          <a:xfrm>
            <a:off x="1116000" y="6093000"/>
            <a:ext cx="2638440" cy="73152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6"/>
          <p:cNvSpPr/>
          <p:nvPr/>
        </p:nvSpPr>
        <p:spPr>
          <a:xfrm>
            <a:off x="5724360" y="3933720"/>
            <a:ext cx="266544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ямоугольные треугольники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A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В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об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7" descr=""/>
          <p:cNvPicPr/>
          <p:nvPr/>
        </p:nvPicPr>
        <p:blipFill>
          <a:blip r:embed="rId2"/>
          <a:stretch/>
        </p:blipFill>
        <p:spPr>
          <a:xfrm>
            <a:off x="5400720" y="620640"/>
            <a:ext cx="3743280" cy="333396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8"/>
          <p:cNvSpPr/>
          <p:nvPr/>
        </p:nvSpPr>
        <p:spPr>
          <a:xfrm>
            <a:off x="5292720" y="5157720"/>
            <a:ext cx="3535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лучай 2, когда точки А и В расположены по разную сторону от плоскости, разберите самостоятельно. Замечание 1 доказа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4"/>
          <p:cNvSpPr/>
          <p:nvPr/>
        </p:nvSpPr>
        <p:spPr>
          <a:xfrm>
            <a:off x="4572000" y="141300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мечание 2 (свойство расстояния от середины отрезка до плоскост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усть расстояния от точек А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 плоскост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авны а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оответственно. Тогда расстояние от середины С отрезка АВ до этой плоскости рав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694800" y="189000"/>
            <a:ext cx="795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Свойство расстояния от середины отрез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до плоск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468360" y="5157720"/>
            <a:ext cx="324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чк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асположены по одну сторону от   если точки А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асположены по одну сторону от плоскост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7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4086360" cy="34005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"/>
          <p:cNvPicPr/>
          <p:nvPr/>
        </p:nvPicPr>
        <p:blipFill>
          <a:blip r:embed="rId2"/>
          <a:stretch/>
        </p:blipFill>
        <p:spPr>
          <a:xfrm>
            <a:off x="4716360" y="3429000"/>
            <a:ext cx="666720" cy="7430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"/>
          <p:cNvPicPr/>
          <p:nvPr/>
        </p:nvPicPr>
        <p:blipFill>
          <a:blip r:embed="rId3"/>
          <a:stretch/>
        </p:blipFill>
        <p:spPr>
          <a:xfrm>
            <a:off x="4643280" y="4797360"/>
            <a:ext cx="762120" cy="69552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10"/>
          <p:cNvSpPr/>
          <p:nvPr/>
        </p:nvSpPr>
        <p:spPr>
          <a:xfrm>
            <a:off x="5580000" y="3429000"/>
            <a:ext cx="35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ли точк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асположены по одну сторону от плоскост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1"/>
          <p:cNvSpPr/>
          <p:nvPr/>
        </p:nvSpPr>
        <p:spPr>
          <a:xfrm>
            <a:off x="5651640" y="4724280"/>
            <a:ext cx="327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ли точк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асположены по одну сторону от   если точки А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асположены по разные стороны 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оскост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4"/>
          <p:cNvSpPr/>
          <p:nvPr/>
        </p:nvSpPr>
        <p:spPr>
          <a:xfrm>
            <a:off x="3851280" y="907920"/>
            <a:ext cx="5076720" cy="50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Прямая, лежащая в плоскости, перпендикулярна наклонной тогда и только тогда, когда она перпендикулярна ее ортогональной проек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азатель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усть даны плоскость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перпендикуляр АВ на эту плоскость, наклонная АС, и пряма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 плоскост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Нам надо доказать два взаимно обратных утверждения. Первое утверждение: если пряма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пендикулярна наклонной АС, то она перпендикулярна и ее ортогональной проекции ВС. И обратно: если пряма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пендикулярна ортогональной проекции ВС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 она перпендикулярна и наклонной А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250920" y="4797360"/>
            <a:ext cx="313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пендикуляр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В к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лоскость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клон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С 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ямая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плоскост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1699200" y="0"/>
            <a:ext cx="610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Теорема о трех перпендикуляр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7" descr=""/>
          <p:cNvPicPr/>
          <p:nvPr/>
        </p:nvPicPr>
        <p:blipFill>
          <a:blip r:embed="rId1"/>
          <a:stretch/>
        </p:blipFill>
        <p:spPr>
          <a:xfrm>
            <a:off x="0" y="1341360"/>
            <a:ext cx="3781440" cy="318132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5131080" cy="53290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"/>
          <p:cNvPicPr/>
          <p:nvPr/>
        </p:nvPicPr>
        <p:blipFill>
          <a:blip r:embed="rId2"/>
          <a:stretch/>
        </p:blipFill>
        <p:spPr>
          <a:xfrm>
            <a:off x="5343480" y="981000"/>
            <a:ext cx="3800520" cy="288612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7"/>
          <p:cNvSpPr/>
          <p:nvPr/>
        </p:nvSpPr>
        <p:spPr>
          <a:xfrm>
            <a:off x="6084720" y="4005360"/>
            <a:ext cx="2854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Прямая 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m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 перпендикулярна плоскости АВС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250920" y="765000"/>
            <a:ext cx="8893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сть даны плоскость и наклонная прямая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глом между прямой и плоскостью называется угол между прямой и ее ортогональной проекцией на эту плоскость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прямая параллельна плоскости, то угол между ней и плоскостью считается равным нулю. Если прямая перпендикулярна плоскости, то угол между ней и плоскостью прямой, т. е. равен 90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1263960" y="189000"/>
            <a:ext cx="678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Угол между наклонной и плоскост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471600" y="6165720"/>
            <a:ext cx="807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гол между наклонной и ее ортогональной проекцией на плоскость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1"/>
          <a:stretch/>
        </p:blipFill>
        <p:spPr>
          <a:xfrm>
            <a:off x="1476360" y="3357720"/>
            <a:ext cx="5400720" cy="277164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5662800" cy="4032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"/>
          <p:cNvPicPr/>
          <p:nvPr/>
        </p:nvPicPr>
        <p:blipFill>
          <a:blip r:embed="rId2"/>
          <a:stretch/>
        </p:blipFill>
        <p:spPr>
          <a:xfrm>
            <a:off x="5796000" y="1052640"/>
            <a:ext cx="3348000" cy="203652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7"/>
          <p:cNvSpPr/>
          <p:nvPr/>
        </p:nvSpPr>
        <p:spPr>
          <a:xfrm>
            <a:off x="6084720" y="3068640"/>
            <a:ext cx="3348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Перпендикуляр, наклонная и 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ортогональная проекция образу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прямоугольный треугольни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84360" y="1412640"/>
            <a:ext cx="800712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втор: Аверкина Т.П., учитель МОУ «Тархановская СОШ» Ичалковского района Р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8"/>
          <p:cNvSpPr/>
          <p:nvPr/>
        </p:nvSpPr>
        <p:spPr>
          <a:xfrm>
            <a:off x="826920" y="189000"/>
            <a:ext cx="8064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одном из предыдущих уроков вы познакомились с понятием проекции точки на данную плоскость параллельно данной прям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этом уроке вы продолжите изучение прямых и плоскостей; узнаете, как находится угол между прямой и плоскостью. Вы познакомитесь с понятием ортогональной проекции на плоскость и рассмотрите ее свойства. На уроке будут даны определения расстояния от точки до плоскости и от точки до прямой, угла между прямой и плоскостью. Будет доказана знаменитая теорема о трех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пендикуляр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625320" y="266760"/>
            <a:ext cx="7894800" cy="632448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434880" y="209520"/>
            <a:ext cx="8275680" cy="644040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"/>
          <p:cNvSpPr/>
          <p:nvPr/>
        </p:nvSpPr>
        <p:spPr>
          <a:xfrm>
            <a:off x="2987640" y="476280"/>
            <a:ext cx="59403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ртогональной проекцие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чк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данную плоскость называется проекция точки на эту плоскость параллельно прямой, перпендикулярной этой плоскости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ртогональная проекция фигур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данную плоскость 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оит из ортогональных проекций на плоскость 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х точек этой фиг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тогональная проекция часто используется для изображения пространственных тел на плоскости, особенно в технических чертежах. Она дает более реалистическое изображение, чем произвольная параллельная проекция, особенно круглых т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2201760" y="65160"/>
            <a:ext cx="467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Ортогональная проек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2495520" cy="1981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"/>
          <p:cNvPicPr/>
          <p:nvPr/>
        </p:nvPicPr>
        <p:blipFill>
          <a:blip r:embed="rId2"/>
          <a:stretch/>
        </p:blipFill>
        <p:spPr>
          <a:xfrm>
            <a:off x="179280" y="3500280"/>
            <a:ext cx="2486160" cy="195264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8"/>
          <p:cNvSpPr/>
          <p:nvPr/>
        </p:nvSpPr>
        <p:spPr>
          <a:xfrm>
            <a:off x="253440" y="263700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тогональная проек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чки и фиг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253440" y="573408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тогональная проек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а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250920" y="836640"/>
            <a:ext cx="4572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через точку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принадлежащую плоскос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роведена прямая, перпендикулярная этой плоскости и пересекающая ее в точке В. Тогда отрезок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В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ывается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ерпендикуляром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ущенным из точк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эту плоскость, а сама точка В — основанием этого перпендикуляра. Любой отрезок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С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де С — произвольная точка плоскос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отличная от В, называется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клонной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этой плоск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метим, что точка В в этом определении является ортогональной проекцией точк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отрезок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С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ортогональной проекцией наклонн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. Ортогональные проекции обладают всеми свойствами обычных параллельных проекций, но имеют и ряд новых свой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1835280" y="260280"/>
            <a:ext cx="343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пендикуляр и накло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5365800" y="479736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пендикуляр и наклонна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8" descr=""/>
          <p:cNvPicPr/>
          <p:nvPr/>
        </p:nvPicPr>
        <p:blipFill>
          <a:blip r:embed="rId1"/>
          <a:stretch/>
        </p:blipFill>
        <p:spPr>
          <a:xfrm>
            <a:off x="4896000" y="1413000"/>
            <a:ext cx="4248000" cy="310500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4"/>
          <p:cNvSpPr/>
          <p:nvPr/>
        </p:nvSpPr>
        <p:spPr>
          <a:xfrm>
            <a:off x="1486800" y="189000"/>
            <a:ext cx="654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Свойства ортогональной проек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539640" y="787320"/>
            <a:ext cx="82803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усть из одной точки к плоскости проведены перпендикуляр и несколько наклонных. Тогда справедливы следующие утверж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       Любая наклонная длиннее как перпендикуляра, так и ортогональной проекции наклонной на эту плоск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         Равные наклонные имеют и равные ортогональные проекции, и наоборот, наклонные, имеющие равные проекции, также рав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        Одна наклонная длиннее другой тогда и только тогда, когда ортогональная проекция первой наклонной длиннее ортогональной проекции второй наклонн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5"/>
          <p:cNvSpPr/>
          <p:nvPr/>
        </p:nvSpPr>
        <p:spPr>
          <a:xfrm>
            <a:off x="1486800" y="189000"/>
            <a:ext cx="654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Свойства ортогональной проек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324000" y="765000"/>
            <a:ext cx="4572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казатель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из точк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плоскос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оведены перпендикуляр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В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две наклонные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С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 тогда отрезки ВС 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ортогональные проекции этих отрезков на плоскост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кажем первое утверждение: любая наклонная длиннее как перпендикуляра, так и ортогональной проекции наклонной на эту плоскость. Рассмотрим, например, наклонную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и треугольник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BC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нный перпендикуляром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, этой наклонн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, и ее ортогональной проекцией ВС. Этот треугольник прямоугольный с прямым углом в вершине В и гипотенуз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, которая, как мы знаем из планиметрии, длиннее каждого из катетов, т.е. и перпендикуляр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, и проекции В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5497560" y="4221000"/>
            <a:ext cx="3646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точки А к плоскост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ден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пендикуляр АВ и две наклонны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8" descr=""/>
          <p:cNvPicPr/>
          <p:nvPr/>
        </p:nvPicPr>
        <p:blipFill>
          <a:blip r:embed="rId1"/>
          <a:stretch/>
        </p:blipFill>
        <p:spPr>
          <a:xfrm>
            <a:off x="5364000" y="1413000"/>
            <a:ext cx="3391200" cy="257148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1486800" y="0"/>
            <a:ext cx="654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Свойства ортогональной проек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3780000" y="558720"/>
            <a:ext cx="5076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перь докажем второе утверждение, а именно: равные наклонные имеют и равные ортогональные проекции, и наоборот, наклонные, имеющие равные проекции, также рав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им прямоугольные треугольник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 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BD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и имеют общий кате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 Если наклонны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D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вны, то прямоугольные треугольник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вны по катету и гипотенузе, и тогд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=BD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тно, если равны проекции ВС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D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 эти же треугольники равны по двум катетам, и тогда у них равны и гипотенуз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684360" y="4581360"/>
            <a:ext cx="205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угольник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BC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BD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вны по катету и гипотенуз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"/>
          <p:cNvPicPr/>
          <p:nvPr/>
        </p:nvPicPr>
        <p:blipFill>
          <a:blip r:embed="rId1"/>
          <a:stretch/>
        </p:blipFill>
        <p:spPr>
          <a:xfrm>
            <a:off x="0" y="1484280"/>
            <a:ext cx="3780000" cy="289404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8T16:11:06Z</dcterms:created>
  <dc:creator>Надя</dc:creator>
  <dc:description/>
  <dc:language>en-US</dc:language>
  <cp:lastModifiedBy>LEGION</cp:lastModifiedBy>
  <dcterms:modified xsi:type="dcterms:W3CDTF">2015-01-23T11:45:02Z</dcterms:modified>
  <cp:revision>60</cp:revision>
  <dc:subject/>
  <dc:title>Перпендикуляр и наклонная</dc:title>
</cp:coreProperties>
</file>