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43D7-1F1F-4EBA-9F9B-6DD4B0C555F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пендикуляр и накл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геометрии в 10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0942-BC24-44E1-8E45-7B89881C6E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а ортогональной про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жем третье утверждение: одна наклонная длиннее другой тогда и только тогда, когда ортогональная проекция первой наклонной длиннее ортогональной проекции второй наклонной. Пусть, например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&g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ожим на отрезк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ку Е такую, что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=BE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гда 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=AE.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реугольник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Е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гол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C тупой и поэтому больше угл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E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, сторон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е стороны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Е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й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о, пусть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 &g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ы три случая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C=BD;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&l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;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)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&g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C=BD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по доказанному выше в пункте 2,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C=AD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тиворечит условию. Есл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&l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ы только что доказали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 &l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пять противоречит условию. Остается третья возможность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&g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ма доказ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9C45-7DC8-4A39-BD9C-4C767B4998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Расстояние от точки до плоск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сстоянием от точки до плоск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е проходящей через эту точку) называется длина перпендикуляра, опущенного из точки на эту плоскость. Из теоремы о свойствах ортогональной проекции следует, что расстояние от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 наименьшему расстоянию от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точек этой плоск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F76D-D718-4CC3-98FE-68AED1FDB0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о расстоя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от разных точек до плоск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чание 1 (свойство расстоянии от разных точек до плоскости). Пусть две точки А и В не принадлежат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прямая АВ пересекает плоскос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точке С. Тогда расстояния от точек А и В до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ятся как отрезки АС и ВС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38DC-79CA-480B-B8E6-92177CEBD0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казатель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два случая. В случае 1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 находятся по одну сторону от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ортогональные проекции точек А и В на плоскость —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енно. Тогда прямая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ортогональной проекцией прямо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 проходит через точку С. В плоскости , проходящей через прямы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угольные треугольник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бны, и поэтому их катеты пропорциональны гипотенуз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учай 2, когда точки А и В расположены по разную сторону от плоскости, разберите самостоятельно. Замечание 1 доказа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602A-BC84-4EFC-AD1F-DBCE083647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о расстояния от середины отрез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до плоск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мечание 2 (свойство расстояния от середины отрезка до плоскос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усть расстояния от точек А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 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вны а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оответственно. Тогда расстояние от середины С отрезка АВ до этой плоскости рав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точк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сположены по одну сторону от 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точк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сположены по одну сторону от   если точки А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сположены по разные стороны 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чк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сположены по одну сторону от   если точки А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сположены по одну сторону от 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65FF-51D5-4207-8138-A026E95805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Теорема о трех перпендикуля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Calibri"/>
              </a:rPr>
              <a:t>Прямая, лежащая в плоскости, перпендикулярна наклонной тогда и только тогда, когда она перпендикулярна ее ортогональной проекц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казательств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усть даны плоскость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перпендикуляр АВ на эту плоскость, наклонная АС, и пряма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Нам надо доказать два взаимно обратных утверждения. Первое утверждение: если пряма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пендикулярна наклонной АС, то она перпендикулярна и ее ортогональной проекции ВС. И обратно: если пряма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пендикулярна ортогональной проекции В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 она перпендикулярна и наклонной 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пендикуляр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В 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лоскость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клон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С 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яма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366A-7BF7-4091-9FE9-6A3E438BFE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Угол между наклонной и плоск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даны плоскость и наклонная прямая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глом между прямой и плоскостью называется угол между прямой и ее ортогональной проекцией на эту плоскость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ямая параллельна плоскости, то угол между ней и плоскостью считается равным нулю. Если прямая перпендикулярна плоскости, то угол между ней и плоскостью прямой, т. е. равен 90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гол между наклонной и ее ортогональной проекцией на плоскост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F3D7-481C-43AD-B974-9F8FE48704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Перпендикуляр, наклонная и 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ортогональная проекция образу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прямоугольный треуголь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7360-FE3E-4CB3-83F9-1C1DB9FD77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втор: Аверкина Т.П., учитель МОУ «Тархановская СОШ» Ичалковского района 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E28C-BD3C-42C5-A52A-E5A133720A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одном из предыдущих уроков вы познакомились с понятием проекции точки на данную плоскость параллельно данной пря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этом уроке вы продолжите изучение прямых и плоскостей; узнаете, как находится угол между прямой и плоскостью. Вы познакомитесь с понятием ортогональной проекции на плоскость и рассмотрите ее свойства. На уроке будут даны определения расстояния от точки до плоскости и от точки до прямой, угла между прямой и плоскостью. Будет доказана знаменитая теорема о трех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пендикуля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FACD-08F4-44B2-B498-6AA7F0F8DF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Ортогональная про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ртогональной проекци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анную плоскость называется проекция точки на эту плоскость параллельно прямой, перпендикулярной этой плоскости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ртогональная проекция фигур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анную плоскость 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из ортогональных проекций на плоскость 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х точек этой фиг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тогональная проекция часто используется для изображения пространственных тел на плоскости, особенно в технических чертежах. Она дает более реалистическое изображение, чем произвольная параллельная проекция, особенно круглых т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F511-EBF7-4C1C-84BF-96FD00E0D4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пендикуляр и накл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через точку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ринадлежащую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оведена прямая, перпендикулярная этой плоскости и пересекающая ее в точке В. Тогда отрезо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ыва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пендикуляром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щенным из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у плоскость, а сама точка В — основанием этого перпендикуляра. Любой отрезо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С — произвольная точка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тличная от В, называ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клонно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этой плос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тим, что точка В в этом определении является ортогональной проекцией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отрезо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ортогональной проекцией наклонно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Ортогональные проекции обладают всеми свойствами обычных параллельных проекций, но имеют и ряд новых сво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00A2-EEE5-47EE-95FC-37E45FDC99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а ортогональной про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из одной точки к плоскости проведены перпендикуляр и несколько наклонных. Тогда справедливы следующие утвер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  Любая наклонная длиннее как перпендикуляра, так и ортогональной проекции наклонной на эту плоск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   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   Одна наклонная длиннее другой тогда и только тогда, когда ортогональная проекция первой наклонной длиннее ортогональной проекции второй наклон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D2C9-612D-40DC-A428-B0CFB2F59B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а ортогональной про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казатель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из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ведены перпендикуляр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две наклонны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тогда отрезки ВС 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ортогональные проекции этих отрезков на плоскос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жем первое утверждение: любая наклонная длиннее как перпендикуляра, так и ортогональной проекции наклонной на эту плоскость. Рассмотрим, например, наклонну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и треугольник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BC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ный перпендикуляро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, этой наклонно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, и ее ортогональной проекцией ВС. Этот треугольник прямоугольный с прямым углом в вершине В и гипотенузо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, которая, как мы знаем из планиметрии, длиннее каждого из катетов, т.е. и перпендикуля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, и проекции В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F412-C8B5-470A-AE1F-0A66FAA65B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а ортогональной про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докажем второе утверждение, а именно: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прямоугольные треугольник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 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B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имеют общий кате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Если наклонны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ы, то прямоугольные треугольник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ы по катету и гипотенузе, и тогд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C=B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о, если равны проекции ВС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D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эти же треугольники равны по двум катетам, и тогда у них равны и гипотенуз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6BA7-1535-4874-9F42-542D3339D6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2D7F-D49F-4780-99C3-194FBD199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B5FA-F75E-4814-8B42-591B9172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6491-2A90-4F86-92E3-D928AAF4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FCF2-304D-46F6-8265-B47BAB9EA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B948-52B4-445D-B740-C931E98B0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8478-85E0-45E5-B933-7BEEEC5D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56E4-4419-45DC-8EC8-1407EA12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189E-EB48-49EC-8CA2-3F14E8F5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B412-F40A-46BF-B79E-6C9A6554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F334-DC89-4CFC-8BC2-DAE95C55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E061-9A78-4AD0-95B4-D5F13B6E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BB21-4614-41F8-89F3-06E101F5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61C2-8280-484A-B2BC-910A3170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82F9-D2B6-4A73-9FC1-8899EA1E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2237-76BC-4F17-9B83-AFA9743D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1333-1024-423E-998C-F3AB206B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6179-D0A4-447C-85F9-E3A0DDDD1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BCAA-C021-4F49-92BE-92F03398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72A7-8978-4B93-A2D6-263FF28F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1463-A711-485A-AFB3-956F7C64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2D26-6266-4396-BA06-391B9DF9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F741-825B-4CDC-B427-BCD3464E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6348-E54D-4A4C-B4A7-6B662AE3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480C-E4E6-40B7-B306-ECEFE60F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B534-3CDF-4E7B-8C2F-08AE57F94D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1B92-F620-4BF6-96AE-FA5162CD30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Перпендикуляр и наклонная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геометрии в 10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1486800" y="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50920" y="620640"/>
            <a:ext cx="4572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жем третье утверждение: одна наклонная длиннее другой тогда и только тогда, когда ортогональная проекция первой наклонной длиннее ортогональной проекции второй наклонной. Пусть, например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ложим на отрезк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у Е такую, что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=BE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=AE.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реугольник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гол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C тупой и поэтому больше уг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овательно, сторон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е стороны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Е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о, пуст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ы три случая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C=BD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)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C=B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по доказанному выше в пункте 2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=A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противоречит условию. Есл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мы только что доказали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опять противоречит условию. Остается третья возможность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ема доказ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5364000" y="501336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С больш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 стороны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Е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4894200" y="1413000"/>
            <a:ext cx="4249800" cy="336204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5724360" y="1413000"/>
            <a:ext cx="3019680" cy="38671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1410480" y="260280"/>
            <a:ext cx="63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Расстояние от точки до плоск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684360" y="907920"/>
            <a:ext cx="4824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стоянием от точки до плоскос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е проходящей через эту точку) называется длина перпендикуляра, опущенного из точки на эту плоскость. Из теоремы о свойствах ортогональной проекции следует, что расстояние от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 наименьшему расстоянию от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точек этой плоск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1120680" y="189000"/>
            <a:ext cx="562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о расстоя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от разных точек до плоск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1476360" y="1557360"/>
            <a:ext cx="633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чание 1 (свойство расстоянии от разных точек до плоскости). Пусть две точки А и В не принадлежат плоско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прямая АВ пересекает плоскос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точке С. Тогда расстояния от точек А и В до плоско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сятся как отрезки АС и ВС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"/>
          <p:cNvPicPr/>
          <p:nvPr/>
        </p:nvPicPr>
        <p:blipFill>
          <a:blip r:embed="rId1"/>
          <a:stretch/>
        </p:blipFill>
        <p:spPr>
          <a:xfrm>
            <a:off x="3203640" y="5229360"/>
            <a:ext cx="2520720" cy="107604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250920" y="193680"/>
            <a:ext cx="5111640" cy="61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два случая. В случае 1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 находятся по одну сторону от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ортогональные проекции точек А и В на плоскость —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енно. Тогда пряма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ортогональной проекцией прямо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 проходит через точку С. В плоскости , проходящей через прям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обны, и поэтому их катеты пропорциональны гипотенуз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1116000" y="6093000"/>
            <a:ext cx="2638440" cy="7315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6"/>
          <p:cNvSpPr/>
          <p:nvPr/>
        </p:nvSpPr>
        <p:spPr>
          <a:xfrm>
            <a:off x="5724360" y="3933720"/>
            <a:ext cx="26654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оугольные треугольник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В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об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2"/>
          <a:stretch/>
        </p:blipFill>
        <p:spPr>
          <a:xfrm>
            <a:off x="5400720" y="620640"/>
            <a:ext cx="3743280" cy="33339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8"/>
          <p:cNvSpPr/>
          <p:nvPr/>
        </p:nvSpPr>
        <p:spPr>
          <a:xfrm>
            <a:off x="5292720" y="5157720"/>
            <a:ext cx="353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учай 2, когда точки А и В расположены по разную сторону от плоскости, разберите самостоятельно. Замечание 1 доказа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4572000" y="141300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ечание 2 (свойство расстояния от середины отрезка до плоскос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сть расстояния от точек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вны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оответственно. Тогда расстояние от середины С отрезка АВ до этой плоскости рав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694800" y="189000"/>
            <a:ext cx="795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о расстояния от середины отрез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до плос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468360" y="5157720"/>
            <a:ext cx="32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  если точки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086360" cy="3400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2"/>
          <a:stretch/>
        </p:blipFill>
        <p:spPr>
          <a:xfrm>
            <a:off x="4716360" y="3429000"/>
            <a:ext cx="666720" cy="743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3"/>
          <a:stretch/>
        </p:blipFill>
        <p:spPr>
          <a:xfrm>
            <a:off x="4643280" y="4797360"/>
            <a:ext cx="762120" cy="6955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0"/>
          <p:cNvSpPr/>
          <p:nvPr/>
        </p:nvSpPr>
        <p:spPr>
          <a:xfrm>
            <a:off x="5580000" y="3429000"/>
            <a:ext cx="35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т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5651640" y="4724280"/>
            <a:ext cx="327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т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  если точки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разные стороны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3851280" y="907920"/>
            <a:ext cx="5076720" cy="50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Прямая, лежащая в плоскости, перпендикулярна наклонной тогда и только тогда, когда она перпендикулярна ее ортогональной прое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сть даны плоскос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перпендикуляр АВ на эту плоскость, наклонная АС, 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Нам надо доказать два взаимно обратных утверждения. Первое утверждение: есл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на наклонной АС, то она перпендикулярна и ее ортогональной проекции ВС. И обратно: есл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на ортогональной проекции В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она перпендикулярна и наклонной 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250920" y="4797360"/>
            <a:ext cx="313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 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лоскос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клон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С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а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1699200" y="0"/>
            <a:ext cx="610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Теорема о трех перпендикуля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"/>
          <p:cNvPicPr/>
          <p:nvPr/>
        </p:nvPicPr>
        <p:blipFill>
          <a:blip r:embed="rId1"/>
          <a:stretch/>
        </p:blipFill>
        <p:spPr>
          <a:xfrm>
            <a:off x="0" y="1341360"/>
            <a:ext cx="3781440" cy="318132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5131080" cy="5329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2"/>
          <a:stretch/>
        </p:blipFill>
        <p:spPr>
          <a:xfrm>
            <a:off x="5343480" y="981000"/>
            <a:ext cx="3800520" cy="28861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7"/>
          <p:cNvSpPr/>
          <p:nvPr/>
        </p:nvSpPr>
        <p:spPr>
          <a:xfrm>
            <a:off x="6084720" y="4005360"/>
            <a:ext cx="285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рямая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перпендикулярна плоскости АВС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250920" y="765000"/>
            <a:ext cx="88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даны плоскость и наклонная прямая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глом между прямой и плоскостью называется угол между прямой и ее ортогональной проекцией на эту плоскость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прямая параллельна плоскости, то угол между ней и плоскостью считается равным нулю. Если прямая перпендикулярна плоскости, то угол между ней и плоскостью прямой, т. е. равен 9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263960" y="189000"/>
            <a:ext cx="67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Угол между наклонной и плоск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471600" y="6165720"/>
            <a:ext cx="80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гол между наклонной и ее ортогональной проекцией на плоскост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1476360" y="3357720"/>
            <a:ext cx="5400720" cy="27716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5662800" cy="4032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"/>
          <p:cNvPicPr/>
          <p:nvPr/>
        </p:nvPicPr>
        <p:blipFill>
          <a:blip r:embed="rId2"/>
          <a:stretch/>
        </p:blipFill>
        <p:spPr>
          <a:xfrm>
            <a:off x="5796000" y="1052640"/>
            <a:ext cx="3348000" cy="20365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7"/>
          <p:cNvSpPr/>
          <p:nvPr/>
        </p:nvSpPr>
        <p:spPr>
          <a:xfrm>
            <a:off x="6084720" y="3068640"/>
            <a:ext cx="334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ерпендикуляр, наклонная и 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ртогональная проекция образу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рямоугольный треугольн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4360" y="1412640"/>
            <a:ext cx="80071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: Аверкина Т.П., учитель МОУ «Тархановская СОШ» Ичалковского района 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8"/>
          <p:cNvSpPr/>
          <p:nvPr/>
        </p:nvSpPr>
        <p:spPr>
          <a:xfrm>
            <a:off x="826920" y="189000"/>
            <a:ext cx="80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одном из предыдущих уроков вы познакомились с понятием проекции точки на данную плоскость параллельно данной пря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этом уроке вы продолжите изучение прямых и плоскостей; узнаете, как находится угол между прямой и плоскостью. Вы познакомитесь с понятием ортогональной проекции на плоскость и рассмотрите ее свойства. На уроке будут даны определения расстояния от точки до плоскости и от точки до прямой, угла между прямой и плоскостью. Будет доказана знаменитая теорема о тре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пендикуляр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25320" y="266760"/>
            <a:ext cx="7894800" cy="63244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34880" y="209520"/>
            <a:ext cx="8275680" cy="64404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2987640" y="476280"/>
            <a:ext cx="5940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тогональной проекцие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анную плоскость называется проекция точки на эту плоскость параллельно прямой, перпендикулярной этой плоскости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тогональная проекция фигур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анную плоскость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ит из ортогональных проекций на плоскость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х точек этой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тогональная проекция часто используется для изображения пространственных тел на плоскости, особенно в технических чертежах. Она дает более реалистическое изображение, чем произвольная параллельная проекция, особенно круглых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2201760" y="65160"/>
            <a:ext cx="467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Ортогональная прое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2495520" cy="1981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2486160" cy="19526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8"/>
          <p:cNvSpPr/>
          <p:nvPr/>
        </p:nvSpPr>
        <p:spPr>
          <a:xfrm>
            <a:off x="253440" y="263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тогональная прое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и и фиг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53440" y="57340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тогональная прое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250920" y="83664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через точк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ринадлежащую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ведена прямая, перпендикулярная этой плоскости и пересекающая ее в точке В. Тогда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пендикуляром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ущенным из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эту плоскость, а сама точка В — основанием этого перпендикуляра. Любой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С — произвольная точка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тличная от В, 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клонн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этой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тим, что точка В в этом определении является ортогональной проекцией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ортогональной проекцией наклонн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Ортогональные проекции обладают всеми свойствами обычных параллельных проекций, но имеют и ряд новых свой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835280" y="260280"/>
            <a:ext cx="34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 и накл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5365800" y="479736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пендикуляр и наклонн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4896000" y="1413000"/>
            <a:ext cx="4248000" cy="3105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1486800" y="18900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539640" y="787320"/>
            <a:ext cx="8280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ь из одной точки к плоскости проведены перпендикуляр и несколько наклонных. Тогда справедливы следующие утвер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       Любая наклонная длиннее как перпендикуляра, так и ортогональной проекции наклонной на эту плоск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        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        Одна наклонная длиннее другой тогда и только тогда, когда ортогональная проекция первой наклонной длиннее ортогональной проекции второй наклон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1486800" y="18900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24000" y="76500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из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ведены перпендикуляр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ве наклонны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тогда отрезки ВС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ортогональные проекции этих отрезков на плоско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жем первое утверждение: любая наклонная длиннее как перпендикуляра, так и ортогональной проекции наклонной на эту плоскость. Рассмотрим, например, наклонную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и треугольник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C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ный перпендикуляро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, этой наклонн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, и ее ортогональной проекцией ВС. Этот треугольник прямоугольный с прямым углом в вершине В и гипотенуз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, которая, как мы знаем из планиметрии, длиннее каждого из катетов, т.е. и перпендикуля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, и проекции В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5497560" y="4221000"/>
            <a:ext cx="364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точки А к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пендикуляр АВ и две наклон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391200" cy="25714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1486800" y="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3780000" y="558720"/>
            <a:ext cx="5076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ерь докажем второе утверждение, а именно: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D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имеют общий кате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Если наклонн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ы, то 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ы по катету и гипотенузе, и тог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=BD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тно, если равны проекции ВС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эти же треугольники равны по двум катетам, и тогда у них равны и гипотенуз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684360" y="458136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угольник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ы по катету и гипотенуз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0" y="1484280"/>
            <a:ext cx="3780000" cy="28940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6:11:06Z</dcterms:created>
  <dc:creator>Надя</dc:creator>
  <dc:description/>
  <dc:language>en-US</dc:language>
  <cp:lastModifiedBy>LEGION</cp:lastModifiedBy>
  <dcterms:modified xsi:type="dcterms:W3CDTF">2015-01-23T11:45:02Z</dcterms:modified>
  <cp:revision>60</cp:revision>
  <dc:subject/>
  <dc:title>Перпендикуляр и наклонная</dc:title>
</cp:coreProperties>
</file>