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6.png" ContentType="image/png"/>
  <Override PartName="/ppt/media/image15.wmf" ContentType="image/x-wmf"/>
  <Override PartName="/ppt/media/image7.gif" ContentType="image/gif"/>
  <Override PartName="/ppt/media/image14.gif" ContentType="image/gif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3.png" ContentType="image/png"/>
  <Override PartName="/ppt/media/image10.gif" ContentType="image/gif"/>
  <Override PartName="/ppt/media/image8.wmf" ContentType="image/x-wmf"/>
  <Override PartName="/ppt/media/image12.jpeg" ContentType="image/jpeg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4573-CD9D-45AE-ADE2-721CC8965F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ожно успешно использовать для активизации познавательного интереса на уроках математики в 5-6 классах при устной работе или при смены деятельности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D6CB-664C-4ECC-A9E5-7B0F7898E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3A7A-8FE6-4301-B70C-BE9479F96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D1F5-3B42-4C65-8608-56C7402C2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9342-17AE-47D6-8DDF-8D1D3A3AE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4A09-8379-4586-A27F-CD304B6B6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4CC4-E51E-4ACB-9ABE-62EA20950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5299-2B3A-4B31-BC93-E1401B4C6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CC4B-649E-48A4-9E31-5E4D040869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CDC2-A0C0-486D-B5FB-286874EFA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348E-BD18-492D-BE89-F8F80A944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0A18-5976-46B7-957D-457B206363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903A-E11D-407F-A93D-D268EF092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9E24-A8BB-4639-BF4B-E1C7017BAB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C273-5685-40FC-9F75-7377F3FA13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8C82-4819-499C-8F96-AD84ADDC23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901-4D64-48E8-9322-CD149CBD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DC8-3F6E-4368-A585-F80F76B3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ECE-3572-41B6-8D62-5B09CA6E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CFE-1E4A-4B44-B1B5-F9B49DC6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1DC-17E9-4201-A5CE-F6AC72CC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DE7-237C-4E66-B4B1-0F4F30C9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16F-7967-4C17-BE2D-65434FF1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989-365D-4BC7-BCC1-42E7D14F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0947-E731-4E8C-843F-79BEADF4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12F-4D4D-4C52-B089-B86DA8BB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3C1-3479-46D1-BAB8-0920CA84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550-9803-47CF-A0EE-D193E72B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d8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7978-9472-4891-978A-A871C0E34C5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9847-492C-463D-9AC4-D31AE56C6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32.wmf"/>
          <p:cNvPicPr/>
          <p:nvPr/>
        </p:nvPicPr>
        <p:blipFill>
          <a:blip r:embed="rId1"/>
          <a:stretch/>
        </p:blipFill>
        <p:spPr>
          <a:xfrm>
            <a:off x="5292720" y="3429000"/>
            <a:ext cx="374328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5"/>
          <p:cNvSpPr/>
          <p:nvPr/>
        </p:nvSpPr>
        <p:spPr>
          <a:xfrm>
            <a:off x="1979640" y="3645000"/>
            <a:ext cx="360036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ле 6"/>
          <p:cNvSpPr/>
          <p:nvPr/>
        </p:nvSpPr>
        <p:spPr>
          <a:xfrm>
            <a:off x="2050920" y="3860640"/>
            <a:ext cx="34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Учитель математики МОУ Рамонская СОШ №2 Корчагина Г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Рисунок1цыц"/>
          <p:cNvPicPr/>
          <p:nvPr/>
        </p:nvPicPr>
        <p:blipFill>
          <a:blip r:embed="rId2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WordArt 8"/>
          <p:cNvSpPr txBox="1"/>
          <p:nvPr/>
        </p:nvSpPr>
        <p:spPr>
          <a:xfrm>
            <a:off x="480960" y="706320"/>
            <a:ext cx="80946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ады,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граммы,логогрифы</a:t>
            </a:r>
            <a:endParaRPr b="1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таем мы направо смел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еометрическое т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чтём же справа мы налев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им разновидность д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. 4"/>
          <p:cNvSpPr/>
          <p:nvPr/>
        </p:nvSpPr>
        <p:spPr>
          <a:xfrm>
            <a:off x="468360" y="3357720"/>
            <a:ext cx="46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куб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. 5"/>
          <p:cNvSpPr/>
          <p:nvPr/>
        </p:nvSpPr>
        <p:spPr>
          <a:xfrm>
            <a:off x="539640" y="4206960"/>
            <a:ext cx="59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. 6"/>
          <p:cNvSpPr/>
          <p:nvPr/>
        </p:nvSpPr>
        <p:spPr>
          <a:xfrm>
            <a:off x="755640" y="566100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32.wmf"/>
          <p:cNvPicPr/>
          <p:nvPr/>
        </p:nvPicPr>
        <p:blipFill>
          <a:blip r:embed="rId1"/>
          <a:stretch/>
        </p:blipFill>
        <p:spPr>
          <a:xfrm>
            <a:off x="5400720" y="3357720"/>
            <a:ext cx="3743280" cy="3122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Ш» - для счёта я нуж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М» - обидчикам страшн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. 4"/>
          <p:cNvSpPr/>
          <p:nvPr/>
        </p:nvSpPr>
        <p:spPr>
          <a:xfrm>
            <a:off x="468360" y="3016440"/>
            <a:ext cx="58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К» - фигура без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«Д» - дружить с тобой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. 5"/>
          <p:cNvSpPr/>
          <p:nvPr/>
        </p:nvSpPr>
        <p:spPr>
          <a:xfrm>
            <a:off x="539640" y="3860640"/>
            <a:ext cx="43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. 6"/>
          <p:cNvSpPr/>
          <p:nvPr/>
        </p:nvSpPr>
        <p:spPr>
          <a:xfrm>
            <a:off x="468360" y="4382640"/>
            <a:ext cx="592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частливой цифру ту счит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 счете её применя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«М» вот на «Т» поменял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рыбы немало пойм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7"/>
          <p:cNvSpPr/>
          <p:nvPr/>
        </p:nvSpPr>
        <p:spPr>
          <a:xfrm>
            <a:off x="539640" y="61135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8" descr="Рисунок112"/>
          <p:cNvPicPr/>
          <p:nvPr/>
        </p:nvPicPr>
        <p:blipFill>
          <a:blip r:embed="rId1"/>
          <a:stretch/>
        </p:blipFill>
        <p:spPr>
          <a:xfrm>
            <a:off x="6012000" y="836640"/>
            <a:ext cx="2952720" cy="2604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202"/>
          <p:cNvPicPr/>
          <p:nvPr/>
        </p:nvPicPr>
        <p:blipFill>
          <a:blip r:embed="rId2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логогрифах надо догадаться, о каком слове говорится с начало. Затем в расшифрованное слово надо вставить добавочно одну или две буквыили отбросить и получится новое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. 4"/>
          <p:cNvSpPr/>
          <p:nvPr/>
        </p:nvSpPr>
        <p:spPr>
          <a:xfrm>
            <a:off x="684000" y="3053880"/>
            <a:ext cx="7463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рифметический я зн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 задачнике меня найдешь во многих стр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ишь «О» ты вставишь, зная к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я – географическая т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 плюс – п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ю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5" descr="Рисунок1вс"/>
          <p:cNvPicPr/>
          <p:nvPr/>
        </p:nvPicPr>
        <p:blipFill>
          <a:blip r:embed="rId1"/>
          <a:stretch/>
        </p:blipFill>
        <p:spPr>
          <a:xfrm>
            <a:off x="6227640" y="4292640"/>
            <a:ext cx="2660760" cy="2454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не люблю у школьника быть в дневни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Ему из-за меня вся не мила прир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внутрь меня поставить «Е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– среди женского я 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два – д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. 4"/>
          <p:cNvSpPr/>
          <p:nvPr/>
        </p:nvSpPr>
        <p:spPr>
          <a:xfrm>
            <a:off x="468360" y="395496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– цифра – меньше деся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я тебе легко най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если букве «Я» прикажешь рядом вс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се – отец и ты, и дедушка, и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емь – сем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54474"/>
          <p:cNvPicPr/>
          <p:nvPr/>
        </p:nvPicPr>
        <p:blipFill>
          <a:blip r:embed="rId1"/>
          <a:stretch/>
        </p:blipFill>
        <p:spPr>
          <a:xfrm>
            <a:off x="6012000" y="2708280"/>
            <a:ext cx="2950920" cy="2592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 важная деталь суд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без меня оно по воле ветра мч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 если букву «Б» ты вставишь внутрь мен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о я – простая денежная един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руль – ру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MONEY1.WMF"/>
          <p:cNvPicPr/>
          <p:nvPr/>
        </p:nvPicPr>
        <p:blipFill>
          <a:blip r:embed="rId1"/>
          <a:stretch/>
        </p:blipFill>
        <p:spPr>
          <a:xfrm>
            <a:off x="6316560" y="3141720"/>
            <a:ext cx="2827440" cy="33433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. 5"/>
          <p:cNvSpPr/>
          <p:nvPr/>
        </p:nvSpPr>
        <p:spPr>
          <a:xfrm>
            <a:off x="468360" y="381852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ождаюсь на мебельной фабрике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 в каждом хозяйстве нельзя без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бросишь последнюю букву мою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азванье большому числу я д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вет: 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Я с «Л» смягчённым - под землё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ваю каменный и бур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 твёрдым - в комнате тво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в геометрии фиг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. 4"/>
          <p:cNvSpPr/>
          <p:nvPr/>
        </p:nvSpPr>
        <p:spPr>
          <a:xfrm>
            <a:off x="395280" y="35002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ь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. 5"/>
          <p:cNvSpPr/>
          <p:nvPr/>
        </p:nvSpPr>
        <p:spPr>
          <a:xfrm>
            <a:off x="468360" y="4036320"/>
            <a:ext cx="56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буквой «Р» - с овцы стриг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нити прочные пря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без «Р» - нужна для счё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ифрой быть - её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ле 6"/>
          <p:cNvSpPr/>
          <p:nvPr/>
        </p:nvSpPr>
        <p:spPr>
          <a:xfrm>
            <a:off x="539640" y="5896080"/>
            <a:ext cx="39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ь - ш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7" descr="1_gif"/>
          <p:cNvPicPr/>
          <p:nvPr/>
        </p:nvPicPr>
        <p:blipFill>
          <a:blip r:embed="rId1"/>
          <a:stretch/>
        </p:blipFill>
        <p:spPr>
          <a:xfrm>
            <a:off x="7524720" y="333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54474"/>
          <p:cNvPicPr/>
          <p:nvPr/>
        </p:nvPicPr>
        <p:blipFill>
          <a:blip r:embed="rId2"/>
          <a:stretch/>
        </p:blipFill>
        <p:spPr>
          <a:xfrm>
            <a:off x="5724360" y="32130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шараде требуется отгадать определенное слово. Каждое слово отгадывается не все сразу, а по час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танце первый слог найдет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Цифра это новый слог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у, а дальше вы возьм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приставите предл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 целом – тот, кто защищ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лаву, честь страны родн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траха он в бою не зн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 в труде – труда гер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ижение в танце – «п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а может быть любая от 1 до 9 или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зможные предлоги: при, от, пере и друг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етодом подбора –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патрио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пав"/>
          <p:cNvPicPr/>
          <p:nvPr/>
        </p:nvPicPr>
        <p:blipFill>
          <a:blip r:embed="rId1"/>
          <a:stretch/>
        </p:blipFill>
        <p:spPr>
          <a:xfrm>
            <a:off x="5148360" y="2060640"/>
            <a:ext cx="3456000" cy="3198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и малое чис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 ними букву скаж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ты найдешь 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ти под домом кажд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ва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32.wmf"/>
          <p:cNvPicPr/>
          <p:nvPr/>
        </p:nvPicPr>
        <p:blipFill>
          <a:blip r:embed="rId1"/>
          <a:stretch/>
        </p:blipFill>
        <p:spPr>
          <a:xfrm>
            <a:off x="5003640" y="3284640"/>
            <a:ext cx="3743640" cy="3122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Рисунок1л"/>
          <p:cNvPicPr/>
          <p:nvPr/>
        </p:nvPicPr>
        <p:blipFill>
          <a:blip r:embed="rId2"/>
          <a:stretch/>
        </p:blipFill>
        <p:spPr>
          <a:xfrm>
            <a:off x="5796000" y="0"/>
            <a:ext cx="1952640" cy="3436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Рисунок1цыц"/>
          <p:cNvPicPr/>
          <p:nvPr/>
        </p:nvPicPr>
        <p:blipFill>
          <a:blip r:embed="rId3"/>
          <a:stretch/>
        </p:blipFill>
        <p:spPr>
          <a:xfrm>
            <a:off x="179280" y="5013360"/>
            <a:ext cx="1871640" cy="16477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исло и нота рядом с н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 букву припиши согласну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в целом – мастер есть оди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мебель делает прекрас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то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я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32.wmf"/>
          <p:cNvPicPr/>
          <p:nvPr/>
        </p:nvPicPr>
        <p:blipFill>
          <a:blip r:embed="rId1"/>
          <a:stretch/>
        </p:blipFill>
        <p:spPr>
          <a:xfrm>
            <a:off x="5148360" y="3357720"/>
            <a:ext cx="3743280" cy="3122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. 6"/>
          <p:cNvSpPr/>
          <p:nvPr/>
        </p:nvSpPr>
        <p:spPr>
          <a:xfrm>
            <a:off x="468360" y="4005360"/>
            <a:ext cx="660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ой музыкальный инстру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стоит из меры площад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узыкальной н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Ар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9" descr="Рисунок1л"/>
          <p:cNvPicPr/>
          <p:nvPr/>
        </p:nvPicPr>
        <p:blipFill>
          <a:blip r:embed="rId2"/>
          <a:stretch/>
        </p:blipFill>
        <p:spPr>
          <a:xfrm>
            <a:off x="6156360" y="333360"/>
            <a:ext cx="1952640" cy="3436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. 10"/>
          <p:cNvSpPr/>
          <p:nvPr/>
        </p:nvSpPr>
        <p:spPr>
          <a:xfrm>
            <a:off x="2411280" y="26028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"/>
              </a:rPr>
              <a:t>Шара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начале - двойка. Далее - мужчи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сокого он титула и ч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слово целиком - обознач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робящее на дозы обуч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р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. 4"/>
          <p:cNvSpPr/>
          <p:nvPr/>
        </p:nvSpPr>
        <p:spPr>
          <a:xfrm>
            <a:off x="611280" y="3786840"/>
            <a:ext cx="57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лог стоит в моём нача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конце же - загородны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целое мы все реш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у доски, и за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5"/>
          <p:cNvSpPr/>
          <p:nvPr/>
        </p:nvSpPr>
        <p:spPr>
          <a:xfrm>
            <a:off x="611280" y="5734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6" descr="cifra2"/>
          <p:cNvPicPr/>
          <p:nvPr/>
        </p:nvPicPr>
        <p:blipFill>
          <a:blip r:embed="rId1"/>
          <a:stretch/>
        </p:blipFill>
        <p:spPr>
          <a:xfrm>
            <a:off x="5508720" y="1916280"/>
            <a:ext cx="184608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Рисунок1йФ"/>
          <p:cNvPicPr/>
          <p:nvPr/>
        </p:nvPicPr>
        <p:blipFill>
          <a:blip r:embed="rId2"/>
          <a:stretch/>
        </p:blipFill>
        <p:spPr>
          <a:xfrm>
            <a:off x="7308720" y="2997360"/>
            <a:ext cx="1729080" cy="2260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doc17"/>
          <p:cNvPicPr/>
          <p:nvPr/>
        </p:nvPicPr>
        <p:blipFill>
          <a:blip r:embed="rId3"/>
          <a:stretch/>
        </p:blipFill>
        <p:spPr>
          <a:xfrm>
            <a:off x="4859280" y="4941720"/>
            <a:ext cx="208908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метаграмме зашифровано определенное слово. Его нужно отгадать. Затем в расшифрованном слове следует одну из указанных букв заменить другой буквой, и значение слова измен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. 4"/>
          <p:cNvSpPr/>
          <p:nvPr/>
        </p:nvSpPr>
        <p:spPr>
          <a:xfrm>
            <a:off x="324000" y="3583440"/>
            <a:ext cx="62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Я приношу с собою б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ица по форме искаж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 «Ф» на «П» заменишь ко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о я всего лишь знак с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 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6804000" y="3860640"/>
            <a:ext cx="1946160" cy="2549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Что это так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 - ветв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З» - костист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К» - ребристы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з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– 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Д»-деленье обесп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С «Ц»-болезни все излеч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Ответ: 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-ц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л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Рисунок1йФ"/>
          <p:cNvPicPr/>
          <p:nvPr/>
        </p:nvPicPr>
        <p:blipFill>
          <a:blip r:embed="rId1"/>
          <a:stretch/>
        </p:blipFill>
        <p:spPr>
          <a:xfrm>
            <a:off x="5940360" y="4292640"/>
            <a:ext cx="1728720" cy="2260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Рисунок1цыцвы"/>
          <p:cNvPicPr/>
          <p:nvPr/>
        </p:nvPicPr>
        <p:blipFill>
          <a:blip r:embed="rId2"/>
          <a:stretch/>
        </p:blipFill>
        <p:spPr>
          <a:xfrm rot="1860600">
            <a:off x="5508360" y="1628640"/>
            <a:ext cx="3313080" cy="2222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Д» - давно я мерой ста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Т» уж нет и выше б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. 4"/>
          <p:cNvSpPr/>
          <p:nvPr/>
        </p:nvSpPr>
        <p:spPr>
          <a:xfrm>
            <a:off x="179280" y="379260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О»-там учатся все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де «А»-приборам 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5"/>
          <p:cNvSpPr/>
          <p:nvPr/>
        </p:nvSpPr>
        <p:spPr>
          <a:xfrm>
            <a:off x="250920" y="51537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9" descr="202"/>
          <p:cNvPicPr/>
          <p:nvPr/>
        </p:nvPicPr>
        <p:blipFill>
          <a:blip r:embed="rId1"/>
          <a:stretch/>
        </p:blipFill>
        <p:spPr>
          <a:xfrm rot="190800">
            <a:off x="6372000" y="3645000"/>
            <a:ext cx="2211120" cy="2954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Рисуно"/>
          <p:cNvPicPr/>
          <p:nvPr/>
        </p:nvPicPr>
        <p:blipFill>
          <a:blip r:embed="rId2"/>
          <a:stretch/>
        </p:blipFill>
        <p:spPr>
          <a:xfrm>
            <a:off x="5724360" y="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Calibri"/>
              </a:rPr>
              <a:t>Мет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– грызун не очень мелк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бо чуть побольше бе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заменишь «У» на «О»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удет круглое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. 4"/>
          <p:cNvSpPr/>
          <p:nvPr/>
        </p:nvSpPr>
        <p:spPr>
          <a:xfrm>
            <a:off x="108000" y="3477600"/>
            <a:ext cx="58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 – с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Рисунок112"/>
          <p:cNvPicPr/>
          <p:nvPr/>
        </p:nvPicPr>
        <p:blipFill>
          <a:blip r:embed="rId1"/>
          <a:stretch/>
        </p:blipFill>
        <p:spPr>
          <a:xfrm>
            <a:off x="5796000" y="1844640"/>
            <a:ext cx="2952720" cy="26049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. 9"/>
          <p:cNvSpPr/>
          <p:nvPr/>
        </p:nvSpPr>
        <p:spPr>
          <a:xfrm>
            <a:off x="395280" y="414828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К» - для продуктов годна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«М» - для сложенья нуж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. 10"/>
          <p:cNvSpPr/>
          <p:nvPr/>
        </p:nvSpPr>
        <p:spPr>
          <a:xfrm>
            <a:off x="179280" y="5229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вет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м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1" descr="Рисунок2"/>
          <p:cNvPicPr/>
          <p:nvPr/>
        </p:nvPicPr>
        <p:blipFill>
          <a:blip r:embed="rId2"/>
          <a:stretch/>
        </p:blipFill>
        <p:spPr>
          <a:xfrm>
            <a:off x="7451640" y="5084640"/>
            <a:ext cx="1548000" cy="1511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7:58:19Z</dcterms:created>
  <dc:creator>Сорокина</dc:creator>
  <dc:description/>
  <dc:language>en-US</dc:language>
  <cp:lastModifiedBy>LEGION</cp:lastModifiedBy>
  <dcterms:modified xsi:type="dcterms:W3CDTF">2015-01-23T11:45:30Z</dcterms:modified>
  <cp:revision>40</cp:revision>
  <dc:subject/>
  <dc:title>ЗАДАЧИ   ДЛЯ   «Г И М Н А С Т И К И    У М А».</dc:title>
</cp:coreProperties>
</file>