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0FDB-1CE7-42B4-8144-473426DE58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CBCC-773A-4FE0-9543-EE1DB0CC8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ы правлен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48F-7DD4-46D4-9044-E694FFCFD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государственного устр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нитар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едера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едера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руж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объединение государств, в основе которого могут быть общие язык, прав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39DA-2CFC-4BCD-A55C-6D4D06AE54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политического реж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МОКРАТ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ТАЛ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BE5C-5FF1-46EA-8B82-DE29C35023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в тетради по тем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Государ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Конституцию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идеальное государство»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 какое он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BF1-C635-4653-8D5E-92DB9E310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Что такое государ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– главный институт власти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5D0-537D-435B-B510-81C61FA4F2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олитическая систем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45EB-29F2-44EA-8DDF-9D19CF9ED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еоретические подходы сущности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стве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о-прав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C30E-76D3-4EDD-B39E-30007507BE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знак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ерр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управления террито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полия на легальное применение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зимание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членства в государстве –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от имени общества в международных организация, перегов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ерен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02CB-5930-4ABD-8CAB-9561085F2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5D77-C7B0-43A3-8067-26692AED2B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хранительн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ционально-культу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E245-855F-4DAC-BC5D-05656908AF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2441-1FAA-47F3-B17D-701FADE651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а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5E8-199F-43C3-A217-2C8BD6732D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130-C04E-42BA-947E-74C2EED0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B6E-1054-412C-A300-95A77A82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C97-DCEA-4EE7-ABDB-3747A823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0CF-9493-4F77-B0A1-B11433B9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30F-E639-4FEC-8513-E7D13DA4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850-128E-4ECA-8C37-650E7C58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A1B-6C1E-4C34-B829-91087A3A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E96-9D06-4CA1-8D53-33EA9490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CC1-DB15-4890-A1FE-3F8BECB2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BC9-B211-47C2-AB08-EE1AADAC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C46-5D8C-4501-BA38-9C389D47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BF1-98A5-4056-8C42-BE97F08B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866A-16AE-431C-AE67-720CA21E6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равления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11280" y="1341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186920" y="1341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1341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3964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64328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28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8800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1280" y="3357720"/>
            <a:ext cx="324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бсолю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уал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211640" y="1341360"/>
            <a:ext cx="7308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3280" y="335772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резид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81200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государственно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дера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объединение государств, в основе которого могут быть общие язык, пра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812000" y="573408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2" h="21600">
                <a:moveTo>
                  <a:pt x="5789" y="10800"/>
                </a:moveTo>
                <a:lnTo>
                  <a:pt x="19802" y="3794"/>
                </a:lnTo>
                <a:lnTo>
                  <a:pt x="198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олитическ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КРАТИЧЕ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АЛ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788508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10800"/>
                </a:moveTo>
                <a:lnTo>
                  <a:pt x="19979" y="3794"/>
                </a:lnTo>
                <a:lnTo>
                  <a:pt x="19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в тетради по те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осудар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сти Конституцию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о в тетр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деальное государство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какое о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Что такое государ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060640"/>
            <a:ext cx="81360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 главный институт вл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8172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3419640" y="2852640"/>
            <a:ext cx="2592360" cy="1800360"/>
          </a:xfrm>
          <a:custGeom>
            <a:avLst/>
            <a:gdLst>
              <a:gd name="textAreaLeft" fmla="*/ 259200 w 2592360"/>
              <a:gd name="textAreaRight" fmla="*/ 2333160 w 2592360"/>
              <a:gd name="textAreaTop" fmla="*/ 1028880 h 1800360"/>
              <a:gd name="textAreaBottom" fmla="*/ 1543320 h 180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20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50872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литическая система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Теоретические подходы сущности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щественн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лассов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итико-прав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>
            <a:hlinkClick r:id="rId1" action="ppaction://hlinksldjump"/>
          </p:cNvPr>
          <p:cNvSpPr/>
          <p:nvPr/>
        </p:nvSpPr>
        <p:spPr>
          <a:xfrm>
            <a:off x="7956720" y="5877000"/>
            <a:ext cx="863280" cy="79200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43" h="21600">
                <a:moveTo>
                  <a:pt x="0" y="0"/>
                </a:moveTo>
                <a:lnTo>
                  <a:pt x="23543" y="0"/>
                </a:lnTo>
                <a:lnTo>
                  <a:pt x="23543" y="21600"/>
                </a:lnTo>
                <a:lnTo>
                  <a:pt x="0" y="21600"/>
                </a:lnTo>
                <a:close/>
              </a:path>
              <a:path fill="lightenLess" w="23543" h="21600">
                <a:moveTo>
                  <a:pt x="0" y="0"/>
                </a:moveTo>
                <a:lnTo>
                  <a:pt x="23543" y="0"/>
                </a:lnTo>
                <a:lnTo>
                  <a:pt x="22143" y="1400"/>
                </a:lnTo>
                <a:lnTo>
                  <a:pt x="1400" y="1400"/>
                </a:lnTo>
                <a:close/>
              </a:path>
              <a:path fill="darken" w="23543" h="21600">
                <a:moveTo>
                  <a:pt x="23543" y="0"/>
                </a:moveTo>
                <a:lnTo>
                  <a:pt x="23543" y="21600"/>
                </a:lnTo>
                <a:lnTo>
                  <a:pt x="22143" y="20200"/>
                </a:lnTo>
                <a:lnTo>
                  <a:pt x="22143" y="1400"/>
                </a:lnTo>
                <a:close/>
              </a:path>
              <a:path fill="darkenLess" w="23543" h="21600">
                <a:moveTo>
                  <a:pt x="23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3" y="20200"/>
                </a:lnTo>
                <a:close/>
              </a:path>
              <a:path fill="lighten" w="23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3" h="21600">
                <a:moveTo>
                  <a:pt x="4765" y="3794"/>
                </a:moveTo>
                <a:lnTo>
                  <a:pt x="18778" y="10800"/>
                </a:lnTo>
                <a:lnTo>
                  <a:pt x="47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знак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рри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управления терр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полия на легальное примене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 на взима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сть членства в государстве –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ство от имени общества в международных организация, перегов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8028000" y="5950080"/>
            <a:ext cx="865080" cy="7189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>
            <a:hlinkClick r:id="rId1" action="ppaction://hlinksldjump"/>
          </p:cNvPr>
          <p:cNvSpPr/>
          <p:nvPr/>
        </p:nvSpPr>
        <p:spPr>
          <a:xfrm>
            <a:off x="802800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храните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-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1" action="ppaction://hlinksldjump"/>
          </p:cNvPr>
          <p:cNvSpPr/>
          <p:nvPr/>
        </p:nvSpPr>
        <p:spPr>
          <a:xfrm>
            <a:off x="7812000" y="580536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956720" y="5877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7023" y="3794"/>
                </a:moveTo>
                <a:lnTo>
                  <a:pt x="21036" y="10800"/>
                </a:lnTo>
                <a:lnTo>
                  <a:pt x="70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8"/>
          <p:cNvSpPr/>
          <p:nvPr/>
        </p:nvSpPr>
        <p:spPr>
          <a:xfrm>
            <a:off x="2340000" y="1557360"/>
            <a:ext cx="4249800" cy="37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орма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11280" y="1628640"/>
            <a:ext cx="396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и как правит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365720"/>
            <a:ext cx="4321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государственного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 объединено население на территори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43280" y="4292640"/>
            <a:ext cx="4321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политического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им способом осуществляется власть в обществе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24:57Z</dcterms:created>
  <dc:creator>домашний компьютер</dc:creator>
  <dc:description/>
  <dc:language>en-US</dc:language>
  <cp:lastModifiedBy>LEGION</cp:lastModifiedBy>
  <dcterms:modified xsi:type="dcterms:W3CDTF">2014-11-10T08:45:08Z</dcterms:modified>
  <cp:revision>4</cp:revision>
  <dc:subject/>
  <dc:title>Государство</dc:title>
</cp:coreProperties>
</file>