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1AE8-C356-4199-BAF4-379B461E91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Государ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E7F0-2AAA-4C2B-88C0-641CA9DC77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ормы правления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E20C-6273-4F5B-8CC9-DD6847CB80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Формы государственного устрой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нитарно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единая структура гос.аппарата, власть главы государства на территории всей страны, единое гражданство, единая система прав, единая судебная система, одноканальная система налогов)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едератив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ва уровня гос.аппарата – федеральный и республиканский, двойное гражданство, двухканальная система налогов)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федерат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ъединение государств на договорной основе, субъекты конфедерации являются полностью самостоятельными государств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руж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объединение государств, в основе которого могут быть общие язык, права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72E4-3D24-4100-8C98-2EA7828667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Формы политического реж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МОКРАТИЧЕСК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родовластие, правило большинства, права человека, свободные и честные выборы, равенство перед законом, конституционные ограничения правительств, независимое судопроизводство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ТАЛИТАР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ираническая, диктаторская власть, тотальный контроль за поведением, деятельностью и мышлением людей, бессудные репрессии, милитаризация, внешнеполитическая агрессив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РИТАР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есткая власть, которая не покушается на основные гражданские свободы, реально принадлежит в основном одному лицу, правление осуществляется на силовой основе, выборы проводятся нерегулярно и часто фальсифицируются, СМИ не отражают весь спектр мнений различных слоев насе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C9E1-131E-4CDF-A0B0-844ABBA1B9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в тетради по тем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Государств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сти Конституцию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енно в тетрад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умеет ли человечество когда-нибудь в будущем обходиться без государства и как? Существует л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идеальное государство»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и какое он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2351-D457-4621-9E77-69FDA9A429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Что такое государ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СУДАР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сновной институт политической системы общества, организующий, направляющий и контролирующий совместную деятельность и взаимоотношения людей, групп, страт, классов, организаци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ГОСУДАРСТВО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– главный институт власти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FF3F-0DB0-4614-ADDA-47B62C48EB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Политическая система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A0AC-8AC9-48F3-BCF6-924C09F3FAA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Теоретические подходы сущности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ственн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ов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итико-право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85A6-B7E7-4261-895E-A6E6FB72C4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знак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террит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система управления территор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система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полия на легальное применение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зимание на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членства в государстве –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ство от имени общества в международных организация, перегово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ерен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0400-FBF5-4ADA-8A2C-4BF2869C6A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ункци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УТРЕН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укрепление основ власти, формирование ее органов, обеспечение суверенитета государства, политической стабильности и т.д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абота о благополучии граждан, особенно о слабо защищенных, об осуществлении их социальных прав, корректировка отрицательных последствий рыночных отношений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оздействие через законодательство, налоги и пошлины на экономическую жизнь страны, защита экономических прав гражда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1BD2-854B-4F59-9DEE-942DB9488A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ункци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охранительн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ддержание порядка в обществе, борьба с криминальными элементами, защита прав и свобод человека от преступных посягательст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существление природоохранных мероприятий, участие в разработке и финансировании программ по охране окружающей сре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ционально-культур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пособствование развитию национального самосознания и национальной культуры, организация и финансирование образования, науки, культур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2762-89D1-4DA5-BDAF-5A235F8B79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ункци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Е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на страны, развитие дипломатических отношений, экономическая, политическая и военная помощь другим странам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B1DA-F4E8-4489-AA91-F333B04851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орма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F1DB-DC3C-450F-8149-8FE62DBDED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4C3D-C92F-4654-947C-8B61149F6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66EF-A467-46C3-952F-D238812E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9CE7-0889-4B39-9B8E-C96D7F32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55F3-7E5D-48D9-9CE7-566B713A3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9FCD-6734-49C0-820C-F73B7845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60C1-F4F3-4784-AF43-1D45AE2E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D082-960D-4C64-AC3F-CC7942F7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9094-3C7E-4FF4-8050-A993A8D0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D5E1-EEED-441D-8F83-FA8A6912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81DC-8A87-4015-A7B3-E2D2B623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0EB-E017-4441-B142-571BB71B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8DC-C89B-4BDC-94AC-5718561D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B4F3-4240-4D35-9FC7-D80FD47B31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764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озн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Формы правления государ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611280" y="1341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H="1">
            <a:off x="1186920" y="1341360"/>
            <a:ext cx="792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6659640" y="1341360"/>
            <a:ext cx="649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39640" y="2133720"/>
            <a:ext cx="331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4643280" y="2133720"/>
            <a:ext cx="331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11280" y="21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АРХ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788000" y="21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611280" y="3357720"/>
            <a:ext cx="324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бсолю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Дуалис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арламен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4211640" y="1341360"/>
            <a:ext cx="73080" cy="49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643280" y="3357720"/>
            <a:ext cx="36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Президен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меш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арламен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5"/>
          <p:cNvSpPr/>
          <p:nvPr/>
        </p:nvSpPr>
        <p:spPr>
          <a:xfrm>
            <a:off x="7812000" y="566100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Формы государственного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нитарн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диная структура гос.аппарата, власть главы государства на территории всей страны, единое гражданство, единая система прав, единая судебная система, одноканальная система налогов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дератив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два уровня гос.аппарата – федеральный и республиканский, двойное гражданство, двухканальная система налогов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федерат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бъединение государств на договорной основе, субъекты конфедерации являются полностью самостоятельными государств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ружеств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объединение государств, в основе которого могут быть общие язык, права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7812000" y="5734080"/>
            <a:ext cx="936720" cy="7905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5592" h="21600">
                <a:moveTo>
                  <a:pt x="0" y="0"/>
                </a:moveTo>
                <a:lnTo>
                  <a:pt x="25592" y="0"/>
                </a:lnTo>
                <a:lnTo>
                  <a:pt x="25592" y="21600"/>
                </a:lnTo>
                <a:lnTo>
                  <a:pt x="0" y="21600"/>
                </a:lnTo>
                <a:close/>
              </a:path>
              <a:path fill="lightenLess" w="25592" h="21600">
                <a:moveTo>
                  <a:pt x="0" y="0"/>
                </a:moveTo>
                <a:lnTo>
                  <a:pt x="25592" y="0"/>
                </a:lnTo>
                <a:lnTo>
                  <a:pt x="24192" y="1400"/>
                </a:lnTo>
                <a:lnTo>
                  <a:pt x="1400" y="1400"/>
                </a:lnTo>
                <a:close/>
              </a:path>
              <a:path fill="darken" w="25592" h="21600">
                <a:moveTo>
                  <a:pt x="25592" y="0"/>
                </a:moveTo>
                <a:lnTo>
                  <a:pt x="25592" y="21600"/>
                </a:lnTo>
                <a:lnTo>
                  <a:pt x="24192" y="20200"/>
                </a:lnTo>
                <a:lnTo>
                  <a:pt x="24192" y="1400"/>
                </a:lnTo>
                <a:close/>
              </a:path>
              <a:path fill="darkenLess" w="25592" h="21600">
                <a:moveTo>
                  <a:pt x="2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2" y="20200"/>
                </a:lnTo>
                <a:close/>
              </a:path>
              <a:path fill="lighten" w="2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2" h="21600">
                <a:moveTo>
                  <a:pt x="5789" y="10800"/>
                </a:moveTo>
                <a:lnTo>
                  <a:pt x="19802" y="3794"/>
                </a:lnTo>
                <a:lnTo>
                  <a:pt x="198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Формы политического реж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КРАТИЧЕСК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родовластие, правило большинства, права человека, свободные и честные выборы, равенство перед законом, конституционные ограничения правительств, независимое судопроизводство и д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ТАЛИТАР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ираническая, диктаторская власть, тотальный контроль за поведением, деятельностью и мышлением людей, бессудные репрессии, милитаризация, внешнеполитическая агрессив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ИТАР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есткая власть, которая не покушается на основные гражданские свободы, реально принадлежит в основном одному лицу, правление осуществляется на силовой основе, выборы проводятся нерегулярно и часто фальсифицируются, СМИ не отражают весь спектр мнений различных слоев насел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7885080" y="595008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10800"/>
                </a:moveTo>
                <a:lnTo>
                  <a:pt x="19979" y="3794"/>
                </a:lnTo>
                <a:lnTo>
                  <a:pt x="19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ция в тетради по тем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осударство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обрести Конституцию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о в тетр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Сумеет ли человечество когда-нибудь в будущем обходиться без государства и как? Существует 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идеальное государство»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какое оно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Что такое государ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2060640"/>
            <a:ext cx="813600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основной институт политической системы общества, организующий, направляющий и контролирующий совместную деятельность и взаимоотношения людей, групп, страт, классов, организаций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– главный институт вла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>
            <a:hlinkClick r:id="rId1" action="ppaction://hlinksldjump"/>
          </p:cNvPr>
          <p:cNvSpPr/>
          <p:nvPr/>
        </p:nvSpPr>
        <p:spPr>
          <a:xfrm>
            <a:off x="8172360" y="5950080"/>
            <a:ext cx="792360" cy="7189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805" h="21600">
                <a:moveTo>
                  <a:pt x="0" y="0"/>
                </a:moveTo>
                <a:lnTo>
                  <a:pt x="23805" y="0"/>
                </a:lnTo>
                <a:lnTo>
                  <a:pt x="23805" y="21600"/>
                </a:lnTo>
                <a:lnTo>
                  <a:pt x="0" y="21600"/>
                </a:lnTo>
                <a:close/>
              </a:path>
              <a:path fill="lightenLess" w="23805" h="21600">
                <a:moveTo>
                  <a:pt x="0" y="0"/>
                </a:moveTo>
                <a:lnTo>
                  <a:pt x="23805" y="0"/>
                </a:lnTo>
                <a:lnTo>
                  <a:pt x="22405" y="1400"/>
                </a:lnTo>
                <a:lnTo>
                  <a:pt x="1400" y="1400"/>
                </a:lnTo>
                <a:close/>
              </a:path>
              <a:path fill="darken" w="23805" h="21600">
                <a:moveTo>
                  <a:pt x="23805" y="0"/>
                </a:moveTo>
                <a:lnTo>
                  <a:pt x="23805" y="21600"/>
                </a:lnTo>
                <a:lnTo>
                  <a:pt x="22405" y="20200"/>
                </a:lnTo>
                <a:lnTo>
                  <a:pt x="22405" y="1400"/>
                </a:lnTo>
                <a:close/>
              </a:path>
              <a:path fill="darkenLess" w="23805" h="21600">
                <a:moveTo>
                  <a:pt x="23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5" y="20200"/>
                </a:lnTo>
                <a:close/>
              </a:path>
              <a:path fill="lighten" w="23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5" h="21600">
                <a:moveTo>
                  <a:pt x="4896" y="3794"/>
                </a:moveTo>
                <a:lnTo>
                  <a:pt x="18909" y="10800"/>
                </a:lnTo>
                <a:lnTo>
                  <a:pt x="48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6"/>
          <p:cNvSpPr/>
          <p:nvPr/>
        </p:nvSpPr>
        <p:spPr>
          <a:xfrm>
            <a:off x="3419640" y="2852640"/>
            <a:ext cx="2592360" cy="1800360"/>
          </a:xfrm>
          <a:custGeom>
            <a:avLst/>
            <a:gdLst>
              <a:gd name="textAreaLeft" fmla="*/ 259200 w 2592360"/>
              <a:gd name="textAreaRight" fmla="*/ 2333160 w 2592360"/>
              <a:gd name="textAreaTop" fmla="*/ 1028880 h 1800360"/>
              <a:gd name="textAreaBottom" fmla="*/ 1543320 h 1800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771640" y="206064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СУДАР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0" y="3716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508720" y="3716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олитическая система об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>
            <a:hlinkClick r:id="rId1" action="ppaction://hlinksldjump"/>
          </p:cNvPr>
          <p:cNvSpPr/>
          <p:nvPr/>
        </p:nvSpPr>
        <p:spPr>
          <a:xfrm>
            <a:off x="8172360" y="595008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Теоретические подходы сущности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государ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бщественный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лассовый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литико-правов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>
            <a:hlinkClick r:id="rId1" action="ppaction://hlinksldjump"/>
          </p:cNvPr>
          <p:cNvSpPr/>
          <p:nvPr/>
        </p:nvSpPr>
        <p:spPr>
          <a:xfrm>
            <a:off x="7956720" y="5877000"/>
            <a:ext cx="863280" cy="792000"/>
          </a:xfrm>
          <a:custGeom>
            <a:avLst/>
            <a:gdLst>
              <a:gd name="textAreaLeft" fmla="*/ 51120 w 863280"/>
              <a:gd name="textAreaRight" fmla="*/ 812160 w 8632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43" h="21600">
                <a:moveTo>
                  <a:pt x="0" y="0"/>
                </a:moveTo>
                <a:lnTo>
                  <a:pt x="23543" y="0"/>
                </a:lnTo>
                <a:lnTo>
                  <a:pt x="23543" y="21600"/>
                </a:lnTo>
                <a:lnTo>
                  <a:pt x="0" y="21600"/>
                </a:lnTo>
                <a:close/>
              </a:path>
              <a:path fill="lightenLess" w="23543" h="21600">
                <a:moveTo>
                  <a:pt x="0" y="0"/>
                </a:moveTo>
                <a:lnTo>
                  <a:pt x="23543" y="0"/>
                </a:lnTo>
                <a:lnTo>
                  <a:pt x="22143" y="1400"/>
                </a:lnTo>
                <a:lnTo>
                  <a:pt x="1400" y="1400"/>
                </a:lnTo>
                <a:close/>
              </a:path>
              <a:path fill="darken" w="23543" h="21600">
                <a:moveTo>
                  <a:pt x="23543" y="0"/>
                </a:moveTo>
                <a:lnTo>
                  <a:pt x="23543" y="21600"/>
                </a:lnTo>
                <a:lnTo>
                  <a:pt x="22143" y="20200"/>
                </a:lnTo>
                <a:lnTo>
                  <a:pt x="22143" y="1400"/>
                </a:lnTo>
                <a:close/>
              </a:path>
              <a:path fill="darkenLess" w="23543" h="21600">
                <a:moveTo>
                  <a:pt x="23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3" y="20200"/>
                </a:lnTo>
                <a:close/>
              </a:path>
              <a:path fill="lighten" w="23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3" h="21600">
                <a:moveTo>
                  <a:pt x="4765" y="3794"/>
                </a:moveTo>
                <a:lnTo>
                  <a:pt x="18778" y="10800"/>
                </a:lnTo>
                <a:lnTo>
                  <a:pt x="47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Признак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терри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система управления терр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система зак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полия на легальное применение с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 на взимание на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ость членства в государстве –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ельство от имени общества в международных организация, перегово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веренит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>
            <a:hlinkClick r:id="rId1" action="ppaction://hlinksldjump"/>
          </p:cNvPr>
          <p:cNvSpPr/>
          <p:nvPr/>
        </p:nvSpPr>
        <p:spPr>
          <a:xfrm>
            <a:off x="8028000" y="5950080"/>
            <a:ext cx="865080" cy="71892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9" h="21600">
                <a:moveTo>
                  <a:pt x="5988" y="3794"/>
                </a:moveTo>
                <a:lnTo>
                  <a:pt x="20001" y="10800"/>
                </a:lnTo>
                <a:lnTo>
                  <a:pt x="5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ункци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УТРЕН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т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крепление основ власти, формирование ее органов, обеспечение суверенитета государства, политической стабильности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забота о благополучии граждан, особенно о слабо защищенных, об осуществлении их социальных прав, корректировка отрицательных последствий рыночных отношений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оздействие через законодательство, налоги и пошлины на экономическую жизнь страны, защита экономических прав гражда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>
            <a:hlinkClick r:id="rId1" action="ppaction://hlinksldjump"/>
          </p:cNvPr>
          <p:cNvSpPr/>
          <p:nvPr/>
        </p:nvSpPr>
        <p:spPr>
          <a:xfrm>
            <a:off x="802800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5766" y="3794"/>
                </a:moveTo>
                <a:lnTo>
                  <a:pt x="19779" y="10800"/>
                </a:lnTo>
                <a:lnTo>
                  <a:pt x="57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охранитель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ддержание порядка в обществе, борьба с криминальными элементами, защита прав и свобод человека от преступных посягатель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существление природоохранных мероприятий, участие в разработке и финансировании программ по охране окружающей сред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ционально-культур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пособствование развитию национального самосознания и национальной культуры, организация и финансирование образования, науки, культур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ункци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>
            <a:hlinkClick r:id="rId1" action="ppaction://hlinksldjump"/>
          </p:cNvPr>
          <p:cNvSpPr/>
          <p:nvPr/>
        </p:nvSpPr>
        <p:spPr>
          <a:xfrm>
            <a:off x="7812000" y="580536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3794"/>
                </a:moveTo>
                <a:lnTo>
                  <a:pt x="19773" y="10800"/>
                </a:lnTo>
                <a:lnTo>
                  <a:pt x="57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ЕШНИЕ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рона страны, развитие дипломатических отношений, экономическая, политическая и военная помощь другим страна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ункци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7956720" y="5877000"/>
            <a:ext cx="936360" cy="72072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60" h="21600">
                <a:moveTo>
                  <a:pt x="0" y="0"/>
                </a:moveTo>
                <a:lnTo>
                  <a:pt x="28060" y="0"/>
                </a:lnTo>
                <a:lnTo>
                  <a:pt x="28060" y="21600"/>
                </a:lnTo>
                <a:lnTo>
                  <a:pt x="0" y="21600"/>
                </a:lnTo>
                <a:close/>
              </a:path>
              <a:path fill="lightenLess" w="28060" h="21600">
                <a:moveTo>
                  <a:pt x="0" y="0"/>
                </a:moveTo>
                <a:lnTo>
                  <a:pt x="28060" y="0"/>
                </a:lnTo>
                <a:lnTo>
                  <a:pt x="26660" y="1400"/>
                </a:lnTo>
                <a:lnTo>
                  <a:pt x="1400" y="1400"/>
                </a:lnTo>
                <a:close/>
              </a:path>
              <a:path fill="darken" w="28060" h="21600">
                <a:moveTo>
                  <a:pt x="28060" y="0"/>
                </a:moveTo>
                <a:lnTo>
                  <a:pt x="28060" y="21600"/>
                </a:lnTo>
                <a:lnTo>
                  <a:pt x="26660" y="20200"/>
                </a:lnTo>
                <a:lnTo>
                  <a:pt x="26660" y="1400"/>
                </a:lnTo>
                <a:close/>
              </a:path>
              <a:path fill="darkenLess" w="28060" h="21600">
                <a:moveTo>
                  <a:pt x="28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0" y="20200"/>
                </a:lnTo>
                <a:close/>
              </a:path>
              <a:path fill="lighten" w="28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0" h="21600">
                <a:moveTo>
                  <a:pt x="7023" y="3794"/>
                </a:moveTo>
                <a:lnTo>
                  <a:pt x="21036" y="10800"/>
                </a:lnTo>
                <a:lnTo>
                  <a:pt x="70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8"/>
          <p:cNvSpPr/>
          <p:nvPr/>
        </p:nvSpPr>
        <p:spPr>
          <a:xfrm>
            <a:off x="2340000" y="1557360"/>
            <a:ext cx="4249800" cy="37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орма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411280" y="1628640"/>
            <a:ext cx="39610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 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то и как правит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50920" y="4365720"/>
            <a:ext cx="43210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государственного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ак объединено население на территории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643280" y="4292640"/>
            <a:ext cx="432144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политического реж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аким способом осуществляется власть в обществе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3794"/>
                </a:moveTo>
                <a:lnTo>
                  <a:pt x="19023" y="10800"/>
                </a:lnTo>
                <a:lnTo>
                  <a:pt x="50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7:24:57Z</dcterms:created>
  <dc:creator>домашний компьютер</dc:creator>
  <dc:description/>
  <dc:language>en-US</dc:language>
  <cp:lastModifiedBy>LEGION</cp:lastModifiedBy>
  <dcterms:modified xsi:type="dcterms:W3CDTF">2014-11-10T08:45:08Z</dcterms:modified>
  <cp:revision>4</cp:revision>
  <dc:subject/>
  <dc:title>Государство</dc:title>
</cp:coreProperties>
</file>