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A2D6-6D5E-41CB-BE13-3C5018F61C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474C-D64C-4BE0-AC50-D214B5FD8D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ы правлен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8880-9D5F-4F3E-9778-4801964B46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государственного устр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нитар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едера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едера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руж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объединение государств, в основе которого могут быть общие язык, прав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6FD4-E221-4605-B31D-8E207612BE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политического реж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МОКРАТ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ТАЛ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Р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7CD2-76C7-4A54-A366-DE49CCD362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в тетради по тем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Государ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Конституцию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идеальное государство»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 какое он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BA28-7248-4F74-81E6-3DB34DDFB3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Что такое государ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– главный институт власти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5590-59EE-431C-A3FA-47501EF56A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олитическая систем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658C-5150-42A6-8580-C9A1C7D83F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еоретические подходы сущности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ствен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о-прав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ECC8-6A1B-485D-906D-66C37259F8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знак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ерр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управления террито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полия на легальное применение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зимание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членства в государстве –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от имени общества в международных организация, перегов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ерен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05A1-1A4A-4FC7-A467-389CE866B0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ЕН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BC5-1C51-4209-A8A9-7EC2FEDFA9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хранительн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ционально-культу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5266-17AD-4265-BB68-A5A0DFA502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BDC8-2915-41EF-B799-E2E1C00F9E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а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9684-902C-4F85-AFEE-3246B0F727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A49-81BB-42DB-8234-C3440523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FA6-C6D1-4A34-A926-F6BBB38A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41A-7537-4E5A-9B78-ADB536A2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AB6-CDF8-4306-B1AD-2D5F009A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ED6-5869-4E35-B9AD-54EE16CE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6F4-646C-4CA1-AA82-78DCD31C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6E0-D42C-4740-85AA-816968AE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84B-403B-449B-8ED2-CB3F540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47D-C4E9-4EEB-AD5E-9DBA80D6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39D-2578-4397-AAED-6C9C39A6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724-16D5-479E-9A4C-C8BF02AA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4D3-ECCA-40FB-8112-02656451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7A6A-94F0-4A6E-9980-466D18C55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равления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11280" y="1341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1186920" y="1341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659640" y="1341360"/>
            <a:ext cx="64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3964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64328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128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78800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11280" y="3357720"/>
            <a:ext cx="324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бсолю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уал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211640" y="1341360"/>
            <a:ext cx="7308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3280" y="335772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резид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7812000" y="5661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государственно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едера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руже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объединение государств, в основе которого могут быть общие язык, пра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812000" y="573408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2" h="21600">
                <a:moveTo>
                  <a:pt x="5789" y="10800"/>
                </a:moveTo>
                <a:lnTo>
                  <a:pt x="19802" y="3794"/>
                </a:lnTo>
                <a:lnTo>
                  <a:pt x="198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олитическ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КРАТИЧЕС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АЛ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788508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10800"/>
                </a:moveTo>
                <a:lnTo>
                  <a:pt x="19979" y="3794"/>
                </a:lnTo>
                <a:lnTo>
                  <a:pt x="19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в тетради по те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осудар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сти Конституцию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о в тетр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деальное государство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какое он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Что такое государ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060640"/>
            <a:ext cx="81360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– главный институт вл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8172360" y="595008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3419640" y="2852640"/>
            <a:ext cx="2592360" cy="1800360"/>
          </a:xfrm>
          <a:custGeom>
            <a:avLst/>
            <a:gdLst>
              <a:gd name="textAreaLeft" fmla="*/ 259200 w 2592360"/>
              <a:gd name="textAreaRight" fmla="*/ 2333160 w 2592360"/>
              <a:gd name="textAreaTop" fmla="*/ 1028880 h 1800360"/>
              <a:gd name="textAreaBottom" fmla="*/ 1543320 h 180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2060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50872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литическая система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rId1" action="ppaction://hlinksldjump"/>
          </p:cNvPr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Теоретические подходы сущности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государ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щественн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лассов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итико-прав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>
            <a:hlinkClick r:id="rId1" action="ppaction://hlinksldjump"/>
          </p:cNvPr>
          <p:cNvSpPr/>
          <p:nvPr/>
        </p:nvSpPr>
        <p:spPr>
          <a:xfrm>
            <a:off x="7956720" y="5877000"/>
            <a:ext cx="863280" cy="79200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43" h="21600">
                <a:moveTo>
                  <a:pt x="0" y="0"/>
                </a:moveTo>
                <a:lnTo>
                  <a:pt x="23543" y="0"/>
                </a:lnTo>
                <a:lnTo>
                  <a:pt x="23543" y="21600"/>
                </a:lnTo>
                <a:lnTo>
                  <a:pt x="0" y="21600"/>
                </a:lnTo>
                <a:close/>
              </a:path>
              <a:path fill="lightenLess" w="23543" h="21600">
                <a:moveTo>
                  <a:pt x="0" y="0"/>
                </a:moveTo>
                <a:lnTo>
                  <a:pt x="23543" y="0"/>
                </a:lnTo>
                <a:lnTo>
                  <a:pt x="22143" y="1400"/>
                </a:lnTo>
                <a:lnTo>
                  <a:pt x="1400" y="1400"/>
                </a:lnTo>
                <a:close/>
              </a:path>
              <a:path fill="darken" w="23543" h="21600">
                <a:moveTo>
                  <a:pt x="23543" y="0"/>
                </a:moveTo>
                <a:lnTo>
                  <a:pt x="23543" y="21600"/>
                </a:lnTo>
                <a:lnTo>
                  <a:pt x="22143" y="20200"/>
                </a:lnTo>
                <a:lnTo>
                  <a:pt x="22143" y="1400"/>
                </a:lnTo>
                <a:close/>
              </a:path>
              <a:path fill="darkenLess" w="23543" h="21600">
                <a:moveTo>
                  <a:pt x="23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3" y="20200"/>
                </a:lnTo>
                <a:close/>
              </a:path>
              <a:path fill="lighten" w="23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3" h="21600">
                <a:moveTo>
                  <a:pt x="4765" y="3794"/>
                </a:moveTo>
                <a:lnTo>
                  <a:pt x="18778" y="10800"/>
                </a:lnTo>
                <a:lnTo>
                  <a:pt x="47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изнак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рри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управления терр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полия на легальное применени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 на взима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сть членства в государстве –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ство от имени общества в международных организация, перегов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1" action="ppaction://hlinksldjump"/>
          </p:cNvPr>
          <p:cNvSpPr/>
          <p:nvPr/>
        </p:nvSpPr>
        <p:spPr>
          <a:xfrm>
            <a:off x="8028000" y="5950080"/>
            <a:ext cx="865080" cy="7189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>
            <a:hlinkClick r:id="rId1" action="ppaction://hlinksldjump"/>
          </p:cNvPr>
          <p:cNvSpPr/>
          <p:nvPr/>
        </p:nvSpPr>
        <p:spPr>
          <a:xfrm>
            <a:off x="802800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охраните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о-культур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1" action="ppaction://hlinksldjump"/>
          </p:cNvPr>
          <p:cNvSpPr/>
          <p:nvPr/>
        </p:nvSpPr>
        <p:spPr>
          <a:xfrm>
            <a:off x="7812000" y="580536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ИЕ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956720" y="5877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7023" y="3794"/>
                </a:moveTo>
                <a:lnTo>
                  <a:pt x="21036" y="10800"/>
                </a:lnTo>
                <a:lnTo>
                  <a:pt x="70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8"/>
          <p:cNvSpPr/>
          <p:nvPr/>
        </p:nvSpPr>
        <p:spPr>
          <a:xfrm>
            <a:off x="2340000" y="1557360"/>
            <a:ext cx="4249800" cy="37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орма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11280" y="1628640"/>
            <a:ext cx="396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то и как правит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4365720"/>
            <a:ext cx="43210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государственного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 объединено население на территории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43280" y="4292640"/>
            <a:ext cx="43214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политического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им способом осуществляется власть в обществе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24:57Z</dcterms:created>
  <dc:creator>домашний компьютер</dc:creator>
  <dc:description/>
  <dc:language>en-US</dc:language>
  <cp:lastModifiedBy>LEGION</cp:lastModifiedBy>
  <dcterms:modified xsi:type="dcterms:W3CDTF">2014-11-10T08:45:08Z</dcterms:modified>
  <cp:revision>4</cp:revision>
  <dc:subject/>
  <dc:title>Государство</dc:title>
</cp:coreProperties>
</file>