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7DA3-A4E6-4BD5-A9A4-60F6F1F132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3B0E-4E8E-4B2F-9BBD-3F121F1007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ы правлен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DC6F-F341-4009-959E-4C01899430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государственного устр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нитар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едера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едера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руж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объединение государств, в основе которого могут быть общие язык, прав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C107-DA5C-4DF4-8CDD-1BCD40FAFA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политического реж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МОКРАТ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ТАЛ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Р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AA49-01AC-40B8-AB9A-741F9BC879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в тетради по тем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Государ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Конституцию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идеальное государство»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 какое он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8543-21FF-4A8B-BB11-3CAC8A62D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Что такое государ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– главный институт власти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87ED-47A8-4F0E-A789-A5C42143DF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олитическая систем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C2E1-7251-4DAC-BF6B-AF85D2FF91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еоретические подходы сущности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ствен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о-прав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DE1A-955D-4024-B352-9ED8759787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знак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ерр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управления террито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полия на легальное применение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зимание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членства в государстве –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от имени общества в международных организация, перегов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ерен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42E0-C117-40C5-B9AA-3FEF684A87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ЕН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96B9-E1AA-4BE2-989D-C7CDC35612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хранительн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ционально-культу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AE35-228C-479F-A82A-EF8860B435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E312-C724-4B88-80E4-7BD9C3717E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а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BC31-2899-4861-B313-032C3FC94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EB6-24E7-4CEA-AAFD-D8DD0975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009-A291-41C4-AE48-55B9ECC3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B08-DB41-4331-ACF6-93B5FEF6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78D-8772-4408-A168-0EE9CD3E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343-A0C2-49CE-8496-A1FFE7AA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B16-21E0-47FF-A52A-4F080E42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4F8-8389-422A-B321-DBA6D9EE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35F-7FDB-46D0-9BDE-97E2216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9D0-C245-401B-8FC6-557A16ED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058-2768-4D11-B8E9-E093827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410-78C1-4429-ADF9-E8EFD0E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027-A456-48AD-A17E-D489789C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CAF9-8C31-4DF8-8D78-D8D8D4F71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равления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11280" y="1341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1186920" y="1341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659640" y="1341360"/>
            <a:ext cx="64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3964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64328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128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78800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11280" y="3357720"/>
            <a:ext cx="324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бсолю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уал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211640" y="1341360"/>
            <a:ext cx="7308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3280" y="335772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резид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7812000" y="5661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государственно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едера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руже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объединение государств, в основе которого могут быть общие язык, пра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812000" y="573408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2" h="21600">
                <a:moveTo>
                  <a:pt x="5789" y="10800"/>
                </a:moveTo>
                <a:lnTo>
                  <a:pt x="19802" y="3794"/>
                </a:lnTo>
                <a:lnTo>
                  <a:pt x="198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олитическ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КРАТИЧЕС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АЛ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788508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10800"/>
                </a:moveTo>
                <a:lnTo>
                  <a:pt x="19979" y="3794"/>
                </a:lnTo>
                <a:lnTo>
                  <a:pt x="19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в тетради по те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осудар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сти Конституцию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о в тетр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деальное государство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какое он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Что такое государ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060640"/>
            <a:ext cx="81360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– главный институт вл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8172360" y="595008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3419640" y="2852640"/>
            <a:ext cx="2592360" cy="1800360"/>
          </a:xfrm>
          <a:custGeom>
            <a:avLst/>
            <a:gdLst>
              <a:gd name="textAreaLeft" fmla="*/ 259200 w 2592360"/>
              <a:gd name="textAreaRight" fmla="*/ 2333160 w 2592360"/>
              <a:gd name="textAreaTop" fmla="*/ 1028880 h 1800360"/>
              <a:gd name="textAreaBottom" fmla="*/ 1543320 h 180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2060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50872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литическая система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rId1" action="ppaction://hlinksldjump"/>
          </p:cNvPr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Теоретические подходы сущности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государ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щественн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лассов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итико-прав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>
            <a:hlinkClick r:id="rId1" action="ppaction://hlinksldjump"/>
          </p:cNvPr>
          <p:cNvSpPr/>
          <p:nvPr/>
        </p:nvSpPr>
        <p:spPr>
          <a:xfrm>
            <a:off x="7956720" y="5877000"/>
            <a:ext cx="863280" cy="79200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43" h="21600">
                <a:moveTo>
                  <a:pt x="0" y="0"/>
                </a:moveTo>
                <a:lnTo>
                  <a:pt x="23543" y="0"/>
                </a:lnTo>
                <a:lnTo>
                  <a:pt x="23543" y="21600"/>
                </a:lnTo>
                <a:lnTo>
                  <a:pt x="0" y="21600"/>
                </a:lnTo>
                <a:close/>
              </a:path>
              <a:path fill="lightenLess" w="23543" h="21600">
                <a:moveTo>
                  <a:pt x="0" y="0"/>
                </a:moveTo>
                <a:lnTo>
                  <a:pt x="23543" y="0"/>
                </a:lnTo>
                <a:lnTo>
                  <a:pt x="22143" y="1400"/>
                </a:lnTo>
                <a:lnTo>
                  <a:pt x="1400" y="1400"/>
                </a:lnTo>
                <a:close/>
              </a:path>
              <a:path fill="darken" w="23543" h="21600">
                <a:moveTo>
                  <a:pt x="23543" y="0"/>
                </a:moveTo>
                <a:lnTo>
                  <a:pt x="23543" y="21600"/>
                </a:lnTo>
                <a:lnTo>
                  <a:pt x="22143" y="20200"/>
                </a:lnTo>
                <a:lnTo>
                  <a:pt x="22143" y="1400"/>
                </a:lnTo>
                <a:close/>
              </a:path>
              <a:path fill="darkenLess" w="23543" h="21600">
                <a:moveTo>
                  <a:pt x="23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3" y="20200"/>
                </a:lnTo>
                <a:close/>
              </a:path>
              <a:path fill="lighten" w="23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3" h="21600">
                <a:moveTo>
                  <a:pt x="4765" y="3794"/>
                </a:moveTo>
                <a:lnTo>
                  <a:pt x="18778" y="10800"/>
                </a:lnTo>
                <a:lnTo>
                  <a:pt x="47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изнак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рри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управления терр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полия на легальное применени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 на взима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сть членства в государстве –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ство от имени общества в международных организация, перегов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1" action="ppaction://hlinksldjump"/>
          </p:cNvPr>
          <p:cNvSpPr/>
          <p:nvPr/>
        </p:nvSpPr>
        <p:spPr>
          <a:xfrm>
            <a:off x="8028000" y="5950080"/>
            <a:ext cx="865080" cy="7189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>
            <a:hlinkClick r:id="rId1" action="ppaction://hlinksldjump"/>
          </p:cNvPr>
          <p:cNvSpPr/>
          <p:nvPr/>
        </p:nvSpPr>
        <p:spPr>
          <a:xfrm>
            <a:off x="802800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охраните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о-культур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1" action="ppaction://hlinksldjump"/>
          </p:cNvPr>
          <p:cNvSpPr/>
          <p:nvPr/>
        </p:nvSpPr>
        <p:spPr>
          <a:xfrm>
            <a:off x="7812000" y="580536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ИЕ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956720" y="5877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7023" y="3794"/>
                </a:moveTo>
                <a:lnTo>
                  <a:pt x="21036" y="10800"/>
                </a:lnTo>
                <a:lnTo>
                  <a:pt x="70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8"/>
          <p:cNvSpPr/>
          <p:nvPr/>
        </p:nvSpPr>
        <p:spPr>
          <a:xfrm>
            <a:off x="2340000" y="1557360"/>
            <a:ext cx="4249800" cy="37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орма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11280" y="1628640"/>
            <a:ext cx="396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то и как правит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4365720"/>
            <a:ext cx="43210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государственного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 объединено население на территории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43280" y="4292640"/>
            <a:ext cx="43214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политического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им способом осуществляется власть в обществе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24:57Z</dcterms:created>
  <dc:creator>домашний компьютер</dc:creator>
  <dc:description/>
  <dc:language>en-US</dc:language>
  <cp:lastModifiedBy>LEGION</cp:lastModifiedBy>
  <dcterms:modified xsi:type="dcterms:W3CDTF">2014-11-10T08:45:08Z</dcterms:modified>
  <cp:revision>4</cp:revision>
  <dc:subject/>
  <dc:title>Государство</dc:title>
</cp:coreProperties>
</file>