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0825-A699-4511-AB35-C00CFFA8C4A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разработана учителем математики МОУ «Корниловская средняя школа» Купцовой Е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E649-694E-4203-BD5C-0CFE108DD721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ТЕОРЕМА ПИФАГО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ямоугольном треугольнике квадрат гипотенузы равен сумме квадратов кат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3629-0778-4E3B-B22A-58EEEB6433F4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 острых угл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ого треугольника равна 9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=9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+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=9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8AAA-67A6-4535-A7E1-669C3C816A32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ямоугольном равнобедренном треугольнике острые углы равны 45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 = 90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=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=45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=45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58DE-DEE5-4C97-B239-81E08A986A30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т прямоугольного треугольника, лежащий против угла в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вен половине гипотену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С=АВ/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D3D5-B1E5-46C7-A25A-EAFD44500A1B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С=АВ/2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D878-3292-4464-8621-C294E5DFC046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та прямоугольного треугольника, проведённая из вершины прямого угла, есть среднее пропорциональное для отрезков, на которые делится гипотенуза высот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6CFB-BC2D-4FEC-A003-9334B32AA0C9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т прямоугольного треугольника есть среднее пропорциональное  для гипотенузы и отрезка гипотенузы, заключённого между катетом и высотой, проведённой из вершины прямого у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68DE-A44B-45AF-9A8F-328AEF4AAA4F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ПРЯМОУГОЛЬНЫЙ </a:t>
            </a:r>
            <a:br>
              <a:rPr sz="1600"/>
            </a:b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ТРЕУГОЛЬНИК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РЕУГОЛЬНИК, В КОТОРОМ ОДИН ИЗ УГЛОВ ПРЯМОЙ (9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07A5-EFE1-4D58-B58D-AFC6D978AA96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ccff"/>
                </a:solidFill>
                <a:uFillTx/>
                <a:latin typeface="Comic Sans MS"/>
              </a:rPr>
              <a:t>СТОРОНЫ </a:t>
            </a:r>
            <a:br>
              <a:rPr sz="1600"/>
            </a:br>
            <a:r>
              <a:rPr b="1" i="1" lang="ru-RU" sz="1600" spc="-1" strike="noStrike" u="sng">
                <a:solidFill>
                  <a:srgbClr val="33ccff"/>
                </a:solidFill>
                <a:uFillTx/>
                <a:latin typeface="Comic Sans MS"/>
              </a:rPr>
              <a:t>ПРЯМОУГОЛЬНОГО ТРЕУГОЛЬН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ГИПОТЕНУ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А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КА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5219-AB23-43EA-B2DC-10FE9559D5A6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66ff"/>
                </a:solidFill>
                <a:latin typeface="Calibri"/>
              </a:rPr>
              <a:t>ПРИЗНАКИ </a:t>
            </a:r>
            <a:br>
              <a:rPr sz="1200"/>
            </a:br>
            <a:r>
              <a:rPr b="1" i="1" lang="ru-RU" sz="1200" spc="-1" strike="noStrike">
                <a:solidFill>
                  <a:srgbClr val="6666ff"/>
                </a:solidFill>
                <a:latin typeface="Calibri"/>
              </a:rPr>
              <a:t>РАВЕНСТВА ПРЯМОУГОЛЬНЫХ ТРЕУГ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EA73-9B19-4126-91A4-81A193BDD212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Если катеты одного прямоугольного треугольника соответственно равны катетам другого прямоугольного треугольника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6BD4-C9B3-4878-BB4E-80C57C3DF3B1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Если катет и прилежащий к нему острый угол одного прямоугольного треугольника соответственно равны катету и прилежащему к нему острому углу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4F8A-13DA-4040-B6BE-2BB5E93D3664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Если гипотенуза и острый угол одного прямоугольного треугольника соответственно равны гипотенузе и острому углу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4FEA-90A0-4B1F-9ACB-0A4CED6DB866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Если гипотенуза и катет одного прямоугольного треугольника соответственно равны гипотенузе и катету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6278-E598-47B3-B529-372B8EAF5FF9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КОТОРЫЕ СВОЙСТВА 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ПРЯМОУГОЛЬНО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ТРЕУГ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82A8-EBF0-402C-91E3-16CE5F5933C9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0952-189C-41BB-9123-C52A4798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D61F-72C3-498B-BE76-391EE1F0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54ED0-2E66-47D9-99F5-496F9FF1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7DE16-BA42-487A-9FB5-0BCD7EE1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56EF6-FA71-4AAC-8C21-EDCBE2B4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2C754-40D5-4BDD-9550-1E99BF5C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80C62-2A43-46EC-99E0-AFC4D6B1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18011-F387-48F8-9B8C-831953A2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9CEDE-602A-419D-9288-F8129FC0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F5F91-8AD2-405E-9EB1-27A6EA10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4A535-941A-47D2-BB12-8767ABD9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742BC-A6D8-465B-81FE-95187619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3223-E1AA-4B89-A10B-C3235589D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F4130-9923-4793-87DA-969440A4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6D1B5-5775-497E-AC73-352A4D1C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E46E2-1C40-4CC2-8F75-C0A17E96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46E9D-AE46-4D98-BFBD-A008E216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511F2-DEDB-48A9-AFB7-84636793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1B1E0-7FCA-46DC-A210-307C3BCB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1CA4A-B9EE-4830-9BF6-E1379FB7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C278E-9AE7-475D-AAF8-E4E3608B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60E23-AA07-4EB0-A9A3-4D34EC93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D87C3-BF55-4956-BE1E-534ADFCF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F775-95C5-4269-9F81-D328C4E7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6A60D-4421-4DD1-88B7-F8BECF9A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0CCB-1A43-4D82-B762-76991BF0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2A52-17A9-4ADF-875D-DBF79389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0ED6-60DA-4ECE-9934-375C1764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C834-2593-46C1-8821-D0172574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EFC5-0F51-4DAF-8797-84E96491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4EC8-5823-48B7-88BB-A1F8428A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B41B-8893-46BB-BF4C-9C372F6E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B1E2-6311-4C09-971E-BEDC3FC9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66C0-8B92-4993-BCE0-4DB0857E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5833-D141-4EB3-8416-241BF9C4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E22F-04B4-4C68-A40B-6189BFCC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B48F-C260-4A6A-A64B-3E9DF083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1507-CDE7-4C1D-9BEA-FED0ECCA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10F16-0D53-4A11-A259-CF56A316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0E1C9-0F51-4B0B-9E89-72C417E1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174CE-2F52-4DF2-A2C4-6FB0327C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5A713-B0E2-4E36-B942-C8932CC9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6C6C5-0720-46A2-8DA1-EF639CA9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3E21-86CD-4CE4-B758-9CBDCEF5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9312A-F54A-429D-94E0-66CEC670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2A3A2-764D-4A99-904A-7ABDFA8C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4604E-9EFE-4A28-BF92-60A02B79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574E5-90BD-4A87-84B4-9DDAB834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51574-E18C-4100-A755-375B994D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EF8F3-54DD-4EDF-A971-387F2F87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FCE87-7D06-472F-9731-BEDCDDC0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3DC3E-C6D2-44A4-AD2B-37B53E43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3A0D3-93CF-44FE-B15A-1C77FDA0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C21C9-41C9-4FE5-97C5-42FB230D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0709-5793-4009-9455-05E7EEB1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6FC20-CE89-4351-A83E-8A642E04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5EA0B-CEE9-4ADB-9BF0-889569B3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04FE2-AD6A-4021-AC96-FB19FE73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A961E-C3D1-4478-88F8-4F508B6C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50FA1-7156-4049-B092-D913CDC9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7E82D-347C-40C4-A200-2C0A746E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39694-8949-4699-AE98-6BE83159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A4955-BF29-4D98-A57F-B8B8B07D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51356-0D5C-4801-B8B1-8790FA44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42A44D-D601-4EF1-9ADA-5262F023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7E36-07C4-4CA9-9C11-18188CAF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D25622-E105-4137-86BA-A975D541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0BF357-4559-47D8-A42C-28C83E5D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0BD8F4-504E-4A29-96E4-B7B2EEC3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FA3AB7-94C8-431A-A682-9EFB257A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91369D-4228-4EDC-AA56-44774793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0EF68D-2F3B-41D4-822B-E62AD2EE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8A0D46-DC20-4C9F-A2EB-D2DE2D37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7A90AE-FF2C-4B07-A96A-B7D54575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5E2F93-45C2-42BC-8116-1B37FF54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5188D1-2A68-43A7-9133-7581BB3B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3303-BC93-4784-A440-6F69B6CF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ABCF0C-F8D3-4DF5-867B-1E4A2F5D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D0F72-01BC-45FA-B782-7C404AB9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84A10-F890-4F39-8023-7CCA59FE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4EB77-6E4D-4406-9F55-480C4229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1D500-7137-4070-8A60-B1B81E31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77774-A055-4650-810A-3EBA3069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54315-8D2C-4C11-823C-33A50F72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72C58-6763-44B5-BE37-A5DDB841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998E5-9E78-48F4-AEC2-FCEC4065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9F02A-240A-4498-A3E6-B3C87AB1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5B55-7479-4759-82DD-14F069D4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56949-EE16-425F-94A8-45F5618C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2C458-E357-4A51-9014-9295E147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04680-CC92-44FC-9DA8-083A8BB1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64937-DB9D-4920-B78D-5148AC93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B6E8A-8D95-4753-A9E9-06A2460C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DF39C-8859-4C71-9341-01612AFF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3A56E-DBB6-4FF0-A8ED-F5C835DC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EA604-8089-4AD8-BFC4-C74CA6EE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01EF5-7AF0-4CDD-966F-0108FC73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E21F6-75E9-425D-A090-93CD0A20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0F87-EDA7-4ADA-AE48-95391983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7A896-D87C-4A96-976E-0771F1FF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DB6C1-3BA5-4F75-A76E-0DA31526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1176B-7171-47F9-A09A-77F096FA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DAA07-D7F1-45C9-A5EE-81306B12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A8123-19A1-47CE-8F6E-BEAFA061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2BA8E-8D12-4C0B-9601-FD5F0C94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E48CF-AB3F-425A-BB3B-961D0B4B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888F8-F767-4DF8-90EC-85018B55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DAED0-1DDA-4068-8291-D86E98AB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90EE5-EDB5-41C1-8EDB-06134111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3B77-5291-47F3-8B47-03B686D2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249FA-9FB6-46CD-9DB9-D4E5F0EF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ED94D-F3A4-44C1-B175-66A60A18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EFCA9-3C81-4ABA-AD51-6D88FE06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D12E7-8B9D-4D89-B9BF-B76D1E91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A8069-916D-46C2-AA50-F616FD47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46978-F48F-4A5D-AFF7-E7964A73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83722-0614-4C2C-BA89-03E97DB0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235DB-64D7-492D-9E23-86E6220C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9818C-254E-4C1D-BF0A-F59531C5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698AC-E07C-4909-A44D-0F8C1B35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82E0-4C31-480C-B81E-5A41C77DEF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43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43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5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5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45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3C76-6186-4B0B-ACFC-BD8E346714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0781-C593-4FEF-B34A-927C9FDE8B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grpSp>
          <p:nvGrpSpPr>
            <p:cNvPr id="9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9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188E-B094-4F36-9E95-D15F3AC4719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791F-3848-4974-92B1-1E5888D4D4F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02B3-C4CF-4CBA-9A49-41CBF3CA25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193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94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7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8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9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0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1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2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3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4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5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6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207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245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46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47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48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1C16-AF94-4DDF-947F-DD46E89636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29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9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9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94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F918-0E2E-4F55-AF4E-F25F38720E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3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grpSp>
          <p:nvGrpSpPr>
            <p:cNvPr id="33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3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4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4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  <p:grpSp>
          <p:nvGrpSpPr>
            <p:cNvPr id="34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4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4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69FE-898D-435F-A22E-AA61DF013FB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87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388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89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  <p:grpSp>
          <p:nvGrpSpPr>
            <p:cNvPr id="390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391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92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  <p:sp>
          <p:nvSpPr>
            <p:cNvPr id="393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C9F2-047D-44DC-B693-61F4EEA6449F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AutoShape 11"/>
          <p:cNvSpPr/>
          <p:nvPr/>
        </p:nvSpPr>
        <p:spPr>
          <a:xfrm rot="10800000">
            <a:off x="539280" y="1915920"/>
            <a:ext cx="8209080" cy="367344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2" name="Text Box 12"/>
          <p:cNvSpPr/>
          <p:nvPr/>
        </p:nvSpPr>
        <p:spPr>
          <a:xfrm>
            <a:off x="2700360" y="2133720"/>
            <a:ext cx="644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ПРЯМОУГОЛЬНЫЙ ТРЕУГОЛЬНИК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14200" y="5143680"/>
            <a:ext cx="578664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ентация разработана учителем математики МОУ «Корниловская средняя школа» Купцовой Е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 u="sng">
                <a:solidFill>
                  <a:srgbClr val="6a4076"/>
                </a:solidFill>
                <a:uFillTx/>
                <a:latin typeface="Comic Sans MS"/>
              </a:rPr>
              <a:t>ТЕОРЕМА ПИФАГОРА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633564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рямоугольном треугольнике квадрат гипотенузы равен сумме квадратов кате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AutoShape 4"/>
          <p:cNvSpPr/>
          <p:nvPr/>
        </p:nvSpPr>
        <p:spPr>
          <a:xfrm>
            <a:off x="4572000" y="3284640"/>
            <a:ext cx="3529080" cy="273816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7710480" y="573408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3924360" y="587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6" name="Line 7"/>
          <p:cNvSpPr/>
          <p:nvPr/>
        </p:nvSpPr>
        <p:spPr>
          <a:xfrm>
            <a:off x="4572000" y="5805360"/>
            <a:ext cx="352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7" name="Line 8"/>
          <p:cNvSpPr/>
          <p:nvPr/>
        </p:nvSpPr>
        <p:spPr>
          <a:xfrm>
            <a:off x="4932360" y="5805360"/>
            <a:ext cx="32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8" name="Rectangle 9"/>
          <p:cNvSpPr/>
          <p:nvPr/>
        </p:nvSpPr>
        <p:spPr>
          <a:xfrm flipV="1" rot="10800000">
            <a:off x="4065120" y="2780640"/>
            <a:ext cx="5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Object 11"/>
              <p:cNvSpPr txBox="1"/>
              <p:nvPr/>
            </p:nvSpPr>
            <p:spPr>
              <a:xfrm>
                <a:off x="539640" y="4221000"/>
                <a:ext cx="34876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611" name="Picture 13" descr=""/>
          <p:cNvPicPr/>
          <p:nvPr/>
        </p:nvPicPr>
        <p:blipFill>
          <a:blip r:embed="rId1"/>
          <a:stretch/>
        </p:blipFill>
        <p:spPr>
          <a:xfrm>
            <a:off x="6732720" y="1268280"/>
            <a:ext cx="1733400" cy="2917800"/>
          </a:xfrm>
          <a:prstGeom prst="rect">
            <a:avLst/>
          </a:prstGeom>
          <a:ln w="0">
            <a:noFill/>
          </a:ln>
        </p:spPr>
      </p:pic>
      <p:sp>
        <p:nvSpPr>
          <p:cNvPr id="6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3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1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6"/>
          <p:cNvSpPr/>
          <p:nvPr/>
        </p:nvSpPr>
        <p:spPr>
          <a:xfrm>
            <a:off x="2484360" y="2205000"/>
            <a:ext cx="1944720" cy="316872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37160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6a4076"/>
                </a:solidFill>
                <a:latin typeface="Tahoma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Сумма острых углов </a:t>
            </a: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прямоугольного треугольника равна 90</a:t>
            </a:r>
            <a:r>
              <a:rPr b="0" lang="ru-RU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0" y="2257560"/>
            <a:ext cx="30240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=9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+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=9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Text Box 10"/>
          <p:cNvSpPr/>
          <p:nvPr/>
        </p:nvSpPr>
        <p:spPr>
          <a:xfrm>
            <a:off x="1979640" y="530064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7" name="Text Box 11"/>
          <p:cNvSpPr/>
          <p:nvPr/>
        </p:nvSpPr>
        <p:spPr>
          <a:xfrm>
            <a:off x="1835280" y="50133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8" name="Text Box 12"/>
          <p:cNvSpPr/>
          <p:nvPr/>
        </p:nvSpPr>
        <p:spPr>
          <a:xfrm>
            <a:off x="1908000" y="19162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9" name="Text Box 13"/>
          <p:cNvSpPr/>
          <p:nvPr/>
        </p:nvSpPr>
        <p:spPr>
          <a:xfrm>
            <a:off x="4211640" y="494172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рямоугольном равнобедренном треугольнике острые углы равны 45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858920" y="2133720"/>
            <a:ext cx="409572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 = 90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С=В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=45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=45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AutoShape 8"/>
          <p:cNvSpPr/>
          <p:nvPr/>
        </p:nvSpPr>
        <p:spPr>
          <a:xfrm rot="8098200">
            <a:off x="1389960" y="3773160"/>
            <a:ext cx="2548080" cy="251316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4" name="Text Box 10"/>
          <p:cNvSpPr/>
          <p:nvPr/>
        </p:nvSpPr>
        <p:spPr>
          <a:xfrm>
            <a:off x="395280" y="486900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5" name="Text Box 11"/>
          <p:cNvSpPr/>
          <p:nvPr/>
        </p:nvSpPr>
        <p:spPr>
          <a:xfrm>
            <a:off x="4427640" y="494172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6" name="Text Box 12"/>
          <p:cNvSpPr/>
          <p:nvPr/>
        </p:nvSpPr>
        <p:spPr>
          <a:xfrm>
            <a:off x="2484360" y="2637000"/>
            <a:ext cx="5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7" name="AutoShape 16"/>
          <p:cNvSpPr/>
          <p:nvPr/>
        </p:nvSpPr>
        <p:spPr>
          <a:xfrm rot="3258000">
            <a:off x="6291000" y="3587760"/>
            <a:ext cx="1467000" cy="282240"/>
          </a:xfrm>
          <a:prstGeom prst="rightArrow">
            <a:avLst>
              <a:gd name="adj1" fmla="val 50000"/>
              <a:gd name="adj2" fmla="val 129943"/>
            </a:avLst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1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7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0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77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7" dur="770" fill="hold"/>
                                        <p:tgtEl>
                                          <p:spTgt spid="6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1369800" y="549000"/>
            <a:ext cx="380988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тет прямоугольного треугольника, лежащий против угла в 30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равен половине гипотенуз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С=АВ/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0" name="Diagram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631" name="AutoShape 13"/>
          <p:cNvSpPr/>
          <p:nvPr/>
        </p:nvSpPr>
        <p:spPr>
          <a:xfrm rot="16200000">
            <a:off x="4895640" y="2457360"/>
            <a:ext cx="4681440" cy="187164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5667840" y="51973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3" name="Text Box 15"/>
          <p:cNvSpPr/>
          <p:nvPr/>
        </p:nvSpPr>
        <p:spPr>
          <a:xfrm>
            <a:off x="8056440" y="333360"/>
            <a:ext cx="5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4" name="Text Box 16"/>
          <p:cNvSpPr/>
          <p:nvPr/>
        </p:nvSpPr>
        <p:spPr>
          <a:xfrm>
            <a:off x="8042400" y="5197320"/>
            <a:ext cx="70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20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20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20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1369800" y="404280"/>
            <a:ext cx="3809880" cy="53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0" lang="ru-RU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С=АВ/2 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AutoShape 7"/>
          <p:cNvSpPr/>
          <p:nvPr/>
        </p:nvSpPr>
        <p:spPr>
          <a:xfrm>
            <a:off x="6227640" y="836640"/>
            <a:ext cx="2016360" cy="446400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8" name="Text Box 8"/>
          <p:cNvSpPr/>
          <p:nvPr/>
        </p:nvSpPr>
        <p:spPr>
          <a:xfrm>
            <a:off x="5739480" y="3715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8129520" y="47642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5508720" y="490860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9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5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3" dur="2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7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AutoShape 4"/>
          <p:cNvSpPr/>
          <p:nvPr/>
        </p:nvSpPr>
        <p:spPr>
          <a:xfrm>
            <a:off x="1403280" y="3716280"/>
            <a:ext cx="4535640" cy="208764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1370160" y="189360"/>
            <a:ext cx="7773840" cy="28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сота прямоугольного треугольника, проведённая из вершины прямого угла, есть среднее пропорциональное для отрезков, на которые делится гипотенуза высот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Object 7"/>
              <p:cNvSpPr txBox="1"/>
              <p:nvPr/>
            </p:nvSpPr>
            <p:spPr>
              <a:xfrm>
                <a:off x="4788000" y="3662280"/>
                <a:ext cx="31795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Н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Н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НВ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46" name="Line 9"/>
          <p:cNvSpPr/>
          <p:nvPr/>
        </p:nvSpPr>
        <p:spPr>
          <a:xfrm flipV="1">
            <a:off x="1403280" y="4147920"/>
            <a:ext cx="936720" cy="16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7" name="Line 10"/>
          <p:cNvSpPr/>
          <p:nvPr/>
        </p:nvSpPr>
        <p:spPr>
          <a:xfrm flipH="1">
            <a:off x="2484000" y="429264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8" name="Line 11"/>
          <p:cNvSpPr/>
          <p:nvPr/>
        </p:nvSpPr>
        <p:spPr>
          <a:xfrm flipH="1" flipV="1">
            <a:off x="2195640" y="4436640"/>
            <a:ext cx="288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9" name="Text Box 12"/>
          <p:cNvSpPr/>
          <p:nvPr/>
        </p:nvSpPr>
        <p:spPr>
          <a:xfrm>
            <a:off x="684360" y="5372280"/>
            <a:ext cx="8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0" name="Text Box 13"/>
          <p:cNvSpPr/>
          <p:nvPr/>
        </p:nvSpPr>
        <p:spPr>
          <a:xfrm>
            <a:off x="755640" y="3068640"/>
            <a:ext cx="113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1" name="Text Box 14"/>
          <p:cNvSpPr/>
          <p:nvPr/>
        </p:nvSpPr>
        <p:spPr>
          <a:xfrm>
            <a:off x="2067480" y="3392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2" name="Text Box 15"/>
          <p:cNvSpPr/>
          <p:nvPr/>
        </p:nvSpPr>
        <p:spPr>
          <a:xfrm>
            <a:off x="5798160" y="5372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5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5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1370160" y="333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тет прямоугольного треугольника есть среднее пропорциональное  для гипотенузы и отрезка гипотенузы, заключённого между катетом и высотой, проведённой из вершины прямого угл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1476360" y="3789360"/>
            <a:ext cx="4535640" cy="208764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6" name="Line 6"/>
          <p:cNvSpPr/>
          <p:nvPr/>
        </p:nvSpPr>
        <p:spPr>
          <a:xfrm flipV="1">
            <a:off x="1476360" y="4221000"/>
            <a:ext cx="93672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7" name="Line 7"/>
          <p:cNvSpPr/>
          <p:nvPr/>
        </p:nvSpPr>
        <p:spPr>
          <a:xfrm flipH="1">
            <a:off x="2557080" y="436572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8" name="Line 8"/>
          <p:cNvSpPr/>
          <p:nvPr/>
        </p:nvSpPr>
        <p:spPr>
          <a:xfrm flipH="1" flipV="1">
            <a:off x="2268000" y="450972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757080" y="54450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828720" y="3141720"/>
            <a:ext cx="113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1" name="Text Box 11"/>
          <p:cNvSpPr/>
          <p:nvPr/>
        </p:nvSpPr>
        <p:spPr>
          <a:xfrm>
            <a:off x="2140560" y="3465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2" name="Text Box 12"/>
          <p:cNvSpPr/>
          <p:nvPr/>
        </p:nvSpPr>
        <p:spPr>
          <a:xfrm>
            <a:off x="6086880" y="5516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3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Object 13"/>
              <p:cNvSpPr txBox="1"/>
              <p:nvPr/>
            </p:nvSpPr>
            <p:spPr>
              <a:xfrm>
                <a:off x="3924360" y="3213000"/>
                <a:ext cx="2808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АН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65" name="Rectangle 16"/>
          <p:cNvSpPr/>
          <p:nvPr/>
        </p:nvSpPr>
        <p:spPr>
          <a:xfrm>
            <a:off x="32400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15"/>
              <p:cNvSpPr txBox="1"/>
              <p:nvPr/>
            </p:nvSpPr>
            <p:spPr>
              <a:xfrm>
                <a:off x="5724360" y="4076640"/>
                <a:ext cx="30243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ВН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6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70563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66ff"/>
                </a:solidFill>
                <a:uFillTx/>
                <a:latin typeface="Comic Sans MS"/>
              </a:rPr>
              <a:t>ПРЯМОУГОЛЬНЫЙ </a:t>
            </a:r>
            <a:br>
              <a:rPr sz="4000"/>
            </a:br>
            <a:r>
              <a:rPr b="1" i="1" lang="ru-RU" sz="4000" spc="-1" strike="noStrike" u="sng">
                <a:solidFill>
                  <a:srgbClr val="0066ff"/>
                </a:solidFill>
                <a:uFillTx/>
                <a:latin typeface="Comic Sans MS"/>
              </a:rPr>
              <a:t>ТРЕУГОЛЬНИК-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476360" y="2637000"/>
            <a:ext cx="7128000" cy="15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ЭТО ТРЕУГОЛЬНИК, В КОТОРОМ ОДИН ИЗ УГЛОВ ПРЯМОЙ (90</a:t>
            </a:r>
            <a:r>
              <a:rPr b="1" lang="ru-RU" sz="3200" spc="-1" strike="noStrike">
                <a:solidFill>
                  <a:srgbClr val="336699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7" name="AutoShape 5"/>
          <p:cNvSpPr/>
          <p:nvPr/>
        </p:nvSpPr>
        <p:spPr>
          <a:xfrm>
            <a:off x="2843280" y="4869000"/>
            <a:ext cx="4608360" cy="1079280"/>
          </a:xfrm>
          <a:prstGeom prst="rtTriangl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8" name="Line 7"/>
          <p:cNvSpPr/>
          <p:nvPr/>
        </p:nvSpPr>
        <p:spPr>
          <a:xfrm>
            <a:off x="2843280" y="5661000"/>
            <a:ext cx="28728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3132000" y="5661000"/>
            <a:ext cx="0" cy="28908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0" name="Місце для нижнього колонтитула 1"/>
          <p:cNvSpPr/>
          <p:nvPr/>
        </p:nvSpPr>
        <p:spPr>
          <a:xfrm>
            <a:off x="32004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 u="sng">
                <a:solidFill>
                  <a:srgbClr val="33ccff"/>
                </a:solidFill>
                <a:uFillTx/>
                <a:latin typeface="Comic Sans MS"/>
              </a:rPr>
              <a:t>СТОРОНЫ </a:t>
            </a:r>
            <a:br>
              <a:rPr sz="3100"/>
            </a:br>
            <a:r>
              <a:rPr b="1" i="1" lang="ru-RU" sz="3100" spc="-1" strike="noStrike" u="sng">
                <a:solidFill>
                  <a:srgbClr val="33ccff"/>
                </a:solidFill>
                <a:uFillTx/>
                <a:latin typeface="Comic Sans MS"/>
              </a:rPr>
              <a:t>ПРЯМОУГОЛЬНОГО ТРЕУГОЛЬНИКА</a:t>
            </a:r>
            <a:endParaRPr b="0" lang="en-US" sz="31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763640" y="2997360"/>
            <a:ext cx="3097440" cy="27381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– ГИПОТЕНУЗА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– КАТЕТ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 - КАТЕТ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3" name="AutoShape 10"/>
          <p:cNvSpPr/>
          <p:nvPr/>
        </p:nvSpPr>
        <p:spPr>
          <a:xfrm>
            <a:off x="6227640" y="1916280"/>
            <a:ext cx="2160720" cy="3457440"/>
          </a:xfrm>
          <a:prstGeom prst="rtTriangl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514" name="Diagram 1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15" name="Rectangle 23"/>
          <p:cNvSpPr/>
          <p:nvPr/>
        </p:nvSpPr>
        <p:spPr>
          <a:xfrm>
            <a:off x="5651640" y="137016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6" name="Text Box 24"/>
          <p:cNvSpPr/>
          <p:nvPr/>
        </p:nvSpPr>
        <p:spPr>
          <a:xfrm>
            <a:off x="8317080" y="508464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7" name="Text Box 25"/>
          <p:cNvSpPr/>
          <p:nvPr/>
        </p:nvSpPr>
        <p:spPr>
          <a:xfrm>
            <a:off x="5796000" y="515772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8" name="Line 26"/>
          <p:cNvSpPr/>
          <p:nvPr/>
        </p:nvSpPr>
        <p:spPr>
          <a:xfrm>
            <a:off x="6227640" y="5157720"/>
            <a:ext cx="2160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9" name="Line 27"/>
          <p:cNvSpPr/>
          <p:nvPr/>
        </p:nvSpPr>
        <p:spPr>
          <a:xfrm>
            <a:off x="6443640" y="5157720"/>
            <a:ext cx="0" cy="216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8920" y="1341000"/>
            <a:ext cx="860292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700" spc="-1" strike="noStrike">
                <a:solidFill>
                  <a:srgbClr val="6666ff"/>
                </a:solidFill>
                <a:latin typeface="Times New Roman"/>
              </a:rPr>
              <a:t>ПРИЗНАКИ </a:t>
            </a:r>
            <a:br>
              <a:rPr sz="5700"/>
            </a:br>
            <a:r>
              <a:rPr b="1" i="1" lang="ru-RU" sz="5700" spc="-1" strike="noStrike">
                <a:solidFill>
                  <a:srgbClr val="6666ff"/>
                </a:solidFill>
                <a:latin typeface="Times New Roman"/>
              </a:rPr>
              <a:t>РАВЕНСТВА ПРЯМОУГОЛЬНЫХ ТРЕУГОЛЬНИКОВ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914040" y="2491920"/>
            <a:ext cx="38098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Если катеты одного прямоугольного треугольника соответственно равны катетам другого прямоугольного треугольника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642920" y="404640"/>
            <a:ext cx="42102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6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9" name="Line 10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1" name="AutoShape 18"/>
          <p:cNvSpPr/>
          <p:nvPr/>
        </p:nvSpPr>
        <p:spPr>
          <a:xfrm>
            <a:off x="7164360" y="422100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2" name="Rectangle 19"/>
          <p:cNvSpPr/>
          <p:nvPr/>
        </p:nvSpPr>
        <p:spPr>
          <a:xfrm>
            <a:off x="6588000" y="400356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3" name="Text Box 20"/>
          <p:cNvSpPr/>
          <p:nvPr/>
        </p:nvSpPr>
        <p:spPr>
          <a:xfrm>
            <a:off x="8172360" y="5877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4" name="Text Box 21"/>
          <p:cNvSpPr/>
          <p:nvPr/>
        </p:nvSpPr>
        <p:spPr>
          <a:xfrm>
            <a:off x="6516720" y="587700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5" name="Line 22"/>
          <p:cNvSpPr/>
          <p:nvPr/>
        </p:nvSpPr>
        <p:spPr>
          <a:xfrm>
            <a:off x="7164360" y="594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6" name="Line 23"/>
          <p:cNvSpPr/>
          <p:nvPr/>
        </p:nvSpPr>
        <p:spPr>
          <a:xfrm>
            <a:off x="7380360" y="594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7" name="Line 24"/>
          <p:cNvSpPr/>
          <p:nvPr/>
        </p:nvSpPr>
        <p:spPr>
          <a:xfrm>
            <a:off x="5219640" y="112536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8" name="Line 25"/>
          <p:cNvSpPr/>
          <p:nvPr/>
        </p:nvSpPr>
        <p:spPr>
          <a:xfrm>
            <a:off x="7164360" y="422100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9" name="Line 26"/>
          <p:cNvSpPr/>
          <p:nvPr/>
        </p:nvSpPr>
        <p:spPr>
          <a:xfrm>
            <a:off x="5219640" y="306864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0" name="Line 27"/>
          <p:cNvSpPr/>
          <p:nvPr/>
        </p:nvSpPr>
        <p:spPr>
          <a:xfrm>
            <a:off x="7164360" y="616572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r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297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Если катет и прилежащий к нему острый угол одного прямоугольного треугольника соответственно равны катету и прилежащему к нему острому углу другого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0" y="260280"/>
            <a:ext cx="4114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6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0" name="Line 12"/>
          <p:cNvSpPr/>
          <p:nvPr/>
        </p:nvSpPr>
        <p:spPr>
          <a:xfrm>
            <a:off x="5219640" y="112536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7164360" y="422100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2" name="Rectangle 15"/>
          <p:cNvSpPr/>
          <p:nvPr/>
        </p:nvSpPr>
        <p:spPr>
          <a:xfrm>
            <a:off x="6588000" y="400356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3" name="Text Box 16"/>
          <p:cNvSpPr/>
          <p:nvPr/>
        </p:nvSpPr>
        <p:spPr>
          <a:xfrm>
            <a:off x="8172360" y="5877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4" name="Text Box 17"/>
          <p:cNvSpPr/>
          <p:nvPr/>
        </p:nvSpPr>
        <p:spPr>
          <a:xfrm>
            <a:off x="6516720" y="587700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5" name="Line 18"/>
          <p:cNvSpPr/>
          <p:nvPr/>
        </p:nvSpPr>
        <p:spPr>
          <a:xfrm>
            <a:off x="7164360" y="594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6" name="Line 19"/>
          <p:cNvSpPr/>
          <p:nvPr/>
        </p:nvSpPr>
        <p:spPr>
          <a:xfrm>
            <a:off x="7380360" y="594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7" name="Line 20"/>
          <p:cNvSpPr/>
          <p:nvPr/>
        </p:nvSpPr>
        <p:spPr>
          <a:xfrm>
            <a:off x="7164360" y="422100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8" name="Arc 23"/>
          <p:cNvSpPr/>
          <p:nvPr/>
        </p:nvSpPr>
        <p:spPr>
          <a:xfrm rot="5400000">
            <a:off x="5220360" y="162792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9" name="Arc 25"/>
          <p:cNvSpPr/>
          <p:nvPr/>
        </p:nvSpPr>
        <p:spPr>
          <a:xfrm rot="5400000">
            <a:off x="7165080" y="472356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r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971280" y="1557360"/>
            <a:ext cx="309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Если гипотенуза и острый угол одного прямоугольного треугольника соответственно равны гипотенузе и острому углу другого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066920" y="189000"/>
            <a:ext cx="46083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7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7" name="Line 11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8" name="Line 12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9" name="AutoShape 23"/>
          <p:cNvSpPr/>
          <p:nvPr/>
        </p:nvSpPr>
        <p:spPr>
          <a:xfrm>
            <a:off x="6948360" y="407664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0" name="Rectangle 24"/>
          <p:cNvSpPr/>
          <p:nvPr/>
        </p:nvSpPr>
        <p:spPr>
          <a:xfrm>
            <a:off x="6372360" y="385920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1" name="Text Box 25"/>
          <p:cNvSpPr/>
          <p:nvPr/>
        </p:nvSpPr>
        <p:spPr>
          <a:xfrm>
            <a:off x="7956720" y="5732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2" name="Text Box 26"/>
          <p:cNvSpPr/>
          <p:nvPr/>
        </p:nvSpPr>
        <p:spPr>
          <a:xfrm>
            <a:off x="6300720" y="573264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3" name="Line 27"/>
          <p:cNvSpPr/>
          <p:nvPr/>
        </p:nvSpPr>
        <p:spPr>
          <a:xfrm>
            <a:off x="6948360" y="580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4" name="Line 28"/>
          <p:cNvSpPr/>
          <p:nvPr/>
        </p:nvSpPr>
        <p:spPr>
          <a:xfrm>
            <a:off x="7164360" y="5803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5" name="Line 31"/>
          <p:cNvSpPr/>
          <p:nvPr/>
        </p:nvSpPr>
        <p:spPr>
          <a:xfrm>
            <a:off x="5219640" y="112536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6" name="Line 32"/>
          <p:cNvSpPr/>
          <p:nvPr/>
        </p:nvSpPr>
        <p:spPr>
          <a:xfrm>
            <a:off x="6948360" y="407664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7" name="Arc 34"/>
          <p:cNvSpPr/>
          <p:nvPr/>
        </p:nvSpPr>
        <p:spPr>
          <a:xfrm rot="5400000">
            <a:off x="5220360" y="162792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8" name="Arc 35"/>
          <p:cNvSpPr/>
          <p:nvPr/>
        </p:nvSpPr>
        <p:spPr>
          <a:xfrm rot="5400000">
            <a:off x="6949080" y="458064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ld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2936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Если гипотенуза и катет одного прямоугольного треугольника соответственно равны гипотенузе и катету другого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067280" y="259920"/>
            <a:ext cx="46195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7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3" name="Rectangle 8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6" name="Line 11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7" name="Line 12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8" name="AutoShape 15"/>
          <p:cNvSpPr/>
          <p:nvPr/>
        </p:nvSpPr>
        <p:spPr>
          <a:xfrm>
            <a:off x="6948360" y="407664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9" name="Rectangle 16"/>
          <p:cNvSpPr/>
          <p:nvPr/>
        </p:nvSpPr>
        <p:spPr>
          <a:xfrm>
            <a:off x="6372360" y="385920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0" name="Text Box 17"/>
          <p:cNvSpPr/>
          <p:nvPr/>
        </p:nvSpPr>
        <p:spPr>
          <a:xfrm>
            <a:off x="7956720" y="5732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1" name="Text Box 18"/>
          <p:cNvSpPr/>
          <p:nvPr/>
        </p:nvSpPr>
        <p:spPr>
          <a:xfrm>
            <a:off x="6300720" y="573264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2" name="Line 19"/>
          <p:cNvSpPr/>
          <p:nvPr/>
        </p:nvSpPr>
        <p:spPr>
          <a:xfrm>
            <a:off x="6948360" y="580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3" name="Line 20"/>
          <p:cNvSpPr/>
          <p:nvPr/>
        </p:nvSpPr>
        <p:spPr>
          <a:xfrm>
            <a:off x="7164360" y="5803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4" name="Line 21"/>
          <p:cNvSpPr/>
          <p:nvPr/>
        </p:nvSpPr>
        <p:spPr>
          <a:xfrm>
            <a:off x="5219640" y="112536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5" name="Line 23"/>
          <p:cNvSpPr/>
          <p:nvPr/>
        </p:nvSpPr>
        <p:spPr>
          <a:xfrm>
            <a:off x="6948360" y="407664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6" name="Line 24"/>
          <p:cNvSpPr/>
          <p:nvPr/>
        </p:nvSpPr>
        <p:spPr>
          <a:xfrm>
            <a:off x="5219640" y="306864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7" name="Line 25"/>
          <p:cNvSpPr/>
          <p:nvPr/>
        </p:nvSpPr>
        <p:spPr>
          <a:xfrm>
            <a:off x="6948360" y="602136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4000" y="1844640"/>
            <a:ext cx="8135640" cy="39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99"/>
                </a:solidFill>
                <a:latin typeface="Tahoma"/>
              </a:rPr>
              <a:t>НЕКОТОРЫЕ СВОЙСТВА </a:t>
            </a:r>
            <a:r>
              <a:rPr b="1" i="1" lang="ru-RU" sz="5400" spc="-1" strike="noStrike">
                <a:solidFill>
                  <a:srgbClr val="333399"/>
                </a:solidFill>
                <a:latin typeface="Tahoma"/>
              </a:rPr>
              <a:t>ПРЯМОУГОЛЬНОГО</a:t>
            </a:r>
            <a:r>
              <a:rPr b="1" i="1" lang="ru-RU" sz="6000" spc="-1" strike="noStrike">
                <a:solidFill>
                  <a:srgbClr val="333399"/>
                </a:solidFill>
                <a:latin typeface="Tahoma"/>
              </a:rPr>
              <a:t> ТРЕУГОЛЬНИК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20:14:31Z</dcterms:created>
  <dc:creator>Alexey Kuptzov</dc:creator>
  <dc:description/>
  <dc:language>en-US</dc:language>
  <cp:lastModifiedBy>LEGION</cp:lastModifiedBy>
  <dcterms:modified xsi:type="dcterms:W3CDTF">2015-01-23T11:48:18Z</dcterms:modified>
  <cp:revision>25</cp:revision>
  <dc:subject/>
  <dc:title>ПРЯМОУГОЛЬНЫЙ  ТРЕУГОЛЬНИК-</dc:title>
</cp:coreProperties>
</file>