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83E6-F1F1-4241-8F6E-DD1DCD8D5D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3338-17AC-41E8-B62E-C1569EA434E5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ЕОРЕМА ПИФАГ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E185-E58D-40B0-9AB5-C7D3AE37A25C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острых уг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ого треугольника равна 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6911-2BC7-43C9-B47D-2959C6496085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равнобедренном треугольнике острые углы равны 4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CB2D-7CA9-4F7E-9EE3-2EECED500BA7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 лежащий против угла в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7918-CE5F-4E59-96FD-1856083F37B1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B0DF-6944-4DCB-9F67-7B02D5FB3CC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0798-A02E-4CD1-8F06-B4BD47E498CA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C00B-8A7E-456B-98A3-A6F459A2CDBA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РЯМОУГОЛЬНЫЙ </a:t>
            </a:r>
            <a:br>
              <a:rPr sz="1600"/>
            </a:b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ТРЕУГОЛЬНИК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РЕУГОЛЬНИК, В КОТОРОМ ОДИН ИЗ УГЛОВ ПРЯМОЙ (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98B7-10FC-49BC-BD3C-60AA5D6218D2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1600"/>
            </a:b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ИПОТЕН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C77D-B4CF-4266-A2C7-F832F3B0A282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ПРИЗНАКИ </a:t>
            </a:r>
            <a:br>
              <a:rPr sz="1200"/>
            </a:b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РАВЕНСТВА ПРЯМОУГОЛЬНЫХ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D2D9-F720-48E5-A709-FFA6C9072E49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29EB-15FC-4DCD-B319-E2233FF06E79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82DD-4D9F-4E05-BAAF-E230B4CF829A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DDBA-EEE2-4659-AE15-D1548CF793C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0B3-A13F-49D2-A814-9C2CBE3AE81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СВОЙСТВА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РЯМОУГОЛЬНО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E7D6-50DA-47E3-B541-CAED8111F1F9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D9F-BF29-4D05-A7EE-0DAE5010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C4F-9CB4-4FD6-8B7D-C2EB739B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20EAC-4948-40DC-AA66-2360A9F9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37F40-FF1C-4E46-B586-CF56D6C1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327EF-A57C-4D5F-8038-C09E11C2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73C3C-3CD6-436F-87EB-006E1739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17D68-56B5-487B-B33B-A1099185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D3A21-5B4D-42A2-9B23-04243C86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617C1-286F-4407-A6D1-3CCB511D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B244F-602A-48A3-A85D-83A39624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28307-6C67-4213-9F7B-EC83CB53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C5377-4251-4375-BEE1-6F6D8FD0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C38-0C22-40CC-9327-4BAA3BCC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C9AC0-E009-4879-9693-DB7E9156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07FDB-B0E7-46EB-8183-4A120592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05E7E-6A51-486F-82C5-3385B022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88B35-DB73-44CB-B1FE-416B9A28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72899-3B74-41DA-AE69-71D3AEFD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E0A43-BB57-4CBC-BAE9-B6946431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05CEC-FC10-4445-A098-D2F72C2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31B4C-454E-4FF3-B8C3-50A39731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3A1E9-6F3F-446E-A59F-9528F205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5C1D3-B5F1-4528-A8F3-DB9B6195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875-1F4F-41A7-9613-C20DEA5D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18651-CDC8-4293-8ABE-047C0768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BEDA-3B39-4B0F-B972-3EA140DA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DD0C-A00E-477E-B93B-B949BB1D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0DBF-1F92-4388-B244-8FAFA773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A019-5687-42F0-9D41-3867826D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96D9-5FA6-4ABE-B470-CAE52570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08F5-D7C4-4866-86B8-89FA560E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603D-7F6B-4AE4-A7C9-51689A89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92D-2D2E-4BE8-95D7-D2F92316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7C09-0BBF-481D-A6EA-F2A3716E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47DC-C741-4055-B25B-F945F76D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53CA-8917-42F2-BF58-68EA1ED2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4C7B-FB34-4241-9763-EB9400B5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6EA4-03ED-4011-BAB0-9B1E40BB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A652-1B14-42CF-A65B-868D6BE1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7667-F2AC-4614-8D9E-D3E98FEC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661A-6EC7-40B6-9C59-B11DA80E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24DD0-64A6-4738-BAD2-72B2195B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F241-512A-4B16-8E8A-6E1DB0C4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668-B115-4530-BB36-3AE6A3A2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EF26-A8BF-46AD-B2A1-D34F0067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B731-E913-4D6A-A7A9-C187A211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6184-E0A7-4240-9353-E096DA58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06C74-30F6-460F-9DC3-9C23FDE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6F5A-F03E-4381-AAF2-ABB44F9C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1AFE-5E82-41FF-AF66-72F42F95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38D0-BFE8-4E70-979D-FDB700E4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BA857-44D6-438B-B2D5-D5E73556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23523-7DBB-4B5C-8A5C-CFEEEB58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4116-93FD-4FD5-A2BE-9ADEB9F9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435-815E-4DCE-AF22-2ED8B131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8DDE-4051-4BE8-B500-B52FBCE8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1953-5433-4A4D-B810-573E2C1E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23696-26F9-4D8C-96CC-5D27EB86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C265-7A19-4CC0-9C3C-53D5681D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628F2-B542-42F5-B943-39B62A21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F4266-3B6E-4C05-B627-5E7D30F9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6AAE-F671-4233-B615-4FF5E63C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99CB-6235-456A-8B9C-430C3900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4CE0-8A77-4496-89BE-1E60E34C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C92BB-10B7-41C6-801E-7CFA89AD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014-5666-4FD1-847D-0DF0FA0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2C008-5BD9-4636-80BA-2E2E9F2D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FB3F1-D4A6-4CB1-9266-C7B6A859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23310-F438-4484-80FC-A4E4DE9C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2C5DC-B1F1-4F71-9811-171E3705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39405-52F7-4935-BE98-E956E5BC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B8382-B696-45BD-9385-738ABEFA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E859D-5E33-480B-82BA-749F9CC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B88DF-DF40-4367-AA4A-96CBE997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648EA-E484-4AB3-AE17-4F188CDF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DE106-2338-42CE-A0F1-6BD4F3D0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CF6-050C-4343-89EB-0DD1977E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8C7E0-BCB5-458B-BF86-A51C9241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6CADD-2043-48ED-83F0-FA9FB010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BD3F2-0DA3-4641-B899-D824FBB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0358-28C5-4F19-83A6-A1734838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F2DFC-D2A9-43BB-A870-B21BF1E3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7E26B-AF8A-4C18-96EC-8F220B52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0DBFF-B820-497B-8BC9-87B7492A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CD34B-460F-4269-A846-FCC885E8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DA31A-4A61-4137-B90A-62CBF0E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5624B-7709-469F-BC65-43689E9C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237-21B0-43E6-B235-94AD841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043D0-75AC-45BB-88E6-3BE5B56F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01900-04DF-40DF-BC89-61510A62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87B25-8601-4FBA-BBE2-B1BC525B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15849-1CA3-487F-AA13-E427F8F7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A6DFB-D2A4-47F2-9630-F2DABDAC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18FE2-41DB-47B7-A97E-17123FC3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63458-3880-4F1C-B92C-0C264E86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AE783-C029-4289-B1E0-E7059053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AD4AF-81FC-4FE8-8F8D-EE0C755F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64383-1F31-47A3-9C2D-3A18D67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83D-9A63-406C-9E63-317CED2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923FE-7F2C-4710-B0A4-C339A006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9E1B6-59A9-4A34-964B-DB1D61D5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C532A-B430-4CED-957E-35CFA9C7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0E851-52F4-411D-B75D-B54A700A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9B809-9D78-4057-861C-8276C47C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C4C62-18AA-4D35-A709-002F2DD9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51BBF-D82E-42C4-BEC0-7D03E336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F79CB-D416-4DC6-AD93-37AAC777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5D77A-AC07-4A15-9598-FD173689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3D12E-59F6-4A0D-A40A-48B07FD2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DBF-1585-432F-8FC9-B2CEE55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A3BEC-623B-438E-91EC-D4651D75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0F144-989E-4B10-AA97-1917BC7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DAAEC-7F73-41ED-8F79-7CF4BFDD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22F8C-F277-47D9-8611-278BA5A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FEAB7-87DF-4CA6-9F63-CD441C23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4E6F5-3FDD-45A0-8C0A-7056A501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8B1EB-D17C-437D-B518-D8A6A805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7E629-C308-4F27-9261-4C5A1828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451E5-14E6-480B-82E2-53E542D3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535D3-63F8-49FF-87A9-162237BD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B13A-41E4-4E45-9A20-1F021679FE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3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45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50CE-4E77-40CD-8A6E-F686B65652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26F5-06C8-4907-B2E6-B38EAB799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F261-EEDD-4423-AC58-FB48433E0E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802C-2F79-4AD2-9B91-FB91DB07065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6E2B-BD0C-4D30-83CA-C7203EEEFD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45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6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B2C3-E498-4FF7-B371-FA000913C6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9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4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97D4-F900-4786-98F1-F05AE6D25F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33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4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ED7F-B377-4DF8-92C4-1DE077FE6C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8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8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9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9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9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sp>
          <p:nvSpPr>
            <p:cNvPr id="39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2B9A-44A6-49EA-A637-56A704002E5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11"/>
          <p:cNvSpPr/>
          <p:nvPr/>
        </p:nvSpPr>
        <p:spPr>
          <a:xfrm rot="10800000">
            <a:off x="539280" y="1915920"/>
            <a:ext cx="8209080" cy="36734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2700360" y="213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4200" y="5143680"/>
            <a:ext cx="5786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6a4076"/>
                </a:solidFill>
                <a:uFillTx/>
                <a:latin typeface="Comic Sans MS"/>
              </a:rPr>
              <a:t>ТЕОРЕМА ПИФАГОР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6335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ямоугольном треугольнике квадрат гипотенузы равен сумме квадратов кат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4572000" y="3284640"/>
            <a:ext cx="3529080" cy="2738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710480" y="573408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392436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4572000" y="5805360"/>
            <a:ext cx="352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4932360" y="5805360"/>
            <a:ext cx="32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8" name="Rectangle 9"/>
          <p:cNvSpPr/>
          <p:nvPr/>
        </p:nvSpPr>
        <p:spPr>
          <a:xfrm flipV="1" rot="10800000">
            <a:off x="4065120" y="2780640"/>
            <a:ext cx="5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1"/>
              <p:cNvSpPr txBox="1"/>
              <p:nvPr/>
            </p:nvSpPr>
            <p:spPr>
              <a:xfrm>
                <a:off x="539640" y="4221000"/>
                <a:ext cx="3487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733400" cy="291780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6"/>
          <p:cNvSpPr/>
          <p:nvPr/>
        </p:nvSpPr>
        <p:spPr>
          <a:xfrm>
            <a:off x="2484360" y="2205000"/>
            <a:ext cx="1944720" cy="316872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Сумма острых углов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прямоугольного треугольника равна 9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0" y="2257560"/>
            <a:ext cx="302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979640" y="5300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835280" y="501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1908000" y="1916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211640" y="49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ямоугольном равнобедренном треугольнике острые углы равны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4095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AutoShape 8"/>
          <p:cNvSpPr/>
          <p:nvPr/>
        </p:nvSpPr>
        <p:spPr>
          <a:xfrm rot="8098200">
            <a:off x="1389960" y="3773160"/>
            <a:ext cx="2548080" cy="2513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395280" y="486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27640" y="49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2484360" y="263700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7" name="AutoShape 16"/>
          <p:cNvSpPr/>
          <p:nvPr/>
        </p:nvSpPr>
        <p:spPr>
          <a:xfrm rot="3258000">
            <a:off x="6291000" y="3587760"/>
            <a:ext cx="1467000" cy="282240"/>
          </a:xfrm>
          <a:prstGeom prst="rightArrow">
            <a:avLst>
              <a:gd name="adj1" fmla="val 50000"/>
              <a:gd name="adj2" fmla="val 129943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369800" y="549000"/>
            <a:ext cx="3809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, лежащий против угла в 30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авен половине гипотену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0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31" name="AutoShape 13"/>
          <p:cNvSpPr/>
          <p:nvPr/>
        </p:nvSpPr>
        <p:spPr>
          <a:xfrm rot="16200000">
            <a:off x="4895640" y="2457360"/>
            <a:ext cx="4681440" cy="1871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5667840" y="5197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8056440" y="33336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8042400" y="5197320"/>
            <a:ext cx="7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2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2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9800" y="404280"/>
            <a:ext cx="380988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6227640" y="836640"/>
            <a:ext cx="2016360" cy="446400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5739480" y="371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8129520" y="47642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508720" y="49086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1403280" y="371628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0160" y="189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7"/>
              <p:cNvSpPr txBox="1"/>
              <p:nvPr/>
            </p:nvSpPr>
            <p:spPr>
              <a:xfrm>
                <a:off x="4788000" y="3662280"/>
                <a:ext cx="3179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Н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6" name="Line 9"/>
          <p:cNvSpPr/>
          <p:nvPr/>
        </p:nvSpPr>
        <p:spPr>
          <a:xfrm flipV="1">
            <a:off x="1403280" y="4147920"/>
            <a:ext cx="93672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7" name="Line 10"/>
          <p:cNvSpPr/>
          <p:nvPr/>
        </p:nvSpPr>
        <p:spPr>
          <a:xfrm flipH="1">
            <a:off x="2484000" y="429264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8" name="Line 11"/>
          <p:cNvSpPr/>
          <p:nvPr/>
        </p:nvSpPr>
        <p:spPr>
          <a:xfrm flipH="1" flipV="1">
            <a:off x="2195640" y="443664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84360" y="5372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755640" y="306864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2067480" y="339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5798160" y="5372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137016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1476360" y="378936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6" name="Line 6"/>
          <p:cNvSpPr/>
          <p:nvPr/>
        </p:nvSpPr>
        <p:spPr>
          <a:xfrm flipV="1">
            <a:off x="1476360" y="4221000"/>
            <a:ext cx="936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7" name="Line 7"/>
          <p:cNvSpPr/>
          <p:nvPr/>
        </p:nvSpPr>
        <p:spPr>
          <a:xfrm flipH="1">
            <a:off x="2557080" y="4365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8" name="Line 8"/>
          <p:cNvSpPr/>
          <p:nvPr/>
        </p:nvSpPr>
        <p:spPr>
          <a:xfrm flipH="1" flipV="1">
            <a:off x="2268000" y="450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57080" y="5445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828720" y="314172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2140560" y="346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6086880" y="551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3"/>
              <p:cNvSpPr txBox="1"/>
              <p:nvPr/>
            </p:nvSpPr>
            <p:spPr>
              <a:xfrm>
                <a:off x="3924360" y="321300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5" name="Rectangle 16"/>
          <p:cNvSpPr/>
          <p:nvPr/>
        </p:nvSpPr>
        <p:spPr>
          <a:xfrm>
            <a:off x="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5"/>
              <p:cNvSpPr txBox="1"/>
              <p:nvPr/>
            </p:nvSpPr>
            <p:spPr>
              <a:xfrm>
                <a:off x="5724360" y="4076640"/>
                <a:ext cx="3024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ПРЯМОУГОЛЬНЫЙ </a:t>
            </a:r>
            <a:br>
              <a:rPr sz="4000"/>
            </a:b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ТРЕУГОЛЬНИК-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71280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ЭТО ТРЕУГОЛЬНИК, В КОТОРОМ ОДИН ИЗ УГЛОВ ПРЯМОЙ (90</a:t>
            </a:r>
            <a:r>
              <a:rPr b="1" lang="ru-RU" sz="3200" spc="-1" strike="noStrike">
                <a:solidFill>
                  <a:srgbClr val="336699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2843280" y="4869000"/>
            <a:ext cx="4608360" cy="107928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2843280" y="5661000"/>
            <a:ext cx="28728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3132000" y="5661000"/>
            <a:ext cx="0" cy="28908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2004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3100"/>
            </a:b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31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763640" y="2997360"/>
            <a:ext cx="3097440" cy="2738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ГИПОТЕНУЗА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-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6227640" y="1916280"/>
            <a:ext cx="2160720" cy="345744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14" name="Diagram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15" name="Rectangle 23"/>
          <p:cNvSpPr/>
          <p:nvPr/>
        </p:nvSpPr>
        <p:spPr>
          <a:xfrm>
            <a:off x="5651640" y="13701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8317080" y="508464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796000" y="5157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6227640" y="5157720"/>
            <a:ext cx="216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6443640" y="5157720"/>
            <a:ext cx="0" cy="21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1341000"/>
            <a:ext cx="8602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ПРИЗНАКИ </a:t>
            </a:r>
            <a:br>
              <a:rPr sz="5700"/>
            </a:b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РАВЕНСТВА ПРЯМОУГОЛЬНЫХ ТРЕУГОЛЬНИКОВ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040" y="249192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42920" y="404640"/>
            <a:ext cx="42102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1" name="AutoShape 18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5" name="Line 22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6" name="Line 23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7" name="Line 24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8" name="Line 25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9" name="Line 26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0" name="Line 27"/>
          <p:cNvSpPr/>
          <p:nvPr/>
        </p:nvSpPr>
        <p:spPr>
          <a:xfrm>
            <a:off x="7164360" y="616572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29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0" y="260280"/>
            <a:ext cx="411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5" name="Line 18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6" name="Line 19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7" name="Line 20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8" name="Arc 23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9" name="Arc 25"/>
          <p:cNvSpPr/>
          <p:nvPr/>
        </p:nvSpPr>
        <p:spPr>
          <a:xfrm rot="5400000">
            <a:off x="7165080" y="472356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066920" y="189000"/>
            <a:ext cx="4608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9" name="AutoShape 23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3" name="Line 27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4" name="Line 28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5" name="Line 3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6" name="Line 32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7" name="Arc 34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8" name="Arc 35"/>
          <p:cNvSpPr/>
          <p:nvPr/>
        </p:nvSpPr>
        <p:spPr>
          <a:xfrm rot="5400000">
            <a:off x="6949080" y="458064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2936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067280" y="259920"/>
            <a:ext cx="4619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3" name="Line 20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6948360" y="602136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813564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НЕКОТОРЫЕ СВОЙСТВА </a:t>
            </a:r>
            <a:r>
              <a:rPr b="1" i="1" lang="ru-RU" sz="5400" spc="-1" strike="noStrike">
                <a:solidFill>
                  <a:srgbClr val="333399"/>
                </a:solidFill>
                <a:latin typeface="Tahoma"/>
              </a:rPr>
              <a:t>ПРЯМОУГОЛЬНОГО</a:t>
            </a: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 ТРЕУГОЛЬН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14:31Z</dcterms:created>
  <dc:creator>Alexey Kuptzov</dc:creator>
  <dc:description/>
  <dc:language>en-US</dc:language>
  <cp:lastModifiedBy>LEGION</cp:lastModifiedBy>
  <dcterms:modified xsi:type="dcterms:W3CDTF">2015-01-23T11:48:18Z</dcterms:modified>
  <cp:revision>25</cp:revision>
  <dc:subject/>
  <dc:title>ПРЯМОУГОЛЬНЫЙ  ТРЕУГОЛЬНИК-</dc:title>
</cp:coreProperties>
</file>