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73C7-B696-482D-BDD1-C801539204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B8D2-DAC8-48BB-B399-A8DE9552EF05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ТЕОРЕМА ПИФАГ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6761-46F9-4EA4-A74B-EB2D9541AD3E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острых уг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ого треугольника равна 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EF75-746A-4235-AAEC-A0EC9C39D49A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равнобедренном треугольнике острые углы равны 4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35A1-A62F-4CF7-B22A-41DE2DBC4B47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, лежащий против угла в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74E1-ECAE-481B-BA0E-6679D136379E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93B0-F6DC-4B96-8146-94BA924F7627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8822-7D13-42D7-87E6-933A10D8CECC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38A5-4F04-4D11-8DA4-0FA341A1E56A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ПРЯМОУГОЛЬНЫЙ </a:t>
            </a:r>
            <a:br>
              <a:rPr sz="1600"/>
            </a:b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ТРЕУГОЛЬНИК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РЕУГОЛЬНИК, В КОТОРОМ ОДИН ИЗ УГЛОВ ПРЯМОЙ (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C243-2B52-44DB-9EB7-BE5463F770F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1600"/>
            </a:b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ИПОТЕН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7C47-2238-4FEA-BD48-1EEA80754C18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ПРИЗНАКИ </a:t>
            </a:r>
            <a:br>
              <a:rPr sz="1200"/>
            </a:b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РАВЕНСТВА ПРЯМОУГОЛЬНЫХ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D777-EFE5-4417-A923-E2DA7718423F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FAD3-38BD-4F64-82C3-4DE7BE0ABAB0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BAFC-5FF5-488E-9CDB-B1414895CF9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B4D1-C6C3-4CE9-91C8-C15A2A07395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145C-FBAA-401A-9784-3D29D0D93A5E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СВОЙСТВА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РЯМОУГОЛЬНО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941B-E08F-42C7-B228-112C20E23231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307-2943-4BD1-B1F4-3D880FD9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A2A-68BC-4ACC-9901-351929BB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A6346-621C-4ECD-A3A1-A8DEF0AE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052B7-5F3B-4512-941E-EA8869B3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88375-9277-4D41-892C-FDCBAD61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26257-8903-400D-8B4C-3794ECDE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7DAA7-805C-4FF7-9278-EDBC3AC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F901C-9175-48C2-A414-8E4397F3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769FF-D1B9-4CE8-9CAB-EB07133B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93DD7-D34A-4BA5-9DE0-84D0F799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499E5-B47A-4BDE-BD45-745CEFBE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FBA67-F31E-4FE8-82ED-05CA96AE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BC7-7F7A-4255-A9A8-B3FADF43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FDB83-EE38-4354-B3D0-701BEB4C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18CB5-97C9-49CB-92F5-DBFCC7C6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B66BA-C587-40E9-BAF9-D4268149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1AF18-BF8D-49CE-9B98-E667B962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8E503-0756-4A0A-A060-0D4D63AC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0ECFA-C27C-4573-96DC-88E0B9F7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66A0A-8A11-4AF2-BE28-15918ABB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26203-8B70-47F9-AB8D-D904F80E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4A57D-E18C-4EA0-885A-77E4018E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8402E-C039-4032-9642-0D86A029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B8F-2EB3-4E28-A02C-520FB9EE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63170-6AF5-4863-BA7E-EBB956F7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AA43-FA0F-41C4-8B6E-AA351D32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98A8-728E-4DA1-987F-77FC2FD9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0526-CF16-43B8-A3C5-72554AB5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3149-26A5-443E-8A60-C9B1A848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4710-9CB4-474A-9470-14940C82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245C-E255-4F47-8459-48413B46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6D68-CD4D-4963-92E2-DEAC4FCE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90B-2E18-4FE7-8C24-CD3F11C7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1FEA-53B7-4F10-8DDD-8803AAD1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E7B4-F15F-460A-A500-D8082DE2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1796-C1AD-4359-88ED-42667686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BEEC-9A6C-4D90-B3E2-80CED80E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507E-302A-45BD-8CE2-B5BDD1F1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A01F3-AB4D-4535-8347-D4EF3AE6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6A8A-D8A1-4642-B4AC-24F79B17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DA836-A3DA-4612-B89F-C6234608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FC3A-7705-4EF1-8554-11F71E50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407F8-67BF-48C7-AE77-96A7353E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4AA-9F8E-4740-B6F3-CE6D1D13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E50C-9098-4553-874D-DF570A4C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73F98-D378-4ACD-8D99-5FADC697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865F0-7413-4BBB-80EE-DC1DADD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3337-05D1-4C86-8F56-EB72A4F0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C842-1C51-4C97-9661-081665D3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A1D59-C162-4396-A98B-1B79BD52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4179-E579-4619-9B0B-4BA985B6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3E3C7-8F74-43BC-8989-4D35E395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7F54B-79CB-4D90-A163-E6C747EB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05194-88C7-416F-9872-A1611090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C9B-74E3-4CF6-8503-8C2CEBDF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A2376-4C88-4485-920C-7C6D54D8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FAC48-EA18-4742-B513-0A97C69C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2270B-B942-42EC-9A1D-51160E32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14C5-B7C2-4FF1-85B8-2F1E5E29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6E0F7-1332-4B02-A6D3-28F7386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E7C9-1373-434A-801F-9BAE034C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42101-5853-43E0-BD2D-ABFE9545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B7C9-DABC-4A00-A469-5051DACD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3EF7E-15DB-4E76-BC41-161E474A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73B13-946E-4871-8D4C-1D6ED2B0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EB4-50F8-4E20-9427-3B0D4208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2E4CC-1AA6-47F8-B159-7761CB17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6AE51-F00B-4ED7-9297-2C5D5AB2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0C055-C4D6-4506-A98A-DCAEB815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90DDE-E834-4CBF-8DB4-5C3A95E5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F0FDB-FBA2-41D8-B2C5-BE1526E3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83AE6-F68C-439C-9164-0DD54A3F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CAEBD-A308-4697-BB4C-421C61E2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0F469-3224-49F7-AF47-9C147F96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0B3CD-B693-4554-9E65-A71AE28B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A92CC-6800-4484-AB79-A4B1B8C4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73B-FA14-4658-97C4-E7A7DBA7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C2772-CA68-47D9-8E99-3E92D6C9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E80E-9DFF-4DE4-BCBF-EA66350B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DBFC2-5B58-4605-B87B-A87576E2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F2052-2F1D-4BF4-BA31-FFDD698D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24CF4-4B96-41FA-9EF6-B7E09809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A8E64-8EB9-421E-8B37-D663B87A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B579F-D674-4477-BCB5-05FBCF3D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47B9E-769D-4B68-9A17-BCE9575D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0C3F-30D7-4F1D-B342-5D79C14D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C0C6D-81E9-460F-84F8-1907C730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DAA-B5CB-43AE-BB28-76376C6F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BDE29-918B-4F11-93B7-0A609BA4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FE08F-7B5A-46AE-B7EE-3102C072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BD06C-C673-4AC4-972B-20D29E41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BDA79-A4E2-4306-861E-A806C769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42CF2-E1DF-4904-B8FE-DD368722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0FE8A-BFE7-46FD-AD74-06D78FE3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D7185-74F3-4083-AAE1-7684FECA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3AFEA-2129-4061-95B4-A4A0AC7F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E55CF-56B8-49CD-A090-4ED3DDA8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17BEF-BEAD-462C-985C-6CD0B21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462-C8E1-427A-B83E-E53F8C41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46DB5-A37A-4AB7-804E-38C7913E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A2222-4F4C-485B-940C-48287D77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7F596-B1AE-4D9C-9522-B90254D0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2B939-3B17-4285-A51E-FA4D3AB6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8A6DB-ECCF-456C-ABBF-CFFA6C66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5B633-EDEE-4CF3-83E9-1C9C5C31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287CA-F77F-4690-9F69-2E9F9992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3AA4B-647A-4E26-A797-2FA29710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C99F6-B4DC-4ADF-AC8E-E98A6317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51E18-9C22-4DAB-AED2-DA009ED5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578-82AC-4F3A-9F18-CE50BC7A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7294A-B580-45E8-89D7-7416D8F1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14F82-4B90-482B-BCE1-CCDDE2A6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D95E7-D50B-442C-9EB3-8AB3C83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CE55C-EFD9-488E-9636-91EE29CA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6FBAF-C6D1-41EF-AF6C-6B6397B1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8D136-6DF0-495E-9CFF-BC03EB12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2966E-944A-4F3D-99DA-D0E71782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2EC2E-4D70-454C-B530-E7F501CD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20BD9-4D79-4DF3-BC7C-1387FDD1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3521B-FD4F-4CE9-8CBF-71647B86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6FF3-69A1-4465-AED6-EB0264658A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3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45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15BF-135C-4BC0-81BD-6C43672EA0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11A4-C749-49BC-9B54-EA987DE20F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1DEB-21A3-4194-9712-09CC4AF240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F6F0-471B-448E-BFC7-3E79577C9B1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EAD5-2858-4021-A093-DF8932470A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45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6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7C9A-F842-425A-8522-E0B60A0480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9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4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D03C-C0C2-42ED-BB37-865F14E5C4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3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33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4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D6BE-1440-4149-A170-FDCA7206CF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8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8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9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9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9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sp>
          <p:nvSpPr>
            <p:cNvPr id="39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5EC0-2219-41CB-A550-F652F996386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11"/>
          <p:cNvSpPr/>
          <p:nvPr/>
        </p:nvSpPr>
        <p:spPr>
          <a:xfrm rot="10800000">
            <a:off x="539280" y="1915920"/>
            <a:ext cx="8209080" cy="36734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2700360" y="213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4200" y="5143680"/>
            <a:ext cx="5786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6a4076"/>
                </a:solidFill>
                <a:uFillTx/>
                <a:latin typeface="Comic Sans MS"/>
              </a:rPr>
              <a:t>ТЕОРЕМА ПИФАГОР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6335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ямоугольном треугольнике квадрат гипотенузы равен сумме квадратов кат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4572000" y="3284640"/>
            <a:ext cx="3529080" cy="2738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7710480" y="573408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392436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6" name="Line 7"/>
          <p:cNvSpPr/>
          <p:nvPr/>
        </p:nvSpPr>
        <p:spPr>
          <a:xfrm>
            <a:off x="4572000" y="5805360"/>
            <a:ext cx="352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7" name="Line 8"/>
          <p:cNvSpPr/>
          <p:nvPr/>
        </p:nvSpPr>
        <p:spPr>
          <a:xfrm>
            <a:off x="4932360" y="5805360"/>
            <a:ext cx="32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8" name="Rectangle 9"/>
          <p:cNvSpPr/>
          <p:nvPr/>
        </p:nvSpPr>
        <p:spPr>
          <a:xfrm flipV="1" rot="10800000">
            <a:off x="4065120" y="2780640"/>
            <a:ext cx="5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1"/>
              <p:cNvSpPr txBox="1"/>
              <p:nvPr/>
            </p:nvSpPr>
            <p:spPr>
              <a:xfrm>
                <a:off x="539640" y="4221000"/>
                <a:ext cx="3487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11" name="Picture 13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1733400" cy="291780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6"/>
          <p:cNvSpPr/>
          <p:nvPr/>
        </p:nvSpPr>
        <p:spPr>
          <a:xfrm>
            <a:off x="2484360" y="2205000"/>
            <a:ext cx="1944720" cy="316872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a4076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Сумма острых углов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прямоугольного треугольника равна 9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0" y="2257560"/>
            <a:ext cx="302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979640" y="5300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835280" y="501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1908000" y="1916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211640" y="49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ямоугольном равнобедренном треугольнике острые углы равны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4095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AutoShape 8"/>
          <p:cNvSpPr/>
          <p:nvPr/>
        </p:nvSpPr>
        <p:spPr>
          <a:xfrm rot="8098200">
            <a:off x="1389960" y="3773160"/>
            <a:ext cx="2548080" cy="2513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395280" y="486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27640" y="49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2484360" y="263700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7" name="AutoShape 16"/>
          <p:cNvSpPr/>
          <p:nvPr/>
        </p:nvSpPr>
        <p:spPr>
          <a:xfrm rot="3258000">
            <a:off x="6291000" y="3587760"/>
            <a:ext cx="1467000" cy="282240"/>
          </a:xfrm>
          <a:prstGeom prst="rightArrow">
            <a:avLst>
              <a:gd name="adj1" fmla="val 50000"/>
              <a:gd name="adj2" fmla="val 129943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369800" y="549000"/>
            <a:ext cx="3809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, лежащий против угла в 30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авен половине гипотенуз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0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31" name="AutoShape 13"/>
          <p:cNvSpPr/>
          <p:nvPr/>
        </p:nvSpPr>
        <p:spPr>
          <a:xfrm rot="16200000">
            <a:off x="4895640" y="2457360"/>
            <a:ext cx="4681440" cy="1871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5667840" y="5197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8056440" y="33336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8042400" y="5197320"/>
            <a:ext cx="7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2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2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9800" y="404280"/>
            <a:ext cx="380988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AutoShape 7"/>
          <p:cNvSpPr/>
          <p:nvPr/>
        </p:nvSpPr>
        <p:spPr>
          <a:xfrm>
            <a:off x="6227640" y="836640"/>
            <a:ext cx="2016360" cy="446400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5739480" y="371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8129520" y="47642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508720" y="49086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2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4"/>
          <p:cNvSpPr/>
          <p:nvPr/>
        </p:nvSpPr>
        <p:spPr>
          <a:xfrm>
            <a:off x="1403280" y="371628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0160" y="189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7"/>
              <p:cNvSpPr txBox="1"/>
              <p:nvPr/>
            </p:nvSpPr>
            <p:spPr>
              <a:xfrm>
                <a:off x="4788000" y="3662280"/>
                <a:ext cx="3179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Н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Н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46" name="Line 9"/>
          <p:cNvSpPr/>
          <p:nvPr/>
        </p:nvSpPr>
        <p:spPr>
          <a:xfrm flipV="1">
            <a:off x="1403280" y="4147920"/>
            <a:ext cx="93672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7" name="Line 10"/>
          <p:cNvSpPr/>
          <p:nvPr/>
        </p:nvSpPr>
        <p:spPr>
          <a:xfrm flipH="1">
            <a:off x="2484000" y="429264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8" name="Line 11"/>
          <p:cNvSpPr/>
          <p:nvPr/>
        </p:nvSpPr>
        <p:spPr>
          <a:xfrm flipH="1" flipV="1">
            <a:off x="2195640" y="443664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684360" y="5372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755640" y="306864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2067480" y="339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5798160" y="5372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1370160" y="33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1476360" y="378936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6" name="Line 6"/>
          <p:cNvSpPr/>
          <p:nvPr/>
        </p:nvSpPr>
        <p:spPr>
          <a:xfrm flipV="1">
            <a:off x="1476360" y="4221000"/>
            <a:ext cx="936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7" name="Line 7"/>
          <p:cNvSpPr/>
          <p:nvPr/>
        </p:nvSpPr>
        <p:spPr>
          <a:xfrm flipH="1">
            <a:off x="2557080" y="4365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8" name="Line 8"/>
          <p:cNvSpPr/>
          <p:nvPr/>
        </p:nvSpPr>
        <p:spPr>
          <a:xfrm flipH="1" flipV="1">
            <a:off x="2268000" y="450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757080" y="5445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828720" y="314172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2140560" y="346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6086880" y="551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3"/>
              <p:cNvSpPr txBox="1"/>
              <p:nvPr/>
            </p:nvSpPr>
            <p:spPr>
              <a:xfrm>
                <a:off x="3924360" y="3213000"/>
                <a:ext cx="28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5" name="Rectangle 16"/>
          <p:cNvSpPr/>
          <p:nvPr/>
        </p:nvSpPr>
        <p:spPr>
          <a:xfrm>
            <a:off x="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5"/>
              <p:cNvSpPr txBox="1"/>
              <p:nvPr/>
            </p:nvSpPr>
            <p:spPr>
              <a:xfrm>
                <a:off x="5724360" y="4076640"/>
                <a:ext cx="3024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ПРЯМОУГОЛЬНЫЙ </a:t>
            </a:r>
            <a:br>
              <a:rPr sz="4000"/>
            </a:b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ТРЕУГОЛЬНИК-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476360" y="2637000"/>
            <a:ext cx="71280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ЭТО ТРЕУГОЛЬНИК, В КОТОРОМ ОДИН ИЗ УГЛОВ ПРЯМОЙ (90</a:t>
            </a:r>
            <a:r>
              <a:rPr b="1" lang="ru-RU" sz="3200" spc="-1" strike="noStrike">
                <a:solidFill>
                  <a:srgbClr val="336699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2843280" y="4869000"/>
            <a:ext cx="4608360" cy="107928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2843280" y="5661000"/>
            <a:ext cx="28728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3132000" y="5661000"/>
            <a:ext cx="0" cy="28908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2004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3100"/>
            </a:b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31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763640" y="2997360"/>
            <a:ext cx="3097440" cy="2738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ГИПОТЕНУЗА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-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6227640" y="1916280"/>
            <a:ext cx="2160720" cy="345744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514" name="Diagram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15" name="Rectangle 23"/>
          <p:cNvSpPr/>
          <p:nvPr/>
        </p:nvSpPr>
        <p:spPr>
          <a:xfrm>
            <a:off x="5651640" y="13701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8317080" y="508464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796000" y="5157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6227640" y="5157720"/>
            <a:ext cx="216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6443640" y="5157720"/>
            <a:ext cx="0" cy="216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8920" y="1341000"/>
            <a:ext cx="86029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ПРИЗНАКИ </a:t>
            </a:r>
            <a:br>
              <a:rPr sz="5700"/>
            </a:b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РАВЕНСТВА ПРЯМОУГОЛЬНЫХ ТРЕУГОЛЬНИКОВ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14040" y="249192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42920" y="404640"/>
            <a:ext cx="42102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9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1" name="AutoShape 18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5" name="Line 22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6" name="Line 23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7" name="Line 24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8" name="Line 25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9" name="Line 26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0" name="Line 27"/>
          <p:cNvSpPr/>
          <p:nvPr/>
        </p:nvSpPr>
        <p:spPr>
          <a:xfrm>
            <a:off x="7164360" y="616572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29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0" y="260280"/>
            <a:ext cx="411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5" name="Line 18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6" name="Line 19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7" name="Line 20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8" name="Arc 23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9" name="Arc 25"/>
          <p:cNvSpPr/>
          <p:nvPr/>
        </p:nvSpPr>
        <p:spPr>
          <a:xfrm rot="5400000">
            <a:off x="7165080" y="472356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066920" y="189000"/>
            <a:ext cx="4608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9" name="AutoShape 23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2" name="Text Box 26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3" name="Line 27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4" name="Line 28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5" name="Line 3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6" name="Line 32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7" name="Arc 34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8" name="Arc 35"/>
          <p:cNvSpPr/>
          <p:nvPr/>
        </p:nvSpPr>
        <p:spPr>
          <a:xfrm rot="5400000">
            <a:off x="6949080" y="458064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2936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067280" y="259920"/>
            <a:ext cx="4619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8" name="AutoShape 15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3" name="Line 20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5" name="Line 23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6948360" y="602136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000" y="1844640"/>
            <a:ext cx="813564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НЕКОТОРЫЕ СВОЙСТВА </a:t>
            </a:r>
            <a:r>
              <a:rPr b="1" i="1" lang="ru-RU" sz="5400" spc="-1" strike="noStrike">
                <a:solidFill>
                  <a:srgbClr val="333399"/>
                </a:solidFill>
                <a:latin typeface="Tahoma"/>
              </a:rPr>
              <a:t>ПРЯМОУГОЛЬНОГО</a:t>
            </a: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 ТРЕУГОЛЬН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14:31Z</dcterms:created>
  <dc:creator>Alexey Kuptzov</dc:creator>
  <dc:description/>
  <dc:language>en-US</dc:language>
  <cp:lastModifiedBy>LEGION</cp:lastModifiedBy>
  <dcterms:modified xsi:type="dcterms:W3CDTF">2015-01-23T11:48:18Z</dcterms:modified>
  <cp:revision>25</cp:revision>
  <dc:subject/>
  <dc:title>ПРЯМОУГОЛЬНЫЙ  ТРЕУГОЛЬНИК-</dc:title>
</cp:coreProperties>
</file>