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F358-EF23-4857-B1BB-FEF48AD563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E8F4-CF1C-4FCB-94E2-B47F8221932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E0FB-B96F-4E1A-996F-A542B6C3A1F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острых уг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ого треугольника равна 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E3A3-166D-468A-A37D-943920D2FCDD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равнобедренном треугольнике острые углы равны 4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B520-D46F-4F03-9D3D-627A8FCD735A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в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F108-53E1-4D03-A215-14B2FA9D0551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E464-B47B-4097-927D-4E5571E23D2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B827-26D8-4624-81DB-267FCEB1ABBD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E582-428C-4273-B206-FF92EAF66F34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РЯМОУГОЛЬНЫЙ </a:t>
            </a:r>
            <a:br>
              <a:rPr sz="1600"/>
            </a:b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ТРЕУГОЛЬНИК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РЕУГОЛЬНИК, В КОТОРОМ ОДИН ИЗ УГЛОВ ПРЯМОЙ (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8450-0661-4BAF-9C6C-2C04D7221D28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1600"/>
            </a:b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ИПОТЕН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BE76-D8C5-4FEA-AEE8-CE31342A2C2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ПРИЗНАКИ </a:t>
            </a:r>
            <a:br>
              <a:rPr sz="1200"/>
            </a:b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РАВЕНСТВА ПРЯМОУГОЛЬНЫХ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59AD-02D0-4457-8B94-0E30386C7770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CA88-B1D4-46D2-B84C-34E4C7103034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6A2D-E313-484E-A85B-4027436DFBC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2230-7C20-41D1-A0DA-CB58983CF38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5A9A-F555-4424-894A-2B67BAA7CE3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СВОЙСТВА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РЯМОУГОЛЬНО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18AD-B6E1-4B2A-9A86-6298464274F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AFF-96ED-49AE-BA20-CC30A521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C40-3372-420F-ACC9-A72A6BFB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059AC-0A0B-4143-A9EC-5C2B0A61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980B9-4BFA-47A7-85B8-59FDD2D3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6F527-17C4-4C74-B2DF-403885E9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BB5C2-973D-4C90-8ABE-9D74F1A2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E96BB-10DB-4996-B826-08B49F88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4E5B5-624D-4DE1-9191-2B82380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D0C80-F79B-4AA4-A16C-11B2A609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69970-C735-4962-ABBC-7F3579EB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19ADB-A270-4C75-8E7E-9A193135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06CAD-ABFC-4433-900A-FE2E2748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354-80D7-434B-B3CF-C26CC8A2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1FDBE-6FAD-4E2A-8A6B-9A015CDD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E2BC3-5A9F-41F9-AE92-A84FFEF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832C0-0522-4F80-9D37-6E7E2913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269ED-B5D3-4D87-9C4E-5AFF681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5779F-23C2-4DA8-8316-A9A00D4E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A20B0-A227-4348-90DC-3C566968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BE148-504F-4886-83DF-866FC98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C9882-1097-44D1-AFB6-2A1A8CA6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C91A1-E710-4D88-98D7-BD604D56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2682B-3F1C-4AB4-8D9F-64B1023E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727-C6D5-40B6-A11E-D45C3E68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5B3F8-CE7C-4FBD-8753-65928011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392-2DEE-4C4A-8449-B020B263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5FDE-9912-4A5D-9FFA-A95AD435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C42E-C8B8-4809-B8FD-215805AF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B1A2-2F4B-482C-BB6F-331ACF4F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FC36-1A5F-42B2-B753-4E26090A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EAC7-1D07-44F8-AA6A-9A3D356A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D2B9-181A-4B20-B791-E711777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DA2-A9E2-4FEA-958F-763F7D33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0BD5-5C04-45B1-A424-3D4424EC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40FB-DB6A-41F8-9E5C-0FD8835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C0B7-8DF8-444C-9B87-4820AB43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705-0FE9-4D6C-B0BD-5EE136DF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EE6C-9817-4FA3-809D-6E6E4AB0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3DD3-BCBA-4A7D-AC45-883235C1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7D31-CFFA-4B6C-B7B6-FEF1E81C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2DF9-BB0C-4AC0-9FEE-2F9BEF28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CFDB-16D9-4275-B891-A4B3C683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9DE2-3771-437F-9369-6FECD6FB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AC5-6D6F-4F53-8DC8-98B0333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3923-C009-41B0-AED8-8EE4EED6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2413-F249-48D5-AE71-F0620F39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9A02-D35C-4920-A745-0F2733CF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4C6F9-4505-4F39-9E65-0BC5151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FC2D-8727-49CA-871E-74718947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CD42-6A0D-4103-9724-D754276C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B84B-0726-439D-9037-9A0135F6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3F32B-4CBA-4681-BCF5-65CC9303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6C47-7F28-484A-A9BE-BB63BED1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B9BF-4685-4B34-9269-BB1B8E50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AC8-5656-4B7A-A193-D1452EAF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3BEA-9599-4828-9A4F-328E5AD2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61F0-3074-4C82-ABA7-39E249DF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7475-4243-42E8-BF5A-A74D7E9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D402-8551-4F7F-AF0F-51351B00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C9BE-ED7D-4EB0-9EE2-70F544A6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44ED-EF71-495B-9D9B-CDB2C00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C2E5-5B6E-4C80-AF51-61575F56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CA42-F692-4F88-BBDA-E4466425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4072-2C6A-4225-B2E2-A69666DD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4A493-2C2D-4AC7-A32D-AD1A8CEB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A5B-304D-47E1-B625-E70509A3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83D2B-1459-4F13-8E3E-5ACF0409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16CD8-2067-405F-B8B2-AB2FE52D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115C9-8638-45CA-83BC-8ACA88EF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AEE31-3137-4080-BB27-C767A10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BD9D3-4754-4DA7-9F1D-16D3CB8A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3BD33-FC33-4228-BBC4-84F3DF1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031C9-AF83-4D24-8167-AD48803F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14DC6-3527-4A39-9F0E-2290C27D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57FB3-D451-4827-A1BA-B8EE8F79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62873-52D7-4326-BED4-C02D2B75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55C-510A-47E6-9F3D-F4BD3FB9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BBD9C-E1C7-4E9B-B2CE-5375134D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E569-A725-4593-9DD6-228D9748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200B-E52E-448F-BC9D-C8A1913D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0F73F-EC59-4B58-B8E8-536BF474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7F05-213F-4D12-93D0-862F3F60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E736-F8BF-42D4-A7EC-B62F048A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4AF3-4623-4CE1-A406-EAB8E6CB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4DF2-BC0C-4E7B-B448-7BCA0F0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98134-F9B1-4F96-93D9-EF08E227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3153C-AB21-460A-B7D8-7C440E8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CCA-0D93-4A4C-89AF-F34D9C2F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6BC7-36B5-4C8A-A2F2-AE73585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C8FBE-D9BD-4536-B338-4A855B08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E2C49-65A6-4F2B-A5D5-46F81253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3CF14-9015-45D6-B1C3-26884A0E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A9C89-C804-4803-965C-DF6046D6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203E-54A5-40E9-91A0-A3D27A02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EBBD-8E15-4E49-8468-13A0D58E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0FD0A-55E2-4A36-BC7D-26771B86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D90B9-4C4A-43EF-89B0-25A474A1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B47C-8DA3-45BB-A228-4C5E83E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F17-B435-4313-AB55-81BF162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EB539-3260-4823-B2AA-01F9CFA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2DE92-1B02-456D-AE5E-34F181AA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C68D5-5D52-420C-AAF1-838DD1E0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6B307-D1DA-4AE7-94C4-2D9B9527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04858-D63E-46AD-B5C4-B9513698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99EDC-B47F-4907-96A4-C304FF40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7EA14-5DB0-457B-A6D6-52D41B49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66E23-2E2B-48D7-BEDC-A45F346B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194DA-4886-4AD2-8237-82FD0223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9ABCF-2334-4DFA-9D8C-DBD2403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23F-9F63-4528-881D-CD5105EB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C41FE-5E96-46A8-A45B-15B55C1E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A93A0-8646-4693-9F98-44E7EEA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8122B-BA2A-4DF4-8D95-7348540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C2487-505E-428F-B296-CF85A554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F615C-55C0-4E98-ADD4-16DB2185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591E8-AD26-4F0D-B854-B3562F40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BCEF1-AA1D-451C-97E1-2BC2B9A6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1823E-E4D3-43F2-A93D-FD1A2D38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D2273-9BB7-49E7-BB2B-DB1F16C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755DA-61FB-417F-9F94-43DE1BE0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9F26-C75D-4DFD-ABD2-560BD75918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3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45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EBDC-6B65-498B-83CA-A7DD38D761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9161-8B11-473A-A688-FEBE2569AE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270A-B352-42CB-A2F6-286E147F25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8A30-CF23-4969-A4D4-5771E3FB01C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E3BB-A1AE-41C3-A2FB-4DA41D743D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45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6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56D5-019F-4C94-A775-D1534BD3F9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9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1D29-2D62-45F3-BC99-CE089E4346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A6C1-2972-4AB3-8756-5DEF931E13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9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sp>
          <p:nvSpPr>
            <p:cNvPr id="39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0397-62BC-4FED-9E2D-D6FFC0C2ED3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1"/>
          <p:cNvSpPr/>
          <p:nvPr/>
        </p:nvSpPr>
        <p:spPr>
          <a:xfrm rot="10800000">
            <a:off x="539280" y="1915920"/>
            <a:ext cx="8209080" cy="3673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2700360" y="213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5786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6a4076"/>
                </a:solidFill>
                <a:uFillTx/>
                <a:latin typeface="Comic Sans MS"/>
              </a:rPr>
              <a:t>ТЕОРЕМА ПИФАГОР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633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4572000" y="3284640"/>
            <a:ext cx="3529080" cy="2738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710480" y="57340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392436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572000" y="580536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4932360" y="580536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8" name="Rectangle 9"/>
          <p:cNvSpPr/>
          <p:nvPr/>
        </p:nvSpPr>
        <p:spPr>
          <a:xfrm flipV="1" rot="10800000">
            <a:off x="4065120" y="2780640"/>
            <a:ext cx="5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539640" y="4221000"/>
                <a:ext cx="3487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733400" cy="291780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6"/>
          <p:cNvSpPr/>
          <p:nvPr/>
        </p:nvSpPr>
        <p:spPr>
          <a:xfrm>
            <a:off x="2484360" y="2205000"/>
            <a:ext cx="1944720" cy="316872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Сумма острых углов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прямоугольного треугольника равна 9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0" y="2257560"/>
            <a:ext cx="302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979640" y="5300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835280" y="501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1908000" y="1916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211640" y="49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ямоугольном равнобедренном треугольнике острые углы равны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95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 rot="8098200">
            <a:off x="1389960" y="3773160"/>
            <a:ext cx="2548080" cy="2513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486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2764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484360" y="2637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7" name="AutoShape 16"/>
          <p:cNvSpPr/>
          <p:nvPr/>
        </p:nvSpPr>
        <p:spPr>
          <a:xfrm rot="3258000">
            <a:off x="6291000" y="3587760"/>
            <a:ext cx="1467000" cy="282240"/>
          </a:xfrm>
          <a:prstGeom prst="rightArrow">
            <a:avLst>
              <a:gd name="adj1" fmla="val 50000"/>
              <a:gd name="adj2" fmla="val 129943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3809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, лежащий против угла в 3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вен половине гипотену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31" name="AutoShape 13"/>
          <p:cNvSpPr/>
          <p:nvPr/>
        </p:nvSpPr>
        <p:spPr>
          <a:xfrm rot="16200000">
            <a:off x="4895640" y="2457360"/>
            <a:ext cx="4681440" cy="1871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5667840" y="5197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8056440" y="33336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8042400" y="519732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9800" y="404280"/>
            <a:ext cx="380988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6227640" y="836640"/>
            <a:ext cx="2016360" cy="446400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5739480" y="371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8129520" y="4764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08720" y="49086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1403280" y="371628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0160" y="189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7"/>
              <p:cNvSpPr txBox="1"/>
              <p:nvPr/>
            </p:nvSpPr>
            <p:spPr>
              <a:xfrm>
                <a:off x="4788000" y="3662280"/>
                <a:ext cx="3179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Н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6" name="Line 9"/>
          <p:cNvSpPr/>
          <p:nvPr/>
        </p:nvSpPr>
        <p:spPr>
          <a:xfrm flipV="1">
            <a:off x="1403280" y="4147920"/>
            <a:ext cx="9367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7" name="Line 10"/>
          <p:cNvSpPr/>
          <p:nvPr/>
        </p:nvSpPr>
        <p:spPr>
          <a:xfrm flipH="1">
            <a:off x="2484000" y="429264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8" name="Line 11"/>
          <p:cNvSpPr/>
          <p:nvPr/>
        </p:nvSpPr>
        <p:spPr>
          <a:xfrm flipH="1" flipV="1">
            <a:off x="2195640" y="443664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84360" y="5372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755640" y="306864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2067480" y="339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5798160" y="537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8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1476360" y="378936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 flipV="1">
            <a:off x="1476360" y="4221000"/>
            <a:ext cx="936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 flipH="1">
            <a:off x="2557080" y="4365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8" name="Line 8"/>
          <p:cNvSpPr/>
          <p:nvPr/>
        </p:nvSpPr>
        <p:spPr>
          <a:xfrm flipH="1" flipV="1">
            <a:off x="2268000" y="450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57080" y="5445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828720" y="314172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2140560" y="34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6086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"/>
              <p:cNvSpPr txBox="1"/>
              <p:nvPr/>
            </p:nvSpPr>
            <p:spPr>
              <a:xfrm>
                <a:off x="3924360" y="3213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5" name="Rectangle 16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5724360" y="4076640"/>
                <a:ext cx="302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ПРЯМОУГОЛЬНЫЙ </a:t>
            </a:r>
            <a:br>
              <a:rPr sz="4000"/>
            </a:b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ТРЕУГОЛЬНИК-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71280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О ТРЕУГОЛЬНИК, В КОТОРОМ ОДИН ИЗ УГЛОВ ПРЯМОЙ (90</a:t>
            </a:r>
            <a:r>
              <a:rPr b="1" lang="ru-RU" sz="3200" spc="-1" strike="noStrike">
                <a:solidFill>
                  <a:srgbClr val="336699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2843280" y="4869000"/>
            <a:ext cx="4608360" cy="107928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843280" y="5661000"/>
            <a:ext cx="28728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132000" y="5661000"/>
            <a:ext cx="0" cy="28908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3100"/>
            </a:b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3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63640" y="2997360"/>
            <a:ext cx="3097440" cy="2738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ГИПОТЕНУЗА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-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227640" y="1916280"/>
            <a:ext cx="2160720" cy="345744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14" name="Diagram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15" name="Rectangle 23"/>
          <p:cNvSpPr/>
          <p:nvPr/>
        </p:nvSpPr>
        <p:spPr>
          <a:xfrm>
            <a:off x="5651640" y="13701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831708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796000" y="5157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227640" y="5157720"/>
            <a:ext cx="216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602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ПРИЗНАКИ </a:t>
            </a:r>
            <a:br>
              <a:rPr sz="5700"/>
            </a:b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РАВЕНСТВА ПРЯМОУГОЛЬНЫХ ТРЕУГОЛЬНИКОВ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2920" y="404640"/>
            <a:ext cx="4210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6" name="Line 23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9" name="Line 26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7164360" y="61657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29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7" name="Line 20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8" name="Arc 23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9" name="Arc 25"/>
          <p:cNvSpPr/>
          <p:nvPr/>
        </p:nvSpPr>
        <p:spPr>
          <a:xfrm rot="5400000">
            <a:off x="7165080" y="472356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066920" y="189000"/>
            <a:ext cx="460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4" name="Line 28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7" name="Arc 34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8" name="Arc 35"/>
          <p:cNvSpPr/>
          <p:nvPr/>
        </p:nvSpPr>
        <p:spPr>
          <a:xfrm rot="5400000">
            <a:off x="6949080" y="458064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293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4619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6948360" y="602136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13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НЕКОТОРЫЕ СВОЙСТВА </a:t>
            </a: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ПРЯМОУГОЛЬНОГО</a:t>
            </a: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 ТРЕУГОЛЬН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4:31Z</dcterms:created>
  <dc:creator>Alexey Kuptzov</dc:creator>
  <dc:description/>
  <dc:language>en-US</dc:language>
  <cp:lastModifiedBy>LEGION</cp:lastModifiedBy>
  <dcterms:modified xsi:type="dcterms:W3CDTF">2015-01-23T11:48:18Z</dcterms:modified>
  <cp:revision>25</cp:revision>
  <dc:subject/>
  <dc:title>ПРЯМОУГОЛЬНЫЙ  ТРЕУГОЛЬНИК-</dc:title>
</cp:coreProperties>
</file>