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D4EF-DFEA-4550-BE6C-46C6798680A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разработана учителем математики МОУ «Корниловская средняя школа» Купцовой Е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E92F-A3C0-4012-BB92-3961C47D2B6E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ТЕОРЕМА ПИФАГО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ямоугольном треугольнике квадрат гипотенузы равен сумме квадратов кате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5787-E6D5-4ED5-A42E-B1A0D047B3C4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а острых угло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ого треугольника равна 9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=9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=9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DDB4-A232-467C-90A3-3EDC7A468F8B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ямоугольном равнобедренном треугольнике острые углы равны 45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 = 90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=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=45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=45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4349-7AED-47CC-B538-10854EBDDEC7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т прямоугольного треугольника, лежащий против угла в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вен половине гипотену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С=АВ/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E109-50DE-464A-901C-1916ACBC033B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С=АВ/2 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EE47-A134-421F-9717-BB503BF53AD3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та прямоугольного треугольника, проведённая из вершины прямого угла, есть среднее пропорциональное для отрезков, на которые делится гипотенуза высот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B14B-3F20-4483-AA0E-2AFF168731FF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ет прямоугольного треугольника есть среднее пропорциональное  для гипотенузы и отрезка гипотенузы, заключённого между катетом и высотой, проведённой из вершины прямого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37BB-EA85-48E1-80B8-CA089A388CCD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ПРЯМОУГОЛЬНЫЙ </a:t>
            </a:r>
            <a:br>
              <a:rPr sz="1600"/>
            </a:b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ТРЕУГОЛЬНИК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РЕУГОЛЬНИК, В КОТОРОМ ОДИН ИЗ УГЛОВ ПРЯМОЙ (90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305A-F7F8-42B2-92AB-59D8743BF1E5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ccff"/>
                </a:solidFill>
                <a:uFillTx/>
                <a:latin typeface="Comic Sans MS"/>
              </a:rPr>
              <a:t>СТОРОНЫ </a:t>
            </a:r>
            <a:br>
              <a:rPr sz="1600"/>
            </a:br>
            <a:r>
              <a:rPr b="1" i="1" lang="ru-RU" sz="1600" spc="-1" strike="noStrike" u="sng">
                <a:solidFill>
                  <a:srgbClr val="33ccff"/>
                </a:solidFill>
                <a:uFillTx/>
                <a:latin typeface="Comic Sans MS"/>
              </a:rPr>
              <a:t>ПРЯМОУГОЛЬНОГО ТРЕУГОЛЬН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ГИПОТЕНУ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А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КА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0878-D6CC-4E69-9D7B-B00046CF6730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66ff"/>
                </a:solidFill>
                <a:latin typeface="Calibri"/>
              </a:rPr>
              <a:t>ПРИЗНАКИ </a:t>
            </a:r>
            <a:br>
              <a:rPr sz="1200"/>
            </a:br>
            <a:r>
              <a:rPr b="1" i="1" lang="ru-RU" sz="1200" spc="-1" strike="noStrike">
                <a:solidFill>
                  <a:srgbClr val="6666ff"/>
                </a:solidFill>
                <a:latin typeface="Calibri"/>
              </a:rPr>
              <a:t>РАВЕНСТВА ПРЯМОУГОЛЬНЫХ ТРЕУГ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C2E1-1114-4B5F-B04E-64190373442D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Если катеты одного прямоугольного треугольника соответственно равны катетам другого прямоугольного треугольника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CDAF-3058-45EF-BCF1-5D2EF3FFC8FD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68D5-AB0B-4DDF-94DF-F7FE44ECBC7E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Если гипотенуза и острый угол одного прямоугольного треугольника соответственно равны гипотенузе и острому углу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2945-26F9-4EF9-AD2A-A790BBA53CA9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Если гипотенуза и катет одного прямоугольного треугольника соответственно равны гипотенузе и катету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B151-D6C3-4AE7-B1DE-DC5952EEA668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КОТОРЫЕ СВОЙСТВА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ПРЯМОУГОЛЬНО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ТРЕУГ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8D1D-3981-4175-8B98-D6984CCE3986}" type="slidenum">
              <a:rPr b="1" lang="uk-UA" sz="1200" spc="-1" strike="noStrike">
                <a:solidFill>
                  <a:srgbClr val="336699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9F77-0B8F-4964-891A-200CC988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3FDE-DE20-44A8-B535-8E3EA301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14C4A-D48A-431B-9E15-F552036B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A9AA3-E38F-41E6-800E-7E365999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0BCF4-BD96-446F-96DC-ECBBA2FB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82DFC-7A16-4376-88E6-BBCA7AEA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3AD08-3CB4-47D0-A8F1-D8691C14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C74D6-4ABD-4988-9E48-18C8BB3B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4A1F7-4A8E-46AA-A68E-D3196881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37F83-64A8-4684-9785-54453348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D53EF-7152-48AB-982A-D2E04B2FE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20D21-A108-4F73-A751-D645DA64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1F79-E6EA-4AAA-BBE8-F93577EC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21AF3-264A-431B-9B88-E99DFF39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5D8EB-3E44-4B37-9001-A0320FF0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D14F2-FC2C-4A23-8D5A-FEF55DE8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3A246-B563-43EB-88FB-A78B9E5A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841D4-0AC6-4930-9085-B006744B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C85A0-62DC-4B85-917C-C4580111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E83D0-EF2F-4478-B707-EECD447B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F5E68-FFF1-41CC-BEEA-6692B188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2D304-B5C1-49F2-88B3-2D4AE98B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62828-61C8-4C29-8249-B3499189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38FC-F437-4232-BFF1-4F13E761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75B9B-0012-4D01-9897-C120BD85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17E5-5EF8-4B5A-9808-969F72FB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7B59-98CD-4E01-9965-2651485A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170E-C08B-45E4-A5DC-EC0992E0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4C75-8393-4FC1-AA3B-DB47492F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59D2-1943-4A8C-B6C4-E343BA4E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1646-B074-4921-9D56-CDA5CCE7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9FE9-1CCC-4684-AD3D-B9E1FEB5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9987-7C5A-41E8-A2F6-67263000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4769-A21C-431B-8EEB-F98A32A1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9C23-7118-49C0-8FA6-54C60BA0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6304-F45E-4051-9E3E-93EE62A2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6438-E084-4F18-B4E3-D858FAC7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9C27-5931-452A-A7B9-A4D3DD12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5E86A-E3BC-482E-B212-7C1B9093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A00D2-88D4-45A0-BBBD-95825353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D4211-6974-4578-A1A1-799AE1E8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609D4-32DB-4585-9E74-112BE41B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A0B51-1B2C-420D-9F7B-75999458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7AAE-D833-4B97-B0CA-AFF2BFCC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28388-8F62-4F13-8975-8AC104D0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F97A3-C58C-445A-83BB-8B89F2BF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CE3BE-37CE-4AAA-A2DA-50811868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EE013-0CE9-48B0-AD83-B50D50D2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C7C23-F57B-4F2D-A92F-72BBCF58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DB184-A249-453D-AC11-5B2E75D1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15871-E51E-439A-BD7F-FDBDBDA0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D088C-2448-4D6B-850D-6555F6B6B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E7C51-2AAF-4F3B-BE38-283ED401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BFA53-A6B5-4B4C-B824-A5CBA556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9509-41BA-4B21-BFAE-C05DE038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E7BAC-35CA-4AA8-8503-C2FE9749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5A1F5-D68F-46C5-8BCC-FD8E63EE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A719F-8C9C-4D72-9CD6-FC15591F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3A48F-5391-4E7D-A709-80A741C7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FF22A-3B98-4CD8-A254-C8F5CE3D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3417F-B0C3-449F-92FC-B29D5E53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06935-44E9-43ED-B73D-F11D77ED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80F91-5522-481F-A22A-3DFD8BA5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1143D-3582-477C-A7D0-0726F2BB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7CD149-B4CB-43A2-90AF-F6D4670C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F640-D784-4F80-B694-33B83F91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314F02-9C87-40B3-8D39-1CC0BE81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3267AC-C8CD-426C-84D7-BFE58EAD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BEB1B5-2499-4EAA-906D-8C4B7496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CD8EF2-436E-4472-8DA7-2E7FFE34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A71894-AA00-4D93-83A3-71503E2B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5F3BDF-8095-4735-BB94-5B9208E3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BA865D-CFD2-490E-ACBF-D42837A9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A0DCE4-2BC1-4049-B814-97899300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98DA00-E26A-44D2-A010-8C34D655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6F4A2F-F042-4F3F-B40E-D14A0662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B61F-7745-4C52-92C3-519E0674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9493EF-481B-44C9-BAB7-F3DB0E8D2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EA7BD-6682-46D4-B08D-A87EE62ED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48453-125F-4DC4-81BE-0DC9E4BF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29031-A179-4416-8C73-577445B9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37D32-F2C0-4B59-B6C0-5C4459B9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D38E6-6658-487C-9624-C8C17629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0A535-DB64-4832-A710-42C96F03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EDA4A-8BD3-4698-81C1-2ADCB229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EDBD5-7727-47E2-8BC5-E0FF7D5B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19C51-CB7E-40E9-83D7-7246283D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E327-1AC7-42F5-9DD7-C09F1BE5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B182D-EB54-44FA-97A6-2F656837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A4BA5-8359-4AB3-A331-F9BC6D79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39B30-8D6C-41F6-BA20-29677709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9CBAB-3C04-4469-9401-34D68CB8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4B192-C47B-412A-84CA-D1B8FDBA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79BC7-80C7-48C6-ACFB-38110784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C7D2A-5D58-4F2F-8E54-58415AD5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1F79A-7DD7-4C28-8417-582CE94C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F9018-284F-4D59-8355-FD8F41CB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0DD54-8585-47FD-81B0-6592F865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B197-E72D-4D74-A1EC-5D1E533F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FF5B9-E966-47A2-8F0B-2D130C87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D64BB-0C76-43BE-B106-D9E5A73F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E11B7-58E1-4361-BD17-672AF3A3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C5898-C3C1-4FCA-A095-EC3B92FC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E7AC2-C4EA-4D51-AE5A-A828F6B8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15F07-F2C9-4304-BFC0-F1615090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F46C5-6368-4913-BF03-2DC996DE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9E36B-A62C-4529-966A-DDD87F16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F5692-E50A-4188-A9F6-DC8D68A8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9594C-14D6-428C-9E56-110DED4F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6FEF-729F-42A8-B5C0-64930DFA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E0A43-4193-4B69-A035-24EB24DA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8590E-7DC1-445D-92B5-9BD5EBF2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A43A8-ECCA-4749-94F8-E0457293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8E5D6-68FD-4E79-85A0-608C6FBB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68A71-37E3-4AF1-AB6B-A7A845C1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B975D-59E5-42DE-9349-03A9204F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B7AAB-7D25-4252-9B5F-ADBC8FF9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A81ED-1D44-4064-8B58-039A234B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F3EFF-B425-4904-88BD-6BEADACB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F80D8-4F8B-43FA-B3EA-A298B4C5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79EC-6654-4C4C-8D80-5F0484FD12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43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43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4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5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5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45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9256-38E5-457A-BD0C-1E31104FA8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F1B0-12B5-4E2D-9AF9-88B79A5A10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grpSp>
          <p:nvGrpSpPr>
            <p:cNvPr id="9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9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1CFF-31E7-4ECB-83F8-1F41B24DAF3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1A7F-2E10-403F-8404-7AD1DF1A156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046C-6E3C-4ADB-9247-6A8E664F02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94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7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8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199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0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1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2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3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4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5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06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207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245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46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47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48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8B74-139F-4629-A6AC-F9B3742DF9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29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9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9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294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7EF8-7FB4-4A06-8ED5-727E1057CEB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37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grpSp>
          <p:nvGrpSpPr>
            <p:cNvPr id="338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39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40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41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  <p:grpSp>
          <p:nvGrpSpPr>
            <p:cNvPr id="342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43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44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EFA4-B9DE-4D5A-A33F-5E6E870B1FF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87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88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89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  <p:grpSp>
          <p:nvGrpSpPr>
            <p:cNvPr id="390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391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  <p:sp>
            <p:nvSpPr>
              <p:cNvPr id="392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100" spc="-1" strike="noStrike">
                  <a:solidFill>
                    <a:srgbClr val="336699"/>
                  </a:solidFill>
                  <a:latin typeface="Comic Sans MS"/>
                </a:endParaRPr>
              </a:p>
            </p:txBody>
          </p:sp>
        </p:grpSp>
        <p:sp>
          <p:nvSpPr>
            <p:cNvPr id="393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100" spc="-1" strike="noStrike">
                <a:solidFill>
                  <a:srgbClr val="336699"/>
                </a:solidFill>
                <a:latin typeface="Comic Sans MS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9294-A2F3-4569-A0E2-B4855275EB3E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AutoShape 11"/>
          <p:cNvSpPr/>
          <p:nvPr/>
        </p:nvSpPr>
        <p:spPr>
          <a:xfrm rot="10800000">
            <a:off x="539280" y="1915920"/>
            <a:ext cx="8209080" cy="367344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2" name="Text Box 12"/>
          <p:cNvSpPr/>
          <p:nvPr/>
        </p:nvSpPr>
        <p:spPr>
          <a:xfrm>
            <a:off x="2700360" y="2133720"/>
            <a:ext cx="644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mic Sans MS"/>
              </a:rPr>
              <a:t>ПРЯМОУГОЛЬНЫЙ ТРЕУГОЛЬНИК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14200" y="5143680"/>
            <a:ext cx="578664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ентация разработана учителем математики МОУ «Корниловская средняя школа» Купцовой Е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 u="sng">
                <a:solidFill>
                  <a:srgbClr val="6a4076"/>
                </a:solidFill>
                <a:uFillTx/>
                <a:latin typeface="Comic Sans MS"/>
              </a:rPr>
              <a:t>ТЕОРЕМА ПИФАГОРА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633564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прямоугольном треугольнике квадрат гипотенузы равен сумме квадратов катет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AutoShape 4"/>
          <p:cNvSpPr/>
          <p:nvPr/>
        </p:nvSpPr>
        <p:spPr>
          <a:xfrm>
            <a:off x="4572000" y="3284640"/>
            <a:ext cx="3529080" cy="273816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7710480" y="573408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3924360" y="587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6" name="Line 7"/>
          <p:cNvSpPr/>
          <p:nvPr/>
        </p:nvSpPr>
        <p:spPr>
          <a:xfrm>
            <a:off x="4572000" y="5805360"/>
            <a:ext cx="352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7" name="Line 8"/>
          <p:cNvSpPr/>
          <p:nvPr/>
        </p:nvSpPr>
        <p:spPr>
          <a:xfrm>
            <a:off x="4932360" y="5805360"/>
            <a:ext cx="32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8" name="Rectangle 9"/>
          <p:cNvSpPr/>
          <p:nvPr/>
        </p:nvSpPr>
        <p:spPr>
          <a:xfrm flipV="1" rot="10800000">
            <a:off x="4065120" y="2780640"/>
            <a:ext cx="5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0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Object 11"/>
              <p:cNvSpPr txBox="1"/>
              <p:nvPr/>
            </p:nvSpPr>
            <p:spPr>
              <a:xfrm>
                <a:off x="539640" y="4221000"/>
                <a:ext cx="34876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611" name="Picture 13" descr=""/>
          <p:cNvPicPr/>
          <p:nvPr/>
        </p:nvPicPr>
        <p:blipFill>
          <a:blip r:embed="rId1"/>
          <a:stretch/>
        </p:blipFill>
        <p:spPr>
          <a:xfrm>
            <a:off x="6732720" y="1268280"/>
            <a:ext cx="1733400" cy="2917800"/>
          </a:xfrm>
          <a:prstGeom prst="rect">
            <a:avLst/>
          </a:prstGeom>
          <a:ln w="0">
            <a:noFill/>
          </a:ln>
        </p:spPr>
      </p:pic>
      <p:sp>
        <p:nvSpPr>
          <p:cNvPr id="6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43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1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6"/>
          <p:cNvSpPr/>
          <p:nvPr/>
        </p:nvSpPr>
        <p:spPr>
          <a:xfrm>
            <a:off x="2484360" y="2205000"/>
            <a:ext cx="1944720" cy="316872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371600" y="189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6a4076"/>
                </a:solidFill>
                <a:latin typeface="Tahoma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Сумма острых углов </a:t>
            </a:r>
            <a:br>
              <a:rPr sz="3100"/>
            </a:b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прямоугольного треугольника равна 90</a:t>
            </a:r>
            <a:r>
              <a:rPr b="0" lang="ru-RU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0" y="2257560"/>
            <a:ext cx="30240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=9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=9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Text Box 10"/>
          <p:cNvSpPr/>
          <p:nvPr/>
        </p:nvSpPr>
        <p:spPr>
          <a:xfrm>
            <a:off x="1979640" y="530064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7" name="Text Box 11"/>
          <p:cNvSpPr/>
          <p:nvPr/>
        </p:nvSpPr>
        <p:spPr>
          <a:xfrm>
            <a:off x="1835280" y="50133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8" name="Text Box 12"/>
          <p:cNvSpPr/>
          <p:nvPr/>
        </p:nvSpPr>
        <p:spPr>
          <a:xfrm>
            <a:off x="1908000" y="19162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19" name="Text Box 13"/>
          <p:cNvSpPr/>
          <p:nvPr/>
        </p:nvSpPr>
        <p:spPr>
          <a:xfrm>
            <a:off x="4211640" y="494172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рямоугольном равнобедренном треугольнике острые углы равны 45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858920" y="2133720"/>
            <a:ext cx="409572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 = 90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С=В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=45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=45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AutoShape 8"/>
          <p:cNvSpPr/>
          <p:nvPr/>
        </p:nvSpPr>
        <p:spPr>
          <a:xfrm rot="8098200">
            <a:off x="1389960" y="3773160"/>
            <a:ext cx="2548080" cy="251316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395280" y="486900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5" name="Text Box 11"/>
          <p:cNvSpPr/>
          <p:nvPr/>
        </p:nvSpPr>
        <p:spPr>
          <a:xfrm>
            <a:off x="4427640" y="494172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6" name="Text Box 12"/>
          <p:cNvSpPr/>
          <p:nvPr/>
        </p:nvSpPr>
        <p:spPr>
          <a:xfrm>
            <a:off x="2484360" y="2637000"/>
            <a:ext cx="5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7" name="AutoShape 16"/>
          <p:cNvSpPr/>
          <p:nvPr/>
        </p:nvSpPr>
        <p:spPr>
          <a:xfrm rot="3258000">
            <a:off x="6291000" y="3587760"/>
            <a:ext cx="1467000" cy="282240"/>
          </a:xfrm>
          <a:prstGeom prst="rightArrow">
            <a:avLst>
              <a:gd name="adj1" fmla="val 50000"/>
              <a:gd name="adj2" fmla="val 129943"/>
            </a:avLst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2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7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0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77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7" dur="770" fill="hold"/>
                                        <p:tgtEl>
                                          <p:spTgt spid="6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9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1" dur="77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1369800" y="549000"/>
            <a:ext cx="380988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тет прямоугольного треугольника, лежащий против угла в 30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равен половине гипотенуз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С=АВ/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0" name="Diagram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631" name="AutoShape 13"/>
          <p:cNvSpPr/>
          <p:nvPr/>
        </p:nvSpPr>
        <p:spPr>
          <a:xfrm rot="16200000">
            <a:off x="4895640" y="2457360"/>
            <a:ext cx="4681440" cy="187164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5667840" y="51973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3" name="Text Box 15"/>
          <p:cNvSpPr/>
          <p:nvPr/>
        </p:nvSpPr>
        <p:spPr>
          <a:xfrm>
            <a:off x="8056440" y="333360"/>
            <a:ext cx="5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4" name="Text Box 16"/>
          <p:cNvSpPr/>
          <p:nvPr/>
        </p:nvSpPr>
        <p:spPr>
          <a:xfrm>
            <a:off x="8042400" y="5197320"/>
            <a:ext cx="70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20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20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20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/>
          </p:nvPr>
        </p:nvSpPr>
        <p:spPr>
          <a:xfrm>
            <a:off x="1369800" y="404280"/>
            <a:ext cx="3809880" cy="53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0" lang="ru-RU" sz="31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1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С=АВ/2 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=30</a:t>
            </a:r>
            <a:r>
              <a:rPr b="0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AutoShape 7"/>
          <p:cNvSpPr/>
          <p:nvPr/>
        </p:nvSpPr>
        <p:spPr>
          <a:xfrm>
            <a:off x="6227640" y="836640"/>
            <a:ext cx="2016360" cy="446400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8" name="Text Box 8"/>
          <p:cNvSpPr/>
          <p:nvPr/>
        </p:nvSpPr>
        <p:spPr>
          <a:xfrm>
            <a:off x="5739480" y="3715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39" name="Text Box 11"/>
          <p:cNvSpPr/>
          <p:nvPr/>
        </p:nvSpPr>
        <p:spPr>
          <a:xfrm>
            <a:off x="8129520" y="47642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5508720" y="4908600"/>
            <a:ext cx="8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9" dur="5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3" dur="2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7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AutoShape 4"/>
          <p:cNvSpPr/>
          <p:nvPr/>
        </p:nvSpPr>
        <p:spPr>
          <a:xfrm>
            <a:off x="1403280" y="3716280"/>
            <a:ext cx="4535640" cy="208764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1370160" y="189360"/>
            <a:ext cx="7773840" cy="28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ысота прямоугольного треугольника, проведённая из вершины прямого угла, есть среднее пропорциональное для отрезков, на которые делится гипотенуза высот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Object 7"/>
              <p:cNvSpPr txBox="1"/>
              <p:nvPr/>
            </p:nvSpPr>
            <p:spPr>
              <a:xfrm>
                <a:off x="4788000" y="3662280"/>
                <a:ext cx="31795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СН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Н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НВ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46" name="Line 9"/>
          <p:cNvSpPr/>
          <p:nvPr/>
        </p:nvSpPr>
        <p:spPr>
          <a:xfrm flipV="1">
            <a:off x="1403280" y="4147920"/>
            <a:ext cx="936720" cy="16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7" name="Line 10"/>
          <p:cNvSpPr/>
          <p:nvPr/>
        </p:nvSpPr>
        <p:spPr>
          <a:xfrm flipH="1">
            <a:off x="2484000" y="429264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8" name="Line 11"/>
          <p:cNvSpPr/>
          <p:nvPr/>
        </p:nvSpPr>
        <p:spPr>
          <a:xfrm flipH="1" flipV="1">
            <a:off x="2195640" y="4436640"/>
            <a:ext cx="288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49" name="Text Box 12"/>
          <p:cNvSpPr/>
          <p:nvPr/>
        </p:nvSpPr>
        <p:spPr>
          <a:xfrm>
            <a:off x="684360" y="5372280"/>
            <a:ext cx="86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0" name="Text Box 13"/>
          <p:cNvSpPr/>
          <p:nvPr/>
        </p:nvSpPr>
        <p:spPr>
          <a:xfrm>
            <a:off x="755640" y="3068640"/>
            <a:ext cx="113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1" name="Text Box 14"/>
          <p:cNvSpPr/>
          <p:nvPr/>
        </p:nvSpPr>
        <p:spPr>
          <a:xfrm>
            <a:off x="2067480" y="3392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2" name="Text Box 15"/>
          <p:cNvSpPr/>
          <p:nvPr/>
        </p:nvSpPr>
        <p:spPr>
          <a:xfrm>
            <a:off x="5798160" y="5372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1370160" y="333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тет прямоугольного треугольника есть среднее пропорциональное  для гипотенузы и отрезка гипотенузы, заключённого между катетом и высотой, проведённой из вершины прямого угл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1476360" y="3789360"/>
            <a:ext cx="4535640" cy="2087640"/>
          </a:xfrm>
          <a:prstGeom prst="rtTriangle">
            <a:avLst/>
          </a:prstGeom>
          <a:solidFill>
            <a:srgbClr val="dba9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6" name="Line 6"/>
          <p:cNvSpPr/>
          <p:nvPr/>
        </p:nvSpPr>
        <p:spPr>
          <a:xfrm flipV="1">
            <a:off x="1476360" y="4221000"/>
            <a:ext cx="93672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7" name="Line 7"/>
          <p:cNvSpPr/>
          <p:nvPr/>
        </p:nvSpPr>
        <p:spPr>
          <a:xfrm flipH="1">
            <a:off x="2557080" y="43657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8" name="Line 8"/>
          <p:cNvSpPr/>
          <p:nvPr/>
        </p:nvSpPr>
        <p:spPr>
          <a:xfrm flipH="1" flipV="1">
            <a:off x="2268000" y="4509720"/>
            <a:ext cx="289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59" name="Text Box 9"/>
          <p:cNvSpPr/>
          <p:nvPr/>
        </p:nvSpPr>
        <p:spPr>
          <a:xfrm>
            <a:off x="757080" y="54450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828720" y="3141720"/>
            <a:ext cx="113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1" name="Text Box 11"/>
          <p:cNvSpPr/>
          <p:nvPr/>
        </p:nvSpPr>
        <p:spPr>
          <a:xfrm>
            <a:off x="2140560" y="3465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2" name="Text Box 12"/>
          <p:cNvSpPr/>
          <p:nvPr/>
        </p:nvSpPr>
        <p:spPr>
          <a:xfrm>
            <a:off x="6086880" y="5516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663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Object 13"/>
              <p:cNvSpPr txBox="1"/>
              <p:nvPr/>
            </p:nvSpPr>
            <p:spPr>
              <a:xfrm>
                <a:off x="3924360" y="3213000"/>
                <a:ext cx="2808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С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АН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65" name="Rectangle 16"/>
          <p:cNvSpPr/>
          <p:nvPr/>
        </p:nvSpPr>
        <p:spPr>
          <a:xfrm>
            <a:off x="32400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15"/>
              <p:cNvSpPr txBox="1"/>
              <p:nvPr/>
            </p:nvSpPr>
            <p:spPr>
              <a:xfrm>
                <a:off x="5724360" y="4076640"/>
                <a:ext cx="30243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ВН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6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15640" y="620280"/>
            <a:ext cx="70563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66ff"/>
                </a:solidFill>
                <a:uFillTx/>
                <a:latin typeface="Comic Sans MS"/>
              </a:rPr>
              <a:t>ПРЯМОУГОЛЬНЫЙ </a:t>
            </a:r>
            <a:br>
              <a:rPr sz="4000"/>
            </a:br>
            <a:r>
              <a:rPr b="1" i="1" lang="ru-RU" sz="4000" spc="-1" strike="noStrike" u="sng">
                <a:solidFill>
                  <a:srgbClr val="0066ff"/>
                </a:solidFill>
                <a:uFillTx/>
                <a:latin typeface="Comic Sans MS"/>
              </a:rPr>
              <a:t>ТРЕУГОЛЬНИК-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476360" y="2637000"/>
            <a:ext cx="7128000" cy="15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ЭТО ТРЕУГОЛЬНИК, В КОТОРОМ ОДИН ИЗ УГЛОВ ПРЯМОЙ (90</a:t>
            </a:r>
            <a:r>
              <a:rPr b="1" lang="ru-RU" sz="3200" spc="-1" strike="noStrike">
                <a:solidFill>
                  <a:srgbClr val="336699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7" name="AutoShape 5"/>
          <p:cNvSpPr/>
          <p:nvPr/>
        </p:nvSpPr>
        <p:spPr>
          <a:xfrm>
            <a:off x="2843280" y="4869000"/>
            <a:ext cx="4608360" cy="1079280"/>
          </a:xfrm>
          <a:prstGeom prst="rtTriangl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8" name="Line 7"/>
          <p:cNvSpPr/>
          <p:nvPr/>
        </p:nvSpPr>
        <p:spPr>
          <a:xfrm>
            <a:off x="2843280" y="5661000"/>
            <a:ext cx="28728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3132000" y="5661000"/>
            <a:ext cx="0" cy="28908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0" name="Місце для нижнього колонтитула 1"/>
          <p:cNvSpPr/>
          <p:nvPr/>
        </p:nvSpPr>
        <p:spPr>
          <a:xfrm>
            <a:off x="320040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 u="sng">
                <a:solidFill>
                  <a:srgbClr val="33ccff"/>
                </a:solidFill>
                <a:uFillTx/>
                <a:latin typeface="Comic Sans MS"/>
              </a:rPr>
              <a:t>СТОРОНЫ </a:t>
            </a:r>
            <a:br>
              <a:rPr sz="3100"/>
            </a:br>
            <a:r>
              <a:rPr b="1" i="1" lang="ru-RU" sz="3100" spc="-1" strike="noStrike" u="sng">
                <a:solidFill>
                  <a:srgbClr val="33ccff"/>
                </a:solidFill>
                <a:uFillTx/>
                <a:latin typeface="Comic Sans MS"/>
              </a:rPr>
              <a:t>ПРЯМОУГОЛЬНОГО ТРЕУГОЛЬНИКА</a:t>
            </a:r>
            <a:endParaRPr b="0" lang="en-US" sz="31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763640" y="2997360"/>
            <a:ext cx="3097440" cy="27381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– ГИПОТЕНУЗА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– КАТЕТ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 - КАТЕТ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3" name="AutoShape 10"/>
          <p:cNvSpPr/>
          <p:nvPr/>
        </p:nvSpPr>
        <p:spPr>
          <a:xfrm>
            <a:off x="6227640" y="1916280"/>
            <a:ext cx="2160720" cy="3457440"/>
          </a:xfrm>
          <a:prstGeom prst="rtTriangle">
            <a:avLst/>
          </a:prstGeom>
          <a:solidFill>
            <a:srgbClr val="66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grpSp>
        <p:nvGrpSpPr>
          <p:cNvPr id="514" name="Diagram 1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515" name="Rectangle 23"/>
          <p:cNvSpPr/>
          <p:nvPr/>
        </p:nvSpPr>
        <p:spPr>
          <a:xfrm>
            <a:off x="5651640" y="137016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6" name="Text Box 24"/>
          <p:cNvSpPr/>
          <p:nvPr/>
        </p:nvSpPr>
        <p:spPr>
          <a:xfrm>
            <a:off x="8317080" y="508464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7" name="Text Box 25"/>
          <p:cNvSpPr/>
          <p:nvPr/>
        </p:nvSpPr>
        <p:spPr>
          <a:xfrm>
            <a:off x="5796000" y="515772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8" name="Line 26"/>
          <p:cNvSpPr/>
          <p:nvPr/>
        </p:nvSpPr>
        <p:spPr>
          <a:xfrm>
            <a:off x="6227640" y="5157720"/>
            <a:ext cx="2160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19" name="Line 27"/>
          <p:cNvSpPr/>
          <p:nvPr/>
        </p:nvSpPr>
        <p:spPr>
          <a:xfrm>
            <a:off x="6443640" y="5157720"/>
            <a:ext cx="0" cy="2160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8920" y="1341000"/>
            <a:ext cx="8602920" cy="43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700" spc="-1" strike="noStrike">
                <a:solidFill>
                  <a:srgbClr val="6666ff"/>
                </a:solidFill>
                <a:latin typeface="Times New Roman"/>
              </a:rPr>
              <a:t>ПРИЗНАКИ </a:t>
            </a:r>
            <a:br>
              <a:rPr sz="5700"/>
            </a:br>
            <a:r>
              <a:rPr b="1" i="1" lang="ru-RU" sz="5700" spc="-1" strike="noStrike">
                <a:solidFill>
                  <a:srgbClr val="6666ff"/>
                </a:solidFill>
                <a:latin typeface="Times New Roman"/>
              </a:rPr>
              <a:t>РАВЕНСТВА ПРЯМОУГОЛЬНЫХ ТРЕУГОЛЬНИКОВ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914040" y="2491920"/>
            <a:ext cx="38098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Если катеты одного прямоугольного треугольника соответственно равны катетам другого прямоугольного треугольника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642920" y="404640"/>
            <a:ext cx="42102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6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29" name="Line 10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1" name="AutoShape 18"/>
          <p:cNvSpPr/>
          <p:nvPr/>
        </p:nvSpPr>
        <p:spPr>
          <a:xfrm>
            <a:off x="7164360" y="422100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2" name="Rectangle 19"/>
          <p:cNvSpPr/>
          <p:nvPr/>
        </p:nvSpPr>
        <p:spPr>
          <a:xfrm>
            <a:off x="6588000" y="400356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3" name="Text Box 20"/>
          <p:cNvSpPr/>
          <p:nvPr/>
        </p:nvSpPr>
        <p:spPr>
          <a:xfrm>
            <a:off x="8172360" y="5877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4" name="Text Box 21"/>
          <p:cNvSpPr/>
          <p:nvPr/>
        </p:nvSpPr>
        <p:spPr>
          <a:xfrm>
            <a:off x="6516720" y="587700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5" name="Line 22"/>
          <p:cNvSpPr/>
          <p:nvPr/>
        </p:nvSpPr>
        <p:spPr>
          <a:xfrm>
            <a:off x="7164360" y="594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6" name="Line 23"/>
          <p:cNvSpPr/>
          <p:nvPr/>
        </p:nvSpPr>
        <p:spPr>
          <a:xfrm>
            <a:off x="7380360" y="594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7" name="Line 24"/>
          <p:cNvSpPr/>
          <p:nvPr/>
        </p:nvSpPr>
        <p:spPr>
          <a:xfrm>
            <a:off x="5219640" y="112536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8" name="Line 25"/>
          <p:cNvSpPr/>
          <p:nvPr/>
        </p:nvSpPr>
        <p:spPr>
          <a:xfrm>
            <a:off x="7164360" y="422100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39" name="Line 26"/>
          <p:cNvSpPr/>
          <p:nvPr/>
        </p:nvSpPr>
        <p:spPr>
          <a:xfrm>
            <a:off x="5219640" y="306864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0" name="Line 27"/>
          <p:cNvSpPr/>
          <p:nvPr/>
        </p:nvSpPr>
        <p:spPr>
          <a:xfrm>
            <a:off x="7164360" y="616572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ru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3297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0" y="260280"/>
            <a:ext cx="4114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С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6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0" name="Line 12"/>
          <p:cNvSpPr/>
          <p:nvPr/>
        </p:nvSpPr>
        <p:spPr>
          <a:xfrm>
            <a:off x="5219640" y="112536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7164360" y="422100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2" name="Rectangle 15"/>
          <p:cNvSpPr/>
          <p:nvPr/>
        </p:nvSpPr>
        <p:spPr>
          <a:xfrm>
            <a:off x="6588000" y="400356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3" name="Text Box 16"/>
          <p:cNvSpPr/>
          <p:nvPr/>
        </p:nvSpPr>
        <p:spPr>
          <a:xfrm>
            <a:off x="8172360" y="5877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4" name="Text Box 17"/>
          <p:cNvSpPr/>
          <p:nvPr/>
        </p:nvSpPr>
        <p:spPr>
          <a:xfrm>
            <a:off x="6516720" y="587700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5" name="Line 18"/>
          <p:cNvSpPr/>
          <p:nvPr/>
        </p:nvSpPr>
        <p:spPr>
          <a:xfrm>
            <a:off x="7164360" y="594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6" name="Line 19"/>
          <p:cNvSpPr/>
          <p:nvPr/>
        </p:nvSpPr>
        <p:spPr>
          <a:xfrm>
            <a:off x="7380360" y="594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7" name="Line 20"/>
          <p:cNvSpPr/>
          <p:nvPr/>
        </p:nvSpPr>
        <p:spPr>
          <a:xfrm>
            <a:off x="7164360" y="4221000"/>
            <a:ext cx="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8" name="Arc 23"/>
          <p:cNvSpPr/>
          <p:nvPr/>
        </p:nvSpPr>
        <p:spPr>
          <a:xfrm rot="5400000">
            <a:off x="5220360" y="162792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59" name="Arc 25"/>
          <p:cNvSpPr/>
          <p:nvPr/>
        </p:nvSpPr>
        <p:spPr>
          <a:xfrm rot="5400000">
            <a:off x="7165080" y="472356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r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971280" y="1557360"/>
            <a:ext cx="309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Если гипотенуза и острый угол одного прямоугольного треугольника соответственно равны гипотенузе и острому углу другого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066920" y="189000"/>
            <a:ext cx="46083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=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7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6" name="Text Box 10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7" name="Line 11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8" name="Line 12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69" name="AutoShape 23"/>
          <p:cNvSpPr/>
          <p:nvPr/>
        </p:nvSpPr>
        <p:spPr>
          <a:xfrm>
            <a:off x="6948360" y="407664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0" name="Rectangle 24"/>
          <p:cNvSpPr/>
          <p:nvPr/>
        </p:nvSpPr>
        <p:spPr>
          <a:xfrm>
            <a:off x="6372360" y="385920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1" name="Text Box 25"/>
          <p:cNvSpPr/>
          <p:nvPr/>
        </p:nvSpPr>
        <p:spPr>
          <a:xfrm>
            <a:off x="7956720" y="5732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2" name="Text Box 26"/>
          <p:cNvSpPr/>
          <p:nvPr/>
        </p:nvSpPr>
        <p:spPr>
          <a:xfrm>
            <a:off x="6300720" y="573264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3" name="Line 27"/>
          <p:cNvSpPr/>
          <p:nvPr/>
        </p:nvSpPr>
        <p:spPr>
          <a:xfrm>
            <a:off x="6948360" y="580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4" name="Line 28"/>
          <p:cNvSpPr/>
          <p:nvPr/>
        </p:nvSpPr>
        <p:spPr>
          <a:xfrm>
            <a:off x="7164360" y="5803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5" name="Line 31"/>
          <p:cNvSpPr/>
          <p:nvPr/>
        </p:nvSpPr>
        <p:spPr>
          <a:xfrm>
            <a:off x="5219640" y="112536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6" name="Line 32"/>
          <p:cNvSpPr/>
          <p:nvPr/>
        </p:nvSpPr>
        <p:spPr>
          <a:xfrm>
            <a:off x="6948360" y="407664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7" name="Arc 34"/>
          <p:cNvSpPr/>
          <p:nvPr/>
        </p:nvSpPr>
        <p:spPr>
          <a:xfrm rot="5400000">
            <a:off x="5220360" y="162792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8" name="Arc 35"/>
          <p:cNvSpPr/>
          <p:nvPr/>
        </p:nvSpPr>
        <p:spPr>
          <a:xfrm rot="5400000">
            <a:off x="6949080" y="4580640"/>
            <a:ext cx="216000" cy="2174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7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med">
    <p:cover dir="l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2936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Если гипотенуза и катет одного прямоугольного треугольника соответственно равны гипотенузе и катету другого, то такие треугольники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067280" y="259920"/>
            <a:ext cx="46195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=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=В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7"/>
          <p:cNvSpPr/>
          <p:nvPr/>
        </p:nvSpPr>
        <p:spPr>
          <a:xfrm>
            <a:off x="5219640" y="112536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4643280" y="90792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6227640" y="2781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4716360" y="278136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1" lang="en-US" sz="4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6" name="Line 11"/>
          <p:cNvSpPr/>
          <p:nvPr/>
        </p:nvSpPr>
        <p:spPr>
          <a:xfrm>
            <a:off x="521964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7" name="Line 12"/>
          <p:cNvSpPr/>
          <p:nvPr/>
        </p:nvSpPr>
        <p:spPr>
          <a:xfrm>
            <a:off x="543564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8" name="AutoShape 15"/>
          <p:cNvSpPr/>
          <p:nvPr/>
        </p:nvSpPr>
        <p:spPr>
          <a:xfrm>
            <a:off x="6948360" y="4076640"/>
            <a:ext cx="936720" cy="1944720"/>
          </a:xfrm>
          <a:prstGeom prst="rtTriangl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89" name="Rectangle 16"/>
          <p:cNvSpPr/>
          <p:nvPr/>
        </p:nvSpPr>
        <p:spPr>
          <a:xfrm>
            <a:off x="6372360" y="385920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0" name="Text Box 17"/>
          <p:cNvSpPr/>
          <p:nvPr/>
        </p:nvSpPr>
        <p:spPr>
          <a:xfrm>
            <a:off x="7956720" y="5732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1" name="Text Box 18"/>
          <p:cNvSpPr/>
          <p:nvPr/>
        </p:nvSpPr>
        <p:spPr>
          <a:xfrm>
            <a:off x="6300720" y="573264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2" name="Line 19"/>
          <p:cNvSpPr/>
          <p:nvPr/>
        </p:nvSpPr>
        <p:spPr>
          <a:xfrm>
            <a:off x="6948360" y="580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3" name="Line 20"/>
          <p:cNvSpPr/>
          <p:nvPr/>
        </p:nvSpPr>
        <p:spPr>
          <a:xfrm>
            <a:off x="7164360" y="5803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4" name="Line 21"/>
          <p:cNvSpPr/>
          <p:nvPr/>
        </p:nvSpPr>
        <p:spPr>
          <a:xfrm>
            <a:off x="5219640" y="112536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5" name="Line 23"/>
          <p:cNvSpPr/>
          <p:nvPr/>
        </p:nvSpPr>
        <p:spPr>
          <a:xfrm>
            <a:off x="6948360" y="4076640"/>
            <a:ext cx="936720" cy="194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6" name="Line 24"/>
          <p:cNvSpPr/>
          <p:nvPr/>
        </p:nvSpPr>
        <p:spPr>
          <a:xfrm>
            <a:off x="5219640" y="306864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7" name="Line 25"/>
          <p:cNvSpPr/>
          <p:nvPr/>
        </p:nvSpPr>
        <p:spPr>
          <a:xfrm>
            <a:off x="6948360" y="6021360"/>
            <a:ext cx="9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336699"/>
              </a:solidFill>
              <a:latin typeface="Comic Sans MS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4000" y="1844640"/>
            <a:ext cx="8135640" cy="39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99"/>
                </a:solidFill>
                <a:latin typeface="Tahoma"/>
              </a:rPr>
              <a:t>НЕКОТОРЫЕ СВОЙСТВА </a:t>
            </a:r>
            <a:r>
              <a:rPr b="1" i="1" lang="ru-RU" sz="5400" spc="-1" strike="noStrike">
                <a:solidFill>
                  <a:srgbClr val="333399"/>
                </a:solidFill>
                <a:latin typeface="Tahoma"/>
              </a:rPr>
              <a:t>ПРЯМОУГОЛЬНОГО</a:t>
            </a:r>
            <a:r>
              <a:rPr b="1" i="1" lang="ru-RU" sz="6000" spc="-1" strike="noStrike">
                <a:solidFill>
                  <a:srgbClr val="333399"/>
                </a:solidFill>
                <a:latin typeface="Tahoma"/>
              </a:rPr>
              <a:t> ТРЕУГОЛЬНИКА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www.sliderpoint.org</a:t>
            </a:r>
            <a:endParaRPr b="1" lang="en-US" sz="1400" spc="-1" strike="noStrike">
              <a:solidFill>
                <a:srgbClr val="336699"/>
              </a:solidFill>
              <a:latin typeface="Comic Sans MS"/>
            </a:endParaRPr>
          </a:p>
        </p:txBody>
      </p:sp>
    </p:spTree>
  </p:cSld>
  <p:transition spd="slow">
    <p:pull dir="rd"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20:14:31Z</dcterms:created>
  <dc:creator>Alexey Kuptzov</dc:creator>
  <dc:description/>
  <dc:language>en-US</dc:language>
  <cp:lastModifiedBy>LEGION</cp:lastModifiedBy>
  <dcterms:modified xsi:type="dcterms:W3CDTF">2015-01-23T11:48:18Z</dcterms:modified>
  <cp:revision>25</cp:revision>
  <dc:subject/>
  <dc:title>ПРЯМОУГОЛЬНЫЙ  ТРЕУГОЛЬНИК-</dc:title>
</cp:coreProperties>
</file>