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6F5E-312C-4923-B943-00FD72443F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реподаватель ФГОУ  СПО «СТК» Л.Г.Яким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ABD6-7A05-4405-9F6E-93C6155C87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3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83CC-6E16-42C1-9E95-089811A74B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alibri"/>
              </a:rPr>
              <a:t>ФОРМУЛЫ ПРИВЕ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&lt; 90</a:t>
            </a:r>
            <a:r>
              <a:rPr b="0" i="1" lang="en-US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09D6-DBE8-4403-B6F2-101C1D097B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не меня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10BF-1F75-40CA-A06E-AA20013883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1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А если угол     откладывают от оси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О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Y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,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то наименование функции меняется</a:t>
            </a:r>
            <a:r>
              <a:rPr b="0" i="1" lang="en-US" sz="1200" spc="-1" strike="noStrike">
                <a:solidFill>
                  <a:srgbClr val="953735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на сходн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9B9C-89D0-445C-964D-0DF7DBE83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68B-29DE-4B9F-842E-E7FCCA70FD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76092"/>
                </a:solidFill>
                <a:latin typeface="Calibri"/>
              </a:rPr>
              <a:t>ПРАВИЛО 2.</a:t>
            </a: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нак в правой части формулы определяется по знаку функции в лево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642F-550D-48C3-BA51-CD309CD891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Запишите формулы при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0B4B-250E-4961-944A-3E0DE3F2C5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1.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Выразите тригонометрические функции через угол меньше 45</a:t>
            </a:r>
            <a:r>
              <a:rPr b="0" i="1" lang="ru-RU" sz="1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1B6-3834-4441-9047-1F2979ED13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6092"/>
                </a:solidFill>
                <a:latin typeface="Calibri"/>
              </a:rPr>
              <a:t>Задание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2. </a:t>
            </a:r>
            <a:r>
              <a:rPr b="0" i="1" lang="ru-RU" sz="1200" spc="-1" strike="noStrike">
                <a:solidFill>
                  <a:srgbClr val="953735"/>
                </a:solidFill>
                <a:latin typeface="Calibri"/>
              </a:rPr>
              <a:t>Упростит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FEDE-F897-48B6-8C1D-2E2039C8D3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A9A1-12E2-4C05-BE34-42BA601B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F39-5003-44F4-B239-5FEBD9E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19D-F4A1-4F77-A349-FDDFB3D7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1D12-26C3-4AA6-AA63-B5383290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AB5A-F5E0-4182-B4E9-6EF6A29D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F952-C3D0-4FEB-9E18-B3D28524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4650-0F76-4A5B-8AAA-C75F7BC7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17C3-0E2A-4046-9AF2-ED891DAB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D354-DA96-47E6-8A10-20DCE49A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B2E6-363D-48A2-BA3B-431CCF2F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8A4E-C292-4C9E-BC33-D936111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93F-E8F2-4FF1-B0B5-AA5EDDF2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865E-6556-4FF3-B92E-3F7627CE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CA6C-2C0E-4BA8-86A8-2B1651C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A968-986F-47F4-829A-9C9BF5D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9393-B6CA-4B74-9F10-39D8174F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BA75-8B52-4E3A-8A55-D8057249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D55D2-5013-4B22-875E-EC8457FC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07C46-4C92-448C-AC9D-EFF21A9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89C04-6B4F-4579-8766-D9DB0E7A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6230B-42C7-4503-B159-E6F335FA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E5CD0-0A7F-4AEF-B1D9-345467B4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873-484F-49CD-B96F-8968E339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D9B27-C20E-4960-838B-B02EB14E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C419E-E565-4F53-BFF3-38D1411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B425E-7BD8-472E-814A-6230F9CC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C516B-C67F-4C35-AD38-8807130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9842FF-5375-4C54-AC10-0BB5F56F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C593B-7B04-432F-A867-AA213BCB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303E3-7AE6-4231-BEC1-266BA20C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4EC9C-169B-4F7D-81C8-0226C1EF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80F47-4C63-4A19-B2D2-D923C1B2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CD42-2D37-4FC3-9D25-37638D65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B23-1CC3-44C1-82FB-585204D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3EF55-629F-413B-B4E1-334D30A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0C46F-C2A7-4A41-9A22-10632630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BB08-B02B-4F60-8904-9D32CB4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E43C-4C95-4503-9A6E-B8F873D5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4017-2B93-41F4-89A0-3C60EFB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4C00-B2C1-4381-AA66-5E77D748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429E-1768-4FEF-BB3F-9539674A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67EB-3AC7-4C8A-8121-33F8A3AC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17DC-3E8B-4442-BF7D-7C84D8C8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48FF6-22FD-4AC8-8BC7-8FEBB9AA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BBB-9F18-47BF-B75F-4D08DC02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EB6F4-750C-40B5-886F-C327D6D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5F76E-D078-40C8-9560-03E86678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3DDF6-FFC2-4171-89AC-745DC9A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2007B-6F4A-45A8-A67E-9E82F030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6DC62-5202-4C2A-8594-607444D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974B4-20F7-4AC4-9520-F5113500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66E11-AFE3-4CCA-84BE-F252A417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EE37F-1833-4B39-AF6F-EE68621A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93A40-21BC-4346-8EE0-0045CB00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47714A-B687-4D39-AD23-9544285E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220-20E2-40FD-8786-2B067695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CAE22-FCE6-44A4-9280-EAF5A04E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2387B-0C34-4B7F-AC7C-093AE8E7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873D5-E7AA-41CE-A4C9-B2E78B59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028888-D715-4BE5-84F4-C9AE222F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639726-B524-4863-B578-266EEA7C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2E60C-9E2E-46A6-B534-0599D72A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536DB7-FE26-4B04-8FC7-F5C105A5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BC49A-200A-4276-8FE7-C9E7DD30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6A8BC-8B87-4D49-9EEA-CFEFEF8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354E9-C0E7-46D3-BC78-436FF91D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7FE-3DF3-428F-9CF6-77B46C9B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5B299-118A-4D82-ACF9-B413B3D9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A721A-0262-41B2-8CBB-40B16702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425C3-1102-4F3A-8685-22C6EDA8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034FE9-CFD0-49D9-B4D0-985CC3C1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B716B0-9F14-4BA7-8E6F-CCE9BB0A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D3AC80-8BAF-4309-BB29-08E5494A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A1B93-D7FB-4696-B8A4-8D5ED794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D695F-DF34-4E33-9E8C-6CB21710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2B4617-5EF7-4E46-BFF4-6F2852A6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707C40-33A1-46D7-B26E-0D9D150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E775-B192-4997-B896-37711E52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74D0AB-AFD1-4249-B0FF-D91FE5E5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579B3-5EFF-4388-8731-D454EC58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8F1C9-4E18-4189-BF46-2A856A2C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164932-B8FE-41ED-960E-85CBC865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993F68-FC9B-4BDE-B66A-52D17058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B89-2FF6-4DEE-81FA-2D72040F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B583-0D45-41BC-91C5-0F709ED99CD3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360-B97D-4C31-82B5-2EEAADF86E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875-5F7A-49F1-BE13-4BBE46CA4E8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9F0-B297-440B-ABAD-56286E8AA47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7844-5A22-41AE-82D8-0BF6E1E918EA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8CD-1AE9-4742-9D71-E6CC58E031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3E43-C589-4F6D-9F34-AAE945027E05}" type="datetime"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2881-31E5-42A9-BB1F-1610D8F1F07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F544-F5B3-425E-A8E1-1147476791EC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03AA-1A02-493E-AF88-E50CF63767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D164-2190-463D-8339-464A5C42D6F8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5BEB-8C39-4857-B9D8-7B88ED56DEC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81FE-1539-4315-8698-26CB7D80FC02}" type="datetime"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D6CF-A4A4-4DD2-A4C1-BF5F545A2F3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0" y="2642760"/>
            <a:ext cx="6500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643720"/>
            <a:ext cx="6172200" cy="73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68c4"/>
                </a:solidFill>
                <a:latin typeface="Century Schoolbook"/>
              </a:rPr>
              <a:t>Преподаватель ФГОУ  СПО «СТК» Л.Г.Якимчук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3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Object 2"/>
              <p:cNvSpPr txBox="1"/>
              <p:nvPr/>
            </p:nvSpPr>
            <p:spPr>
              <a:xfrm>
                <a:off x="1571760" y="1643040"/>
                <a:ext cx="4929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9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500040" y="3000240"/>
                <a:ext cx="80503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7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70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4"/>
              <p:cNvSpPr txBox="1"/>
              <p:nvPr/>
            </p:nvSpPr>
            <p:spPr>
              <a:xfrm>
                <a:off x="1992240" y="4000680"/>
                <a:ext cx="40863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5"/>
              <p:cNvSpPr txBox="1"/>
              <p:nvPr/>
            </p:nvSpPr>
            <p:spPr>
              <a:xfrm>
                <a:off x="2759040" y="5322960"/>
                <a:ext cx="29973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6357960" y="50007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1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Century Schoolbook"/>
              </a:rPr>
              <a:t>ФОРМУЛЫ ПРИВЕДЕН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i="1" lang="ru-RU" sz="2800" spc="-1" strike="noStrike">
                <a:solidFill>
                  <a:srgbClr val="3668c4"/>
                </a:solidFill>
                <a:latin typeface="Century Schoolbook"/>
              </a:rPr>
              <a:t>это формулы, позволяющие выражать значения тригонометрических функций любого угла через функции угла первой четверти, т.е. </a:t>
            </a:r>
            <a:r>
              <a:rPr b="0" i="1" lang="en-US" sz="2800" spc="-1" strike="noStrike">
                <a:solidFill>
                  <a:srgbClr val="3668c4"/>
                </a:solidFill>
                <a:latin typeface="Century Schoolbook"/>
              </a:rPr>
              <a:t>&lt; 90</a:t>
            </a:r>
            <a:r>
              <a:rPr b="0" i="1" lang="en-US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</a:t>
            </a:r>
            <a:r>
              <a:rPr b="0" i="1" lang="ru-RU" sz="28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2"/>
              <p:cNvSpPr txBox="1"/>
              <p:nvPr/>
            </p:nvSpPr>
            <p:spPr>
              <a:xfrm>
                <a:off x="2857680" y="4572000"/>
                <a:ext cx="18954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Місце для нижнього колонтитула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X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НЕ МЕНЯЕТСЯ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2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4" name="Прямая со стрелкой 30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5" name="Прямая со стрелкой 31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76" name="Прямая со стрелкой 32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77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10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11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12"/>
              <p:cNvSpPr txBox="1"/>
              <p:nvPr/>
            </p:nvSpPr>
            <p:spPr>
              <a:xfrm>
                <a:off x="4500720" y="500040"/>
                <a:ext cx="434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13"/>
              <p:cNvSpPr txBox="1"/>
              <p:nvPr/>
            </p:nvSpPr>
            <p:spPr>
              <a:xfrm>
                <a:off x="219240" y="3675240"/>
                <a:ext cx="237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14"/>
              <p:cNvSpPr txBox="1"/>
              <p:nvPr/>
            </p:nvSpPr>
            <p:spPr>
              <a:xfrm>
                <a:off x="5286240" y="1928880"/>
                <a:ext cx="1643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15"/>
              <p:cNvSpPr txBox="1"/>
              <p:nvPr/>
            </p:nvSpPr>
            <p:spPr>
              <a:xfrm>
                <a:off x="5560920" y="3313080"/>
                <a:ext cx="13780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1320" y="571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1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А ЕСЛИ УГОЛ     ОТКЛАДЫВАЮТ ОТ ОСИ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О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Y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,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ТО НАИМЕНОВАНИЕ ФУНКЦИИ МЕНЯЕТСЯ</a:t>
            </a:r>
            <a:r>
              <a:rPr b="0" i="1" lang="en-US" sz="27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НА СХОДНОЕ. 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1857240" y="5715000"/>
                <a:ext cx="411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4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5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4786200" y="500040"/>
                <a:ext cx="435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643720" y="2571840"/>
                <a:ext cx="135720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10"/>
              <p:cNvSpPr txBox="1"/>
              <p:nvPr/>
            </p:nvSpPr>
            <p:spPr>
              <a:xfrm>
                <a:off x="5643720" y="4000680"/>
                <a:ext cx="1380960" cy="13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±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406" name="Прямая со стрелкой 40"/>
          <p:cNvCxnSpPr/>
          <p:nvPr/>
        </p:nvCxnSpPr>
        <p:spPr>
          <a:xfrm flipH="1">
            <a:off x="1213560" y="2000160"/>
            <a:ext cx="71532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7" name="Прямая со стрелкой 44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8" name="Прямая со стрелкой 46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09" name="Прямая со стрелкой 48"/>
          <p:cNvCxnSpPr/>
          <p:nvPr/>
        </p:nvCxnSpPr>
        <p:spPr>
          <a:xfrm flipH="1" flipV="1">
            <a:off x="1071720" y="5428440"/>
            <a:ext cx="64332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10" name="Object 11"/>
              <p:cNvSpPr txBox="1"/>
              <p:nvPr/>
            </p:nvSpPr>
            <p:spPr>
              <a:xfrm>
                <a:off x="4098960" y="1285920"/>
                <a:ext cx="37321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12"/>
              <p:cNvSpPr txBox="1"/>
              <p:nvPr/>
            </p:nvSpPr>
            <p:spPr>
              <a:xfrm>
                <a:off x="4643280" y="1785960"/>
                <a:ext cx="24289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Місце для нижнього колонтитула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5"/>
          <p:cNvSpPr/>
          <p:nvPr/>
        </p:nvSpPr>
        <p:spPr>
          <a:xfrm>
            <a:off x="228600" y="39304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5410080" y="394488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9"/>
          <p:cNvCxnSpPr/>
          <p:nvPr/>
        </p:nvCxnSpPr>
        <p:spPr>
          <a:xfrm flipH="1" flipV="1">
            <a:off x="4071240" y="2785680"/>
            <a:ext cx="214920" cy="7149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2" name="Прямая со стрелкой 21"/>
          <p:cNvCxnSpPr/>
          <p:nvPr/>
        </p:nvCxnSpPr>
        <p:spPr>
          <a:xfrm flipH="1">
            <a:off x="4071600" y="4142880"/>
            <a:ext cx="286560" cy="7153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3" name="Прямая со стрелкой 23"/>
          <p:cNvCxnSpPr/>
          <p:nvPr/>
        </p:nvCxnSpPr>
        <p:spPr>
          <a:xfrm flipV="1">
            <a:off x="427680" y="2785320"/>
            <a:ext cx="214920" cy="78660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24" name="Прямая со стрелкой 25"/>
          <p:cNvCxnSpPr/>
          <p:nvPr/>
        </p:nvCxnSpPr>
        <p:spPr>
          <a:xfrm>
            <a:off x="357120" y="4143240"/>
            <a:ext cx="357840" cy="9295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425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4143240" y="3643200"/>
                <a:ext cx="39060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214200" y="3643200"/>
                <a:ext cx="2383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4"/>
              <p:cNvSpPr txBox="1"/>
              <p:nvPr/>
            </p:nvSpPr>
            <p:spPr>
              <a:xfrm>
                <a:off x="4714920" y="1428840"/>
                <a:ext cx="18432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5"/>
              <p:cNvSpPr txBox="1"/>
              <p:nvPr/>
            </p:nvSpPr>
            <p:spPr>
              <a:xfrm>
                <a:off x="6572160" y="1428840"/>
                <a:ext cx="11350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6"/>
              <p:cNvSpPr txBox="1"/>
              <p:nvPr/>
            </p:nvSpPr>
            <p:spPr>
              <a:xfrm>
                <a:off x="4863960" y="2071800"/>
                <a:ext cx="1629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600960" y="2143080"/>
                <a:ext cx="946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8"/>
              <p:cNvSpPr txBox="1"/>
              <p:nvPr/>
            </p:nvSpPr>
            <p:spPr>
              <a:xfrm>
                <a:off x="5076720" y="4286160"/>
                <a:ext cx="1462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6643800" y="4286160"/>
                <a:ext cx="5713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10"/>
              <p:cNvSpPr txBox="1"/>
              <p:nvPr/>
            </p:nvSpPr>
            <p:spPr>
              <a:xfrm>
                <a:off x="4786200" y="2928960"/>
                <a:ext cx="18576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1"/>
              <p:cNvSpPr txBox="1"/>
              <p:nvPr/>
            </p:nvSpPr>
            <p:spPr>
              <a:xfrm>
                <a:off x="6643800" y="2928960"/>
                <a:ext cx="9428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1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1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1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16"/>
              <p:cNvSpPr txBox="1"/>
              <p:nvPr/>
            </p:nvSpPr>
            <p:spPr>
              <a:xfrm>
                <a:off x="4929120" y="5000760"/>
                <a:ext cx="174168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17"/>
              <p:cNvSpPr txBox="1"/>
              <p:nvPr/>
            </p:nvSpPr>
            <p:spPr>
              <a:xfrm>
                <a:off x="6643800" y="5000760"/>
                <a:ext cx="922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5c01"/>
                </a:solidFill>
                <a:latin typeface="Century Schoolbook"/>
              </a:rPr>
              <a:t>ПРАВИЛО 2.</a:t>
            </a: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 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ЗНАК В ПРАВОЙ ЧАСТИ ФОРМУЛЫ ОПРЕДЕЛЯЕТСЯ ПО ЗНАКУ ФУНКЦИИ В ЛЕВОЙ ЧАСТИ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Oval 3"/>
          <p:cNvSpPr/>
          <p:nvPr/>
        </p:nvSpPr>
        <p:spPr>
          <a:xfrm>
            <a:off x="514440" y="2116080"/>
            <a:ext cx="3598920" cy="3598920"/>
          </a:xfrm>
          <a:prstGeom prst="ellipse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>
            <a:off x="2300400" y="17524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"/>
          <p:cNvSpPr/>
          <p:nvPr/>
        </p:nvSpPr>
        <p:spPr>
          <a:xfrm>
            <a:off x="-428760" y="392904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2133720" y="39607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572000" y="40006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2428920" y="1571760"/>
            <a:ext cx="3808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4191120" y="3962520"/>
            <a:ext cx="38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"/>
          <p:cNvSpPr/>
          <p:nvPr/>
        </p:nvSpPr>
        <p:spPr>
          <a:xfrm>
            <a:off x="4429080" y="3429000"/>
            <a:ext cx="3808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3000240" y="3143160"/>
                <a:ext cx="2178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325520" y="3143160"/>
                <a:ext cx="2826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4"/>
              <p:cNvSpPr txBox="1"/>
              <p:nvPr/>
            </p:nvSpPr>
            <p:spPr>
              <a:xfrm>
                <a:off x="1386000" y="4429080"/>
                <a:ext cx="3697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2814480" y="4419720"/>
                <a:ext cx="3700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1979640" y="1569960"/>
                <a:ext cx="280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57" name="Прямая со стрелкой 16"/>
          <p:cNvCxnSpPr/>
          <p:nvPr/>
        </p:nvCxnSpPr>
        <p:spPr>
          <a:xfrm flipH="1">
            <a:off x="114264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8" name="Прямая со стрелкой 17"/>
          <p:cNvCxnSpPr/>
          <p:nvPr/>
        </p:nvCxnSpPr>
        <p:spPr>
          <a:xfrm>
            <a:off x="2857680" y="2000160"/>
            <a:ext cx="714960" cy="35784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V="1">
            <a:off x="2500200" y="5500440"/>
            <a:ext cx="1000800" cy="42912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0" name="Object 7"/>
              <p:cNvSpPr txBox="1"/>
              <p:nvPr/>
            </p:nvSpPr>
            <p:spPr>
              <a:xfrm>
                <a:off x="1857240" y="5715000"/>
                <a:ext cx="4287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461" name="Прямая со стрелкой 22"/>
          <p:cNvCxnSpPr/>
          <p:nvPr/>
        </p:nvCxnSpPr>
        <p:spPr>
          <a:xfrm flipH="1" flipV="1">
            <a:off x="928080" y="5285520"/>
            <a:ext cx="857880" cy="500760"/>
          </a:xfrm>
          <a:prstGeom prst="straightConnector1">
            <a:avLst/>
          </a:prstGeom>
          <a:ln w="25560">
            <a:solidFill>
              <a:srgbClr val="fe8637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62" name="Object 16"/>
              <p:cNvSpPr txBox="1"/>
              <p:nvPr/>
            </p:nvSpPr>
            <p:spPr>
              <a:xfrm>
                <a:off x="4786200" y="1849320"/>
                <a:ext cx="178596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7"/>
              <p:cNvSpPr txBox="1"/>
              <p:nvPr/>
            </p:nvSpPr>
            <p:spPr>
              <a:xfrm>
                <a:off x="6702480" y="2181240"/>
                <a:ext cx="74124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8"/>
              <p:cNvSpPr txBox="1"/>
              <p:nvPr/>
            </p:nvSpPr>
            <p:spPr>
              <a:xfrm>
                <a:off x="4786200" y="2643120"/>
                <a:ext cx="1990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9"/>
              <p:cNvSpPr txBox="1"/>
              <p:nvPr/>
            </p:nvSpPr>
            <p:spPr>
              <a:xfrm>
                <a:off x="6715080" y="2857680"/>
                <a:ext cx="12034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20"/>
              <p:cNvSpPr txBox="1"/>
              <p:nvPr/>
            </p:nvSpPr>
            <p:spPr>
              <a:xfrm>
                <a:off x="5000760" y="3643200"/>
                <a:ext cx="168120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1"/>
              <p:cNvSpPr txBox="1"/>
              <p:nvPr/>
            </p:nvSpPr>
            <p:spPr>
              <a:xfrm>
                <a:off x="6697800" y="3962520"/>
                <a:ext cx="9205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2"/>
              <p:cNvSpPr txBox="1"/>
              <p:nvPr/>
            </p:nvSpPr>
            <p:spPr>
              <a:xfrm>
                <a:off x="6946920" y="4890960"/>
                <a:ext cx="696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3"/>
              <p:cNvSpPr txBox="1"/>
              <p:nvPr/>
            </p:nvSpPr>
            <p:spPr>
              <a:xfrm>
                <a:off x="4786200" y="4643280"/>
                <a:ext cx="197172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668c4"/>
                </a:solidFill>
                <a:latin typeface="Century Schoolbook"/>
              </a:rPr>
              <a:t>ЗАПИШИТЕ ФОРМУЛЫ ПРИВЕД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1857240" y="1643040"/>
                <a:ext cx="1970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1928880" y="2214720"/>
                <a:ext cx="2165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000160" y="292896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5"/>
              <p:cNvSpPr txBox="1"/>
              <p:nvPr/>
            </p:nvSpPr>
            <p:spPr>
              <a:xfrm>
                <a:off x="1928880" y="3786120"/>
                <a:ext cx="2214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6"/>
              <p:cNvSpPr txBox="1"/>
              <p:nvPr/>
            </p:nvSpPr>
            <p:spPr>
              <a:xfrm>
                <a:off x="2000160" y="4786200"/>
                <a:ext cx="2025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7"/>
              <p:cNvSpPr txBox="1"/>
              <p:nvPr/>
            </p:nvSpPr>
            <p:spPr>
              <a:xfrm>
                <a:off x="1916280" y="5572080"/>
                <a:ext cx="2170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8"/>
              <p:cNvSpPr txBox="1"/>
              <p:nvPr/>
            </p:nvSpPr>
            <p:spPr>
              <a:xfrm>
                <a:off x="4071960" y="1785960"/>
                <a:ext cx="85896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9"/>
              <p:cNvSpPr txBox="1"/>
              <p:nvPr/>
            </p:nvSpPr>
            <p:spPr>
              <a:xfrm>
                <a:off x="4143240" y="235728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10"/>
              <p:cNvSpPr txBox="1"/>
              <p:nvPr/>
            </p:nvSpPr>
            <p:spPr>
              <a:xfrm>
                <a:off x="4071960" y="3000240"/>
                <a:ext cx="828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11"/>
              <p:cNvSpPr txBox="1"/>
              <p:nvPr/>
            </p:nvSpPr>
            <p:spPr>
              <a:xfrm>
                <a:off x="4214880" y="3929040"/>
                <a:ext cx="10303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12"/>
              <p:cNvSpPr txBox="1"/>
              <p:nvPr/>
            </p:nvSpPr>
            <p:spPr>
              <a:xfrm>
                <a:off x="4156200" y="4889520"/>
                <a:ext cx="1003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3"/>
              <p:cNvSpPr txBox="1"/>
              <p:nvPr/>
            </p:nvSpPr>
            <p:spPr>
              <a:xfrm>
                <a:off x="4071960" y="5643720"/>
                <a:ext cx="100332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2700" spc="-1" strike="noStrike">
                <a:solidFill>
                  <a:srgbClr val="e75c01"/>
                </a:solidFill>
                <a:latin typeface="Century Schoolbook"/>
              </a:rPr>
              <a:t>1.</a:t>
            </a:r>
            <a:r>
              <a:rPr b="0" i="1" lang="ru-RU" sz="2700" spc="-1" strike="noStrike">
                <a:solidFill>
                  <a:srgbClr val="3668c4"/>
                </a:solidFill>
                <a:latin typeface="Century Schoolbook"/>
              </a:rPr>
              <a:t>ВЫРАЗИТЕ ТРИГОНОМЕТРИЧЕСКИЕ ФУНКЦИИ ЧЕРЕЗ УГОЛ МЕНЬШЕ 45</a:t>
            </a:r>
            <a:r>
              <a:rPr b="0" i="1" lang="ru-RU" sz="27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°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1143000" y="1673280"/>
                <a:ext cx="1268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8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500200" y="1643040"/>
                <a:ext cx="2884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4"/>
              <p:cNvSpPr txBox="1"/>
              <p:nvPr/>
            </p:nvSpPr>
            <p:spPr>
              <a:xfrm>
                <a:off x="1071720" y="2357280"/>
                <a:ext cx="12934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2500200" y="2357280"/>
                <a:ext cx="3033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1143000" y="3071880"/>
                <a:ext cx="1119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8"/>
              <p:cNvSpPr txBox="1"/>
              <p:nvPr/>
            </p:nvSpPr>
            <p:spPr>
              <a:xfrm>
                <a:off x="1158840" y="5475240"/>
                <a:ext cx="169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9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5"/>
              <p:cNvSpPr txBox="1"/>
              <p:nvPr/>
            </p:nvSpPr>
            <p:spPr>
              <a:xfrm>
                <a:off x="2571840" y="314316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1214280" y="3929040"/>
                <a:ext cx="1144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6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11"/>
              <p:cNvSpPr txBox="1"/>
              <p:nvPr/>
            </p:nvSpPr>
            <p:spPr>
              <a:xfrm>
                <a:off x="2571840" y="3929040"/>
                <a:ext cx="25858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3"/>
              <p:cNvSpPr txBox="1"/>
              <p:nvPr/>
            </p:nvSpPr>
            <p:spPr>
              <a:xfrm>
                <a:off x="2857680" y="4572000"/>
                <a:ext cx="3406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4"/>
              <p:cNvSpPr txBox="1"/>
              <p:nvPr/>
            </p:nvSpPr>
            <p:spPr>
              <a:xfrm>
                <a:off x="1143000" y="4572000"/>
                <a:ext cx="16668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5"/>
              <p:cNvSpPr txBox="1"/>
              <p:nvPr/>
            </p:nvSpPr>
            <p:spPr>
              <a:xfrm>
                <a:off x="2867040" y="5500800"/>
                <a:ext cx="3157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8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Century Schoolbook"/>
              </a:rPr>
              <a:t>ЗАДАНИЕ </a:t>
            </a:r>
            <a:r>
              <a:rPr b="0" i="1" lang="ru-RU" sz="3200" spc="-1" strike="noStrike">
                <a:solidFill>
                  <a:srgbClr val="e75c01"/>
                </a:solidFill>
                <a:latin typeface="Century Schoolbook"/>
              </a:rPr>
              <a:t>2. </a:t>
            </a:r>
            <a:r>
              <a:rPr b="0" i="1" lang="ru-RU" sz="3200" spc="-1" strike="noStrike">
                <a:solidFill>
                  <a:srgbClr val="3668c4"/>
                </a:solidFill>
                <a:latin typeface="Century Schoolbook"/>
              </a:rPr>
              <a:t>УПРОСТИТЕ ВЫРАЖЕНИЕ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"/>
              <p:cNvSpPr txBox="1"/>
              <p:nvPr/>
            </p:nvSpPr>
            <p:spPr>
              <a:xfrm>
                <a:off x="214200" y="2071800"/>
                <a:ext cx="8433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1071720" y="3286080"/>
                <a:ext cx="6500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643200" y="4572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2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8:44Z</dcterms:modified>
  <cp:revision>21</cp:revision>
  <dc:subject/>
  <dc:title>Слайд 1</dc:title>
</cp:coreProperties>
</file>