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6001-F94A-49EF-8DE2-2561A88E6FC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76092"/>
                </a:solidFill>
                <a:latin typeface="Calibri"/>
              </a:rPr>
              <a:t>ФОРМУЛЫ ПРИ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Преподаватель ФГОУ  СПО «СТК» Л.Г.Якимч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632F-F04F-4367-926E-4AA331465D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Задание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3.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Упростите вы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38F5-1103-4B67-A412-B99D1BD11E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ФОРМУЛЫ ПРИВЕ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это формулы, позволяющие выражать значения тригонометрических функций любого угла через функции угла первой четверти, т.е. 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&lt; 90</a:t>
            </a:r>
            <a:r>
              <a:rPr b="0" i="1" lang="en-US" sz="1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°</a:t>
            </a:r>
            <a:r>
              <a:rPr b="0" i="1" lang="ru-RU" sz="1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795D-00BD-495D-B73C-3ECA67A3FB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1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Если угол     откладывают от оси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О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,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то наименование функции не меня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0720-DB56-4E94-9C81-7A8B932130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1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А если угол     откладывают от оси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О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,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то наименование функции меняется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на сходн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34E1-4056-4C05-889A-16F1CD76A7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2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Знак в правой части формулы определяется по знаку функции в лево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7298-2D1A-48D1-AF70-63D9C79F9B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2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Знак в правой части формулы определяется по знаку функции в лево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438E-225D-4D55-BE1B-2B2CFB2783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Запишите формулы при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3C6B-38DD-4879-BD50-AC9C5BE5F6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Задание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1.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Выразите тригонометрические функции через угол меньше 45</a:t>
            </a:r>
            <a:r>
              <a:rPr b="0" i="1" lang="ru-RU" sz="1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D684-6AC0-4AB2-878E-428D85D741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Задание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2.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Упростите вы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B3AB-33D2-46E0-8B28-79A284CAF9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2204-DB05-41D1-9B8D-3D4A45CD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9E80-9A06-4936-BB27-3A1C3998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DEE4-7D7B-408B-BFEF-EBF3996E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9B82-39CB-429E-A531-2FC4A022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4B67-3732-4B90-8862-DB9DC1E9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43AB-F2F3-4518-B5F3-4E53AF3A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F2E9-851D-4C5B-B2EB-5F1D073F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80DE-A514-44B2-914C-5B4BFA07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B8F1-F5FC-4842-A5EE-0FDCEC27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822C-3AB5-4E53-B36C-04C08610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C161-06E2-4B92-9C40-B5B74650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3EFF-EE06-46D3-8D67-9A15F34A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6F52-1BBD-4686-A793-DC549AA6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CCD7-DFA7-475B-839C-8F7B75F6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5852-4BB8-4B5F-8987-B8EBC50B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91CA-C839-4928-A801-0D4963E8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4171-555D-4628-9FA2-0670E937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56509F-C8CD-4BDD-B0F8-6050159C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02BEE1-1D10-4B87-B1A5-23450541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284E3-6127-4E0B-AE1B-029A83F0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DF89A9-3D58-44BF-A9EB-1DD6D678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9A3D84-79C4-4E12-8F57-7893659E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8880-3F03-4D08-A985-EF0B644D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CFEB71-8A03-4F7E-A648-654FD39B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9A3E45-F090-47E4-AA90-FD734793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A92664-79D4-45CD-A416-CAE9C431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14482A-46DF-4E20-A4BC-D5497808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922EB-511C-440D-83E6-F85CF1D0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D628B-1421-4657-8C3C-E3924F8B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E8078-EB23-48BC-8A29-7650AA97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24586-1C32-410E-A4D4-2DE6B556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293AA-0DD4-4FDE-A71D-8C877DC2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75E83-8F71-407E-9123-03DAE420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4BC2-E758-4470-9EEF-6668A734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E7C1E-D712-4353-A5B7-74F4333A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D727E-0335-4798-89B5-499D1E11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E7EC8-E340-495F-9A90-2088A7E3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5E438-5F05-4337-8986-ADED9ED3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9C1C2-4B2F-47A7-B9AA-7F61A06B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36C8B-4FA3-4841-B8AF-4C112280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0D887-C320-48B0-BA0C-CBF341F3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83B60-FA6F-49CA-B50F-3F57E8E1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0C072-58C6-4106-98DB-D7AD6050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81B952-C828-4065-BD44-CD52A715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D4A8-E6B6-4127-A379-A70E6BBD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0A9FB8-7F88-423B-9BEF-B1C96822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E23443-8B47-4047-9C08-703D44D3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18878A-9601-45A2-B592-AEEB1C1C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477099-9F82-408D-831C-8C12DA24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C5BDDD-FA1A-4061-A8FC-FAEB6489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F35651-9B86-4230-AAD7-1F659391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2191DD-EE36-4AD2-B7F1-C16EC206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CA22FE-91B9-4A3E-AC9B-9BE87C48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C6AFE7-7C52-413F-B9E0-69C8C934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7D0CE5-A506-40AC-8BEE-60013333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300F-8B18-42EB-B2B0-A47FB1CB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FC8764-D18A-452B-A67C-FF2BD2435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98AFC3-5BF4-47CD-AD3C-C4482A92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FA7192-D1D6-4DC0-8649-11C0C60A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D89976-14F3-4C8B-AA2B-3A2E3688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FFEE61-6259-4FD0-BD9F-CD47F02F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D4C06E-8E27-4925-941A-CBB175F3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F40C73-2B83-456D-BAC9-4F942718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0EBA45-406D-459C-8DBB-724338E1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F38CDD-2E19-4A97-9AE8-01F87498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F39A2B-D8C3-470D-BB92-32859159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ED83-17F6-453C-A535-8CAF9C79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1F0BE7-4BE2-4858-BDD8-C27A29C1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1CAA33-27C3-4211-AD71-ABD7380B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1BE17A-9E5F-4644-A43B-FB75931C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3CE7A2-8737-4DD9-8625-AEDC0EDE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73BDF9-DA54-4545-ABD6-C3969A68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860E22-DBD7-4550-8AE0-D78F35DE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71048B-4A7B-4CFD-949C-96FB7A9C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8E0DBE-2AE1-43D4-B63C-6F518FE6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C6A08C-D4F2-4C5C-B58E-F2879113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7900B6-4731-4C1D-B14B-44C22590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BAAB-D850-45A2-965F-B7841BC3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83CA86-CD20-4945-93E2-47651B6B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03BDCE-ACA6-4819-9218-8F633271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2362C4-DF6E-464D-9DA1-84B9769C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E5F2F0-7752-4D6C-B000-9B22AB0F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0DFF7D-8510-4C1D-9378-39AE9B3D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7BEE-F729-404F-8E2E-4411161B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95C9-673B-4B77-A6C8-97F390394F55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C635-D4CE-4C39-8606-438DC03B585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D7AE-8EA0-4036-AE04-C18D3422CDEA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36F2-46FC-4CCA-BB57-34F70635F93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DCE5-31B5-4239-AACB-A144DB819DC7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FCB3-E74D-4848-8644-D0167747EA8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BB05-0D7A-497A-BEE6-493F90E94444}" type="datetime"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6758-51E9-44ED-8D0E-E101143DD1B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7705-1BC9-4553-AFC5-27C549CC9BCA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24FF-5ADE-4F49-9E60-E7E080274E4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B045-F2B4-49CE-BF5C-2B09D551BD32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57B4-2F8F-4682-9569-C6B07FF5DEF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4BEE-CFAB-4B3F-885B-988B5DE559CC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70CE-7DAA-4618-A13C-848E773B770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6000" y="2642760"/>
            <a:ext cx="65008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643720"/>
            <a:ext cx="617220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68c4"/>
                </a:solidFill>
                <a:latin typeface="Century Schoolbook"/>
              </a:rPr>
              <a:t>Преподаватель ФГОУ  СПО «СТК» Л.Г.Якимчу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Місце для нижнього колонтитула 3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3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2"/>
              <p:cNvSpPr txBox="1"/>
              <p:nvPr/>
            </p:nvSpPr>
            <p:spPr>
              <a:xfrm>
                <a:off x="1571760" y="1643040"/>
                <a:ext cx="49291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8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9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3"/>
              <p:cNvSpPr txBox="1"/>
              <p:nvPr/>
            </p:nvSpPr>
            <p:spPr>
              <a:xfrm>
                <a:off x="500040" y="3000240"/>
                <a:ext cx="80503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4"/>
              <p:cNvSpPr txBox="1"/>
              <p:nvPr/>
            </p:nvSpPr>
            <p:spPr>
              <a:xfrm>
                <a:off x="1992240" y="4000680"/>
                <a:ext cx="40863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5"/>
              <p:cNvSpPr txBox="1"/>
              <p:nvPr/>
            </p:nvSpPr>
            <p:spPr>
              <a:xfrm>
                <a:off x="2759040" y="5322960"/>
                <a:ext cx="29973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509" name="Picture 4" descr=""/>
          <p:cNvPicPr/>
          <p:nvPr/>
        </p:nvPicPr>
        <p:blipFill>
          <a:blip r:embed="rId1"/>
          <a:stretch/>
        </p:blipFill>
        <p:spPr>
          <a:xfrm>
            <a:off x="6357960" y="50007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10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2071800"/>
            <a:ext cx="746748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i="1" lang="ru-RU" sz="2800" spc="-1" strike="noStrike">
                <a:solidFill>
                  <a:srgbClr val="3668c4"/>
                </a:solidFill>
                <a:latin typeface="Century Schoolbook"/>
              </a:rPr>
              <a:t>это формулы, позволяющие выражать значения тригонометрических функций любого угла через функции угла первой четверти, т.е. </a:t>
            </a:r>
            <a:r>
              <a:rPr b="0" i="1" lang="en-US" sz="2800" spc="-1" strike="noStrike">
                <a:solidFill>
                  <a:srgbClr val="3668c4"/>
                </a:solidFill>
                <a:latin typeface="Century Schoolbook"/>
              </a:rPr>
              <a:t>&lt; 90</a:t>
            </a:r>
            <a:r>
              <a:rPr b="0" i="1" lang="en-US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</a:t>
            </a:r>
            <a:r>
              <a:rPr b="0" i="1" lang="ru-RU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2"/>
              <p:cNvSpPr txBox="1"/>
              <p:nvPr/>
            </p:nvSpPr>
            <p:spPr>
              <a:xfrm>
                <a:off x="2857680" y="4572000"/>
                <a:ext cx="18954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4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X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НЕ МЕНЯЕТСЯ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Прямая со стрелкой 2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74" name="Прямая со стрелкой 30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75" name="Прямая со стрелкой 31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76" name="Прямая со стрелкой 32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377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7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8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9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10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11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2"/>
              <p:cNvSpPr txBox="1"/>
              <p:nvPr/>
            </p:nvSpPr>
            <p:spPr>
              <a:xfrm>
                <a:off x="4500720" y="500040"/>
                <a:ext cx="434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3"/>
              <p:cNvSpPr txBox="1"/>
              <p:nvPr/>
            </p:nvSpPr>
            <p:spPr>
              <a:xfrm>
                <a:off x="219240" y="3675240"/>
                <a:ext cx="2379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4"/>
              <p:cNvSpPr txBox="1"/>
              <p:nvPr/>
            </p:nvSpPr>
            <p:spPr>
              <a:xfrm>
                <a:off x="5286240" y="1928880"/>
                <a:ext cx="1643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15"/>
              <p:cNvSpPr txBox="1"/>
              <p:nvPr/>
            </p:nvSpPr>
            <p:spPr>
              <a:xfrm>
                <a:off x="5560920" y="3313080"/>
                <a:ext cx="1378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А 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Y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МЕНЯЕТСЯ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НА СХОДНОЕ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1857240" y="5715000"/>
                <a:ext cx="411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4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5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6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7"/>
              <p:cNvSpPr txBox="1"/>
              <p:nvPr/>
            </p:nvSpPr>
            <p:spPr>
              <a:xfrm>
                <a:off x="4786200" y="500040"/>
                <a:ext cx="435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8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9"/>
              <p:cNvSpPr txBox="1"/>
              <p:nvPr/>
            </p:nvSpPr>
            <p:spPr>
              <a:xfrm>
                <a:off x="5643720" y="2571840"/>
                <a:ext cx="135720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10"/>
              <p:cNvSpPr txBox="1"/>
              <p:nvPr/>
            </p:nvSpPr>
            <p:spPr>
              <a:xfrm>
                <a:off x="5643720" y="4000680"/>
                <a:ext cx="1380960" cy="13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06" name="Прямая со стрелкой 40"/>
          <p:cNvCxnSpPr/>
          <p:nvPr/>
        </p:nvCxnSpPr>
        <p:spPr>
          <a:xfrm flipH="1">
            <a:off x="1213560" y="2000160"/>
            <a:ext cx="71532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07" name="Прямая со стрелкой 44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08" name="Прямая со стрелкой 46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09" name="Прямая со стрелкой 48"/>
          <p:cNvCxnSpPr/>
          <p:nvPr/>
        </p:nvCxnSpPr>
        <p:spPr>
          <a:xfrm flipH="1" flipV="1">
            <a:off x="1071720" y="5428440"/>
            <a:ext cx="64332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10" name="Object 11"/>
              <p:cNvSpPr txBox="1"/>
              <p:nvPr/>
            </p:nvSpPr>
            <p:spPr>
              <a:xfrm>
                <a:off x="4098960" y="1285920"/>
                <a:ext cx="3732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12"/>
              <p:cNvSpPr txBox="1"/>
              <p:nvPr/>
            </p:nvSpPr>
            <p:spPr>
              <a:xfrm>
                <a:off x="4643280" y="1785960"/>
                <a:ext cx="2428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Місце для нижнього колонтитула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"/>
          <p:cNvSpPr/>
          <p:nvPr/>
        </p:nvSpPr>
        <p:spPr>
          <a:xfrm>
            <a:off x="228600" y="3930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5410080" y="394488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Прямая со стрелкой 1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22" name="Прямая со стрелкой 21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23" name="Прямая со стрелкой 23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24" name="Прямая со стрелкой 25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425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2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3"/>
              <p:cNvSpPr txBox="1"/>
              <p:nvPr/>
            </p:nvSpPr>
            <p:spPr>
              <a:xfrm>
                <a:off x="214200" y="3643200"/>
                <a:ext cx="2383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4"/>
              <p:cNvSpPr txBox="1"/>
              <p:nvPr/>
            </p:nvSpPr>
            <p:spPr>
              <a:xfrm>
                <a:off x="4714920" y="1428840"/>
                <a:ext cx="1843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5"/>
              <p:cNvSpPr txBox="1"/>
              <p:nvPr/>
            </p:nvSpPr>
            <p:spPr>
              <a:xfrm>
                <a:off x="6572160" y="1428840"/>
                <a:ext cx="1135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6"/>
              <p:cNvSpPr txBox="1"/>
              <p:nvPr/>
            </p:nvSpPr>
            <p:spPr>
              <a:xfrm>
                <a:off x="4863960" y="2071800"/>
                <a:ext cx="1629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7"/>
              <p:cNvSpPr txBox="1"/>
              <p:nvPr/>
            </p:nvSpPr>
            <p:spPr>
              <a:xfrm>
                <a:off x="6600960" y="2143080"/>
                <a:ext cx="946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8"/>
              <p:cNvSpPr txBox="1"/>
              <p:nvPr/>
            </p:nvSpPr>
            <p:spPr>
              <a:xfrm>
                <a:off x="5076720" y="4286160"/>
                <a:ext cx="14623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9"/>
              <p:cNvSpPr txBox="1"/>
              <p:nvPr/>
            </p:nvSpPr>
            <p:spPr>
              <a:xfrm>
                <a:off x="6643800" y="4286160"/>
                <a:ext cx="5713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10"/>
              <p:cNvSpPr txBox="1"/>
              <p:nvPr/>
            </p:nvSpPr>
            <p:spPr>
              <a:xfrm>
                <a:off x="4786200" y="2928960"/>
                <a:ext cx="18576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11"/>
              <p:cNvSpPr txBox="1"/>
              <p:nvPr/>
            </p:nvSpPr>
            <p:spPr>
              <a:xfrm>
                <a:off x="6643800" y="2928960"/>
                <a:ext cx="9428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1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1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1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16"/>
              <p:cNvSpPr txBox="1"/>
              <p:nvPr/>
            </p:nvSpPr>
            <p:spPr>
              <a:xfrm>
                <a:off x="4929120" y="5000760"/>
                <a:ext cx="17416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17"/>
              <p:cNvSpPr txBox="1"/>
              <p:nvPr/>
            </p:nvSpPr>
            <p:spPr>
              <a:xfrm>
                <a:off x="6643800" y="5000760"/>
                <a:ext cx="922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6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57" name="Прямая со стрелкой 16"/>
          <p:cNvCxnSpPr/>
          <p:nvPr/>
        </p:nvCxnSpPr>
        <p:spPr>
          <a:xfrm flipH="1">
            <a:off x="114264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58" name="Прямая со стрелкой 17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59" name="Прямая со стрелкой 18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60" name="Object 7"/>
              <p:cNvSpPr txBox="1"/>
              <p:nvPr/>
            </p:nvSpPr>
            <p:spPr>
              <a:xfrm>
                <a:off x="1857240" y="5715000"/>
                <a:ext cx="428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61" name="Прямая со стрелкой 22"/>
          <p:cNvCxnSpPr/>
          <p:nvPr/>
        </p:nvCxnSpPr>
        <p:spPr>
          <a:xfrm flipH="1" flipV="1">
            <a:off x="928080" y="5285520"/>
            <a:ext cx="85788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62" name="Object 16"/>
              <p:cNvSpPr txBox="1"/>
              <p:nvPr/>
            </p:nvSpPr>
            <p:spPr>
              <a:xfrm>
                <a:off x="4786200" y="1849320"/>
                <a:ext cx="178596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17"/>
              <p:cNvSpPr txBox="1"/>
              <p:nvPr/>
            </p:nvSpPr>
            <p:spPr>
              <a:xfrm>
                <a:off x="6702480" y="2181240"/>
                <a:ext cx="74124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18"/>
              <p:cNvSpPr txBox="1"/>
              <p:nvPr/>
            </p:nvSpPr>
            <p:spPr>
              <a:xfrm>
                <a:off x="4786200" y="2643120"/>
                <a:ext cx="1990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19"/>
              <p:cNvSpPr txBox="1"/>
              <p:nvPr/>
            </p:nvSpPr>
            <p:spPr>
              <a:xfrm>
                <a:off x="6715080" y="2857680"/>
                <a:ext cx="12034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20"/>
              <p:cNvSpPr txBox="1"/>
              <p:nvPr/>
            </p:nvSpPr>
            <p:spPr>
              <a:xfrm>
                <a:off x="5000760" y="3643200"/>
                <a:ext cx="168120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21"/>
              <p:cNvSpPr txBox="1"/>
              <p:nvPr/>
            </p:nvSpPr>
            <p:spPr>
              <a:xfrm>
                <a:off x="6697800" y="3962520"/>
                <a:ext cx="920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22"/>
              <p:cNvSpPr txBox="1"/>
              <p:nvPr/>
            </p:nvSpPr>
            <p:spPr>
              <a:xfrm>
                <a:off x="6946920" y="4890960"/>
                <a:ext cx="6969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23"/>
              <p:cNvSpPr txBox="1"/>
              <p:nvPr/>
            </p:nvSpPr>
            <p:spPr>
              <a:xfrm>
                <a:off x="4786200" y="4643280"/>
                <a:ext cx="19717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668c4"/>
                </a:solidFill>
                <a:latin typeface="Century Schoolbook"/>
              </a:rPr>
              <a:t>ЗАПИШИТЕ ФОРМУЛЫ ПРИВЕДЕН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1857240" y="1643040"/>
                <a:ext cx="1970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1928880" y="2214720"/>
                <a:ext cx="2165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2000160" y="292896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5"/>
              <p:cNvSpPr txBox="1"/>
              <p:nvPr/>
            </p:nvSpPr>
            <p:spPr>
              <a:xfrm>
                <a:off x="1928880" y="3786120"/>
                <a:ext cx="2214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6"/>
              <p:cNvSpPr txBox="1"/>
              <p:nvPr/>
            </p:nvSpPr>
            <p:spPr>
              <a:xfrm>
                <a:off x="2000160" y="478620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7"/>
              <p:cNvSpPr txBox="1"/>
              <p:nvPr/>
            </p:nvSpPr>
            <p:spPr>
              <a:xfrm>
                <a:off x="1916280" y="5572080"/>
                <a:ext cx="2170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8"/>
              <p:cNvSpPr txBox="1"/>
              <p:nvPr/>
            </p:nvSpPr>
            <p:spPr>
              <a:xfrm>
                <a:off x="4071960" y="1785960"/>
                <a:ext cx="858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9"/>
              <p:cNvSpPr txBox="1"/>
              <p:nvPr/>
            </p:nvSpPr>
            <p:spPr>
              <a:xfrm>
                <a:off x="4143240" y="235728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10"/>
              <p:cNvSpPr txBox="1"/>
              <p:nvPr/>
            </p:nvSpPr>
            <p:spPr>
              <a:xfrm>
                <a:off x="4071960" y="3000240"/>
                <a:ext cx="828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11"/>
              <p:cNvSpPr txBox="1"/>
              <p:nvPr/>
            </p:nvSpPr>
            <p:spPr>
              <a:xfrm>
                <a:off x="4214880" y="392904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12"/>
              <p:cNvSpPr txBox="1"/>
              <p:nvPr/>
            </p:nvSpPr>
            <p:spPr>
              <a:xfrm>
                <a:off x="4156200" y="4889520"/>
                <a:ext cx="1003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3"/>
              <p:cNvSpPr txBox="1"/>
              <p:nvPr/>
            </p:nvSpPr>
            <p:spPr>
              <a:xfrm>
                <a:off x="4071960" y="5643720"/>
                <a:ext cx="100332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2700" spc="-1" strike="noStrike">
                <a:solidFill>
                  <a:srgbClr val="e75c01"/>
                </a:solidFill>
                <a:latin typeface="Century Schoolbook"/>
              </a:rPr>
              <a:t>1.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ВЫРАЗИТЕ ТРИГОНОМЕТРИЧЕСКИЕ ФУНКЦИИ ЧЕРЕЗ УГОЛ МЕНЬШЕ 45</a:t>
            </a:r>
            <a:r>
              <a:rPr b="0" i="1" lang="ru-RU" sz="27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2"/>
              <p:cNvSpPr txBox="1"/>
              <p:nvPr/>
            </p:nvSpPr>
            <p:spPr>
              <a:xfrm>
                <a:off x="1143000" y="1673280"/>
                <a:ext cx="12682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3"/>
              <p:cNvSpPr txBox="1"/>
              <p:nvPr/>
            </p:nvSpPr>
            <p:spPr>
              <a:xfrm>
                <a:off x="2500200" y="1643040"/>
                <a:ext cx="2884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4"/>
              <p:cNvSpPr txBox="1"/>
              <p:nvPr/>
            </p:nvSpPr>
            <p:spPr>
              <a:xfrm>
                <a:off x="1071720" y="2357280"/>
                <a:ext cx="12934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5"/>
              <p:cNvSpPr txBox="1"/>
              <p:nvPr/>
            </p:nvSpPr>
            <p:spPr>
              <a:xfrm>
                <a:off x="2500200" y="2357280"/>
                <a:ext cx="3033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6"/>
              <p:cNvSpPr txBox="1"/>
              <p:nvPr/>
            </p:nvSpPr>
            <p:spPr>
              <a:xfrm>
                <a:off x="1143000" y="3071880"/>
                <a:ext cx="1119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8"/>
              <p:cNvSpPr txBox="1"/>
              <p:nvPr/>
            </p:nvSpPr>
            <p:spPr>
              <a:xfrm>
                <a:off x="1158840" y="5475240"/>
                <a:ext cx="169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9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5"/>
              <p:cNvSpPr txBox="1"/>
              <p:nvPr/>
            </p:nvSpPr>
            <p:spPr>
              <a:xfrm>
                <a:off x="2571840" y="3143160"/>
                <a:ext cx="2560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10"/>
              <p:cNvSpPr txBox="1"/>
              <p:nvPr/>
            </p:nvSpPr>
            <p:spPr>
              <a:xfrm>
                <a:off x="1214280" y="3929040"/>
                <a:ext cx="1144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6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11"/>
              <p:cNvSpPr txBox="1"/>
              <p:nvPr/>
            </p:nvSpPr>
            <p:spPr>
              <a:xfrm>
                <a:off x="2571840" y="3929040"/>
                <a:ext cx="25858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13"/>
              <p:cNvSpPr txBox="1"/>
              <p:nvPr/>
            </p:nvSpPr>
            <p:spPr>
              <a:xfrm>
                <a:off x="2857680" y="4572000"/>
                <a:ext cx="3406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14"/>
              <p:cNvSpPr txBox="1"/>
              <p:nvPr/>
            </p:nvSpPr>
            <p:spPr>
              <a:xfrm>
                <a:off x="1143000" y="4572000"/>
                <a:ext cx="1666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15"/>
              <p:cNvSpPr txBox="1"/>
              <p:nvPr/>
            </p:nvSpPr>
            <p:spPr>
              <a:xfrm>
                <a:off x="2867040" y="5500800"/>
                <a:ext cx="3157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8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2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2"/>
              <p:cNvSpPr txBox="1"/>
              <p:nvPr/>
            </p:nvSpPr>
            <p:spPr>
              <a:xfrm>
                <a:off x="214200" y="2071800"/>
                <a:ext cx="8433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3"/>
              <p:cNvSpPr txBox="1"/>
              <p:nvPr/>
            </p:nvSpPr>
            <p:spPr>
              <a:xfrm>
                <a:off x="1071720" y="3286080"/>
                <a:ext cx="65005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3643200" y="4572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03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3T11:48:44Z</dcterms:modified>
  <cp:revision>21</cp:revision>
  <dc:subject/>
  <dc:title>Слайд 1</dc:title>
</cp:coreProperties>
</file>