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2710-8B9F-492E-AF49-2895AABA642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76092"/>
                </a:solidFill>
                <a:latin typeface="Calibri"/>
              </a:rPr>
              <a:t>ФОРМУЛЫ ПРИ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Преподаватель ФГОУ  СПО «СТК» Л.Г.Якимч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B797-2901-48FD-B5F8-6E97723804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Задание </a:t>
            </a: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3.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Упростите выра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350B-B88F-4AB7-8CD3-36019D432E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ФОРМУЛЫ ПРИВЕД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это формулы, позволяющие выражать значения тригонометрических функций любого угла через функции угла первой четверти, т.е. 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&lt; 90</a:t>
            </a:r>
            <a:r>
              <a:rPr b="0" i="1" lang="en-US" sz="1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°</a:t>
            </a:r>
            <a:r>
              <a:rPr b="0" i="1" lang="ru-RU" sz="1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3CB5-7BAA-4E1D-897C-C2B2305D38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76092"/>
                </a:solidFill>
                <a:latin typeface="Calibri"/>
              </a:rPr>
              <a:t>ПРАВИЛО 1.</a:t>
            </a: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Если угол     откладывают от оси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О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,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то наименование функции не меня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9B49-4F83-4BF6-ACCF-0C265DFD4C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76092"/>
                </a:solidFill>
                <a:latin typeface="Calibri"/>
              </a:rPr>
              <a:t>ПРАВИЛО 1.</a:t>
            </a: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А если угол     откладывают от оси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О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Y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,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то наименование функции меняется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на сходно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0AE1-E798-4D13-BAE7-8F7171D05A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76092"/>
                </a:solidFill>
                <a:latin typeface="Calibri"/>
              </a:rPr>
              <a:t>ПРАВИЛО 2.</a:t>
            </a: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Знак в правой части формулы определяется по знаку функции в левой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2180-C19F-40F6-97BF-53DC5A8ADA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76092"/>
                </a:solidFill>
                <a:latin typeface="Calibri"/>
              </a:rPr>
              <a:t>ПРАВИЛО 2.</a:t>
            </a: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Знак в правой части формулы определяется по знаку функции в левой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C215-0E4A-4DC2-93D9-A07DC13626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Запишите формулы при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0C6E-9942-4BAF-8222-5357931FA8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Задание </a:t>
            </a: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1.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Выразите тригонометрические функции через угол меньше 45</a:t>
            </a:r>
            <a:r>
              <a:rPr b="0" i="1" lang="ru-RU" sz="1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9A7F-2179-414E-A292-E46F0D2AE2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Задание </a:t>
            </a: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2.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Упростите выра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BEE3-8EAE-4A7F-8DC6-09B3F454EC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452A-87CF-4764-9D96-4B55BB726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2AFE-E0CB-472C-93A4-5C7FD434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C5BF-1339-4DA4-BCBB-4D1E4456A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C5E2-E2B8-4651-BC56-0E7098616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B0FB-DA6C-465F-A8C1-CD13D3FC0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673F-B922-4AFB-BE2A-2C402511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0733-25D9-462D-87A9-91F29373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21C7-3D4A-480D-830E-ECED0E6A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A9E3-0836-4584-8183-3F6B3601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6224-1216-46B5-AA7E-E55AC53C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6E2A-1559-417D-90D9-A07A94C1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28E9-C760-40E4-AB43-CADE4E1B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621B-97FD-4BFD-86FD-5B9BF169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1075-6CF2-4FE3-B0D3-658685EB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9D7E-8000-4B1D-A29B-59C37AE2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C9AD-1494-4FC0-AA45-D630CCCDD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1D53-4C31-402C-B9EA-DD9BDC422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298C5B-7F6D-4520-9C64-23CD1E833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23A2CB-0985-40F3-BB8E-2E8942CB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34E97F-22B6-471B-A6DD-99A49CDB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01EF75-758A-4BFE-9BAE-EDE6094E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638C09-33F7-4619-9BAC-4553845B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1DF6-EEF6-416E-BD51-2CB06754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A5939B-E74F-432C-A46A-6B4CE62F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AD86B7-EFD2-445D-B91F-2CDEB292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E56C06-64DB-4720-8406-56C4F711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DFE4E0-56C7-4FA8-B9AC-4B1C5642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2B1D1D-50F9-4BF4-955F-BC4344C5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1343E1-CA25-483E-A98D-33D466B35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889F0A-F9A2-4FFA-82BD-366121CD6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D6DD6-64BA-4ACA-8F23-DDAA97B59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78A89-7B47-4823-83BE-4737F8E3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40592-2AE1-48AC-8780-5AD93500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1B89-905F-4586-B98A-483F4861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FE631-5BA0-4BB1-B496-DC053C97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F2D87-F823-41E9-BC24-3079C300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BD0F8-69C7-4C41-82A5-6B64639D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54BCD-E929-4409-BBCB-D666EC43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395FA-DDCE-46F7-B5F9-2BFEA62D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AFC14-7E9A-44C3-A2BE-3388A099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DF4BA-20CA-4BA5-9649-18A15EA8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658DA-1A50-4354-BE65-F457A8BF6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53A27-56F7-4B17-AFE6-71B8C8597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CEA895-A560-4E7F-B0F2-AE97B7EFB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21AE-9BB6-4051-B505-56740E71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E8511A-6393-4EFA-B01B-172028A1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8F6887-0B0C-4021-9867-78815157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F70884-B21C-4239-BB1F-CE67B98A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E77430-1D56-403F-8CC4-509EDD66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8BD666-9A3B-46F0-BE28-F2F0E5FC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A6379A-E0A9-4F06-ADC3-A74EAC4C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C10C21-2830-4880-9E51-D581F5CE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58A497-591A-4125-9190-3B01A853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D8796D-EB66-4FAD-97D7-C9190424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AF9FA1-C0F0-4E72-A2B3-1C9148824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1870-AF69-4363-99B7-8EEA6F76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85DB55-A0F5-4C18-8D64-AEB350AEA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747335-9891-41AF-B480-B0A149351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6B3113-85A8-41F4-B6D6-704C9971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D8C749-4D64-4C3F-A7BD-48593DD3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C333EC-C0ED-4F03-B708-78F9B254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403C07-9C0F-47D2-B9B4-4621FFC4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9DEF4C-654B-40A2-8F75-00898C7A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A2A0F3-29DC-4727-9F9D-F8757A24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CD0831-F985-4E18-981A-02959538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8B8B84-38DA-40C4-B0F6-417F4A4B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C7BE-232B-43B0-96D7-B358C7C6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F9ECED-D418-4199-8A28-6C742DA5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8525F2-54F5-4403-8513-429A1420A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F318C9-83D7-455C-A6A9-842930505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EC15C7-E62B-4D18-BA3E-FE94655FC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9DEA12-5C9D-4828-A0B3-659E311D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516771-7731-4B30-9FCD-D7AC52D5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440055-2CAB-45DE-8561-4E66F338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659730-4631-4DDD-98A9-59F6731B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878E76-5940-4DE3-8BEB-6BFDD2F6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A753D1-CF82-4DD7-9B81-7CCC4A2B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3027-F7E0-4ACF-AA79-B886EB84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6F9274-6C3A-44A5-8206-B34965B4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9531B5-F149-413C-99D6-BA466F75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569C3F-0592-4D83-9469-C5493621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708D04-B64F-403A-83DB-5515C0FE1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1E23E6-2F01-4B74-AC0F-358DDAD4A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C6F0-4A13-4B44-A9D1-01F594B1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E48C-1E6A-4ABD-BEED-2F741D169235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8F56-4883-4E09-A138-1A6279FE723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A81A-975F-4568-87DC-8ACBB391F6BB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BC4B-F8B9-4012-B2C0-F5A73939B30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F097-E3EF-4222-A098-7A521C80DD36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41D1-0DA6-4256-93FC-B5B749B8E35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81E2-AACC-4824-B163-6F3EC3483B45}" type="datetime"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DB06-B874-4F23-9C8A-5200A0ADA94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DB43-7D4F-459F-A191-4F1D462750C9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0ADD-5820-4AB8-A0DD-038633FCDD6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B1BF-762C-44B0-9580-03FF512B5FDB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6C76-A7A0-425A-B940-FAA9E40775E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6DC5-9ACC-44D0-8949-6DB35BF50E8E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884E-57ED-4812-92D9-32BC4CC9F8D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6000" y="2642760"/>
            <a:ext cx="65008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75c01"/>
                </a:solidFill>
                <a:latin typeface="Century Schoolbook"/>
              </a:rPr>
              <a:t>ФОРМУЛЫ ПРИВЕДЕНИЯ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643720"/>
            <a:ext cx="6172200" cy="73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668c4"/>
                </a:solidFill>
                <a:latin typeface="Century Schoolbook"/>
              </a:rPr>
              <a:t>Преподаватель ФГОУ  СПО «СТК» Л.Г.Якимчу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Місце для нижнього колонтитула 3"/>
          <p:cNvSpPr/>
          <p:nvPr/>
        </p:nvSpPr>
        <p:spPr>
          <a:xfrm rot="5400000">
            <a:off x="707652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3200" spc="-1" strike="noStrike">
                <a:solidFill>
                  <a:srgbClr val="e75c01"/>
                </a:solidFill>
                <a:latin typeface="Century Schoolbook"/>
              </a:rPr>
              <a:t>3. </a:t>
            </a:r>
            <a:r>
              <a:rPr b="0" i="1" lang="ru-RU" sz="3200" spc="-1" strike="noStrike">
                <a:solidFill>
                  <a:srgbClr val="3668c4"/>
                </a:solidFill>
                <a:latin typeface="Century Schoolbook"/>
              </a:rPr>
              <a:t>УПРОСТИТЕ ВЫРАЖЕНИЕ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Object 2"/>
              <p:cNvSpPr txBox="1"/>
              <p:nvPr/>
            </p:nvSpPr>
            <p:spPr>
              <a:xfrm>
                <a:off x="1571760" y="1643040"/>
                <a:ext cx="49291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28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9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3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9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Object 3"/>
              <p:cNvSpPr txBox="1"/>
              <p:nvPr/>
            </p:nvSpPr>
            <p:spPr>
              <a:xfrm>
                <a:off x="500040" y="3000240"/>
                <a:ext cx="80503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Object 4"/>
              <p:cNvSpPr txBox="1"/>
              <p:nvPr/>
            </p:nvSpPr>
            <p:spPr>
              <a:xfrm>
                <a:off x="1992240" y="4000680"/>
                <a:ext cx="40863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Object 5"/>
              <p:cNvSpPr txBox="1"/>
              <p:nvPr/>
            </p:nvSpPr>
            <p:spPr>
              <a:xfrm>
                <a:off x="2759040" y="5322960"/>
                <a:ext cx="29973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509" name="Picture 4" descr=""/>
          <p:cNvPicPr/>
          <p:nvPr/>
        </p:nvPicPr>
        <p:blipFill>
          <a:blip r:embed="rId1"/>
          <a:stretch/>
        </p:blipFill>
        <p:spPr>
          <a:xfrm>
            <a:off x="6357960" y="50007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10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75c01"/>
                </a:solidFill>
                <a:latin typeface="Century Schoolbook"/>
              </a:rPr>
              <a:t>ФОРМУЛЫ ПРИВЕДЕНИ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2071800"/>
            <a:ext cx="746748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i="1" lang="ru-RU" sz="2800" spc="-1" strike="noStrike">
                <a:solidFill>
                  <a:srgbClr val="3668c4"/>
                </a:solidFill>
                <a:latin typeface="Century Schoolbook"/>
              </a:rPr>
              <a:t>это формулы, позволяющие выражать значения тригонометрических функций любого угла через функции угла первой четверти, т.е. </a:t>
            </a:r>
            <a:r>
              <a:rPr b="0" i="1" lang="en-US" sz="2800" spc="-1" strike="noStrike">
                <a:solidFill>
                  <a:srgbClr val="3668c4"/>
                </a:solidFill>
                <a:latin typeface="Century Schoolbook"/>
              </a:rPr>
              <a:t>&lt; 90</a:t>
            </a:r>
            <a:r>
              <a:rPr b="0" i="1" lang="en-US" sz="28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°</a:t>
            </a:r>
            <a:r>
              <a:rPr b="0" i="1" lang="ru-RU" sz="28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2"/>
              <p:cNvSpPr txBox="1"/>
              <p:nvPr/>
            </p:nvSpPr>
            <p:spPr>
              <a:xfrm>
                <a:off x="2857680" y="4572000"/>
                <a:ext cx="18954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l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4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8400" y="642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1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ЕСЛИ УГОЛ     ОТКЛАДЫВАЮТ ОТ ОСИ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О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X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,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ТО НАИМЕНОВАНИЕ ФУНКЦИИ НЕ МЕНЯЕТСЯ.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Прямая со стрелкой 29"/>
          <p:cNvCxnSpPr/>
          <p:nvPr/>
        </p:nvCxnSpPr>
        <p:spPr>
          <a:xfrm flipH="1" flipV="1">
            <a:off x="4071240" y="2785680"/>
            <a:ext cx="214920" cy="7149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74" name="Прямая со стрелкой 30"/>
          <p:cNvCxnSpPr/>
          <p:nvPr/>
        </p:nvCxnSpPr>
        <p:spPr>
          <a:xfrm flipH="1">
            <a:off x="4071600" y="4142880"/>
            <a:ext cx="286560" cy="7153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75" name="Прямая со стрелкой 31"/>
          <p:cNvCxnSpPr/>
          <p:nvPr/>
        </p:nvCxnSpPr>
        <p:spPr>
          <a:xfrm flipV="1">
            <a:off x="427680" y="2785320"/>
            <a:ext cx="214920" cy="78660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76" name="Прямая со стрелкой 32"/>
          <p:cNvCxnSpPr/>
          <p:nvPr/>
        </p:nvCxnSpPr>
        <p:spPr>
          <a:xfrm>
            <a:off x="357120" y="4143240"/>
            <a:ext cx="357840" cy="9295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377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Object 7"/>
              <p:cNvSpPr txBox="1"/>
              <p:nvPr/>
            </p:nvSpPr>
            <p:spPr>
              <a:xfrm>
                <a:off x="4143240" y="3643200"/>
                <a:ext cx="39060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8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9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10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11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12"/>
              <p:cNvSpPr txBox="1"/>
              <p:nvPr/>
            </p:nvSpPr>
            <p:spPr>
              <a:xfrm>
                <a:off x="4500720" y="500040"/>
                <a:ext cx="4348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13"/>
              <p:cNvSpPr txBox="1"/>
              <p:nvPr/>
            </p:nvSpPr>
            <p:spPr>
              <a:xfrm>
                <a:off x="219240" y="3675240"/>
                <a:ext cx="2379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14"/>
              <p:cNvSpPr txBox="1"/>
              <p:nvPr/>
            </p:nvSpPr>
            <p:spPr>
              <a:xfrm>
                <a:off x="5286240" y="1928880"/>
                <a:ext cx="16430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15"/>
              <p:cNvSpPr txBox="1"/>
              <p:nvPr/>
            </p:nvSpPr>
            <p:spPr>
              <a:xfrm>
                <a:off x="5560920" y="3313080"/>
                <a:ext cx="13780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7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1320" y="571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1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А ЕСЛИ УГОЛ     ОТКЛАДЫВАЮТ ОТ ОСИ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О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Y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,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ТО НАИМЕНОВАНИЕ ФУНКЦИИ МЕНЯЕТСЯ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НА СХОДНОЕ.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2"/>
              <p:cNvSpPr txBox="1"/>
              <p:nvPr/>
            </p:nvSpPr>
            <p:spPr>
              <a:xfrm>
                <a:off x="1857240" y="5715000"/>
                <a:ext cx="4111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3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4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5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6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7"/>
              <p:cNvSpPr txBox="1"/>
              <p:nvPr/>
            </p:nvSpPr>
            <p:spPr>
              <a:xfrm>
                <a:off x="4786200" y="500040"/>
                <a:ext cx="4352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8"/>
              <p:cNvSpPr txBox="1"/>
              <p:nvPr/>
            </p:nvSpPr>
            <p:spPr>
              <a:xfrm>
                <a:off x="1979640" y="1569960"/>
                <a:ext cx="280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9"/>
              <p:cNvSpPr txBox="1"/>
              <p:nvPr/>
            </p:nvSpPr>
            <p:spPr>
              <a:xfrm>
                <a:off x="5643720" y="2571840"/>
                <a:ext cx="1357200" cy="12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10"/>
              <p:cNvSpPr txBox="1"/>
              <p:nvPr/>
            </p:nvSpPr>
            <p:spPr>
              <a:xfrm>
                <a:off x="5643720" y="4000680"/>
                <a:ext cx="1380960" cy="13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406" name="Прямая со стрелкой 40"/>
          <p:cNvCxnSpPr/>
          <p:nvPr/>
        </p:nvCxnSpPr>
        <p:spPr>
          <a:xfrm flipH="1">
            <a:off x="1213560" y="2000160"/>
            <a:ext cx="71532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07" name="Прямая со стрелкой 44"/>
          <p:cNvCxnSpPr/>
          <p:nvPr/>
        </p:nvCxnSpPr>
        <p:spPr>
          <a:xfrm>
            <a:off x="285768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08" name="Прямая со стрелкой 46"/>
          <p:cNvCxnSpPr/>
          <p:nvPr/>
        </p:nvCxnSpPr>
        <p:spPr>
          <a:xfrm flipV="1">
            <a:off x="2500200" y="5500440"/>
            <a:ext cx="1000800" cy="4291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09" name="Прямая со стрелкой 48"/>
          <p:cNvCxnSpPr/>
          <p:nvPr/>
        </p:nvCxnSpPr>
        <p:spPr>
          <a:xfrm flipH="1" flipV="1">
            <a:off x="1071720" y="5428440"/>
            <a:ext cx="643320" cy="5007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10" name="Object 11"/>
              <p:cNvSpPr txBox="1"/>
              <p:nvPr/>
            </p:nvSpPr>
            <p:spPr>
              <a:xfrm>
                <a:off x="4098960" y="1285920"/>
                <a:ext cx="37321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12"/>
              <p:cNvSpPr txBox="1"/>
              <p:nvPr/>
            </p:nvSpPr>
            <p:spPr>
              <a:xfrm>
                <a:off x="4643280" y="1785960"/>
                <a:ext cx="24289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Місце для нижнього колонтитула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2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ЗНАК В ПРАВОЙ ЧАСТИ ФОРМУЛЫ ОПРЕДЕЛЯЕТСЯ ПО ЗНАКУ ФУНКЦИИ В ЛЕВОЙ ЧАСТИ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5"/>
          <p:cNvSpPr/>
          <p:nvPr/>
        </p:nvSpPr>
        <p:spPr>
          <a:xfrm>
            <a:off x="228600" y="39304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7"/>
          <p:cNvSpPr/>
          <p:nvPr/>
        </p:nvSpPr>
        <p:spPr>
          <a:xfrm>
            <a:off x="5410080" y="394488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Прямая со стрелкой 19"/>
          <p:cNvCxnSpPr/>
          <p:nvPr/>
        </p:nvCxnSpPr>
        <p:spPr>
          <a:xfrm flipH="1" flipV="1">
            <a:off x="4071240" y="2785680"/>
            <a:ext cx="214920" cy="7149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22" name="Прямая со стрелкой 21"/>
          <p:cNvCxnSpPr/>
          <p:nvPr/>
        </p:nvCxnSpPr>
        <p:spPr>
          <a:xfrm flipH="1">
            <a:off x="4071600" y="4142880"/>
            <a:ext cx="286560" cy="7153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23" name="Прямая со стрелкой 23"/>
          <p:cNvCxnSpPr/>
          <p:nvPr/>
        </p:nvCxnSpPr>
        <p:spPr>
          <a:xfrm flipV="1">
            <a:off x="427680" y="2785320"/>
            <a:ext cx="214920" cy="78660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24" name="Прямая со стрелкой 25"/>
          <p:cNvCxnSpPr/>
          <p:nvPr/>
        </p:nvCxnSpPr>
        <p:spPr>
          <a:xfrm>
            <a:off x="357120" y="4143240"/>
            <a:ext cx="357840" cy="9295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425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2"/>
              <p:cNvSpPr txBox="1"/>
              <p:nvPr/>
            </p:nvSpPr>
            <p:spPr>
              <a:xfrm>
                <a:off x="4143240" y="3643200"/>
                <a:ext cx="39060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3"/>
              <p:cNvSpPr txBox="1"/>
              <p:nvPr/>
            </p:nvSpPr>
            <p:spPr>
              <a:xfrm>
                <a:off x="214200" y="3643200"/>
                <a:ext cx="23832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4"/>
              <p:cNvSpPr txBox="1"/>
              <p:nvPr/>
            </p:nvSpPr>
            <p:spPr>
              <a:xfrm>
                <a:off x="4714920" y="1428840"/>
                <a:ext cx="18432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5"/>
              <p:cNvSpPr txBox="1"/>
              <p:nvPr/>
            </p:nvSpPr>
            <p:spPr>
              <a:xfrm>
                <a:off x="6572160" y="1428840"/>
                <a:ext cx="11350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6"/>
              <p:cNvSpPr txBox="1"/>
              <p:nvPr/>
            </p:nvSpPr>
            <p:spPr>
              <a:xfrm>
                <a:off x="4863960" y="2071800"/>
                <a:ext cx="1629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7"/>
              <p:cNvSpPr txBox="1"/>
              <p:nvPr/>
            </p:nvSpPr>
            <p:spPr>
              <a:xfrm>
                <a:off x="6600960" y="2143080"/>
                <a:ext cx="9460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8"/>
              <p:cNvSpPr txBox="1"/>
              <p:nvPr/>
            </p:nvSpPr>
            <p:spPr>
              <a:xfrm>
                <a:off x="5076720" y="4286160"/>
                <a:ext cx="14623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9"/>
              <p:cNvSpPr txBox="1"/>
              <p:nvPr/>
            </p:nvSpPr>
            <p:spPr>
              <a:xfrm>
                <a:off x="6643800" y="4286160"/>
                <a:ext cx="5713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10"/>
              <p:cNvSpPr txBox="1"/>
              <p:nvPr/>
            </p:nvSpPr>
            <p:spPr>
              <a:xfrm>
                <a:off x="4786200" y="2928960"/>
                <a:ext cx="18576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11"/>
              <p:cNvSpPr txBox="1"/>
              <p:nvPr/>
            </p:nvSpPr>
            <p:spPr>
              <a:xfrm>
                <a:off x="6643800" y="2928960"/>
                <a:ext cx="9428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12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13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14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15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16"/>
              <p:cNvSpPr txBox="1"/>
              <p:nvPr/>
            </p:nvSpPr>
            <p:spPr>
              <a:xfrm>
                <a:off x="4929120" y="5000760"/>
                <a:ext cx="17416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17"/>
              <p:cNvSpPr txBox="1"/>
              <p:nvPr/>
            </p:nvSpPr>
            <p:spPr>
              <a:xfrm>
                <a:off x="6643800" y="5000760"/>
                <a:ext cx="922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2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ЗНАК В ПРАВОЙ ЧАСТИ ФОРМУЛЫ ОПРЕДЕЛЯЕТСЯ ПО ЗНАКУ ФУНКЦИИ В ЛЕВОЙ ЧАСТИ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4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2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3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4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5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6"/>
              <p:cNvSpPr txBox="1"/>
              <p:nvPr/>
            </p:nvSpPr>
            <p:spPr>
              <a:xfrm>
                <a:off x="1979640" y="1569960"/>
                <a:ext cx="280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57" name="Прямая со стрелкой 16"/>
          <p:cNvCxnSpPr/>
          <p:nvPr/>
        </p:nvCxnSpPr>
        <p:spPr>
          <a:xfrm flipH="1">
            <a:off x="114264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58" name="Прямая со стрелкой 17"/>
          <p:cNvCxnSpPr/>
          <p:nvPr/>
        </p:nvCxnSpPr>
        <p:spPr>
          <a:xfrm>
            <a:off x="285768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59" name="Прямая со стрелкой 18"/>
          <p:cNvCxnSpPr/>
          <p:nvPr/>
        </p:nvCxnSpPr>
        <p:spPr>
          <a:xfrm flipV="1">
            <a:off x="2500200" y="5500440"/>
            <a:ext cx="1000800" cy="4291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60" name="Object 7"/>
              <p:cNvSpPr txBox="1"/>
              <p:nvPr/>
            </p:nvSpPr>
            <p:spPr>
              <a:xfrm>
                <a:off x="1857240" y="5715000"/>
                <a:ext cx="4287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61" name="Прямая со стрелкой 22"/>
          <p:cNvCxnSpPr/>
          <p:nvPr/>
        </p:nvCxnSpPr>
        <p:spPr>
          <a:xfrm flipH="1" flipV="1">
            <a:off x="928080" y="5285520"/>
            <a:ext cx="857880" cy="5007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62" name="Object 16"/>
              <p:cNvSpPr txBox="1"/>
              <p:nvPr/>
            </p:nvSpPr>
            <p:spPr>
              <a:xfrm>
                <a:off x="4786200" y="1849320"/>
                <a:ext cx="178596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17"/>
              <p:cNvSpPr txBox="1"/>
              <p:nvPr/>
            </p:nvSpPr>
            <p:spPr>
              <a:xfrm>
                <a:off x="6702480" y="2181240"/>
                <a:ext cx="74124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18"/>
              <p:cNvSpPr txBox="1"/>
              <p:nvPr/>
            </p:nvSpPr>
            <p:spPr>
              <a:xfrm>
                <a:off x="4786200" y="2643120"/>
                <a:ext cx="19908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19"/>
              <p:cNvSpPr txBox="1"/>
              <p:nvPr/>
            </p:nvSpPr>
            <p:spPr>
              <a:xfrm>
                <a:off x="6715080" y="2857680"/>
                <a:ext cx="120348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20"/>
              <p:cNvSpPr txBox="1"/>
              <p:nvPr/>
            </p:nvSpPr>
            <p:spPr>
              <a:xfrm>
                <a:off x="5000760" y="3643200"/>
                <a:ext cx="168120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21"/>
              <p:cNvSpPr txBox="1"/>
              <p:nvPr/>
            </p:nvSpPr>
            <p:spPr>
              <a:xfrm>
                <a:off x="6697800" y="3962520"/>
                <a:ext cx="9205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22"/>
              <p:cNvSpPr txBox="1"/>
              <p:nvPr/>
            </p:nvSpPr>
            <p:spPr>
              <a:xfrm>
                <a:off x="6946920" y="4890960"/>
                <a:ext cx="6969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23"/>
              <p:cNvSpPr txBox="1"/>
              <p:nvPr/>
            </p:nvSpPr>
            <p:spPr>
              <a:xfrm>
                <a:off x="4786200" y="4643280"/>
                <a:ext cx="197172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0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668c4"/>
                </a:solidFill>
                <a:latin typeface="Century Schoolbook"/>
              </a:rPr>
              <a:t>ЗАПИШИТЕ ФОРМУЛЫ ПРИВЕДЕН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2"/>
              <p:cNvSpPr txBox="1"/>
              <p:nvPr/>
            </p:nvSpPr>
            <p:spPr>
              <a:xfrm>
                <a:off x="1857240" y="1643040"/>
                <a:ext cx="19702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3"/>
              <p:cNvSpPr txBox="1"/>
              <p:nvPr/>
            </p:nvSpPr>
            <p:spPr>
              <a:xfrm>
                <a:off x="1928880" y="2214720"/>
                <a:ext cx="21654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4"/>
              <p:cNvSpPr txBox="1"/>
              <p:nvPr/>
            </p:nvSpPr>
            <p:spPr>
              <a:xfrm>
                <a:off x="2000160" y="2928960"/>
                <a:ext cx="2025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5"/>
              <p:cNvSpPr txBox="1"/>
              <p:nvPr/>
            </p:nvSpPr>
            <p:spPr>
              <a:xfrm>
                <a:off x="1928880" y="3786120"/>
                <a:ext cx="22143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6"/>
              <p:cNvSpPr txBox="1"/>
              <p:nvPr/>
            </p:nvSpPr>
            <p:spPr>
              <a:xfrm>
                <a:off x="2000160" y="4786200"/>
                <a:ext cx="2025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7"/>
              <p:cNvSpPr txBox="1"/>
              <p:nvPr/>
            </p:nvSpPr>
            <p:spPr>
              <a:xfrm>
                <a:off x="1916280" y="5572080"/>
                <a:ext cx="2170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8"/>
              <p:cNvSpPr txBox="1"/>
              <p:nvPr/>
            </p:nvSpPr>
            <p:spPr>
              <a:xfrm>
                <a:off x="4071960" y="1785960"/>
                <a:ext cx="858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9"/>
              <p:cNvSpPr txBox="1"/>
              <p:nvPr/>
            </p:nvSpPr>
            <p:spPr>
              <a:xfrm>
                <a:off x="4143240" y="2357280"/>
                <a:ext cx="10303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10"/>
              <p:cNvSpPr txBox="1"/>
              <p:nvPr/>
            </p:nvSpPr>
            <p:spPr>
              <a:xfrm>
                <a:off x="4071960" y="3000240"/>
                <a:ext cx="828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11"/>
              <p:cNvSpPr txBox="1"/>
              <p:nvPr/>
            </p:nvSpPr>
            <p:spPr>
              <a:xfrm>
                <a:off x="4214880" y="3929040"/>
                <a:ext cx="10303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12"/>
              <p:cNvSpPr txBox="1"/>
              <p:nvPr/>
            </p:nvSpPr>
            <p:spPr>
              <a:xfrm>
                <a:off x="4156200" y="4889520"/>
                <a:ext cx="10033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13"/>
              <p:cNvSpPr txBox="1"/>
              <p:nvPr/>
            </p:nvSpPr>
            <p:spPr>
              <a:xfrm>
                <a:off x="4071960" y="5643720"/>
                <a:ext cx="1003320" cy="37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4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2700" spc="-1" strike="noStrike">
                <a:solidFill>
                  <a:srgbClr val="e75c01"/>
                </a:solidFill>
                <a:latin typeface="Century Schoolbook"/>
              </a:rPr>
              <a:t>1.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ВЫРАЗИТЕ ТРИГОНОМЕТРИЧЕСКИЕ ФУНКЦИИ ЧЕРЕЗ УГОЛ МЕНЬШЕ 45</a:t>
            </a:r>
            <a:r>
              <a:rPr b="0" i="1" lang="ru-RU" sz="27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°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2"/>
              <p:cNvSpPr txBox="1"/>
              <p:nvPr/>
            </p:nvSpPr>
            <p:spPr>
              <a:xfrm>
                <a:off x="1143000" y="1673280"/>
                <a:ext cx="12682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8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3"/>
              <p:cNvSpPr txBox="1"/>
              <p:nvPr/>
            </p:nvSpPr>
            <p:spPr>
              <a:xfrm>
                <a:off x="2500200" y="1643040"/>
                <a:ext cx="2884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4"/>
              <p:cNvSpPr txBox="1"/>
              <p:nvPr/>
            </p:nvSpPr>
            <p:spPr>
              <a:xfrm>
                <a:off x="1071720" y="2357280"/>
                <a:ext cx="12934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Object 5"/>
              <p:cNvSpPr txBox="1"/>
              <p:nvPr/>
            </p:nvSpPr>
            <p:spPr>
              <a:xfrm>
                <a:off x="2500200" y="2357280"/>
                <a:ext cx="30337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6"/>
              <p:cNvSpPr txBox="1"/>
              <p:nvPr/>
            </p:nvSpPr>
            <p:spPr>
              <a:xfrm>
                <a:off x="1143000" y="3071880"/>
                <a:ext cx="11192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74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8"/>
              <p:cNvSpPr txBox="1"/>
              <p:nvPr/>
            </p:nvSpPr>
            <p:spPr>
              <a:xfrm>
                <a:off x="1158840" y="5475240"/>
                <a:ext cx="1692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69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Object 5"/>
              <p:cNvSpPr txBox="1"/>
              <p:nvPr/>
            </p:nvSpPr>
            <p:spPr>
              <a:xfrm>
                <a:off x="2571840" y="3143160"/>
                <a:ext cx="2560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Object 10"/>
              <p:cNvSpPr txBox="1"/>
              <p:nvPr/>
            </p:nvSpPr>
            <p:spPr>
              <a:xfrm>
                <a:off x="1214280" y="3929040"/>
                <a:ext cx="11448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6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11"/>
              <p:cNvSpPr txBox="1"/>
              <p:nvPr/>
            </p:nvSpPr>
            <p:spPr>
              <a:xfrm>
                <a:off x="2571840" y="3929040"/>
                <a:ext cx="25858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Object 13"/>
              <p:cNvSpPr txBox="1"/>
              <p:nvPr/>
            </p:nvSpPr>
            <p:spPr>
              <a:xfrm>
                <a:off x="2857680" y="4572000"/>
                <a:ext cx="3406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14"/>
              <p:cNvSpPr txBox="1"/>
              <p:nvPr/>
            </p:nvSpPr>
            <p:spPr>
              <a:xfrm>
                <a:off x="1143000" y="4572000"/>
                <a:ext cx="16668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15"/>
              <p:cNvSpPr txBox="1"/>
              <p:nvPr/>
            </p:nvSpPr>
            <p:spPr>
              <a:xfrm>
                <a:off x="2867040" y="5500800"/>
                <a:ext cx="31575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98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3200" spc="-1" strike="noStrike">
                <a:solidFill>
                  <a:srgbClr val="e75c01"/>
                </a:solidFill>
                <a:latin typeface="Century Schoolbook"/>
              </a:rPr>
              <a:t>2. </a:t>
            </a:r>
            <a:r>
              <a:rPr b="0" i="1" lang="ru-RU" sz="3200" spc="-1" strike="noStrike">
                <a:solidFill>
                  <a:srgbClr val="3668c4"/>
                </a:solidFill>
                <a:latin typeface="Century Schoolbook"/>
              </a:rPr>
              <a:t>УПРОСТИТЕ ВЫРАЖЕНИЕ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Object 2"/>
              <p:cNvSpPr txBox="1"/>
              <p:nvPr/>
            </p:nvSpPr>
            <p:spPr>
              <a:xfrm>
                <a:off x="214200" y="2071800"/>
                <a:ext cx="84330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Object 3"/>
              <p:cNvSpPr txBox="1"/>
              <p:nvPr/>
            </p:nvSpPr>
            <p:spPr>
              <a:xfrm>
                <a:off x="1071720" y="3286080"/>
                <a:ext cx="65005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3643200" y="4572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03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3T11:48:44Z</dcterms:modified>
  <cp:revision>21</cp:revision>
  <dc:subject/>
  <dc:title>Слайд 1</dc:title>
</cp:coreProperties>
</file>