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A30C-0638-4CAB-9265-42205606B6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реподаватель ФГОУ  СПО «СТК» Л.Г.Яким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2D4A-0B46-4BF5-8BB5-8FDA58B427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3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76FA-C056-4CCB-BEFF-45AD0FA6C4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&lt; 90</a:t>
            </a:r>
            <a:r>
              <a:rPr b="0" i="1" lang="en-US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4EC3-F348-4AE8-BA76-F140379DAB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не меня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1FD8-1273-4BE9-857F-1794143374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А 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меняется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на сход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0AAF-278B-4957-A893-4BC1C4EF72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F1B1-13F6-4BB5-932F-30370C0915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F034-E4AD-4463-8562-2798843AA1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апишите формулы при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F3FD-7A8D-4C20-A4F3-C2BA20A16B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Выразите тригонометрические функции через угол меньше 45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3DB3-8C84-46B9-9319-6A4A17CD91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2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93E8-8528-4F66-9251-1B9034C77E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372-9C94-4EF1-AB1E-17538B85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56E-FA72-4A98-AE10-D35ED5A7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132-7276-4400-882B-86ED1956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91A-AF04-4195-822E-CF2BB332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3B3E-D23E-4878-B07A-93A91D48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D68F-00F9-4000-9E49-4475C2EC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7E62-CC87-423B-868D-65566277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B65D-9714-4112-8015-082A7437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7446-74BC-43C6-81E0-328891C2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5EA6-093B-4E85-B550-0E193FDF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B398-AF9C-4F4D-9F1A-C8FDE1E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178-1FF8-4BDF-94A5-8813C086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34BC-3755-4CDC-A857-1B40C9E0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A06A-31BF-44D1-A107-DE63B8B5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DC6B-4AD1-49A7-AD0D-53B381E3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EE3F-6029-4889-A2E5-27072F7C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E210-1D01-4E3F-B3DD-958D685C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C9A22-F90B-4D2D-8F6F-8AAAFB75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22A83-C0B2-4F53-9278-6DF83E02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26C61-D66F-47CF-B336-FBD34CA3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3BEC8-61C1-470D-81AF-7D023E49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0743B-1C35-4CED-AD2E-AFAA8DB3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94B-6ACF-4990-91E5-51A26DB1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A8A00-FA9E-4C41-BEF8-623C4E39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70D1D-B164-4146-88D0-8B5867BC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8953B-AAA3-4698-A75F-F0E1DAC0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6A749-1344-4FD3-BAF0-969A1DA3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7519E-CC5A-4587-953C-EB992035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3989E-AAC8-433B-A587-AE2E20E2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13469-6EEA-4545-BE91-55879D91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5720-8CDE-48A1-8264-6114DA34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0608F-B3CA-458E-BECF-4E2D3EB9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F204-0872-46ED-913B-35653B6C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65B-269A-4C67-A6A3-B6B2F819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0127A-4D75-4A31-B5BC-FA1A8F72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18977-68B1-426F-9219-4521BA76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10CF5-7930-49B4-B9DA-D594CB0E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11504-B4E0-4ED6-8A7D-02966FC9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3900-DA86-4173-A13B-F71AEFAC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6A3D-3A9B-4CCC-8A10-9580B9CB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4F1C-3DF7-44EE-9317-FEDCECBB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5642-2DC9-43E4-9311-91D2465D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94AE2-45F3-4389-8D67-A43F189D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A679D-1812-4508-979C-6646B4A9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E3E-E4AC-477D-B34C-C0FFB9D5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2118F-DAAA-41D8-BF18-39B0D386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AE659-D28B-4763-B359-5C09620C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ED7F9-3017-4AE1-8AF3-34B84A54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D972B-6970-4885-8C61-2AEB9673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68C35-0952-4942-9B4D-48633EA6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4B2D7-6C1E-4180-995D-B4D4A70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946AB-6A40-45F2-ABEF-16CB7D30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5057A-1788-4A5B-944A-2A994425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5BF84-0745-48B0-82DE-DB76CA9D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A9496-519F-455A-B42E-57B38130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112-CC67-4E13-B45A-1BE6CCCB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250E5-C802-4E5F-BE86-302DF2CD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7A174-3095-477C-BF4A-32E3A1C7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5DFCA-8550-48A2-BB0C-2E83A7D0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36747-358F-46F2-80D5-40B6B476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255FD-B698-4579-A841-4629AFE5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75AD5-09A9-405D-9BAD-1287AA11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021B74-8554-42A3-9AAF-E8AC95E9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CEC0E-5392-497A-BFCA-F82D9374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CC6179-D134-4BF6-8FCC-8423E3D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653DE-03CD-49E7-97B2-85CFB1AE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C3B-6EE2-4DDD-8153-AC5732B5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0D4A5-AB89-44F1-9851-CAFC5BCC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16229-C022-4472-9914-0EB60EAF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6C3EF-0260-4680-8C55-576D70C9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73834-4995-459B-953D-2215E5EE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49FF6-4E9E-486B-8C27-72B94443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1E27E-432C-4F2A-A1F3-7B8B9274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C13B9-92D5-4D95-AEA1-2CA947F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82AF3-9C75-4A71-B38B-2D09C2A7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FA13A-3A29-4F6B-9A94-F09A8770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B8EEE-A7EF-479A-A715-69707BCB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219-295F-479C-B487-BB6AA73B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DD594-5561-408A-960F-27FA2A42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EDCDB-D1DC-40E9-86A1-C739CFD0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9A4F9-B4B8-4A0D-8993-C3A423F7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B838A-8C67-4B68-800B-67D4B2CD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B898B-3657-49FC-825A-82EEE80F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F8B-25A1-408F-8698-784257B3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57C8-4E4E-4E7B-A0F4-0572EBEB533C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037A-C57E-4517-95D2-7374D8A835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47CB-56ED-4435-8DE4-C03FFC6F4D8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B69D-A3DB-411E-A3B3-789A8DC5B61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C788-AD20-4CBB-9D79-108E84C970D9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2D9D-033A-49CD-8242-71229604AC7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9952-265A-4E58-9992-8296B7BB17E7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80C4-26D2-4C8A-8C2D-DE9AAC4ED04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3DC5-D63A-4008-99CB-0CCEEEFD7454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3E4C-CEAB-449E-B006-3EB0581667B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F0DE-0156-4EF4-A1C6-3824D466EDFF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9ED8-A3B0-45C0-8DC8-49AA89DEB19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8A0C-3ADB-46F7-9E21-FCEB68060C2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CC7F-BD6D-4B81-92AF-3780EBBD03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4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5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6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77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0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Місце для нижнього колонтитула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3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4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25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57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8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61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8:44Z</dcterms:modified>
  <cp:revision>21</cp:revision>
  <dc:subject/>
  <dc:title>Слайд 1</dc:title>
</cp:coreProperties>
</file>