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13.jpeg" ContentType="image/jpeg"/>
  <Override PartName="/ppt/media/image9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FDFF-E1FA-448F-93CD-27C05A67339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«НЕСТАНДАРТНЫЕ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B1A8-2969-4D48-896B-DAFD95F8354C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200" spc="-1" strike="noStrike">
                <a:solidFill>
                  <a:srgbClr val="ff3399"/>
                </a:solidFill>
                <a:latin typeface="Arial"/>
                <a:ea typeface="Arial"/>
              </a:rPr>
              <a:t>молод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BA2F-F965-4115-ADFF-84695B436D58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13BA-2D62-4ED8-9937-D1D24D6256D9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Решение квадратных уравнений с применением циркуля и линей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ни квадратного 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с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0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 ≠ 0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жно рассматри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абсциссы точек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есе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ружности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-     ;         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щей через точку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; 1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7D41-2B5A-4BE9-B117-F6DC8E12D29A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пересекает ось Ох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вух точках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 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ни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ECDD-D48B-4A7D-B03C-09D1E6FA7AD4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=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касает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и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очке  М(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0)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е име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рень  х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6BC2-A95D-4B00-B0E8-46CFF2DF89DF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&lt;         ,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окружност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ет общих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к с осью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х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ав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корне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70DA-94A4-4D62-8DF8-A5CF82D86885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еречень тем сообщени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ак решали квадратные уравнения в дре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и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пециальные методы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свойства коэффициентов квадратного урав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«переброски» старшего коэффи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рафический способ решения квадратных урав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F8DA-2320-4224-9413-7FCB688309F9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D3F0-78E8-4017-A972-A6E2DC041D91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квадрата двуч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 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+ 10х + 25 - 39 – 25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64 =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(х + 5 – 8)(х + 5 + 8) = 0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– 8 = 0  ил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+ 5 + 8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х = 3.                    х = -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C3BD-0630-4D7F-8B19-645DE81461CF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хаммед  Бен Муса  Аль-Хорезм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+ 10х= 39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10х +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5 = 39 + 25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х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 5)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6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+ 5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787-ок.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1A55-2B52-428A-BF23-C81576C526B2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в. до н. э.)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в древних китайских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1f497d"/>
                </a:solidFill>
                <a:latin typeface="Calibri"/>
              </a:rPr>
              <a:t>и японских трактатах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 труд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древнегрече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математика Евкл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III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BAD43-F345-41EC-B4F5-734DD5D25056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н. э. квадратное уравнение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i="1" lang="ru-RU" sz="1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0х + 96 = 0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обращения к геометр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ил великий древнегреческий математик Диофан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4BF1-C2D4-46D3-A547-9651DED595CD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реш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урав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4CBA-89F6-4FAC-AF28-048E81A9630F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менно с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1591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г. мы пользуемся формулами при решении квадратных уравнений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В 1591 г. Ф. Виет вывел      формулы, выражающие зависимость корней квадратного уравнения </a:t>
            </a:r>
            <a:br>
              <a:rPr sz="1200"/>
            </a:b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т его коэффициентов и сформулировал свою знаменитую теор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C215-27CD-4931-92E1-BA9E477DC9DB}" type="slidenum">
              <a:rPr b="0" lang="ru-RU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84B1-2C20-4D5B-B773-2054B19B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32F-3758-421F-B320-E8C873F4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CBBB-94B6-49C8-8EAF-446BEEC4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156-D45A-45E0-A5AD-C792F56C9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8D33-F431-4B6D-99A3-1605F748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0D25-DA90-48AC-90C1-65C1E3F0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62B6-FD96-4481-833C-BFB2058A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8D2C-A576-44C6-A261-3FFF68F4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A7CF-D32D-4D76-A092-B3EA2022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6683-51F5-4BA4-BE46-414F861E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8DF0-9351-4D4A-BF7D-B5A7861F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9CB-B1BE-49C4-B93D-FDF33555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3197-4A80-4BE7-AF9A-86B186E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8BEC-F76E-4373-ABEA-A3A7ACDE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70740-BB84-4855-B4ED-F95ABD08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A576-F49C-43F2-9A65-6A32F561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9A4E-77E3-44E6-BEF3-DA728D0E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084-508B-432C-85CD-9594C275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13AE-56E5-47BC-AC7D-16E8980B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692B-D1C8-42E9-8F71-6A6DE31C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A720-640B-4E6A-9BC4-DCC2640D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E43-EF0D-46E6-80A8-2EF54F49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298D-E8F1-439A-B5CF-E145D5BB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A09-0A38-4B15-A60F-292F925B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F93D-19AD-4B68-9300-CAC6C4CA66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7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2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3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4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7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8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29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0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1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2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3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4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5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6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7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8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39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0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6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76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65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7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8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9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610D-A9A7-4A33-AD4F-49CE078C890D}" type="slidenum">
              <a:rPr b="0" lang="ru-RU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" Target="slide8.xml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"/>
          <p:cNvPicPr/>
          <p:nvPr/>
        </p:nvPicPr>
        <p:blipFill>
          <a:blip r:embed="rId1"/>
          <a:stretch/>
        </p:blipFill>
        <p:spPr>
          <a:xfrm>
            <a:off x="4498920" y="212760"/>
            <a:ext cx="4237200" cy="46832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2600" y="1999800"/>
            <a:ext cx="5429160" cy="44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«НЕСТАНДАРТНЫЕ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Arial Black"/>
              </a:rPr>
              <a:t>ПРИЕМЫ РЕШЕНИЯ  КВАДРАТНЫХ УРАВНЕНИЙ»</a:t>
            </a:r>
            <a:r>
              <a:rPr b="0" lang="ru-RU" sz="3600" spc="-1" strike="noStrike">
                <a:solidFill>
                  <a:srgbClr val="660066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4"/>
          <p:cNvSpPr txBox="1"/>
          <p:nvPr/>
        </p:nvSpPr>
        <p:spPr>
          <a:xfrm>
            <a:off x="1187280" y="213372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48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148360" y="407628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52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53" name="Picture 6" descr="AG00373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rot="19567200">
            <a:off x="5300640" y="4228920"/>
            <a:ext cx="2232000" cy="214596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85920" y="285840"/>
            <a:ext cx="7453440" cy="17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Графический способ решения квадратных уравнений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56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52213" t="2276" r="8583" b="53601"/>
          <a:stretch/>
        </p:blipFill>
        <p:spPr>
          <a:xfrm>
            <a:off x="785880" y="1714680"/>
            <a:ext cx="2428920" cy="442908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"/>
          <p:cNvPicPr/>
          <p:nvPr/>
        </p:nvPicPr>
        <p:blipFill>
          <a:blip r:embed="rId2"/>
          <a:srcRect l="52213" t="53035" r="8504" b="4352"/>
          <a:stretch/>
        </p:blipFill>
        <p:spPr>
          <a:xfrm>
            <a:off x="3357720" y="1785960"/>
            <a:ext cx="2643120" cy="44290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5" descr=""/>
          <p:cNvPicPr/>
          <p:nvPr/>
        </p:nvPicPr>
        <p:blipFill>
          <a:blip r:embed="rId3"/>
          <a:srcRect l="7069" t="51883" r="52660" b="4560"/>
          <a:stretch/>
        </p:blipFill>
        <p:spPr>
          <a:xfrm>
            <a:off x="6072120" y="1714680"/>
            <a:ext cx="2857680" cy="442908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pic>
        <p:nvPicPr>
          <p:cNvPr id="261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5479920" y="3868200"/>
            <a:ext cx="2232000" cy="2146320"/>
          </a:xfrm>
          <a:prstGeom prst="rect">
            <a:avLst/>
          </a:prstGeom>
          <a:ln w="0">
            <a:noFill/>
          </a:ln>
        </p:spPr>
      </p:pic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Решение квадратных уравнений с применением циркуля и линейк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99720" y="1642680"/>
            <a:ext cx="782964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орни квадратного уравн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х</a:t>
            </a:r>
            <a:r>
              <a:rPr b="1" i="1" lang="ru-RU" sz="28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b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с =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0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(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а ≠ 0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можно рассматривать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как абсциссы точек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пересечения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  <a:ea typeface="Times New Roman"/>
              </a:rPr>
              <a:t>окружности с центром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Q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(-     ;         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проходящей через точку  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(О; 1),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 оси 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х 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6215040" y="4000680"/>
            <a:ext cx="357120" cy="73152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2"/>
          <a:stretch/>
        </p:blipFill>
        <p:spPr>
          <a:xfrm>
            <a:off x="6858000" y="4071960"/>
            <a:ext cx="714240" cy="63648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00080" y="285840"/>
            <a:ext cx="745344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1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&gt;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пересекает ось Ох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двух точках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  и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корни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2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1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3085" t="5296" r="53137" b="49815"/>
          <a:stretch/>
        </p:blipFill>
        <p:spPr>
          <a:xfrm>
            <a:off x="5572080" y="2286000"/>
            <a:ext cx="3571920" cy="37861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4857840" y="214200"/>
            <a:ext cx="1071360" cy="95580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1720" y="304920"/>
            <a:ext cx="7572240" cy="576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2) 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=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, то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кружность касаетс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оси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 точке  М(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; 0),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е имеет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корень  х</a:t>
            </a:r>
            <a:r>
              <a:rPr b="0" lang="ru-RU" sz="4400" spc="-1" strike="noStrike" baseline="-25000">
                <a:solidFill>
                  <a:srgbClr val="660066"/>
                </a:solidFill>
                <a:latin typeface="Tahoma"/>
              </a:rPr>
              <a:t>1.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5072040" y="571680"/>
            <a:ext cx="1071720" cy="9554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9" descr=""/>
          <p:cNvPicPr/>
          <p:nvPr/>
        </p:nvPicPr>
        <p:blipFill>
          <a:blip r:embed="rId2"/>
          <a:srcRect l="54668" t="5296" r="4720" b="50628"/>
          <a:stretch/>
        </p:blipFill>
        <p:spPr>
          <a:xfrm>
            <a:off x="5500800" y="2714760"/>
            <a:ext cx="3376440" cy="378612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85560" y="304920"/>
            <a:ext cx="7095960" cy="612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если   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A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  &lt;         ,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 окружность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 имеет общих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точек с осью  </a:t>
            </a: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Ох,</a:t>
            </a:r>
            <a:br>
              <a:rPr sz="4400"/>
            </a:br>
            <a:r>
              <a:rPr b="0" i="1" lang="ru-RU" sz="4400" spc="-1" strike="noStrike">
                <a:solidFill>
                  <a:srgbClr val="660066"/>
                </a:solidFill>
                <a:latin typeface="Tahoma"/>
              </a:rPr>
              <a:t> у </a:t>
            </a: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уравнения </a:t>
            </a: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нет корней. 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25463" t="49384" r="28802" b="6814"/>
          <a:stretch/>
        </p:blipFill>
        <p:spPr>
          <a:xfrm>
            <a:off x="6000840" y="3000240"/>
            <a:ext cx="3143160" cy="3071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4786200" y="857160"/>
            <a:ext cx="1071720" cy="9558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84" name="Picture 6" descr="AG00373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9567200">
            <a:off x="4825800" y="3768480"/>
            <a:ext cx="1000080" cy="961920"/>
          </a:xfrm>
          <a:prstGeom prst="rect">
            <a:avLst/>
          </a:prstGeom>
          <a:ln w="0">
            <a:noFill/>
          </a:ln>
        </p:spPr>
      </p:pic>
      <p:sp>
        <p:nvSpPr>
          <p:cNvPr id="285" name="WordArt 4"/>
          <p:cNvSpPr txBox="1"/>
          <p:nvPr/>
        </p:nvSpPr>
        <p:spPr>
          <a:xfrm>
            <a:off x="1339920" y="2286000"/>
            <a:ext cx="6985080" cy="3600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19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Arial"/>
              </a:rPr>
              <a:t>молодец</a:t>
            </a:r>
            <a:endParaRPr b="0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Arial"/>
              <a:ea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58c"/>
                </a:solidFill>
                <a:latin typeface="Tahoma"/>
              </a:rPr>
              <a:t>Перечень тем сообщений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13880" y="785520"/>
            <a:ext cx="8215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Как решали квадратные уравнения в древности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Общи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Специальные методы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Использование свойства коэффициентов квадратного уравнения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Метод «переброски» старшего коэффициен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58c"/>
                </a:solidFill>
                <a:latin typeface="Tahoma"/>
              </a:rPr>
              <a:t>Графический способ решения квадратных уравнений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3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3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3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3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3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28400" y="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«Человеку, изучающему алгебру, часто полезнее решить одну и ту же задачу  различными способами, чем решать три-четыре различные задачи. Решая одну задачу различными способами, можно путем сравнения выяснить, какой из них короче и эффективнее. Так вырабатывается опыт».   У. У. Сойер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8548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Выделение квадрата двучлена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428480" y="1785960"/>
            <a:ext cx="77151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 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+ 10х + 25 - 39 – 25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 – 64 = 0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(х + 5 – 8)(х + 5 + 8) = 0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– 8 = 0  ил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+ 5 + 8 = 0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  <a:ea typeface="Times New Roman"/>
              </a:rPr>
              <a:t>х = 3.                    х = - 13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4" descr=""/>
          <p:cNvPicPr/>
          <p:nvPr/>
        </p:nvPicPr>
        <p:blipFill>
          <a:blip r:embed="rId1"/>
          <a:srcRect l="12890" t="0" r="9724" b="12829"/>
          <a:stretch/>
        </p:blipFill>
        <p:spPr>
          <a:xfrm>
            <a:off x="5572080" y="1071720"/>
            <a:ext cx="3167280" cy="41432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1720" y="2858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ухаммед  Бен Муса  Аль-Хорезм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14240" y="2000160"/>
            <a:ext cx="7896240" cy="40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+ 10х= 39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</a:t>
            </a:r>
            <a:r>
              <a:rPr b="0" i="1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10х +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25 = 39 + 25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(х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+ 5)</a:t>
            </a:r>
            <a:r>
              <a:rPr b="0" lang="ru-RU" sz="32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= 64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+ 5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8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i="1" lang="ru-RU" sz="3200" spc="-1" strike="noStrike">
                <a:solidFill>
                  <a:srgbClr val="40458c"/>
                </a:solidFill>
                <a:latin typeface="Tahoma"/>
              </a:rPr>
              <a:t>х =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3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                                      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(787-ок.850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842976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Методы решения квадратных уравнений  излагались в вавилонских рукописях царя Хаммурапи  </a:t>
            </a:r>
            <a:br>
              <a:rPr sz="3200"/>
            </a:b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(</a:t>
            </a: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XX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в. до н. э.),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1680" y="2499840"/>
            <a:ext cx="85723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древних китайских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и японских трактатах,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в трудах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древнегреческого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математика Евклида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(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в. до н.э.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243360" indent="-243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                               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Рисунок 3" descr=""/>
          <p:cNvPicPr/>
          <p:nvPr/>
        </p:nvPicPr>
        <p:blipFill>
          <a:blip r:embed="rId1"/>
          <a:srcRect l="0" t="0" r="0" b="11909"/>
          <a:stretch/>
        </p:blipFill>
        <p:spPr>
          <a:xfrm>
            <a:off x="6215040" y="2571840"/>
            <a:ext cx="2592360" cy="342900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57360" y="785520"/>
            <a:ext cx="5500440" cy="571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В 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III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 в. н. э. квадратное уравнение </a:t>
            </a:r>
            <a:br>
              <a:rPr sz="3600"/>
            </a:b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х</a:t>
            </a:r>
            <a:r>
              <a:rPr b="1" i="1" lang="ru-RU" sz="3600" spc="-1" strike="noStrike" baseline="30000">
                <a:solidFill>
                  <a:srgbClr val="660066"/>
                </a:solidFill>
                <a:latin typeface="Tahoma"/>
              </a:rPr>
              <a:t>2</a:t>
            </a:r>
            <a:r>
              <a:rPr b="1" i="1" lang="ru-RU" sz="3600" spc="-1" strike="noStrike">
                <a:solidFill>
                  <a:srgbClr val="660066"/>
                </a:solidFill>
                <a:latin typeface="Tahoma"/>
              </a:rPr>
              <a:t> – </a:t>
            </a: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20х + 96 = 0 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без обращения к геометрии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решил великий древнегреческий математик Диофант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5" name="Рисунок 2" descr=""/>
          <p:cNvPicPr/>
          <p:nvPr/>
        </p:nvPicPr>
        <p:blipFill>
          <a:blip r:embed="rId1"/>
          <a:srcRect l="0" t="0" r="16079" b="0"/>
          <a:stretch/>
        </p:blipFill>
        <p:spPr>
          <a:xfrm>
            <a:off x="214200" y="571680"/>
            <a:ext cx="3643560" cy="400032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3"/>
          <p:cNvSpPr/>
          <p:nvPr/>
        </p:nvSpPr>
        <p:spPr>
          <a:xfrm>
            <a:off x="1026000" y="471492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офант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в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3929040" cy="61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660066"/>
              </a:solidFill>
              <a:latin typeface="Comic Sans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428800" y="499680"/>
            <a:ext cx="318132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Как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решал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уравнения 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в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1" i="1" lang="ru-RU" sz="4000" spc="-1" strike="noStrike">
                <a:solidFill>
                  <a:srgbClr val="40458c"/>
                </a:solidFill>
                <a:latin typeface="Comic Sans MS"/>
              </a:rPr>
              <a:t>древности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0" name="Содержимое 3" descr="Rectangle: Click to edit Master text styles&#13;&#10;Second level&#13;&#10;Third level&#13;&#10;Fourth level&#13;&#10;Fifth level"/>
          <p:cNvPicPr/>
          <p:nvPr/>
        </p:nvPicPr>
        <p:blipFill>
          <a:blip r:embed="rId1"/>
          <a:srcRect l="0" t="0" r="0" b="34802"/>
          <a:stretch/>
        </p:blipFill>
        <p:spPr>
          <a:xfrm>
            <a:off x="214200" y="0"/>
            <a:ext cx="4714920" cy="650088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5520" y="285480"/>
            <a:ext cx="278604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28760" y="4857480"/>
            <a:ext cx="85010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Именно с </a:t>
            </a: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1591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 г. мы пользуемся формулами при решении квадратных уравнений. 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643200" y="499680"/>
            <a:ext cx="55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В 1591 г. Ф. Виет вывел      формулы, выражающие зависимость корней квадратного уравнения </a:t>
            </a:r>
            <a:br>
              <a:rPr sz="3200"/>
            </a:br>
            <a:r>
              <a:rPr b="0" lang="ru-RU" sz="3200" spc="-1" strike="noStrike">
                <a:solidFill>
                  <a:srgbClr val="660066"/>
                </a:solidFill>
                <a:latin typeface="Tahoma"/>
              </a:rPr>
              <a:t>от его коэффициентов и сформулировал свою знаменитую теорему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Рисунок 5" descr=""/>
          <p:cNvPicPr/>
          <p:nvPr/>
        </p:nvPicPr>
        <p:blipFill>
          <a:blip r:embed="rId2"/>
          <a:srcRect l="0" t="0" r="9655" b="13077"/>
          <a:stretch/>
        </p:blipFill>
        <p:spPr>
          <a:xfrm>
            <a:off x="428760" y="428760"/>
            <a:ext cx="3357360" cy="413856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1:36:35Z</dcterms:created>
  <dc:creator>User</dc:creator>
  <dc:description/>
  <dc:language>en-US</dc:language>
  <cp:lastModifiedBy>LEGION</cp:lastModifiedBy>
  <dcterms:modified xsi:type="dcterms:W3CDTF">2015-01-23T13:20:10Z</dcterms:modified>
  <cp:revision>68</cp:revision>
  <dc:subject/>
  <dc:title>НЕСТАНДАРТНЫЕ  ПРИЕМЫ РЕШЕНИЯ  КВАДРАТНЫХ УРАВНЕНИЙ».</dc:title>
</cp:coreProperties>
</file>