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A5E8-D146-427E-8169-FE7082FE9C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«НЕСТАНДАРТН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2116-9DEF-4618-A9B7-11DE9220F86D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3399"/>
                </a:solidFill>
                <a:latin typeface="Arial"/>
                <a:ea typeface="Arial"/>
              </a:rPr>
              <a:t>молод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8D4B-A327-4F0D-8D3F-56A0E6C105B9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6782-3350-4901-A440-78F7A574E1C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шение квадратных уравнений с применением циркуля и линей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и квадратного 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с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0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≠ 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но рассматри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абсциссы точе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се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ружности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-     ;         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щей через точку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; 1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33AB-E35F-4B78-BFD1-8EF81EE876E9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пересекает ось О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вух точках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 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ни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3977-D9F4-4C49-ADA1-4789A70B88ED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=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каса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чке  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рень 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C48D-5CC9-486D-9B07-CC808E3C337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&lt;         ,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окруж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ет общи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к с осью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корн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59D9-B28B-457E-8CBC-29695548431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чень тем сообщен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решали квадратные уравнения в дре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и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ециальны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свойства коэффициентов квадратного урав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«переброски» старшего коэффи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DBAF-46A1-41CF-80AF-B2F7B8D3E2B7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25C3-D280-4B7F-BDBC-385737132BC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квадрата двуч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 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- 39 – 25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64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 – 8)(х + 5 + 8) = 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– 8 = 0  ил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+ 8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= 3.                    х = -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7C6-AAF6-4F04-AABE-F4CF741A933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хаммед  Бен Муса  Аль-Хорез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+ 10х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0х 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6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+ 5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787-ок.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675D-97E8-4ECC-99BD-B354F7486A19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в. до н. э.)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в древних китайских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и японских трактатах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ру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ревнегрече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матика Евкл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6E89-01D5-4B15-8521-03F503ACBD7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н. э. квадратное уравнени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х + 96 = 0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обращения к геометр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ил великий древнегреческий математик Диоф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ABA6-95EC-44BE-AF80-13C0DB529D0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реш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52EE-51B0-4A9A-9B2A-AEF3DCF3144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менно с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591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г. мы пользуемся формулами при решении квадратных уравн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591 г. Ф. Виет вывел      формулы, выражающие зависимость корней квадратного уравнения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т его коэффициентов и сформулировал свою знаменитую теор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EB2C-5AD2-41F7-9E05-24088FB38C1E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19F-2E04-4D22-A0EC-D5A2165B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9A4-37D2-4BB6-9433-D08BAC14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3A1-CC3E-4FCA-A9F0-82EBB68C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C62-EB9F-4B64-AB13-1F7C3485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F87C-94A7-4C90-B9F1-F0237813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542A-EAF0-4DAB-BDD7-33FD5F56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2A9C-C28F-4DC4-98B5-F589FD39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B42A-5CE5-4D0A-AE96-4268937A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297E-5B9B-441E-A7B2-8BB6CB3A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5F99-A589-4166-A6AF-4B9D9F69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EB93-E8E2-4B9A-A976-2481D71E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9F3-F779-44F7-A7F5-8C733E9F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F615-33B1-4FA7-B7FA-3A21255B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927F-479E-428D-B9BA-A132D1F9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B278-B8CE-40DD-9B78-35338908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E158-2475-42BA-A220-4B3F688B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630B-372D-460B-87C3-4DDBA05F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D6D-B00F-422C-A2CA-6D841FDB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EE3-1B0E-4511-916A-E496E826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F74-C7CE-482E-9002-F41ACFB9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A49-CBCB-4B57-B453-5F53E77C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FEA-8C6A-48F2-B3B8-8C6DC91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003-956E-4EB1-9F6E-17F61F04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034-7DCB-4175-B0BF-977A4F9C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6185-AD33-40EF-BDE6-65EA81871C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3143-7616-4E9A-9982-4C6441BE29AD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" Target="slide8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4498920" y="212760"/>
            <a:ext cx="4237200" cy="4683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5429160" cy="44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«НЕСТАНДАРТНЫЕ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1187280" y="213372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48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52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53" name="Picture 6" descr="AG0037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9567200">
            <a:off x="5300640" y="4228920"/>
            <a:ext cx="2232000" cy="21459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45344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Графический способ решения квадратных уравнений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6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52213" t="2276" r="8583" b="53601"/>
          <a:stretch/>
        </p:blipFill>
        <p:spPr>
          <a:xfrm>
            <a:off x="785880" y="1714680"/>
            <a:ext cx="2428920" cy="44290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2"/>
          <a:srcRect l="52213" t="53035" r="8504" b="4352"/>
          <a:stretch/>
        </p:blipFill>
        <p:spPr>
          <a:xfrm>
            <a:off x="3357720" y="1785960"/>
            <a:ext cx="2643120" cy="44290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"/>
          <p:cNvPicPr/>
          <p:nvPr/>
        </p:nvPicPr>
        <p:blipFill>
          <a:blip r:embed="rId3"/>
          <a:srcRect l="7069" t="51883" r="52660" b="4560"/>
          <a:stretch/>
        </p:blipFill>
        <p:spPr>
          <a:xfrm>
            <a:off x="6072120" y="1714680"/>
            <a:ext cx="2857680" cy="44290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6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479920" y="386820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Решение квадратных уравнений с применением циркуля и линейк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9720" y="1642680"/>
            <a:ext cx="782964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орни квадратного уравн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х</a:t>
            </a:r>
            <a:r>
              <a:rPr b="1" i="1" lang="ru-RU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с =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0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 ≠ 0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можно рассматривать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ак абсциссы точек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пересеч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окружности с центром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(-     ;         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проходящей через точку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(О; 1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 оси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х 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215040" y="4000680"/>
            <a:ext cx="357120" cy="7315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6858000" y="4071960"/>
            <a:ext cx="714240" cy="6364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45344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&gt;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пересекает ось Ох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двух точках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  и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орни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3085" t="5296" r="53137" b="49815"/>
          <a:stretch/>
        </p:blipFill>
        <p:spPr>
          <a:xfrm>
            <a:off x="5572080" y="2286000"/>
            <a:ext cx="3571920" cy="3786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4857840" y="214200"/>
            <a:ext cx="1071360" cy="9558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1720" y="304920"/>
            <a:ext cx="7572240" cy="576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=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касаетс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си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точке  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,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корень 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.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5072040" y="571680"/>
            <a:ext cx="1071720" cy="9554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9" descr=""/>
          <p:cNvPicPr/>
          <p:nvPr/>
        </p:nvPicPr>
        <p:blipFill>
          <a:blip r:embed="rId2"/>
          <a:srcRect l="54668" t="5296" r="4720" b="50628"/>
          <a:stretch/>
        </p:blipFill>
        <p:spPr>
          <a:xfrm>
            <a:off x="5500800" y="2714760"/>
            <a:ext cx="3376440" cy="37861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85560" y="304920"/>
            <a:ext cx="709596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&lt;         ,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 окружность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 имеет общих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чек с осью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,</a:t>
            </a:r>
            <a:br>
              <a:rPr sz="4400"/>
            </a:b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у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т корней.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5463" t="49384" r="28802" b="6814"/>
          <a:stretch/>
        </p:blipFill>
        <p:spPr>
          <a:xfrm>
            <a:off x="6000840" y="3000240"/>
            <a:ext cx="3143160" cy="307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071720" cy="9558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4825800" y="3768480"/>
            <a:ext cx="1000080" cy="961920"/>
          </a:xfrm>
          <a:prstGeom prst="rect">
            <a:avLst/>
          </a:prstGeom>
          <a:ln w="0">
            <a:noFill/>
          </a:ln>
        </p:spPr>
      </p:pic>
      <p:sp>
        <p:nvSpPr>
          <p:cNvPr id="285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58c"/>
                </a:solidFill>
                <a:latin typeface="Tahoma"/>
              </a:rPr>
              <a:t>Перечень тем сообщений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13880" y="785520"/>
            <a:ext cx="821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Как решали квадратные уравнения в древ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бщи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Специальны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спользование свойства коэффициентов квадратного уравнения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Метод «переброски» старшего коэффициен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Графический способ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400" y="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ыделение квадрата двучлена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28480" y="1785960"/>
            <a:ext cx="77151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 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- 39 – 25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64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 – 8)(х + 5 + 8) = 0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– 8 = 0  ил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+ 8 = 0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= 3.                    х = -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"/>
          <p:cNvPicPr/>
          <p:nvPr/>
        </p:nvPicPr>
        <p:blipFill>
          <a:blip r:embed="rId1"/>
          <a:srcRect l="12890" t="0" r="9724" b="12829"/>
          <a:stretch/>
        </p:blipFill>
        <p:spPr>
          <a:xfrm>
            <a:off x="5572080" y="1071720"/>
            <a:ext cx="3167280" cy="41432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ухаммед  Бен Муса  Аль-Хорезм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14240" y="2000160"/>
            <a:ext cx="789624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+ 10х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10х +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(х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= 64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+ 5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8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3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787-ок.85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84297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XX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в. до н. э.),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2499840"/>
            <a:ext cx="85723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древних китайских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и японских трактатах,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в трудах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древнегреческого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математика Евклид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в. до н.э.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rcRect l="0" t="0" r="0" b="11909"/>
          <a:stretch/>
        </p:blipFill>
        <p:spPr>
          <a:xfrm>
            <a:off x="6215040" y="257184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57360" y="785520"/>
            <a:ext cx="550044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в. н. э. квадратное уравнение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х</a:t>
            </a:r>
            <a:r>
              <a:rPr b="1" i="1" lang="ru-RU" sz="36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 –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20х + 96 = 0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без обращения к геометрии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решил великий древнегреческий математик Диофант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rcRect l="0" t="0" r="16079" b="0"/>
          <a:stretch/>
        </p:blipFill>
        <p:spPr>
          <a:xfrm>
            <a:off x="214200" y="571680"/>
            <a:ext cx="3643560" cy="4000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1026000" y="47149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офант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392904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428800" y="499680"/>
            <a:ext cx="318132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Как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решал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уравнения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древност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4802"/>
          <a:stretch/>
        </p:blipFill>
        <p:spPr>
          <a:xfrm>
            <a:off x="214200" y="0"/>
            <a:ext cx="4714920" cy="650088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27860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4857480"/>
            <a:ext cx="85010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Именно с 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1591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г. мы пользуемся формулами при решении квадратных уравнений. 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43200" y="499680"/>
            <a:ext cx="55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В 1591 г. Ф. Виет вывел      формулы, выражающие зависимость корней квадратного уравнения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т его коэффициентов и сформулировал свою знаменитую теорем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Рисунок 5" descr=""/>
          <p:cNvPicPr/>
          <p:nvPr/>
        </p:nvPicPr>
        <p:blipFill>
          <a:blip r:embed="rId2"/>
          <a:srcRect l="0" t="0" r="9655" b="13077"/>
          <a:stretch/>
        </p:blipFill>
        <p:spPr>
          <a:xfrm>
            <a:off x="428760" y="428760"/>
            <a:ext cx="3357360" cy="41385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1:36:35Z</dcterms:created>
  <dc:creator>User</dc:creator>
  <dc:description/>
  <dc:language>en-US</dc:language>
  <cp:lastModifiedBy>LEGION</cp:lastModifiedBy>
  <dcterms:modified xsi:type="dcterms:W3CDTF">2015-01-23T13:20:10Z</dcterms:modified>
  <cp:revision>68</cp:revision>
  <dc:subject/>
  <dc:title>НЕСТАНДАРТНЫЕ  ПРИЕМЫ РЕШЕНИЯ  КВАДРАТНЫХ УРАВНЕНИЙ».</dc:title>
</cp:coreProperties>
</file>