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3F3-6128-4D60-B5A7-30E33001EC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«НЕСТАНДАРТН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9E8C-811E-4DE1-8BE6-D37AA564FED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3399"/>
                </a:solidFill>
                <a:latin typeface="Arial"/>
                <a:ea typeface="Arial"/>
              </a:rPr>
              <a:t>молод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180B-B8E8-41D1-827C-4177D8907BA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1542-E818-41E2-9FE1-430A8ED0B47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шение квадратных уравнений с применением циркуля и линей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и квадратного 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с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0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≠ 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рассматри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абсциссы точе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се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ружности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-     ;         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щей через точку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; 1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17EC-5AF5-4EC0-81CF-BA2FC520324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пересекает ось О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вух точках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 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ни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6D16-1B24-4A78-9E84-5BC8873C5B7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=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кас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чке  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рень 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4892-BA97-4F4A-BDF8-3D5CFC970AB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&lt;         ,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окруж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ет общи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к с осью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корн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57BE-0362-4EC5-8A28-6C8E86E5AEBB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чень тем сообще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решали квадратные уравнения в дре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и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ециальны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свойства коэффициентов квадратного урав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«переброски» старшего коэф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A150-B022-44E8-AB2B-EE77D3AECECF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391D-E22D-4CAD-B1CF-265D39F1C90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квадрата двуч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 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- 39 – 25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64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 – 8)(х + 5 + 8) = 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– 8 = 0  ил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+ 8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3.                    х =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BC3D-5C61-4173-8048-02501C1D950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хаммед  Бен Муса  Аль-Хорез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+ 10х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0х 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6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+ 5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787-ок.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E4A8-100E-48CD-A30D-292203D0746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в. до н. э.)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в древних китайски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и японских трактатах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ру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ревнегрече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матика Евкл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F173-A4FC-4181-916B-5B2C90590B6F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н. э. квадратное уравнени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х + 96 = 0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обращения к геометр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ил великий древнегреческий математик Диоф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BE27-4DF8-49B0-A353-C892D520C8A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реш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5552-98E3-4792-A5AF-EDEF85FE343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менно с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591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г. мы пользуемся формулами при решении квадратных уравн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591 г. Ф. Виет вывел      формулы, выражающие зависимость корней квадратного уравнения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т его коэффициентов и сформулировал свою знаменитую теор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DF5A-28A1-4AF9-8EE0-159FD5C3815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C71-D614-488D-8582-0D6A715B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963-1D8E-4BBB-BAA1-C4864362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682-7B53-4AB2-AA50-982670E6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DD1-B8D8-412D-B22C-121EB3C3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27BC-47BE-4089-B649-D34A6DB7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16B5-17C0-4193-8648-063B0D68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DAE9-F154-4EE7-98CA-64110BB0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370B-430A-4D24-8EBC-0DA3CB1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14CE-5580-42C3-BE6A-20396DA0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1A5-EAE7-4E89-A48B-AAB78F2A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E21F-8739-47CE-876C-381F4EA2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CE2-7E2E-43A6-8A98-5DEB1276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1236-D79A-4F5F-8DA9-7286BB1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132C-D022-44C2-A018-1612371C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D63F-7BE4-4314-82AD-625C9289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00B0-B758-4049-9F45-44DDCCE4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A79E-D309-4734-BFB0-5057A6FB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456-DE2F-4CC0-BB9C-67488196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002-1CF1-4103-88E4-C7D16D04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B8E-BAE5-4939-B55E-9F23CC7D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70C-4BB3-4262-8D7B-E559ABA4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559-48AC-40C6-A162-44C4D135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97A-0F61-4591-A1D3-F4F8F0BF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BE1-6D77-42F1-BAE3-9D85333A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AF6-97D4-4C8B-BB50-74D2C1BE02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883-543B-4683-9C8D-70CB51805526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" Target="slide8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4498920" y="212760"/>
            <a:ext cx="4237200" cy="4683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542916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«НЕСТАНДАРТНЫЕ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1187280" y="213372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48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52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53" name="Picture 6" descr="AG0037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9567200">
            <a:off x="5300640" y="4228920"/>
            <a:ext cx="2232000" cy="21459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45344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Графический способ решения квадратных уравнений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6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52213" t="2276" r="8583" b="53601"/>
          <a:stretch/>
        </p:blipFill>
        <p:spPr>
          <a:xfrm>
            <a:off x="785880" y="1714680"/>
            <a:ext cx="2428920" cy="44290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2"/>
          <a:srcRect l="52213" t="53035" r="8504" b="4352"/>
          <a:stretch/>
        </p:blipFill>
        <p:spPr>
          <a:xfrm>
            <a:off x="3357720" y="1785960"/>
            <a:ext cx="2643120" cy="44290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"/>
          <p:cNvPicPr/>
          <p:nvPr/>
        </p:nvPicPr>
        <p:blipFill>
          <a:blip r:embed="rId3"/>
          <a:srcRect l="7069" t="51883" r="52660" b="4560"/>
          <a:stretch/>
        </p:blipFill>
        <p:spPr>
          <a:xfrm>
            <a:off x="6072120" y="1714680"/>
            <a:ext cx="2857680" cy="44290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6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479920" y="386820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Решение квадратных уравнений с применением циркуля и линей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9720" y="164268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орни квадратного уравн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с =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0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 ≠ 0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можно рассматривать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ак абсциссы точек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пересеч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кружности с центром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(-     ;         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проходящей через точку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(О; 1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 оси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х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215040" y="4000680"/>
            <a:ext cx="357120" cy="7315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6858000" y="4071960"/>
            <a:ext cx="714240" cy="6364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45344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пересекает ось Ох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двух точках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  и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орни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3085" t="5296" r="53137" b="49815"/>
          <a:stretch/>
        </p:blipFill>
        <p:spPr>
          <a:xfrm>
            <a:off x="5572080" y="2286000"/>
            <a:ext cx="3571920" cy="3786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4857840" y="214200"/>
            <a:ext cx="1071360" cy="9558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1720" y="304920"/>
            <a:ext cx="7572240" cy="576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=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касаетс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и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точке  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,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корень 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.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072040" y="571680"/>
            <a:ext cx="1071720" cy="9554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"/>
          <p:cNvPicPr/>
          <p:nvPr/>
        </p:nvPicPr>
        <p:blipFill>
          <a:blip r:embed="rId2"/>
          <a:srcRect l="54668" t="5296" r="4720" b="50628"/>
          <a:stretch/>
        </p:blipFill>
        <p:spPr>
          <a:xfrm>
            <a:off x="5500800" y="2714760"/>
            <a:ext cx="3376440" cy="37861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85560" y="304920"/>
            <a:ext cx="709596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&lt;         ,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 окружность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 имеет общих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чек с осью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,</a:t>
            </a:r>
            <a:br>
              <a:rPr sz="4400"/>
            </a:b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у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т корней.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5463" t="49384" r="28802" b="6814"/>
          <a:stretch/>
        </p:blipFill>
        <p:spPr>
          <a:xfrm>
            <a:off x="6000840" y="3000240"/>
            <a:ext cx="3143160" cy="307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071720" cy="9558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4825800" y="3768480"/>
            <a:ext cx="1000080" cy="961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Перечень тем сообщений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13880" y="785520"/>
            <a:ext cx="821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Как решали квадратные уравнения в древ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бщи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Специальны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спользование свойства коэффициентов квадратного уравнения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тод «переброски» старшего коэффициен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Графический способ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400" y="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ыделение квадрата двучлена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28480" y="1785960"/>
            <a:ext cx="77151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 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- 39 – 25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64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 – 8)(х + 5 + 8) = 0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– 8 = 0  ил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+ 8 = 0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= 3.                    х = -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rcRect l="12890" t="0" r="9724" b="12829"/>
          <a:stretch/>
        </p:blipFill>
        <p:spPr>
          <a:xfrm>
            <a:off x="5572080" y="1071720"/>
            <a:ext cx="3167280" cy="4143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ухаммед  Бен Муса  Аль-Хорезм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14240" y="2000160"/>
            <a:ext cx="789624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+ 10х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10х +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(х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= 64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+ 5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8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3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787-ок.85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84297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X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в. до н. э.),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249984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древних китайских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 японских трактатах,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в трудах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древнегреческого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математика Евклид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в. до н.э.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rcRect l="0" t="0" r="0" b="11909"/>
          <a:stretch/>
        </p:blipFill>
        <p:spPr>
          <a:xfrm>
            <a:off x="6215040" y="257184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57360" y="785520"/>
            <a:ext cx="550044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в. н. э. квадратное уравнение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х</a:t>
            </a:r>
            <a:r>
              <a:rPr b="1" i="1" lang="ru-RU" sz="36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 –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20х + 96 = 0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без обращения к геометрии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решил великий древнегреческий математик Диофант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rcRect l="0" t="0" r="16079" b="0"/>
          <a:stretch/>
        </p:blipFill>
        <p:spPr>
          <a:xfrm>
            <a:off x="214200" y="571680"/>
            <a:ext cx="3643560" cy="4000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1026000" y="47149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офант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392904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28800" y="499680"/>
            <a:ext cx="31813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Как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решал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уравнения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древност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4802"/>
          <a:stretch/>
        </p:blipFill>
        <p:spPr>
          <a:xfrm>
            <a:off x="214200" y="0"/>
            <a:ext cx="4714920" cy="650088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27860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4857480"/>
            <a:ext cx="85010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Именно с 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1591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г. мы пользуемся формулами при решении квадратных уравнений. 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43200" y="499680"/>
            <a:ext cx="55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В 1591 г. Ф. Виет вывел      формулы, выражающие зависимость корней квадратного уравнения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т его коэффициентов и сформулировал свою знаменитую теорем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Рисунок 5" descr=""/>
          <p:cNvPicPr/>
          <p:nvPr/>
        </p:nvPicPr>
        <p:blipFill>
          <a:blip r:embed="rId2"/>
          <a:srcRect l="0" t="0" r="9655" b="13077"/>
          <a:stretch/>
        </p:blipFill>
        <p:spPr>
          <a:xfrm>
            <a:off x="428760" y="428760"/>
            <a:ext cx="3357360" cy="41385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36:35Z</dcterms:created>
  <dc:creator>User</dc:creator>
  <dc:description/>
  <dc:language>en-US</dc:language>
  <cp:lastModifiedBy>LEGION</cp:lastModifiedBy>
  <dcterms:modified xsi:type="dcterms:W3CDTF">2015-01-23T13:20:10Z</dcterms:modified>
  <cp:revision>68</cp:revision>
  <dc:subject/>
  <dc:title>НЕСТАНДАРТНЫЕ  ПРИЕМЫ РЕШЕНИЯ  КВАДРАТНЫХ УРАВНЕНИЙ».</dc:title>
</cp:coreProperties>
</file>