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E038-DF7D-443B-B522-F5E1130C58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1F4E-798E-4167-8472-F9E1B3228E4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4E67-A210-40C9-A450-8B440A19475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EB5E-8EBA-4BAF-9A98-905C3234214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D3F2-F335-4CDE-82F2-D866DDE475B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0A27-B5C9-4BF5-BDB9-B40FD89335E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1280-2EA7-4837-9CDC-5C7C9026DCF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CCE0-9A62-48D4-909B-745AD836DC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2AA6-A38B-4FB0-8F71-35955044F03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F17-88BF-4B87-8596-BFD9F48E6A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260C-BA12-4590-B65E-FBCB44A96A1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E800-5369-49A8-BDF3-A8FFA2DA9B6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CD08-AF52-432D-A7E3-E64EB9C22EB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71C-6F7A-406F-8365-A4662B08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482-28A9-4B99-8158-7AA7048F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5ED-8CD4-4A61-B1AF-B4C19928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D04-1FE4-4334-85A6-3E353F2F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B991-1C59-446A-86C4-1CF755AA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FEF-8059-4B05-9B04-A9BCD609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C73E-9832-4E83-B210-8BB1088E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1413-91C1-42F7-806B-952DA6B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C26-FF89-4C77-9BC9-9C0CABC0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58A7-189B-4DBA-8370-B13BC82F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C32B-7EED-46F0-954F-7B34DA9A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938-C3DD-474C-B4E6-81E7364C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5F56-88D9-4438-9454-AB3A6AE5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E1A1-35D6-4EB3-951F-9B9E32F6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6C96-D806-4441-9FA2-A7FFFE81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5481-CD26-4543-BEA6-C1539CE1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1ACA-3313-40B5-B83D-D2BC2B1D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D51-9A93-4706-934C-A74A308C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C47-9F4D-4BCC-B682-63D71F1D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9B2-E9BE-4C18-AA40-9381CF14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654-79E3-4579-9162-35908E89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1A6-52D7-46E3-ABD5-CD0962D2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D4C-76A8-4F00-9D70-6199DD5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05D-338F-4748-8B70-98985D50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9413-B39B-4487-8CD4-06726B84C3CC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D2E8-6F28-405E-BEB0-CB89E52817FC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50920" y="2491920"/>
            <a:ext cx="86421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MCj02900400000[1]"/>
          <p:cNvPicPr/>
          <p:nvPr/>
        </p:nvPicPr>
        <p:blipFill>
          <a:blip r:embed="rId1"/>
          <a:stretch/>
        </p:blipFill>
        <p:spPr>
          <a:xfrm>
            <a:off x="5940360" y="836640"/>
            <a:ext cx="2684520" cy="486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700280"/>
          <a:ext cx="8229600" cy="3862440"/>
        </p:xfrm>
        <a:graphic>
          <a:graphicData uri="http://schemas.openxmlformats.org/drawingml/2006/table">
            <a:tbl>
              <a:tblPr/>
              <a:tblGrid>
                <a:gridCol w="585720"/>
                <a:gridCol w="2157480"/>
                <a:gridCol w="1371600"/>
                <a:gridCol w="1371600"/>
                <a:gridCol w="1365120"/>
                <a:gridCol w="137808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8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9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52: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6+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248-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9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0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0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7" name="MSSN2837.wav" descr=""/>
          <p:cNvPicPr/>
          <p:nvPr/>
        </p:nvPicPr>
        <p:blipFill>
          <a:blip r:embed="rId4"/>
          <a:stretch/>
        </p:blipFill>
        <p:spPr>
          <a:xfrm>
            <a:off x="5724360" y="321300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08" name="MSSN2838.wav" descr=""/>
          <p:cNvPicPr/>
          <p:nvPr/>
        </p:nvPicPr>
        <p:blipFill>
          <a:blip r:embed="rId5"/>
          <a:stretch/>
        </p:blipFill>
        <p:spPr>
          <a:xfrm>
            <a:off x="4356000" y="386064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09" name="MSSN2839.wav" descr=""/>
          <p:cNvPicPr/>
          <p:nvPr/>
        </p:nvPicPr>
        <p:blipFill>
          <a:blip r:embed="rId6"/>
          <a:stretch/>
        </p:blipFill>
        <p:spPr>
          <a:xfrm>
            <a:off x="709308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0" name="MSSN2840.wav" descr=""/>
          <p:cNvPicPr/>
          <p:nvPr/>
        </p:nvPicPr>
        <p:blipFill>
          <a:blip r:embed="rId7"/>
          <a:stretch/>
        </p:blipFill>
        <p:spPr>
          <a:xfrm>
            <a:off x="83883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1" name="MSSN2853.wav" descr=""/>
          <p:cNvPicPr/>
          <p:nvPr/>
        </p:nvPicPr>
        <p:blipFill>
          <a:blip r:embed="rId8"/>
          <a:stretch/>
        </p:blipFill>
        <p:spPr>
          <a:xfrm>
            <a:off x="4427640" y="3211560"/>
            <a:ext cx="163440" cy="163440"/>
          </a:xfrm>
          <a:prstGeom prst="rect">
            <a:avLst/>
          </a:prstGeom>
          <a:ln w="0">
            <a:noFill/>
          </a:ln>
        </p:spPr>
      </p:pic>
      <p:pic>
        <p:nvPicPr>
          <p:cNvPr id="212" name="MSSN2854.wav" descr=""/>
          <p:cNvPicPr/>
          <p:nvPr/>
        </p:nvPicPr>
        <p:blipFill>
          <a:blip r:embed="rId9"/>
          <a:stretch/>
        </p:blipFill>
        <p:spPr>
          <a:xfrm>
            <a:off x="7164360" y="3213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3" name="MSSN2855.wav" descr=""/>
          <p:cNvPicPr/>
          <p:nvPr/>
        </p:nvPicPr>
        <p:blipFill>
          <a:blip r:embed="rId10"/>
          <a:stretch/>
        </p:blipFill>
        <p:spPr>
          <a:xfrm>
            <a:off x="8459640" y="3139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4" name="MSSN2856.wav" descr=""/>
          <p:cNvPicPr/>
          <p:nvPr/>
        </p:nvPicPr>
        <p:blipFill>
          <a:blip r:embed="rId11"/>
          <a:stretch/>
        </p:blipFill>
        <p:spPr>
          <a:xfrm>
            <a:off x="5796000" y="386064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15" name="MSSN2857.wav" descr=""/>
          <p:cNvPicPr/>
          <p:nvPr/>
        </p:nvPicPr>
        <p:blipFill>
          <a:blip r:embed="rId12"/>
          <a:stretch/>
        </p:blipFill>
        <p:spPr>
          <a:xfrm>
            <a:off x="7093080" y="378936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6" name="MSSN2858.wav" descr=""/>
          <p:cNvPicPr/>
          <p:nvPr/>
        </p:nvPicPr>
        <p:blipFill>
          <a:blip r:embed="rId13"/>
          <a:stretch/>
        </p:blipFill>
        <p:spPr>
          <a:xfrm>
            <a:off x="8459640" y="378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17" name="MSSN2859.wav" descr=""/>
          <p:cNvPicPr/>
          <p:nvPr/>
        </p:nvPicPr>
        <p:blipFill>
          <a:blip r:embed="rId14"/>
          <a:stretch/>
        </p:blipFill>
        <p:spPr>
          <a:xfrm>
            <a:off x="4356000" y="45100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MSSN2860.wav" descr=""/>
          <p:cNvPicPr/>
          <p:nvPr/>
        </p:nvPicPr>
        <p:blipFill>
          <a:blip r:embed="rId15"/>
          <a:stretch/>
        </p:blipFill>
        <p:spPr>
          <a:xfrm>
            <a:off x="579600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9" name="MSSN2861.wav" descr=""/>
          <p:cNvPicPr/>
          <p:nvPr/>
        </p:nvPicPr>
        <p:blipFill>
          <a:blip r:embed="rId16"/>
          <a:stretch/>
        </p:blipFill>
        <p:spPr>
          <a:xfrm>
            <a:off x="8459640" y="4579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0" name="MSSN2862.wav" descr=""/>
          <p:cNvPicPr/>
          <p:nvPr/>
        </p:nvPicPr>
        <p:blipFill>
          <a:blip r:embed="rId17"/>
          <a:stretch/>
        </p:blipFill>
        <p:spPr>
          <a:xfrm>
            <a:off x="4356000" y="530064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21" name="MSSN2863.wav" descr=""/>
          <p:cNvPicPr/>
          <p:nvPr/>
        </p:nvPicPr>
        <p:blipFill>
          <a:blip r:embed="rId18"/>
          <a:stretch/>
        </p:blipFill>
        <p:spPr>
          <a:xfrm>
            <a:off x="5724360" y="53020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22" name="MSSN2864.wav" descr=""/>
          <p:cNvPicPr/>
          <p:nvPr/>
        </p:nvPicPr>
        <p:blipFill>
          <a:blip r:embed="rId19"/>
          <a:stretch/>
        </p:blipFill>
        <p:spPr>
          <a:xfrm>
            <a:off x="7093080" y="53020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64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64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64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54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54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4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4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4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54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4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4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43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54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4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54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5113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12" descr="BBERASER"/>
          <p:cNvPicPr/>
          <p:nvPr/>
        </p:nvPicPr>
        <p:blipFill>
          <a:blip r:embed="rId1"/>
          <a:stretch/>
        </p:blipFill>
        <p:spPr>
          <a:xfrm>
            <a:off x="5130720" y="1700280"/>
            <a:ext cx="3695760" cy="38894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56000" y="2781360"/>
            <a:ext cx="478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280" y="981000"/>
          <a:ext cx="4176720" cy="5400720"/>
        </p:xfrm>
        <a:graphic>
          <a:graphicData uri="http://schemas.openxmlformats.org/drawingml/2006/table">
            <a:tbl>
              <a:tblPr/>
              <a:tblGrid>
                <a:gridCol w="522360"/>
                <a:gridCol w="520560"/>
                <a:gridCol w="522360"/>
                <a:gridCol w="523800"/>
                <a:gridCol w="522360"/>
                <a:gridCol w="522360"/>
                <a:gridCol w="520560"/>
                <a:gridCol w="5223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5" name="Picture 5" descr="MCj04044750000[1]"/>
          <p:cNvPicPr/>
          <p:nvPr/>
        </p:nvPicPr>
        <p:blipFill>
          <a:blip r:embed="rId1"/>
          <a:stretch/>
        </p:blipFill>
        <p:spPr>
          <a:xfrm>
            <a:off x="468360" y="1557360"/>
            <a:ext cx="5091120" cy="489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484280"/>
          <a:ext cx="4687920" cy="4897440"/>
        </p:xfrm>
        <a:graphic>
          <a:graphicData uri="http://schemas.openxmlformats.org/drawingml/2006/table">
            <a:tbl>
              <a:tblPr/>
              <a:tblGrid>
                <a:gridCol w="585720"/>
                <a:gridCol w="585720"/>
                <a:gridCol w="585720"/>
                <a:gridCol w="587520"/>
                <a:gridCol w="585720"/>
                <a:gridCol w="585720"/>
                <a:gridCol w="585720"/>
                <a:gridCol w="5860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68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pandadreams"/>
          <p:cNvPicPr/>
          <p:nvPr/>
        </p:nvPicPr>
        <p:blipFill>
          <a:blip r:embed="rId1"/>
          <a:stretch/>
        </p:blipFill>
        <p:spPr>
          <a:xfrm>
            <a:off x="826920" y="973080"/>
            <a:ext cx="7632720" cy="53992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2:11:42Z</dcterms:created>
  <dc:creator>Алина</dc:creator>
  <dc:description/>
  <dc:language>en-US</dc:language>
  <cp:lastModifiedBy>LEGION</cp:lastModifiedBy>
  <dcterms:modified xsi:type="dcterms:W3CDTF">2015-01-23T13:21:10Z</dcterms:modified>
  <cp:revision>23</cp:revision>
  <dc:subject/>
  <dc:title>Слайд 1</dc:title>
</cp:coreProperties>
</file>