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E7DC-A343-41A8-8E59-E68A96F791A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Тем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Действия с натуральными числ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EFA9-9DF2-4747-820A-33C578C8FD2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в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Олимпий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иг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A07E-5D3C-449B-8116-5C1D6D84310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с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E55F-CE97-4548-8E75-16EC4663145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машнее зад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ставить карточку  для  соседа по парте, содержащую примеры на выполнение порядка действий; </a:t>
            </a: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(3-4 пример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)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ебник стр. 36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ffff00"/>
                </a:solidFill>
                <a:latin typeface="Tahoma"/>
              </a:rPr>
              <a:t>1 уровень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№1689 (1), №1683;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9900"/>
                </a:solidFill>
                <a:latin typeface="Tahoma"/>
              </a:rPr>
              <a:t>2уровень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№1682; №1689 (3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3 уровень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№1686, №168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8E97-A191-46DC-805E-EF0F8C950FB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ahoma"/>
              </a:rPr>
              <a:t>Учеб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Обобщить и систематизировать материал по данной тем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2) Научить обобщать знания, делать выводы по материалу обязательного уровн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3) Провести диагностику усвоения системы знаний и умений и её применения для выполнения практических заданий стандартного уровня с переходом на более высокий уровен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309E-46C2-4EF5-8694-5E7AB678A87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ahoma"/>
              </a:rPr>
              <a:t>Воспитатель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4) содействовать рациональной организаци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5) введением игровой ситуации снять нервно – психическое напряж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4C92-77BC-4F1A-9C41-FB3627D8909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ahoma"/>
              </a:rPr>
              <a:t>Развива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6) развивать познавательные процессы, память, воображение, мышление, внимание, наблюдательность, сообразите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7) вырабатывать самооценку в выборе пу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8) Повысить интерес учащихся к нестандартным задачам, сформировать у них положительный мотив 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C37C-4633-4460-B0DA-D8AF05FCB65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Таблица – подсказ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238-227-2+10):19*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BA5B-1490-4CA0-AD77-79F8D66643E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вет:  </a:t>
            </a: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Кит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3730-69D5-439C-AFAC-6D743E07E5A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аблица – подсказ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) 256: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) 15869:1586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) 235008-23499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) 495: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) 6003599:60035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0A77-FBA4-4335-B21D-0B0BEB9B17B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Ответ: </a:t>
            </a: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пан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пан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113A-0F2C-47CF-92D1-0CF21880787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Шифровка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 – ряд:</a:t>
            </a:r>
            <a:r>
              <a:rPr b="0" lang="en-US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(225:25+11):2+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 – ряд: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(125:5+15):2+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 – ряд: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(325:25+27):2+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4A4F-0B30-4359-8D0C-FC8E436564A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37F9-F405-475A-BB12-CD6582F94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BA29-5FA8-49DF-AFFF-0386B32B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36C8-4749-4EA9-943D-8C77F3EA1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286B-9FD0-4E7C-8B9B-52115206C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7F2E-0E4F-47CD-A01F-DD78BA7F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90AA-00A1-4805-B50F-E19790C9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1584-A0D9-443D-9E9B-5C73C20B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BEE6-1515-4BCC-AB70-E4D5B477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D368-30DA-4076-AE8E-D24018A0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9258-CF4C-42C1-8FC3-3B3DCA8B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90F6-04ED-43A1-8A41-27FD6B7C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CF7B-FD2B-41BE-AAEA-07ED779C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D065-2A65-43A4-BD0F-7151F9CE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B4F5-F687-4C80-8027-D9671586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066F-449C-4AA5-B9C9-AEAF4835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077D-54A3-465C-B171-F1118CB99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A2BA-B1F8-4366-AED9-9B6C095A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F5F6-22BE-425E-9DD6-6D097B4D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1294-F0D5-4558-A6C8-8E8B16D7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1D80-3597-4814-8F00-6946E453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2BE4-5FBD-4A78-B7AA-223C8395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D270-C465-48DB-8ACE-EFCEBDDE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3BB8-444A-40FE-A7DF-C4E8878C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DE55-1FBF-41F5-AC8B-6B201E4A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c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50000">
                  <a:srgbClr val="d6d6d6"/>
                </a:gs>
                <a:gs pos="100000">
                  <a:srgbClr val="cdcdc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9F3C-B804-4A36-9A25-779B3D2094F4}" type="slidenum">
              <a:rPr b="0" lang="ru-RU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c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50000">
                  <a:srgbClr val="d6d6d6"/>
                </a:gs>
                <a:gs pos="100000">
                  <a:srgbClr val="cdcdc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0E04-FF98-4F99-B179-748AA79D1F30}" type="slidenum">
              <a:rPr b="0" lang="ru-RU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Тема</a:t>
            </a: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50920" y="2491920"/>
            <a:ext cx="86421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ahoma"/>
              </a:rPr>
              <a:t>Действия с натуральными числами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MCj02900400000[1]"/>
          <p:cNvPicPr/>
          <p:nvPr/>
        </p:nvPicPr>
        <p:blipFill>
          <a:blip r:embed="rId1"/>
          <a:stretch/>
        </p:blipFill>
        <p:spPr>
          <a:xfrm>
            <a:off x="5940360" y="836640"/>
            <a:ext cx="2684520" cy="4869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ahoma"/>
              </a:rPr>
              <a:t>29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ahoma"/>
              </a:rPr>
              <a:t>Олимпийские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ahoma"/>
              </a:rPr>
              <a:t>игры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Тес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57200" y="1700280"/>
          <a:ext cx="8229600" cy="3862440"/>
        </p:xfrm>
        <a:graphic>
          <a:graphicData uri="http://schemas.openxmlformats.org/drawingml/2006/table">
            <a:tbl>
              <a:tblPr/>
              <a:tblGrid>
                <a:gridCol w="585720"/>
                <a:gridCol w="2157480"/>
                <a:gridCol w="1371600"/>
                <a:gridCol w="1371600"/>
                <a:gridCol w="1365120"/>
                <a:gridCol w="1378080"/>
              </a:tblGrid>
              <a:tr h="51840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д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арианты отве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6*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8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9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5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4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052: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56+2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3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3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3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3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3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248-6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65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64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65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65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149" descr=""/>
          <p:cNvPicPr/>
          <p:nvPr/>
        </p:nvPicPr>
        <p:blipFill>
          <a:blip r:embed="rId1"/>
          <a:stretch/>
        </p:blipFill>
        <p:spPr>
          <a:xfrm>
            <a:off x="4932360" y="2708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50" descr=""/>
          <p:cNvPicPr/>
          <p:nvPr/>
        </p:nvPicPr>
        <p:blipFill>
          <a:blip r:embed="rId2"/>
          <a:stretch/>
        </p:blipFill>
        <p:spPr>
          <a:xfrm>
            <a:off x="5148360" y="2637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70" descr=""/>
          <p:cNvPicPr/>
          <p:nvPr/>
        </p:nvPicPr>
        <p:blipFill>
          <a:blip r:embed="rId3"/>
          <a:stretch/>
        </p:blipFill>
        <p:spPr>
          <a:xfrm>
            <a:off x="6372360" y="27813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07" name="MSSN2837.wav" descr=""/>
          <p:cNvPicPr/>
          <p:nvPr/>
        </p:nvPicPr>
        <p:blipFill>
          <a:blip r:embed="rId4"/>
          <a:stretch/>
        </p:blipFill>
        <p:spPr>
          <a:xfrm>
            <a:off x="5724360" y="3213000"/>
            <a:ext cx="144720" cy="144720"/>
          </a:xfrm>
          <a:prstGeom prst="rect">
            <a:avLst/>
          </a:prstGeom>
          <a:ln w="0">
            <a:noFill/>
          </a:ln>
        </p:spPr>
      </p:pic>
      <p:pic>
        <p:nvPicPr>
          <p:cNvPr id="208" name="MSSN2838.wav" descr=""/>
          <p:cNvPicPr/>
          <p:nvPr/>
        </p:nvPicPr>
        <p:blipFill>
          <a:blip r:embed="rId5"/>
          <a:stretch/>
        </p:blipFill>
        <p:spPr>
          <a:xfrm>
            <a:off x="4356000" y="3860640"/>
            <a:ext cx="160560" cy="160560"/>
          </a:xfrm>
          <a:prstGeom prst="rect">
            <a:avLst/>
          </a:prstGeom>
          <a:ln w="0">
            <a:noFill/>
          </a:ln>
        </p:spPr>
      </p:pic>
      <p:pic>
        <p:nvPicPr>
          <p:cNvPr id="209" name="MSSN2839.wav" descr=""/>
          <p:cNvPicPr/>
          <p:nvPr/>
        </p:nvPicPr>
        <p:blipFill>
          <a:blip r:embed="rId6"/>
          <a:stretch/>
        </p:blipFill>
        <p:spPr>
          <a:xfrm>
            <a:off x="7093080" y="451008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210" name="MSSN2840.wav" descr=""/>
          <p:cNvPicPr/>
          <p:nvPr/>
        </p:nvPicPr>
        <p:blipFill>
          <a:blip r:embed="rId7"/>
          <a:stretch/>
        </p:blipFill>
        <p:spPr>
          <a:xfrm>
            <a:off x="8388360" y="5300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11" name="MSSN2853.wav" descr=""/>
          <p:cNvPicPr/>
          <p:nvPr/>
        </p:nvPicPr>
        <p:blipFill>
          <a:blip r:embed="rId8"/>
          <a:stretch/>
        </p:blipFill>
        <p:spPr>
          <a:xfrm>
            <a:off x="4427640" y="3211560"/>
            <a:ext cx="163440" cy="163440"/>
          </a:xfrm>
          <a:prstGeom prst="rect">
            <a:avLst/>
          </a:prstGeom>
          <a:ln w="0">
            <a:noFill/>
          </a:ln>
        </p:spPr>
      </p:pic>
      <p:pic>
        <p:nvPicPr>
          <p:cNvPr id="212" name="MSSN2854.wav" descr=""/>
          <p:cNvPicPr/>
          <p:nvPr/>
        </p:nvPicPr>
        <p:blipFill>
          <a:blip r:embed="rId9"/>
          <a:stretch/>
        </p:blipFill>
        <p:spPr>
          <a:xfrm>
            <a:off x="7164360" y="32130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13" name="MSSN2855.wav" descr=""/>
          <p:cNvPicPr/>
          <p:nvPr/>
        </p:nvPicPr>
        <p:blipFill>
          <a:blip r:embed="rId10"/>
          <a:stretch/>
        </p:blipFill>
        <p:spPr>
          <a:xfrm>
            <a:off x="8459640" y="3139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14" name="MSSN2856.wav" descr=""/>
          <p:cNvPicPr/>
          <p:nvPr/>
        </p:nvPicPr>
        <p:blipFill>
          <a:blip r:embed="rId11"/>
          <a:stretch/>
        </p:blipFill>
        <p:spPr>
          <a:xfrm>
            <a:off x="5796000" y="3860640"/>
            <a:ext cx="160200" cy="160560"/>
          </a:xfrm>
          <a:prstGeom prst="rect">
            <a:avLst/>
          </a:prstGeom>
          <a:ln w="0">
            <a:noFill/>
          </a:ln>
        </p:spPr>
      </p:pic>
      <p:pic>
        <p:nvPicPr>
          <p:cNvPr id="215" name="MSSN2857.wav" descr=""/>
          <p:cNvPicPr/>
          <p:nvPr/>
        </p:nvPicPr>
        <p:blipFill>
          <a:blip r:embed="rId12"/>
          <a:stretch/>
        </p:blipFill>
        <p:spPr>
          <a:xfrm>
            <a:off x="7093080" y="378936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216" name="MSSN2858.wav" descr=""/>
          <p:cNvPicPr/>
          <p:nvPr/>
        </p:nvPicPr>
        <p:blipFill>
          <a:blip r:embed="rId13"/>
          <a:stretch/>
        </p:blipFill>
        <p:spPr>
          <a:xfrm>
            <a:off x="8459640" y="37879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217" name="MSSN2859.wav" descr=""/>
          <p:cNvPicPr/>
          <p:nvPr/>
        </p:nvPicPr>
        <p:blipFill>
          <a:blip r:embed="rId14"/>
          <a:stretch/>
        </p:blipFill>
        <p:spPr>
          <a:xfrm>
            <a:off x="4356000" y="451008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218" name="MSSN2860.wav" descr=""/>
          <p:cNvPicPr/>
          <p:nvPr/>
        </p:nvPicPr>
        <p:blipFill>
          <a:blip r:embed="rId15"/>
          <a:stretch/>
        </p:blipFill>
        <p:spPr>
          <a:xfrm>
            <a:off x="5796000" y="451008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219" name="MSSN2861.wav" descr=""/>
          <p:cNvPicPr/>
          <p:nvPr/>
        </p:nvPicPr>
        <p:blipFill>
          <a:blip r:embed="rId16"/>
          <a:stretch/>
        </p:blipFill>
        <p:spPr>
          <a:xfrm>
            <a:off x="8459640" y="457992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20" name="MSSN2862.wav" descr=""/>
          <p:cNvPicPr/>
          <p:nvPr/>
        </p:nvPicPr>
        <p:blipFill>
          <a:blip r:embed="rId17"/>
          <a:stretch/>
        </p:blipFill>
        <p:spPr>
          <a:xfrm>
            <a:off x="4356000" y="530064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221" name="MSSN2863.wav" descr=""/>
          <p:cNvPicPr/>
          <p:nvPr/>
        </p:nvPicPr>
        <p:blipFill>
          <a:blip r:embed="rId18"/>
          <a:stretch/>
        </p:blipFill>
        <p:spPr>
          <a:xfrm>
            <a:off x="5724360" y="5302080"/>
            <a:ext cx="160560" cy="160560"/>
          </a:xfrm>
          <a:prstGeom prst="rect">
            <a:avLst/>
          </a:prstGeom>
          <a:ln w="0">
            <a:noFill/>
          </a:ln>
        </p:spPr>
      </p:pic>
      <p:pic>
        <p:nvPicPr>
          <p:cNvPr id="222" name="MSSN2864.wav" descr=""/>
          <p:cNvPicPr/>
          <p:nvPr/>
        </p:nvPicPr>
        <p:blipFill>
          <a:blip r:embed="rId19"/>
          <a:stretch/>
        </p:blipFill>
        <p:spPr>
          <a:xfrm>
            <a:off x="7093080" y="5302080"/>
            <a:ext cx="160200" cy="16056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649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5649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5649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5649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543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543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543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543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543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543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543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543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543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543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543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543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511344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ставить карточку  для  соседа по парте, содержащую примеры на выполнение порядка действий;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3-4 пример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)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ебник стр. 361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5f5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1 уровень</a:t>
            </a:r>
            <a:r>
              <a:rPr b="0" lang="ru-RU" sz="24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№1689 (1), №1683;</a:t>
            </a:r>
            <a:r>
              <a:rPr b="0" lang="ru-RU" sz="2400" spc="-1" strike="noStrike">
                <a:solidFill>
                  <a:srgbClr val="5f5f5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5f5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2уровень</a:t>
            </a:r>
            <a:r>
              <a:rPr b="0" lang="ru-RU" sz="2400" spc="-1" strike="noStrike">
                <a:solidFill>
                  <a:srgbClr val="5f5f5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№1682; №1689 (3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5f5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3 уровень</a:t>
            </a:r>
            <a:r>
              <a:rPr b="0" lang="ru-RU" sz="24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№1686, №168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12" descr="BBERASER"/>
          <p:cNvPicPr/>
          <p:nvPr/>
        </p:nvPicPr>
        <p:blipFill>
          <a:blip r:embed="rId1"/>
          <a:stretch/>
        </p:blipFill>
        <p:spPr>
          <a:xfrm>
            <a:off x="5130720" y="1700280"/>
            <a:ext cx="3695760" cy="388944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950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Учебны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-51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Обобщить и систематизировать материал по данной тем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2) Научить обобщать знания, делать выводы по материалу обязательного уровн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3) Провести диагностику усвоения системы знаний и умений и её применения для выполнения практических заданий стандартного уровня с переходом на более высокий уровень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оспитательны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4) содействовать рациональной организации труда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5) введением игровой ситуации снять нервно – психическое напряжение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Развивающи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6) развивать познавательные процессы, память, воображение, мышление, внимание, наблюдательность, сообразительность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7) вырабатывать самооценку в выборе пут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8) Повысить интерес учащихся к нестандартным задачам, сформировать у них положительный мотив уч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Таблица – подсказ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356000" y="2781360"/>
            <a:ext cx="4788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238-227-2+10):19*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79280" y="981000"/>
          <a:ext cx="4176720" cy="5400720"/>
        </p:xfrm>
        <a:graphic>
          <a:graphicData uri="http://schemas.openxmlformats.org/drawingml/2006/table">
            <a:tbl>
              <a:tblPr/>
              <a:tblGrid>
                <a:gridCol w="522360"/>
                <a:gridCol w="520560"/>
                <a:gridCol w="522360"/>
                <a:gridCol w="523800"/>
                <a:gridCol w="522360"/>
                <a:gridCol w="522360"/>
                <a:gridCol w="520560"/>
                <a:gridCol w="522360"/>
              </a:tblGrid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Ответ:  </a:t>
            </a:r>
            <a:r>
              <a:rPr b="0" lang="ru-RU" sz="5400" spc="-1" strike="noStrike">
                <a:solidFill>
                  <a:srgbClr val="ff0000"/>
                </a:solidFill>
                <a:latin typeface="Tahoma"/>
              </a:rPr>
              <a:t>Кита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6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185" name="Picture 5" descr="MCj04044750000[1]"/>
          <p:cNvPicPr/>
          <p:nvPr/>
        </p:nvPicPr>
        <p:blipFill>
          <a:blip r:embed="rId1"/>
          <a:stretch/>
        </p:blipFill>
        <p:spPr>
          <a:xfrm>
            <a:off x="468360" y="1557360"/>
            <a:ext cx="5091120" cy="48988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Таблица – подсказ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03280" y="1599840"/>
            <a:ext cx="4140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) 256:1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) 15869:1586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) 235008-23499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) 495:9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) 6003599:600359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50920" y="1484280"/>
          <a:ext cx="4687920" cy="4897440"/>
        </p:xfrm>
        <a:graphic>
          <a:graphicData uri="http://schemas.openxmlformats.org/drawingml/2006/table">
            <a:tbl>
              <a:tblPr/>
              <a:tblGrid>
                <a:gridCol w="585720"/>
                <a:gridCol w="585720"/>
                <a:gridCol w="585720"/>
                <a:gridCol w="587520"/>
                <a:gridCol w="585720"/>
                <a:gridCol w="585720"/>
                <a:gridCol w="585720"/>
                <a:gridCol w="586080"/>
              </a:tblGrid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f5f5f"/>
                </a:solidFill>
                <a:latin typeface="Tahoma"/>
              </a:rPr>
              <a:t>Ответ: 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пан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42920" y="1125360"/>
            <a:ext cx="684216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5f5f"/>
                </a:solidFill>
                <a:latin typeface="Tahoma"/>
              </a:rPr>
              <a:t>пан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4" descr="pandadreams"/>
          <p:cNvPicPr/>
          <p:nvPr/>
        </p:nvPicPr>
        <p:blipFill>
          <a:blip r:embed="rId1"/>
          <a:stretch/>
        </p:blipFill>
        <p:spPr>
          <a:xfrm>
            <a:off x="826920" y="973080"/>
            <a:ext cx="7632720" cy="539928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Шифров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1 – ряд:</a:t>
            </a:r>
            <a:r>
              <a:rPr b="0" lang="en-US" sz="48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(225:25+11):2+19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2 – ряд:</a:t>
            </a:r>
            <a:r>
              <a:rPr b="0" lang="ru-RU" sz="48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(125:5+15):2+9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3 – ряд:</a:t>
            </a:r>
            <a:r>
              <a:rPr b="0" lang="ru-RU" sz="48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(325:25+27):2+9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22:11:42Z</dcterms:created>
  <dc:creator>Алина</dc:creator>
  <dc:description/>
  <dc:language>en-US</dc:language>
  <cp:lastModifiedBy>LEGION</cp:lastModifiedBy>
  <dcterms:modified xsi:type="dcterms:W3CDTF">2015-01-23T13:21:10Z</dcterms:modified>
  <cp:revision>23</cp:revision>
  <dc:subject/>
  <dc:title>Слайд 1</dc:title>
</cp:coreProperties>
</file>