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wmf" ContentType="image/x-wmf"/>
  <Override PartName="/ppt/media/image21.gif" ContentType="image/gif"/>
  <Override PartName="/ppt/media/image14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7.wmf" ContentType="image/x-wmf"/>
  <Override PartName="/ppt/media/image12.png" ContentType="image/png"/>
  <Override PartName="/ppt/media/image27.gif" ContentType="image/gif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23.gif" ContentType="image/gif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2094-9132-490B-A878-E6DC3ECE4BCA}" type="datetime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0ACF-82F5-4B83-A899-B6164BF6F10C}" type="slidenum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66ff"/>
                </a:solidFill>
                <a:uFillTx/>
                <a:latin typeface="Times New Roman"/>
              </a:rPr>
              <a:t>Графики тригонометрических</a:t>
            </a:r>
            <a:r>
              <a:rPr b="0" lang="ru-RU" sz="1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ru-RU" sz="1200" spc="-1" strike="noStrike" u="sng">
                <a:solidFill>
                  <a:srgbClr val="ff66ff"/>
                </a:solidFill>
                <a:uFillTx/>
                <a:latin typeface="Times New Roman"/>
              </a:rPr>
              <a:t>функций</a:t>
            </a:r>
            <a:r>
              <a:rPr b="0" lang="ru-RU" sz="12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E5EC-DE2D-4920-B2DA-8462FE49E6EF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0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0F76-0902-41A9-97EE-CE27B8708736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3B1C-5551-4264-A96B-8AACA2786353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3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9162-147B-4232-99FB-3A0046A84808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AEA6-C540-47D2-90C5-C0A9FBC2DE37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CEA5-8B22-49A6-B9D4-C5CD1C07FEE3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7C89-42A3-4FD2-8356-96AC651683D9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7691-3ECB-4119-8C54-64BEA6703A90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0" i="1" lang="ru-RU" sz="12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0" i="1" lang="en-US" sz="1200" spc="-1" strike="noStrike">
                <a:solidFill>
                  <a:srgbClr val="420a16"/>
                </a:solidFill>
                <a:latin typeface="Times New Roman"/>
              </a:rPr>
              <a:t>cos x</a:t>
            </a:r>
            <a:r>
              <a:rPr b="0" i="1" lang="en-US" sz="12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синусои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D678-D6BC-4300-BCB8-65279FB00242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8420-3C07-417B-8605-16B8FAB54441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A624-AD6D-4054-B53B-C411DDBDD541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5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21B0-4B9D-43BE-85BA-6B38E58AB01A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26AB-2106-4EB7-8409-1CDFD5B56178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5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0CCC-58FB-4C2F-AAB4-9C72E4539D1D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26F4-2D21-491C-9E78-8D23F6C810D6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0337-7728-4A94-A185-FFDE8C47BA0A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3229-D63D-4603-9B6E-0071F766FBAE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A3C6-3F2B-46A9-906A-3CD1EFB710B9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C166-B23A-46C2-AD1A-BC26DAF021BD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8745-A552-414E-917B-D12E0B405CBC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07CD-7676-4893-80BF-926C3A7D3CFD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7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1EFE-159E-4F88-8D78-6EFD38612549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0B38-58A6-407E-BD8F-DC23F439BB2B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7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6A57-9BA6-4AFA-908F-24AFA685A53F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00E8-EEEC-4A56-A235-A71F2B6DBA4A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00E3-D86E-4BB1-B51D-78C200313256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6A90-CCC0-4CB3-9EA7-95044B1EAC7B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44BD-92E4-404E-A33E-13E692E5CB73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b2b2b2"/>
                </a:solidFill>
                <a:latin typeface="Times New Roman"/>
              </a:rPr>
              <a:t>Для любознательных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E30B-50BC-448C-B3CD-C273154D20FB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15ED-A61F-4894-894F-03604D4BF617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7430-6C88-41F0-9A36-0D02CE9EC2B7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1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1838-5537-4A00-B5DD-46B02288652A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</a:t>
            </a:r>
            <a:r>
              <a:rPr b="1" i="1" lang="en-US" sz="1400" spc="-1" strike="noStrike">
                <a:solidFill>
                  <a:srgbClr val="ff0066"/>
                </a:solidFill>
                <a:latin typeface="Times New Roman"/>
              </a:rPr>
              <a:t>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D6CD-780D-474A-8158-34D48CE11562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1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2272-78BF-44C7-8A53-2393EA20880C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999E-CA04-4A8B-8A30-BA3EE14DA406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619B-7563-414D-AD25-544E348F0EE7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E551-83AA-4F39-BA18-E9A9D6362709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098C-8993-44F1-B6B4-A390171CAEA0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66"/>
                </a:solidFill>
                <a:latin typeface="Times New Roman"/>
              </a:rPr>
              <a:t>Преобразование графиков</a:t>
            </a:r>
            <a:br>
              <a:rPr sz="1400"/>
            </a:br>
            <a:r>
              <a:rPr b="1" i="1" lang="ru-RU" sz="1400" spc="-1" strike="noStrike">
                <a:solidFill>
                  <a:srgbClr val="ff0066"/>
                </a:solidFill>
                <a:latin typeface="Times New Roman"/>
              </a:rPr>
              <a:t> тригонометрических функ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+в) получается из графика функции 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-в) единиц вдоль оси абсци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)+а получается из графика функции 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а) единиц вдоль оси орд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CA5C-74D2-48B1-AC5D-E5BDC2F481D3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603F-7684-4E8E-96CA-F74B96F48495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AE3B-CA6F-45A7-91DD-F88A39A11D78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3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910A-DC8D-456A-BD27-DF7C46B1FB88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E30-65F1-4E48-B064-76819544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1BB-0A26-40CA-BAC6-3894F25E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115-3C98-4ABA-922D-952EE5B0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3E77-66D9-4405-A061-AF531387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13C2-0C7E-416D-8F1F-62EA4147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BEBC-32D7-4F63-A583-EDB3C8BF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A6ED-A38B-42D5-9627-DDF6FB15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8953-8FAA-4EED-AFAE-A27B604C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765D-495B-40FF-91E7-4222BD7D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C9AD-F385-4992-A5D8-368EE9F7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0DC1-75EF-4580-B1BD-932E2052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552C-5C37-4916-A563-6DB91C73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D6D8-79E8-4CB2-A987-A33AD30A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E3D0-64B0-47E8-A26C-2D7D36C2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390F-D28B-434E-AA8C-584DBD7F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F537-AF21-4906-A3A5-2EBF09F6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8C31-14F5-45B0-90A8-BEE8D790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058-FAFE-491A-8A1D-2F19CD7D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C59-5C44-48A7-B5D5-9FAA4FFF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77B-CD4D-4756-9204-68A9295D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68F-3878-4B6B-BE71-41515F60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0A1-F594-42A2-9CC6-0FE87EBD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B4D-4A86-43F7-9813-F743BBDA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B3A-9D7C-4483-A212-28DC6EE4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45472"/>
                </a:solidFill>
                <a:latin typeface="Times New Roman"/>
              </a:rPr>
              <a:t>тригонометрические фун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BC3E-23B8-4B20-A5E3-D8CE5FCF8AE4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45472"/>
                </a:solidFill>
                <a:latin typeface="Times New Roman"/>
              </a:rPr>
              <a:t>тригонометрические фун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3177-5FFF-4A7E-82BE-66E4E7B242F6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Графики тригонометрических</a:t>
            </a:r>
            <a:r>
              <a:rPr b="0" lang="ru-RU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функций</a:t>
            </a:r>
            <a:r>
              <a:rPr b="0" lang="ru-RU" sz="44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228600" y="2671920"/>
          <a:ext cx="2438280" cy="23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71920"/>
                    <a:ext cx="243828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6"/>
          <p:cNvSpPr/>
          <p:nvPr/>
        </p:nvSpPr>
        <p:spPr>
          <a:xfrm>
            <a:off x="3048120" y="2133720"/>
            <a:ext cx="586728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e8"/>
                </a:solidFill>
                <a:uFillTx/>
                <a:latin typeface="Arial Unicode MS"/>
                <a:hlinkClick r:id="rId4" action="ppaction://hlinksldjump"/>
              </a:rPr>
              <a:t>Функция у =</a:t>
            </a:r>
            <a:r>
              <a:rPr b="1" lang="en-US" sz="2400" spc="-1" strike="noStrike" u="sng">
                <a:solidFill>
                  <a:srgbClr val="0000e8"/>
                </a:solidFill>
                <a:uFillTx/>
                <a:latin typeface="Arial Unicode MS"/>
                <a:hlinkClick r:id="rId5" action="ppaction://hlinksldjump"/>
              </a:rPr>
              <a:t> sin x,</a:t>
            </a:r>
            <a:r>
              <a:rPr b="1" lang="ru-RU" sz="2400" spc="-1" strike="noStrike" u="sng">
                <a:solidFill>
                  <a:srgbClr val="0000e8"/>
                </a:solidFill>
                <a:uFillTx/>
                <a:latin typeface="Arial Unicode MS"/>
                <a:hlinkClick r:id="rId6" action="ppaction://hlinksldjump"/>
              </a:rPr>
              <a:t> ее свойств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Преобразование графиков тригонометрических     функций путем параллельного перенос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Преобразование графиков тригонометрических      функций путем сжатия и расширения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Для любознательных…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105520" cy="8384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705720" cy="4113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5562720" y="2971800"/>
            <a:ext cx="1295280" cy="30492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sin (x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4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1447920" y="1676520"/>
            <a:ext cx="2057400" cy="60948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 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(x -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6)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1828800" y="2286000"/>
            <a:ext cx="1447920" cy="609480"/>
          </a:xfrm>
          <a:prstGeom prst="rect">
            <a:avLst/>
          </a:prstGeom>
          <a:solidFill>
            <a:srgbClr val="f0f6f8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5715000" cy="7617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295280" y="1494000"/>
            <a:ext cx="6400800" cy="4479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8"/>
          <p:cNvSpPr/>
          <p:nvPr/>
        </p:nvSpPr>
        <p:spPr>
          <a:xfrm>
            <a:off x="1600200" y="1703520"/>
            <a:ext cx="1676520" cy="88740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829160" y="2071800"/>
            <a:ext cx="11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 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1523880" y="17035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867280" y="3124080"/>
            <a:ext cx="1143000" cy="30492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sin (x -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6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36"/>
          <p:cNvSpPr/>
          <p:nvPr/>
        </p:nvSpPr>
        <p:spPr>
          <a:xfrm>
            <a:off x="7620120" y="5362560"/>
            <a:ext cx="151596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105520" cy="8384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2" name="Picture 1030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00800" cy="4419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31"/>
          <p:cNvSpPr/>
          <p:nvPr/>
        </p:nvSpPr>
        <p:spPr>
          <a:xfrm>
            <a:off x="5794200" y="20700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Arial Unicode MS"/>
              </a:rPr>
              <a:t>y= sin x 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4" name="Text Box 1032"/>
          <p:cNvSpPr/>
          <p:nvPr/>
        </p:nvSpPr>
        <p:spPr>
          <a:xfrm>
            <a:off x="1660680" y="5194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5" name="Rectangle 1033"/>
          <p:cNvSpPr/>
          <p:nvPr/>
        </p:nvSpPr>
        <p:spPr>
          <a:xfrm>
            <a:off x="1660680" y="5194440"/>
            <a:ext cx="2057400" cy="60948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 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(x 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2)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6" name="Text Box 1034"/>
          <p:cNvSpPr/>
          <p:nvPr/>
        </p:nvSpPr>
        <p:spPr>
          <a:xfrm>
            <a:off x="7621560" y="536256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7" name="AutoShape 1035"/>
          <p:cNvSpPr/>
          <p:nvPr/>
        </p:nvSpPr>
        <p:spPr>
          <a:xfrm>
            <a:off x="8678880" y="5499000"/>
            <a:ext cx="457200" cy="344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44520"/>
              <a:gd name="textAreaBottom" fmla="*/ 322200 h 344520"/>
            </a:gdLst>
            <a:ahLst/>
            <a:rect l="textAreaLeft" t="textAreaTop" r="textAreaRight" b="textAreaBottom"/>
            <a:pathLst>
              <a:path w="28657" h="21600">
                <a:moveTo>
                  <a:pt x="0" y="0"/>
                </a:moveTo>
                <a:lnTo>
                  <a:pt x="28657" y="0"/>
                </a:lnTo>
                <a:lnTo>
                  <a:pt x="28657" y="21600"/>
                </a:lnTo>
                <a:lnTo>
                  <a:pt x="0" y="21600"/>
                </a:lnTo>
                <a:close/>
              </a:path>
              <a:path fill="lightenLess" w="28657" h="21600">
                <a:moveTo>
                  <a:pt x="0" y="0"/>
                </a:moveTo>
                <a:lnTo>
                  <a:pt x="28657" y="0"/>
                </a:lnTo>
                <a:lnTo>
                  <a:pt x="27257" y="1400"/>
                </a:lnTo>
                <a:lnTo>
                  <a:pt x="1400" y="1400"/>
                </a:lnTo>
                <a:close/>
              </a:path>
              <a:path fill="darken" w="28657" h="21600">
                <a:moveTo>
                  <a:pt x="28657" y="0"/>
                </a:moveTo>
                <a:lnTo>
                  <a:pt x="28657" y="21600"/>
                </a:lnTo>
                <a:lnTo>
                  <a:pt x="27257" y="20200"/>
                </a:lnTo>
                <a:lnTo>
                  <a:pt x="27257" y="1400"/>
                </a:lnTo>
                <a:close/>
              </a:path>
              <a:path fill="darkenLess" w="28657" h="21600">
                <a:moveTo>
                  <a:pt x="28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7" y="20200"/>
                </a:lnTo>
                <a:close/>
              </a:path>
              <a:path fill="lighten" w="28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57" h="21600">
                <a:moveTo>
                  <a:pt x="7322" y="10800"/>
                </a:moveTo>
                <a:lnTo>
                  <a:pt x="21335" y="3794"/>
                </a:lnTo>
                <a:lnTo>
                  <a:pt x="21335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996840" y="914400"/>
            <a:ext cx="7183800" cy="459720"/>
          </a:xfrm>
          <a:prstGeom prst="rect">
            <a:avLst/>
          </a:prstGeom>
          <a:solidFill>
            <a:srgbClr val="95e3eb"/>
          </a:solidFill>
          <a:ln w="9360">
            <a:solidFill>
              <a:srgbClr val="4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1" i="1" lang="ru-RU" sz="24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1" i="1" lang="en-US" sz="2400" spc="-1" strike="noStrike">
                <a:solidFill>
                  <a:srgbClr val="420a16"/>
                </a:solidFill>
                <a:latin typeface="Times New Roman"/>
              </a:rPr>
              <a:t>cos x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1" i="1" lang="ru-RU" sz="2400" spc="-1" strike="noStrike">
                <a:solidFill>
                  <a:srgbClr val="13131b"/>
                </a:solidFill>
                <a:latin typeface="Times New Roman"/>
              </a:rPr>
              <a:t>косинусоид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09480" y="4343400"/>
            <a:ext cx="3048120" cy="703800"/>
          </a:xfrm>
          <a:prstGeom prst="rect">
            <a:avLst/>
          </a:prstGeom>
          <a:solidFill>
            <a:srgbClr val="aceffa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еречислите свойства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и у =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cos x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305240" cy="43052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8"/>
          <p:cNvSpPr/>
          <p:nvPr/>
        </p:nvSpPr>
        <p:spPr>
          <a:xfrm>
            <a:off x="609480" y="2633760"/>
            <a:ext cx="2835360" cy="398880"/>
          </a:xfrm>
          <a:prstGeom prst="rect">
            <a:avLst/>
          </a:prstGeom>
          <a:solidFill>
            <a:srgbClr val="aceffa"/>
          </a:solidFill>
          <a:ln w="1260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(x+</a:t>
            </a:r>
            <a:r>
              <a:rPr b="1" i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)=cos x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3" name="AutoShape 9">
            <a:hlinkClick r:id="" action="ppaction://hlinkshowjump?jump=firstslide"/>
          </p:cNvPr>
          <p:cNvSpPr/>
          <p:nvPr/>
        </p:nvSpPr>
        <p:spPr>
          <a:xfrm>
            <a:off x="2362320" y="6324480"/>
            <a:ext cx="320400" cy="381240"/>
          </a:xfrm>
          <a:custGeom>
            <a:avLst/>
            <a:gdLst>
              <a:gd name="textAreaLeft" fmla="*/ 20520 w 320400"/>
              <a:gd name="textAreaRight" fmla="*/ 299880 w 320400"/>
              <a:gd name="textAreaTop" fmla="*/ 20520 h 381240"/>
              <a:gd name="textAreaBottom" fmla="*/ 360720 h 381240"/>
            </a:gdLst>
            <a:ahLst/>
            <a:rect l="textAreaLeft" t="textAreaTop" r="textAreaRight" b="textAreaBottom"/>
            <a:pathLst>
              <a:path w="21600" h="25697">
                <a:moveTo>
                  <a:pt x="0" y="0"/>
                </a:moveTo>
                <a:lnTo>
                  <a:pt x="21600" y="0"/>
                </a:lnTo>
                <a:lnTo>
                  <a:pt x="21600" y="25697"/>
                </a:lnTo>
                <a:lnTo>
                  <a:pt x="0" y="25697"/>
                </a:lnTo>
                <a:close/>
              </a:path>
              <a:path fill="lightenLess" w="21600" h="25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7">
                <a:moveTo>
                  <a:pt x="21600" y="0"/>
                </a:moveTo>
                <a:lnTo>
                  <a:pt x="21600" y="25697"/>
                </a:lnTo>
                <a:lnTo>
                  <a:pt x="20200" y="24297"/>
                </a:lnTo>
                <a:lnTo>
                  <a:pt x="20200" y="1400"/>
                </a:lnTo>
                <a:close/>
              </a:path>
              <a:path fill="darkenLess" w="21600" h="25697">
                <a:moveTo>
                  <a:pt x="21600" y="25697"/>
                </a:moveTo>
                <a:lnTo>
                  <a:pt x="0" y="25697"/>
                </a:lnTo>
                <a:lnTo>
                  <a:pt x="1400" y="24297"/>
                </a:lnTo>
                <a:lnTo>
                  <a:pt x="20200" y="24297"/>
                </a:lnTo>
                <a:close/>
              </a:path>
              <a:path fill="lighten" w="21600" h="25697">
                <a:moveTo>
                  <a:pt x="0" y="25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7"/>
                </a:lnTo>
                <a:close/>
              </a:path>
              <a:path fill="darken" w="21600" h="25697">
                <a:moveTo>
                  <a:pt x="3794" y="12848"/>
                </a:moveTo>
                <a:lnTo>
                  <a:pt x="17806" y="5842"/>
                </a:lnTo>
                <a:lnTo>
                  <a:pt x="17806" y="19855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6095880" cy="13716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69960" y="2556000"/>
            <a:ext cx="7772400" cy="25905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ординат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ординат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27" name="Picture 8" descr="bd15354_"/>
          <p:cNvPicPr/>
          <p:nvPr/>
        </p:nvPicPr>
        <p:blipFill>
          <a:blip r:embed="rId4"/>
          <a:stretch/>
        </p:blipFill>
        <p:spPr>
          <a:xfrm>
            <a:off x="669960" y="106668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9">
            <a:hlinkClick r:id="" action="ppaction://hlinkshowjump?jump=previousslide"/>
          </p:cNvPr>
          <p:cNvSpPr/>
          <p:nvPr/>
        </p:nvSpPr>
        <p:spPr>
          <a:xfrm>
            <a:off x="36504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1"/>
          <p:cNvSpPr/>
          <p:nvPr/>
        </p:nvSpPr>
        <p:spPr>
          <a:xfrm>
            <a:off x="7315200" y="5715000"/>
            <a:ext cx="137952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5943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669960" y="1763640"/>
            <a:ext cx="7543800" cy="39513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6166440" y="301320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b80e"/>
                </a:solidFill>
                <a:latin typeface="Times New Roman"/>
              </a:rPr>
              <a:t>y=sin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396400" y="198108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ff6"/>
                </a:solidFill>
                <a:latin typeface="Times New Roman"/>
              </a:rPr>
              <a:t>y=sin4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7071840" y="40496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a0c9d"/>
                </a:solidFill>
                <a:latin typeface="Times New Roman"/>
              </a:rPr>
              <a:t>Y=sin0.5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7316640" y="571500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8373960" y="5715000"/>
            <a:ext cx="320760" cy="293760"/>
          </a:xfrm>
          <a:custGeom>
            <a:avLst/>
            <a:gdLst>
              <a:gd name="textAreaLeft" fmla="*/ 18720 w 320760"/>
              <a:gd name="textAreaRight" fmla="*/ 302040 w 320760"/>
              <a:gd name="textAreaTop" fmla="*/ 18720 h 293760"/>
              <a:gd name="textAreaBottom" fmla="*/ 275040 h 293760"/>
            </a:gdLst>
            <a:ahLst/>
            <a:rect l="textAreaLeft" t="textAreaTop" r="textAreaRight" b="textAreaBottom"/>
            <a:pathLst>
              <a:path w="23583" h="21600">
                <a:moveTo>
                  <a:pt x="0" y="0"/>
                </a:moveTo>
                <a:lnTo>
                  <a:pt x="23583" y="0"/>
                </a:lnTo>
                <a:lnTo>
                  <a:pt x="23583" y="21600"/>
                </a:lnTo>
                <a:lnTo>
                  <a:pt x="0" y="21600"/>
                </a:lnTo>
                <a:close/>
              </a:path>
              <a:path fill="lightenLess" w="23583" h="21600">
                <a:moveTo>
                  <a:pt x="0" y="0"/>
                </a:moveTo>
                <a:lnTo>
                  <a:pt x="23583" y="0"/>
                </a:lnTo>
                <a:lnTo>
                  <a:pt x="22183" y="1400"/>
                </a:lnTo>
                <a:lnTo>
                  <a:pt x="1400" y="1400"/>
                </a:lnTo>
                <a:close/>
              </a:path>
              <a:path fill="darken" w="23583" h="21600">
                <a:moveTo>
                  <a:pt x="23583" y="0"/>
                </a:moveTo>
                <a:lnTo>
                  <a:pt x="23583" y="21600"/>
                </a:lnTo>
                <a:lnTo>
                  <a:pt x="22183" y="20200"/>
                </a:lnTo>
                <a:lnTo>
                  <a:pt x="22183" y="1400"/>
                </a:lnTo>
                <a:close/>
              </a:path>
              <a:path fill="darkenLess" w="23583" h="21600">
                <a:moveTo>
                  <a:pt x="23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83" y="20200"/>
                </a:lnTo>
                <a:close/>
              </a:path>
              <a:path fill="lighten" w="23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83" h="21600">
                <a:moveTo>
                  <a:pt x="4785" y="10800"/>
                </a:moveTo>
                <a:lnTo>
                  <a:pt x="18798" y="3794"/>
                </a:lnTo>
                <a:lnTo>
                  <a:pt x="18798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943600" cy="12189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762120" y="289548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43" name="Picture 5" descr="BD15018_"/>
          <p:cNvPicPr/>
          <p:nvPr/>
        </p:nvPicPr>
        <p:blipFill>
          <a:blip r:embed="rId4"/>
          <a:stretch/>
        </p:blipFill>
        <p:spPr>
          <a:xfrm>
            <a:off x="939960" y="3352680"/>
            <a:ext cx="171360" cy="171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BD15018_"/>
          <p:cNvPicPr/>
          <p:nvPr/>
        </p:nvPicPr>
        <p:blipFill>
          <a:blip r:embed="rId5"/>
          <a:stretch/>
        </p:blipFill>
        <p:spPr>
          <a:xfrm>
            <a:off x="939960" y="396252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bd15354_"/>
          <p:cNvPicPr/>
          <p:nvPr/>
        </p:nvPicPr>
        <p:blipFill>
          <a:blip r:embed="rId6"/>
          <a:stretch/>
        </p:blipFill>
        <p:spPr>
          <a:xfrm>
            <a:off x="762120" y="1249200"/>
            <a:ext cx="388800" cy="64008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8">
            <a:hlinkClick r:id="" action="ppaction://hlinkshowjump?jump=previousslide"/>
          </p:cNvPr>
          <p:cNvSpPr/>
          <p:nvPr/>
        </p:nvSpPr>
        <p:spPr>
          <a:xfrm>
            <a:off x="289080" y="57913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3"/>
          <p:cNvSpPr/>
          <p:nvPr/>
        </p:nvSpPr>
        <p:spPr>
          <a:xfrm>
            <a:off x="5851440" y="6297480"/>
            <a:ext cx="1285920" cy="45720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5943600" cy="1143000"/>
          </a:xfrm>
          <a:prstGeom prst="rect">
            <a:avLst/>
          </a:prstGeom>
          <a:solidFill>
            <a:srgbClr val="95e3e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0" name="Picture 8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05720" cy="40399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9"/>
          <p:cNvSpPr/>
          <p:nvPr/>
        </p:nvSpPr>
        <p:spPr>
          <a:xfrm>
            <a:off x="6257520" y="321156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2dca"/>
                </a:solidFill>
                <a:latin typeface="Times New Roman"/>
              </a:rPr>
              <a:t>y = cos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6257520" y="443088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y = cos 0.5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5853240" y="629748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6910560" y="6450120"/>
            <a:ext cx="226800" cy="304560"/>
          </a:xfrm>
          <a:custGeom>
            <a:avLst/>
            <a:gdLst>
              <a:gd name="textAreaLeft" fmla="*/ 14400 w 226800"/>
              <a:gd name="textAreaRight" fmla="*/ 212400 w 226800"/>
              <a:gd name="textAreaTop" fmla="*/ 14400 h 304560"/>
              <a:gd name="textAreaBottom" fmla="*/ 290160 h 304560"/>
            </a:gdLst>
            <a:ahLst/>
            <a:rect l="textAreaLeft" t="textAreaTop" r="textAreaRight" b="textAreaBottom"/>
            <a:pathLst>
              <a:path w="21600" h="28994">
                <a:moveTo>
                  <a:pt x="0" y="0"/>
                </a:moveTo>
                <a:lnTo>
                  <a:pt x="21600" y="0"/>
                </a:lnTo>
                <a:lnTo>
                  <a:pt x="21600" y="28994"/>
                </a:lnTo>
                <a:lnTo>
                  <a:pt x="0" y="28994"/>
                </a:lnTo>
                <a:close/>
              </a:path>
              <a:path fill="lightenLess" w="21600" h="28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94">
                <a:moveTo>
                  <a:pt x="21600" y="0"/>
                </a:moveTo>
                <a:lnTo>
                  <a:pt x="21600" y="28994"/>
                </a:lnTo>
                <a:lnTo>
                  <a:pt x="20200" y="27594"/>
                </a:lnTo>
                <a:lnTo>
                  <a:pt x="20200" y="1400"/>
                </a:lnTo>
                <a:close/>
              </a:path>
              <a:path fill="darkenLess" w="21600" h="28994">
                <a:moveTo>
                  <a:pt x="21600" y="28994"/>
                </a:moveTo>
                <a:lnTo>
                  <a:pt x="0" y="28994"/>
                </a:lnTo>
                <a:lnTo>
                  <a:pt x="1400" y="27594"/>
                </a:lnTo>
                <a:lnTo>
                  <a:pt x="20200" y="27594"/>
                </a:lnTo>
                <a:close/>
              </a:path>
              <a:path fill="lighten" w="21600" h="28994">
                <a:moveTo>
                  <a:pt x="0" y="28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94"/>
                </a:lnTo>
                <a:close/>
              </a:path>
              <a:path fill="darken" w="21600" h="28994">
                <a:moveTo>
                  <a:pt x="3794" y="14497"/>
                </a:moveTo>
                <a:lnTo>
                  <a:pt x="17806" y="7491"/>
                </a:lnTo>
                <a:lnTo>
                  <a:pt x="17806" y="21503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943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669960" y="274320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и функций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-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и у=-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f(x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получаются из графиков функций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k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y= k 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соответственно   путем их зеркального отображения относительно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синус – функция нечетная, поэтому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sin(-kx) = - sin (k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косинус –функция четная, значит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cos(-kx) = cos(k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58" name="Picture 8" descr="bd13742_"/>
          <p:cNvPicPr/>
          <p:nvPr/>
        </p:nvPicPr>
        <p:blipFill>
          <a:blip r:embed="rId3"/>
          <a:stretch/>
        </p:blipFill>
        <p:spPr>
          <a:xfrm>
            <a:off x="658800" y="164628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9">
            <a:hlinkClick r:id="" action="ppaction://hlinkshowjump?jump=previousslide"/>
          </p:cNvPr>
          <p:cNvSpPr/>
          <p:nvPr/>
        </p:nvSpPr>
        <p:spPr>
          <a:xfrm>
            <a:off x="35388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1"/>
          <p:cNvSpPr/>
          <p:nvPr/>
        </p:nvSpPr>
        <p:spPr>
          <a:xfrm>
            <a:off x="6208560" y="6172200"/>
            <a:ext cx="1463760" cy="5223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418680"/>
            <a:ext cx="64008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990720" y="1763640"/>
            <a:ext cx="7238880" cy="43704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6507720" y="236232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25a5"/>
                </a:solidFill>
                <a:latin typeface="Times New Roman"/>
              </a:rPr>
              <a:t>y = </a:t>
            </a:r>
            <a:r>
              <a:rPr b="1" lang="ru-RU" sz="1400" spc="-1" strike="noStrike">
                <a:solidFill>
                  <a:srgbClr val="0725a5"/>
                </a:solidFill>
                <a:latin typeface="Times New Roman"/>
              </a:rPr>
              <a:t>-</a:t>
            </a:r>
            <a:r>
              <a:rPr b="1" lang="en-US" sz="1400" spc="-1" strike="noStrike">
                <a:solidFill>
                  <a:srgbClr val="0725a5"/>
                </a:solidFill>
                <a:latin typeface="Times New Roman"/>
              </a:rPr>
              <a:t>sin3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6508080" y="51926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y =  sin3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6234120" y="61340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7291440" y="6188040"/>
            <a:ext cx="380880" cy="293760"/>
          </a:xfrm>
          <a:custGeom>
            <a:avLst/>
            <a:gdLst>
              <a:gd name="textAreaLeft" fmla="*/ 18720 w 380880"/>
              <a:gd name="textAreaRight" fmla="*/ 362160 w 380880"/>
              <a:gd name="textAreaTop" fmla="*/ 18720 h 293760"/>
              <a:gd name="textAreaBottom" fmla="*/ 275040 h 293760"/>
            </a:gdLst>
            <a:ahLst/>
            <a:rect l="textAreaLeft" t="textAreaTop" r="textAreaRight" b="textAreaBottom"/>
            <a:pathLst>
              <a:path w="27998" h="21600">
                <a:moveTo>
                  <a:pt x="0" y="0"/>
                </a:moveTo>
                <a:lnTo>
                  <a:pt x="27998" y="0"/>
                </a:lnTo>
                <a:lnTo>
                  <a:pt x="27998" y="21600"/>
                </a:lnTo>
                <a:lnTo>
                  <a:pt x="0" y="21600"/>
                </a:lnTo>
                <a:close/>
              </a:path>
              <a:path fill="lightenLess" w="27998" h="21600">
                <a:moveTo>
                  <a:pt x="0" y="0"/>
                </a:moveTo>
                <a:lnTo>
                  <a:pt x="27998" y="0"/>
                </a:lnTo>
                <a:lnTo>
                  <a:pt x="26598" y="1400"/>
                </a:lnTo>
                <a:lnTo>
                  <a:pt x="1400" y="1400"/>
                </a:lnTo>
                <a:close/>
              </a:path>
              <a:path fill="darken" w="27998" h="21600">
                <a:moveTo>
                  <a:pt x="27998" y="0"/>
                </a:moveTo>
                <a:lnTo>
                  <a:pt x="27998" y="21600"/>
                </a:lnTo>
                <a:lnTo>
                  <a:pt x="26598" y="20200"/>
                </a:lnTo>
                <a:lnTo>
                  <a:pt x="26598" y="1400"/>
                </a:lnTo>
                <a:close/>
              </a:path>
              <a:path fill="darkenLess" w="27998" h="21600">
                <a:moveTo>
                  <a:pt x="27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98" y="20200"/>
                </a:lnTo>
                <a:close/>
              </a:path>
              <a:path fill="lighten" w="27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98" h="21600">
                <a:moveTo>
                  <a:pt x="6993" y="10800"/>
                </a:moveTo>
                <a:lnTo>
                  <a:pt x="21006" y="3794"/>
                </a:lnTo>
                <a:lnTo>
                  <a:pt x="21006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996840" y="914400"/>
            <a:ext cx="6843960" cy="459720"/>
          </a:xfrm>
          <a:prstGeom prst="rect">
            <a:avLst/>
          </a:prstGeom>
          <a:solidFill>
            <a:srgbClr val="95e3eb"/>
          </a:solidFill>
          <a:ln w="9360">
            <a:solidFill>
              <a:srgbClr val="4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1" i="1" lang="ru-RU" sz="24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1" i="1" lang="en-US" sz="2400" spc="-1" strike="noStrike">
                <a:solidFill>
                  <a:srgbClr val="420a16"/>
                </a:solidFill>
                <a:latin typeface="Times New Roman"/>
              </a:rPr>
              <a:t>sin x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1" i="1" lang="ru-RU" sz="2400" spc="-1" strike="noStrike">
                <a:solidFill>
                  <a:srgbClr val="13131b"/>
                </a:solidFill>
                <a:latin typeface="Times New Roman"/>
              </a:rPr>
              <a:t>синусоид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09480" y="2590920"/>
            <a:ext cx="3810240" cy="1923480"/>
          </a:xfrm>
          <a:prstGeom prst="rect">
            <a:avLst/>
          </a:prstGeom>
          <a:solidFill>
            <a:srgbClr val="aceffa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Свойства функци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D(y) =R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ериодическая (Т=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Нечетная 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(-x)=-sin 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Нули функции: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=0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 x=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х 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49" name="Object 1024"/>
          <p:cNvGraphicFramePr/>
          <p:nvPr/>
        </p:nvGraphicFramePr>
        <p:xfrm>
          <a:off x="4648320" y="1752480"/>
          <a:ext cx="403848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52480"/>
                    <a:ext cx="403848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9"/>
          <p:cNvSpPr/>
          <p:nvPr/>
        </p:nvSpPr>
        <p:spPr>
          <a:xfrm>
            <a:off x="7505640" y="3160800"/>
            <a:ext cx="70668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Arial Unicode MS"/>
              </a:rPr>
              <a:t>y=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5646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838080" y="1606680"/>
            <a:ext cx="6934320" cy="41083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6226920" y="25146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19f5"/>
                </a:solidFill>
                <a:latin typeface="Times New Roman"/>
              </a:rPr>
              <a:t>y=2cos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6226920" y="44197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-2cos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6548400" y="5715000"/>
            <a:ext cx="1452600" cy="4953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6549840" y="56498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7543800" y="5715000"/>
            <a:ext cx="457200" cy="343080"/>
          </a:xfrm>
          <a:custGeom>
            <a:avLst/>
            <a:gdLst>
              <a:gd name="textAreaLeft" fmla="*/ 21960 w 457200"/>
              <a:gd name="textAreaRight" fmla="*/ 435240 w 45720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28777" h="21600">
                <a:moveTo>
                  <a:pt x="0" y="0"/>
                </a:moveTo>
                <a:lnTo>
                  <a:pt x="28777" y="0"/>
                </a:lnTo>
                <a:lnTo>
                  <a:pt x="28777" y="21600"/>
                </a:lnTo>
                <a:lnTo>
                  <a:pt x="0" y="21600"/>
                </a:lnTo>
                <a:close/>
              </a:path>
              <a:path fill="lightenLess" w="28777" h="21600">
                <a:moveTo>
                  <a:pt x="0" y="0"/>
                </a:moveTo>
                <a:lnTo>
                  <a:pt x="28777" y="0"/>
                </a:lnTo>
                <a:lnTo>
                  <a:pt x="27377" y="1400"/>
                </a:lnTo>
                <a:lnTo>
                  <a:pt x="1400" y="1400"/>
                </a:lnTo>
                <a:close/>
              </a:path>
              <a:path fill="darken" w="28777" h="21600">
                <a:moveTo>
                  <a:pt x="28777" y="0"/>
                </a:moveTo>
                <a:lnTo>
                  <a:pt x="28777" y="21600"/>
                </a:lnTo>
                <a:lnTo>
                  <a:pt x="27377" y="20200"/>
                </a:lnTo>
                <a:lnTo>
                  <a:pt x="27377" y="1400"/>
                </a:lnTo>
                <a:close/>
              </a:path>
              <a:path fill="darkenLess" w="28777" h="21600">
                <a:moveTo>
                  <a:pt x="28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7" y="20200"/>
                </a:lnTo>
                <a:close/>
              </a:path>
              <a:path fill="lighten" w="28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7" h="21600">
                <a:moveTo>
                  <a:pt x="7382" y="10800"/>
                </a:moveTo>
                <a:lnTo>
                  <a:pt x="21395" y="3794"/>
                </a:lnTo>
                <a:lnTo>
                  <a:pt x="21395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1218960"/>
            <a:ext cx="609588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762120" y="289548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у = 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f (kx+b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параллельного переноса на 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(-в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/k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единиц вдоль оси абсцисс и путем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или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 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f ( kx+b) = f ( k( x+b/k)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80" name="Picture 7" descr="bd15361_"/>
          <p:cNvPicPr/>
          <p:nvPr/>
        </p:nvPicPr>
        <p:blipFill>
          <a:blip r:embed="rId3"/>
          <a:stretch/>
        </p:blipFill>
        <p:spPr>
          <a:xfrm>
            <a:off x="762120" y="172260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>
            <a:hlinkClick r:id="" action="ppaction://hlinkshowjump?jump=previousslide"/>
          </p:cNvPr>
          <p:cNvSpPr/>
          <p:nvPr/>
        </p:nvSpPr>
        <p:spPr>
          <a:xfrm>
            <a:off x="289080" y="57913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7"/>
          <p:cNvSpPr/>
          <p:nvPr/>
        </p:nvSpPr>
        <p:spPr>
          <a:xfrm>
            <a:off x="6497640" y="6221520"/>
            <a:ext cx="1366920" cy="5601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585144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5" name="Picture 6" descr=""/>
          <p:cNvPicPr/>
          <p:nvPr/>
        </p:nvPicPr>
        <p:blipFill>
          <a:blip r:embed="rId1"/>
          <a:stretch/>
        </p:blipFill>
        <p:spPr>
          <a:xfrm>
            <a:off x="380880" y="163836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2"/>
          <a:stretch/>
        </p:blipFill>
        <p:spPr>
          <a:xfrm>
            <a:off x="4800600" y="163836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8"/>
          <p:cNvSpPr/>
          <p:nvPr/>
        </p:nvSpPr>
        <p:spPr>
          <a:xfrm>
            <a:off x="2741760" y="4275000"/>
            <a:ext cx="13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874600" y="3056040"/>
            <a:ext cx="116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cos(x+</a:t>
            </a:r>
            <a:r>
              <a:rPr b="1" lang="ru-RU" sz="1400" spc="-1" strike="noStrike">
                <a:solidFill>
                  <a:srgbClr val="0000a8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/6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91120" y="2217600"/>
            <a:ext cx="14137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(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6)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086800" y="2217600"/>
            <a:ext cx="14137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(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6)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7221960" y="4275000"/>
            <a:ext cx="13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7543080" y="3059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cos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3" name="AutoShape 14">
            <a:hlinkClick r:id="" action="ppaction://hlinkshowjump?jump=firstslide"/>
          </p:cNvPr>
          <p:cNvSpPr/>
          <p:nvPr/>
        </p:nvSpPr>
        <p:spPr>
          <a:xfrm>
            <a:off x="2647800" y="640080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3794" y="17983"/>
                </a:moveTo>
                <a:lnTo>
                  <a:pt x="17806" y="10977"/>
                </a:lnTo>
                <a:lnTo>
                  <a:pt x="17806" y="24990"/>
                </a:ln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4" name="AutoShape 15">
            <a:hlinkClick r:id="" action="ppaction://hlinkshowjump?jump=firstslide"/>
          </p:cNvPr>
          <p:cNvSpPr/>
          <p:nvPr/>
        </p:nvSpPr>
        <p:spPr>
          <a:xfrm>
            <a:off x="7543800" y="6400800"/>
            <a:ext cx="320760" cy="304920"/>
          </a:xfrm>
          <a:custGeom>
            <a:avLst/>
            <a:gdLst>
              <a:gd name="textAreaLeft" fmla="*/ 19440 w 320760"/>
              <a:gd name="textAreaRight" fmla="*/ 301320 w 320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2721" h="21600">
                <a:moveTo>
                  <a:pt x="0" y="0"/>
                </a:moveTo>
                <a:lnTo>
                  <a:pt x="22721" y="0"/>
                </a:lnTo>
                <a:lnTo>
                  <a:pt x="22721" y="21600"/>
                </a:lnTo>
                <a:lnTo>
                  <a:pt x="0" y="21600"/>
                </a:lnTo>
                <a:close/>
              </a:path>
              <a:path fill="lightenLess" w="22721" h="21600">
                <a:moveTo>
                  <a:pt x="0" y="0"/>
                </a:moveTo>
                <a:lnTo>
                  <a:pt x="22721" y="0"/>
                </a:lnTo>
                <a:lnTo>
                  <a:pt x="21321" y="1400"/>
                </a:lnTo>
                <a:lnTo>
                  <a:pt x="1400" y="1400"/>
                </a:lnTo>
                <a:close/>
              </a:path>
              <a:path fill="darken" w="22721" h="21600">
                <a:moveTo>
                  <a:pt x="22721" y="0"/>
                </a:moveTo>
                <a:lnTo>
                  <a:pt x="22721" y="21600"/>
                </a:lnTo>
                <a:lnTo>
                  <a:pt x="21321" y="20200"/>
                </a:lnTo>
                <a:lnTo>
                  <a:pt x="21321" y="1400"/>
                </a:lnTo>
                <a:close/>
              </a:path>
              <a:path fill="darkenLess" w="22721" h="21600">
                <a:moveTo>
                  <a:pt x="22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21" y="20200"/>
                </a:lnTo>
                <a:close/>
              </a:path>
              <a:path fill="lighten" w="22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21" h="21600">
                <a:moveTo>
                  <a:pt x="4354" y="10800"/>
                </a:moveTo>
                <a:lnTo>
                  <a:pt x="18367" y="3794"/>
                </a:lnTo>
                <a:lnTo>
                  <a:pt x="18367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6486480" y="622152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5640" y="334440"/>
            <a:ext cx="5334120" cy="692280"/>
          </a:xfrm>
          <a:prstGeom prst="rect">
            <a:avLst/>
          </a:prstGeom>
          <a:solidFill>
            <a:srgbClr val="96daea"/>
          </a:solidFill>
          <a:ln w="9360">
            <a:solidFill>
              <a:srgbClr val="55a4b1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c58d3"/>
                </a:solidFill>
                <a:latin typeface="Times New Roman"/>
              </a:rPr>
              <a:t>Для любознательных…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219320" y="11113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осмотрите как выглядят графики  некоторых других триг. функций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964520" y="5726160"/>
            <a:ext cx="20113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 = 1 / cos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 или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sec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        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(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читается секонс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300" name="Picture 8" descr="j0076138"/>
          <p:cNvPicPr/>
          <p:nvPr/>
        </p:nvPicPr>
        <p:blipFill>
          <a:blip r:embed="rId1"/>
          <a:stretch/>
        </p:blipFill>
        <p:spPr>
          <a:xfrm>
            <a:off x="152280" y="334800"/>
            <a:ext cx="971640" cy="1371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"/>
          <p:cNvPicPr/>
          <p:nvPr/>
        </p:nvPicPr>
        <p:blipFill>
          <a:blip r:embed="rId2"/>
          <a:stretch/>
        </p:blipFill>
        <p:spPr>
          <a:xfrm>
            <a:off x="609480" y="1706400"/>
            <a:ext cx="3856320" cy="38563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"/>
          <p:cNvPicPr/>
          <p:nvPr/>
        </p:nvPicPr>
        <p:blipFill>
          <a:blip r:embed="rId3"/>
          <a:stretch/>
        </p:blipFill>
        <p:spPr>
          <a:xfrm>
            <a:off x="4800600" y="1706400"/>
            <a:ext cx="3733920" cy="38563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1"/>
          <p:cNvSpPr/>
          <p:nvPr/>
        </p:nvSpPr>
        <p:spPr>
          <a:xfrm>
            <a:off x="5713560" y="5470560"/>
            <a:ext cx="2160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0e2a"/>
                </a:solidFill>
                <a:latin typeface="Times New Roman"/>
              </a:rPr>
              <a:t>y = cosec x </a:t>
            </a:r>
            <a:r>
              <a:rPr b="1" lang="ru-RU" sz="1400" spc="-1" strike="noStrike">
                <a:solidFill>
                  <a:srgbClr val="f80e2a"/>
                </a:solidFill>
                <a:latin typeface="Times New Roman"/>
              </a:rPr>
              <a:t>или </a:t>
            </a:r>
            <a:r>
              <a:rPr b="1" lang="en-US" sz="1400" spc="-1" strike="noStrike">
                <a:solidFill>
                  <a:srgbClr val="f80e2a"/>
                </a:solidFill>
                <a:latin typeface="Times New Roman"/>
              </a:rPr>
              <a:t>y= 1/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0e2a"/>
                </a:solidFill>
                <a:latin typeface="Times New Roman"/>
              </a:rPr>
              <a:t>читается косеконс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2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830960" y="879480"/>
            <a:ext cx="3902400" cy="459720"/>
          </a:xfrm>
          <a:prstGeom prst="rect">
            <a:avLst/>
          </a:prstGeom>
          <a:solidFill>
            <a:srgbClr val="95e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 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7120" y="2895480"/>
            <a:ext cx="4493520" cy="13136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знакопостоянства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&gt;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0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&lt;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x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545472"/>
                </a:solidFill>
                <a:latin typeface="MS Shell Dlg"/>
              </a:rPr>
              <a:t>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0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)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55" name="Object 1024"/>
          <p:cNvGraphicFramePr/>
          <p:nvPr/>
        </p:nvGraphicFramePr>
        <p:xfrm>
          <a:off x="7505640" y="1523880"/>
          <a:ext cx="114480" cy="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5640" y="1523880"/>
                    <a:ext cx="11448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025"/>
          <p:cNvGraphicFramePr/>
          <p:nvPr/>
        </p:nvGraphicFramePr>
        <p:xfrm>
          <a:off x="5029200" y="1752480"/>
          <a:ext cx="3849840" cy="380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752480"/>
                    <a:ext cx="384984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8"/>
          <p:cNvSpPr/>
          <p:nvPr/>
        </p:nvSpPr>
        <p:spPr>
          <a:xfrm>
            <a:off x="7569360" y="304812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990360"/>
            <a:ext cx="5105160" cy="5331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0" y="2590920"/>
            <a:ext cx="4495680" cy="10087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6.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монотонност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я возрастает на промежутках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вида: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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4724280" y="1905120"/>
          <a:ext cx="411480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05120"/>
                    <a:ext cx="411480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7"/>
          <p:cNvSpPr/>
          <p:nvPr/>
        </p:nvSpPr>
        <p:spPr>
          <a:xfrm>
            <a:off x="7813800" y="3332160"/>
            <a:ext cx="78588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Arial Unicode MS"/>
              </a:rPr>
              <a:t>y = 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66600" y="990360"/>
            <a:ext cx="5715000" cy="5331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 x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2819520"/>
            <a:ext cx="4495680" cy="10087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монотонност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я убывает на промежутках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вида: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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4229280" cy="42292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7848360" y="30988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09680" y="834840"/>
            <a:ext cx="4724640" cy="4633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63920" y="2362320"/>
            <a:ext cx="2670840" cy="10922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7. Точки экстремума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545472"/>
                </a:solidFill>
                <a:latin typeface="Times New Roman"/>
              </a:rPr>
              <a:t>мах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 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545472"/>
                </a:solidFill>
                <a:latin typeface="Times New Roman"/>
              </a:rPr>
              <a:t>м</a:t>
            </a:r>
            <a:r>
              <a:rPr b="1" lang="en-US" sz="2000" spc="-1" strike="noStrike" baseline="-25000">
                <a:solidFill>
                  <a:srgbClr val="545472"/>
                </a:solidFill>
                <a:latin typeface="Times New Roman"/>
              </a:rPr>
              <a:t>i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 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74" name="Object 7"/>
          <p:cNvGraphicFramePr/>
          <p:nvPr/>
        </p:nvGraphicFramePr>
        <p:xfrm>
          <a:off x="4343400" y="1828800"/>
          <a:ext cx="395928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28800"/>
                    <a:ext cx="39592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8"/>
          <p:cNvSpPr/>
          <p:nvPr/>
        </p:nvSpPr>
        <p:spPr>
          <a:xfrm>
            <a:off x="7316280" y="320040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y=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33360" y="914400"/>
            <a:ext cx="4784760" cy="4572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63920" y="2362320"/>
            <a:ext cx="2626920" cy="7038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45472"/>
                </a:solidFill>
                <a:latin typeface="Times New Roman"/>
              </a:rPr>
              <a:t>8</a:t>
            </a:r>
            <a:r>
              <a:rPr b="1" i="1" lang="ru-RU" sz="2000" spc="-1" strike="noStrike">
                <a:solidFill>
                  <a:srgbClr val="545472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Область значений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Е(у) =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-1;1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80" name="Object 8"/>
          <p:cNvGraphicFramePr/>
          <p:nvPr/>
        </p:nvGraphicFramePr>
        <p:xfrm>
          <a:off x="3989520" y="1752480"/>
          <a:ext cx="439236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9520" y="1752480"/>
                    <a:ext cx="43923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9"/>
          <p:cNvSpPr/>
          <p:nvPr/>
        </p:nvSpPr>
        <p:spPr>
          <a:xfrm>
            <a:off x="7324560" y="321156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83" name="AutoShape 12">
            <a:hlinkClick r:id="" action="ppaction://hlinkshowjump?jump=firstslide"/>
          </p:cNvPr>
          <p:cNvSpPr/>
          <p:nvPr/>
        </p:nvSpPr>
        <p:spPr>
          <a:xfrm>
            <a:off x="24382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1219320"/>
            <a:ext cx="5715000" cy="7617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+в) получается из графика функции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-в) единиц вдоль оси абсцисс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+а получается из графика функции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а) единиц вдоль оси ординат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7" name="AutoShape 4">
            <a:hlinkClick r:id="" action="ppaction://hlinkshowjump?jump=previousslide"/>
          </p:cNvPr>
          <p:cNvSpPr/>
          <p:nvPr/>
        </p:nvSpPr>
        <p:spPr>
          <a:xfrm>
            <a:off x="3808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7493"/>
                </a:moveTo>
                <a:lnTo>
                  <a:pt x="10001" y="7493"/>
                </a:lnTo>
                <a:lnTo>
                  <a:pt x="10001" y="12828"/>
                </a:lnTo>
                <a:cubicBezTo>
                  <a:pt x="10001" y="13751"/>
                  <a:pt x="10802" y="14482"/>
                  <a:pt x="11838" y="14482"/>
                </a:cubicBezTo>
                <a:lnTo>
                  <a:pt x="13500" y="14482"/>
                </a:lnTo>
                <a:cubicBezTo>
                  <a:pt x="14536" y="14482"/>
                  <a:pt x="15336" y="13751"/>
                  <a:pt x="15336" y="12828"/>
                </a:cubicBezTo>
                <a:lnTo>
                  <a:pt x="15336" y="7493"/>
                </a:lnTo>
                <a:lnTo>
                  <a:pt x="13500" y="7493"/>
                </a:lnTo>
                <a:lnTo>
                  <a:pt x="17008" y="3985"/>
                </a:lnTo>
                <a:lnTo>
                  <a:pt x="20681" y="7493"/>
                </a:lnTo>
                <a:lnTo>
                  <a:pt x="18844" y="7493"/>
                </a:lnTo>
                <a:lnTo>
                  <a:pt x="18844" y="12828"/>
                </a:lnTo>
                <a:cubicBezTo>
                  <a:pt x="18844" y="15596"/>
                  <a:pt x="16268" y="18155"/>
                  <a:pt x="13500" y="18155"/>
                </a:cubicBezTo>
                <a:lnTo>
                  <a:pt x="11838" y="18155"/>
                </a:lnTo>
                <a:cubicBezTo>
                  <a:pt x="9070" y="18155"/>
                  <a:pt x="6494" y="15596"/>
                  <a:pt x="6494" y="12828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188" name="Picture 5" descr="bd13742_"/>
          <p:cNvPicPr/>
          <p:nvPr/>
        </p:nvPicPr>
        <p:blipFill>
          <a:blip r:embed="rId3"/>
          <a:stretch/>
        </p:blipFill>
        <p:spPr>
          <a:xfrm>
            <a:off x="990720" y="121932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7302600" y="5867280"/>
            <a:ext cx="154764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4953240" cy="914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1066680" y="1496880"/>
            <a:ext cx="7010640" cy="43704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4"/>
          <p:cNvSpPr/>
          <p:nvPr/>
        </p:nvSpPr>
        <p:spPr>
          <a:xfrm>
            <a:off x="8458200" y="58672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371600" y="1828800"/>
            <a:ext cx="2362320" cy="609480"/>
          </a:xfrm>
          <a:prstGeom prst="rect">
            <a:avLst/>
          </a:prstGeom>
          <a:solidFill>
            <a:srgbClr val="d5f4f7"/>
          </a:solidFill>
          <a:ln w="28440">
            <a:solidFill>
              <a:srgbClr val="cd0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 у =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sin(x+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4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7400880" y="58910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6:55:35Z</dcterms:created>
  <dc:creator>Слушатель Центра Интернет-образование</dc:creator>
  <dc:description/>
  <dc:language>en-US</dc:language>
  <cp:lastModifiedBy>LEGION</cp:lastModifiedBy>
  <dcterms:modified xsi:type="dcterms:W3CDTF">2015-01-23T13:21:50Z</dcterms:modified>
  <cp:revision>21</cp:revision>
  <dc:subject/>
  <dc:title>Графики тригонометрических функций </dc:title>
</cp:coreProperties>
</file>