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9.wmf" ContentType="image/x-wmf"/>
  <Override PartName="/ppt/media/image21.gif" ContentType="image/gif"/>
  <Override PartName="/ppt/media/image14.png" ContentType="image/png"/>
  <Override PartName="/ppt/media/image8.png" ContentType="image/png"/>
  <Override PartName="/ppt/media/image30.gif" ContentType="image/gif"/>
  <Override PartName="/ppt/media/image13.png" ContentType="image/png"/>
  <Override PartName="/ppt/media/image7.wmf" ContentType="image/x-wmf"/>
  <Override PartName="/ppt/media/image12.png" ContentType="image/png"/>
  <Override PartName="/ppt/media/image27.gif" ContentType="image/gif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5.gif" ContentType="image/gif"/>
  <Override PartName="/ppt/media/image18.png" ContentType="image/png"/>
  <Override PartName="/ppt/media/image20.png" ContentType="image/png"/>
  <Override PartName="/ppt/media/image23.gif" ContentType="image/gif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0BF9-DEA3-4557-8FB7-D49AF4E82CCB}" type="datetime"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E0B7-5DEA-4D61-B69A-2495CF1FADE1}" type="slidenum"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66ff"/>
                </a:solidFill>
                <a:uFillTx/>
                <a:latin typeface="Times New Roman"/>
              </a:rPr>
              <a:t>Графики тригонометрических</a:t>
            </a:r>
            <a:r>
              <a:rPr b="0" lang="ru-RU" sz="1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ru-RU" sz="1200" spc="-1" strike="noStrike" u="sng">
                <a:solidFill>
                  <a:srgbClr val="ff66ff"/>
                </a:solidFill>
                <a:uFillTx/>
                <a:latin typeface="Times New Roman"/>
              </a:rPr>
              <a:t>функций</a:t>
            </a:r>
            <a:r>
              <a:rPr b="0" lang="ru-RU" sz="12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90F6-9B6A-4759-A7E1-95E39DB6876F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0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36DB-D246-4FA7-BB02-9197C8CC08A2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48DE-F903-4C06-B20A-6D5E10A53B8E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36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A54F-C2DE-4EE3-BF09-6BDFA72461CA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7535-31F9-44AB-AAC4-1B97E1B6F65A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40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97FE-0BEA-4C4A-9224-C97697E56C79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BA5B-0CB2-4A29-A07C-0A90ABB0754B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44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A648-1FAB-4DD8-85D3-A8E664314E0B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</a:rPr>
              <a:t>Графиком функции </a:t>
            </a:r>
            <a:r>
              <a:rPr b="0" i="1" lang="ru-RU" sz="1200" spc="-1" strike="noStrike">
                <a:solidFill>
                  <a:srgbClr val="420a16"/>
                </a:solidFill>
                <a:latin typeface="Times New Roman"/>
              </a:rPr>
              <a:t>у = </a:t>
            </a:r>
            <a:r>
              <a:rPr b="0" i="1" lang="en-US" sz="1200" spc="-1" strike="noStrike">
                <a:solidFill>
                  <a:srgbClr val="420a16"/>
                </a:solidFill>
                <a:latin typeface="Times New Roman"/>
              </a:rPr>
              <a:t>cos x</a:t>
            </a:r>
            <a:r>
              <a:rPr b="0" i="1" lang="en-US" sz="12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0" i="1" lang="ru-RU" sz="1200" spc="-1" strike="noStrike">
                <a:solidFill>
                  <a:srgbClr val="ff0066"/>
                </a:solidFill>
                <a:latin typeface="Times New Roman"/>
              </a:rPr>
              <a:t>являетс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осинусои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8527-31C3-453E-A0F4-F10A6135F020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4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4B50-9BC7-4BFB-98E4-BEEC6F35E140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8FED-9B45-43CE-B60C-360B46B2474F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52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4812-0BE0-4B19-A689-ADAA163FA2AB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D259-3517-4491-8198-DE133F5B974A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56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8D71-3524-4585-AAE1-C31A2BF14308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D2EE-CA0A-466E-8963-10BF752A1B52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60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ACFB-5D64-4106-BCF4-18C8D7BEEFFB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DF30-C59E-4F63-A4FB-193DE1FE2953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64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FF69-94B1-44F9-9363-FEBE73D4591E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C557-2499-4FB6-8BFD-5B0710F96E08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6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C4F1-AAE6-4ED9-A426-DB8F6B055761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878D-1F88-41E5-8D99-474FDD562C6E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72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6510-4474-4C6B-94CC-BE82485987C9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312C-0DE2-42B0-8738-381767BC5669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76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2F75-4262-4C72-9936-B4DD2D502CD1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B106-F0DE-41E9-AB43-B0C33BADF726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80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8315-0635-4D4A-91CF-EBC38CE6DF89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1887-C623-41CB-B7D4-8932B857739B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84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1B0E-3588-4C3F-B3A2-39AFDAF63D20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b2b2b2"/>
                </a:solidFill>
                <a:latin typeface="Times New Roman"/>
              </a:rPr>
              <a:t>Для любознательных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361A-D4B6-41CF-9443-7AB459E9CF0E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8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A833-4942-4191-BC7C-1326F9FC8A86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Свойства функции у=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9DC2-597E-46EA-9487-9B25F8EEB837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12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53A8-CE95-42FE-A20A-6EE66F4C8D78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Свойства функции у=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sin</a:t>
            </a:r>
            <a:r>
              <a:rPr b="1" i="1" lang="en-US" sz="1400" spc="-1" strike="noStrike">
                <a:solidFill>
                  <a:srgbClr val="ff0066"/>
                </a:solidFill>
                <a:latin typeface="Times New Roman"/>
              </a:rPr>
              <a:t>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EDBC-1053-45E4-BBA7-EF1E0DD9B971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16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7BFB-F383-4F46-85B9-E2816FB80651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Свойства функции у =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0478-623E-4B2C-99BB-F0ED7B738401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20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25B5-390A-457B-871C-313335D883B2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Свойства функции у =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BB1B-C8BC-400B-9696-27C5B85CD453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24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D171-05B4-4486-AC8A-12CB1B766CE5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66"/>
                </a:solidFill>
                <a:latin typeface="Times New Roman"/>
              </a:rPr>
              <a:t>Преобразование графиков</a:t>
            </a:r>
            <a:br>
              <a:rPr sz="1400"/>
            </a:br>
            <a:r>
              <a:rPr b="1" i="1" lang="ru-RU" sz="1400" spc="-1" strike="noStrike">
                <a:solidFill>
                  <a:srgbClr val="ff0066"/>
                </a:solidFill>
                <a:latin typeface="Times New Roman"/>
              </a:rPr>
              <a:t> тригонометрических функ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+в) получается из графика функции  у = </a:t>
            </a: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(-в) единиц вдоль оси абсци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)+а получается из графика функции  у = </a:t>
            </a: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(а) единиц вдоль оси ордин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3832-FB45-4C04-AA6C-D433E866BE30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2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312D-F5F5-456B-B41D-4FA7AD7218CF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995F-6C5B-4166-B819-4726C42A805E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32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CF65-A2B8-49E6-8735-5FB0251D532D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80D9-D5E9-4F07-9E01-1A8E903A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C292-BF7E-4D2A-A4F6-158229A4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0E33-6223-4252-AD2E-1D544B4B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DCB2-317E-4B35-9703-BFFAFB84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64CE-505B-4E3A-83DF-1B77F6F4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2EFE-47B8-4372-9C79-1CE78197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562E-4716-4535-8897-6F863068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58F7-4621-4A4A-9A50-DA1AD9E4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106C-070F-4580-9CDC-821AAFD6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2934-F80A-48EC-9AF2-F64DC535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A8BF-B51E-4193-BB06-A3690983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D70A-7085-4A4C-8FEF-B2E67D2F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BD48-642B-48B1-A7FF-CF806D5A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3A6E-046D-4D91-8AAA-C518F724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1280-1358-4F18-BAF3-62521D83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9844-EE1C-494D-B2F2-D161EF63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0B54-4078-457A-85DA-0C046F69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EEC0-0C07-407F-BAED-574B2BE0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1B20-6FE5-49B5-AD88-356225E2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50C9-1817-43D3-9D02-5D8A91AA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28D1-EE5B-412A-A677-4769F5C2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4207-78BE-4BB7-B824-65D5D9B7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C87E-EC51-411F-84E8-347B1CCB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78BB-D6A4-4FFC-9292-4063E514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45472"/>
                </a:solidFill>
                <a:latin typeface="Times New Roman"/>
              </a:rPr>
              <a:t>тригонометрические фун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A539-E326-432F-B0E1-9C1B5820DE9D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45472"/>
                </a:solidFill>
                <a:latin typeface="Times New Roman"/>
              </a:rPr>
              <a:t>тригонометрические фун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03C3-2B8E-4793-9A28-A82A00BDD5ED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66ff"/>
                </a:solidFill>
                <a:uFillTx/>
                <a:latin typeface="Times New Roman"/>
              </a:rPr>
              <a:t>Графики тригонометрических</a:t>
            </a:r>
            <a:r>
              <a:rPr b="0" lang="ru-RU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ru-RU" sz="3200" spc="-1" strike="noStrike" u="sng">
                <a:solidFill>
                  <a:srgbClr val="ff66ff"/>
                </a:solidFill>
                <a:uFillTx/>
                <a:latin typeface="Times New Roman"/>
              </a:rPr>
              <a:t>функций</a:t>
            </a:r>
            <a:r>
              <a:rPr b="0" lang="ru-RU" sz="44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44" name="Object 5"/>
          <p:cNvGraphicFramePr/>
          <p:nvPr/>
        </p:nvGraphicFramePr>
        <p:xfrm>
          <a:off x="228600" y="2671920"/>
          <a:ext cx="2438280" cy="23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671920"/>
                    <a:ext cx="2438280" cy="23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6"/>
          <p:cNvSpPr/>
          <p:nvPr/>
        </p:nvSpPr>
        <p:spPr>
          <a:xfrm>
            <a:off x="3048120" y="2133720"/>
            <a:ext cx="5867280" cy="32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e8"/>
                </a:solidFill>
                <a:uFillTx/>
                <a:latin typeface="Arial Unicode MS"/>
                <a:hlinkClick r:id="rId4" action="ppaction://hlinksldjump"/>
              </a:rPr>
              <a:t>Функция у =</a:t>
            </a:r>
            <a:r>
              <a:rPr b="1" lang="en-US" sz="2400" spc="-1" strike="noStrike" u="sng">
                <a:solidFill>
                  <a:srgbClr val="0000e8"/>
                </a:solidFill>
                <a:uFillTx/>
                <a:latin typeface="Arial Unicode MS"/>
                <a:hlinkClick r:id="rId5" action="ppaction://hlinksldjump"/>
              </a:rPr>
              <a:t> sin x,</a:t>
            </a:r>
            <a:r>
              <a:rPr b="1" lang="ru-RU" sz="2400" spc="-1" strike="noStrike" u="sng">
                <a:solidFill>
                  <a:srgbClr val="0000e8"/>
                </a:solidFill>
                <a:uFillTx/>
                <a:latin typeface="Arial Unicode MS"/>
                <a:hlinkClick r:id="rId6" action="ppaction://hlinksldjump"/>
              </a:rPr>
              <a:t> ее свойства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19f5"/>
                </a:solidFill>
                <a:latin typeface="Arial Unicode MS"/>
              </a:rPr>
              <a:t>Преобразование графиков тригонометрических     функций путем параллельного переноса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19f5"/>
                </a:solidFill>
                <a:latin typeface="Arial Unicode MS"/>
              </a:rPr>
              <a:t>Преобразование графиков тригонометрических      функций путем сжатия и расширения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19f5"/>
                </a:solidFill>
                <a:latin typeface="Arial Unicode MS"/>
              </a:rPr>
              <a:t>Для любознательных…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5105520" cy="83844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705720" cy="41133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5562720" y="2971800"/>
            <a:ext cx="1295280" cy="30492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sin (x+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4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1447920" y="1676520"/>
            <a:ext cx="2057400" cy="60948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Постройте график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функции: 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=sin (x -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6)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1828800" y="2286000"/>
            <a:ext cx="1447920" cy="609480"/>
          </a:xfrm>
          <a:prstGeom prst="rect">
            <a:avLst/>
          </a:prstGeom>
          <a:solidFill>
            <a:srgbClr val="f0f6f8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5715000" cy="7617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295280" y="1494000"/>
            <a:ext cx="6400800" cy="44798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8"/>
          <p:cNvSpPr/>
          <p:nvPr/>
        </p:nvSpPr>
        <p:spPr>
          <a:xfrm>
            <a:off x="1600200" y="1703520"/>
            <a:ext cx="1676520" cy="88740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829160" y="2071800"/>
            <a:ext cx="11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 sin x +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1523880" y="170352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Постройте график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функции: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867280" y="3124080"/>
            <a:ext cx="1143000" cy="30492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sin (x -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6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036"/>
          <p:cNvSpPr/>
          <p:nvPr/>
        </p:nvSpPr>
        <p:spPr>
          <a:xfrm>
            <a:off x="7620120" y="5362560"/>
            <a:ext cx="1515960" cy="56052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5105520" cy="83844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2" name="Picture 1030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00800" cy="44193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031"/>
          <p:cNvSpPr/>
          <p:nvPr/>
        </p:nvSpPr>
        <p:spPr>
          <a:xfrm>
            <a:off x="5794200" y="20700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4129"/>
                </a:solidFill>
                <a:latin typeface="Arial Unicode MS"/>
              </a:rPr>
              <a:t>y= sin x +</a:t>
            </a:r>
            <a:r>
              <a:rPr b="1" lang="ru-RU" sz="1400" spc="-1" strike="noStrike">
                <a:solidFill>
                  <a:srgbClr val="f54129"/>
                </a:solidFill>
                <a:latin typeface="Symbol"/>
                <a:ea typeface="Symbol"/>
              </a:rPr>
              <a:t>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4" name="Text Box 1032"/>
          <p:cNvSpPr/>
          <p:nvPr/>
        </p:nvSpPr>
        <p:spPr>
          <a:xfrm>
            <a:off x="1660680" y="51944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5" name="Rectangle 1033"/>
          <p:cNvSpPr/>
          <p:nvPr/>
        </p:nvSpPr>
        <p:spPr>
          <a:xfrm>
            <a:off x="1660680" y="5194440"/>
            <a:ext cx="2057400" cy="60948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Постройте график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функции: 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=sin (x +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2)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6" name="Text Box 1034"/>
          <p:cNvSpPr/>
          <p:nvPr/>
        </p:nvSpPr>
        <p:spPr>
          <a:xfrm>
            <a:off x="7621560" y="536256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7" name="AutoShape 1035"/>
          <p:cNvSpPr/>
          <p:nvPr/>
        </p:nvSpPr>
        <p:spPr>
          <a:xfrm>
            <a:off x="8678880" y="5499000"/>
            <a:ext cx="457200" cy="3445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44520"/>
              <a:gd name="textAreaBottom" fmla="*/ 322200 h 344520"/>
            </a:gdLst>
            <a:ahLst/>
            <a:rect l="textAreaLeft" t="textAreaTop" r="textAreaRight" b="textAreaBottom"/>
            <a:pathLst>
              <a:path w="28657" h="21600">
                <a:moveTo>
                  <a:pt x="0" y="0"/>
                </a:moveTo>
                <a:lnTo>
                  <a:pt x="28657" y="0"/>
                </a:lnTo>
                <a:lnTo>
                  <a:pt x="28657" y="21600"/>
                </a:lnTo>
                <a:lnTo>
                  <a:pt x="0" y="21600"/>
                </a:lnTo>
                <a:close/>
              </a:path>
              <a:path fill="lightenLess" w="28657" h="21600">
                <a:moveTo>
                  <a:pt x="0" y="0"/>
                </a:moveTo>
                <a:lnTo>
                  <a:pt x="28657" y="0"/>
                </a:lnTo>
                <a:lnTo>
                  <a:pt x="27257" y="1400"/>
                </a:lnTo>
                <a:lnTo>
                  <a:pt x="1400" y="1400"/>
                </a:lnTo>
                <a:close/>
              </a:path>
              <a:path fill="darken" w="28657" h="21600">
                <a:moveTo>
                  <a:pt x="28657" y="0"/>
                </a:moveTo>
                <a:lnTo>
                  <a:pt x="28657" y="21600"/>
                </a:lnTo>
                <a:lnTo>
                  <a:pt x="27257" y="20200"/>
                </a:lnTo>
                <a:lnTo>
                  <a:pt x="27257" y="1400"/>
                </a:lnTo>
                <a:close/>
              </a:path>
              <a:path fill="darkenLess" w="28657" h="21600">
                <a:moveTo>
                  <a:pt x="28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57" y="20200"/>
                </a:lnTo>
                <a:close/>
              </a:path>
              <a:path fill="lighten" w="28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57" h="21600">
                <a:moveTo>
                  <a:pt x="7322" y="10800"/>
                </a:moveTo>
                <a:lnTo>
                  <a:pt x="21335" y="3794"/>
                </a:lnTo>
                <a:lnTo>
                  <a:pt x="21335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996840" y="914400"/>
            <a:ext cx="7183800" cy="459720"/>
          </a:xfrm>
          <a:prstGeom prst="rect">
            <a:avLst/>
          </a:prstGeom>
          <a:solidFill>
            <a:srgbClr val="95e3eb"/>
          </a:solidFill>
          <a:ln w="9360">
            <a:solidFill>
              <a:srgbClr val="42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Графиком функции </a:t>
            </a:r>
            <a:r>
              <a:rPr b="1" i="1" lang="ru-RU" sz="2400" spc="-1" strike="noStrike">
                <a:solidFill>
                  <a:srgbClr val="420a16"/>
                </a:solidFill>
                <a:latin typeface="Times New Roman"/>
              </a:rPr>
              <a:t>у = </a:t>
            </a:r>
            <a:r>
              <a:rPr b="1" i="1" lang="en-US" sz="2400" spc="-1" strike="noStrike">
                <a:solidFill>
                  <a:srgbClr val="420a16"/>
                </a:solidFill>
                <a:latin typeface="Times New Roman"/>
              </a:rPr>
              <a:t>cos x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является </a:t>
            </a:r>
            <a:r>
              <a:rPr b="1" i="1" lang="ru-RU" sz="2400" spc="-1" strike="noStrike">
                <a:solidFill>
                  <a:srgbClr val="13131b"/>
                </a:solidFill>
                <a:latin typeface="Times New Roman"/>
              </a:rPr>
              <a:t>косинусоида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609480" y="4343400"/>
            <a:ext cx="3048120" cy="703800"/>
          </a:xfrm>
          <a:prstGeom prst="rect">
            <a:avLst/>
          </a:prstGeom>
          <a:solidFill>
            <a:srgbClr val="aceffa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еречислите свойства 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функции у =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cos x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305240" cy="43052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8"/>
          <p:cNvSpPr/>
          <p:nvPr/>
        </p:nvSpPr>
        <p:spPr>
          <a:xfrm>
            <a:off x="609480" y="2633760"/>
            <a:ext cx="2835360" cy="398880"/>
          </a:xfrm>
          <a:prstGeom prst="rect">
            <a:avLst/>
          </a:prstGeom>
          <a:solidFill>
            <a:srgbClr val="aceffa"/>
          </a:solidFill>
          <a:ln w="1260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sin(x+</a:t>
            </a:r>
            <a:r>
              <a:rPr b="1" i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2)=cos x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23" name="AutoShape 9">
            <a:hlinkClick r:id="" action="ppaction://hlinkshowjump?jump=firstslide"/>
          </p:cNvPr>
          <p:cNvSpPr/>
          <p:nvPr/>
        </p:nvSpPr>
        <p:spPr>
          <a:xfrm>
            <a:off x="2362320" y="6324480"/>
            <a:ext cx="320400" cy="381240"/>
          </a:xfrm>
          <a:custGeom>
            <a:avLst/>
            <a:gdLst>
              <a:gd name="textAreaLeft" fmla="*/ 20520 w 320400"/>
              <a:gd name="textAreaRight" fmla="*/ 299880 w 320400"/>
              <a:gd name="textAreaTop" fmla="*/ 20520 h 381240"/>
              <a:gd name="textAreaBottom" fmla="*/ 360720 h 381240"/>
            </a:gdLst>
            <a:ahLst/>
            <a:rect l="textAreaLeft" t="textAreaTop" r="textAreaRight" b="textAreaBottom"/>
            <a:pathLst>
              <a:path w="21600" h="25697">
                <a:moveTo>
                  <a:pt x="0" y="0"/>
                </a:moveTo>
                <a:lnTo>
                  <a:pt x="21600" y="0"/>
                </a:lnTo>
                <a:lnTo>
                  <a:pt x="21600" y="25697"/>
                </a:lnTo>
                <a:lnTo>
                  <a:pt x="0" y="25697"/>
                </a:lnTo>
                <a:close/>
              </a:path>
              <a:path fill="lightenLess" w="21600" h="25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97">
                <a:moveTo>
                  <a:pt x="21600" y="0"/>
                </a:moveTo>
                <a:lnTo>
                  <a:pt x="21600" y="25697"/>
                </a:lnTo>
                <a:lnTo>
                  <a:pt x="20200" y="24297"/>
                </a:lnTo>
                <a:lnTo>
                  <a:pt x="20200" y="1400"/>
                </a:lnTo>
                <a:close/>
              </a:path>
              <a:path fill="darkenLess" w="21600" h="25697">
                <a:moveTo>
                  <a:pt x="21600" y="25697"/>
                </a:moveTo>
                <a:lnTo>
                  <a:pt x="0" y="25697"/>
                </a:lnTo>
                <a:lnTo>
                  <a:pt x="1400" y="24297"/>
                </a:lnTo>
                <a:lnTo>
                  <a:pt x="20200" y="24297"/>
                </a:lnTo>
                <a:close/>
              </a:path>
              <a:path fill="lighten" w="21600" h="25697">
                <a:moveTo>
                  <a:pt x="0" y="25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97"/>
                </a:lnTo>
                <a:close/>
              </a:path>
              <a:path fill="darken" w="21600" h="25697">
                <a:moveTo>
                  <a:pt x="3794" y="12848"/>
                </a:moveTo>
                <a:lnTo>
                  <a:pt x="17806" y="5842"/>
                </a:lnTo>
                <a:lnTo>
                  <a:pt x="17806" y="19855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6095880" cy="13716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69960" y="2556000"/>
            <a:ext cx="7772400" cy="25905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получается из графика функци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растяжен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&gt;1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ординат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f (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получается из графика функции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сжат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0&lt;k&lt;1)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ординат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27" name="Picture 8" descr="bd15354_"/>
          <p:cNvPicPr/>
          <p:nvPr/>
        </p:nvPicPr>
        <p:blipFill>
          <a:blip r:embed="rId4"/>
          <a:stretch/>
        </p:blipFill>
        <p:spPr>
          <a:xfrm>
            <a:off x="669960" y="1066680"/>
            <a:ext cx="388800" cy="63972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9">
            <a:hlinkClick r:id="" action="ppaction://hlinkshowjump?jump=previousslide"/>
          </p:cNvPr>
          <p:cNvSpPr/>
          <p:nvPr/>
        </p:nvSpPr>
        <p:spPr>
          <a:xfrm>
            <a:off x="36504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7493"/>
                </a:moveTo>
                <a:lnTo>
                  <a:pt x="7314" y="7493"/>
                </a:lnTo>
                <a:lnTo>
                  <a:pt x="7314" y="12828"/>
                </a:lnTo>
                <a:cubicBezTo>
                  <a:pt x="7314" y="13751"/>
                  <a:pt x="8115" y="14482"/>
                  <a:pt x="9150" y="14482"/>
                </a:cubicBezTo>
                <a:lnTo>
                  <a:pt x="10813" y="14482"/>
                </a:lnTo>
                <a:cubicBezTo>
                  <a:pt x="11848" y="14482"/>
                  <a:pt x="12649" y="13751"/>
                  <a:pt x="12649" y="12828"/>
                </a:cubicBezTo>
                <a:lnTo>
                  <a:pt x="12649" y="7493"/>
                </a:lnTo>
                <a:lnTo>
                  <a:pt x="10813" y="7493"/>
                </a:lnTo>
                <a:lnTo>
                  <a:pt x="14320" y="3985"/>
                </a:lnTo>
                <a:lnTo>
                  <a:pt x="17993" y="7493"/>
                </a:lnTo>
                <a:lnTo>
                  <a:pt x="16157" y="7493"/>
                </a:lnTo>
                <a:lnTo>
                  <a:pt x="16157" y="12828"/>
                </a:lnTo>
                <a:cubicBezTo>
                  <a:pt x="16157" y="15596"/>
                  <a:pt x="13581" y="18155"/>
                  <a:pt x="10813" y="18155"/>
                </a:cubicBezTo>
                <a:lnTo>
                  <a:pt x="9150" y="18155"/>
                </a:lnTo>
                <a:cubicBezTo>
                  <a:pt x="6383" y="18155"/>
                  <a:pt x="3806" y="15596"/>
                  <a:pt x="3806" y="12828"/>
                </a:cubicBez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1"/>
          <p:cNvSpPr/>
          <p:nvPr/>
        </p:nvSpPr>
        <p:spPr>
          <a:xfrm>
            <a:off x="7315200" y="5715000"/>
            <a:ext cx="1379520" cy="56052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594360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699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669960" y="1763640"/>
            <a:ext cx="7543800" cy="395136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6166440" y="301320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bb80e"/>
                </a:solidFill>
                <a:latin typeface="Times New Roman"/>
              </a:rPr>
              <a:t>y=sin2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5396400" y="198108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ff6"/>
                </a:solidFill>
                <a:latin typeface="Times New Roman"/>
              </a:rPr>
              <a:t>y=sin4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7071840" y="404964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a0c9d"/>
                </a:solidFill>
                <a:latin typeface="Times New Roman"/>
              </a:rPr>
              <a:t>Y=sin0.5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7316640" y="571500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8373960" y="5715000"/>
            <a:ext cx="320760" cy="293760"/>
          </a:xfrm>
          <a:custGeom>
            <a:avLst/>
            <a:gdLst>
              <a:gd name="textAreaLeft" fmla="*/ 18720 w 320760"/>
              <a:gd name="textAreaRight" fmla="*/ 302040 w 320760"/>
              <a:gd name="textAreaTop" fmla="*/ 18720 h 293760"/>
              <a:gd name="textAreaBottom" fmla="*/ 275040 h 293760"/>
            </a:gdLst>
            <a:ahLst/>
            <a:rect l="textAreaLeft" t="textAreaTop" r="textAreaRight" b="textAreaBottom"/>
            <a:pathLst>
              <a:path w="23583" h="21600">
                <a:moveTo>
                  <a:pt x="0" y="0"/>
                </a:moveTo>
                <a:lnTo>
                  <a:pt x="23583" y="0"/>
                </a:lnTo>
                <a:lnTo>
                  <a:pt x="23583" y="21600"/>
                </a:lnTo>
                <a:lnTo>
                  <a:pt x="0" y="21600"/>
                </a:lnTo>
                <a:close/>
              </a:path>
              <a:path fill="lightenLess" w="23583" h="21600">
                <a:moveTo>
                  <a:pt x="0" y="0"/>
                </a:moveTo>
                <a:lnTo>
                  <a:pt x="23583" y="0"/>
                </a:lnTo>
                <a:lnTo>
                  <a:pt x="22183" y="1400"/>
                </a:lnTo>
                <a:lnTo>
                  <a:pt x="1400" y="1400"/>
                </a:lnTo>
                <a:close/>
              </a:path>
              <a:path fill="darken" w="23583" h="21600">
                <a:moveTo>
                  <a:pt x="23583" y="0"/>
                </a:moveTo>
                <a:lnTo>
                  <a:pt x="23583" y="21600"/>
                </a:lnTo>
                <a:lnTo>
                  <a:pt x="22183" y="20200"/>
                </a:lnTo>
                <a:lnTo>
                  <a:pt x="22183" y="1400"/>
                </a:lnTo>
                <a:close/>
              </a:path>
              <a:path fill="darkenLess" w="23583" h="21600">
                <a:moveTo>
                  <a:pt x="23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83" y="20200"/>
                </a:lnTo>
                <a:close/>
              </a:path>
              <a:path fill="lighten" w="23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83" h="21600">
                <a:moveTo>
                  <a:pt x="4785" y="10800"/>
                </a:moveTo>
                <a:lnTo>
                  <a:pt x="18798" y="3794"/>
                </a:lnTo>
                <a:lnTo>
                  <a:pt x="18798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943600" cy="12189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6699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762120" y="2895480"/>
            <a:ext cx="7772400" cy="2057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k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получается из графика функци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сжат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&gt;1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абсцисс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k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получается из графика функции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растяжен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0&lt;k&lt;1)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абсцисс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43" name="Picture 5" descr="BD15018_"/>
          <p:cNvPicPr/>
          <p:nvPr/>
        </p:nvPicPr>
        <p:blipFill>
          <a:blip r:embed="rId4"/>
          <a:stretch/>
        </p:blipFill>
        <p:spPr>
          <a:xfrm>
            <a:off x="939960" y="3352680"/>
            <a:ext cx="171360" cy="171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BD15018_"/>
          <p:cNvPicPr/>
          <p:nvPr/>
        </p:nvPicPr>
        <p:blipFill>
          <a:blip r:embed="rId5"/>
          <a:stretch/>
        </p:blipFill>
        <p:spPr>
          <a:xfrm>
            <a:off x="939960" y="396252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bd15354_"/>
          <p:cNvPicPr/>
          <p:nvPr/>
        </p:nvPicPr>
        <p:blipFill>
          <a:blip r:embed="rId6"/>
          <a:stretch/>
        </p:blipFill>
        <p:spPr>
          <a:xfrm>
            <a:off x="762120" y="1249200"/>
            <a:ext cx="388800" cy="64008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8">
            <a:hlinkClick r:id="" action="ppaction://hlinkshowjump?jump=previousslide"/>
          </p:cNvPr>
          <p:cNvSpPr/>
          <p:nvPr/>
        </p:nvSpPr>
        <p:spPr>
          <a:xfrm>
            <a:off x="289080" y="57913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3"/>
          <p:cNvSpPr/>
          <p:nvPr/>
        </p:nvSpPr>
        <p:spPr>
          <a:xfrm>
            <a:off x="5851440" y="6297480"/>
            <a:ext cx="1285920" cy="45720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5943600" cy="1143000"/>
          </a:xfrm>
          <a:prstGeom prst="rect">
            <a:avLst/>
          </a:prstGeom>
          <a:solidFill>
            <a:srgbClr val="95e3e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0" name="Picture 8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05720" cy="40399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9"/>
          <p:cNvSpPr/>
          <p:nvPr/>
        </p:nvSpPr>
        <p:spPr>
          <a:xfrm>
            <a:off x="6257520" y="3211560"/>
            <a:ext cx="8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2dca"/>
                </a:solidFill>
                <a:latin typeface="Times New Roman"/>
              </a:rPr>
              <a:t>y = cos2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6257520" y="443088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y = cos 0.5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5853240" y="629748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54" name="AutoShape 12"/>
          <p:cNvSpPr/>
          <p:nvPr/>
        </p:nvSpPr>
        <p:spPr>
          <a:xfrm>
            <a:off x="6910560" y="6450120"/>
            <a:ext cx="226800" cy="304560"/>
          </a:xfrm>
          <a:custGeom>
            <a:avLst/>
            <a:gdLst>
              <a:gd name="textAreaLeft" fmla="*/ 14400 w 226800"/>
              <a:gd name="textAreaRight" fmla="*/ 212400 w 226800"/>
              <a:gd name="textAreaTop" fmla="*/ 14400 h 304560"/>
              <a:gd name="textAreaBottom" fmla="*/ 290160 h 304560"/>
            </a:gdLst>
            <a:ahLst/>
            <a:rect l="textAreaLeft" t="textAreaTop" r="textAreaRight" b="textAreaBottom"/>
            <a:pathLst>
              <a:path w="21600" h="28994">
                <a:moveTo>
                  <a:pt x="0" y="0"/>
                </a:moveTo>
                <a:lnTo>
                  <a:pt x="21600" y="0"/>
                </a:lnTo>
                <a:lnTo>
                  <a:pt x="21600" y="28994"/>
                </a:lnTo>
                <a:lnTo>
                  <a:pt x="0" y="28994"/>
                </a:lnTo>
                <a:close/>
              </a:path>
              <a:path fill="lightenLess" w="21600" h="28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94">
                <a:moveTo>
                  <a:pt x="21600" y="0"/>
                </a:moveTo>
                <a:lnTo>
                  <a:pt x="21600" y="28994"/>
                </a:lnTo>
                <a:lnTo>
                  <a:pt x="20200" y="27594"/>
                </a:lnTo>
                <a:lnTo>
                  <a:pt x="20200" y="1400"/>
                </a:lnTo>
                <a:close/>
              </a:path>
              <a:path fill="darkenLess" w="21600" h="28994">
                <a:moveTo>
                  <a:pt x="21600" y="28994"/>
                </a:moveTo>
                <a:lnTo>
                  <a:pt x="0" y="28994"/>
                </a:lnTo>
                <a:lnTo>
                  <a:pt x="1400" y="27594"/>
                </a:lnTo>
                <a:lnTo>
                  <a:pt x="20200" y="27594"/>
                </a:lnTo>
                <a:close/>
              </a:path>
              <a:path fill="lighten" w="21600" h="28994">
                <a:moveTo>
                  <a:pt x="0" y="28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94"/>
                </a:lnTo>
                <a:close/>
              </a:path>
              <a:path fill="darken" w="21600" h="28994">
                <a:moveTo>
                  <a:pt x="3794" y="14497"/>
                </a:moveTo>
                <a:lnTo>
                  <a:pt x="17806" y="7491"/>
                </a:lnTo>
                <a:lnTo>
                  <a:pt x="17806" y="21503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47920" y="1142640"/>
            <a:ext cx="594360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669960" y="2743200"/>
            <a:ext cx="7772400" cy="2057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и функций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-f (k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и у=-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f(x)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получаются из графиков функций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k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y= k 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соответственно   путем их зеркального отображения относительно оси абсцисс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синус – функция нечетная, поэтому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sin(-kx) = - sin (kx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косинус –функция четная, значит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cos(-kx) = cos(kx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58" name="Picture 8" descr="bd13742_"/>
          <p:cNvPicPr/>
          <p:nvPr/>
        </p:nvPicPr>
        <p:blipFill>
          <a:blip r:embed="rId3"/>
          <a:stretch/>
        </p:blipFill>
        <p:spPr>
          <a:xfrm>
            <a:off x="658800" y="1646280"/>
            <a:ext cx="388800" cy="6397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9">
            <a:hlinkClick r:id="" action="ppaction://hlinkshowjump?jump=previousslide"/>
          </p:cNvPr>
          <p:cNvSpPr/>
          <p:nvPr/>
        </p:nvSpPr>
        <p:spPr>
          <a:xfrm>
            <a:off x="35388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7493"/>
                </a:moveTo>
                <a:lnTo>
                  <a:pt x="7314" y="7493"/>
                </a:lnTo>
                <a:lnTo>
                  <a:pt x="7314" y="12828"/>
                </a:lnTo>
                <a:cubicBezTo>
                  <a:pt x="7314" y="13751"/>
                  <a:pt x="8115" y="14482"/>
                  <a:pt x="9150" y="14482"/>
                </a:cubicBezTo>
                <a:lnTo>
                  <a:pt x="10813" y="14482"/>
                </a:lnTo>
                <a:cubicBezTo>
                  <a:pt x="11848" y="14482"/>
                  <a:pt x="12649" y="13751"/>
                  <a:pt x="12649" y="12828"/>
                </a:cubicBezTo>
                <a:lnTo>
                  <a:pt x="12649" y="7493"/>
                </a:lnTo>
                <a:lnTo>
                  <a:pt x="10813" y="7493"/>
                </a:lnTo>
                <a:lnTo>
                  <a:pt x="14320" y="3985"/>
                </a:lnTo>
                <a:lnTo>
                  <a:pt x="17993" y="7493"/>
                </a:lnTo>
                <a:lnTo>
                  <a:pt x="16157" y="7493"/>
                </a:lnTo>
                <a:lnTo>
                  <a:pt x="16157" y="12828"/>
                </a:lnTo>
                <a:cubicBezTo>
                  <a:pt x="16157" y="15596"/>
                  <a:pt x="13581" y="18155"/>
                  <a:pt x="10813" y="18155"/>
                </a:cubicBezTo>
                <a:lnTo>
                  <a:pt x="9150" y="18155"/>
                </a:lnTo>
                <a:cubicBezTo>
                  <a:pt x="6383" y="18155"/>
                  <a:pt x="3806" y="15596"/>
                  <a:pt x="3806" y="12828"/>
                </a:cubicBez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1"/>
          <p:cNvSpPr/>
          <p:nvPr/>
        </p:nvSpPr>
        <p:spPr>
          <a:xfrm>
            <a:off x="6208560" y="6172200"/>
            <a:ext cx="1463760" cy="52236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418680"/>
            <a:ext cx="640080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990720" y="1763640"/>
            <a:ext cx="7238880" cy="43704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7"/>
          <p:cNvSpPr/>
          <p:nvPr/>
        </p:nvSpPr>
        <p:spPr>
          <a:xfrm>
            <a:off x="6507720" y="236232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25a5"/>
                </a:solidFill>
                <a:latin typeface="Times New Roman"/>
              </a:rPr>
              <a:t>y = </a:t>
            </a:r>
            <a:r>
              <a:rPr b="1" lang="ru-RU" sz="1400" spc="-1" strike="noStrike">
                <a:solidFill>
                  <a:srgbClr val="0725a5"/>
                </a:solidFill>
                <a:latin typeface="Times New Roman"/>
              </a:rPr>
              <a:t>-</a:t>
            </a:r>
            <a:r>
              <a:rPr b="1" lang="en-US" sz="1400" spc="-1" strike="noStrike">
                <a:solidFill>
                  <a:srgbClr val="0725a5"/>
                </a:solidFill>
                <a:latin typeface="Times New Roman"/>
              </a:rPr>
              <a:t>sin3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6508080" y="51926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y =  sin3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6234120" y="613404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7291440" y="6188040"/>
            <a:ext cx="380880" cy="293760"/>
          </a:xfrm>
          <a:custGeom>
            <a:avLst/>
            <a:gdLst>
              <a:gd name="textAreaLeft" fmla="*/ 18720 w 380880"/>
              <a:gd name="textAreaRight" fmla="*/ 362160 w 380880"/>
              <a:gd name="textAreaTop" fmla="*/ 18720 h 293760"/>
              <a:gd name="textAreaBottom" fmla="*/ 275040 h 293760"/>
            </a:gdLst>
            <a:ahLst/>
            <a:rect l="textAreaLeft" t="textAreaTop" r="textAreaRight" b="textAreaBottom"/>
            <a:pathLst>
              <a:path w="27998" h="21600">
                <a:moveTo>
                  <a:pt x="0" y="0"/>
                </a:moveTo>
                <a:lnTo>
                  <a:pt x="27998" y="0"/>
                </a:lnTo>
                <a:lnTo>
                  <a:pt x="27998" y="21600"/>
                </a:lnTo>
                <a:lnTo>
                  <a:pt x="0" y="21600"/>
                </a:lnTo>
                <a:close/>
              </a:path>
              <a:path fill="lightenLess" w="27998" h="21600">
                <a:moveTo>
                  <a:pt x="0" y="0"/>
                </a:moveTo>
                <a:lnTo>
                  <a:pt x="27998" y="0"/>
                </a:lnTo>
                <a:lnTo>
                  <a:pt x="26598" y="1400"/>
                </a:lnTo>
                <a:lnTo>
                  <a:pt x="1400" y="1400"/>
                </a:lnTo>
                <a:close/>
              </a:path>
              <a:path fill="darken" w="27998" h="21600">
                <a:moveTo>
                  <a:pt x="27998" y="0"/>
                </a:moveTo>
                <a:lnTo>
                  <a:pt x="27998" y="21600"/>
                </a:lnTo>
                <a:lnTo>
                  <a:pt x="26598" y="20200"/>
                </a:lnTo>
                <a:lnTo>
                  <a:pt x="26598" y="1400"/>
                </a:lnTo>
                <a:close/>
              </a:path>
              <a:path fill="darkenLess" w="27998" h="21600">
                <a:moveTo>
                  <a:pt x="27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98" y="20200"/>
                </a:lnTo>
                <a:close/>
              </a:path>
              <a:path fill="lighten" w="27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98" h="21600">
                <a:moveTo>
                  <a:pt x="6993" y="10800"/>
                </a:moveTo>
                <a:lnTo>
                  <a:pt x="21006" y="3794"/>
                </a:lnTo>
                <a:lnTo>
                  <a:pt x="21006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996840" y="914400"/>
            <a:ext cx="6843960" cy="459720"/>
          </a:xfrm>
          <a:prstGeom prst="rect">
            <a:avLst/>
          </a:prstGeom>
          <a:solidFill>
            <a:srgbClr val="95e3eb"/>
          </a:solidFill>
          <a:ln w="9360">
            <a:solidFill>
              <a:srgbClr val="42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Графиком функции </a:t>
            </a:r>
            <a:r>
              <a:rPr b="1" i="1" lang="ru-RU" sz="2400" spc="-1" strike="noStrike">
                <a:solidFill>
                  <a:srgbClr val="420a16"/>
                </a:solidFill>
                <a:latin typeface="Times New Roman"/>
              </a:rPr>
              <a:t>у = </a:t>
            </a:r>
            <a:r>
              <a:rPr b="1" i="1" lang="en-US" sz="2400" spc="-1" strike="noStrike">
                <a:solidFill>
                  <a:srgbClr val="420a16"/>
                </a:solidFill>
                <a:latin typeface="Times New Roman"/>
              </a:rPr>
              <a:t>sin x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является </a:t>
            </a:r>
            <a:r>
              <a:rPr b="1" i="1" lang="ru-RU" sz="2400" spc="-1" strike="noStrike">
                <a:solidFill>
                  <a:srgbClr val="13131b"/>
                </a:solidFill>
                <a:latin typeface="Times New Roman"/>
              </a:rPr>
              <a:t>синусоида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09480" y="2590920"/>
            <a:ext cx="3810240" cy="1923480"/>
          </a:xfrm>
          <a:prstGeom prst="rect">
            <a:avLst/>
          </a:prstGeom>
          <a:solidFill>
            <a:srgbClr val="aceffa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Свойства функции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D(y) =R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ериодическая (Т=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Нечетная (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sin(-x)=-sin x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Нули функции: 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у=0,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sin x=0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и х =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, 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49" name="Object 1024"/>
          <p:cNvGraphicFramePr/>
          <p:nvPr/>
        </p:nvGraphicFramePr>
        <p:xfrm>
          <a:off x="4648320" y="1752480"/>
          <a:ext cx="4038480" cy="39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52480"/>
                    <a:ext cx="4038480" cy="39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9"/>
          <p:cNvSpPr/>
          <p:nvPr/>
        </p:nvSpPr>
        <p:spPr>
          <a:xfrm>
            <a:off x="7505640" y="3160800"/>
            <a:ext cx="706680" cy="276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131b"/>
                </a:solidFill>
                <a:latin typeface="Arial Unicode MS"/>
              </a:rPr>
              <a:t>y=sin x</a:t>
            </a:r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8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2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0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564660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838080" y="1606680"/>
            <a:ext cx="6934320" cy="41083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6226920" y="25146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19f5"/>
                </a:solidFill>
                <a:latin typeface="Times New Roman"/>
              </a:rPr>
              <a:t>y=2cos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6226920" y="441972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y=-2cos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6548400" y="5715000"/>
            <a:ext cx="1452600" cy="49536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6549840" y="564984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5" name="AutoShape 10"/>
          <p:cNvSpPr/>
          <p:nvPr/>
        </p:nvSpPr>
        <p:spPr>
          <a:xfrm>
            <a:off x="7543800" y="5715000"/>
            <a:ext cx="457200" cy="343080"/>
          </a:xfrm>
          <a:custGeom>
            <a:avLst/>
            <a:gdLst>
              <a:gd name="textAreaLeft" fmla="*/ 21960 w 457200"/>
              <a:gd name="textAreaRight" fmla="*/ 435240 w 457200"/>
              <a:gd name="textAreaTop" fmla="*/ 21960 h 343080"/>
              <a:gd name="textAreaBottom" fmla="*/ 321120 h 343080"/>
            </a:gdLst>
            <a:ahLst/>
            <a:rect l="textAreaLeft" t="textAreaTop" r="textAreaRight" b="textAreaBottom"/>
            <a:pathLst>
              <a:path w="28777" h="21600">
                <a:moveTo>
                  <a:pt x="0" y="0"/>
                </a:moveTo>
                <a:lnTo>
                  <a:pt x="28777" y="0"/>
                </a:lnTo>
                <a:lnTo>
                  <a:pt x="28777" y="21600"/>
                </a:lnTo>
                <a:lnTo>
                  <a:pt x="0" y="21600"/>
                </a:lnTo>
                <a:close/>
              </a:path>
              <a:path fill="lightenLess" w="28777" h="21600">
                <a:moveTo>
                  <a:pt x="0" y="0"/>
                </a:moveTo>
                <a:lnTo>
                  <a:pt x="28777" y="0"/>
                </a:lnTo>
                <a:lnTo>
                  <a:pt x="27377" y="1400"/>
                </a:lnTo>
                <a:lnTo>
                  <a:pt x="1400" y="1400"/>
                </a:lnTo>
                <a:close/>
              </a:path>
              <a:path fill="darken" w="28777" h="21600">
                <a:moveTo>
                  <a:pt x="28777" y="0"/>
                </a:moveTo>
                <a:lnTo>
                  <a:pt x="28777" y="21600"/>
                </a:lnTo>
                <a:lnTo>
                  <a:pt x="27377" y="20200"/>
                </a:lnTo>
                <a:lnTo>
                  <a:pt x="27377" y="1400"/>
                </a:lnTo>
                <a:close/>
              </a:path>
              <a:path fill="darkenLess" w="28777" h="21600">
                <a:moveTo>
                  <a:pt x="28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7" y="20200"/>
                </a:lnTo>
                <a:close/>
              </a:path>
              <a:path fill="lighten" w="28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7" h="21600">
                <a:moveTo>
                  <a:pt x="7382" y="10800"/>
                </a:moveTo>
                <a:lnTo>
                  <a:pt x="21395" y="3794"/>
                </a:lnTo>
                <a:lnTo>
                  <a:pt x="21395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1218960"/>
            <a:ext cx="609588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6699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762120" y="2895480"/>
            <a:ext cx="7772400" cy="2057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</a:t>
            </a:r>
            <a:r>
              <a:rPr b="1" lang="ru-RU" sz="2000" spc="-1" strike="noStrike">
                <a:solidFill>
                  <a:srgbClr val="f54129"/>
                </a:solidFill>
                <a:latin typeface="Times New Roman"/>
              </a:rPr>
              <a:t>у = </a:t>
            </a:r>
            <a:r>
              <a:rPr b="1" lang="en-US" sz="2000" spc="-1" strike="noStrike">
                <a:solidFill>
                  <a:srgbClr val="f54129"/>
                </a:solidFill>
                <a:latin typeface="Times New Roman"/>
              </a:rPr>
              <a:t>f (kx+b</a:t>
            </a:r>
            <a:r>
              <a:rPr b="1" lang="ru-RU" sz="2000" spc="-1" strike="noStrike">
                <a:solidFill>
                  <a:srgbClr val="f54129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получается из графика функци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параллельного переноса на </a:t>
            </a:r>
            <a:r>
              <a:rPr b="1" lang="ru-RU" sz="2000" spc="-1" strike="noStrike">
                <a:solidFill>
                  <a:srgbClr val="f54129"/>
                </a:solidFill>
                <a:latin typeface="Times New Roman"/>
              </a:rPr>
              <a:t>(-в</a:t>
            </a:r>
            <a:r>
              <a:rPr b="1" lang="en-US" sz="2000" spc="-1" strike="noStrike">
                <a:solidFill>
                  <a:srgbClr val="f54129"/>
                </a:solidFill>
                <a:latin typeface="Times New Roman"/>
              </a:rPr>
              <a:t>/k)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единиц вдоль оси абсцисс и путем сжат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&gt;1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или растяжен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раз ( 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0&lt;k&lt;1)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абсцисс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54129"/>
                </a:solidFill>
                <a:latin typeface="Times New Roman"/>
              </a:rPr>
              <a:t>f ( kx+b) = f ( k( x+b/k)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80" name="Picture 7" descr="bd15361_"/>
          <p:cNvPicPr/>
          <p:nvPr/>
        </p:nvPicPr>
        <p:blipFill>
          <a:blip r:embed="rId3"/>
          <a:stretch/>
        </p:blipFill>
        <p:spPr>
          <a:xfrm>
            <a:off x="762120" y="1722600"/>
            <a:ext cx="388800" cy="63972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>
            <a:hlinkClick r:id="" action="ppaction://hlinkshowjump?jump=previousslide"/>
          </p:cNvPr>
          <p:cNvSpPr/>
          <p:nvPr/>
        </p:nvSpPr>
        <p:spPr>
          <a:xfrm>
            <a:off x="289080" y="57913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7"/>
          <p:cNvSpPr/>
          <p:nvPr/>
        </p:nvSpPr>
        <p:spPr>
          <a:xfrm>
            <a:off x="6497640" y="6221520"/>
            <a:ext cx="1366920" cy="56016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585144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5" name="Picture 6" descr=""/>
          <p:cNvPicPr/>
          <p:nvPr/>
        </p:nvPicPr>
        <p:blipFill>
          <a:blip r:embed="rId1"/>
          <a:stretch/>
        </p:blipFill>
        <p:spPr>
          <a:xfrm>
            <a:off x="380880" y="163836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"/>
          <p:cNvPicPr/>
          <p:nvPr/>
        </p:nvPicPr>
        <p:blipFill>
          <a:blip r:embed="rId2"/>
          <a:stretch/>
        </p:blipFill>
        <p:spPr>
          <a:xfrm>
            <a:off x="4800600" y="163836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8"/>
          <p:cNvSpPr/>
          <p:nvPr/>
        </p:nvSpPr>
        <p:spPr>
          <a:xfrm>
            <a:off x="2741760" y="4275000"/>
            <a:ext cx="133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Y= cos(2x+</a:t>
            </a:r>
            <a:r>
              <a:rPr b="1" lang="ru-RU" sz="1400" spc="-1" strike="noStrike">
                <a:solidFill>
                  <a:srgbClr val="f54129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/3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2874600" y="3056040"/>
            <a:ext cx="116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y=cos(x+</a:t>
            </a:r>
            <a:r>
              <a:rPr b="1" lang="ru-RU" sz="1400" spc="-1" strike="noStrike">
                <a:solidFill>
                  <a:srgbClr val="0000a8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/6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591120" y="2217600"/>
            <a:ext cx="14137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y= cos(2x+</a:t>
            </a:r>
            <a:r>
              <a:rPr b="1" lang="ru-RU" sz="1400" spc="-1" strike="noStrike">
                <a:solidFill>
                  <a:srgbClr val="01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/3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y= cos(2(x+</a:t>
            </a:r>
            <a:r>
              <a:rPr b="1" lang="ru-RU" sz="1400" spc="-1" strike="noStrike">
                <a:solidFill>
                  <a:srgbClr val="01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/6)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5086800" y="2217600"/>
            <a:ext cx="14137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y= cos(2x+</a:t>
            </a:r>
            <a:r>
              <a:rPr b="1" lang="ru-RU" sz="1400" spc="-1" strike="noStrike">
                <a:solidFill>
                  <a:srgbClr val="01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/3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y= cos(2(x+</a:t>
            </a:r>
            <a:r>
              <a:rPr b="1" lang="ru-RU" sz="1400" spc="-1" strike="noStrike">
                <a:solidFill>
                  <a:srgbClr val="01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/6)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7221960" y="4275000"/>
            <a:ext cx="133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Y= cos(2x+</a:t>
            </a:r>
            <a:r>
              <a:rPr b="1" lang="ru-RU" sz="1400" spc="-1" strike="noStrike">
                <a:solidFill>
                  <a:srgbClr val="f54129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/3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7543080" y="305928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y=cos2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3" name="AutoShape 14">
            <a:hlinkClick r:id="" action="ppaction://hlinkshowjump?jump=firstslide"/>
          </p:cNvPr>
          <p:cNvSpPr/>
          <p:nvPr/>
        </p:nvSpPr>
        <p:spPr>
          <a:xfrm>
            <a:off x="2647800" y="6400800"/>
            <a:ext cx="228600" cy="3808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0880"/>
              <a:gd name="textAreaBottom" fmla="*/ 36612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00" y="34566"/>
                </a:lnTo>
                <a:lnTo>
                  <a:pt x="20200" y="140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400" y="34566"/>
                </a:lnTo>
                <a:lnTo>
                  <a:pt x="20200" y="3456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66"/>
                </a:lnTo>
                <a:close/>
              </a:path>
              <a:path fill="darken" w="21600" h="35966">
                <a:moveTo>
                  <a:pt x="3794" y="17983"/>
                </a:moveTo>
                <a:lnTo>
                  <a:pt x="17806" y="10977"/>
                </a:lnTo>
                <a:lnTo>
                  <a:pt x="17806" y="24990"/>
                </a:ln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4" name="AutoShape 15">
            <a:hlinkClick r:id="" action="ppaction://hlinkshowjump?jump=firstslide"/>
          </p:cNvPr>
          <p:cNvSpPr/>
          <p:nvPr/>
        </p:nvSpPr>
        <p:spPr>
          <a:xfrm>
            <a:off x="7543800" y="6400800"/>
            <a:ext cx="320760" cy="304920"/>
          </a:xfrm>
          <a:custGeom>
            <a:avLst/>
            <a:gdLst>
              <a:gd name="textAreaLeft" fmla="*/ 19440 w 320760"/>
              <a:gd name="textAreaRight" fmla="*/ 301320 w 320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2721" h="21600">
                <a:moveTo>
                  <a:pt x="0" y="0"/>
                </a:moveTo>
                <a:lnTo>
                  <a:pt x="22721" y="0"/>
                </a:lnTo>
                <a:lnTo>
                  <a:pt x="22721" y="21600"/>
                </a:lnTo>
                <a:lnTo>
                  <a:pt x="0" y="21600"/>
                </a:lnTo>
                <a:close/>
              </a:path>
              <a:path fill="lightenLess" w="22721" h="21600">
                <a:moveTo>
                  <a:pt x="0" y="0"/>
                </a:moveTo>
                <a:lnTo>
                  <a:pt x="22721" y="0"/>
                </a:lnTo>
                <a:lnTo>
                  <a:pt x="21321" y="1400"/>
                </a:lnTo>
                <a:lnTo>
                  <a:pt x="1400" y="1400"/>
                </a:lnTo>
                <a:close/>
              </a:path>
              <a:path fill="darken" w="22721" h="21600">
                <a:moveTo>
                  <a:pt x="22721" y="0"/>
                </a:moveTo>
                <a:lnTo>
                  <a:pt x="22721" y="21600"/>
                </a:lnTo>
                <a:lnTo>
                  <a:pt x="21321" y="20200"/>
                </a:lnTo>
                <a:lnTo>
                  <a:pt x="21321" y="1400"/>
                </a:lnTo>
                <a:close/>
              </a:path>
              <a:path fill="darkenLess" w="22721" h="21600">
                <a:moveTo>
                  <a:pt x="22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21" y="20200"/>
                </a:lnTo>
                <a:close/>
              </a:path>
              <a:path fill="lighten" w="22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21" h="21600">
                <a:moveTo>
                  <a:pt x="4354" y="10800"/>
                </a:moveTo>
                <a:lnTo>
                  <a:pt x="18367" y="3794"/>
                </a:lnTo>
                <a:lnTo>
                  <a:pt x="18367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6486480" y="622152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9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5640" y="334440"/>
            <a:ext cx="5334120" cy="692280"/>
          </a:xfrm>
          <a:prstGeom prst="rect">
            <a:avLst/>
          </a:prstGeom>
          <a:solidFill>
            <a:srgbClr val="96daea"/>
          </a:solidFill>
          <a:ln w="9360">
            <a:solidFill>
              <a:srgbClr val="55a4b1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c58d3"/>
                </a:solidFill>
                <a:latin typeface="Times New Roman"/>
              </a:rPr>
              <a:t>Для любознательных…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1219320" y="111132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осмотрите как выглядят графики  некоторых других триг. функций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: 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964520" y="5726160"/>
            <a:ext cx="20113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y = 1 / cos</a:t>
            </a:r>
            <a:r>
              <a:rPr b="1" lang="ru-RU" sz="1400" spc="-1" strike="noStrike">
                <a:solidFill>
                  <a:srgbClr val="0000a8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x</a:t>
            </a:r>
            <a:r>
              <a:rPr b="1" lang="ru-RU" sz="1400" spc="-1" strike="noStrike">
                <a:solidFill>
                  <a:srgbClr val="0000a8"/>
                </a:solidFill>
                <a:latin typeface="Times New Roman"/>
              </a:rPr>
              <a:t> или </a:t>
            </a: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y=sec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         </a:t>
            </a: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(</a:t>
            </a:r>
            <a:r>
              <a:rPr b="1" lang="ru-RU" sz="1400" spc="-1" strike="noStrike">
                <a:solidFill>
                  <a:srgbClr val="0000a8"/>
                </a:solidFill>
                <a:latin typeface="Times New Roman"/>
              </a:rPr>
              <a:t>читается секонс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300" name="Picture 8" descr="j0076138"/>
          <p:cNvPicPr/>
          <p:nvPr/>
        </p:nvPicPr>
        <p:blipFill>
          <a:blip r:embed="rId1"/>
          <a:stretch/>
        </p:blipFill>
        <p:spPr>
          <a:xfrm>
            <a:off x="152280" y="334800"/>
            <a:ext cx="971640" cy="13716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9" descr=""/>
          <p:cNvPicPr/>
          <p:nvPr/>
        </p:nvPicPr>
        <p:blipFill>
          <a:blip r:embed="rId2"/>
          <a:stretch/>
        </p:blipFill>
        <p:spPr>
          <a:xfrm>
            <a:off x="609480" y="1706400"/>
            <a:ext cx="3856320" cy="38563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"/>
          <p:cNvPicPr/>
          <p:nvPr/>
        </p:nvPicPr>
        <p:blipFill>
          <a:blip r:embed="rId3"/>
          <a:stretch/>
        </p:blipFill>
        <p:spPr>
          <a:xfrm>
            <a:off x="4800600" y="1706400"/>
            <a:ext cx="3733920" cy="385632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1"/>
          <p:cNvSpPr/>
          <p:nvPr/>
        </p:nvSpPr>
        <p:spPr>
          <a:xfrm>
            <a:off x="5713560" y="5470560"/>
            <a:ext cx="21603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0e2a"/>
                </a:solidFill>
                <a:latin typeface="Times New Roman"/>
              </a:rPr>
              <a:t>y = cosec x </a:t>
            </a:r>
            <a:r>
              <a:rPr b="1" lang="ru-RU" sz="1400" spc="-1" strike="noStrike">
                <a:solidFill>
                  <a:srgbClr val="f80e2a"/>
                </a:solidFill>
                <a:latin typeface="Times New Roman"/>
              </a:rPr>
              <a:t>или </a:t>
            </a:r>
            <a:r>
              <a:rPr b="1" lang="en-US" sz="1400" spc="-1" strike="noStrike">
                <a:solidFill>
                  <a:srgbClr val="f80e2a"/>
                </a:solidFill>
                <a:latin typeface="Times New Roman"/>
              </a:rPr>
              <a:t>y= 1/ sin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80e2a"/>
                </a:solidFill>
                <a:latin typeface="Times New Roman"/>
              </a:rPr>
              <a:t>читается косеконс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2" nodeType="afterEffect" fill="hold" presetClass="entr" presetID="23" presetSubtype="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1830960" y="879480"/>
            <a:ext cx="3902400" cy="459720"/>
          </a:xfrm>
          <a:prstGeom prst="rect">
            <a:avLst/>
          </a:prstGeom>
          <a:solidFill>
            <a:srgbClr val="95e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 = 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67120" y="2895480"/>
            <a:ext cx="4493520" cy="131364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омежутки знакопостоянства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У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&gt;0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и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х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0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;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, 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У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&lt;0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и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x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545472"/>
                </a:solidFill>
                <a:latin typeface="MS Shell Dlg"/>
              </a:rPr>
              <a:t>(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0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), 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55" name="Object 1024"/>
          <p:cNvGraphicFramePr/>
          <p:nvPr/>
        </p:nvGraphicFramePr>
        <p:xfrm>
          <a:off x="7505640" y="1523880"/>
          <a:ext cx="114480" cy="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5640" y="1523880"/>
                    <a:ext cx="11448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025"/>
          <p:cNvGraphicFramePr/>
          <p:nvPr/>
        </p:nvGraphicFramePr>
        <p:xfrm>
          <a:off x="5029200" y="1752480"/>
          <a:ext cx="3849840" cy="380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752480"/>
                    <a:ext cx="384984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8"/>
          <p:cNvSpPr/>
          <p:nvPr/>
        </p:nvSpPr>
        <p:spPr>
          <a:xfrm>
            <a:off x="7569360" y="304812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 sin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990360"/>
            <a:ext cx="5105160" cy="5331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=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0" y="2590920"/>
            <a:ext cx="4495680" cy="100872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6.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омежутки монотонности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функция возрастает на промежутках 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вида: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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2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2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</a:t>
            </a:r>
            <a:r>
              <a:rPr b="1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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63" name="Object 6"/>
          <p:cNvGraphicFramePr/>
          <p:nvPr/>
        </p:nvGraphicFramePr>
        <p:xfrm>
          <a:off x="4724280" y="1905120"/>
          <a:ext cx="411480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905120"/>
                    <a:ext cx="411480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7"/>
          <p:cNvSpPr/>
          <p:nvPr/>
        </p:nvSpPr>
        <p:spPr>
          <a:xfrm>
            <a:off x="7813800" y="3332160"/>
            <a:ext cx="785880" cy="276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131b"/>
                </a:solidFill>
                <a:latin typeface="Arial Unicode MS"/>
              </a:rPr>
              <a:t>y = sin x</a:t>
            </a:r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66600" y="990360"/>
            <a:ext cx="5715000" cy="5331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=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 x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2819520"/>
            <a:ext cx="4495680" cy="100872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омежутки монотонности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функция убывает на промежутках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вида: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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2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2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</a:t>
            </a:r>
            <a:r>
              <a:rPr b="1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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4229280" cy="42292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7848360" y="309888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=sin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09680" y="834840"/>
            <a:ext cx="4724640" cy="46332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 =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763920" y="2362320"/>
            <a:ext cx="2670840" cy="109224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7. Точки экстремума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Х</a:t>
            </a:r>
            <a:r>
              <a:rPr b="1" lang="ru-RU" sz="2000" spc="-1" strike="noStrike" baseline="-25000">
                <a:solidFill>
                  <a:srgbClr val="545472"/>
                </a:solidFill>
                <a:latin typeface="Times New Roman"/>
              </a:rPr>
              <a:t>мах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2 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Х</a:t>
            </a:r>
            <a:r>
              <a:rPr b="1" lang="ru-RU" sz="2000" spc="-1" strike="noStrike" baseline="-25000">
                <a:solidFill>
                  <a:srgbClr val="545472"/>
                </a:solidFill>
                <a:latin typeface="Times New Roman"/>
              </a:rPr>
              <a:t>м</a:t>
            </a:r>
            <a:r>
              <a:rPr b="1" lang="en-US" sz="2000" spc="-1" strike="noStrike" baseline="-25000">
                <a:solidFill>
                  <a:srgbClr val="545472"/>
                </a:solidFill>
                <a:latin typeface="Times New Roman"/>
              </a:rPr>
              <a:t>i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-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2 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74" name="Object 7"/>
          <p:cNvGraphicFramePr/>
          <p:nvPr/>
        </p:nvGraphicFramePr>
        <p:xfrm>
          <a:off x="4343400" y="1828800"/>
          <a:ext cx="3959280" cy="40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828800"/>
                    <a:ext cx="395928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8"/>
          <p:cNvSpPr/>
          <p:nvPr/>
        </p:nvSpPr>
        <p:spPr>
          <a:xfrm>
            <a:off x="7316280" y="320040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y=sin x</a:t>
            </a:r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33360" y="914400"/>
            <a:ext cx="4784760" cy="4572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 =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763920" y="2362320"/>
            <a:ext cx="2626920" cy="7038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45472"/>
                </a:solidFill>
                <a:latin typeface="Times New Roman"/>
              </a:rPr>
              <a:t>8</a:t>
            </a:r>
            <a:r>
              <a:rPr b="1" i="1" lang="ru-RU" sz="2000" spc="-1" strike="noStrike">
                <a:solidFill>
                  <a:srgbClr val="545472"/>
                </a:solidFill>
                <a:latin typeface="Times New Roman"/>
              </a:rPr>
              <a:t>.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Область значений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Е(у) =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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-1;1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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80" name="Object 8"/>
          <p:cNvGraphicFramePr/>
          <p:nvPr/>
        </p:nvGraphicFramePr>
        <p:xfrm>
          <a:off x="3989520" y="1752480"/>
          <a:ext cx="439236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9520" y="1752480"/>
                    <a:ext cx="43923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9"/>
          <p:cNvSpPr/>
          <p:nvPr/>
        </p:nvSpPr>
        <p:spPr>
          <a:xfrm>
            <a:off x="7324560" y="321156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 sin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83" name="AutoShape 12">
            <a:hlinkClick r:id="" action="ppaction://hlinkshowjump?jump=firstslide"/>
          </p:cNvPr>
          <p:cNvSpPr/>
          <p:nvPr/>
        </p:nvSpPr>
        <p:spPr>
          <a:xfrm>
            <a:off x="24382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1219320"/>
            <a:ext cx="5715000" cy="7617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</a:t>
            </a:r>
            <a:br>
              <a:rPr sz="2400"/>
            </a:b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057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+в) получается из графика функции 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(-в) единиц вдоль оси абсцисс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+а получается из графика функции 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(а) единиц вдоль оси ординат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7" name="AutoShape 4">
            <a:hlinkClick r:id="" action="ppaction://hlinkshowjump?jump=previousslide"/>
          </p:cNvPr>
          <p:cNvSpPr/>
          <p:nvPr/>
        </p:nvSpPr>
        <p:spPr>
          <a:xfrm>
            <a:off x="380880" y="57150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7493"/>
                </a:moveTo>
                <a:lnTo>
                  <a:pt x="10001" y="7493"/>
                </a:lnTo>
                <a:lnTo>
                  <a:pt x="10001" y="12828"/>
                </a:lnTo>
                <a:cubicBezTo>
                  <a:pt x="10001" y="13751"/>
                  <a:pt x="10802" y="14482"/>
                  <a:pt x="11838" y="14482"/>
                </a:cubicBezTo>
                <a:lnTo>
                  <a:pt x="13500" y="14482"/>
                </a:lnTo>
                <a:cubicBezTo>
                  <a:pt x="14536" y="14482"/>
                  <a:pt x="15336" y="13751"/>
                  <a:pt x="15336" y="12828"/>
                </a:cubicBezTo>
                <a:lnTo>
                  <a:pt x="15336" y="7493"/>
                </a:lnTo>
                <a:lnTo>
                  <a:pt x="13500" y="7493"/>
                </a:lnTo>
                <a:lnTo>
                  <a:pt x="17008" y="3985"/>
                </a:lnTo>
                <a:lnTo>
                  <a:pt x="20681" y="7493"/>
                </a:lnTo>
                <a:lnTo>
                  <a:pt x="18844" y="7493"/>
                </a:lnTo>
                <a:lnTo>
                  <a:pt x="18844" y="12828"/>
                </a:lnTo>
                <a:cubicBezTo>
                  <a:pt x="18844" y="15596"/>
                  <a:pt x="16268" y="18155"/>
                  <a:pt x="13500" y="18155"/>
                </a:cubicBezTo>
                <a:lnTo>
                  <a:pt x="11838" y="18155"/>
                </a:lnTo>
                <a:cubicBezTo>
                  <a:pt x="9070" y="18155"/>
                  <a:pt x="6494" y="15596"/>
                  <a:pt x="6494" y="12828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188" name="Picture 5" descr="bd13742_"/>
          <p:cNvPicPr/>
          <p:nvPr/>
        </p:nvPicPr>
        <p:blipFill>
          <a:blip r:embed="rId3"/>
          <a:stretch/>
        </p:blipFill>
        <p:spPr>
          <a:xfrm>
            <a:off x="990720" y="1219320"/>
            <a:ext cx="388800" cy="6397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8"/>
          <p:cNvSpPr/>
          <p:nvPr/>
        </p:nvSpPr>
        <p:spPr>
          <a:xfrm>
            <a:off x="7302600" y="5867280"/>
            <a:ext cx="1547640" cy="56052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4953240" cy="914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1066680" y="1496880"/>
            <a:ext cx="7010640" cy="43704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4"/>
          <p:cNvSpPr/>
          <p:nvPr/>
        </p:nvSpPr>
        <p:spPr>
          <a:xfrm>
            <a:off x="8458200" y="58672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371600" y="1828800"/>
            <a:ext cx="2362320" cy="609480"/>
          </a:xfrm>
          <a:prstGeom prst="rect">
            <a:avLst/>
          </a:prstGeom>
          <a:solidFill>
            <a:srgbClr val="d5f4f7"/>
          </a:solidFill>
          <a:ln w="28440">
            <a:solidFill>
              <a:srgbClr val="cd0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Постройте график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Функции у =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sin(x+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4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7400880" y="589104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6:55:35Z</dcterms:created>
  <dc:creator>Слушатель Центра Интернет-образование</dc:creator>
  <dc:description/>
  <dc:language>en-US</dc:language>
  <cp:lastModifiedBy>LEGION</cp:lastModifiedBy>
  <dcterms:modified xsi:type="dcterms:W3CDTF">2015-01-23T13:21:50Z</dcterms:modified>
  <cp:revision>21</cp:revision>
  <dc:subject/>
  <dc:title>Графики тригонометрических функций </dc:title>
</cp:coreProperties>
</file>