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890F-94AA-4E9E-99AF-7C96AF7908E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33D-CF20-4A23-8645-33B7B92BC3D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AB90-1BF3-4A05-81B1-05ADE817FC8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1513-1525-469A-8389-28A0C316F5B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B4DA-2006-41A9-8BC0-7ABABA6B3BE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B5E7-A4C8-460E-A6B4-C4D64C13E56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6701-4592-4F59-81B4-7AC57EAF673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54F1-8251-4AF4-8EFA-AF2215CB764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2DEA-BD8F-485A-A46D-BD7180E1EFE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FA3A-8EE9-4FB7-B6F2-6970A3F4DBA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DC06-2720-44A1-BD1E-8F99FA5112A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7901-B406-4221-82BF-12F7ADB8815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F7A0-9DFF-4911-88D6-8FCAB81EBF2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58D3-ACFC-4E7E-9DF1-EDF03EE8AEC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AD4F-C2F9-4918-93D3-678F2D6B800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258-645C-4CDB-A3D9-A92D6352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528-7333-40C1-92E5-5A09DDE4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CB0-C62E-4631-91E1-B792D5D6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C6C-4660-49B9-B126-A291D2E9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31D-3B42-43B8-888E-FAF7AD2D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B7C-D081-4134-AE9F-D8935F92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0A2-AF00-4F8D-A888-C723C6E2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537-B1C4-4F3F-A85E-8F6E9BEC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E68-D075-42B1-9E52-B34CF799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BAF-7C7F-4DBA-B16C-9686A062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F4D-6616-490E-B3F1-0AFF88B5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464-17AF-41EF-BD84-90102416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F65C-8C21-41D5-9DC1-AC209431F21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BDB8-890C-4973-B2CA-99CE244855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user\Downloads\i (2).jpg"/>
          <p:cNvPicPr/>
          <p:nvPr/>
        </p:nvPicPr>
        <p:blipFill>
          <a:blip r:embed="rId1"/>
          <a:stretch/>
        </p:blipFill>
        <p:spPr>
          <a:xfrm>
            <a:off x="684360" y="3716280"/>
            <a:ext cx="177480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user\Downloads\i (4).jpg"/>
          <p:cNvPicPr/>
          <p:nvPr/>
        </p:nvPicPr>
        <p:blipFill>
          <a:blip r:embed="rId1"/>
          <a:stretch/>
        </p:blipFill>
        <p:spPr>
          <a:xfrm>
            <a:off x="639720" y="3789360"/>
            <a:ext cx="1862280" cy="1727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916360" y="148428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2914560" y="21844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3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2895480" y="29131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2916360" y="37274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2916360" y="45212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2933640" y="532620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4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9"/>
          <p:cNvSpPr/>
          <p:nvPr/>
        </p:nvSpPr>
        <p:spPr>
          <a:xfrm>
            <a:off x="6951600" y="15080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10"/>
          <p:cNvSpPr/>
          <p:nvPr/>
        </p:nvSpPr>
        <p:spPr>
          <a:xfrm>
            <a:off x="6954840" y="2268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11"/>
          <p:cNvSpPr/>
          <p:nvPr/>
        </p:nvSpPr>
        <p:spPr>
          <a:xfrm>
            <a:off x="6943680" y="297324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8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12"/>
          <p:cNvSpPr/>
          <p:nvPr/>
        </p:nvSpPr>
        <p:spPr>
          <a:xfrm>
            <a:off x="6943680" y="3701880"/>
            <a:ext cx="14414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9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13"/>
          <p:cNvSpPr/>
          <p:nvPr/>
        </p:nvSpPr>
        <p:spPr>
          <a:xfrm>
            <a:off x="6975360" y="451656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54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7012080" y="529416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2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341360"/>
            <a:ext cx="8362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364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ownloads\i (3).jpg"/>
          <p:cNvPicPr/>
          <p:nvPr/>
        </p:nvPicPr>
        <p:blipFill>
          <a:blip r:embed="rId1"/>
          <a:stretch/>
        </p:blipFill>
        <p:spPr>
          <a:xfrm>
            <a:off x="468360" y="371628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916360" y="1457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0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2916360" y="21510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6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2913120" y="2924280"/>
            <a:ext cx="1295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6"/>
          <p:cNvSpPr/>
          <p:nvPr/>
        </p:nvSpPr>
        <p:spPr>
          <a:xfrm>
            <a:off x="2900520" y="365292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9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7"/>
          <p:cNvSpPr/>
          <p:nvPr/>
        </p:nvSpPr>
        <p:spPr>
          <a:xfrm>
            <a:off x="6732720" y="1411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8"/>
          <p:cNvSpPr/>
          <p:nvPr/>
        </p:nvSpPr>
        <p:spPr>
          <a:xfrm>
            <a:off x="6732720" y="21574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9"/>
          <p:cNvSpPr/>
          <p:nvPr/>
        </p:nvSpPr>
        <p:spPr>
          <a:xfrm>
            <a:off x="6759720" y="29750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10"/>
          <p:cNvSpPr/>
          <p:nvPr/>
        </p:nvSpPr>
        <p:spPr>
          <a:xfrm>
            <a:off x="6759720" y="376236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11"/>
          <p:cNvSpPr/>
          <p:nvPr/>
        </p:nvSpPr>
        <p:spPr>
          <a:xfrm>
            <a:off x="3995640" y="438156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12"/>
          <p:cNvSpPr/>
          <p:nvPr/>
        </p:nvSpPr>
        <p:spPr>
          <a:xfrm>
            <a:off x="5091120" y="5110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1:44:26Z</dcterms:created>
  <dc:creator>user</dc:creator>
  <dc:description/>
  <dc:language>en-US</dc:language>
  <cp:lastModifiedBy>LEGION</cp:lastModifiedBy>
  <dcterms:modified xsi:type="dcterms:W3CDTF">2015-01-23T13:23:35Z</dcterms:modified>
  <cp:revision>19</cp:revision>
  <dc:subject/>
  <dc:title>Приемы устного счета</dc:title>
</cp:coreProperties>
</file>