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7EE8-9F71-4E52-9B7F-BDEB34C8FE9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риемы устного сч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Бадюк Ольга Яросла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5003-E8DF-4597-90CB-0AE09F77041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Из уменьшаемого вычитают последовательно разряды вычитаемого, начиная с выс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684 – 4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648 – 458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684 – ( 400 + 50 + 8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684 – 400 – 50 – 8 = 2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142E-EEAF-4326-BE37-EFDF02F450B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. Если вычитаемое близко к круглому числу, то его заменяем разностью между круглым числом и дополн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   953 – 1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953 – 197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953 – (200 – 3 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953 – 200 + 3 = 75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E2BC-0B95-4CE8-829E-1DFC7BA6F50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4. Если уменьшаемое и вычитаемое близки к круглому числу, то их заменяют разностью между круглым числом и допол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 395 – 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395 -  98 = ( 400 - 5)- (100 - 2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400 – 100 – 5 + 2 = 2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8358-EF4B-43F8-B294-0A626E01ABA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ычисли устн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78 – 43=                             182 – 99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587 – 253=                         743 – 198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84 – 35 =                            476 – 94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483 – 126 =                        593 – 294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674 – 138 =                        2538 – 994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586 – 2168 =                    3560 – 357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BD07-47BA-41C2-9E7F-DD982B40E15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итерату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И.И. Чевелев «Приемы устного счета и вычисления на счетных прибор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дательство «просвещение» Москва 196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Виленкин Н.Я,  Жохов В.И, Чесноков А.С, Шварцбурд С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тематика  5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818A-17ED-4432-9A0B-1F7043D526F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Приемы устного слож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.К первому слагаемому последовательно прибавляют разряды другого слагаемого, начиная с высш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   435 + 3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357 = 300 + 50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олучим 435 + 300 + 50 + 7 = 735 + 50 + 7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785 + 7 = 7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 735, 785, 7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07C8-0DAF-4EE0-82A6-49101DB8B67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К разрядам одного слагаемого прибавляют соответствующие разряды друг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524 + 26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зобьем на слагаемые 524 = 500 + 20 +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263 = 200 + 60 + 3      Прибавляем    соответствующие разряды.(500 + 200)+ (20 + 60) + (4 + 3) = 700 + 80 + 7 = 78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: 700, 780, 78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F7EA-BFBD-4B48-BB4C-5045DEA339B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. Пользуясь сочетательным законом сложения, слагаемые разбивают на такие группы, которые в сумме дают круглые чис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42 + 25 + 8 + 5 + 13 + 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(42 + 8) + ( 25 + 5) + (13 + 17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50 + 30 + 30 = 1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: 50, 80,1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8289-85D1-4754-9048-C42A526D8AA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4. Чтобы прибавить к какому-нибудь числу сумму чисел, можно прибавить к данному числу каждое слагаемое отд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ример     863 + ( 346 + 13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863 + 346 + 137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                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= 863 + 137 + 346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                                      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= 1000 + 346 = 134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6AB3-CE86-4A78-AD91-2B30E783741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5. Если одно слагаемое близко к круглому числу, то его заменяют разностью между круглым числом и допол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549 + 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94 = 100 –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549 + 94 = 549 + ( 100 – 6 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549 + 100 – 6 = 6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E103-9AE1-4790-BAC1-55A37AD07ED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6. Когда оба слагаемых близки к круглым числам, то их заменяют разностью между круглым числом и допол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1.    298 + 3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298 + 397 = (300 – 2 ) + ( 400 - 3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300 + 400 – 2 – 3 = 700 – 5 = 6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2.  504 + 4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(500 + 4)+ (500- 3)=500 + 500 + 4 – 3 = 1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E2B0-2BA1-4C6C-B50E-28A7C6CEA42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числи у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536 +  532 =                   674 + 97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427 + 268 =                    538 + 298 =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636 + 249 =                    97 + 95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524 + 389 =                    396 + 453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5 + 28 + 5 + 2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35 + 67 + 65 + 23 + 1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20B9-C580-4678-B7F0-2B8D9546B82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ычита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Если в уменьшаемом число единиц каждого разряда больше единиц соответствующего разряда вычитаемого, то вычитание выполняется поразряд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678 – 5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678 – 564 = (600 - 500) + (70 – 60 )+ (8 - 4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100 + 10 + 4 = 1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4413-C129-4FFA-B839-41828154905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EB86-DD82-4FE6-8B06-57244DF6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CBA-4EEB-452D-AC89-CEE6D033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AE0A-A80A-478B-B959-B79B2C57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6EE7-146D-4084-BB98-CC7C2A62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1CB0-0D8A-4C37-A820-FDD11515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FF23-9D7C-4DBB-B781-0EFCB1FA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C879-2C7A-4B6F-AB1A-AC9AB5D0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48EE-C915-469C-9C13-89493CE1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1FC-C39B-4A49-8A8F-533E37CD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115-9F9B-4E2E-A09C-01CE1FFE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EF9F-7E4C-4EF4-A43B-169CB165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3D73-1C1A-4200-AF32-6CC59BBF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B405-4D9B-45E8-8D07-340025AC393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0D3C-4B89-4113-AC55-46515F4380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Приемы устного сче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читель мате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Бадюк Ольга Ярославн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. Из уменьшаемого вычитают последовательно разряды вычитаемого, начиная с высш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684 – 45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648 – 458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684 – ( 400 + 50 + 8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684 – 400 – 50 – 8 = 22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user\Downloads\i (2).jpg"/>
          <p:cNvPicPr/>
          <p:nvPr/>
        </p:nvPicPr>
        <p:blipFill>
          <a:blip r:embed="rId1"/>
          <a:stretch/>
        </p:blipFill>
        <p:spPr>
          <a:xfrm>
            <a:off x="684360" y="3716280"/>
            <a:ext cx="1774800" cy="18003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. Если вычитаемое близко к круглому числу, то его заменяем разностью между круглым числом и дополнени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   953 – 19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953 – 197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953 – (200 – 3 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953 – 200 + 3 = 75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user\Downloads\i (4).jpg"/>
          <p:cNvPicPr/>
          <p:nvPr/>
        </p:nvPicPr>
        <p:blipFill>
          <a:blip r:embed="rId1"/>
          <a:stretch/>
        </p:blipFill>
        <p:spPr>
          <a:xfrm>
            <a:off x="639720" y="3789360"/>
            <a:ext cx="1862280" cy="17272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. Если уменьшаемое и вычитаемое близки к круглому числу, то их заменяют разностью между круглым числом и дополне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 395 – 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95 -  98 = ( 400 - 5)- (100 - 2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400 – 100 – 5 + 2 = 29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ычисли уст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78 – 43=                             182 – 99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587 – 253=                         743 – 198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84 – 35 =                            476 – 94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83 – 126 =                        593 – 294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674 – 138 =                        2538 – 994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586 – 2168 =                    3560 – 357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2916360" y="1484280"/>
            <a:ext cx="1439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4"/>
          <p:cNvSpPr/>
          <p:nvPr/>
        </p:nvSpPr>
        <p:spPr>
          <a:xfrm>
            <a:off x="2914560" y="218448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3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5"/>
          <p:cNvSpPr/>
          <p:nvPr/>
        </p:nvSpPr>
        <p:spPr>
          <a:xfrm>
            <a:off x="2895480" y="291312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кругленный прямоугольник 6"/>
          <p:cNvSpPr/>
          <p:nvPr/>
        </p:nvSpPr>
        <p:spPr>
          <a:xfrm>
            <a:off x="2916360" y="3727440"/>
            <a:ext cx="1439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5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Скругленный прямоугольник 7"/>
          <p:cNvSpPr/>
          <p:nvPr/>
        </p:nvSpPr>
        <p:spPr>
          <a:xfrm>
            <a:off x="2916360" y="4521240"/>
            <a:ext cx="1439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53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кругленный прямоугольник 8"/>
          <p:cNvSpPr/>
          <p:nvPr/>
        </p:nvSpPr>
        <p:spPr>
          <a:xfrm>
            <a:off x="2933640" y="5326200"/>
            <a:ext cx="14414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41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ый прямоугольник 9"/>
          <p:cNvSpPr/>
          <p:nvPr/>
        </p:nvSpPr>
        <p:spPr>
          <a:xfrm>
            <a:off x="6951600" y="150804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8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кругленный прямоугольник 10"/>
          <p:cNvSpPr/>
          <p:nvPr/>
        </p:nvSpPr>
        <p:spPr>
          <a:xfrm>
            <a:off x="6954840" y="226836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54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кругленный прямоугольник 11"/>
          <p:cNvSpPr/>
          <p:nvPr/>
        </p:nvSpPr>
        <p:spPr>
          <a:xfrm>
            <a:off x="6943680" y="2973240"/>
            <a:ext cx="1441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8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кругленный прямоугольник 12"/>
          <p:cNvSpPr/>
          <p:nvPr/>
        </p:nvSpPr>
        <p:spPr>
          <a:xfrm>
            <a:off x="6943680" y="3701880"/>
            <a:ext cx="14414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29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кругленный прямоугольник 13"/>
          <p:cNvSpPr/>
          <p:nvPr/>
        </p:nvSpPr>
        <p:spPr>
          <a:xfrm>
            <a:off x="6975360" y="4516560"/>
            <a:ext cx="14414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54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ый прямоугольник 14"/>
          <p:cNvSpPr/>
          <p:nvPr/>
        </p:nvSpPr>
        <p:spPr>
          <a:xfrm>
            <a:off x="7012080" y="5294160"/>
            <a:ext cx="1441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20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Литератур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И.И. Чевелев «Приемы устного счета и вычисления на счетных приборах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дательство «просвещение» Москва 196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Виленкин Н.Я,  Жохов В.И, Чесноков А.С, Шварцбурд С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ематика  5 клас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иемы устного слож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341360"/>
            <a:ext cx="83628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1.К первому слагаемому последовательно прибавляют разряды другого слагаемого, начиная с высш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   435 + 3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57 = 300 + 50 +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олучим 435 + 300 + 50 + 7 = 735 + 50 + 7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785 + 7 = 79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 735, 785, 79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3640" y="981000"/>
            <a:ext cx="8569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. К разрядам одного слагаемого прибавляют соответствующие разряды друг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524 + 26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Разобьем на слагаемые 524 = 500 + 20 + 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263 = 200 + 60 + 3      Прибавляем    соответствующие разряды.(500 + 200)+ (20 + 60) + (4 + 3) = 700 + 80 + 7 = 78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: 700, 780, 78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. Пользуясь сочетательным законом сложения, слагаемые разбивают на такие группы, которые в сумме дают круглые чис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42 + 25 + 8 + 5 + 13 + 1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(42 + 8) + ( 25 + 5) + (13 + 17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50 + 30 + 30 = 1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: 50, 80,1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. Чтобы прибавить к какому-нибудь числу сумму чисел, можно прибавить к данному числу каждое слагаемое отдель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Пример     863 + ( 346 + 137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863 + 346 + 137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                 </a:t>
            </a: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= 863 + 137 + 346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                                       </a:t>
            </a: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= 1000 + 346 = 134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5. Если одно слагаемое близко к круглому числу, то его заменяют разностью между круглым числом и дополне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549 + 9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94 = 100 – 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549 + 94 = 549 + ( 100 – 6 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549 + 100 – 6 = 6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user\Downloads\i (3).jpg"/>
          <p:cNvPicPr/>
          <p:nvPr/>
        </p:nvPicPr>
        <p:blipFill>
          <a:blip r:embed="rId1"/>
          <a:stretch/>
        </p:blipFill>
        <p:spPr>
          <a:xfrm>
            <a:off x="468360" y="3716280"/>
            <a:ext cx="1871640" cy="18734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6. Когда оба слагаемых близки к круглым числам, то их заменяют разностью между круглым числом и дополне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1.    298 + 39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298 + 397 = (300 – 2 ) + ( 400 - 3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300 + 400 – 2 – 3 = 700 – 5 = 69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2.  504 + 49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(500 + 4)+ (500- 3)=500 + 500 + 4 – 3 = 100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ычисли уст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536 +  532 =                   674 + 97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427 + 268 =                    538 + 298 =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636 + 249 =                    97 + 95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524 + 389 =                    396 + 453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35 + 28 + 5 + 2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135 + 67 + 65 + 23 + 10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2916360" y="145728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10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2916360" y="215100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69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2913120" y="2924280"/>
            <a:ext cx="12952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8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6"/>
          <p:cNvSpPr/>
          <p:nvPr/>
        </p:nvSpPr>
        <p:spPr>
          <a:xfrm>
            <a:off x="2900520" y="3652920"/>
            <a:ext cx="1296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9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7"/>
          <p:cNvSpPr/>
          <p:nvPr/>
        </p:nvSpPr>
        <p:spPr>
          <a:xfrm>
            <a:off x="6732720" y="141120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7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8"/>
          <p:cNvSpPr/>
          <p:nvPr/>
        </p:nvSpPr>
        <p:spPr>
          <a:xfrm>
            <a:off x="6732720" y="215748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8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Скругленный прямоугольник 9"/>
          <p:cNvSpPr/>
          <p:nvPr/>
        </p:nvSpPr>
        <p:spPr>
          <a:xfrm>
            <a:off x="6759720" y="297504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1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кругленный прямоугольник 10"/>
          <p:cNvSpPr/>
          <p:nvPr/>
        </p:nvSpPr>
        <p:spPr>
          <a:xfrm>
            <a:off x="6759720" y="376236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84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кругленный прямоугольник 11"/>
          <p:cNvSpPr/>
          <p:nvPr/>
        </p:nvSpPr>
        <p:spPr>
          <a:xfrm>
            <a:off x="3995640" y="438156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кругленный прямоугольник 12"/>
          <p:cNvSpPr/>
          <p:nvPr/>
        </p:nvSpPr>
        <p:spPr>
          <a:xfrm>
            <a:off x="5091120" y="511020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ычита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в уменьшаемом число единиц каждого разряда больше единиц соответствующего разряда вычитаемого, то вычитание выполняется поразряд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678 – 56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678 – 564 = (600 - 500) + (70 – 60 )+ (8 - 4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100 + 10 + 4 = 11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1:44:26Z</dcterms:created>
  <dc:creator>user</dc:creator>
  <dc:description/>
  <dc:language>en-US</dc:language>
  <cp:lastModifiedBy>LEGION</cp:lastModifiedBy>
  <dcterms:modified xsi:type="dcterms:W3CDTF">2015-01-23T13:23:35Z</dcterms:modified>
  <cp:revision>19</cp:revision>
  <dc:subject/>
  <dc:title>Приемы устного счета</dc:title>
</cp:coreProperties>
</file>