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384B-ACD1-414B-8760-5EF6CC92C0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здержки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здержки производства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представляют собой плату за ресурсы используемые в процессе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8CF0-CCAC-479A-BC2F-70220E52C5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тветьте на предложенные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095F-A465-4120-B1E0-60040FBA96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Место прибыли в структу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F639-673D-4F9E-9A83-9CC247E76A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на явняе и нея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4EC6-66B7-4C0C-84EE-C431668557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9780-2CFD-4DA8-9AD2-F20FF6FAF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Деление издержек в завис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т объёма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39FD-F633-47AE-8117-B4E3CB91EA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D9B6-F20C-4686-9A04-328533437B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Издержки производства и прибы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в денежных единицах (условный при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6B77-8963-4E28-A26E-3B7DE328E2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нести графики и их наз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общих издерж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остоянны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к переменных издерж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7C8B-DFB5-44FC-8BD9-B8D0160891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: определить величину переменных издержек на данном производстве в точке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824C-F040-4FFE-9F21-4428B75E8C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C46-98B0-400F-9714-CE4717D8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924-CCAD-445F-A5A2-C918BC30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682-F387-4ABA-8214-CCD80E57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40E-3D3B-47EA-968C-2F2120A1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48F-F532-4C40-91DF-5BB4CD66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DDF-7AF1-4EA9-91D8-304EFEAE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DD5-2522-4336-89CA-3A00AFB0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357-D9B2-4168-8FFD-67E5D8CF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823-1C49-4EC2-8263-8364E1B7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7C5-5813-4C98-8CAC-3AA0E0E6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58B-212E-48E7-A662-6AB8D3A9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B49-8392-44C6-BB87-820AF273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0547-A722-4A16-A7E0-E1AB3F11C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3124080"/>
            <a:ext cx="8610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здержки производства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представляют собой плату за ресурсы используемые в процессе производства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71600" y="1143000"/>
            <a:ext cx="6772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прибыль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304920" y="228600"/>
            <a:ext cx="1085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962520" y="64882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ук Т., МУПК, Лисак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838080" y="3049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ответьте на предлож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57200" y="10666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 сколько оцениваете свой уровень усвоения темы за сегодняшний урок?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1752480"/>
            <a:ext cx="76176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2514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читаете ли, что использование на уроке компьютера помогло вам лучше повторить матери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4038480" y="175248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486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629400" y="3200400"/>
            <a:ext cx="76212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2514600" y="1600200"/>
            <a:ext cx="5790960" cy="4718160"/>
            <a:chOff x="2514600" y="1600200"/>
            <a:chExt cx="5790960" cy="4718160"/>
          </a:xfrm>
        </p:grpSpPr>
        <p:sp>
          <p:nvSpPr>
            <p:cNvPr id="54" name="Text Box 6"/>
            <p:cNvSpPr/>
            <p:nvPr/>
          </p:nvSpPr>
          <p:spPr>
            <a:xfrm>
              <a:off x="2514600" y="2243520"/>
              <a:ext cx="3217320" cy="6433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2514600" y="2886840"/>
              <a:ext cx="3217320" cy="343152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6589800" y="1600200"/>
              <a:ext cx="15015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це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6589800" y="2672280"/>
              <a:ext cx="1715760" cy="85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уровень издерж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0"/>
            <p:cNvSpPr/>
            <p:nvPr/>
          </p:nvSpPr>
          <p:spPr>
            <a:xfrm rot="10800000">
              <a:off x="5946120" y="202860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1"/>
            <p:cNvSpPr/>
            <p:nvPr/>
          </p:nvSpPr>
          <p:spPr>
            <a:xfrm rot="10800000">
              <a:off x="5946120" y="2671920"/>
              <a:ext cx="643320" cy="428760"/>
            </a:xfrm>
            <a:custGeom>
              <a:avLst/>
              <a:gdLst>
                <a:gd name="textAreaLeft" fmla="*/ 100080 w 643320"/>
                <a:gd name="textAreaRight" fmla="*/ 562320 w 6433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12"/>
          <p:cNvSpPr/>
          <p:nvPr/>
        </p:nvSpPr>
        <p:spPr>
          <a:xfrm flipH="1">
            <a:off x="20574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2057400" y="624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H="1" flipV="1">
            <a:off x="1752120" y="434340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1752120" y="2286000"/>
            <a:ext cx="3049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6"/>
          <p:cNvSpPr txBox="1"/>
          <p:nvPr/>
        </p:nvSpPr>
        <p:spPr>
          <a:xfrm rot="5400000">
            <a:off x="-1357560" y="3672000"/>
            <a:ext cx="43909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оимость товара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7"/>
          <p:cNvSpPr txBox="1"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прибыли в структур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оимости това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3"/>
          <p:cNvSpPr/>
          <p:nvPr/>
        </p:nvSpPr>
        <p:spPr>
          <a:xfrm>
            <a:off x="482760" y="4148280"/>
            <a:ext cx="388440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124080" y="2438280"/>
            <a:ext cx="2797200" cy="7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765760" y="2593800"/>
            <a:ext cx="139860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881360" y="2593800"/>
            <a:ext cx="1398240" cy="4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569960" y="3738600"/>
            <a:ext cx="18655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454720" y="3738600"/>
            <a:ext cx="186516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638820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2657520" y="3214800"/>
            <a:ext cx="0" cy="466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522680" y="4160880"/>
            <a:ext cx="3884760" cy="155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 flipH="1">
            <a:off x="8096400" y="5702400"/>
            <a:ext cx="30312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 flipH="1">
            <a:off x="793440" y="6323040"/>
            <a:ext cx="730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482760" y="5702400"/>
            <a:ext cx="3110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968560" y="6167520"/>
            <a:ext cx="3264120" cy="46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60948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0"/>
          <p:cNvSpPr txBox="1"/>
          <p:nvPr/>
        </p:nvSpPr>
        <p:spPr>
          <a:xfrm>
            <a:off x="533520" y="1447920"/>
            <a:ext cx="79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на явняе и неяв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219320" y="5486400"/>
            <a:ext cx="23619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Разделите виды затрат на явные и неявны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04920" y="533520"/>
          <a:ext cx="8610480" cy="35719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2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ные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яв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27"/>
          <p:cNvSpPr/>
          <p:nvPr/>
        </p:nvSpPr>
        <p:spPr>
          <a:xfrm>
            <a:off x="0" y="4419720"/>
            <a:ext cx="9144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нимательница решила открыть в собственной квартире небольшой шляпный магазин. Для этого закупила партию товара, полки, зеркала, кассовый аппарат, заказала у художника – оформителя красивую вывеску, наняла шофёра, продавщицу и уборщицу.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2971800" y="2209680"/>
            <a:ext cx="3110040" cy="111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держки производ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8752800">
            <a:off x="2470320" y="3304800"/>
            <a:ext cx="457200" cy="423720"/>
          </a:xfrm>
          <a:prstGeom prst="rightArrow">
            <a:avLst>
              <a:gd name="adj1" fmla="val 50000"/>
              <a:gd name="adj2" fmla="val 269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2911800">
            <a:off x="6183000" y="3329280"/>
            <a:ext cx="471240" cy="457200"/>
          </a:xfrm>
          <a:prstGeom prst="rightArrow">
            <a:avLst>
              <a:gd name="adj1" fmla="val 50000"/>
              <a:gd name="adj2" fmla="val 257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189080" y="38718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791320" y="3886200"/>
            <a:ext cx="198900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143000" y="4916520"/>
            <a:ext cx="6591240" cy="496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/>
          <p:cNvSpPr/>
          <p:nvPr/>
        </p:nvSpPr>
        <p:spPr>
          <a:xfrm>
            <a:off x="67057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H="1">
            <a:off x="2634840" y="5413320"/>
            <a:ext cx="111924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3257640" y="6035760"/>
            <a:ext cx="12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2635200" y="6657840"/>
            <a:ext cx="186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749840" y="59119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4749840" y="6408720"/>
            <a:ext cx="1574640" cy="3729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9"/>
          <p:cNvSpPr/>
          <p:nvPr/>
        </p:nvSpPr>
        <p:spPr>
          <a:xfrm>
            <a:off x="1905120" y="4419720"/>
            <a:ext cx="255600" cy="401400"/>
          </a:xfrm>
          <a:prstGeom prst="upArrow">
            <a:avLst>
              <a:gd name="adj1" fmla="val 50000"/>
              <a:gd name="adj2" fmla="val 392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858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Заполнить сх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1"/>
          <p:cNvSpPr txBox="1"/>
          <p:nvPr/>
        </p:nvSpPr>
        <p:spPr>
          <a:xfrm>
            <a:off x="990720" y="914400"/>
            <a:ext cx="70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ение издержек в зависимост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объёма производств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5"/>
          <p:cNvSpPr/>
          <p:nvPr/>
        </p:nvSpPr>
        <p:spPr>
          <a:xfrm>
            <a:off x="457200" y="487548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152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аботная плата рабочих, затраты на сырьё, амортизационные отчисления, плата за арендуемое фирмой оборудование для офиса, затраты на электроэнергию, заработная плата высшего управляющего персонала фирмы, оплата транспортных услуг за перевозку сырья и готовой продукции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8"/>
          <p:cNvSpPr/>
          <p:nvPr/>
        </p:nvSpPr>
        <p:spPr>
          <a:xfrm>
            <a:off x="0" y="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    Разделить виды затрат на постоянные и пе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457200"/>
          <a:ext cx="8534520" cy="3632040"/>
        </p:xfrm>
        <a:graphic>
          <a:graphicData uri="http://schemas.openxmlformats.org/drawingml/2006/table">
            <a:tbl>
              <a:tblPr/>
              <a:tblGrid>
                <a:gridCol w="4267080"/>
                <a:gridCol w="42674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е 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мен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V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6320" y="2011320"/>
          <a:ext cx="8915400" cy="3870360"/>
        </p:xfrm>
        <a:graphic>
          <a:graphicData uri="http://schemas.openxmlformats.org/drawingml/2006/table">
            <a:tbl>
              <a:tblPr/>
              <a:tblGrid>
                <a:gridCol w="928440"/>
                <a:gridCol w="795600"/>
                <a:gridCol w="834840"/>
                <a:gridCol w="965160"/>
                <a:gridCol w="963720"/>
                <a:gridCol w="936720"/>
                <a:gridCol w="847440"/>
                <a:gridCol w="871560"/>
                <a:gridCol w="897120"/>
                <a:gridCol w="874800"/>
              </a:tblGrid>
              <a:tr h="3049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-ницы продук-ции 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единицы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8-гр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-ная выруч-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2+гр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р4+гр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WordArt 724"/>
          <p:cNvSpPr txBox="1"/>
          <p:nvPr/>
        </p:nvSpPr>
        <p:spPr>
          <a:xfrm>
            <a:off x="838080" y="228600"/>
            <a:ext cx="758196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держки производства и прибыль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риятия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енежных единицах (условный пример)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4"/>
          <p:cNvSpPr/>
          <p:nvPr/>
        </p:nvSpPr>
        <p:spPr>
          <a:xfrm flipV="1">
            <a:off x="609480" y="13712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609480" y="3505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609480" y="1828800"/>
            <a:ext cx="1524240" cy="167652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960" h="1056">
                <a:moveTo>
                  <a:pt x="0" y="1056"/>
                </a:moveTo>
                <a:cubicBezTo>
                  <a:pt x="280" y="928"/>
                  <a:pt x="560" y="800"/>
                  <a:pt x="720" y="624"/>
                </a:cubicBezTo>
                <a:cubicBezTo>
                  <a:pt x="880" y="448"/>
                  <a:pt x="920" y="112"/>
                  <a:pt x="96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146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8580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4572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V="1">
            <a:off x="3809880" y="160020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3809880" y="350532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6"/>
          <p:cNvSpPr/>
          <p:nvPr/>
        </p:nvSpPr>
        <p:spPr>
          <a:xfrm>
            <a:off x="3809880" y="1447920"/>
            <a:ext cx="1447920" cy="12189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912" h="768">
                <a:moveTo>
                  <a:pt x="0" y="768"/>
                </a:moveTo>
                <a:cubicBezTo>
                  <a:pt x="260" y="688"/>
                  <a:pt x="520" y="608"/>
                  <a:pt x="672" y="480"/>
                </a:cubicBezTo>
                <a:cubicBezTo>
                  <a:pt x="824" y="352"/>
                  <a:pt x="872" y="80"/>
                  <a:pt x="91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6705720" y="15238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6705720" y="3429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670572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304920" y="5105520"/>
            <a:ext cx="53337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бщих издерж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остоянных издерж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еременных издерж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365760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5530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380880" y="4114800"/>
            <a:ext cx="2286000" cy="376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3809880" y="1219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7"/>
          <p:cNvSpPr/>
          <p:nvPr/>
        </p:nvSpPr>
        <p:spPr>
          <a:xfrm>
            <a:off x="6705720" y="114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57913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84582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0"/>
          <p:cNvSpPr/>
          <p:nvPr/>
        </p:nvSpPr>
        <p:spPr>
          <a:xfrm>
            <a:off x="365760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655308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523880" y="304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нести графики и их наз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3"/>
          <p:cNvSpPr/>
          <p:nvPr/>
        </p:nvSpPr>
        <p:spPr>
          <a:xfrm>
            <a:off x="380880" y="304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9907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6252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7010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 определить величину переменных издержек на данном производстве в точке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 flipV="1">
            <a:off x="609480" y="999720"/>
            <a:ext cx="1800" cy="380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457200" y="4495680"/>
            <a:ext cx="41641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609480" y="1965240"/>
            <a:ext cx="3886200" cy="138744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2016" h="720">
                <a:moveTo>
                  <a:pt x="0" y="720"/>
                </a:moveTo>
                <a:cubicBezTo>
                  <a:pt x="148" y="612"/>
                  <a:pt x="296" y="504"/>
                  <a:pt x="528" y="480"/>
                </a:cubicBezTo>
                <a:cubicBezTo>
                  <a:pt x="760" y="456"/>
                  <a:pt x="1144" y="656"/>
                  <a:pt x="1392" y="576"/>
                </a:cubicBezTo>
                <a:cubicBezTo>
                  <a:pt x="1640" y="496"/>
                  <a:pt x="1904" y="96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86200" y="1981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2286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52280" y="21463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28600" y="30607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28600" y="411336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80880" y="623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80988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8:50:3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