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82E9-B1E1-4B7E-BBBE-1E63CF2EF8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ско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A81-490D-4416-8902-C16E0AFE96D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2F4-78C7-40F3-AADC-C2E827EBC33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68CD-6717-49B4-8394-49CE9A106B4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F037-774E-4E9C-9CC1-FBBD4BD01F6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78B4-4505-49C6-A2D1-2D10D37A7DB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1 №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C9B-6C1D-45AE-994F-A12679D0B8F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0 №52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A268-A23E-4CCC-96E5-4F60B8A7304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60A-192D-46F8-8DB3-7A49ACC5E65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умн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2F06-1C07-4833-AE26-16E4E76A648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+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A2C1-EB20-40BF-87B5-83B8C2116F4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-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B77C-1A46-4697-8A3E-09C3FED8460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0482-34B3-44B2-8CFB-5798BDDB251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F4AC-3E9C-46CC-A46B-CC889673577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йте скоб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A123-3ECE-4FA5-9C57-11DD9C46A95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крой скоб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6A75-6B26-4B60-AA61-76359323748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9B6-9C14-406F-932C-2C3664D6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E56-FDED-4D16-9CE1-EE34CC2B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5E6-D9F8-46F9-BF0A-D7772ED9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B99-D0FC-4A21-BF61-75266111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8E07-421C-4B8E-836D-9E282FE0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C96D-131D-409F-B665-65BFDC9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8642-F7A2-4CA8-BA7D-8D3039F9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5BAB-3E6C-43B4-89E0-F8073DEE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BA11-408E-4DA7-8200-DF744670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B8C5-D87B-4B32-B1AB-89525B90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1A07-803F-410C-B55D-791C8FB6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AAD-5DB6-483F-A84F-520D7645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35BF-A003-44C7-8A7F-4205807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BA47-4992-4DB3-80EF-E928B12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BDC5-C9FD-4615-8D04-E41B124A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B9D0-86E7-4F73-B49F-3A93D4A2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8CD3-36BF-4885-A19D-954348DC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F08-AFAC-4AF3-A3A8-DC541DAF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556-842F-4D8E-B2D7-2B8ED58E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E19-4B62-459E-95D9-63E3C303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038-F30A-45F7-A3E2-45B41566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DAC-0D13-497F-95A8-32882D77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48D-66E4-4C9D-84C8-F5C51C85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0EA-C5C2-4561-8AB9-9E714105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4F9-FE94-4023-AE3F-D12F8442DB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5108-C388-4D35-8697-F0B7B66098A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LEGION</cp:lastModifiedBy>
  <dcterms:modified xsi:type="dcterms:W3CDTF">2015-01-23T13:24:43Z</dcterms:modified>
  <cp:revision>6</cp:revision>
  <dc:subject/>
  <dc:title>Тема урока:  Раскрытие скобок.</dc:title>
</cp:coreProperties>
</file>