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wmf" ContentType="image/x-wmf"/>
  <Override PartName="/ppt/media/driveby.wav" ContentType="audio/x-wav"/>
  <Override PartName="/ppt/media/image4.gif" ContentType="image/gif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8426-657B-4BCC-9865-956F224463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ско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6746-9539-46D8-8D82-0815F664132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4DA6-AD9D-4064-9137-61CCBF77474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C0CC-E2CC-4612-92FA-3F9DF3ABA4C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1046-E5F0-4078-9941-00CFAA9A31C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F26A-3153-4775-92E3-2E59BAADE03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1 №5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7B70-F35D-4318-9A9A-5A1669F80C5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0 №52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3528-3647-4486-B73C-A6C3F9642BA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действия:</a:t>
            </a: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EE97-CB5F-4069-AE99-35ED0E7121F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умн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A7CF-0487-4106-95B8-D337C4063B4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+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7D56-6561-4BC6-993A-965FB73E1D3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-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6380-3C0F-44C7-8C94-6AF86F54ECC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8626-38D9-4FCD-B46B-109640C3D56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F332-EA28-45A3-B34C-762E26B6D75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йте скоб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38A4-3AF3-40B7-B11C-3E568F5221B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крой скоб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AC75-BFF4-4D57-B1C6-A6CEEE156CC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077-B278-411E-AF51-918B1989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EAA-AF9F-44A7-89ED-B61A8057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4A2-DBC4-4B5B-9040-666E6903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8DE-83DA-42A3-A621-FED60C42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6A9E-045C-4089-AAD0-A02E95D9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596C-4EEC-46E1-9C7E-2CFAAFDB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85F4-B653-47F6-98C4-C8E8BE8D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1900-2ED6-4BFD-B484-444260FF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96DB-51D2-4BE7-AA06-342AEE33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EC4C-15CD-4A44-B9B3-404F462F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7F95-1AF0-4965-AD8F-481E8FA3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EB0-8289-405B-9A50-0BEAA203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696F-0A88-433A-A748-6E9DA361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2B0E-9200-4316-BAFF-8CEF2139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0337-A0EE-4F2A-835C-33A1E880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4FD1-9AFE-483F-9F81-9C3CE09E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C0BB-492B-4266-95AB-80A18861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E71-44CC-44A6-BBB8-B252BFD1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934-ADBF-4F05-A3E3-4582B4DE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B64-F10F-4508-B92F-8CA546AC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609-6CB9-42BD-B3BD-0D6E7686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D53-FF05-4A0A-B9FA-A417F77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E71-E075-4325-8BB3-778D507C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D5F-2671-4959-B496-0118518C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68E6-0C0A-4950-995D-FCBCBE3E53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1568-4F8B-4053-82F5-F3449015829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ытие скоб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5" descr="удивленный мышонок"/>
          <p:cNvPicPr/>
          <p:nvPr/>
        </p:nvPicPr>
        <p:blipFill>
          <a:blip r:embed="rId1"/>
          <a:stretch/>
        </p:blipFill>
        <p:spPr>
          <a:xfrm>
            <a:off x="539640" y="3716280"/>
            <a:ext cx="1746360" cy="275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0196200"/>
          <p:cNvPicPr/>
          <p:nvPr/>
        </p:nvPicPr>
        <p:blipFill>
          <a:blip r:embed="rId2"/>
          <a:stretch/>
        </p:blipFill>
        <p:spPr>
          <a:xfrm>
            <a:off x="6012000" y="404640"/>
            <a:ext cx="2736720" cy="21654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3100320" y="4292640"/>
            <a:ext cx="3827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офимова Елена Иозас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Абаза, 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8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39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64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3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78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80920" cy="2603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2530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97400" cy="45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1 №5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100160" cy="112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мышонок читает"/>
          <p:cNvPicPr/>
          <p:nvPr/>
        </p:nvPicPr>
        <p:blipFill>
          <a:blip r:embed="rId2"/>
          <a:stretch/>
        </p:blipFill>
        <p:spPr>
          <a:xfrm>
            <a:off x="6804000" y="2924280"/>
            <a:ext cx="1684440" cy="25984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342120" cy="36432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0 №52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действия:</a:t>
            </a:r>
            <a:r>
              <a:rPr b="1" i="1" lang="ru-RU" sz="4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59280" y="1268280"/>
            <a:ext cx="111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932360" y="1844640"/>
            <a:ext cx="13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076720" y="2421000"/>
            <a:ext cx="144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435640" y="306864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219640" y="364500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219640" y="422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148360" y="479736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219640" y="53737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5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умнож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467480" y="2276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596360" y="36450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68360" y="98100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0,3  · (-0,5)  · 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0,2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 · (- 6,3) · (-4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-2,5) · (0,4) · 50 · (-0,02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rc 9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rc 11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rc 12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7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20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rc 5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rc 6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rc 7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6485040" cy="27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2636640"/>
            <a:ext cx="6485040" cy="28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ойте скоб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5007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скрой скобк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60036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03280" y="1412640"/>
            <a:ext cx="396108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33200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86728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42:51Z</dcterms:created>
  <dc:creator>Трофимов</dc:creator>
  <dc:description/>
  <dc:language>en-US</dc:language>
  <cp:lastModifiedBy>LEGION</cp:lastModifiedBy>
  <dcterms:modified xsi:type="dcterms:W3CDTF">2015-01-23T13:24:43Z</dcterms:modified>
  <cp:revision>6</cp:revision>
  <dc:subject/>
  <dc:title>Тема урока:  Раскрытие скобок.</dc:title>
</cp:coreProperties>
</file>