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wmf" ContentType="image/x-wmf"/>
  <Override PartName="/ppt/media/driveby.wav" ContentType="audio/x-wav"/>
  <Override PartName="/ppt/media/image4.gif" ContentType="image/gif"/>
  <Override PartName="/ppt/media/image7.wmf" ContentType="image/x-wm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9E56-18FB-4F11-AF99-C191BE2D32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ма урок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ие скоб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40D9-D876-4A02-B8D8-03E9AE33161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3 + 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39E2-91D6-4CAB-9726-8B38C63FD50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3 + 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638A-F12C-4F84-85CF-00DFC519F5E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х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2F62-8F45-4874-B116-BB9D1FD7725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ь таблиц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= - х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0D78-A54F-48D5-A28F-F3F1A5DBDFF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учебни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121 №5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1FA1-B3FC-4C57-A2E0-A81E865031B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120 №52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649C-51E3-4DD2-9117-1541355C085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바탕"/>
              </a:rPr>
              <a:t>Выполните действия:</a:t>
            </a: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70 : 10  =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60 : (-2)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160 + 40 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300 : (-100)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(-90)+(- 909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150 + 4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- 90 + 125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바탕"/>
              </a:rPr>
              <a:t>8. (- 400)+(- 111)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5A59-E84F-48D1-BD13-D73D289ABA2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바탕"/>
              </a:rPr>
              <a:t>Выполните умно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DDC9-945E-45E6-8F4C-A3932BC0F67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+(а – в + с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еред скобками стоит знак +, это значит, что все слагаемые в скобках надо умножить на 1, т.е., РАСКРЫВАЯ СКОБКИ , ОСТАВИТЬ ИХ БЕЗ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32B1-6D82-4F95-943C-75AEDAD7485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-(а – в + с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еред скобками стоит знак -, это значит, что все слагаемые в скобках надо умножить на - 1, т.е., РАСКРЫВАЯ СКОБКИ , ИЗМЕНИТЬ ЗНАКИ СЛАГАЕМЫХ НА ПРОТИВОПОЛОЖ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6CDD-DEFA-4FE8-81BF-6211F01E253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запи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=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879A-E101-4338-BBF6-26D48F40BF7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должить запись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=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2316-68D5-4934-8511-FEEBF15E01B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ойте скоб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41(2 – ху – 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71(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- 20 + а – 3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2(в - 100 – 4а)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33(2х – ху + 3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8(- а +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65 + а – 98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1(в – 2с – 3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0016-4A7A-4365-82C1-FFA6F705A4B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крой скоб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4(5 – х – 6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81(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25 + а – 4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1(- в - 5 – 6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9(8 + х – 4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8(- а - в +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5 - а + 54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00(в + 9 – 3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3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+ ху – 6у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1(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 (21 - а – 66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0(- с - 49 + 3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6(9 – а – 5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57(- а + в – с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 (85 - а – 404в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51(в - 10 + а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7749-2E1C-4432-A933-FE712B44762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29C-8B7C-413A-8719-9319C992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7FC4-9ADD-4327-8845-4467FB2D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E5E-D691-4752-8546-43B01F7E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CCBA-0DF0-4A6E-94A9-60606B77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5B7E-8C77-45BB-8D1D-059991BE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4F55-8F0D-4DB8-8F73-0D813BFB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605E-2332-425D-9D99-F67D758F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4400-5A21-4818-BBF0-73A65F2F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6EAC-E2DE-446E-8CC6-AB9D73CD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A6EC-15DA-493F-97CE-6C31ABDB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4267-96C6-4842-A1E6-67549391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C3AB-AD09-48A1-BBB9-643FED0C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5D71-B802-4355-A91E-8937AFA8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0FA5-F826-43B4-B6A1-B9DAE43D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0BAB-0454-4566-88C5-E6169DA9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9681-2176-4061-8B6F-44F18403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5635-4999-425B-9AC7-16C3F764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799-023A-40D1-9DCB-28575316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D8E6-4DCF-431E-85B8-48F57440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819-9598-4560-8611-768D5A2D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8479-D8A2-47D6-BD18-271F0589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E4E9-C655-4900-A43F-3650B187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BDF2-0522-48A5-8434-1D119F43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0B10-DCD6-4FE1-A99D-BF48B4BF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8F57-0B9D-4D15-B41F-C218FBC149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1D7C-4C3B-47A8-983D-37CF0AF14376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Тема урока: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крытие скобок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5" descr="удивленный мышонок"/>
          <p:cNvPicPr/>
          <p:nvPr/>
        </p:nvPicPr>
        <p:blipFill>
          <a:blip r:embed="rId1"/>
          <a:stretch/>
        </p:blipFill>
        <p:spPr>
          <a:xfrm>
            <a:off x="539640" y="3716280"/>
            <a:ext cx="1746360" cy="2755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j0196200"/>
          <p:cNvPicPr/>
          <p:nvPr/>
        </p:nvPicPr>
        <p:blipFill>
          <a:blip r:embed="rId2"/>
          <a:stretch/>
        </p:blipFill>
        <p:spPr>
          <a:xfrm>
            <a:off x="6012000" y="404640"/>
            <a:ext cx="2736720" cy="21654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"/>
          <p:cNvSpPr/>
          <p:nvPr/>
        </p:nvSpPr>
        <p:spPr>
          <a:xfrm>
            <a:off x="3100320" y="4292640"/>
            <a:ext cx="38275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втор: учитель математики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офимова Елена Иозас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. Абаза, 2013 г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3 + 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71" name="Rectangle 38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39" descr="crayon1"/>
          <p:cNvPicPr/>
          <p:nvPr/>
        </p:nvPicPr>
        <p:blipFill>
          <a:blip r:embed="rId1"/>
          <a:stretch/>
        </p:blipFill>
        <p:spPr>
          <a:xfrm>
            <a:off x="7264440" y="0"/>
            <a:ext cx="1879560" cy="27464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3 + 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76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33" descr="crayon1"/>
          <p:cNvPicPr/>
          <p:nvPr/>
        </p:nvPicPr>
        <p:blipFill>
          <a:blip r:embed="rId1"/>
          <a:stretch/>
        </p:blipFill>
        <p:spPr>
          <a:xfrm>
            <a:off x="7264440" y="0"/>
            <a:ext cx="1879560" cy="27478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х +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81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33" descr="crayon1"/>
          <p:cNvPicPr/>
          <p:nvPr/>
        </p:nvPicPr>
        <p:blipFill>
          <a:blip r:embed="rId1"/>
          <a:stretch/>
        </p:blipFill>
        <p:spPr>
          <a:xfrm>
            <a:off x="7093080" y="0"/>
            <a:ext cx="1780920" cy="26035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полнить таблицу,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сли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у = - х +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4360" y="2421000"/>
          <a:ext cx="7772400" cy="1614600"/>
        </p:xfrm>
        <a:graphic>
          <a:graphicData uri="http://schemas.openxmlformats.org/drawingml/2006/table">
            <a:tbl>
              <a:tblPr/>
              <a:tblGrid>
                <a:gridCol w="971280"/>
                <a:gridCol w="971640"/>
                <a:gridCol w="971640"/>
                <a:gridCol w="971640"/>
                <a:gridCol w="971280"/>
                <a:gridCol w="971640"/>
                <a:gridCol w="971640"/>
                <a:gridCol w="971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86" name="Rectangle 32"/>
          <p:cNvSpPr/>
          <p:nvPr/>
        </p:nvSpPr>
        <p:spPr>
          <a:xfrm>
            <a:off x="755640" y="4724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тметьте на координатной плоскости точки с координатами (х;у), взятыми из полученной таблиц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33" descr="crayon1"/>
          <p:cNvPicPr/>
          <p:nvPr/>
        </p:nvPicPr>
        <p:blipFill>
          <a:blip r:embed="rId1"/>
          <a:stretch/>
        </p:blipFill>
        <p:spPr>
          <a:xfrm>
            <a:off x="7093080" y="0"/>
            <a:ext cx="1730160" cy="25304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по учебнику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97400" cy="4506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. 121 №52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2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3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7308720" y="404640"/>
            <a:ext cx="1100160" cy="1125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мышонок читает"/>
          <p:cNvPicPr/>
          <p:nvPr/>
        </p:nvPicPr>
        <p:blipFill>
          <a:blip r:embed="rId2"/>
          <a:stretch/>
        </p:blipFill>
        <p:spPr>
          <a:xfrm>
            <a:off x="6804000" y="2924280"/>
            <a:ext cx="1684440" cy="25984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8560" y="2205000"/>
            <a:ext cx="6342120" cy="36432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. 120 №521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№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2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4716360" y="2637000"/>
            <a:ext cx="2519640" cy="25192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바탕"/>
              </a:rPr>
              <a:t>Выполните действия:</a:t>
            </a:r>
            <a:r>
              <a:rPr b="1" i="1" lang="ru-RU" sz="44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58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70 : 10  =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60 : (-2) 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160 + 40 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300 : (-100) =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(-90)+(- 909)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150 + 400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Bata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- 90 + 125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8. (- 400)+(- 111)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859280" y="1268280"/>
            <a:ext cx="1112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932360" y="1844640"/>
            <a:ext cx="13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5076720" y="2421000"/>
            <a:ext cx="1440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12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5435640" y="3068640"/>
            <a:ext cx="762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5219640" y="364500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219640" y="42210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25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5148360" y="479736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5219640" y="537372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  <a:ea typeface="Times New Roman"/>
              </a:rPr>
              <a:t>- 5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바탕"/>
              </a:rPr>
              <a:t>Выполните умнож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858000" y="914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467480" y="227664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6,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596360" y="364500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68360" y="981000"/>
            <a:ext cx="7488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0,3  · (-0,5)  ·  2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1)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0,25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-1) · (- 6,3) · (-4)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(-2,5) · (0,4) · 50 · (-0,02) =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+(а – в + с)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перед скобками стоит знак +, это значит, что все слагаемые в скобках надо умножить на 1, т.е., РАСКРЫВАЯ СКОБКИ , ОСТАВИТЬ ИХ БЕЗ ИЗМЕН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971640" y="486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+1</a:t>
            </a:r>
            <a:r>
              <a:rPr b="0" i="1" lang="en-US" sz="9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(а – в + с)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Arc 9"/>
          <p:cNvSpPr/>
          <p:nvPr/>
        </p:nvSpPr>
        <p:spPr>
          <a:xfrm>
            <a:off x="2268360" y="4724280"/>
            <a:ext cx="1417680" cy="542880"/>
          </a:xfrm>
          <a:custGeom>
            <a:avLst/>
            <a:gdLst/>
            <a:ahLst/>
            <a:rect l="l" t="t" r="r" b="b"/>
            <a:pathLst>
              <a:path fill="none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Arc 11"/>
          <p:cNvSpPr/>
          <p:nvPr/>
        </p:nvSpPr>
        <p:spPr>
          <a:xfrm>
            <a:off x="2268360" y="4654440"/>
            <a:ext cx="3095640" cy="567000"/>
          </a:xfrm>
          <a:custGeom>
            <a:avLst/>
            <a:gdLst/>
            <a:ahLst/>
            <a:rect l="l" t="t" r="r" b="b"/>
            <a:pathLst>
              <a:path fill="none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</a:path>
              <a:path stroke="0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rc 12"/>
          <p:cNvSpPr/>
          <p:nvPr/>
        </p:nvSpPr>
        <p:spPr>
          <a:xfrm>
            <a:off x="2341440" y="4586400"/>
            <a:ext cx="5051520" cy="569880"/>
          </a:xfrm>
          <a:custGeom>
            <a:avLst/>
            <a:gdLst/>
            <a:ahLst/>
            <a:rect l="l" t="t" r="r" b="b"/>
            <a:pathLst>
              <a:path fill="none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</a:path>
              <a:path stroke="0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356400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15"/>
          <p:cNvSpPr/>
          <p:nvPr/>
        </p:nvSpPr>
        <p:spPr>
          <a:xfrm flipH="1">
            <a:off x="3708000" y="5084640"/>
            <a:ext cx="7164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521964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17"/>
          <p:cNvSpPr/>
          <p:nvPr/>
        </p:nvSpPr>
        <p:spPr>
          <a:xfrm flipH="1">
            <a:off x="5364000" y="5084640"/>
            <a:ext cx="14472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7236000" y="5084640"/>
            <a:ext cx="144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20"/>
          <p:cNvSpPr/>
          <p:nvPr/>
        </p:nvSpPr>
        <p:spPr>
          <a:xfrm flipH="1">
            <a:off x="7380000" y="501336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-(а – в + с)</a:t>
            </a:r>
            <a:endParaRPr b="0" lang="en-US" sz="9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4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перед скобками стоит знак -, это значит, что все слагаемые в скобках надо умножить на - 1, т.е., РАСКРЫВАЯ СКОБКИ , ИЗМЕНИТЬ ЗНАКИ СЛАГАЕМЫХ НА ПРОТИВОПОЛОЖНЫ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71640" y="486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-1</a:t>
            </a:r>
            <a:r>
              <a:rPr b="0" i="1" lang="en-US" sz="9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0" i="1" lang="ru-RU" sz="9600" spc="-1" strike="noStrike">
                <a:solidFill>
                  <a:srgbClr val="333399"/>
                </a:solidFill>
                <a:latin typeface="Times New Roman"/>
              </a:rPr>
              <a:t>(а – в + с)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rc 5"/>
          <p:cNvSpPr/>
          <p:nvPr/>
        </p:nvSpPr>
        <p:spPr>
          <a:xfrm>
            <a:off x="2268360" y="4724280"/>
            <a:ext cx="1417680" cy="542880"/>
          </a:xfrm>
          <a:custGeom>
            <a:avLst/>
            <a:gdLst/>
            <a:ahLst/>
            <a:rect l="l" t="t" r="r" b="b"/>
            <a:pathLst>
              <a:path fill="none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3016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rc 6"/>
          <p:cNvSpPr/>
          <p:nvPr/>
        </p:nvSpPr>
        <p:spPr>
          <a:xfrm>
            <a:off x="2268360" y="4654440"/>
            <a:ext cx="3095640" cy="567000"/>
          </a:xfrm>
          <a:custGeom>
            <a:avLst/>
            <a:gdLst/>
            <a:ahLst/>
            <a:rect l="l" t="t" r="r" b="b"/>
            <a:pathLst>
              <a:path fill="none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</a:path>
              <a:path stroke="0" w="43200" h="2405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20"/>
                  <a:pt x="-22383" y="23239"/>
                  <a:pt x="-22476" y="24055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rc 7"/>
          <p:cNvSpPr/>
          <p:nvPr/>
        </p:nvSpPr>
        <p:spPr>
          <a:xfrm>
            <a:off x="2341440" y="4586400"/>
            <a:ext cx="5051520" cy="569880"/>
          </a:xfrm>
          <a:custGeom>
            <a:avLst/>
            <a:gdLst/>
            <a:ahLst/>
            <a:rect l="l" t="t" r="r" b="b"/>
            <a:pathLst>
              <a:path fill="none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</a:path>
              <a:path stroke="0" w="43200" h="24185">
                <a:moveTo>
                  <a:pt x="46" y="23015"/>
                </a:moveTo>
                <a:cubicBezTo>
                  <a:pt x="15" y="22544"/>
                  <a:pt x="0" y="22072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2463"/>
                  <a:pt x="-22388" y="23327"/>
                  <a:pt x="-22492" y="24184"/>
                </a:cubicBezTo>
                <a:lnTo>
                  <a:pt x="21600" y="21600"/>
                </a:lnTo>
                <a:lnTo>
                  <a:pt x="46" y="2301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356400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3708000" y="5084640"/>
            <a:ext cx="7164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5219640" y="5084640"/>
            <a:ext cx="14436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11"/>
          <p:cNvSpPr/>
          <p:nvPr/>
        </p:nvSpPr>
        <p:spPr>
          <a:xfrm flipH="1">
            <a:off x="5364000" y="5084640"/>
            <a:ext cx="14472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7236000" y="5084640"/>
            <a:ext cx="14436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13"/>
          <p:cNvSpPr/>
          <p:nvPr/>
        </p:nvSpPr>
        <p:spPr>
          <a:xfrm flipH="1">
            <a:off x="7380000" y="501336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должить запис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58920" y="2349000"/>
            <a:ext cx="6485040" cy="2706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= …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должить запись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7280" y="2636640"/>
            <a:ext cx="6485040" cy="2850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(а – в + с) =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= …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скройте скоб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41(2 – ху – у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71( а + в – с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(- 20 + а – 3в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2(в - 100 – 4а) =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33(2х – ху + 3у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18(- а + в + с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- (65 + а – 98в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31(в – 2с – 3а) =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00360" y="333360"/>
            <a:ext cx="45007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Раскрой скобки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600360" cy="518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4(5 – х – 6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81(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25 + а – 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1(- в - 5 – 6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9(8 + х – 4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8(- а - в +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5 - а + 5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0(в + 9 – 3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03280" y="1412640"/>
            <a:ext cx="3961080" cy="518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3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+ ху – 6у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1(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 (21 - а – 66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0(- с - 49 + 3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6(9 – а – 5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7(- а + в – с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(85 - а – 404в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51(в - 10 + а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332000" y="907920"/>
            <a:ext cx="22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5867280" y="907920"/>
            <a:ext cx="22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0:42:51Z</dcterms:created>
  <dc:creator>Трофимов</dc:creator>
  <dc:description/>
  <dc:language>en-US</dc:language>
  <cp:lastModifiedBy>LEGION</cp:lastModifiedBy>
  <dcterms:modified xsi:type="dcterms:W3CDTF">2015-01-23T13:24:43Z</dcterms:modified>
  <cp:revision>6</cp:revision>
  <dc:subject/>
  <dc:title>Тема урока:  Раскрытие скобок.</dc:title>
</cp:coreProperties>
</file>