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D824-AB16-42C9-A5A7-163458EC94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1800"/>
            </a:br>
            <a:r>
              <a:rPr b="1" i="1" lang="ru-RU" sz="1400" spc="-1" strike="noStrike">
                <a:solidFill>
                  <a:srgbClr val="000000"/>
                </a:solidFill>
                <a:latin typeface="Bookman Old Style"/>
              </a:rPr>
              <a:t>Урок-путешествие вокруг  Зем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3F08-93C3-4AB6-9F93-B28A711BA72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Когда Луна сверкнёт во тьме ночной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воим серпом, блистательным и нежным,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Моя душа стремиться в мир большой, 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Пленяясь всем далёким, всем безбрежным.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К. Бельм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7B5D-27B7-46AF-AE1B-A531FEA65B0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바탕"/>
              </a:rPr>
              <a:t>Необходимые астрономические еди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5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8F32-5573-451B-94BD-27CB9D8A31E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830D-99C9-438B-ABEF-2219216B697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2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14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8DF3-4467-43F2-8B85-149307A0C3B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9E17-6DD2-472F-8589-189515FF8E3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1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C9D1-FBA4-4A06-833F-199D3728163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2B0-C0C1-494E-B1CD-5EB62D96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ED1-9D1C-47D7-A63F-ECDBBE38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D55-4806-4991-B706-0D180A22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F47-DEEF-4516-8ED8-67CCAD3F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1784-61B4-4E02-999C-886946D2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EA96-13B6-4391-93CC-D56497C1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2485-3E7E-4880-AF41-31CF68D4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BA6E-24B3-4167-9BB5-0974E334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7EE2-9996-4F67-B798-C947FBD0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1B96-BA05-4E25-AB10-4D33D9B6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4DE2-DCEB-470F-9735-05A98564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A24-1EA9-4156-8F25-D7973E0F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5C78-F291-48AA-A812-637B425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BCD7-3E89-4923-B7D1-BDA17485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00FA-51E0-4308-95E4-4F62D843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61D6-4A1F-4E76-B153-E537C3E3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37EF-01F0-47E1-92A4-31E629DF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644-F762-4E7B-A105-18FC853A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485-887D-4F81-B6A0-9A165AAB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5FD-8534-4429-9BC2-6838FC7A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B59-580D-44C9-A573-C35F72D2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86E-6FA5-48E8-91F1-158FB5DF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12D-404F-4CCA-809A-47DEB426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03A-CF90-4A2F-A626-4D3B92BB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.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.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.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.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оуг.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оуг.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FDBC-AAAA-4BD5-A5CE-AE6639F9BF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Группа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Прямоуг.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Прямоуг.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Группа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Прямоуг.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Прямоуг.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Прямоуг.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Прямоуг.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Прямоуг.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25A5-22AA-43E5-A470-41C6555FF5B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3600"/>
            </a:br>
            <a:r>
              <a:rPr b="1" i="1" lang="ru-RU" sz="2800" spc="-1" strike="noStrike">
                <a:solidFill>
                  <a:srgbClr val="333399"/>
                </a:solidFill>
                <a:latin typeface="Bookman Old Style"/>
              </a:rPr>
              <a:t>Урок-путешествие вокруг  Земл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Рисунок 4" descr="стандартный вид числа 001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1458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792920" cy="3456000"/>
          </a:xfrm>
          <a:prstGeom prst="rect">
            <a:avLst/>
          </a:prstGeom>
          <a:solidFill>
            <a:srgbClr val="b3e6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Когда Луна сверкнёт во тьме ночн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Своим серпом, блистательным и нежным,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Моя душа стремиться в мир большой, 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Пленяясь всем далёким, всем безбрежным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                                                   К. Бельмонт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Рисунок 14" descr="стандартный вид числа 009"/>
          <p:cNvPicPr/>
          <p:nvPr/>
        </p:nvPicPr>
        <p:blipFill>
          <a:blip r:embed="rId1"/>
          <a:stretch/>
        </p:blipFill>
        <p:spPr>
          <a:xfrm>
            <a:off x="611280" y="4005360"/>
            <a:ext cx="8281800" cy="2519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5" descr="Стандартный вид числа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바탕"/>
              </a:rPr>
              <a:t>Необходимые астрономические единиц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5" descr="стандартный вид числа 004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стандартный вид числа 003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3200"/>
            </a:b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1" name="Рисунок 4" descr="стандартный вид числа 002"/>
          <p:cNvPicPr/>
          <p:nvPr/>
        </p:nvPicPr>
        <p:blipFill>
          <a:blip r:embed="rId1"/>
          <a:stretch/>
        </p:blipFill>
        <p:spPr>
          <a:xfrm>
            <a:off x="2771640" y="4797360"/>
            <a:ext cx="4194360" cy="1170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. 8"/>
          <p:cNvSpPr/>
          <p:nvPr/>
        </p:nvSpPr>
        <p:spPr>
          <a:xfrm>
            <a:off x="3506760" y="1848960"/>
            <a:ext cx="200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7,34 * 1025г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c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= 12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 = -17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1 км/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4 раз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6 р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8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242100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4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72000" y="206064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Рисунок 4" descr="стандартный вид числа 006"/>
          <p:cNvPicPr/>
          <p:nvPr/>
        </p:nvPicPr>
        <p:blipFill>
          <a:blip r:embed="rId1"/>
          <a:stretch/>
        </p:blipFill>
        <p:spPr>
          <a:xfrm>
            <a:off x="6084720" y="4869000"/>
            <a:ext cx="2808360" cy="172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8001d"/>
                </a:solidFill>
                <a:latin typeface="Bookman Old Style"/>
              </a:rPr>
              <a:t>  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4764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Рисунок 4" descr="стандартный вид числа 007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. 8"/>
          <p:cNvSpPr/>
          <p:nvPr/>
        </p:nvSpPr>
        <p:spPr>
          <a:xfrm>
            <a:off x="468360" y="610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6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5:35:42Z</dcterms:created>
  <dc:creator> ЛУИЗА</dc:creator>
  <dc:description/>
  <dc:language>en-US</dc:language>
  <cp:lastModifiedBy>LEGION</cp:lastModifiedBy>
  <dcterms:modified xsi:type="dcterms:W3CDTF">2015-01-23T13:25:04Z</dcterms:modified>
  <cp:revision>8</cp:revision>
  <dc:subject/>
  <dc:title>Стандартный вид числа Урок-путешествие вокруг  Земли</dc:title>
</cp:coreProperties>
</file>