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02AA-E082-4107-8793-45BFD74998A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Bookman Old Style"/>
              </a:rPr>
              <a:t>Стандартный вид числа</a:t>
            </a:r>
            <a:br>
              <a:rPr sz="1800"/>
            </a:br>
            <a:r>
              <a:rPr b="1" i="1" lang="ru-RU" sz="1400" spc="-1" strike="noStrike">
                <a:solidFill>
                  <a:srgbClr val="000000"/>
                </a:solidFill>
                <a:latin typeface="Bookman Old Style"/>
              </a:rPr>
              <a:t>Урок-путешествие вокруг  Зем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Алгебра,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Учитель математики                МОУ «СОШ №8» г. Канаш Ч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ХАЛИУЛИНА Л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95A1-4B4D-4E76-B2BA-7C1196886F7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Когда Луна сверкнёт во тьме ночной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Своим серпом, блистательным и нежным,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Моя душа стремиться в мир большой,  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Пленяясь всем далёким, всем безбрежным.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К. Бельмо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1E76-BF90-4C0C-A2ED-22EEACFA0FD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바탕"/>
              </a:rPr>
              <a:t>Необходимые астрономические едини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пс = 206265 а.е.  (1 парс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с.г.= 63240 а.е.     (1 световой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а.е.=149 600 000 км (1 астрономическая един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с.г.= 9 460 000 000 000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пс = 3,26 с.г. = 30 860 000 000 000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80000"/>
                </a:solidFill>
                <a:latin typeface="바탕"/>
              </a:rPr>
              <a:t>d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Н</a:t>
            </a:r>
            <a:r>
              <a:rPr b="1" lang="ru-RU" sz="500" spc="-1" strike="noStrike">
                <a:solidFill>
                  <a:srgbClr val="680000"/>
                </a:solidFill>
                <a:latin typeface="바탕"/>
              </a:rPr>
              <a:t>2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О 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 = 0,000 000 000 3 м  (диаметр молекулы 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80000"/>
                </a:solidFill>
                <a:latin typeface="바탕"/>
              </a:rPr>
              <a:t>m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л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 = 73 400 000 000 000 000 000 т (масса Лу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BBDF-DB7A-476F-9F95-62D31C8710C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Краткая информация </a:t>
            </a:r>
            <a:br>
              <a:rPr sz="1200"/>
            </a:b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                                  о Лу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EA3D-D988-4528-9B80-A21B0BFF1D5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Алгоритм записи числа в стандартном ви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</a:t>
            </a:r>
            <a:r>
              <a:rPr b="1" i="1" lang="ru-RU" sz="1200" spc="-1" strike="noStrike">
                <a:solidFill>
                  <a:srgbClr val="990000"/>
                </a:solidFill>
                <a:latin typeface="Bookman Old Style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Bookman Old Style"/>
              </a:rPr>
              <a:t>М</a:t>
            </a:r>
            <a:r>
              <a:rPr b="0" lang="ru-RU" sz="1400" spc="-1" strike="noStrike">
                <a:solidFill>
                  <a:srgbClr val="990000"/>
                </a:solidFill>
                <a:latin typeface="Bookman Old Style"/>
              </a:rPr>
              <a:t>л </a:t>
            </a:r>
            <a:r>
              <a:rPr b="1" i="1" lang="ru-RU" sz="1400" spc="-1" strike="noStrike">
                <a:solidFill>
                  <a:srgbClr val="990000"/>
                </a:solidFill>
                <a:latin typeface="Bookman Old Style"/>
              </a:rPr>
              <a:t>= 7,3 400 000 000 000 000 000 т = 7,34 * 10  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1. Поставить в данном числе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 p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запятую так, чт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в целой части оказалась одна, отличная от нуля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циф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2. Посчитать количество цифр, на которое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сместилась запятая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число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n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 – порядок числа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a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3. Умножить полученное число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на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*10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, 1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&lt;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n &lt; 10, n - 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цело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C307-C251-4522-955B-BA61F155E87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80000"/>
                </a:solidFill>
                <a:latin typeface="Bookman Old Style"/>
              </a:rPr>
              <a:t>Применить алгоритм записи числа в стандартном ви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Мо</a:t>
            </a:r>
            <a:r>
              <a:rPr b="1" i="1" lang="ru-RU" sz="1000" spc="-1" strike="noStrike">
                <a:solidFill>
                  <a:srgbClr val="234600"/>
                </a:solidFill>
                <a:latin typeface="Bookman Old Style"/>
              </a:rPr>
              <a:t>2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544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М</a:t>
            </a:r>
            <a:r>
              <a:rPr b="1" i="1" lang="ru-RU" sz="1000" spc="-1" strike="noStrike">
                <a:solidFill>
                  <a:srgbClr val="234600"/>
                </a:solidFill>
                <a:latin typeface="Bookman Old Style"/>
              </a:rPr>
              <a:t>Са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068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Al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о46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Mg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408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Ti</a:t>
            </a: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 = 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0,000 000 000 000 000 000 816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52593"/>
                </a:solidFill>
                <a:latin typeface="Bookman Old Style"/>
              </a:rPr>
              <a:t>Состав пробы грунта из моря Изобил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52593"/>
                </a:solidFill>
                <a:latin typeface="Bookman Old Style"/>
              </a:rPr>
              <a:t>О2 – 4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Ca -2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Al – 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Mg – 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Ti – 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C475-B875-439B-8488-48B1C0C112A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1) Расстояние от Земли до Луны 3,844∙10</a:t>
            </a:r>
            <a:r>
              <a:rPr b="1" i="1" lang="ru-RU" sz="1100" spc="-1" strike="noStrike">
                <a:solidFill>
                  <a:srgbClr val="680000"/>
                </a:solidFill>
                <a:latin typeface="Bookman Old Style"/>
              </a:rPr>
              <a:t>8</a:t>
            </a: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2) 1 с.г.=9,46∙1012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3) 1 с.г.=6,324∙104 а.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4) 1 пс = 3,086∙1013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92F1-461D-4623-AE91-C3D8DFDACBE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26E-B9BC-49B4-9D49-88EFE885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6B8-3D2A-410E-A15C-EB609888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8CA-BC74-4984-BB6A-B6269E6B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0C9-F646-4556-B85B-ACD51E5B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3333-EBF0-4760-A805-8EBE0538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DC52-B728-46F3-8C2B-C57B3666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FE61-CFF8-4D23-AD5F-7B71A091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575C-8E2F-4302-9612-772DD4D6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A60D-8ACA-4605-9D1C-9B77FD84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D282-D5C0-47F4-BD51-9DD0C580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EE87-967D-4672-8222-66953120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09F-3D69-46EB-AD97-D9A685A4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A0B3-EE57-4241-AC61-6E46D0CD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EFF9-99EC-428C-81B3-52F77093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0925-1221-4D6D-A71B-6BC31F29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8C13-68DA-4752-82E4-68EDF95E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3B43-E6BD-4A27-BDB8-C52AEFD2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07F-8A13-40FF-A6A9-40E878B0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EFF-36D8-42E2-97C8-37D51CB9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C8C-138B-45C0-B710-1D55DBC5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691-3DD0-4B63-AF98-2BE055D1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D4C2-BAB8-460B-9C90-37F18D6C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896-5BCC-4BB5-BE8D-4AAA3906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7F2-477C-415B-8E54-2CC4BD28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.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.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.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.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оуг.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оуг.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E49B-6729-4067-8CE5-0E29E92957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Группа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Прямоуг.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Прямоуг.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Группа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Прямоуг.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Прямоуг.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Прямоуг.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Прямоуг.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Прямоуг.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86DD-F275-433F-A1EC-FCD398804705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Bookman Old Style"/>
              </a:rPr>
              <a:t>Стандартный вид числа</a:t>
            </a:r>
            <a:br>
              <a:rPr sz="3600"/>
            </a:br>
            <a:r>
              <a:rPr b="1" i="1" lang="ru-RU" sz="2800" spc="-1" strike="noStrike">
                <a:solidFill>
                  <a:srgbClr val="333399"/>
                </a:solidFill>
                <a:latin typeface="Bookman Old Style"/>
              </a:rPr>
              <a:t>Урок-путешествие вокруг  Земл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Алгебра, 9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Учитель математики                МОУ «СОШ №8» г. Канаш Ч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ХАЛИУЛИНА Л.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Рисунок 4" descr="стандартный вид числа 001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14587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792920" cy="3456000"/>
          </a:xfrm>
          <a:prstGeom prst="rect">
            <a:avLst/>
          </a:prstGeom>
          <a:solidFill>
            <a:srgbClr val="b3e6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Когда Луна сверкнёт во тьме ночной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Своим серпом, блистательным и нежным,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Моя душа стремиться в мир большой, 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Пленяясь всем далёким, всем безбрежным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                                                   К. Бельмонт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Рисунок 14" descr="стандартный вид числа 009"/>
          <p:cNvPicPr/>
          <p:nvPr/>
        </p:nvPicPr>
        <p:blipFill>
          <a:blip r:embed="rId1"/>
          <a:stretch/>
        </p:blipFill>
        <p:spPr>
          <a:xfrm>
            <a:off x="611280" y="4005360"/>
            <a:ext cx="8281800" cy="25192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5" descr="Стандартный вид числа"/>
          <p:cNvPicPr/>
          <p:nvPr/>
        </p:nvPicPr>
        <p:blipFill>
          <a:blip r:embed="rId1"/>
          <a:stretch/>
        </p:blipFill>
        <p:spPr>
          <a:xfrm>
            <a:off x="250920" y="333360"/>
            <a:ext cx="8424720" cy="6120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바탕"/>
              </a:rPr>
              <a:t>Необходимые астрономические единиц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пс = 206265 а.е.  (1 парсек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с.г.= 63240 а.е.     (1 световой год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а.е.=149 600 000 км (1 астрономическая единица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с.г.= 9 460 000 000 000 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пс = 3,26 с.г. = 30 860 000 000 000 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0000"/>
                </a:solidFill>
                <a:latin typeface="바탕"/>
              </a:rPr>
              <a:t>d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Н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2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О </a:t>
            </a: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 = 0,000 000 000 3 м  (диаметр молекулы воды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0000"/>
                </a:solidFill>
                <a:latin typeface="바탕"/>
              </a:rPr>
              <a:t>m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л</a:t>
            </a: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 = 73 400 000 000 000 000 000 т (масса Луны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5" descr="стандартный вид числа 004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0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5" descr="стандартный вид числа 003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8243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Bookman Old Style"/>
              </a:rPr>
              <a:t>Краткая информация </a:t>
            </a:r>
            <a:br>
              <a:rPr sz="3200"/>
            </a:br>
            <a:r>
              <a:rPr b="1" i="1" lang="ru-RU" sz="3200" spc="-1" strike="noStrike">
                <a:solidFill>
                  <a:srgbClr val="996633"/>
                </a:solidFill>
                <a:latin typeface="Bookman Old Style"/>
              </a:rPr>
              <a:t>                                  о Лун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121" name="Рисунок 4" descr="стандартный вид числа 002"/>
          <p:cNvPicPr/>
          <p:nvPr/>
        </p:nvPicPr>
        <p:blipFill>
          <a:blip r:embed="rId1"/>
          <a:stretch/>
        </p:blipFill>
        <p:spPr>
          <a:xfrm>
            <a:off x="2771640" y="4797360"/>
            <a:ext cx="4194360" cy="1170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. 8"/>
          <p:cNvSpPr/>
          <p:nvPr/>
        </p:nvSpPr>
        <p:spPr>
          <a:xfrm>
            <a:off x="3506760" y="1848960"/>
            <a:ext cx="2003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= 7,34 * 1025г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 c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= 120 0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 = -170 0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= 1 км/с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&lt; R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з   в  4 раз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&lt; g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з   в  6 ра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Bookman Old Style"/>
              </a:rPr>
              <a:t>Алгоритм записи числа в стандартном вид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70028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</a:t>
            </a:r>
            <a:r>
              <a:rPr b="1" i="1" lang="ru-RU" sz="1800" spc="-1" strike="noStrike">
                <a:solidFill>
                  <a:srgbClr val="990000"/>
                </a:solidFill>
                <a:latin typeface="Bookman Old Style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Bookman Old Style"/>
              </a:rPr>
              <a:t>М</a:t>
            </a: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л </a:t>
            </a:r>
            <a:r>
              <a:rPr b="1" i="1" lang="ru-RU" sz="2000" spc="-1" strike="noStrike">
                <a:solidFill>
                  <a:srgbClr val="990000"/>
                </a:solidFill>
                <a:latin typeface="Bookman Old Style"/>
              </a:rPr>
              <a:t>= 7,3 400 000 000 000 000 000 т = 7,34 * 10  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1. Поставить в данном числе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 p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запятую так, что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целой части оказалась одна, отличная от нуля,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циф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2. Посчитать количество цифр, на которое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местилась запятая (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число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n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 – порядок числа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3. Умножить полученное число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на 1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*10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, 1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n &lt; 10, n -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0000"/>
                </a:solidFill>
                <a:latin typeface="Bookman Old Style"/>
              </a:rPr>
              <a:t>Применить алгоритм записи числа в стандартном вид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2421000"/>
            <a:ext cx="532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Мо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2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544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М</a:t>
            </a:r>
            <a:r>
              <a:rPr b="1" i="1" lang="ru-RU" sz="1400" spc="-1" strike="noStrike">
                <a:solidFill>
                  <a:srgbClr val="234600"/>
                </a:solidFill>
                <a:latin typeface="Bookman Old Style"/>
              </a:rPr>
              <a:t>Са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068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Al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о46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Mg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408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Ti</a:t>
            </a: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 = 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0,000 000 000 000 000 000 816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72000" y="206064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2593"/>
                </a:solidFill>
                <a:latin typeface="Bookman Old Style"/>
              </a:rPr>
              <a:t>Состав пробы грунта из моря Изобил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2593"/>
                </a:solidFill>
                <a:latin typeface="Bookman Old Style"/>
              </a:rPr>
              <a:t>О2 – 4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Ca -21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Al – 7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Mg – 6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Ti – 4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Рисунок 4" descr="стандартный вид числа 006"/>
          <p:cNvPicPr/>
          <p:nvPr/>
        </p:nvPicPr>
        <p:blipFill>
          <a:blip r:embed="rId1"/>
          <a:stretch/>
        </p:blipFill>
        <p:spPr>
          <a:xfrm>
            <a:off x="6084720" y="4869000"/>
            <a:ext cx="2808360" cy="17269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8001d"/>
                </a:solidFill>
                <a:latin typeface="Bookman Old Style"/>
              </a:rPr>
              <a:t>   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4764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Рисунок 4" descr="стандартный вид числа 007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. 8"/>
          <p:cNvSpPr/>
          <p:nvPr/>
        </p:nvSpPr>
        <p:spPr>
          <a:xfrm>
            <a:off x="468360" y="6109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1) Расстояние от Земли до Луны 3,844∙10</a:t>
            </a:r>
            <a:r>
              <a:rPr b="1" i="1" lang="ru-RU" sz="1600" spc="-1" strike="noStrike">
                <a:solidFill>
                  <a:srgbClr val="680000"/>
                </a:solidFill>
                <a:latin typeface="Bookman Old Style"/>
              </a:rPr>
              <a:t>8</a:t>
            </a: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2) 1 с.г.=9,46∙1012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3) 1 с.г.=6,324∙104 а.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4) 1 пс = 3,086∙1013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15:35:42Z</dcterms:created>
  <dc:creator> ЛУИЗА</dc:creator>
  <dc:description/>
  <dc:language>en-US</dc:language>
  <cp:lastModifiedBy>LEGION</cp:lastModifiedBy>
  <dcterms:modified xsi:type="dcterms:W3CDTF">2015-01-23T13:25:04Z</dcterms:modified>
  <cp:revision>8</cp:revision>
  <dc:subject/>
  <dc:title>Стандартный вид числа Урок-путешествие вокруг  Земли</dc:title>
</cp:coreProperties>
</file>