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32C52-B393-4968-B265-251DFEF1623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1800"/>
            </a:br>
            <a:r>
              <a:rPr b="1" i="1" lang="ru-RU" sz="1400" spc="-1" strike="noStrike">
                <a:solidFill>
                  <a:srgbClr val="000000"/>
                </a:solidFill>
                <a:latin typeface="Bookman Old Style"/>
              </a:rPr>
              <a:t>Урок-путешествие вокруг  Земл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481EE-61BC-4557-A5E3-E999C6FCFE2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Когда Луна сверкнёт во тьме ночной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воим серпом, блистательным и нежным,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Моя душа стремиться в мир большой,  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Пленяясь всем далёким, всем безбрежным.</a:t>
            </a:r>
            <a:br>
              <a:rPr sz="1200"/>
            </a:b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К. Бельмо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3CC4-5E8B-4E1E-9F9A-4DBEED5A03F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바탕"/>
              </a:rPr>
              <a:t>Необходимые астрономические едини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5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0A31-1868-4B5F-A48D-EDDD7FAC1C25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1200"/>
            </a:br>
            <a:r>
              <a:rPr b="1" i="1" lang="ru-RU" sz="1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8FE9-7ED9-4B66-9467-DE8CFD65CA9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2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14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14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0000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2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2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16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16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FA07-4B72-4D98-BC17-4D356F3A98E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0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0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2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72BD-A1BD-4A0E-872C-0945593DC19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1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D6AB-3D4C-4A3C-9E63-A9FF3D21CE2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72A-EC5E-44A2-9A7C-AE5FDD94F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17A-6BC2-4714-B513-04CA1C67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72F-02E0-4F77-AE69-297CC76C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E283-3DFA-4433-AD49-F8DA3D4B6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E921-E8AD-488C-9474-F5F6632FF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B7A4-AE6C-43EC-BE72-A5E567D9C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86A-874C-4A1E-BEB6-83515D86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68EF-AA4C-494D-9377-9E6588A4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7906-74D7-4419-8A3A-D08C5FBF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7E94-6A3A-441C-82E8-8B0EA67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066-C1B2-47FC-B8C0-685E41EB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8C9B-245F-4C83-A378-D9A5E2DA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39E6-5ABB-45BF-83CA-351AC6CE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5E0E-28A1-48C3-8A28-E6CB078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862EC-950A-4BE5-87E4-05705463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40FB-7284-4422-9E72-EEE4CCB29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32AF-3AAA-4619-924E-C4A47A7C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8429-C0D8-42AF-8041-BA96DA75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343-97E4-4592-9C5F-6775A2F0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72B-D7EC-48F2-9679-F5414404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5455-2125-4D92-9809-71F7E36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2ED-D53C-43A4-AB22-186CE077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7BB-C343-4DBC-9A16-6D30F04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904-C17C-43D5-A318-8F0236D5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рямоуг.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Прямоуг.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Прямоуг.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Прямоуг.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оуг.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оуг.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0F3FD-2243-43FA-AD86-5EA7D827ED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Группа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Группа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Прямоуг.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Прямоуг.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Группа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Прямоуг.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Прямоуг.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Прямоуг.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Прямоуг.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Прямоуг.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AA68B-60E3-4F46-93DD-A9A138842392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Bookman Old Style"/>
              </a:rPr>
              <a:t>Стандартный вид числа</a:t>
            </a:r>
            <a:br>
              <a:rPr sz="3600"/>
            </a:br>
            <a:r>
              <a:rPr b="1" i="1" lang="ru-RU" sz="2800" spc="-1" strike="noStrike">
                <a:solidFill>
                  <a:srgbClr val="333399"/>
                </a:solidFill>
                <a:latin typeface="Bookman Old Style"/>
              </a:rPr>
              <a:t>Урок-путешествие вокруг  Земл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Алгебра, 9 клас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Учитель математики                МОУ «СОШ №8» г. Канаш ЧР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6633"/>
                </a:solidFill>
                <a:latin typeface="Bookman Old Style"/>
              </a:rPr>
              <a:t>ХАЛИУЛИНА Л.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Рисунок 4" descr="стандартный вид числа 001"/>
          <p:cNvPicPr/>
          <p:nvPr/>
        </p:nvPicPr>
        <p:blipFill>
          <a:blip r:embed="rId1"/>
          <a:stretch/>
        </p:blipFill>
        <p:spPr>
          <a:xfrm>
            <a:off x="826920" y="549360"/>
            <a:ext cx="7561440" cy="14587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792920" cy="3456000"/>
          </a:xfrm>
          <a:prstGeom prst="rect">
            <a:avLst/>
          </a:prstGeom>
          <a:solidFill>
            <a:srgbClr val="b3e6ff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Когда Луна сверкнёт во тьме ночн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Своим серпом, блистательным и нежным,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Моя душа стремиться в мир большой,  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Пленяясь всем далёким, всем безбрежным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33399"/>
                </a:solidFill>
                <a:latin typeface="Bookman Old Style"/>
              </a:rPr>
              <a:t>                                                   К. Бельмонт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Рисунок 14" descr="стандартный вид числа 009"/>
          <p:cNvPicPr/>
          <p:nvPr/>
        </p:nvPicPr>
        <p:blipFill>
          <a:blip r:embed="rId1"/>
          <a:stretch/>
        </p:blipFill>
        <p:spPr>
          <a:xfrm>
            <a:off x="611280" y="4005360"/>
            <a:ext cx="8281800" cy="25192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5" descr="Стандартный вид числа"/>
          <p:cNvPicPr/>
          <p:nvPr/>
        </p:nvPicPr>
        <p:blipFill>
          <a:blip r:embed="rId1"/>
          <a:stretch/>
        </p:blipFill>
        <p:spPr>
          <a:xfrm>
            <a:off x="250920" y="333360"/>
            <a:ext cx="8424720" cy="6120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3200" spc="-1" strike="noStrike">
                <a:solidFill>
                  <a:srgbClr val="333399"/>
                </a:solidFill>
                <a:latin typeface="바탕"/>
              </a:rPr>
              <a:t>Необходимые астрономические единиц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206265 а.е.  (1 парсек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63240 а.е.     (1 световой го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а.е.=149 600 000 км (1 астрономическая единица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с.г.= 9 4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1 пс = 3,26 с.г. = 30 860 000 000 000 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d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Н</a:t>
            </a:r>
            <a:r>
              <a:rPr b="1" lang="ru-RU" sz="800" spc="-1" strike="noStrike">
                <a:solidFill>
                  <a:srgbClr val="680000"/>
                </a:solidFill>
                <a:latin typeface="바탕"/>
              </a:rPr>
              <a:t>2</a:t>
            </a:r>
            <a:r>
              <a:rPr b="1" lang="ru-RU" sz="1000" spc="-1" strike="noStrike">
                <a:solidFill>
                  <a:srgbClr val="680000"/>
                </a:solidFill>
                <a:latin typeface="바탕"/>
              </a:rPr>
              <a:t>О 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0,000 000 000 3 м  (диаметр молекулы вод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80000"/>
                </a:solidFill>
                <a:latin typeface="바탕"/>
              </a:rPr>
              <a:t>m</a:t>
            </a:r>
            <a:r>
              <a:rPr b="1" lang="ru-RU" sz="1200" spc="-1" strike="noStrike">
                <a:solidFill>
                  <a:srgbClr val="680000"/>
                </a:solidFill>
                <a:latin typeface="바탕"/>
              </a:rPr>
              <a:t>л</a:t>
            </a:r>
            <a:r>
              <a:rPr b="1" lang="ru-RU" sz="1800" spc="-1" strike="noStrike">
                <a:solidFill>
                  <a:srgbClr val="680000"/>
                </a:solidFill>
                <a:latin typeface="바탕"/>
              </a:rPr>
              <a:t> = 73 400 000 000 000 000 000 т (масса Луны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5" descr="стандартный вид числа 004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5" descr="стандартный вид числа 003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482436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Краткая информация </a:t>
            </a:r>
            <a:br>
              <a:rPr sz="3200"/>
            </a:br>
            <a:r>
              <a:rPr b="1" i="1" lang="ru-RU" sz="3200" spc="-1" strike="noStrike">
                <a:solidFill>
                  <a:srgbClr val="996633"/>
                </a:solidFill>
                <a:latin typeface="Bookman Old Style"/>
              </a:rPr>
              <a:t>                                  о Лун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pic>
        <p:nvPicPr>
          <p:cNvPr id="121" name="Рисунок 4" descr="стандартный вид числа 002"/>
          <p:cNvPicPr/>
          <p:nvPr/>
        </p:nvPicPr>
        <p:blipFill>
          <a:blip r:embed="rId1"/>
          <a:stretch/>
        </p:blipFill>
        <p:spPr>
          <a:xfrm>
            <a:off x="2771640" y="4797360"/>
            <a:ext cx="419436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. 8"/>
          <p:cNvSpPr/>
          <p:nvPr/>
        </p:nvSpPr>
        <p:spPr>
          <a:xfrm>
            <a:off x="3506760" y="1848960"/>
            <a:ext cx="20034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7,34 * 1025г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c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= 12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 = -170 0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= 1 км/с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R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4 раз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л 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&lt; g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з   в  6 р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Bookman Old Style"/>
              </a:rPr>
              <a:t>Алгоритм записи числа в стандартном вид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700280"/>
            <a:ext cx="77724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                                  </a:t>
            </a:r>
            <a:r>
              <a:rPr b="1" i="1" lang="ru-RU" sz="1800" spc="-1" strike="noStrike">
                <a:solidFill>
                  <a:srgbClr val="990000"/>
                </a:solidFill>
                <a:latin typeface="Bookman Old Style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М</a:t>
            </a:r>
            <a:r>
              <a:rPr b="0" lang="ru-RU" sz="2000" spc="-1" strike="noStrike">
                <a:solidFill>
                  <a:srgbClr val="990000"/>
                </a:solidFill>
                <a:latin typeface="Bookman Old Style"/>
              </a:rPr>
              <a:t>л </a:t>
            </a:r>
            <a:r>
              <a:rPr b="1" i="1" lang="ru-RU" sz="2000" spc="-1" strike="noStrike">
                <a:solidFill>
                  <a:srgbClr val="990000"/>
                </a:solidFill>
                <a:latin typeface="Bookman Old Style"/>
              </a:rPr>
              <a:t>= 7,3 400 000 000 000 000 000 т = 7,34 * 10  т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00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1. Поставить в данном числе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 p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запятую так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в целой части оказалась одна, отличная от нуля,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циф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2. Посчитать количество цифр, на которое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сместилась запятая (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число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n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 – порядок числа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            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3. Умножить полученное число </a:t>
            </a: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1800" spc="-1" strike="noStrike">
                <a:solidFill>
                  <a:srgbClr val="000000"/>
                </a:solidFill>
                <a:latin typeface="Bookman Old Style"/>
              </a:rPr>
              <a:t> на 10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61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p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*10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, 1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&lt;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n &lt; 10, n - </a:t>
            </a:r>
            <a:r>
              <a:rPr b="1" i="1" lang="ru-RU" sz="2400" spc="-1" strike="noStrike">
                <a:solidFill>
                  <a:srgbClr val="000000"/>
                </a:solidFill>
                <a:latin typeface="Bookman Old Style"/>
              </a:rPr>
              <a:t>цело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80000"/>
                </a:solidFill>
                <a:latin typeface="Bookman Old Style"/>
              </a:rPr>
              <a:t>Применить алгоритм записи числа в стандартном вид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560" y="2421000"/>
            <a:ext cx="532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о</a:t>
            </a:r>
            <a:r>
              <a:rPr b="1" i="1" lang="ru-RU" sz="1200" spc="-1" strike="noStrike">
                <a:solidFill>
                  <a:srgbClr val="234600"/>
                </a:solidFill>
                <a:latin typeface="Bookman Old Style"/>
              </a:rPr>
              <a:t>2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544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М</a:t>
            </a:r>
            <a:r>
              <a:rPr b="1" i="1" lang="ru-RU" sz="1400" spc="-1" strike="noStrike">
                <a:solidFill>
                  <a:srgbClr val="234600"/>
                </a:solidFill>
                <a:latin typeface="Bookman Old Style"/>
              </a:rPr>
              <a:t>Са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06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Al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о4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Mg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 = 0,000 000 000 000 000 000 408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M</a:t>
            </a:r>
            <a:r>
              <a:rPr b="1" i="1" lang="en-US" sz="1400" spc="-1" strike="noStrike">
                <a:solidFill>
                  <a:srgbClr val="234600"/>
                </a:solidFill>
                <a:latin typeface="Bookman Old Style"/>
              </a:rPr>
              <a:t>Ti</a:t>
            </a:r>
            <a:r>
              <a:rPr b="1" i="1" lang="en-US" sz="1800" spc="-1" strike="noStrike">
                <a:solidFill>
                  <a:srgbClr val="234600"/>
                </a:solidFill>
                <a:latin typeface="Bookman Old Style"/>
              </a:rPr>
              <a:t> = </a:t>
            </a:r>
            <a:r>
              <a:rPr b="1" i="1" lang="ru-RU" sz="1800" spc="-1" strike="noStrike">
                <a:solidFill>
                  <a:srgbClr val="234600"/>
                </a:solidFill>
                <a:latin typeface="Bookman Old Style"/>
              </a:rPr>
              <a:t>0,000 000 000 000 000 000 816 кг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372000" y="206064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Состав пробы грунта из моря Изобил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2593"/>
                </a:solidFill>
                <a:latin typeface="Bookman Old Style"/>
              </a:rPr>
              <a:t>О2 – 4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Ca -21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Al – 7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Mg – 6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2593"/>
                </a:solidFill>
                <a:latin typeface="Bookman Old Style"/>
              </a:rPr>
              <a:t>Ti – 4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Рисунок 4" descr="стандартный вид числа 006"/>
          <p:cNvPicPr/>
          <p:nvPr/>
        </p:nvPicPr>
        <p:blipFill>
          <a:blip r:embed="rId1"/>
          <a:stretch/>
        </p:blipFill>
        <p:spPr>
          <a:xfrm>
            <a:off x="6084720" y="4869000"/>
            <a:ext cx="2808360" cy="172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8001d"/>
                </a:solidFill>
                <a:latin typeface="Bookman Old Style"/>
              </a:rPr>
              <a:t>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4764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Рисунок 4" descr="стандартный вид числа 007"/>
          <p:cNvPicPr/>
          <p:nvPr/>
        </p:nvPicPr>
        <p:blipFill>
          <a:blip r:embed="rId1"/>
          <a:stretch/>
        </p:blipFill>
        <p:spPr>
          <a:xfrm>
            <a:off x="0" y="2205000"/>
            <a:ext cx="9144000" cy="465300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. 8"/>
          <p:cNvSpPr/>
          <p:nvPr/>
        </p:nvSpPr>
        <p:spPr>
          <a:xfrm>
            <a:off x="468360" y="6109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1) Расстояние от Земли до Луны 3,844∙10</a:t>
            </a:r>
            <a:r>
              <a:rPr b="1" i="1" lang="ru-RU" sz="1600" spc="-1" strike="noStrike">
                <a:solidFill>
                  <a:srgbClr val="680000"/>
                </a:solidFill>
                <a:latin typeface="Bookman Old Style"/>
              </a:rPr>
              <a:t>8</a:t>
            </a: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2) 1 с.г.=9,46∙1012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3) 1 с.г.=6,324∙104 а.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80000"/>
                </a:solidFill>
                <a:latin typeface="Bookman Old Style"/>
              </a:rPr>
              <a:t>4) 1 пс = 3,086∙1013к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5T15:35:42Z</dcterms:created>
  <dc:creator> ЛУИЗА</dc:creator>
  <dc:description/>
  <dc:language>en-US</dc:language>
  <cp:lastModifiedBy>LEGION</cp:lastModifiedBy>
  <dcterms:modified xsi:type="dcterms:W3CDTF">2015-01-23T13:25:04Z</dcterms:modified>
  <cp:revision>8</cp:revision>
  <dc:subject/>
  <dc:title>Стандартный вид числа Урок-путешествие вокруг  Земли</dc:title>
</cp:coreProperties>
</file>