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2053-A13D-4B26-87C6-D9C75D3988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Урок-путешествие вокруг  Зем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D227-21AA-4E95-8E23-084F15D0C7B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Когда Луна сверкнёт во тьме ночной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воим серпом, блистательным и нежным,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Моя душа стремиться в мир большой, 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Пленяясь всем далёким, всем безбрежным.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К. Бельм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1F72-2044-4387-BA0B-99A648FD00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</a:rPr>
              <a:t>Необходимые астрономические еди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5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A8C7-25B6-46EE-AF12-378ADBEE4BC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7465-F63A-41FF-A565-2072D04BB49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2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14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900C-8CD5-4DCD-A4AF-08EF6A03BED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3119-A194-4101-BEA1-C0BFC83D8B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1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697D-D6B4-462B-A9C7-D8DB6AAA7B2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D4A-ACC9-4FF7-ABA5-949A7F8D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B69-7756-4859-95EF-7A7339B9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3DD-AFAB-4A47-B36E-640BD695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B1F-61C3-49A6-A80E-7D5AD337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5D41-7FF3-42A7-BD00-1CAD6676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B8F6-0EE8-4D28-A50C-88E86B3F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1602-DE05-4B35-AD57-7189A3D6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F1C5-3BB3-4FAF-85E3-A959C495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3065-1993-4BF5-9D28-8D61E548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BB83-399A-4989-B9F5-BC46B78B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3075-75F2-480D-A316-1FBCABD0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0317-5398-41A1-822D-6B8BA43C6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2CCC-5ABC-4B0B-9A5E-04BAC969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5B89-C147-4168-8345-66C59DF1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8E7-F7CC-44A3-BB2A-C4BE03DC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E02D-B121-4F2E-A9E7-28399C8E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948A-AF84-4FE2-B4C0-5DE46933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B6C-6389-4C3D-8BCD-D7F40DE2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AE6-3EA4-4AF6-A5FB-3F8DA498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1521-4C6D-424E-BA41-453845C2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615D-E3BB-4BD9-83CB-3CB57E99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A60E-CBAC-4B02-8369-4F786AE7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EF8-955B-4D71-B962-8446AF3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B8D-DD71-4748-999A-583FDF00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.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.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.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.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.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.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5D16-79D5-4FC5-9669-230B26D64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Группа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Прямоуг.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Прямоуг.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Группа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Прямоуг.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Прямоуг.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Прямоуг.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Прямоуг.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Прямоуг.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49B-66FB-4559-B135-2626AD7443D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3600"/>
            </a:br>
            <a:r>
              <a:rPr b="1" i="1" lang="ru-RU" sz="2800" spc="-1" strike="noStrike">
                <a:solidFill>
                  <a:srgbClr val="333399"/>
                </a:solidFill>
                <a:latin typeface="Bookman Old Style"/>
              </a:rPr>
              <a:t>Урок-путешествие вокруг  Земл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Рисунок 4" descr="стандартный вид числа 001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1458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2920" cy="3456000"/>
          </a:xfrm>
          <a:prstGeom prst="rect">
            <a:avLst/>
          </a:prstGeom>
          <a:solidFill>
            <a:srgbClr val="b3e6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Когда Луна сверкнёт во тьме ночн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Своим серпом, блистательным и нежным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Моя душа стремиться в мир большой,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Пленяясь всем далёким, всем безбрежным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                                                   К. Бельмон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Рисунок 14" descr="стандартный вид числа 009"/>
          <p:cNvPicPr/>
          <p:nvPr/>
        </p:nvPicPr>
        <p:blipFill>
          <a:blip r:embed="rId1"/>
          <a:stretch/>
        </p:blipFill>
        <p:spPr>
          <a:xfrm>
            <a:off x="611280" y="4005360"/>
            <a:ext cx="8281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Стандартный вид числа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바탕"/>
              </a:rPr>
              <a:t>Необходимые астрономические единиц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стандартный вид числа 004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стандартный вид числа 00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" name="Рисунок 4" descr="стандартный вид числа 002"/>
          <p:cNvPicPr/>
          <p:nvPr/>
        </p:nvPicPr>
        <p:blipFill>
          <a:blip r:embed="rId1"/>
          <a:stretch/>
        </p:blipFill>
        <p:spPr>
          <a:xfrm>
            <a:off x="2771640" y="4797360"/>
            <a:ext cx="4194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8"/>
          <p:cNvSpPr/>
          <p:nvPr/>
        </p:nvSpPr>
        <p:spPr>
          <a:xfrm>
            <a:off x="3506760" y="1848960"/>
            <a:ext cx="200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7,34 * 1025г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c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= 12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 = -17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1 км/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4 раз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6 р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4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72000" y="206064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Рисунок 4" descr="стандартный вид числа 006"/>
          <p:cNvPicPr/>
          <p:nvPr/>
        </p:nvPicPr>
        <p:blipFill>
          <a:blip r:embed="rId1"/>
          <a:stretch/>
        </p:blipFill>
        <p:spPr>
          <a:xfrm>
            <a:off x="6084720" y="4869000"/>
            <a:ext cx="2808360" cy="172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8001d"/>
                </a:solidFill>
                <a:latin typeface="Bookman Old Style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Рисунок 4" descr="стандартный вид числа 007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. 8"/>
          <p:cNvSpPr/>
          <p:nvPr/>
        </p:nvSpPr>
        <p:spPr>
          <a:xfrm>
            <a:off x="468360" y="610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6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5:35:42Z</dcterms:created>
  <dc:creator> ЛУИЗА</dc:creator>
  <dc:description/>
  <dc:language>en-US</dc:language>
  <cp:lastModifiedBy>LEGION</cp:lastModifiedBy>
  <dcterms:modified xsi:type="dcterms:W3CDTF">2015-01-23T13:25:04Z</dcterms:modified>
  <cp:revision>8</cp:revision>
  <dc:subject/>
  <dc:title>Стандартный вид числа Урок-путешествие вокруг  Земли</dc:title>
</cp:coreProperties>
</file>