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0B61-6A60-40D1-8734-D1A959C686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Bookman Old Style"/>
              </a:rPr>
              <a:t>Стандартный вид числа</a:t>
            </a:r>
            <a:br>
              <a:rPr sz="1800"/>
            </a:br>
            <a:r>
              <a:rPr b="1" i="1" lang="ru-RU" sz="1400" spc="-1" strike="noStrike">
                <a:solidFill>
                  <a:srgbClr val="000000"/>
                </a:solidFill>
                <a:latin typeface="Bookman Old Style"/>
              </a:rPr>
              <a:t>Урок-путешествие вокруг  Зем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Алгебра,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Учитель математики                МОУ «СОШ №8» г. Канаш Ч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ХАЛИУЛИНА Л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B4BC-4A3E-4257-ABC1-47110036EAE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Когда Луна сверкнёт во тьме ночной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Своим серпом, блистательным и нежным,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Моя душа стремиться в мир большой,  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Пленяясь всем далёким, всем безбрежным.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К. Бельмо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8FD0-B72C-4B66-8174-1097EBF144E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바탕"/>
              </a:rPr>
              <a:t>Необходимые астрономические един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пс = 206265 а.е.  (1 парс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с.г.= 63240 а.е.     (1 световой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а.е.=149 600 000 км (1 астрономическая един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с.г.= 9 460 000 000 00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пс = 3,26 с.г. = 30 860 000 000 00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0000"/>
                </a:solidFill>
                <a:latin typeface="바탕"/>
              </a:rPr>
              <a:t>d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Н</a:t>
            </a:r>
            <a:r>
              <a:rPr b="1" lang="ru-RU" sz="500" spc="-1" strike="noStrike">
                <a:solidFill>
                  <a:srgbClr val="680000"/>
                </a:solidFill>
                <a:latin typeface="바탕"/>
              </a:rPr>
              <a:t>2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О 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 = 0,000 000 000 3 м  (диаметр молекулы 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0000"/>
                </a:solidFill>
                <a:latin typeface="바탕"/>
              </a:rPr>
              <a:t>m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л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 = 73 400 000 000 000 000 000 т (масса Лу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1A22-41E0-40A5-ABB9-B73652B2353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Краткая информация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                                  о Лу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FFB5-4FE5-4745-81CB-53076F36B4D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Алгоритм записи числа в стандартном ви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</a:t>
            </a:r>
            <a:r>
              <a:rPr b="1" i="1" lang="ru-RU" sz="1200" spc="-1" strike="noStrike">
                <a:solidFill>
                  <a:srgbClr val="990000"/>
                </a:solidFill>
                <a:latin typeface="Bookman Old Style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Bookman Old Style"/>
              </a:rPr>
              <a:t>М</a:t>
            </a:r>
            <a:r>
              <a:rPr b="0" lang="ru-RU" sz="1400" spc="-1" strike="noStrike">
                <a:solidFill>
                  <a:srgbClr val="990000"/>
                </a:solidFill>
                <a:latin typeface="Bookman Old Style"/>
              </a:rPr>
              <a:t>л </a:t>
            </a:r>
            <a:r>
              <a:rPr b="1" i="1" lang="ru-RU" sz="1400" spc="-1" strike="noStrike">
                <a:solidFill>
                  <a:srgbClr val="990000"/>
                </a:solidFill>
                <a:latin typeface="Bookman Old Style"/>
              </a:rPr>
              <a:t>= 7,3 400 000 000 000 000 000 т = 7,34 * 10  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1. Поставить в данном числе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запятую так, чт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в целой части оказалась одна, отличная от нуля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циф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2. Посчитать количество цифр, на которое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сместилась запятая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число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n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 – порядок числа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a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3. Умножить полученное число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на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*10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, 1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&lt;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n &lt; 10, n -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цел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33E6-5C61-4E6E-954D-F5EADA85CCD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80000"/>
                </a:solidFill>
                <a:latin typeface="Bookman Old Style"/>
              </a:rPr>
              <a:t>Применить алгоритм записи числа в стандартном ви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Мо</a:t>
            </a:r>
            <a:r>
              <a:rPr b="1" i="1" lang="ru-RU" sz="1000" spc="-1" strike="noStrike">
                <a:solidFill>
                  <a:srgbClr val="234600"/>
                </a:solidFill>
                <a:latin typeface="Bookman Old Style"/>
              </a:rPr>
              <a:t>2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544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М</a:t>
            </a:r>
            <a:r>
              <a:rPr b="1" i="1" lang="ru-RU" sz="1000" spc="-1" strike="noStrike">
                <a:solidFill>
                  <a:srgbClr val="234600"/>
                </a:solidFill>
                <a:latin typeface="Bookman Old Style"/>
              </a:rPr>
              <a:t>Са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068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Al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о46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Mg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408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Ti</a:t>
            </a: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 = 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0,000 000 000 000 000 000 816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52593"/>
                </a:solidFill>
                <a:latin typeface="Bookman Old Style"/>
              </a:rPr>
              <a:t>Состав пробы грунта из моря Изобил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52593"/>
                </a:solidFill>
                <a:latin typeface="Bookman Old Style"/>
              </a:rPr>
              <a:t>О2 – 4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Ca -2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Al – 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Mg – 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Ti – 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B396-655D-467D-9F80-E68BB4BC414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1) Расстояние от Земли до Луны 3,844∙10</a:t>
            </a:r>
            <a:r>
              <a:rPr b="1" i="1" lang="ru-RU" sz="1100" spc="-1" strike="noStrike">
                <a:solidFill>
                  <a:srgbClr val="680000"/>
                </a:solidFill>
                <a:latin typeface="Bookman Old Style"/>
              </a:rPr>
              <a:t>8</a:t>
            </a: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2) 1 с.г.=9,46∙1012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3) 1 с.г.=6,324∙104 а.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4) 1 пс = 3,086∙1013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2851-D8C9-4C85-A84B-1698EB277BB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59B-73F6-4C74-8BF5-EFA107B8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68F-9844-4524-8546-ECC23118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BCD1-11CB-4024-95FB-064AAEDF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22C-3F51-491F-8827-B70F58DE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556B-0FAC-465D-A5E6-BCE30ED3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5B01-FA93-468A-A985-E996849E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B8EF-085E-4C16-8E1C-37A8BEE3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DFDF-AC5B-40C2-94FE-99C25862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132A-0B28-494A-9FA8-48E76277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EE77-82FA-49D1-BE4D-61AD7BD4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D0D4-0606-444B-AB92-23A9F05D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587-98A7-4874-A2AB-9B2F2E99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67A7-48EB-4019-B005-872489C4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EDB5-FE8E-4198-9D6E-2F6B781C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010C-8158-47F7-87AF-BCECCC34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A279-9FEE-4D90-8C72-0B734FF8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2479-5C8B-41B1-BEBC-E7C29171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FF2-3216-4FFB-AB90-53BF3DA0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8376-F4B3-4D1B-8F60-2BB1483F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C34-B106-4553-B2A7-B1E5D867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CFF-A44B-4C0B-A5D7-19845EE8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158-70A2-46D9-8347-B5C02A06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CCB-9522-4BF9-BC37-B213C70F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D93-9C19-4DDD-AF81-13CDA1BE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.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.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.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.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оуг.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оуг.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8438-B816-40BB-8AA0-88730367FB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Группа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Прямоуг.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Прямоуг.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Группа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Прямоуг.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Прямоуг.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Прямоуг.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Прямоуг.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Прямоуг.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5020-FD1F-43E9-8D23-E2B3F2D54B5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Bookman Old Style"/>
              </a:rPr>
              <a:t>Стандартный вид числа</a:t>
            </a:r>
            <a:br>
              <a:rPr sz="3600"/>
            </a:br>
            <a:r>
              <a:rPr b="1" i="1" lang="ru-RU" sz="2800" spc="-1" strike="noStrike">
                <a:solidFill>
                  <a:srgbClr val="333399"/>
                </a:solidFill>
                <a:latin typeface="Bookman Old Style"/>
              </a:rPr>
              <a:t>Урок-путешествие вокруг  Земл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Алгебра, 9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Учитель математики                МОУ «СОШ №8» г. Канаш Ч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ХАЛИУЛИНА Л.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Рисунок 4" descr="стандартный вид числа 001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14587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792920" cy="3456000"/>
          </a:xfrm>
          <a:prstGeom prst="rect">
            <a:avLst/>
          </a:prstGeom>
          <a:solidFill>
            <a:srgbClr val="b3e6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Когда Луна сверкнёт во тьме ночной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Своим серпом, блистательным и нежным,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Моя душа стремиться в мир большой, 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Пленяясь всем далёким, всем безбрежным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                                                   К. Бельмонт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Рисунок 14" descr="стандартный вид числа 009"/>
          <p:cNvPicPr/>
          <p:nvPr/>
        </p:nvPicPr>
        <p:blipFill>
          <a:blip r:embed="rId1"/>
          <a:stretch/>
        </p:blipFill>
        <p:spPr>
          <a:xfrm>
            <a:off x="611280" y="4005360"/>
            <a:ext cx="8281800" cy="2519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5" descr="Стандартный вид числа"/>
          <p:cNvPicPr/>
          <p:nvPr/>
        </p:nvPicPr>
        <p:blipFill>
          <a:blip r:embed="rId1"/>
          <a:stretch/>
        </p:blipFill>
        <p:spPr>
          <a:xfrm>
            <a:off x="250920" y="333360"/>
            <a:ext cx="8424720" cy="6120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바탕"/>
              </a:rPr>
              <a:t>Необходимые астрономические единиц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пс = 206265 а.е.  (1 парсек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с.г.= 63240 а.е.     (1 световой год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а.е.=149 600 000 км (1 астрономическая единиц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с.г.= 9 460 000 000 000 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пс = 3,26 с.г. = 30 860 000 000 000 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0000"/>
                </a:solidFill>
                <a:latin typeface="바탕"/>
              </a:rPr>
              <a:t>d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Н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2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О </a:t>
            </a: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 = 0,000 000 000 3 м  (диаметр молекулы вод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0000"/>
                </a:solidFill>
                <a:latin typeface="바탕"/>
              </a:rPr>
              <a:t>m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л</a:t>
            </a: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 = 73 400 000 000 000 000 000 т (масса Лун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5" descr="стандартный вид числа 004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0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5" descr="стандартный вид числа 003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824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Bookman Old Style"/>
              </a:rPr>
              <a:t>Краткая информация </a:t>
            </a:r>
            <a:br>
              <a:rPr sz="3200"/>
            </a:br>
            <a:r>
              <a:rPr b="1" i="1" lang="ru-RU" sz="3200" spc="-1" strike="noStrike">
                <a:solidFill>
                  <a:srgbClr val="996633"/>
                </a:solidFill>
                <a:latin typeface="Bookman Old Style"/>
              </a:rPr>
              <a:t>                                  о Лун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121" name="Рисунок 4" descr="стандартный вид числа 002"/>
          <p:cNvPicPr/>
          <p:nvPr/>
        </p:nvPicPr>
        <p:blipFill>
          <a:blip r:embed="rId1"/>
          <a:stretch/>
        </p:blipFill>
        <p:spPr>
          <a:xfrm>
            <a:off x="2771640" y="4797360"/>
            <a:ext cx="4194360" cy="1170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. 8"/>
          <p:cNvSpPr/>
          <p:nvPr/>
        </p:nvSpPr>
        <p:spPr>
          <a:xfrm>
            <a:off x="3506760" y="1848960"/>
            <a:ext cx="2003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= 7,34 * 1025г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c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= 120 0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 = -170 0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= 1 км/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&lt; R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   в  4 раз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&lt; g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   в  6 ра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Bookman Old Style"/>
              </a:rPr>
              <a:t>Алгоритм записи числа в стандартном вид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70028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</a:t>
            </a:r>
            <a:r>
              <a:rPr b="1" i="1" lang="ru-RU" sz="1800" spc="-1" strike="noStrike">
                <a:solidFill>
                  <a:srgbClr val="990000"/>
                </a:solidFill>
                <a:latin typeface="Bookman Old Style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Bookman Old Style"/>
              </a:rPr>
              <a:t>М</a:t>
            </a: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л </a:t>
            </a:r>
            <a:r>
              <a:rPr b="1" i="1" lang="ru-RU" sz="2000" spc="-1" strike="noStrike">
                <a:solidFill>
                  <a:srgbClr val="990000"/>
                </a:solidFill>
                <a:latin typeface="Bookman Old Style"/>
              </a:rPr>
              <a:t>= 7,3 400 000 000 000 000 000 т = 7,34 * 10  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1. Поставить в данном числе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запятую так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целой части оказалась одна, отличная от нуля,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циф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2. Посчитать количество цифр, на которое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местилась запятая (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число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n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 – порядок числа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3. Умножить полученное число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на 1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*10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, 1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n &lt; 10, n -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0000"/>
                </a:solidFill>
                <a:latin typeface="Bookman Old Style"/>
              </a:rPr>
              <a:t>Применить алгоритм записи числа в стандартном вид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242100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Мо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2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544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М</a:t>
            </a:r>
            <a:r>
              <a:rPr b="1" i="1" lang="ru-RU" sz="1400" spc="-1" strike="noStrike">
                <a:solidFill>
                  <a:srgbClr val="234600"/>
                </a:solidFill>
                <a:latin typeface="Bookman Old Style"/>
              </a:rPr>
              <a:t>Са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068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Al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о46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Mg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408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Ti</a:t>
            </a: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 = 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0,000 000 000 000 000 000 816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72000" y="206064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93"/>
                </a:solidFill>
                <a:latin typeface="Bookman Old Style"/>
              </a:rPr>
              <a:t>Состав пробы грунта из моря Изобил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93"/>
                </a:solidFill>
                <a:latin typeface="Bookman Old Style"/>
              </a:rPr>
              <a:t>О2 – 4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Ca -2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Al – 7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Mg – 6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Ti – 4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Рисунок 4" descr="стандартный вид числа 006"/>
          <p:cNvPicPr/>
          <p:nvPr/>
        </p:nvPicPr>
        <p:blipFill>
          <a:blip r:embed="rId1"/>
          <a:stretch/>
        </p:blipFill>
        <p:spPr>
          <a:xfrm>
            <a:off x="6084720" y="4869000"/>
            <a:ext cx="2808360" cy="172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8001d"/>
                </a:solidFill>
                <a:latin typeface="Bookman Old Style"/>
              </a:rPr>
              <a:t>   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4764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Рисунок 4" descr="стандартный вид числа 007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. 8"/>
          <p:cNvSpPr/>
          <p:nvPr/>
        </p:nvSpPr>
        <p:spPr>
          <a:xfrm>
            <a:off x="468360" y="6109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1) Расстояние от Земли до Луны 3,844∙10</a:t>
            </a:r>
            <a:r>
              <a:rPr b="1" i="1" lang="ru-RU" sz="1600" spc="-1" strike="noStrike">
                <a:solidFill>
                  <a:srgbClr val="680000"/>
                </a:solidFill>
                <a:latin typeface="Bookman Old Style"/>
              </a:rPr>
              <a:t>8</a:t>
            </a: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2) 1 с.г.=9,46∙1012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3) 1 с.г.=6,324∙104 а.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4) 1 пс = 3,086∙1013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15:35:42Z</dcterms:created>
  <dc:creator> ЛУИЗА</dc:creator>
  <dc:description/>
  <dc:language>en-US</dc:language>
  <cp:lastModifiedBy>LEGION</cp:lastModifiedBy>
  <dcterms:modified xsi:type="dcterms:W3CDTF">2015-01-23T13:25:04Z</dcterms:modified>
  <cp:revision>8</cp:revision>
  <dc:subject/>
  <dc:title>Стандартный вид числа Урок-путешествие вокруг  Земли</dc:title>
</cp:coreProperties>
</file>