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image6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C1785-1352-441C-830F-1EAC77B26C0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Monotype Corsiva"/>
              </a:rPr>
              <a:t>Платоновы тела, 10 класс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ff"/>
                </a:solidFill>
                <a:latin typeface="Monotype Corsiva"/>
              </a:rPr>
              <a:t>Правильные выпуклые многогран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23C50-48DC-4159-90F9-65E12C97262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Monotype Corsiva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Кеплер предположил, что существует связь между пятью правильными многогранниками и шестью открытыми к  тому времени планетами Солнечной систе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Согласно этому предположению, в сферу орбиты Сатурна можно вписать куб, в который вписывается сфера орбиты Юпитера. В неё, в свою очередь, вписывается тетраэдр, описанный около сферы орбиты Марса. В сферу орбиты Марса вписывается додекаэдр, к который вписывается сфера орбиты Земли. А она описана около икосаэдра, в который вписана сфера орбиты Венеры. Сфера этой планеты описана около октаэдра, в который вписывается сфера Меркур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Такая модель Солнечной системы (рис. 6) получила название  «Космического кубка» Кеплера. Результаты своих вычислений учёный опубликовал в книге «Тайна мироздания». Он считал, что тайна Вселенной раскры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Год за годом учёный уточнял свои наблюдения, перепроверял данные коллег, но, наконец, нашёл в себе силы отказаться от заманчивой гипотезы. Однако её следы просматриваются в третьем законе Кеплера, где говориться о кубах средних расстояний от Солнц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F48BB-B6C3-4978-A443-3EE373F1548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Идеи Платона и Кеплера о связи правильных многогранников с гармоничным устройством мира и в наше время нашли своё продолжение в интересной научной гипотезе, которую в начале 80-х гг. высказали московские инженеры В. Макаров и В. Морозов. Они считают, что ядро Земли имеет форму и свойства растущего кристалла, оказывающего воздействие на развитие всех природных процессов, идущих на планете. Лучи этого кристалла, а точнее, его силовое поле, обуславливают икосаэдро-додекаэдровую структуру Земли (рис. 7).  Она проявляется в том, что в земной коре как бы  проступают проекции вписанных в земной шар правильных  многогранников: икосаэдра и додекаэд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Многие залежи полезных ископаемых тянутся вдоль икосаэдро-додекаэдровой сетки; 62 вершины и середины рёбер многогранников, называемых авторами узлами, обладают рядом специфических свойств, позволяющих объяснить некоторые непонятные явления. Здесь располагаются очаги древнейших культур и цивилизаций: Перу, Северная Монголия, Гаити, Обская культура и другие. В этих точках наблюдаются максимумы и минимумы атмосферного давления, гигантские завихрения Мирового океана. В этих узлах находятся озеро Лох-Несс, Бермудский треугольни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Дальнейшие исследования Земли, возможно, определят отношение к этой научной гипотезе, в которой, как видно, правильные многогранники занимают важное мест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92EAA-A4F7-4478-B815-9731518584D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Сумма числа граней и вершин любого многогранн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равна числу рёбер, увеличенному на 2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Monotype Corsiva"/>
              </a:rPr>
              <a:t>Г + В = Р +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3B90F-B805-4ED9-937B-3904E13D8DD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ff"/>
                </a:solidFill>
                <a:latin typeface="Monotype Corsiva"/>
              </a:rPr>
              <a:t>Сальвадор Да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1970D-D805-401F-ABAC-676FF50F5F3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Monotype Corsiva"/>
              </a:rPr>
              <a:t>Правильные многогранники и природ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Правильные многогранники встречаются в живой природе. Например, скелет одноклеточного организма феодарии 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(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Circjgjnia</a:t>
            </a:r>
            <a:r>
              <a:rPr b="1" lang="en-US" sz="12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icosahtdra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)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по форме напоминает икосаэдр (рис. 8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Чем же вызвана такая природная геометризация феодарий? По-видимому, тем, что из всех многогранников с тем же числом граней именно икосаэдр имеет наибольший объём при наименьшей площади поверхности. Это свойство помогает морскому организму преодолевать давление водной толщ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Правильные многогранники – самые «выгодные» фигуры.  И  природа этим широко пользуется. Подтверждением  тому  служит  форма  некоторых кристалл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Взять хотя бы поваренную соль, без которой мы  не  можем обойтись. Известно, что она растворима в воде, служит проводником электрического тока. А кристаллы поваренной соли 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(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NaCl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)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имеют форму куб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При производстве алюминия пользуются алюминиево-калиевыми кварцами  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(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K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[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Al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(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SO</a:t>
            </a:r>
            <a:r>
              <a:rPr b="1" lang="ru-RU" sz="1100" spc="-1" strike="noStrike" baseline="-25000">
                <a:solidFill>
                  <a:srgbClr val="333399"/>
                </a:solidFill>
                <a:latin typeface="Calibri"/>
              </a:rPr>
              <a:t>4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)</a:t>
            </a:r>
            <a:r>
              <a:rPr b="1" lang="ru-RU" sz="1100" spc="-1" strike="noStrike" baseline="-25000">
                <a:solidFill>
                  <a:srgbClr val="333399"/>
                </a:solidFill>
                <a:latin typeface="Calibri"/>
              </a:rPr>
              <a:t>2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] </a:t>
            </a:r>
            <a:r>
              <a:rPr b="1" lang="ru-RU" sz="1100" spc="-1" strike="noStrike">
                <a:solidFill>
                  <a:srgbClr val="333399"/>
                </a:solidFill>
                <a:latin typeface="Symbol"/>
                <a:ea typeface="Symbol"/>
              </a:rPr>
              <a:t>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 12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H</a:t>
            </a:r>
            <a:r>
              <a:rPr b="1" lang="ru-RU" sz="1100" spc="-1" strike="noStrike" baseline="-25000">
                <a:solidFill>
                  <a:srgbClr val="333399"/>
                </a:solidFill>
                <a:latin typeface="Calibri"/>
              </a:rPr>
              <a:t>2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O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),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монокристалл которых имеет форму правильного октаэд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Получение серной кислоты, железа, особых сортов цемента не обходится без сернистого колчедана 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(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FeS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).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Кристаллы этого химического вещества имеют форму додекаэд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В разных химических реакциях применяется сурьменистый  сернокислый натрий 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(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Na</a:t>
            </a:r>
            <a:r>
              <a:rPr b="1" lang="ru-RU" sz="1100" spc="-1" strike="noStrike" baseline="-25000">
                <a:solidFill>
                  <a:srgbClr val="333399"/>
                </a:solidFill>
                <a:latin typeface="Calibri"/>
              </a:rPr>
              <a:t>5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(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SbO</a:t>
            </a:r>
            <a:r>
              <a:rPr b="1" lang="ru-RU" sz="1100" spc="-1" strike="noStrike" baseline="-25000">
                <a:solidFill>
                  <a:srgbClr val="333399"/>
                </a:solidFill>
                <a:latin typeface="Calibri"/>
              </a:rPr>
              <a:t>4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(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SO</a:t>
            </a:r>
            <a:r>
              <a:rPr b="1" lang="ru-RU" sz="1100" spc="-1" strike="noStrike" baseline="-25000">
                <a:solidFill>
                  <a:srgbClr val="333399"/>
                </a:solidFill>
                <a:latin typeface="Calibri"/>
              </a:rPr>
              <a:t>4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))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– вещество, синтезированное учёными. Кристалл сурьменистого сернокислого натрия имеет форму тетраэд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Последний правильный многогранник  –  икосаэдр  передаёт  форму  кристаллов  бора 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(В).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В своё время бор использовался для создания полупроводников первого поко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524A1-879B-4C7E-992F-9DEE53BABDD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Определите количество граней, вершин и рёбер многогранника, изображённого на рисунке 9. Проверьте выполнимость формулы Эйлера для данного многогранни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2EF2A-192A-4EFB-9CB4-4022D441176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Правильных многогранников вызывающе мало, но этот весьма скромный по численности отряд сумел пробраться в самые глубины различных наук.</a:t>
            </a:r>
            <a:r>
              <a:rPr b="0" lang="ru-RU" sz="2400" spc="-1" strike="noStrike">
                <a:solidFill>
                  <a:srgbClr val="333399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ff"/>
                </a:solidFill>
                <a:latin typeface="Calibri"/>
              </a:rPr>
              <a:t>                                </a:t>
            </a:r>
            <a:r>
              <a:rPr b="1" lang="ru-RU" sz="2400" spc="-1" strike="noStrike">
                <a:solidFill>
                  <a:srgbClr val="ff00ff"/>
                </a:solidFill>
                <a:latin typeface="Monotype Corsiva"/>
              </a:rPr>
              <a:t>Л. Кэррол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66472-03DD-4E4F-A072-51733F2C127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Правильный тетраэд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Составлен из четырёх равносторонних треугольников. Каждая его вершина является вершиной трёх треугольников. Следовательно, сумма плоских углов при каждой вершине равна </a:t>
            </a:r>
            <a:r>
              <a:rPr b="1" i="1" lang="ru-RU" sz="1200" spc="-1" strike="noStrike">
                <a:solidFill>
                  <a:srgbClr val="333399"/>
                </a:solidFill>
                <a:latin typeface="Monotype Corsiva"/>
              </a:rPr>
              <a:t>180</a:t>
            </a:r>
            <a:r>
              <a:rPr b="1" i="1" lang="en-US" sz="1200" spc="-1" strike="noStrike">
                <a:solidFill>
                  <a:srgbClr val="333399"/>
                </a:solidFill>
                <a:latin typeface="Monotype Corsiva"/>
              </a:rPr>
              <a:t>º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3AD64-7EA8-4A37-8F92-3F4E6B9A2B2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Составлен из восьми равносторонних треугольников. Каждая вершина октаэдра является вершиной четырёх треугольников. Следовательно, сумма плоских углов при каждой вершине 240</a:t>
            </a:r>
            <a:r>
              <a:rPr b="1" lang="en-US" sz="1200" spc="-1" strike="noStrike">
                <a:solidFill>
                  <a:srgbClr val="333399"/>
                </a:solidFill>
                <a:latin typeface="Monotype Corsiva"/>
              </a:rPr>
              <a:t>º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62160-2764-4BDA-938C-DB4DC845707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Составлен из двадцати равносторонних треугольников. Каждая вершина икосаэдра является вершиной пяти треугольников. Следовательно, сумма плоских углов при каждой вершине равна </a:t>
            </a:r>
            <a:r>
              <a:rPr b="1" i="1" lang="ru-RU" sz="1200" spc="-1" strike="noStrike">
                <a:solidFill>
                  <a:srgbClr val="333399"/>
                </a:solidFill>
                <a:latin typeface="Monotype Corsiva"/>
              </a:rPr>
              <a:t>300</a:t>
            </a:r>
            <a:r>
              <a:rPr b="1" i="1" lang="en-US" sz="1200" spc="-1" strike="noStrike">
                <a:solidFill>
                  <a:srgbClr val="333399"/>
                </a:solidFill>
                <a:latin typeface="Monotype Corsiva"/>
              </a:rPr>
              <a:t>º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4FA19-2733-4417-B8B8-90E714EB81C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Monotype Corsiva"/>
              </a:rPr>
              <a:t>Куб (гексаэдр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D7064-109A-405A-8FCF-D163C261D51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Составлен из двенадцати правильных пятиугольников. Каждая вершина додекаэдра является вершиной трёх правильных пятиугольников. Следовательно, сумма плоских углов при каждой вершине равна </a:t>
            </a:r>
            <a:r>
              <a:rPr b="1" i="1" lang="ru-RU" sz="1200" spc="-1" strike="noStrike">
                <a:solidFill>
                  <a:srgbClr val="333399"/>
                </a:solidFill>
                <a:latin typeface="Monotype Corsiva"/>
              </a:rPr>
              <a:t>324</a:t>
            </a:r>
            <a:r>
              <a:rPr b="1" i="1" lang="en-US" sz="1200" spc="-1" strike="noStrike">
                <a:solidFill>
                  <a:srgbClr val="333399"/>
                </a:solidFill>
                <a:latin typeface="Monotype Corsiva"/>
                <a:ea typeface="Arial"/>
              </a:rPr>
              <a:t>º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.</a:t>
            </a:r>
            <a:r>
              <a:rPr b="1" lang="ru-RU" sz="11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100" spc="-1" strike="noStrike">
                <a:solidFill>
                  <a:srgbClr val="333399"/>
                </a:solidFill>
                <a:latin typeface="Monotype Corsiv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7199B-D923-41BF-BFBB-3B5CF20F6C5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Названия многогранник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пришли из Древней Греци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в них  указывается число гран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«эдра»    </a:t>
            </a:r>
            <a:r>
              <a:rPr b="1" lang="ru-RU" sz="1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  гран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«тетра» </a:t>
            </a:r>
            <a:r>
              <a:rPr b="1" lang="ru-RU" sz="1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4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«гекса»    </a:t>
            </a:r>
            <a:r>
              <a:rPr b="1" lang="ru-RU" sz="1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 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6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«окта»    </a:t>
            </a:r>
            <a:r>
              <a:rPr b="1" lang="ru-RU" sz="1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 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8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«икоса»   </a:t>
            </a:r>
            <a:r>
              <a:rPr b="1" lang="ru-RU" sz="1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  20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«додека»  </a:t>
            </a:r>
            <a:r>
              <a:rPr b="1" lang="ru-RU" sz="1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 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12.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40ADF-97AB-41DF-91D6-6CEA297603A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ff"/>
                </a:solidFill>
                <a:latin typeface="Monotype Corsiva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Правильные многогранники иногда называют Платоновыми телами, поскольку они занимают видное место в философской картине мира, разработанной великим мыслителем Древней Греции Платоном (ок. 428 – ок. 348 до н.э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Платон считал, что мир строится из четырёх «стихий» – огня, земли, воздуха и воды, а атомы этих «стихий» имеют форму четырёх правильных многогранни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Тетраэдр олицетворял огонь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поскольку его вершина устремлена вверх, как у разгоревшегося пламе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ff00ff"/>
                </a:solidFill>
                <a:latin typeface="Times New Roman"/>
              </a:rPr>
              <a:t>Икосаэдр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– как самый обтекаемый –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ff"/>
                </a:solidFill>
                <a:latin typeface="Times New Roman"/>
              </a:rPr>
              <a:t>воду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ff00ff"/>
                </a:solidFill>
                <a:latin typeface="Times New Roman"/>
              </a:rPr>
              <a:t>Куб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– самая устойчивая из фигур –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ff"/>
                </a:solidFill>
                <a:latin typeface="Times New Roman"/>
              </a:rPr>
              <a:t>землю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ff00ff"/>
                </a:solidFill>
                <a:latin typeface="Times New Roman"/>
              </a:rPr>
              <a:t>Октаэдр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1200" spc="-1" strike="noStrike">
                <a:solidFill>
                  <a:srgbClr val="ff00ff"/>
                </a:solidFill>
                <a:latin typeface="Times New Roman"/>
              </a:rPr>
              <a:t>воздух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В наше время эту систему можно сравнить с четырьмя состояниями вещества – твёрдым, жидким, газообразным и пламенны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Пятый многогранник –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ff"/>
                </a:solidFill>
                <a:latin typeface="Times New Roman"/>
              </a:rPr>
              <a:t>додекаэдр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символизировал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ff"/>
                </a:solidFill>
                <a:latin typeface="Times New Roman"/>
              </a:rPr>
              <a:t>весь мир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и почитался главнейш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Это была одна из первых попыток ввести в науку идею системат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AFE19-7EED-4231-80A9-B0F9FB6C6D2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182C-3EFE-4938-A8B0-93010C259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B31B-5A57-4FB4-AF6A-524186E4F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C1A6-388C-4EB9-89AE-37AE1E5ED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824E-AF42-44F8-BC83-7B1D0D71A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3AD6A-7C0B-4FA5-B6FD-664EBED7E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7FA40-5CF7-4474-BBE1-7D3AD67C9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BFB5E-0C07-421D-836B-6DF14DBBC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BD78D-1FFE-46DC-B80F-9E0B1768B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67EC1-8513-4931-A1B3-12BD00311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42848-C68F-41AA-9551-5A47FF7C2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CD239-45EE-4C44-AA5D-0FA5BB28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BBAA-3101-487D-BE08-0214A95B4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98889-1924-46BE-AE2C-F060917CC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6FB43-954C-4D32-A985-40C453913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7312D-F513-49C0-957C-F3E9F7DCE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76AB4-78AE-442A-A90B-C1088B5DD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E2B0D-46E4-450B-AFB9-39EA85338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BD7E-09E5-45B0-AA4E-ECE731C36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8A93-D5D1-4458-9D52-B7C9CAF6D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C8B4-F0A3-4335-808A-F3D8FD8A1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83FF-BE84-4CBC-ABCC-14ED43408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B4CC-7F97-48B7-9D6A-C607F1700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01AF-B028-40EF-B996-A41E3D0E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37AE-CF65-451F-83D1-57FE7301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48691-D789-4744-9CB9-015582C4D66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8DA9C-6B4E-4092-827F-C8DD189631B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91680" y="1906200"/>
            <a:ext cx="7931160" cy="37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ff"/>
                </a:solidFill>
                <a:latin typeface="Monotype Corsiva"/>
              </a:rPr>
              <a:t>Правильные выпуклые многогранник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369720" y="194760"/>
            <a:ext cx="815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Платоновы тела, 10 класс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115920" y="163440"/>
            <a:ext cx="8505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Monotype Corsiva"/>
              </a:rPr>
              <a:t>«Космический кубок» Кеплер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232080" y="1415880"/>
            <a:ext cx="5370480" cy="50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       </a:t>
            </a: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Кеплер предположил, что существует связь между пятью правильными многогранниками и шестью открытыми к  тому времени планетами Солнечной систем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Согласно этому предположению, в сферу орбиты Сатурна можно вписать куб, в который вписывается сфера орбиты Юпитера. В неё, в свою очередь, вписывается тетраэдр, описанный около сферы орбиты Марса. В сферу орбиты Марса вписывается додекаэдр, к который вписывается сфера орбиты Земли. А она описана около икосаэдра, в который вписана сфера орбиты Венеры. Сфера этой планеты описана около октаэдра, в который вписывается сфера Меркур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Такая модель Солнечной системы (рис. 6) получила название  «Космического кубка» Кеплера. Результаты своих вычислений учёный опубликовал в книге «Тайна мироздания». Он считал, что тайна Вселенной раскры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Год за годом учёный уточнял свои наблюдения, перепроверял данные коллег, но, наконец, нашёл в себе силы отказаться от заманчивой гипотезы. Однако её следы просматриваются в третьем законе Кеплера, где говориться о кубах средних расстояний от Солнц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2"/>
          <p:cNvSpPr/>
          <p:nvPr/>
        </p:nvSpPr>
        <p:spPr>
          <a:xfrm>
            <a:off x="69120" y="5002200"/>
            <a:ext cx="34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Модель  Солнеч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системы  И. Кепл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3"/>
          <p:cNvSpPr/>
          <p:nvPr/>
        </p:nvSpPr>
        <p:spPr>
          <a:xfrm>
            <a:off x="1316160" y="462024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Рис.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4" descr="Рисунок6"/>
          <p:cNvPicPr/>
          <p:nvPr/>
        </p:nvPicPr>
        <p:blipFill>
          <a:blip r:embed="rId1"/>
          <a:stretch/>
        </p:blipFill>
        <p:spPr>
          <a:xfrm>
            <a:off x="531720" y="1835280"/>
            <a:ext cx="2621160" cy="266364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0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0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5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0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5" dur="1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159000" y="1487520"/>
            <a:ext cx="5515200" cy="53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Идеи Платона и Кеплера о связи правильных многогранников с гармоничным устройством мира и в наше время нашли своё продолжение в интересной научной гипотезе, которую в начале 80-х гг. высказали московские инженеры В. Макаров и В. Морозов. Они считают, что ядро Земли имеет форму и свойства растущего кристалла, оказывающего воздействие на развитие всех природных процессов, идущих на планете. Лучи этого кристалла, а точнее, его силовое поле, обуславливают икосаэдро-додекаэдровую структуру Земли (рис. 7).  Она проявляется в том, что в земной коре как бы  проступают проекции вписанных в земной шар правильных  многогранников: икосаэдра и додекаэд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Многие залежи полезных ископаемых тянутся вдоль икосаэдро-додекаэдровой сетки; 62 вершины и середины рёбер многогранников, называемых авторами узлами, обладают рядом специфических свойств, позволяющих объяснить некоторые непонятные явления. Здесь располагаются очаги древнейших культур и цивилизаций: Перу, Северная Монголия, Гаити, Обская культура и другие. В этих точках наблюдаются максимумы и минимумы атмосферного давления, гигантские завихрения Мирового океана. В этих узлах находятся озеро Лох-Несс, Бермудский треугольник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Дальнейшие исследования Земли, возможно, определят отношение к этой научной гипотезе, в которой, как видно, правильные многогранники занимают важное мест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754200" y="4888080"/>
            <a:ext cx="22320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Икосаэдр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додекаэдро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структура Зем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434880" y="254160"/>
            <a:ext cx="763452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Monotype Corsiva"/>
              </a:rPr>
              <a:t>Икосаэдро-додекаэдрова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Monotype Corsiva"/>
              </a:rPr>
              <a:t>структура Земл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0"/>
          <p:cNvSpPr/>
          <p:nvPr/>
        </p:nvSpPr>
        <p:spPr>
          <a:xfrm>
            <a:off x="1287720" y="443124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Рис.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1" descr="Рисунок7"/>
          <p:cNvPicPr/>
          <p:nvPr/>
        </p:nvPicPr>
        <p:blipFill>
          <a:blip r:embed="rId1"/>
          <a:stretch/>
        </p:blipFill>
        <p:spPr>
          <a:xfrm>
            <a:off x="482760" y="1724040"/>
            <a:ext cx="2663640" cy="256680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8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6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0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1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9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4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9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612720" y="1455840"/>
          <a:ext cx="7848720" cy="4640040"/>
        </p:xfrm>
        <a:graphic>
          <a:graphicData uri="http://schemas.openxmlformats.org/drawingml/2006/table">
            <a:tbl>
              <a:tblPr/>
              <a:tblGrid>
                <a:gridCol w="1882800"/>
                <a:gridCol w="1987560"/>
                <a:gridCol w="1989000"/>
                <a:gridCol w="1989360"/>
              </a:tblGrid>
              <a:tr h="6177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Monotype Corsiva"/>
                          <a:ea typeface="Times New Roman"/>
                        </a:rPr>
                        <a:t>Правильный многогран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Числ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Monotype Corsiva"/>
                          <a:ea typeface="Times New Roman"/>
                        </a:rPr>
                        <a:t>гран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Monotype Corsiva"/>
                          <a:ea typeface="Times New Roman"/>
                        </a:rPr>
                        <a:t>верш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Monotype Corsiva"/>
                          <a:ea typeface="Times New Roman"/>
                        </a:rPr>
                        <a:t>рёб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47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Тетраэд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47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К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Октаэд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Додекаэд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Икосаэд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Rectangle 481"/>
          <p:cNvSpPr/>
          <p:nvPr/>
        </p:nvSpPr>
        <p:spPr>
          <a:xfrm>
            <a:off x="620640" y="20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Monotype Corsiva"/>
              </a:rPr>
              <a:t>Таблица №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7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627120" y="1442880"/>
          <a:ext cx="7791480" cy="4664160"/>
        </p:xfrm>
        <a:graphic>
          <a:graphicData uri="http://schemas.openxmlformats.org/drawingml/2006/table">
            <a:tbl>
              <a:tblPr/>
              <a:tblGrid>
                <a:gridCol w="1863720"/>
                <a:gridCol w="2954160"/>
                <a:gridCol w="2973600"/>
              </a:tblGrid>
              <a:tr h="7336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Правильный многогран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Monotype Corsiva"/>
                          <a:ea typeface="Times New Roman"/>
                        </a:rPr>
                        <a:t>Числ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граней и верш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(Г + В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рёб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(Р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Тетраэд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4 + 4 = 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К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6 + 8 = 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Октаэд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8 + 6 = 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Додекаэд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12 + 20 = 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</a:tr>
              <a:tr h="54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Икосаэдр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20 + 12 = 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Rectangle 41"/>
          <p:cNvSpPr/>
          <p:nvPr/>
        </p:nvSpPr>
        <p:spPr>
          <a:xfrm>
            <a:off x="547560" y="1922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Monotype Corsiva"/>
              </a:rPr>
              <a:t>Таблица №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3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94920" y="1846080"/>
            <a:ext cx="8288280" cy="19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Сумма числа граней и вершин любого многогранни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равна числу рёбер, увеличенному на 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ff"/>
                </a:solidFill>
                <a:latin typeface="Monotype Corsiva"/>
              </a:rPr>
              <a:t>Г + В = Р +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407880" y="144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Формула Эйлер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425520" y="4019400"/>
            <a:ext cx="8272440" cy="18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Число граней плюс число вершин минус число рёбе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в любом многограннике равно 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ff"/>
                </a:solidFill>
                <a:latin typeface="Monotype Corsiva"/>
              </a:rPr>
              <a:t>Г + В </a:t>
            </a:r>
            <a:r>
              <a:rPr b="1" lang="ru-RU" sz="6000" spc="-1" strike="noStrike">
                <a:solidFill>
                  <a:srgbClr val="ff00ff"/>
                </a:solidFill>
                <a:latin typeface="Symbol"/>
                <a:ea typeface="Symbol"/>
              </a:rPr>
              <a:t></a:t>
            </a:r>
            <a:r>
              <a:rPr b="1" lang="ru-RU" sz="6000" spc="-1" strike="noStrike">
                <a:solidFill>
                  <a:srgbClr val="ff00ff"/>
                </a:solidFill>
                <a:latin typeface="Monotype Corsiva"/>
              </a:rPr>
              <a:t> Р =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7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2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7" dur="1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4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9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4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3960" y="5008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ff"/>
                </a:solidFill>
                <a:latin typeface="Monotype Corsiva"/>
              </a:rPr>
              <a:t>Сальвадор Дал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385920" y="260280"/>
            <a:ext cx="8272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Monotype Corsiva"/>
              </a:rPr>
              <a:t>«Тайная вечеря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7" descr="Рисунок8"/>
          <p:cNvPicPr/>
          <p:nvPr/>
        </p:nvPicPr>
        <p:blipFill>
          <a:blip r:embed="rId1"/>
          <a:stretch/>
        </p:blipFill>
        <p:spPr>
          <a:xfrm>
            <a:off x="1397160" y="1612800"/>
            <a:ext cx="6349680" cy="363240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1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2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5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6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7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1920" y="156960"/>
            <a:ext cx="849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Правильные многогранники и природ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86280" y="1349280"/>
            <a:ext cx="5636880" cy="51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Правильные многогранники встречаются в живой природе. Например, скелет одноклеточного организма феодарии 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Circjgjnia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icosahtdra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по форме напоминает икосаэдр (рис. 8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Чем же вызвана такая природная геометризация феодарий? По-видимому, тем, что из всех многогранников с тем же числом граней именно икосаэдр имеет наибольший объём при наименьшей площади поверхности. Это свойство помогает морскому организму преодолевать давление водной толщ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Правильные многогранники – самые «выгодные» фигуры.  И  природа этим широко пользуется. Подтверждением  тому  служит  форма  некоторых кристалл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Взять хотя бы поваренную соль, без которой мы  не  можем обойтись. Известно, что она растворима в воде, служит проводником электрического тока. А кристаллы поваренной соли 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NaCl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имеют форму куб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При производстве алюминия пользуются алюминиево-калиевыми кварцами  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K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[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Al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O</a:t>
            </a:r>
            <a:r>
              <a:rPr b="1" lang="ru-RU" sz="1200" spc="-1" strike="noStrike" baseline="-25000">
                <a:solidFill>
                  <a:srgbClr val="333399"/>
                </a:solidFill>
                <a:latin typeface="Arial"/>
              </a:rPr>
              <a:t>4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ru-RU" sz="12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] </a:t>
            </a:r>
            <a:r>
              <a:rPr b="1" lang="ru-RU" sz="1200" spc="-1" strike="noStrike">
                <a:solidFill>
                  <a:srgbClr val="333399"/>
                </a:solidFill>
                <a:latin typeface="Symbol"/>
                <a:ea typeface="Symbol"/>
              </a:rPr>
              <a:t>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 12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H</a:t>
            </a:r>
            <a:r>
              <a:rPr b="1" lang="ru-RU" sz="12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O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),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монокристалл которых имеет форму правильного октаэд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Получение серной кислоты, железа, особых сортов цемента не обходится без сернистого колчедана 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FeS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).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Кристаллы этого химического вещества имеют форму додекаэд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В разных химических реакциях применяется сурьменистый  сернокислый натрий 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Na</a:t>
            </a:r>
            <a:r>
              <a:rPr b="1" lang="ru-RU" sz="1200" spc="-1" strike="noStrike" baseline="-25000">
                <a:solidFill>
                  <a:srgbClr val="333399"/>
                </a:solidFill>
                <a:latin typeface="Arial"/>
              </a:rPr>
              <a:t>5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bO</a:t>
            </a:r>
            <a:r>
              <a:rPr b="1" lang="ru-RU" sz="1200" spc="-1" strike="noStrike" baseline="-25000">
                <a:solidFill>
                  <a:srgbClr val="333399"/>
                </a:solidFill>
                <a:latin typeface="Arial"/>
              </a:rPr>
              <a:t>4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O</a:t>
            </a:r>
            <a:r>
              <a:rPr b="1" lang="ru-RU" sz="1200" spc="-1" strike="noStrike" baseline="-25000">
                <a:solidFill>
                  <a:srgbClr val="333399"/>
                </a:solidFill>
                <a:latin typeface="Arial"/>
              </a:rPr>
              <a:t>4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))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– вещество, синтезированное учёными. Кристалл сурьменистого сернокислого натрия имеет форму тетраэд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Последний правильный многогранник  –  икосаэдр  передаёт  форму  кристаллов  бора 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(В).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В своё время бор использовался для создания полупроводников первого поко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-34920" y="5040360"/>
            <a:ext cx="360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Феодар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(</a:t>
            </a:r>
            <a:r>
              <a:rPr b="1" lang="en-US" sz="2400" spc="-1" strike="noStrike">
                <a:solidFill>
                  <a:srgbClr val="333399"/>
                </a:solidFill>
                <a:latin typeface="Monotype Corsiva"/>
              </a:rPr>
              <a:t>Circjgjnia icosahtdra</a:t>
            </a: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525600" y="4650120"/>
            <a:ext cx="25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Рис.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9" descr="Рисунок9"/>
          <p:cNvPicPr/>
          <p:nvPr/>
        </p:nvPicPr>
        <p:blipFill>
          <a:blip r:embed="rId1"/>
          <a:stretch/>
        </p:blipFill>
        <p:spPr>
          <a:xfrm>
            <a:off x="498600" y="1612800"/>
            <a:ext cx="2571480" cy="301788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5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6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1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5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6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7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1" dur="8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2" dur="8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9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4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9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4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9" dur="10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4" dur="10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9" dur="10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4" dur="1000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560760" y="1869840"/>
            <a:ext cx="496872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Определите количество граней, вершин и рёбер многогранника, изображённого на рисунке 9. Проверьте выполнимость формулы Эйлера для данного многогранни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407880" y="144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Задач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0"/>
          <p:cNvSpPr/>
          <p:nvPr/>
        </p:nvSpPr>
        <p:spPr>
          <a:xfrm>
            <a:off x="1410480" y="5571360"/>
            <a:ext cx="123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Рис.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1" descr="Рисунок10"/>
          <p:cNvPicPr/>
          <p:nvPr/>
        </p:nvPicPr>
        <p:blipFill>
          <a:blip r:embed="rId1"/>
          <a:stretch/>
        </p:blipFill>
        <p:spPr>
          <a:xfrm>
            <a:off x="870120" y="1619280"/>
            <a:ext cx="2498400" cy="390672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1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2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3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8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2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3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4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595440" y="1569960"/>
            <a:ext cx="78231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Monotype Corsiva"/>
              </a:rPr>
              <a:t>Правильных многогранников вызывающе мало, но этот весьма скромный по численности отряд сумел пробраться в самые глубины различных наук.</a:t>
            </a:r>
            <a:r>
              <a:rPr b="0" lang="ru-RU" sz="4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ff"/>
                </a:solidFill>
                <a:latin typeface="Arial"/>
              </a:rPr>
              <a:t>                                </a:t>
            </a:r>
            <a:r>
              <a:rPr b="1" lang="ru-RU" sz="4800" spc="-1" strike="noStrike">
                <a:solidFill>
                  <a:srgbClr val="ff00ff"/>
                </a:solidFill>
                <a:latin typeface="Monotype Corsiva"/>
              </a:rPr>
              <a:t>Л. Кэррол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9720" y="194760"/>
            <a:ext cx="815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Правильный тетраэдр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726000" y="2001960"/>
            <a:ext cx="4706640" cy="37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Составлен из четырёх равносторонних треугольников. Каждая его вершина является вершиной трёх треугольников. Следовательно, сумма плоских углов при каждой вершине равна </a:t>
            </a:r>
            <a:r>
              <a:rPr b="1" i="1" lang="ru-RU" sz="3200" spc="-1" strike="noStrike">
                <a:solidFill>
                  <a:srgbClr val="333399"/>
                </a:solidFill>
                <a:latin typeface="Monotype Corsiva"/>
              </a:rPr>
              <a:t>180</a:t>
            </a:r>
            <a:r>
              <a:rPr b="1" i="1" lang="en-US" sz="3200" spc="-1" strike="noStrike">
                <a:solidFill>
                  <a:srgbClr val="333399"/>
                </a:solidFill>
                <a:latin typeface="Monotype Corsiva"/>
              </a:rPr>
              <a:t>º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36840" y="5120280"/>
            <a:ext cx="139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Рис.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Рисунок1"/>
          <p:cNvPicPr/>
          <p:nvPr/>
        </p:nvPicPr>
        <p:blipFill>
          <a:blip r:embed="rId1"/>
          <a:stretch/>
        </p:blipFill>
        <p:spPr>
          <a:xfrm>
            <a:off x="900000" y="2075040"/>
            <a:ext cx="2713320" cy="296856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649320" y="1972800"/>
            <a:ext cx="4962600" cy="33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7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Составлен из восьми равносторонних треугольников. Каждая вершина октаэдра является вершиной четырёх треугольников. Следовательно, сумма плоских углов при каждой вершине 240</a:t>
            </a:r>
            <a:r>
              <a:rPr b="1" lang="en-US" sz="3200" spc="-1" strike="noStrike">
                <a:solidFill>
                  <a:srgbClr val="333399"/>
                </a:solidFill>
                <a:latin typeface="Monotype Corsiva"/>
              </a:rPr>
              <a:t>º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515880" y="1382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Правильный октаэд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1376280" y="5120280"/>
            <a:ext cx="139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Рис.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1" descr="Рисунок2"/>
          <p:cNvPicPr/>
          <p:nvPr/>
        </p:nvPicPr>
        <p:blipFill>
          <a:blip r:embed="rId1"/>
          <a:stretch/>
        </p:blipFill>
        <p:spPr>
          <a:xfrm>
            <a:off x="704880" y="2075040"/>
            <a:ext cx="2914560" cy="296856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4"/>
          <p:cNvSpPr/>
          <p:nvPr/>
        </p:nvSpPr>
        <p:spPr>
          <a:xfrm>
            <a:off x="385920" y="120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Правильный икосаэд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522600" y="1909800"/>
            <a:ext cx="496728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4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Составлен из двадцати равносторонних треугольников. Каждая вершина икосаэдра является вершиной пяти треугольников. Следовательно, сумма плоских углов при каждой вершине равна </a:t>
            </a:r>
            <a:r>
              <a:rPr b="1" i="1" lang="ru-RU" sz="3200" spc="-1" strike="noStrike">
                <a:solidFill>
                  <a:srgbClr val="333399"/>
                </a:solidFill>
                <a:latin typeface="Monotype Corsiva"/>
              </a:rPr>
              <a:t>300</a:t>
            </a:r>
            <a:r>
              <a:rPr b="1" i="1" lang="en-US" sz="3200" spc="-1" strike="noStrike">
                <a:solidFill>
                  <a:srgbClr val="333399"/>
                </a:solidFill>
                <a:latin typeface="Monotype Corsiva"/>
              </a:rPr>
              <a:t>º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1463760" y="5018760"/>
            <a:ext cx="139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Рис.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0" descr="Рисунок3"/>
          <p:cNvPicPr/>
          <p:nvPr/>
        </p:nvPicPr>
        <p:blipFill>
          <a:blip r:embed="rId1"/>
          <a:stretch/>
        </p:blipFill>
        <p:spPr>
          <a:xfrm>
            <a:off x="765000" y="2023920"/>
            <a:ext cx="2651400" cy="289584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0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3544920" y="2117880"/>
            <a:ext cx="5110200" cy="27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Составлен из шести квадратов. Каждая вершина куба является вершиной трёх квадратов. Следовательно, сумма плоских углов при каждой вершине равна 270</a:t>
            </a:r>
            <a:r>
              <a:rPr b="1" lang="en-US" sz="3200" spc="-1" strike="noStrike">
                <a:solidFill>
                  <a:srgbClr val="333399"/>
                </a:solidFill>
                <a:latin typeface="Monotype Corsiva"/>
              </a:rPr>
              <a:t>º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8760" y="122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Куб (гексаэдр)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1573200" y="4876560"/>
            <a:ext cx="1087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Рис.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0" descr="Рисунок4"/>
          <p:cNvPicPr/>
          <p:nvPr/>
        </p:nvPicPr>
        <p:blipFill>
          <a:blip r:embed="rId1"/>
          <a:stretch/>
        </p:blipFill>
        <p:spPr>
          <a:xfrm>
            <a:off x="716040" y="2071800"/>
            <a:ext cx="2919240" cy="288900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3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415800" y="1382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Правильный додекаэдр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486240" y="1900080"/>
            <a:ext cx="505944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Составлен из двенадцати правильных пятиугольников. Каждая вершина додекаэдра является вершиной трёх правильных пятиугольников. Следовательно, сумма плоских углов при каждой вершине равна </a:t>
            </a:r>
            <a:r>
              <a:rPr b="1" i="1" lang="ru-RU" sz="3200" spc="-1" strike="noStrike">
                <a:solidFill>
                  <a:srgbClr val="333399"/>
                </a:solidFill>
                <a:latin typeface="Monotype Corsiva"/>
              </a:rPr>
              <a:t>324</a:t>
            </a:r>
            <a:r>
              <a:rPr b="1" i="1" lang="en-US" sz="3200" spc="-1" strike="noStrike">
                <a:solidFill>
                  <a:srgbClr val="333399"/>
                </a:solidFill>
                <a:latin typeface="Monotype Corsiva"/>
                <a:ea typeface="Arial"/>
              </a:rPr>
              <a:t>º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.</a:t>
            </a: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1333440" y="5063400"/>
            <a:ext cx="139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Рис.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0" descr="Рисунок5"/>
          <p:cNvPicPr/>
          <p:nvPr/>
        </p:nvPicPr>
        <p:blipFill>
          <a:blip r:embed="rId1"/>
          <a:stretch/>
        </p:blipFill>
        <p:spPr>
          <a:xfrm>
            <a:off x="768240" y="2062080"/>
            <a:ext cx="2730600" cy="284652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6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58440" y="1522080"/>
            <a:ext cx="793116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пришли из Древней Греци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в них  указывается число гран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«эдра»    </a:t>
            </a:r>
            <a:r>
              <a:rPr b="1" lang="ru-RU" sz="3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  грань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«тетра» </a:t>
            </a:r>
            <a:r>
              <a:rPr b="1" lang="ru-RU" sz="3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4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«гекса»    </a:t>
            </a:r>
            <a:r>
              <a:rPr b="1" lang="ru-RU" sz="3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6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«окта»    </a:t>
            </a:r>
            <a:r>
              <a:rPr b="1" lang="ru-RU" sz="3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8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«икоса»   </a:t>
            </a:r>
            <a:r>
              <a:rPr b="1" lang="ru-RU" sz="3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  2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«додека»  </a:t>
            </a:r>
            <a:r>
              <a:rPr b="1" lang="ru-RU" sz="3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12.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28760" y="13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Названия многогранников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2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7" dur="10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" dur="10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" dur="10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09600" y="1353960"/>
            <a:ext cx="871200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Monotype Corsiva"/>
              </a:rPr>
              <a:t>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Правильные многогранники иногда называют Платоновыми телами, поскольку они занимают видное место в философской картине мира, разработанной великим мыслителем Древней Греции Платоном (ок. 428 – ок. 348 до н.э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Платон считал, что мир строится из четырёх «стихий» – огня, земли, воздуха и воды, а атомы этих «стихий» имеют форму четырёх правильных многогранни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Тетраэдр олицетворял огонь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поскольку его вершина устремлена вверх, как у разгоревшегося пламе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ff00ff"/>
                </a:solidFill>
                <a:latin typeface="Times New Roman"/>
              </a:rPr>
              <a:t>Икосаэдр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– как самый обтекаемый –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ff"/>
                </a:solidFill>
                <a:latin typeface="Times New Roman"/>
              </a:rPr>
              <a:t>воду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ff00ff"/>
                </a:solidFill>
                <a:latin typeface="Times New Roman"/>
              </a:rPr>
              <a:t>Куб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– самая устойчивая из фигур –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ff"/>
                </a:solidFill>
                <a:latin typeface="Times New Roman"/>
              </a:rPr>
              <a:t>землю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ff00ff"/>
                </a:solidFill>
                <a:latin typeface="Times New Roman"/>
              </a:rPr>
              <a:t>Октаэдр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000" spc="-1" strike="noStrike">
                <a:solidFill>
                  <a:srgbClr val="ff00ff"/>
                </a:solidFill>
                <a:latin typeface="Times New Roman"/>
              </a:rPr>
              <a:t>воздух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В наше время эту систему можно сравнить с четырьмя состояниями вещества – твёрдым, жидким, газообразным и пламенны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Пятый многогранник –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ff"/>
                </a:solidFill>
                <a:latin typeface="Times New Roman"/>
              </a:rPr>
              <a:t>додекаэдр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символизирова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ff"/>
                </a:solidFill>
                <a:latin typeface="Times New Roman"/>
              </a:rPr>
              <a:t>весь мир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и почитался главнейш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Это была одна из первых попыток ввести в науку идею систематиз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9080" y="142920"/>
            <a:ext cx="866448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Правильные многогранники 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в философской картине мира Плато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8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3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8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3" dur="10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3" dur="10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5T12:56:59Z</dcterms:created>
  <dc:creator>Igor</dc:creator>
  <dc:description/>
  <dc:language>en-US</dc:language>
  <cp:lastModifiedBy>LEGION</cp:lastModifiedBy>
  <dcterms:modified xsi:type="dcterms:W3CDTF">2015-01-23T13:25:39Z</dcterms:modified>
  <cp:revision>24</cp:revision>
  <dc:subject/>
  <dc:title>Слайд 1</dc:title>
</cp:coreProperties>
</file>