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EF33-2FF7-4B00-B146-2764273CD6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92FA-4D61-4DB3-8408-59D29F4CA3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C959-BB8F-47D8-8F0F-0DEAC15557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040E-BBC5-4BA4-809E-259382EBC2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821B-E9E3-47E9-9513-CED9BB8DE1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6F3B-64B4-40F0-9EA7-AC04542BAF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Circjgjnia</a:t>
            </a:r>
            <a:r>
              <a:rPr b="1" lang="en-US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icosahtdra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C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K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[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A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] </a:t>
            </a:r>
            <a:r>
              <a:rPr b="1" lang="ru-RU" sz="11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 1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,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FeS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b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В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83D9-8762-4B3F-94C2-410F7430BF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4394-ED3B-4D9C-8657-6366DFB2C2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A022-11F3-4BE3-97A0-C8642ECE69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E2A6-BBF5-48E8-B034-88160E686D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D92E-04D9-4FED-B1BF-9E240AD6E9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5B08-1CD8-4D1A-A313-BDBF8E58AE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C156-9713-4000-8F51-29AC1E29B4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3260-7E59-49AF-A0B7-CBBCEC7618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5BB1-3593-44C6-9F2A-78744CFCE4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A380-E8CC-41C2-9F44-4B3790E032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CA3-A67F-4847-A0B7-46D94BFA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8C8-0F4E-4CE1-9603-85BBBB27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CCE-B999-4C4C-8EC1-6D9D9A5E5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EFC0-F94A-4B6C-B338-EBFDB144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390E-EF46-4865-A201-7D30CC01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6800-C81C-46FA-A8B9-0196DCBA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2012-31AF-4089-9F30-30D08591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34DD-16C5-422B-97C3-2695F2F4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A730-3DC4-4317-9880-7F4516F1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F009-31F3-4312-A4BA-E50D9D7E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355A-4797-47C2-8E72-CF0C1589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5B9-997A-459C-B540-DF87279D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6284-F50D-4EE7-B26A-076258DE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B3F7-DD87-4974-8375-2CC9E275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2519-1F71-4295-AC17-A5A70D93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401C-28CA-4501-A048-F67AA5AA4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FC17-77A5-4EA4-8FF4-F1E28479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68C-E168-4DA7-B04E-97806B0E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D02-9945-42A0-88B9-08C91550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684-6EC9-4FD3-A3F4-73DBDF86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72A-4F30-4DDE-8994-E19326A4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738C-C7CE-4636-9731-629387C7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995-4834-443F-AA2E-76E6307F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CD9-7352-4A22-B13B-26F42C13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C2C9-A365-4CA8-B62D-8F1B72A23B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7C60-CC67-4E41-8CFA-E7E652D585B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1680" y="1906200"/>
            <a:ext cx="79311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Космический кубок» Кеп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2080" y="1415880"/>
            <a:ext cx="537048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120" y="50022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Модель  Солн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истемы  И.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316160" y="4620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Рисунок6"/>
          <p:cNvPicPr/>
          <p:nvPr/>
        </p:nvPicPr>
        <p:blipFill>
          <a:blip r:embed="rId1"/>
          <a:stretch/>
        </p:blipFill>
        <p:spPr>
          <a:xfrm>
            <a:off x="531720" y="1835280"/>
            <a:ext cx="262116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59000" y="1487520"/>
            <a:ext cx="55152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4200" y="4888080"/>
            <a:ext cx="223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косаэд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одекаэд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труктур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34880" y="254160"/>
            <a:ext cx="7634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287720" y="4431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7"/>
          <p:cNvPicPr/>
          <p:nvPr/>
        </p:nvPicPr>
        <p:blipFill>
          <a:blip r:embed="rId1"/>
          <a:stretch/>
        </p:blipFill>
        <p:spPr>
          <a:xfrm>
            <a:off x="482760" y="1724040"/>
            <a:ext cx="266364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48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27120" y="1442880"/>
          <a:ext cx="7791480" cy="4664160"/>
        </p:xfrm>
        <a:graphic>
          <a:graphicData uri="http://schemas.openxmlformats.org/drawingml/2006/table">
            <a:tbl>
              <a:tblPr/>
              <a:tblGrid>
                <a:gridCol w="1863720"/>
                <a:gridCol w="2954160"/>
                <a:gridCol w="2973600"/>
              </a:tblGrid>
              <a:tr h="73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1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1846080"/>
            <a:ext cx="82882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Формула Эйл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5520" y="4019400"/>
            <a:ext cx="827244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Число граней плюс число вершин минус число рёб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любом многограннике равно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</a:t>
            </a:r>
            <a:r>
              <a:rPr b="1" lang="ru-RU" sz="6000" spc="-1" strike="noStrike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 Р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960" y="500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Тайная вече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Рисунок8"/>
          <p:cNvPicPr/>
          <p:nvPr/>
        </p:nvPicPr>
        <p:blipFill>
          <a:blip r:embed="rId1"/>
          <a:stretch/>
        </p:blipFill>
        <p:spPr>
          <a:xfrm>
            <a:off x="1397160" y="1612800"/>
            <a:ext cx="6349680" cy="3632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86280" y="1349280"/>
            <a:ext cx="563688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rcjgjni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cosahtdra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C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]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1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eS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b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В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4920" y="504036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Феод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Circjgjnia icosahtdra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5600" y="4650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Рисунок9"/>
          <p:cNvPicPr/>
          <p:nvPr/>
        </p:nvPicPr>
        <p:blipFill>
          <a:blip r:embed="rId1"/>
          <a:stretch/>
        </p:blipFill>
        <p:spPr>
          <a:xfrm>
            <a:off x="498600" y="1612800"/>
            <a:ext cx="2571480" cy="30178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60760" y="1869840"/>
            <a:ext cx="4968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410480" y="5571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Рисунок10"/>
          <p:cNvPicPr/>
          <p:nvPr/>
        </p:nvPicPr>
        <p:blipFill>
          <a:blip r:embed="rId1"/>
          <a:stretch/>
        </p:blipFill>
        <p:spPr>
          <a:xfrm>
            <a:off x="870120" y="1619280"/>
            <a:ext cx="2498400" cy="3906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95440" y="156996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26000" y="2001960"/>
            <a:ext cx="4706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Рисунок1"/>
          <p:cNvPicPr/>
          <p:nvPr/>
        </p:nvPicPr>
        <p:blipFill>
          <a:blip r:embed="rId1"/>
          <a:stretch/>
        </p:blipFill>
        <p:spPr>
          <a:xfrm>
            <a:off x="900000" y="2075040"/>
            <a:ext cx="2713320" cy="29685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49320" y="1972800"/>
            <a:ext cx="49626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Рисунок2"/>
          <p:cNvPicPr/>
          <p:nvPr/>
        </p:nvPicPr>
        <p:blipFill>
          <a:blip r:embed="rId1"/>
          <a:stretch/>
        </p:blipFill>
        <p:spPr>
          <a:xfrm>
            <a:off x="704880" y="2075040"/>
            <a:ext cx="2914560" cy="2968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63760" y="5018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Рисунок3"/>
          <p:cNvPicPr/>
          <p:nvPr/>
        </p:nvPicPr>
        <p:blipFill>
          <a:blip r:embed="rId1"/>
          <a:stretch/>
        </p:blipFill>
        <p:spPr>
          <a:xfrm>
            <a:off x="765000" y="2023920"/>
            <a:ext cx="265140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Рисунок4"/>
          <p:cNvPicPr/>
          <p:nvPr/>
        </p:nvPicPr>
        <p:blipFill>
          <a:blip r:embed="rId1"/>
          <a:stretch/>
        </p:blipFill>
        <p:spPr>
          <a:xfrm>
            <a:off x="716040" y="2071800"/>
            <a:ext cx="2919240" cy="288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86240" y="1900080"/>
            <a:ext cx="505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333440" y="5063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5"/>
          <p:cNvPicPr/>
          <p:nvPr/>
        </p:nvPicPr>
        <p:blipFill>
          <a:blip r:embed="rId1"/>
          <a:stretch/>
        </p:blipFill>
        <p:spPr>
          <a:xfrm>
            <a:off x="768240" y="2062080"/>
            <a:ext cx="2730600" cy="28465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58440" y="1522080"/>
            <a:ext cx="7931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2876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9600" y="1353960"/>
            <a:ext cx="87120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философской картине мира Пла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2:56:59Z</dcterms:created>
  <dc:creator>Igor</dc:creator>
  <dc:description/>
  <dc:language>en-US</dc:language>
  <cp:lastModifiedBy>LEGION</cp:lastModifiedBy>
  <dcterms:modified xsi:type="dcterms:W3CDTF">2015-01-23T13:25:39Z</dcterms:modified>
  <cp:revision>24</cp:revision>
  <dc:subject/>
  <dc:title>Слайд 1</dc:title>
</cp:coreProperties>
</file>