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AA28-F8B7-4560-9681-CC01B33FD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BAE2-2F4E-4051-815F-4CFE2D668F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.к. сумма острых углов прямоугольного треугольника равна 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два других острых угла также рав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торому признаку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75CD-8AB8-40BB-8A21-DA9280C7CA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CCE9-7F0B-48FE-897B-E3E59ADF88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661D-523B-4359-AA34-8D3C581651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014B-E91A-4516-805B-BBD68189D6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В прямоугольном треугольнике все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два угла острых и один пря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один острый угол, один прямой и один тупой уг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все углы прям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2ADF-773D-4866-94CD-0E4A479D2F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 угол, наз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ами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C424-F600-4049-B69D-BED61D3926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ой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ом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ой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2B4B-D103-4300-9887-3B871C41DA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умма острых углов прямоугольного треугольник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18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10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9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E11E-0F69-46E1-998D-EB78055611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cc00"/>
                </a:solidFill>
                <a:latin typeface="Tahoma"/>
              </a:rPr>
              <a:t>Кулешовой  Галиной  Николаев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7CDC-5461-4645-9EAE-6990FC63CA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тематический папирус Ахмеса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хме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пирус Ахмеса был обнаружен в 1858 шотландским египтологом Генри Риндом 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5924-DD57-49E8-8D17-FA20AAEE88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cc00"/>
                </a:solidFill>
                <a:latin typeface="Arial"/>
              </a:rPr>
              <a:t>С о д е р ж а н и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A55A-D169-4A1C-9853-6DDC1ADB60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кл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F91D-ED04-476F-BF59-9007CFB7FA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В любом треугольнике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  Против большей стороны лежит больший угол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Против равных сторон лежат равные углы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 Сумма углов треугольника равна 180 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  Продолжая одну из сторон треуголь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внутренних углов, не смежных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Любая сторона треугольника меньше суммы двух других сторон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a &lt; b + c,  a &gt; b – c;  b &lt; a + c,  b &gt; a – c;  c &lt; a + b,  c &gt; a – b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2841-E2A1-4D3C-8250-DBDB7FDFC9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ее внимательно изучи данную тем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4AF-5E1D-4897-A635-C0CF2C2DD7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6CB1-725A-4DD1-BCD6-66DA28C354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B215-55DE-471E-B502-A2589EEF73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hypoteins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ющег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тянущаяся под чем либо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стягивающа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слова «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катетос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торое означал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отвес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перпендикуля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В средние века словом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е слов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отребляет выра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DA82-F298-48C4-8578-2617C12A11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это геометрическая фиг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ru-RU" sz="12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ru-RU" sz="12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3F50-C766-49BF-BAAA-D9BA182B1B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8209-FDEC-4389-98D3-4B73A64C31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1161-600C-4EF0-A7C4-4F68BDCAE3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перв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двум сторонам и углу между ни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714C-BE44-4D4B-AA81-89E451C933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C40A-2FB3-4E51-B421-52EE1E30CF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втор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9C4-2ACC-4318-98CD-F5CCF478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C97-BDC1-4E3C-9174-0F575C88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AED-2BA8-48BC-8DE4-D36AA24B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F30-2948-4080-8B7D-C7823766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AC7-F85A-470C-BAF1-2C5126B6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131-DFC8-4C1B-B6D6-7CFCE79A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1F3-0833-4625-89F1-452C4EA4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94E-4983-469F-8979-DCB1BE15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769-8E09-4413-877E-9756DFC0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792-4006-4CD4-AE8E-9E4E42F5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320-99BC-453A-9E33-ED3262AF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C4E-6FAC-418C-AF2F-F901815F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B974-DA1E-43F6-8947-AD18F88B0E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hyperlink" Target="mailto:galka-kul@yandex.ru" TargetMode="External"/><Relationship Id="rId5" Type="http://schemas.openxmlformats.org/officeDocument/2006/relationships/slide" Target="slide2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" Target="slide3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6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93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97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07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10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9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8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25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28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31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34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35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38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4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4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5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6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6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7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7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8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9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98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02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10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15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18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26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30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35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42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47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49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55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63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69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81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3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800280" y="1806480"/>
            <a:ext cx="7907040" cy="2136240"/>
            <a:chOff x="800280" y="1806480"/>
            <a:chExt cx="7907040" cy="2136240"/>
          </a:xfrm>
        </p:grpSpPr>
        <p:sp>
          <p:nvSpPr>
            <p:cNvPr id="503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2314440" y="2600280"/>
              <a:ext cx="34290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4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9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6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4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>
            <a:hlinkClick r:id="rId5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2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13" descr="book[1]"/>
          <p:cNvPicPr/>
          <p:nvPr/>
        </p:nvPicPr>
        <p:blipFill>
          <a:blip r:embed="rId3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1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2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5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8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1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3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14" descr="roman_speaker[1]"/>
          <p:cNvPicPr/>
          <p:nvPr/>
        </p:nvPicPr>
        <p:blipFill>
          <a:blip r:embed="rId4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3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38" name="Picture 21" descr="geo7b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41" name="Picture 7" descr="http://www.bymath.net/studyguide/geo/sec/geo7a.gif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31" descr="r1[1]"/>
          <p:cNvPicPr/>
          <p:nvPr/>
        </p:nvPicPr>
        <p:blipFill>
          <a:blip r:embed="rId4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5">
            <a:hlinkClick r:id="rId1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7" descr="mangoodpoint[1]"/>
          <p:cNvPicPr/>
          <p:nvPr/>
        </p:nvPicPr>
        <p:blipFill>
          <a:blip r:embed="rId2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30[1]"/>
          <p:cNvPicPr/>
          <p:nvPr/>
        </p:nvPicPr>
        <p:blipFill>
          <a:blip r:embed="rId3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30[1]"/>
          <p:cNvPicPr/>
          <p:nvPr/>
        </p:nvPicPr>
        <p:blipFill>
          <a:blip r:embed="rId4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5">
            <a:hlinkClick r:id="rId1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55" name="Picture 14" descr="ani-lights-left-29x120[1]"/>
            <p:cNvPicPr/>
            <p:nvPr/>
          </p:nvPicPr>
          <p:blipFill>
            <a:blip r:embed="rId2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57" name="Picture 15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16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17" descr="ani-lights-left-29x120[1]"/>
              <p:cNvPicPr/>
              <p:nvPr/>
            </p:nvPicPr>
            <p:blipFill>
              <a:blip r:embed="rId5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0" name="Picture 19" descr="ani-lights-left-29x120[1]"/>
            <p:cNvPicPr/>
            <p:nvPr/>
          </p:nvPicPr>
          <p:blipFill>
            <a:blip r:embed="rId6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62" name="Picture 24" descr="ani-lights-left-29x120[1]"/>
            <p:cNvPicPr/>
            <p:nvPr/>
          </p:nvPicPr>
          <p:blipFill>
            <a:blip r:embed="rId7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3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64" name="Picture 26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27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28" descr="ani-lights-left-29x120[1]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7" name="Picture 29" descr="ani-lights-left-29x120[1]"/>
            <p:cNvPicPr/>
            <p:nvPr/>
          </p:nvPicPr>
          <p:blipFill>
            <a:blip r:embed="rId11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69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70" name="Picture 20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21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73" name="Picture 32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33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76" name="Picture 35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36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8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79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80" name="Picture 40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Picture 41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83" name="Picture 43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4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5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86" name="Picture 46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47" descr="ani-lights-left-29x120[1]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8" name="Picture 50" descr="mangoodpoint[1]"/>
          <p:cNvPicPr/>
          <p:nvPr/>
        </p:nvPicPr>
        <p:blipFill>
          <a:blip r:embed="rId24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11" descr="angel147[1]"/>
          <p:cNvPicPr/>
          <p:nvPr/>
        </p:nvPicPr>
        <p:blipFill>
          <a:blip r:embed="rId2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94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95" name="Picture 17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18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98" name="Picture 21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22" descr="16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0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01" name="Picture 24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25" descr="16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04" name="Picture 27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28" descr="16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7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20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3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6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7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9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70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74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84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7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92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95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8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04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06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9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13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16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8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21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4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25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8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30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33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7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43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47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57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60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70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34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77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8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81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6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87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3:32:1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