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41B5-3748-4D32-8028-7F4E12F79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05AD-9392-46F0-8450-A35D807488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.к. сумма острых углов прямоугольного треугольника равна 9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 два других острых угла также рав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торому признаку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0195-665F-4D94-9581-D42EBECA29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2E3A-61DC-442E-9D2F-089747E070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6EFE-C7E6-4652-8E0F-C0027BDAC0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AABD-448A-40D0-93DC-FBDADFA7FF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В прямоугольном треугольнике все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два угла острых и один прям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один острый угол, один прямой и один тупой уго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все углы прям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9E8D-1CFB-4E63-BB2F-20FF11CC62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 угол, назыв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ами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A203-AA3C-420C-AF85-FDFD2D264E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ой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ом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ой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5770-FCD8-4DEC-B0A0-9FD034646B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умма острых углов прямоугольного треугольник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18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10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9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C9B3-43E7-4D83-AA5B-9FD26D8765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cc00"/>
                </a:solidFill>
                <a:latin typeface="Tahoma"/>
              </a:rPr>
              <a:t>Кулешовой  Галиной  Николаевн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11F9-1543-4BC1-87CC-EF9BB610DF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атематический папирус Ахмеса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хме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пирус Ахмеса был обнаружен в 1858 шотландским египтологом Генри Риндом 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7403-0AE5-4FD8-8E97-651B88F673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cc00"/>
                </a:solidFill>
                <a:latin typeface="Arial"/>
              </a:rPr>
              <a:t>С о д е р ж а н и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AAED-CF13-4443-877D-47929C8971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кли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F5FC-A706-4FBC-AEA8-142EC847A7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В любом треугольнике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  Против большей стороны лежит больший угол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  Против равных сторон лежат равные углы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  Сумма углов треугольника равна 180 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  Продолжая одну из сторон треуголь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а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угол треугольника равен сумме внутренних углов, не смежных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Любая сторона треугольника меньше суммы двух других сторон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a &lt; b + c,  a &gt; b – c;  b &lt; a + c,  b &gt; a – c;  c &lt; a + b,  c &gt; a – b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EAF5-9030-45EE-B451-8BD0016E37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ее внимательно изучи данную тем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4F4D-6C4D-4D69-B950-A09A148210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84D1-5D09-468B-8356-B00B5D8DEF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82EE-9DB1-4B3F-B27C-2DC4F0EB35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hypoteins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ющег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тянущаяся под чем либо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стягивающа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слова «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катетос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торое означал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отвес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перпендикуля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В средние века словом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е слов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отребляет выраж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BBD9-5441-4DE2-952D-82D135CB3C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это геометрическая фигу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ящая из трёх точек, не лежащих на 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один из углов треугольника 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ив прямого угла, называется </a:t>
            </a:r>
            <a:r>
              <a:rPr b="1" i="1" lang="ru-RU" sz="12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две другие – </a:t>
            </a:r>
            <a:r>
              <a:rPr b="1" i="1" lang="ru-RU" sz="12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C513-93E0-4D15-A0CA-58396EB39A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4A96-65BE-4F16-B568-E956F0258A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9859-46A5-4FF8-9ABB-E8CD78114D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перв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двум сторонам и углу между ни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2DA2-5769-49F5-8C3B-19316EE4CA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6888-B254-4607-A8DE-13574D8BCC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втор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10E-6CC3-411D-AC1C-6F97C356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0DA-CE21-4FE6-82AF-90035B03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DF6-638F-4856-B86C-1892B580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882-A3E8-4109-9467-C7C2022D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69C-015A-4D77-A19D-8FBE8310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E72-E9B0-4BD9-8EED-E4C9CFFE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4F6-AE2A-4061-A754-D2A6E7B6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D1B-2C12-4462-A772-0347E698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3EA-A3A5-4F89-A29A-13AD44D3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C28-ED08-42E6-A7CC-B2EA496C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1B2-82F8-4DC0-B741-23D0F692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37A-3B8A-46AA-BF13-6E98E7E2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F6E2-550E-4BBF-ACB8-B63FC69F3B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hyperlink" Target="mailto:galka-kul@yandex.ru" TargetMode="External"/><Relationship Id="rId5" Type="http://schemas.openxmlformats.org/officeDocument/2006/relationships/slide" Target="slide24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" Target="slide3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6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93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97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07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10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2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9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98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25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28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31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34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35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38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4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4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5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6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6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7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7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8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9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98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02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10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15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18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26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30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35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42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47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8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49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55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63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69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81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3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800280" y="1806480"/>
            <a:ext cx="7907040" cy="2136240"/>
            <a:chOff x="800280" y="1806480"/>
            <a:chExt cx="7907040" cy="2136240"/>
          </a:xfrm>
        </p:grpSpPr>
        <p:sp>
          <p:nvSpPr>
            <p:cNvPr id="503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7"/>
            <p:cNvSpPr/>
            <p:nvPr/>
          </p:nvSpPr>
          <p:spPr>
            <a:xfrm>
              <a:off x="2314440" y="2600280"/>
              <a:ext cx="34290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10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4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9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6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4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6">
            <a:hlinkClick r:id="rId5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2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13" descr="book[1]"/>
          <p:cNvPicPr/>
          <p:nvPr/>
        </p:nvPicPr>
        <p:blipFill>
          <a:blip r:embed="rId3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1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2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5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8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1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13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14" descr="roman_speaker[1]"/>
          <p:cNvPicPr/>
          <p:nvPr/>
        </p:nvPicPr>
        <p:blipFill>
          <a:blip r:embed="rId4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>
            <a:hlinkClick r:id="rId1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3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38" name="Picture 21" descr="geo7b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41" name="Picture 7" descr="http://www.bymath.net/studyguide/geo/sec/geo7a.gif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31" descr="r1[1]"/>
          <p:cNvPicPr/>
          <p:nvPr/>
        </p:nvPicPr>
        <p:blipFill>
          <a:blip r:embed="rId4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AutoShape 5">
            <a:hlinkClick r:id="rId1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7" descr="mangoodpoint[1]"/>
          <p:cNvPicPr/>
          <p:nvPr/>
        </p:nvPicPr>
        <p:blipFill>
          <a:blip r:embed="rId2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30[1]"/>
          <p:cNvPicPr/>
          <p:nvPr/>
        </p:nvPicPr>
        <p:blipFill>
          <a:blip r:embed="rId3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30[1]"/>
          <p:cNvPicPr/>
          <p:nvPr/>
        </p:nvPicPr>
        <p:blipFill>
          <a:blip r:embed="rId4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5">
            <a:hlinkClick r:id="rId1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55" name="Picture 14" descr="ani-lights-left-29x120[1]"/>
            <p:cNvPicPr/>
            <p:nvPr/>
          </p:nvPicPr>
          <p:blipFill>
            <a:blip r:embed="rId2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6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57" name="Picture 15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16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17" descr="ani-lights-left-29x120[1]"/>
              <p:cNvPicPr/>
              <p:nvPr/>
            </p:nvPicPr>
            <p:blipFill>
              <a:blip r:embed="rId5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0" name="Picture 19" descr="ani-lights-left-29x120[1]"/>
            <p:cNvPicPr/>
            <p:nvPr/>
          </p:nvPicPr>
          <p:blipFill>
            <a:blip r:embed="rId6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62" name="Picture 24" descr="ani-lights-left-29x120[1]"/>
            <p:cNvPicPr/>
            <p:nvPr/>
          </p:nvPicPr>
          <p:blipFill>
            <a:blip r:embed="rId7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3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64" name="Picture 26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27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28" descr="ani-lights-left-29x120[1]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7" name="Picture 29" descr="ani-lights-left-29x120[1]"/>
            <p:cNvPicPr/>
            <p:nvPr/>
          </p:nvPicPr>
          <p:blipFill>
            <a:blip r:embed="rId11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69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70" name="Picture 20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21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2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73" name="Picture 32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Picture 33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76" name="Picture 35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36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8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79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80" name="Picture 40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Picture 41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83" name="Picture 43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44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5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86" name="Picture 46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47" descr="ani-lights-left-29x120[1]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88" name="Picture 50" descr="mangoodpoint[1]"/>
          <p:cNvPicPr/>
          <p:nvPr/>
        </p:nvPicPr>
        <p:blipFill>
          <a:blip r:embed="rId24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11" descr="angel147[1]"/>
          <p:cNvPicPr/>
          <p:nvPr/>
        </p:nvPicPr>
        <p:blipFill>
          <a:blip r:embed="rId2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94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95" name="Picture 17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18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7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98" name="Picture 21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22" descr="16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0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01" name="Picture 24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25" descr="16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3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04" name="Picture 27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28" descr="16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8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7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20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3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6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7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9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70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74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84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7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92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95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8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04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06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9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13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16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8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21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4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25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8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30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33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7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43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47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57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60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2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70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34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77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8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81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84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6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87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3:32:15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