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5.gif" ContentType="image/gif"/>
  <Override PartName="/ppt/media/image27.gif" ContentType="image/gif"/>
  <Override PartName="/ppt/media/image1.jpeg" ContentType="image/jpeg"/>
  <Override PartName="/ppt/media/image4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gif" ContentType="image/gif"/>
  <Override PartName="/ppt/media/image6.gif" ContentType="image/gif"/>
  <Override PartName="/ppt/media/image21.jpeg" ContentType="image/jpe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22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0829-BDB1-44D4-9F3C-F6D56E2ACD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6.xml"/><Relationship Id="rId3" Type="http://schemas.openxmlformats.org/officeDocument/2006/relationships/slide" Target="../slides/slide13.xml"/><Relationship Id="rId4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5F33-0C3B-40DE-861B-1AE8D2EBF8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.к. сумма острых углов прямоугольного треугольника равна 9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о два других острых угла также равн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второму признаку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стороне и прилежащим к ней угл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4017-F198-485E-A761-B25ADEE5CA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2ADB-5F5E-4D26-ACCA-286B7B3BD9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FF81-5574-45CB-A481-BB7B5A9D5F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все углы прямы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два угла прямы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один прямой уго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1588-71A5-485C-9220-BCF10A817F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В прямоугольном треугольнике все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два угла острых и один прям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один острый угол, один прямой и один тупой уго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все углы прям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1D4B-C2F7-4A48-B265-EE3DF6327A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й угол, назыв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сторонами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катетами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гипотенузами треуг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7603-7BDB-4FBA-B401-1B266F727D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стороной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катетом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гипотенузой треуг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5F55-0D54-4BF6-B51A-8D6991DF6F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Сумма острых углов прямоугольного треугольника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18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10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9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E389-C5A2-43D3-92FF-1115203B5D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cc00"/>
                </a:solidFill>
                <a:latin typeface="Tahoma"/>
              </a:rPr>
              <a:t>Кулешовой  Галиной  Николаевно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3E99-553A-478E-999A-AF8C2DFF07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Математический папирус Ахмеса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хмес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пирус Ахмеса был обнаружен в 1858 шотландским египтологом Генри Риндом 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86EC-C1F2-493C-B92C-68EE2BB1F0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cc00"/>
                </a:solidFill>
                <a:latin typeface="Arial"/>
              </a:rPr>
              <a:t>С о д е р ж а н и 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2584-E0E0-4932-9B46-451ACBB297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кли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C402-8C1B-4FEB-A05D-7DDA9F8BB6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Arial"/>
                <a:ea typeface="Times New Roman"/>
              </a:rPr>
              <a:t>В любом треугольнике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  Против большей стороны лежит больший угол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  Против равных сторон лежат равные углы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  Сумма углов треугольника равна 180 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  Продолжая одну из сторон треуголь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а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шни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го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угол треугольника равен сумме внутренних углов, не смежных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Любая сторона треугольника меньше суммы двух других сторон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и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 a &lt; b + c,  a &gt; b – c;  b &lt; a + c,  b &gt; a – c;  c &lt; a + b,  c &gt; a – b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27C8-4D15-42D5-9961-8FAC95D417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олее внимательно изучи данную тем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6E13-90E4-4BA7-AA2C-DAD0E29552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9016-BC96-4CE1-9193-6AF67669C6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FC19-3507-4F49-A181-BA57F9CD40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папирусе Ахмес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1" lang="ru-RU" sz="12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оисходит от греческого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hypoteins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значающег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тянущаяся под чем либо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стягивающая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1" lang="ru-RU" sz="12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оисходит от греческого слова «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катетос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торое означал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отвес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перпендикуляр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В средние века словом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веке слов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Евклид</a:t>
            </a: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отребляет выраж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83D9-3A71-4D53-AE3F-AA3A860F4D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– это геометрическая фигу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оящая из трёх точек, не лежащих на од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один из углов треугольника прямо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реугольник называется прямоуго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тив прямого угла, называется </a:t>
            </a:r>
            <a:r>
              <a:rPr b="1" i="1" lang="ru-RU" sz="12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 две другие – </a:t>
            </a:r>
            <a:r>
              <a:rPr b="1" i="1" lang="ru-RU" sz="12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1052-5B02-482C-95D3-37691633B3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ен половине гипотену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AC79-5CE4-4069-B1D0-448A75F007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7FB1-CD49-4D80-89BC-20A877E30E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ует из первого признака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двум сторонам и углу между ни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34E3-4198-4013-BD83-18A1580A59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2E2F-E2B1-4AD2-9189-0B1B649EF8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ует из второго признака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стороне и прилежащим к ней угл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A65-E30F-47CD-A5A8-8F4E41CE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AEF1-6B5C-4E5B-AE76-3444CBB7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806-FC6D-4118-82ED-7447E0F3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3831-FF8E-49D2-A52A-19B3E0C1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505F-9509-45C1-A806-B1CABE57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60EB-4454-4AB0-BD8D-2C1DD48F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5EE-9F88-43E8-8420-D443B695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32F-FF1D-4BCF-85AB-FF1F0AB4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893-304B-4171-96EB-D0504678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E344-B487-4B6B-A7D9-8401E287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9C4-9B4C-4C69-A341-3393622F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0F6-4B00-4EDD-B813-02209F2F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137D-B6E0-44BD-84EC-429DB7C6007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6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hyperlink" Target="mailto:galka-kul@yandex.ru" TargetMode="External"/><Relationship Id="rId5" Type="http://schemas.openxmlformats.org/officeDocument/2006/relationships/slide" Target="slide24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.xml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2.xml"/><Relationship Id="rId6" Type="http://schemas.openxmlformats.org/officeDocument/2006/relationships/slide" Target="slide18.xml"/><Relationship Id="rId7" Type="http://schemas.openxmlformats.org/officeDocument/2006/relationships/image" Target="../media/image4.gif"/><Relationship Id="rId8" Type="http://schemas.openxmlformats.org/officeDocument/2006/relationships/slide" Target="slide13.xml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" Target="slide21.xml"/><Relationship Id="rId18" Type="http://schemas.openxmlformats.org/officeDocument/2006/relationships/image" Target="../media/image6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" Target="slide3.xml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6.gi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геометрия"/>
          <p:cNvPicPr/>
          <p:nvPr/>
        </p:nvPicPr>
        <p:blipFill>
          <a:blip r:embed="rId1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51" name="Line 7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Line 8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9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Group 10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55" name="Line 11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Group 21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58" name="Text Box 18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" name="Picture 19" descr="cif7[1]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Group 70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93" name="Line 7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7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7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6" name="Group 74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97" name="Line 75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76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77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" name="Text Box 78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79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80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81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82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83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Group 84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07" name="Line 8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8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Group 87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10" name="Line 88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89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2" name="Picture 90" descr="cif3[1]"/>
          <p:cNvPicPr/>
          <p:nvPr/>
        </p:nvPicPr>
        <p:blipFill>
          <a:blip r:embed="rId2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91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92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93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94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9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Group 96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19" name="Rectangle 97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Object 98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Text Box 99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Arc 100"/>
          <p:cNvSpPr/>
          <p:nvPr/>
        </p:nvSpPr>
        <p:spPr>
          <a:xfrm flipH="1" flipV="1" rot="17826000">
            <a:off x="794880" y="185544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Arc 101"/>
          <p:cNvSpPr/>
          <p:nvPr/>
        </p:nvSpPr>
        <p:spPr>
          <a:xfrm flipH="1" flipV="1" rot="17826000">
            <a:off x="2701440" y="184752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4" name="Group 104"/>
          <p:cNvGrpSpPr/>
          <p:nvPr/>
        </p:nvGrpSpPr>
        <p:grpSpPr>
          <a:xfrm>
            <a:off x="3636360" y="3432240"/>
            <a:ext cx="279720" cy="211320"/>
            <a:chOff x="3636360" y="3432240"/>
            <a:chExt cx="279720" cy="211320"/>
          </a:xfrm>
        </p:grpSpPr>
        <p:sp>
          <p:nvSpPr>
            <p:cNvPr id="325" name="Arc 102"/>
            <p:cNvSpPr/>
            <p:nvPr/>
          </p:nvSpPr>
          <p:spPr>
            <a:xfrm flipH="1" flipV="1" rot="4138800">
              <a:off x="3735720" y="3463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Arc 103"/>
            <p:cNvSpPr/>
            <p:nvPr/>
          </p:nvSpPr>
          <p:spPr>
            <a:xfrm flipH="1" flipV="1" rot="4138800">
              <a:off x="3656880" y="3456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7" name="Group 105"/>
          <p:cNvGrpSpPr/>
          <p:nvPr/>
        </p:nvGrpSpPr>
        <p:grpSpPr>
          <a:xfrm>
            <a:off x="1737720" y="3459240"/>
            <a:ext cx="279720" cy="211320"/>
            <a:chOff x="1737720" y="3459240"/>
            <a:chExt cx="279720" cy="211320"/>
          </a:xfrm>
        </p:grpSpPr>
        <p:sp>
          <p:nvSpPr>
            <p:cNvPr id="328" name="Arc 106"/>
            <p:cNvSpPr/>
            <p:nvPr/>
          </p:nvSpPr>
          <p:spPr>
            <a:xfrm flipH="1" flipV="1" rot="4138800">
              <a:off x="1837080" y="3490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Arc 107"/>
            <p:cNvSpPr/>
            <p:nvPr/>
          </p:nvSpPr>
          <p:spPr>
            <a:xfrm flipH="1" flipV="1" rot="4138800">
              <a:off x="1758240" y="3483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0" name="Group 112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31" name="Rectangle 110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Rectangle 111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Group 117"/>
          <p:cNvGrpSpPr/>
          <p:nvPr/>
        </p:nvGrpSpPr>
        <p:grpSpPr>
          <a:xfrm>
            <a:off x="776160" y="1477800"/>
            <a:ext cx="3203640" cy="2184480"/>
            <a:chOff x="776160" y="1477800"/>
            <a:chExt cx="3203640" cy="2184480"/>
          </a:xfrm>
        </p:grpSpPr>
        <p:grpSp>
          <p:nvGrpSpPr>
            <p:cNvPr id="334" name="Group 116"/>
            <p:cNvGrpSpPr/>
            <p:nvPr/>
          </p:nvGrpSpPr>
          <p:grpSpPr>
            <a:xfrm>
              <a:off x="2682000" y="1482480"/>
              <a:ext cx="1297800" cy="2179800"/>
              <a:chOff x="2682000" y="1482480"/>
              <a:chExt cx="1297800" cy="2179800"/>
            </a:xfrm>
          </p:grpSpPr>
          <p:sp>
            <p:nvSpPr>
              <p:cNvPr id="335" name="Arc 109"/>
              <p:cNvSpPr/>
              <p:nvPr/>
            </p:nvSpPr>
            <p:spPr>
              <a:xfrm flipH="1" flipV="1" rot="17826000">
                <a:off x="2698200" y="186336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Line 113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115"/>
            <p:cNvGrpSpPr/>
            <p:nvPr/>
          </p:nvGrpSpPr>
          <p:grpSpPr>
            <a:xfrm>
              <a:off x="776160" y="1477800"/>
              <a:ext cx="1287360" cy="2179800"/>
              <a:chOff x="776160" y="1477800"/>
              <a:chExt cx="1287360" cy="2179800"/>
            </a:xfrm>
          </p:grpSpPr>
          <p:sp>
            <p:nvSpPr>
              <p:cNvPr id="338" name="Line 108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Arc 114"/>
              <p:cNvSpPr/>
              <p:nvPr/>
            </p:nvSpPr>
            <p:spPr>
              <a:xfrm flipH="1" flipV="1" rot="17826000">
                <a:off x="798120" y="186480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44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Group 13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48" name="Line 14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15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Line 16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1" name="Text Box 17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8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58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61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3" name="Picture 29" descr="cif4[1]"/>
          <p:cNvPicPr/>
          <p:nvPr/>
        </p:nvPicPr>
        <p:blipFill>
          <a:blip r:embed="rId2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3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Group 38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69" name="Rectangle 35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Text Box 37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Group 39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72" name="Line 40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41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Line 42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5" name="Text Box 43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44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45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Group 49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379" name="Line 50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Line 51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1" name="Group 52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382" name="Line 53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54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Line 55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56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Text Box 57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58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59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Arc 61"/>
          <p:cNvSpPr/>
          <p:nvPr/>
        </p:nvSpPr>
        <p:spPr>
          <a:xfrm flipH="1" rot="11792400">
            <a:off x="2682360" y="1948680"/>
            <a:ext cx="277920" cy="265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0" name="Group 64"/>
          <p:cNvGrpSpPr/>
          <p:nvPr/>
        </p:nvGrpSpPr>
        <p:grpSpPr>
          <a:xfrm>
            <a:off x="3474720" y="3390840"/>
            <a:ext cx="299880" cy="266760"/>
            <a:chOff x="3474720" y="3390840"/>
            <a:chExt cx="299880" cy="266760"/>
          </a:xfrm>
        </p:grpSpPr>
        <p:sp>
          <p:nvSpPr>
            <p:cNvPr id="391" name="Arc 60"/>
            <p:cNvSpPr/>
            <p:nvPr/>
          </p:nvSpPr>
          <p:spPr>
            <a:xfrm flipH="1">
              <a:off x="3474360" y="3392280"/>
              <a:ext cx="277560" cy="265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Arc 62"/>
            <p:cNvSpPr/>
            <p:nvPr/>
          </p:nvSpPr>
          <p:spPr>
            <a:xfrm flipH="1">
              <a:off x="3614040" y="3390840"/>
              <a:ext cx="16020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Text Box 65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0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4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AutoShape 5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Group 9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398" name="Line 6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1" name="Group 14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402" name="Line 15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Line 16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Text Box 18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Group 30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410" name="Line 27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Line 28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29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Line 35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38"/>
          <p:cNvGrpSpPr/>
          <p:nvPr/>
        </p:nvGrpSpPr>
        <p:grpSpPr>
          <a:xfrm>
            <a:off x="3615120" y="1944360"/>
            <a:ext cx="246240" cy="261000"/>
            <a:chOff x="3615120" y="1944360"/>
            <a:chExt cx="246240" cy="261000"/>
          </a:xfrm>
        </p:grpSpPr>
        <p:sp>
          <p:nvSpPr>
            <p:cNvPr id="415" name="Arc 36"/>
            <p:cNvSpPr/>
            <p:nvPr/>
          </p:nvSpPr>
          <p:spPr>
            <a:xfrm rot="8875800">
              <a:off x="3636000" y="20343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Arc 37"/>
            <p:cNvSpPr/>
            <p:nvPr/>
          </p:nvSpPr>
          <p:spPr>
            <a:xfrm rot="8875800">
              <a:off x="3657600" y="19825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7" name="Group 39"/>
          <p:cNvGrpSpPr/>
          <p:nvPr/>
        </p:nvGrpSpPr>
        <p:grpSpPr>
          <a:xfrm>
            <a:off x="3789720" y="2172960"/>
            <a:ext cx="246240" cy="261000"/>
            <a:chOff x="3789720" y="2172960"/>
            <a:chExt cx="246240" cy="261000"/>
          </a:xfrm>
        </p:grpSpPr>
        <p:sp>
          <p:nvSpPr>
            <p:cNvPr id="418" name="Arc 40"/>
            <p:cNvSpPr/>
            <p:nvPr/>
          </p:nvSpPr>
          <p:spPr>
            <a:xfrm rot="8875800">
              <a:off x="3810600" y="22629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Arc 41"/>
            <p:cNvSpPr/>
            <p:nvPr/>
          </p:nvSpPr>
          <p:spPr>
            <a:xfrm rot="8875800">
              <a:off x="3832200" y="22111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0" name="Text Box 43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44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46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Arc 58"/>
          <p:cNvSpPr/>
          <p:nvPr/>
        </p:nvSpPr>
        <p:spPr>
          <a:xfrm rot="7166400">
            <a:off x="813600" y="20998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47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ru-RU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Group 57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26" name="Line 51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Line 52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53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9" name="Group 54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30" name="Line 55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Line 56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" name="Text Box 59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68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4" name="Group 76"/>
          <p:cNvGrpSpPr/>
          <p:nvPr/>
        </p:nvGrpSpPr>
        <p:grpSpPr>
          <a:xfrm>
            <a:off x="1585440" y="3361320"/>
            <a:ext cx="272160" cy="273240"/>
            <a:chOff x="1585440" y="3361320"/>
            <a:chExt cx="272160" cy="273240"/>
          </a:xfrm>
        </p:grpSpPr>
        <p:sp>
          <p:nvSpPr>
            <p:cNvPr id="435" name="Arc 77"/>
            <p:cNvSpPr/>
            <p:nvPr/>
          </p:nvSpPr>
          <p:spPr>
            <a:xfrm rot="14456400">
              <a:off x="1590120" y="341928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Arc 78"/>
            <p:cNvSpPr/>
            <p:nvPr/>
          </p:nvSpPr>
          <p:spPr>
            <a:xfrm rot="14456400">
              <a:off x="1637640" y="343800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Text Box 82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83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84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85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87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42" name="Line 31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86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4" name="Text Box 88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Arc 91"/>
          <p:cNvSpPr/>
          <p:nvPr/>
        </p:nvSpPr>
        <p:spPr>
          <a:xfrm rot="379800">
            <a:off x="2841480" y="34840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Group 96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47" name="Line 93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8" name="Group 95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49" name="Line 92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Line 94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Text Box 97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98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00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Group 101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55" name="Line 102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103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Arc 104"/>
          <p:cNvSpPr/>
          <p:nvPr/>
        </p:nvSpPr>
        <p:spPr>
          <a:xfrm rot="379800">
            <a:off x="5586480" y="334944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 Box 105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106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07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Arc 117"/>
          <p:cNvSpPr/>
          <p:nvPr/>
        </p:nvSpPr>
        <p:spPr>
          <a:xfrm rot="21357600">
            <a:off x="6229080" y="595260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2" name="Group 118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63" name="Line 119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120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Text Box 122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23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124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Group 131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69" name="Line 121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114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116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2" name="Line 125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127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28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129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130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132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33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Arc 134"/>
          <p:cNvSpPr/>
          <p:nvPr/>
        </p:nvSpPr>
        <p:spPr>
          <a:xfrm rot="379800">
            <a:off x="1087560" y="584496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" name="Group 135"/>
          <p:cNvGrpSpPr/>
          <p:nvPr/>
        </p:nvGrpSpPr>
        <p:grpSpPr>
          <a:xfrm>
            <a:off x="3233520" y="5880600"/>
            <a:ext cx="272160" cy="273240"/>
            <a:chOff x="3233520" y="5880600"/>
            <a:chExt cx="272160" cy="273240"/>
          </a:xfrm>
        </p:grpSpPr>
        <p:sp>
          <p:nvSpPr>
            <p:cNvPr id="481" name="Arc 136"/>
            <p:cNvSpPr/>
            <p:nvPr/>
          </p:nvSpPr>
          <p:spPr>
            <a:xfrm rot="14456400">
              <a:off x="3238200" y="593856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Arc 137"/>
            <p:cNvSpPr/>
            <p:nvPr/>
          </p:nvSpPr>
          <p:spPr>
            <a:xfrm rot="14456400">
              <a:off x="3285720" y="595728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83" name="Picture 140" descr="5FL[1]"/>
          <p:cNvPicPr/>
          <p:nvPr/>
        </p:nvPicPr>
        <p:blipFill>
          <a:blip r:embed="rId2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42" descr="1FL[1]"/>
          <p:cNvPicPr/>
          <p:nvPr/>
        </p:nvPicPr>
        <p:blipFill>
          <a:blip r:embed="rId3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44" descr="2FL[1]"/>
          <p:cNvPicPr/>
          <p:nvPr/>
        </p:nvPicPr>
        <p:blipFill>
          <a:blip r:embed="rId4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47" descr="3FL[1]"/>
          <p:cNvPicPr/>
          <p:nvPr/>
        </p:nvPicPr>
        <p:blipFill>
          <a:blip r:embed="rId5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48" descr="4FL[1]"/>
          <p:cNvPicPr/>
          <p:nvPr/>
        </p:nvPicPr>
        <p:blipFill>
          <a:blip r:embed="rId6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20640" y="1798560"/>
            <a:ext cx="8258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два угла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дин прям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0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84960" y="1773360"/>
            <a:ext cx="92109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два угла острых и один прям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0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4"/>
          <p:cNvSpPr/>
          <p:nvPr/>
        </p:nvSpPr>
        <p:spPr>
          <a:xfrm>
            <a:off x="99360" y="1870200"/>
            <a:ext cx="9402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4"/>
          <p:cNvSpPr/>
          <p:nvPr/>
        </p:nvSpPr>
        <p:spPr>
          <a:xfrm>
            <a:off x="878040" y="1860480"/>
            <a:ext cx="7435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ом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0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Group 8"/>
          <p:cNvGrpSpPr/>
          <p:nvPr/>
        </p:nvGrpSpPr>
        <p:grpSpPr>
          <a:xfrm>
            <a:off x="800280" y="1806480"/>
            <a:ext cx="7907040" cy="2136240"/>
            <a:chOff x="800280" y="1806480"/>
            <a:chExt cx="7907040" cy="2136240"/>
          </a:xfrm>
        </p:grpSpPr>
        <p:sp>
          <p:nvSpPr>
            <p:cNvPr id="503" name="Text Box 4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Rectangle 7"/>
            <p:cNvSpPr/>
            <p:nvPr/>
          </p:nvSpPr>
          <p:spPr>
            <a:xfrm>
              <a:off x="2314440" y="2600280"/>
              <a:ext cx="342900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1" action="ppaction://hlinksldjump"/>
                </a:rPr>
                <a:t>18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2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10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4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9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6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0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8" name="Picture 9" descr="124"/>
          <p:cNvPicPr/>
          <p:nvPr/>
        </p:nvPicPr>
        <p:blipFill>
          <a:blip r:embed="rId1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12a"/>
          <p:cNvPicPr/>
          <p:nvPr/>
        </p:nvPicPr>
        <p:blipFill>
          <a:blip r:embed="rId2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2" descr="099[1]"/>
          <p:cNvPicPr/>
          <p:nvPr/>
        </p:nvPicPr>
        <p:blipFill>
          <a:blip r:embed="rId3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14"/>
          <p:cNvSpPr/>
          <p:nvPr/>
        </p:nvSpPr>
        <p:spPr>
          <a:xfrm>
            <a:off x="2438280" y="4114800"/>
            <a:ext cx="579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AutoShape 16">
            <a:hlinkClick r:id="rId5" action="ppaction://hlinksldjump"/>
          </p:cNvPr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17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Arial"/>
                <a:hlinkClick r:id="rId6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4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8" name="Picture 7" descr="Фрагмент папируса Ахмеса"/>
          <p:cNvPicPr/>
          <p:nvPr/>
        </p:nvPicPr>
        <p:blipFill>
          <a:blip r:embed="rId1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8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AutoShape 12">
            <a:hlinkClick r:id="rId2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3" name="Picture 13" descr="book[1]"/>
          <p:cNvPicPr/>
          <p:nvPr/>
        </p:nvPicPr>
        <p:blipFill>
          <a:blip r:embed="rId3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  <p:sp>
        <p:nvSpPr>
          <p:cNvPr id="5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nodeType="clickEffect" fill="hold">
                      <p:stCondLst>
                        <p:cond delay="0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11" descr="01"/>
          <p:cNvPicPr/>
          <p:nvPr/>
        </p:nvPicPr>
        <p:blipFill>
          <a:blip r:embed="rId7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Group 25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71" name="Group 15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72" name="Picture 13" descr="07[2]"/>
              <p:cNvPicPr/>
              <p:nvPr/>
            </p:nvPicPr>
            <p:blipFill>
              <a:blip r:embed="rId9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14" descr="07[2]"/>
              <p:cNvPicPr/>
              <p:nvPr/>
            </p:nvPicPr>
            <p:blipFill>
              <a:blip r:embed="rId10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Group 16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75" name="Picture 17" descr="07[2]"/>
              <p:cNvPicPr/>
              <p:nvPr/>
            </p:nvPicPr>
            <p:blipFill>
              <a:blip r:embed="rId11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Picture 18" descr="07[2]"/>
              <p:cNvPicPr/>
              <p:nvPr/>
            </p:nvPicPr>
            <p:blipFill>
              <a:blip r:embed="rId12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Group 19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78" name="Picture 20" descr="07[2]"/>
              <p:cNvPicPr/>
              <p:nvPr/>
            </p:nvPicPr>
            <p:blipFill>
              <a:blip r:embed="rId13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21" descr="07[2]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" name="Group 22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81" name="Picture 23" descr="07[2]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Picture 24" descr="07[2]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" name="Text Box 26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7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7" descr="07[3]"/>
          <p:cNvPicPr/>
          <p:nvPr/>
        </p:nvPicPr>
        <p:blipFill>
          <a:blip r:embed="rId18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4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Picture 6" descr="eukleides"/>
          <p:cNvPicPr/>
          <p:nvPr/>
        </p:nvPicPr>
        <p:blipFill>
          <a:blip r:embed="rId1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eukleides"/>
          <p:cNvPicPr/>
          <p:nvPr/>
        </p:nvPicPr>
        <p:blipFill>
          <a:blip r:embed="rId2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9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AutoShape 13">
            <a:hlinkClick r:id="rId3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1" name="Picture 14" descr="roman_speaker[1]"/>
          <p:cNvPicPr/>
          <p:nvPr/>
        </p:nvPicPr>
        <p:blipFill>
          <a:blip r:embed="rId4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0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4">
            <a:hlinkClick r:id="rId1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6" name="Group 24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37" name="Group 23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38" name="Picture 21" descr="geo7b"/>
              <p:cNvPicPr/>
              <p:nvPr/>
            </p:nvPicPr>
            <p:blipFill>
              <a:blip r:embed="rId2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Rectangle 22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10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41" name="Picture 7" descr="http://www.bymath.net/studyguide/geo/sec/geo7a.gif"/>
              <p:cNvPicPr/>
              <p:nvPr/>
            </p:nvPicPr>
            <p:blipFill>
              <a:blip r:embed="rId3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Rectangle 9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Rectangle 15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4" name="Picture 31" descr="r1[1]"/>
          <p:cNvPicPr/>
          <p:nvPr/>
        </p:nvPicPr>
        <p:blipFill>
          <a:blip r:embed="rId4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0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4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AutoShape 5">
            <a:hlinkClick r:id="rId1" action="ppaction://hlinksldjump"/>
          </p:cNvPr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8" name="Picture 7" descr="mangoodpoint[1]"/>
          <p:cNvPicPr/>
          <p:nvPr/>
        </p:nvPicPr>
        <p:blipFill>
          <a:blip r:embed="rId2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8" descr="30[1]"/>
          <p:cNvPicPr/>
          <p:nvPr/>
        </p:nvPicPr>
        <p:blipFill>
          <a:blip r:embed="rId3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30[1]"/>
          <p:cNvPicPr/>
          <p:nvPr/>
        </p:nvPicPr>
        <p:blipFill>
          <a:blip r:embed="rId4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AutoShape 5">
            <a:hlinkClick r:id="rId1" action="ppaction://hlinksldjump"/>
          </p:cNvPr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Group 22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55" name="Picture 14" descr="ani-lights-left-29x120[1]"/>
            <p:cNvPicPr/>
            <p:nvPr/>
          </p:nvPicPr>
          <p:blipFill>
            <a:blip r:embed="rId2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6" name="Group 18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57" name="Picture 15" descr="ani-lights-left-29x120[1]"/>
              <p:cNvPicPr/>
              <p:nvPr/>
            </p:nvPicPr>
            <p:blipFill>
              <a:blip r:embed="rId3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Picture 16" descr="ani-lights-left-29x120[1]"/>
              <p:cNvPicPr/>
              <p:nvPr/>
            </p:nvPicPr>
            <p:blipFill>
              <a:blip r:embed="rId4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Picture 17" descr="ani-lights-left-29x120[1]"/>
              <p:cNvPicPr/>
              <p:nvPr/>
            </p:nvPicPr>
            <p:blipFill>
              <a:blip r:embed="rId5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0" name="Picture 19" descr="ani-lights-left-29x120[1]"/>
            <p:cNvPicPr/>
            <p:nvPr/>
          </p:nvPicPr>
          <p:blipFill>
            <a:blip r:embed="rId6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1" name="Group 23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62" name="Picture 24" descr="ani-lights-left-29x120[1]"/>
            <p:cNvPicPr/>
            <p:nvPr/>
          </p:nvPicPr>
          <p:blipFill>
            <a:blip r:embed="rId7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3" name="Group 25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64" name="Picture 26" descr="ani-lights-left-29x120[1]"/>
              <p:cNvPicPr/>
              <p:nvPr/>
            </p:nvPicPr>
            <p:blipFill>
              <a:blip r:embed="rId8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Picture 27" descr="ani-lights-left-29x120[1]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6" name="Picture 28" descr="ani-lights-left-29x120[1]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7" name="Picture 29" descr="ani-lights-left-29x120[1]"/>
            <p:cNvPicPr/>
            <p:nvPr/>
          </p:nvPicPr>
          <p:blipFill>
            <a:blip r:embed="rId11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8" name="Group 37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69" name="Group 30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70" name="Picture 20" descr="ani-lights-left-29x120[1]"/>
              <p:cNvPicPr/>
              <p:nvPr/>
            </p:nvPicPr>
            <p:blipFill>
              <a:blip r:embed="rId12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" name="Picture 21" descr="ani-lights-left-29x120[1]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2" name="Group 31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73" name="Picture 32" descr="ani-lights-left-29x120[1]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4" name="Picture 33" descr="ani-lights-left-29x120[1]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5" name="Group 34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76" name="Picture 35" descr="ani-lights-left-29x120[1]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Picture 36" descr="ani-lights-left-29x120[1]"/>
              <p:cNvPicPr/>
              <p:nvPr/>
            </p:nvPicPr>
            <p:blipFill>
              <a:blip r:embed="rId17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78" name="Group 38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79" name="Group 39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80" name="Picture 40" descr="ani-lights-left-29x120[1]"/>
              <p:cNvPicPr/>
              <p:nvPr/>
            </p:nvPicPr>
            <p:blipFill>
              <a:blip r:embed="rId18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1" name="Picture 41" descr="ani-lights-left-29x120[1]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2" name="Group 42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83" name="Picture 43" descr="ani-lights-left-29x120[1]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44" descr="ani-lights-left-29x120[1]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5" name="Group 45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86" name="Picture 46" descr="ani-lights-left-29x120[1]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7" name="Picture 47" descr="ani-lights-left-29x120[1]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88" name="Picture 50" descr="mangoodpoint[1]"/>
          <p:cNvPicPr/>
          <p:nvPr/>
        </p:nvPicPr>
        <p:blipFill>
          <a:blip r:embed="rId24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  <p:sp>
        <p:nvSpPr>
          <p:cNvPr id="5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4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5715720" y="5715000"/>
            <a:ext cx="3018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Picture 11" descr="angel147[1]"/>
          <p:cNvPicPr/>
          <p:nvPr/>
        </p:nvPicPr>
        <p:blipFill>
          <a:blip r:embed="rId2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29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594" name="Group 19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595" name="Picture 17" descr="16"/>
              <p:cNvPicPr/>
              <p:nvPr/>
            </p:nvPicPr>
            <p:blipFill>
              <a:blip r:embed="rId3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6" name="Picture 18" descr="16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7" name="Group 20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598" name="Picture 21" descr="16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Picture 22" descr="16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0" name="Group 23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601" name="Picture 24" descr="16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" name="Picture 25" descr="16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3" name="Group 26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604" name="Picture 27" descr="16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5" name="Picture 28" descr="16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папирусе 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Евклид</a:t>
            </a: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10">
            <a:hlinkClick r:id="rId3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98" name="Line 11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12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Text Box 14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ru-RU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WordArt 18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WordArt 24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09" name="WordArt 26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ru-RU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2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30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31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AutoShape 32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33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Group 36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17" name="Line 34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35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37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20" name="Line 38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39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Group 40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23" name="Line 41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42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Group 43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26" name="Line 44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45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Text Box 46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47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48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49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0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7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47" name="Text Box 9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Text Box 12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14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19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59" name="Text Box 15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Group 14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70" name="Line 1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1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Group 15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174" name="Line 16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Text Box 19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7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184" name="Line 2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2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28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187" name="Line 29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Line 31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32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Group 36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192" name="Line 34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35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Group 37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195" name="Line 38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39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Group 84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198" name="Rectangle 83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Text Box 41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0" name="Picture 43" descr="cif1[1]"/>
          <p:cNvPicPr/>
          <p:nvPr/>
        </p:nvPicPr>
        <p:blipFill>
          <a:blip r:embed="rId2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Group 58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204" name="Line 48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Group 49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206" name="Line 50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Line 51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57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09" name="Line 47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Line 52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Line 53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2" name="Group 54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13" name="Line 55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Line 56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Group 59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16" name="Line 60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" name="Group 61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18" name="Line 62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63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64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21" name="Line 65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Line 66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Line 67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4" name="Group 68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25" name="Line 69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Line 70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7" name="Group 71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28" name="Line 72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Group 73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30" name="Line 74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Line 75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76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33" name="Line 77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Line 78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79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6" name="Group 80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37" name="Line 81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Line 82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43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13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47" name="Line 14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15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Text Box 17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57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60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2" name="Picture 29" descr="cif2[1]"/>
          <p:cNvPicPr/>
          <p:nvPr/>
        </p:nvPicPr>
        <p:blipFill>
          <a:blip r:embed="rId2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33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37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Group 39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70" name="Rectangle 36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Object 34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Text Box 38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Rectangle 40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rc 42"/>
          <p:cNvSpPr/>
          <p:nvPr/>
        </p:nvSpPr>
        <p:spPr>
          <a:xfrm rot="6490800">
            <a:off x="774360" y="1909440"/>
            <a:ext cx="23472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Arc 48"/>
          <p:cNvSpPr/>
          <p:nvPr/>
        </p:nvSpPr>
        <p:spPr>
          <a:xfrm rot="6490800">
            <a:off x="2704680" y="1917360"/>
            <a:ext cx="23508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Group 60"/>
          <p:cNvGrpSpPr/>
          <p:nvPr/>
        </p:nvGrpSpPr>
        <p:grpSpPr>
          <a:xfrm>
            <a:off x="746280" y="1467000"/>
            <a:ext cx="2213640" cy="2214360"/>
            <a:chOff x="746280" y="1467000"/>
            <a:chExt cx="2213640" cy="2214360"/>
          </a:xfrm>
        </p:grpSpPr>
        <p:grpSp>
          <p:nvGrpSpPr>
            <p:cNvPr id="277" name="Group 53"/>
            <p:cNvGrpSpPr/>
            <p:nvPr/>
          </p:nvGrpSpPr>
          <p:grpSpPr>
            <a:xfrm>
              <a:off x="746280" y="1467000"/>
              <a:ext cx="305640" cy="2195280"/>
              <a:chOff x="746280" y="1467000"/>
              <a:chExt cx="305640" cy="2195280"/>
            </a:xfrm>
          </p:grpSpPr>
          <p:sp>
            <p:nvSpPr>
              <p:cNvPr id="278" name="Line 41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Arc 49"/>
              <p:cNvSpPr/>
              <p:nvPr/>
            </p:nvSpPr>
            <p:spPr>
              <a:xfrm rot="6490800">
                <a:off x="793440" y="189540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0" name="Group 50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281" name="Line 51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52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3" name="Group 54"/>
            <p:cNvGrpSpPr/>
            <p:nvPr/>
          </p:nvGrpSpPr>
          <p:grpSpPr>
            <a:xfrm>
              <a:off x="2654280" y="1486080"/>
              <a:ext cx="305640" cy="2195280"/>
              <a:chOff x="2654280" y="1486080"/>
              <a:chExt cx="305640" cy="2195280"/>
            </a:xfrm>
          </p:grpSpPr>
          <p:sp>
            <p:nvSpPr>
              <p:cNvPr id="284" name="Line 55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Arc 56"/>
              <p:cNvSpPr/>
              <p:nvPr/>
            </p:nvSpPr>
            <p:spPr>
              <a:xfrm rot="6490800">
                <a:off x="2701440" y="191448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6" name="Group 57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287" name="Line 58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Line 59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3:32:15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