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6C76-B6E8-49A2-B7EB-A0AD7B9947B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radley Hand ITC"/>
              </a:rPr>
              <a:t>Четырехуголь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8626-F3DB-419E-B83A-7091BEB6210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гадки Ромб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D = 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углы ром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каз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? ‹2 ? ‹3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1DC1-FF4A-41BC-A7A8-1F385921C78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гадка Квадра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ahoma"/>
              </a:rPr>
              <a:t>‹ 1,‹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250B-AD3F-46B4-9B4B-F20AF75FD8B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Молодцы, ребята, справились с задачами!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 каком четырёхугольнике в сказке не упоминалось? Почему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6FBD-4DA5-43E7-A0AD-4FF8B6D55DE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=5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=16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L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696A-6E5A-40F1-9A45-86912272A1E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 «Догонял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46FD-7159-4D30-8DDD-A41D308E6AE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мостоятельная рабо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Чем отличаются свойства диагоналей прямоугольника от ромб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ямоугольник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ом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…                                                                    1) -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-                                                                      2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-                                                                      3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Сумма двух углов параллелограмма 120  . Найти углы параллелограм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DEA7-8CBA-4BDF-AA5F-6F4C2C59930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пасибо за урок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E88E-CF30-4DE7-9BBF-B66A0CB3CA9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Газета «Математика».- Изд.: Первое сентября, 2000-20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4BE8-4855-4DBA-A911-24C2485A1A9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ли ур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зировать и обобщить знания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ить уровень усвоения 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ть умения применять знания к решению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ить интерес к предме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C1E3-CCB6-4A05-A907-17ACF9C2DC9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од ур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й мо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матический дикта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 «Догонялк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на 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ая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ение ит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9644-C042-4631-9EBF-16D77E9053E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рганизационный момен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Мы закончили изучение темы: «Четырехугольники». Сегодня еще раз вспомним определения и свойства известных вам фигу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расскажу я вам сказку. Сказки бывают волшебные, а наша еще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ая. Почему, потом поймете. Вы будете помогать мне. Как называется сказка, вы должны угад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л был вот такой четырехугольник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али его Параллелогра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вспомним определение и свойства Параллелограм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Ходил Параллелограмм по свету, и стало тяготить его одиночество: ни побеседовать задушевно не с кем, ни потрудиться в хорошей дружной компании. А уж, какое веселье одному? Весело бывает только с друзьями, и решил Параллелограмм поискать родствен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Ежели встречу родственника, то я сразу узнаю его, - думал Параллелограмм, - ведь он на меня должен быть чем-то похож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жды встречает он на пути такую фигур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B3B5-54A3-4491-82F0-B6F2ED5B6A0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л Параллелограмм к ней приглядываться, что-то знакомо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ное увидел он в этой фигуре, и спросил он тогд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 тебя зовут, приятел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зывают меня Прямоугольн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вспомним определение и свойства Прямоуголь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довались фигуры, что нашли друг друга. Стали теперь они вдвоем жить-поживать, вместе трудиться, вместе  веселиться и по белу свету шагать. Вот отдыхают они на опушке леса и видят: выходит из-за кустарника какие-то фигуры и направляются прямо к н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ид они имели тако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то же в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а мы же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родственн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! -  воскликнул Параллелогра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же мы теперь озаглавим эту сказ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еперь Параллелограмм, Прямоугольник, Ромб, Квадрат загадают вам загадки. Постарайтесь их отгад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CB46-2C0C-4DD7-9278-11AC3D5DF51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араллелогра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DD66-2C5D-42F7-833B-773C42E31EF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тематический диктан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Верно ли, что каждый параллелограмм является ромб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Является ли прямоугольником параллелограмм, у которого есть прямой угол?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Если две стороны четырёхугольника параллельны, а две другие нет, то он является трапеци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Диагонали квадрата являются биссектрисами его угл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У ромба и параллелограмма диагонали перпендикуляр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Диагонали параллелограмма 5см и 5см. Является ли этот параллелограмм прямоугольнико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B685-FDD5-4171-A003-C03B32408FD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Загадка Параллелограм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8B38-87F3-4AEF-B896-B68D17AA408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гадка Прямоуголь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ahoma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ahoma"/>
              </a:rPr>
              <a:t>1 = 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ahoma"/>
              </a:rPr>
              <a:t>Найти: ‹2, ‹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каз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M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O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K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? ‹3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+ ‹2 + ‹3 = ?   ‹2 + ‹3 =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2629-FB32-460B-9D7C-4A08D03EFCC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A561-59AF-43E2-97DF-FEFF36C27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F0E4-1138-4557-992E-97B373C4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71A5-1D2A-4B22-AA14-2459C837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64C5-5EAD-49BD-BEF6-A82548C55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9492-65D2-4E3B-88DF-6A176033C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FCCF-14EE-4C03-9AD0-565B7A47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6670-48BB-4414-BF17-3E7EDEC7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55D2-0446-4DEB-90F7-7B4406E5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8775-65F8-4052-9265-B2550F17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71E6-C208-4229-83B4-CFCF0F42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F47D-5A86-4606-A85E-FAC6FF5B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433B-51D1-4FF2-BE5B-297798FE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F62B-2E42-4700-B160-BFCAE5D5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D00B-F8FC-48BE-9621-64884EEF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D832-3B9D-469D-8F22-F764472F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D634-6021-4912-A7C4-08A3D6F9E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BFEE-BF7F-47DF-B761-A1124DFE8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22A3-A098-4BE5-877C-E5FF868E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9CAA-6159-474C-86E3-DB4B19F8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075C-AF7B-4B42-A07E-CFFD619A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4697-9CF0-4BA6-9DC6-4817A655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5243-1A41-4432-8D52-964EC075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985E-94C9-45F5-9947-6CEADDD3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894C-2B3E-456D-B6D9-C3804DC8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EDD5-40F3-461D-BCCD-96FF857F52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E865-6884-44AF-9810-684EE3EC6D5E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34920" y="1773000"/>
            <a:ext cx="579276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Bradley Hand ITC"/>
              </a:rPr>
              <a:t>Четырехугольники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924360" y="3429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79280" y="5950080"/>
            <a:ext cx="87854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Учитель математики Щедрина Р.Н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ОГОУ «Орловская общеобразовательная школа – интернат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ида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010г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гадки Ромб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42920" y="2017440"/>
            <a:ext cx="39499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D = 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йти углы ромб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26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∆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? ‹2 ? ‹3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0" y="4797360"/>
            <a:ext cx="9144000" cy="147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ADB-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равносторонний(по опр.),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1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+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2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+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3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= 180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 (по свойству),значит,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1=‹2=‹3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=6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Т.к. АВС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D –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ромб (по условию), а диагонали ромба являются биссектрисами его углов(по свойству), то ‹ А = ‹ С = 60  и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В = ‹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 = 120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по свойству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Text Box 60"/>
          <p:cNvSpPr/>
          <p:nvPr/>
        </p:nvSpPr>
        <p:spPr>
          <a:xfrm>
            <a:off x="630072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Text Box 68"/>
          <p:cNvSpPr/>
          <p:nvPr/>
        </p:nvSpPr>
        <p:spPr>
          <a:xfrm>
            <a:off x="2048040" y="2565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Text Box 69"/>
          <p:cNvSpPr/>
          <p:nvPr/>
        </p:nvSpPr>
        <p:spPr>
          <a:xfrm>
            <a:off x="1306800" y="36608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Text Box 70"/>
          <p:cNvSpPr/>
          <p:nvPr/>
        </p:nvSpPr>
        <p:spPr>
          <a:xfrm>
            <a:off x="2745720" y="36608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Text Box 71"/>
          <p:cNvSpPr/>
          <p:nvPr/>
        </p:nvSpPr>
        <p:spPr>
          <a:xfrm>
            <a:off x="2029680" y="47401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AutoShape 76"/>
          <p:cNvSpPr/>
          <p:nvPr/>
        </p:nvSpPr>
        <p:spPr>
          <a:xfrm>
            <a:off x="1692360" y="2997360"/>
            <a:ext cx="1008000" cy="1655640"/>
          </a:xfrm>
          <a:prstGeom prst="flowChartSor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Line 77"/>
          <p:cNvSpPr/>
          <p:nvPr/>
        </p:nvSpPr>
        <p:spPr>
          <a:xfrm>
            <a:off x="2195640" y="37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Line 78"/>
          <p:cNvSpPr/>
          <p:nvPr/>
        </p:nvSpPr>
        <p:spPr>
          <a:xfrm flipH="1">
            <a:off x="2411280" y="3357720"/>
            <a:ext cx="14472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Line 100"/>
          <p:cNvSpPr/>
          <p:nvPr/>
        </p:nvSpPr>
        <p:spPr>
          <a:xfrm>
            <a:off x="1835280" y="3357720"/>
            <a:ext cx="14436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AutoShape 101"/>
          <p:cNvSpPr/>
          <p:nvPr/>
        </p:nvSpPr>
        <p:spPr>
          <a:xfrm>
            <a:off x="9070920" y="5229360"/>
            <a:ext cx="73080" cy="712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AutoShape 102"/>
          <p:cNvSpPr/>
          <p:nvPr/>
        </p:nvSpPr>
        <p:spPr>
          <a:xfrm>
            <a:off x="5292720" y="5300640"/>
            <a:ext cx="7128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Text Box 125"/>
          <p:cNvSpPr/>
          <p:nvPr/>
        </p:nvSpPr>
        <p:spPr>
          <a:xfrm>
            <a:off x="6804000" y="2565360"/>
            <a:ext cx="4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Text Box 128"/>
          <p:cNvSpPr/>
          <p:nvPr/>
        </p:nvSpPr>
        <p:spPr>
          <a:xfrm>
            <a:off x="7308720" y="3300480"/>
            <a:ext cx="4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Text Box 141"/>
          <p:cNvSpPr/>
          <p:nvPr/>
        </p:nvSpPr>
        <p:spPr>
          <a:xfrm flipV="1" rot="10800000">
            <a:off x="7575120" y="2432520"/>
            <a:ext cx="266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Text Box 142"/>
          <p:cNvSpPr/>
          <p:nvPr/>
        </p:nvSpPr>
        <p:spPr>
          <a:xfrm>
            <a:off x="1979640" y="407664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Oval 143"/>
          <p:cNvSpPr/>
          <p:nvPr/>
        </p:nvSpPr>
        <p:spPr>
          <a:xfrm flipH="1" flipV="1">
            <a:off x="2340000" y="4149000"/>
            <a:ext cx="71280" cy="73080"/>
          </a:xfrm>
          <a:prstGeom prst="ellipse">
            <a:avLst/>
          </a:prstGeom>
          <a:solidFill>
            <a:srgbClr val="00e4a8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Oval 145"/>
          <p:cNvSpPr/>
          <p:nvPr/>
        </p:nvSpPr>
        <p:spPr>
          <a:xfrm>
            <a:off x="2195640" y="3645000"/>
            <a:ext cx="72720" cy="73080"/>
          </a:xfrm>
          <a:prstGeom prst="ellipse">
            <a:avLst/>
          </a:prstGeom>
          <a:solidFill>
            <a:srgbClr val="00e4a8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Arc 146"/>
          <p:cNvSpPr/>
          <p:nvPr/>
        </p:nvSpPr>
        <p:spPr>
          <a:xfrm>
            <a:off x="1763640" y="3716280"/>
            <a:ext cx="71640" cy="384120"/>
          </a:xfrm>
          <a:custGeom>
            <a:avLst/>
            <a:gdLst/>
            <a:ahLst/>
            <a:rect l="l" t="t" r="r" b="b"/>
            <a:pathLst>
              <a:path fill="none" w="21600" h="2866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005"/>
                  <a:pt x="21198" y="26394"/>
                  <a:pt x="20411" y="28667"/>
                </a:cubicBezTo>
              </a:path>
              <a:path stroke="0" w="21600" h="2866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005"/>
                  <a:pt x="21198" y="26394"/>
                  <a:pt x="20411" y="2866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AutoShape 149"/>
          <p:cNvSpPr/>
          <p:nvPr/>
        </p:nvSpPr>
        <p:spPr>
          <a:xfrm>
            <a:off x="6012000" y="5950080"/>
            <a:ext cx="71280" cy="712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Oval 150"/>
          <p:cNvSpPr/>
          <p:nvPr/>
        </p:nvSpPr>
        <p:spPr>
          <a:xfrm>
            <a:off x="4067280" y="5950080"/>
            <a:ext cx="73080" cy="72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Arc 151"/>
          <p:cNvSpPr/>
          <p:nvPr/>
        </p:nvSpPr>
        <p:spPr>
          <a:xfrm flipH="1" flipV="1" rot="1200600">
            <a:off x="1979280" y="3066120"/>
            <a:ext cx="398520" cy="269640"/>
          </a:xfrm>
          <a:custGeom>
            <a:avLst/>
            <a:gdLst/>
            <a:ahLst/>
            <a:rect l="l" t="t" r="r" b="b"/>
            <a:pathLst>
              <a:path fill="none" w="17994" h="21320">
                <a:moveTo>
                  <a:pt x="0" y="9371"/>
                </a:moveTo>
                <a:cubicBezTo>
                  <a:pt x="3326" y="4361"/>
                  <a:pt x="8591" y="964"/>
                  <a:pt x="14527" y="-1"/>
                </a:cubicBezTo>
              </a:path>
              <a:path stroke="0" w="17994" h="21320">
                <a:moveTo>
                  <a:pt x="0" y="9371"/>
                </a:moveTo>
                <a:cubicBezTo>
                  <a:pt x="3326" y="4361"/>
                  <a:pt x="8591" y="964"/>
                  <a:pt x="14527" y="-1"/>
                </a:cubicBezTo>
                <a:lnTo>
                  <a:pt x="17994" y="21320"/>
                </a:lnTo>
                <a:lnTo>
                  <a:pt x="0" y="9371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Arc 154"/>
          <p:cNvSpPr/>
          <p:nvPr/>
        </p:nvSpPr>
        <p:spPr>
          <a:xfrm flipH="1">
            <a:off x="2556000" y="3678120"/>
            <a:ext cx="71280" cy="398520"/>
          </a:xfrm>
          <a:custGeom>
            <a:avLst/>
            <a:gdLst/>
            <a:ahLst/>
            <a:rect l="l" t="t" r="r" b="b"/>
            <a:pathLst>
              <a:path fill="none" w="21600" h="22228">
                <a:moveTo>
                  <a:pt x="7997" y="-1"/>
                </a:moveTo>
                <a:cubicBezTo>
                  <a:pt x="16210" y="3273"/>
                  <a:pt x="21600" y="11222"/>
                  <a:pt x="21600" y="20065"/>
                </a:cubicBezTo>
                <a:cubicBezTo>
                  <a:pt x="21600" y="20787"/>
                  <a:pt x="21563" y="21509"/>
                  <a:pt x="21491" y="22228"/>
                </a:cubicBezTo>
              </a:path>
              <a:path stroke="0" w="21600" h="22228">
                <a:moveTo>
                  <a:pt x="7997" y="-1"/>
                </a:moveTo>
                <a:cubicBezTo>
                  <a:pt x="16210" y="3273"/>
                  <a:pt x="21600" y="11222"/>
                  <a:pt x="21600" y="20065"/>
                </a:cubicBezTo>
                <a:cubicBezTo>
                  <a:pt x="21600" y="20787"/>
                  <a:pt x="21563" y="21509"/>
                  <a:pt x="21491" y="22228"/>
                </a:cubicBezTo>
                <a:lnTo>
                  <a:pt x="0" y="20065"/>
                </a:lnTo>
                <a:lnTo>
                  <a:pt x="7997" y="-1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Arc 155"/>
          <p:cNvSpPr/>
          <p:nvPr/>
        </p:nvSpPr>
        <p:spPr>
          <a:xfrm>
            <a:off x="2050920" y="4437000"/>
            <a:ext cx="255600" cy="71640"/>
          </a:xfrm>
          <a:custGeom>
            <a:avLst/>
            <a:gdLst/>
            <a:ahLst/>
            <a:rect l="l" t="t" r="r" b="b"/>
            <a:pathLst>
              <a:path fill="none" w="19147" h="21600">
                <a:moveTo>
                  <a:pt x="-1" y="0"/>
                </a:moveTo>
                <a:cubicBezTo>
                  <a:pt x="8045" y="0"/>
                  <a:pt x="15423" y="4471"/>
                  <a:pt x="19147" y="11602"/>
                </a:cubicBezTo>
              </a:path>
              <a:path stroke="0" w="19147" h="21600">
                <a:moveTo>
                  <a:pt x="-1" y="0"/>
                </a:moveTo>
                <a:cubicBezTo>
                  <a:pt x="8045" y="0"/>
                  <a:pt x="15423" y="4471"/>
                  <a:pt x="19147" y="11602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Text Box 157"/>
          <p:cNvSpPr/>
          <p:nvPr/>
        </p:nvSpPr>
        <p:spPr>
          <a:xfrm>
            <a:off x="1763640" y="3638520"/>
            <a:ext cx="5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Arc 158"/>
          <p:cNvSpPr/>
          <p:nvPr/>
        </p:nvSpPr>
        <p:spPr>
          <a:xfrm>
            <a:off x="2050920" y="4365720"/>
            <a:ext cx="28908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Arc 160"/>
          <p:cNvSpPr/>
          <p:nvPr/>
        </p:nvSpPr>
        <p:spPr>
          <a:xfrm flipV="1">
            <a:off x="2050920" y="3141000"/>
            <a:ext cx="289080" cy="74520"/>
          </a:xfrm>
          <a:custGeom>
            <a:avLst/>
            <a:gdLst/>
            <a:ahLst/>
            <a:rect l="l" t="t" r="r" b="b"/>
            <a:pathLst>
              <a:path fill="none" w="13188" h="21600">
                <a:moveTo>
                  <a:pt x="-1" y="0"/>
                </a:moveTo>
                <a:cubicBezTo>
                  <a:pt x="4771" y="0"/>
                  <a:pt x="9408" y="1579"/>
                  <a:pt x="13187" y="4493"/>
                </a:cubicBezTo>
              </a:path>
              <a:path stroke="0" w="13188" h="21600">
                <a:moveTo>
                  <a:pt x="-1" y="0"/>
                </a:moveTo>
                <a:cubicBezTo>
                  <a:pt x="4771" y="0"/>
                  <a:pt x="9408" y="1579"/>
                  <a:pt x="13187" y="449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Rectangle 161"/>
          <p:cNvSpPr/>
          <p:nvPr/>
        </p:nvSpPr>
        <p:spPr>
          <a:xfrm>
            <a:off x="8244000" y="6524640"/>
            <a:ext cx="900000" cy="333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90756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гадка Квадрат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йти: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‹ 1,‹ 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1692360" y="2852640"/>
            <a:ext cx="1439640" cy="1224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Line 5"/>
          <p:cNvSpPr/>
          <p:nvPr/>
        </p:nvSpPr>
        <p:spPr>
          <a:xfrm>
            <a:off x="1692360" y="2852640"/>
            <a:ext cx="14396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1763640" y="3213000"/>
            <a:ext cx="3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2823840" y="3376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Arc 11"/>
          <p:cNvSpPr/>
          <p:nvPr/>
        </p:nvSpPr>
        <p:spPr>
          <a:xfrm flipV="1" rot="11788200">
            <a:off x="2842920" y="3571920"/>
            <a:ext cx="288720" cy="2890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Arc 12"/>
          <p:cNvSpPr/>
          <p:nvPr/>
        </p:nvSpPr>
        <p:spPr>
          <a:xfrm flipV="1">
            <a:off x="1692360" y="3068640"/>
            <a:ext cx="287280" cy="216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Text Box 13"/>
          <p:cNvSpPr/>
          <p:nvPr/>
        </p:nvSpPr>
        <p:spPr>
          <a:xfrm>
            <a:off x="147636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Text Box 14"/>
          <p:cNvSpPr/>
          <p:nvPr/>
        </p:nvSpPr>
        <p:spPr>
          <a:xfrm>
            <a:off x="1381320" y="40924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Text Box 15"/>
          <p:cNvSpPr/>
          <p:nvPr/>
        </p:nvSpPr>
        <p:spPr>
          <a:xfrm>
            <a:off x="1378800" y="24354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Text Box 16"/>
          <p:cNvSpPr/>
          <p:nvPr/>
        </p:nvSpPr>
        <p:spPr>
          <a:xfrm>
            <a:off x="3109320" y="24354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Text Box 17"/>
          <p:cNvSpPr/>
          <p:nvPr/>
        </p:nvSpPr>
        <p:spPr>
          <a:xfrm>
            <a:off x="313200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Text Box 18"/>
          <p:cNvSpPr/>
          <p:nvPr/>
        </p:nvSpPr>
        <p:spPr>
          <a:xfrm>
            <a:off x="3107160" y="4019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507672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Text Box 25"/>
          <p:cNvSpPr/>
          <p:nvPr/>
        </p:nvSpPr>
        <p:spPr>
          <a:xfrm>
            <a:off x="6659640" y="2492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Text Box 27"/>
          <p:cNvSpPr/>
          <p:nvPr/>
        </p:nvSpPr>
        <p:spPr>
          <a:xfrm>
            <a:off x="6659640" y="4005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Text Box 36"/>
          <p:cNvSpPr/>
          <p:nvPr/>
        </p:nvSpPr>
        <p:spPr>
          <a:xfrm>
            <a:off x="1116000" y="481176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.к. АВС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– квадрат (по условию), ‹ В = ‹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 = 90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(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по определению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)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,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диагонали квадрата являются биссектрисами его углов (по свойству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то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1 = ‹ 2 = 45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(по определению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AutoShape 39"/>
          <p:cNvSpPr/>
          <p:nvPr/>
        </p:nvSpPr>
        <p:spPr>
          <a:xfrm>
            <a:off x="6443640" y="5157720"/>
            <a:ext cx="7308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Text Box 40"/>
          <p:cNvSpPr/>
          <p:nvPr/>
        </p:nvSpPr>
        <p:spPr>
          <a:xfrm>
            <a:off x="1692360" y="328464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AutoShape 41"/>
          <p:cNvSpPr/>
          <p:nvPr/>
        </p:nvSpPr>
        <p:spPr>
          <a:xfrm>
            <a:off x="2050920" y="3284640"/>
            <a:ext cx="73080" cy="71280"/>
          </a:xfrm>
          <a:prstGeom prst="flowChartConnector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Text Box 42"/>
          <p:cNvSpPr/>
          <p:nvPr/>
        </p:nvSpPr>
        <p:spPr>
          <a:xfrm>
            <a:off x="2643120" y="3346560"/>
            <a:ext cx="5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AutoShape 43"/>
          <p:cNvSpPr/>
          <p:nvPr/>
        </p:nvSpPr>
        <p:spPr>
          <a:xfrm>
            <a:off x="2987640" y="3357720"/>
            <a:ext cx="71640" cy="71280"/>
          </a:xfrm>
          <a:prstGeom prst="flowChartConnector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Oval 44"/>
          <p:cNvSpPr/>
          <p:nvPr/>
        </p:nvSpPr>
        <p:spPr>
          <a:xfrm>
            <a:off x="2987640" y="5661000"/>
            <a:ext cx="71640" cy="73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Rectangle 45"/>
          <p:cNvSpPr/>
          <p:nvPr/>
        </p:nvSpPr>
        <p:spPr>
          <a:xfrm>
            <a:off x="8244000" y="6524640"/>
            <a:ext cx="900000" cy="333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7" dur="2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0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4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5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Молодцы, ребята, справились с задачами! 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О каком четырёхугольнике в сказке не упоминалось? Почему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8278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86920" y="1773000"/>
            <a:ext cx="776772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С=5с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=16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L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AutoShape 4"/>
          <p:cNvSpPr/>
          <p:nvPr/>
        </p:nvSpPr>
        <p:spPr>
          <a:xfrm rot="10800000">
            <a:off x="971640" y="3213000"/>
            <a:ext cx="2016000" cy="936720"/>
          </a:xfrm>
          <a:custGeom>
            <a:avLst/>
            <a:gdLst>
              <a:gd name="textAreaLeft" fmla="*/ 419760 w 2016000"/>
              <a:gd name="textAreaRight" fmla="*/ 1596240 w 2016000"/>
              <a:gd name="textAreaTop" fmla="*/ 195120 h 936720"/>
              <a:gd name="textAreaBottom" fmla="*/ 741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Line 5"/>
          <p:cNvSpPr/>
          <p:nvPr/>
        </p:nvSpPr>
        <p:spPr>
          <a:xfrm>
            <a:off x="1258920" y="364500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731880" y="40924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111600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Text Box 8"/>
          <p:cNvSpPr/>
          <p:nvPr/>
        </p:nvSpPr>
        <p:spPr>
          <a:xfrm>
            <a:off x="2532960" y="2795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3035880" y="4019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Text Box 10"/>
          <p:cNvSpPr/>
          <p:nvPr/>
        </p:nvSpPr>
        <p:spPr>
          <a:xfrm>
            <a:off x="806400" y="337176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2750040" y="337176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Line 14"/>
          <p:cNvSpPr/>
          <p:nvPr/>
        </p:nvSpPr>
        <p:spPr>
          <a:xfrm>
            <a:off x="1332000" y="335772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Line 17"/>
          <p:cNvSpPr/>
          <p:nvPr/>
        </p:nvSpPr>
        <p:spPr>
          <a:xfrm flipH="1">
            <a:off x="2484360" y="3429000"/>
            <a:ext cx="216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Line 18"/>
          <p:cNvSpPr/>
          <p:nvPr/>
        </p:nvSpPr>
        <p:spPr>
          <a:xfrm flipV="1">
            <a:off x="2484360" y="3357720"/>
            <a:ext cx="216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Line 19"/>
          <p:cNvSpPr/>
          <p:nvPr/>
        </p:nvSpPr>
        <p:spPr>
          <a:xfrm flipV="1">
            <a:off x="2700360" y="3860280"/>
            <a:ext cx="287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Line 20"/>
          <p:cNvSpPr/>
          <p:nvPr/>
        </p:nvSpPr>
        <p:spPr>
          <a:xfrm flipV="1">
            <a:off x="2700360" y="3789360"/>
            <a:ext cx="287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Line 21"/>
          <p:cNvSpPr/>
          <p:nvPr/>
        </p:nvSpPr>
        <p:spPr>
          <a:xfrm>
            <a:off x="1042920" y="378936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Text Box 22"/>
          <p:cNvSpPr/>
          <p:nvPr/>
        </p:nvSpPr>
        <p:spPr>
          <a:xfrm>
            <a:off x="1815120" y="2846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Text Box 23"/>
          <p:cNvSpPr/>
          <p:nvPr/>
        </p:nvSpPr>
        <p:spPr>
          <a:xfrm>
            <a:off x="1812600" y="428616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Text Box 24"/>
          <p:cNvSpPr/>
          <p:nvPr/>
        </p:nvSpPr>
        <p:spPr>
          <a:xfrm flipV="1" rot="10800000">
            <a:off x="1114200" y="4797000"/>
            <a:ext cx="785340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.к. АК=КВ,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L=LD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(по условию)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о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L-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средняя линия трапеции (по определению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L=(5+16)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:2=10,5(см) (по свойству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ext Box 26"/>
          <p:cNvSpPr/>
          <p:nvPr/>
        </p:nvSpPr>
        <p:spPr>
          <a:xfrm>
            <a:off x="1743120" y="328464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Text Box 27"/>
          <p:cNvSpPr/>
          <p:nvPr/>
        </p:nvSpPr>
        <p:spPr>
          <a:xfrm>
            <a:off x="2031840" y="1228680"/>
            <a:ext cx="599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гадка Трапе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4" dur="2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Игра «Догонялки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182600" y="2017800"/>
          <a:ext cx="3810240" cy="198108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5145120" y="2017800"/>
          <a:ext cx="3809880" cy="198108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1182600" y="4151160"/>
          <a:ext cx="3810240" cy="1981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5145120" y="4151160"/>
          <a:ext cx="3809880" cy="19814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5" name="AutoShape 55"/>
          <p:cNvSpPr/>
          <p:nvPr/>
        </p:nvSpPr>
        <p:spPr>
          <a:xfrm>
            <a:off x="1476360" y="2349360"/>
            <a:ext cx="1214280" cy="409680"/>
          </a:xfrm>
          <a:prstGeom prst="parallelogram">
            <a:avLst>
              <a:gd name="adj" fmla="val 7409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AutoShape 56"/>
          <p:cNvSpPr/>
          <p:nvPr/>
        </p:nvSpPr>
        <p:spPr>
          <a:xfrm>
            <a:off x="7380360" y="2349360"/>
            <a:ext cx="1214280" cy="409680"/>
          </a:xfrm>
          <a:prstGeom prst="parallelogram">
            <a:avLst>
              <a:gd name="adj" fmla="val 7409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AutoShape 57"/>
          <p:cNvSpPr/>
          <p:nvPr/>
        </p:nvSpPr>
        <p:spPr>
          <a:xfrm>
            <a:off x="3419640" y="5445000"/>
            <a:ext cx="1214280" cy="409680"/>
          </a:xfrm>
          <a:prstGeom prst="parallelogram">
            <a:avLst>
              <a:gd name="adj" fmla="val 7409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AutoShape 58"/>
          <p:cNvSpPr/>
          <p:nvPr/>
        </p:nvSpPr>
        <p:spPr>
          <a:xfrm>
            <a:off x="5364000" y="5445000"/>
            <a:ext cx="1214640" cy="409680"/>
          </a:xfrm>
          <a:prstGeom prst="parallelogram">
            <a:avLst>
              <a:gd name="adj" fmla="val 7412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Rectangle 59"/>
          <p:cNvSpPr/>
          <p:nvPr/>
        </p:nvSpPr>
        <p:spPr>
          <a:xfrm>
            <a:off x="1763640" y="5373720"/>
            <a:ext cx="576360" cy="503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60"/>
          <p:cNvSpPr/>
          <p:nvPr/>
        </p:nvSpPr>
        <p:spPr>
          <a:xfrm>
            <a:off x="5651640" y="4365720"/>
            <a:ext cx="576000" cy="503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61"/>
          <p:cNvSpPr/>
          <p:nvPr/>
        </p:nvSpPr>
        <p:spPr>
          <a:xfrm>
            <a:off x="7667640" y="3284640"/>
            <a:ext cx="576360" cy="503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62"/>
          <p:cNvSpPr/>
          <p:nvPr/>
        </p:nvSpPr>
        <p:spPr>
          <a:xfrm>
            <a:off x="3780000" y="2276640"/>
            <a:ext cx="576000" cy="502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AutoShape 63"/>
          <p:cNvSpPr/>
          <p:nvPr/>
        </p:nvSpPr>
        <p:spPr>
          <a:xfrm>
            <a:off x="7740720" y="4292640"/>
            <a:ext cx="649080" cy="792000"/>
          </a:xfrm>
          <a:prstGeom prst="diamond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AutoShape 64"/>
          <p:cNvSpPr/>
          <p:nvPr/>
        </p:nvSpPr>
        <p:spPr>
          <a:xfrm>
            <a:off x="1692360" y="4292640"/>
            <a:ext cx="649080" cy="792000"/>
          </a:xfrm>
          <a:prstGeom prst="diamond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AutoShape 65"/>
          <p:cNvSpPr/>
          <p:nvPr/>
        </p:nvSpPr>
        <p:spPr>
          <a:xfrm>
            <a:off x="5724360" y="3141720"/>
            <a:ext cx="649440" cy="792000"/>
          </a:xfrm>
          <a:prstGeom prst="diamond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AutoShape 66"/>
          <p:cNvSpPr/>
          <p:nvPr/>
        </p:nvSpPr>
        <p:spPr>
          <a:xfrm>
            <a:off x="3780000" y="3141720"/>
            <a:ext cx="649080" cy="792000"/>
          </a:xfrm>
          <a:prstGeom prst="diamond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AutoShape 67"/>
          <p:cNvSpPr/>
          <p:nvPr/>
        </p:nvSpPr>
        <p:spPr>
          <a:xfrm rot="10800000">
            <a:off x="7524720" y="5445000"/>
            <a:ext cx="1214640" cy="432000"/>
          </a:xfrm>
          <a:custGeom>
            <a:avLst/>
            <a:gdLst>
              <a:gd name="textAreaLeft" fmla="*/ 253080 w 1214640"/>
              <a:gd name="textAreaRight" fmla="*/ 961560 w 1214640"/>
              <a:gd name="textAreaTop" fmla="*/ 90000 h 432000"/>
              <a:gd name="textAreaBottom" fmla="*/ 342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AutoShape 68"/>
          <p:cNvSpPr/>
          <p:nvPr/>
        </p:nvSpPr>
        <p:spPr>
          <a:xfrm rot="10800000">
            <a:off x="3492360" y="4437000"/>
            <a:ext cx="1214640" cy="432000"/>
          </a:xfrm>
          <a:custGeom>
            <a:avLst/>
            <a:gdLst>
              <a:gd name="textAreaLeft" fmla="*/ 253080 w 1214640"/>
              <a:gd name="textAreaRight" fmla="*/ 961560 w 1214640"/>
              <a:gd name="textAreaTop" fmla="*/ 90000 h 432000"/>
              <a:gd name="textAreaBottom" fmla="*/ 342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AutoShape 69"/>
          <p:cNvSpPr/>
          <p:nvPr/>
        </p:nvSpPr>
        <p:spPr>
          <a:xfrm rot="10800000">
            <a:off x="5364000" y="2276280"/>
            <a:ext cx="1214640" cy="431640"/>
          </a:xfrm>
          <a:custGeom>
            <a:avLst/>
            <a:gdLst>
              <a:gd name="textAreaLeft" fmla="*/ 253080 w 1214640"/>
              <a:gd name="textAreaRight" fmla="*/ 961560 w 1214640"/>
              <a:gd name="textAreaTop" fmla="*/ 90000 h 431640"/>
              <a:gd name="textAreaBottom" fmla="*/ 34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AutoShape 70"/>
          <p:cNvSpPr/>
          <p:nvPr/>
        </p:nvSpPr>
        <p:spPr>
          <a:xfrm rot="10800000">
            <a:off x="1476000" y="3284280"/>
            <a:ext cx="1214280" cy="43164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90000 h 431640"/>
              <a:gd name="textAreaBottom" fmla="*/ 34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амостоятельная работ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Чем отличаются свойства диагоналей прямоугольника от ромба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Прямоугольник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Ром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)…                                                                    1) -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)-                                                                      2)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)-                                                                      3)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Сумма двух углов параллелограмма 120  . Найти углы параллелограмм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AutoShape 9"/>
          <p:cNvSpPr/>
          <p:nvPr/>
        </p:nvSpPr>
        <p:spPr>
          <a:xfrm>
            <a:off x="5003640" y="3716280"/>
            <a:ext cx="7164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AutoShape 10"/>
          <p:cNvSpPr/>
          <p:nvPr/>
        </p:nvSpPr>
        <p:spPr>
          <a:xfrm>
            <a:off x="1403280" y="4724280"/>
            <a:ext cx="2376720" cy="720720"/>
          </a:xfrm>
          <a:prstGeom prst="parallelogram">
            <a:avLst>
              <a:gd name="adj" fmla="val 8244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Text Box 12"/>
          <p:cNvSpPr/>
          <p:nvPr/>
        </p:nvSpPr>
        <p:spPr>
          <a:xfrm>
            <a:off x="1184400" y="54450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Text Box 13"/>
          <p:cNvSpPr/>
          <p:nvPr/>
        </p:nvSpPr>
        <p:spPr>
          <a:xfrm>
            <a:off x="1686960" y="4365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Text Box 14"/>
          <p:cNvSpPr/>
          <p:nvPr/>
        </p:nvSpPr>
        <p:spPr>
          <a:xfrm>
            <a:off x="3777480" y="43657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Text Box 15"/>
          <p:cNvSpPr/>
          <p:nvPr/>
        </p:nvSpPr>
        <p:spPr>
          <a:xfrm>
            <a:off x="3132000" y="544500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Text Box 16"/>
          <p:cNvSpPr/>
          <p:nvPr/>
        </p:nvSpPr>
        <p:spPr>
          <a:xfrm>
            <a:off x="1547640" y="2708280"/>
            <a:ext cx="93672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равн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17"/>
          <p:cNvSpPr/>
          <p:nvPr/>
        </p:nvSpPr>
        <p:spPr>
          <a:xfrm>
            <a:off x="6804000" y="2997360"/>
            <a:ext cx="22082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перпендикулярн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18"/>
          <p:cNvSpPr/>
          <p:nvPr/>
        </p:nvSpPr>
        <p:spPr>
          <a:xfrm>
            <a:off x="4640400" y="5084640"/>
            <a:ext cx="396864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‹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А = ‹ С = 60  (по свойству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Text Box 19"/>
          <p:cNvSpPr/>
          <p:nvPr/>
        </p:nvSpPr>
        <p:spPr>
          <a:xfrm>
            <a:off x="4408560" y="4524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Text Box 20"/>
          <p:cNvSpPr/>
          <p:nvPr/>
        </p:nvSpPr>
        <p:spPr>
          <a:xfrm>
            <a:off x="4356000" y="443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AutoShape 21"/>
          <p:cNvSpPr/>
          <p:nvPr/>
        </p:nvSpPr>
        <p:spPr>
          <a:xfrm>
            <a:off x="6227640" y="5084640"/>
            <a:ext cx="7308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Text Box 23"/>
          <p:cNvSpPr/>
          <p:nvPr/>
        </p:nvSpPr>
        <p:spPr>
          <a:xfrm>
            <a:off x="4643280" y="4581360"/>
            <a:ext cx="39610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А + ‹ С = 120 (по условию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AutoShape 24"/>
          <p:cNvSpPr/>
          <p:nvPr/>
        </p:nvSpPr>
        <p:spPr>
          <a:xfrm>
            <a:off x="6443640" y="4581360"/>
            <a:ext cx="7164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Text Box 25"/>
          <p:cNvSpPr/>
          <p:nvPr/>
        </p:nvSpPr>
        <p:spPr>
          <a:xfrm>
            <a:off x="4643280" y="5532480"/>
            <a:ext cx="39610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В = ‹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= 120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по свойству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AutoShape 26"/>
          <p:cNvSpPr/>
          <p:nvPr/>
        </p:nvSpPr>
        <p:spPr>
          <a:xfrm>
            <a:off x="6372360" y="5589720"/>
            <a:ext cx="71280" cy="712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Text Box 27"/>
          <p:cNvSpPr/>
          <p:nvPr/>
        </p:nvSpPr>
        <p:spPr>
          <a:xfrm>
            <a:off x="3107160" y="53881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Arc 28"/>
          <p:cNvSpPr/>
          <p:nvPr/>
        </p:nvSpPr>
        <p:spPr>
          <a:xfrm>
            <a:off x="1547640" y="5234040"/>
            <a:ext cx="287640" cy="210960"/>
          </a:xfrm>
          <a:custGeom>
            <a:avLst/>
            <a:gdLst/>
            <a:ahLst/>
            <a:rect l="l" t="t" r="r" b="b"/>
            <a:pathLst>
              <a:path fill="none" w="21600" h="21116">
                <a:moveTo>
                  <a:pt x="4548" y="0"/>
                </a:moveTo>
                <a:cubicBezTo>
                  <a:pt x="14497" y="2143"/>
                  <a:pt x="21600" y="10939"/>
                  <a:pt x="21600" y="21116"/>
                </a:cubicBezTo>
              </a:path>
              <a:path stroke="0" w="21600" h="21116">
                <a:moveTo>
                  <a:pt x="4548" y="0"/>
                </a:moveTo>
                <a:cubicBezTo>
                  <a:pt x="14497" y="2143"/>
                  <a:pt x="21600" y="10939"/>
                  <a:pt x="21600" y="21116"/>
                </a:cubicBezTo>
                <a:lnTo>
                  <a:pt x="0" y="21116"/>
                </a:lnTo>
                <a:lnTo>
                  <a:pt x="4548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Arc 31"/>
          <p:cNvSpPr/>
          <p:nvPr/>
        </p:nvSpPr>
        <p:spPr>
          <a:xfrm flipH="1" flipV="1">
            <a:off x="3348000" y="4723560"/>
            <a:ext cx="216000" cy="2890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Arc 32"/>
          <p:cNvSpPr/>
          <p:nvPr/>
        </p:nvSpPr>
        <p:spPr>
          <a:xfrm flipV="1">
            <a:off x="1835280" y="4725360"/>
            <a:ext cx="504720" cy="144360"/>
          </a:xfrm>
          <a:custGeom>
            <a:avLst/>
            <a:gdLst/>
            <a:ahLst/>
            <a:rect l="l" t="t" r="r" b="b"/>
            <a:pathLst>
              <a:path fill="none" w="21600" h="21554">
                <a:moveTo>
                  <a:pt x="1407" y="-1"/>
                </a:moveTo>
                <a:cubicBezTo>
                  <a:pt x="12765" y="741"/>
                  <a:pt x="21600" y="10170"/>
                  <a:pt x="21600" y="21554"/>
                </a:cubicBezTo>
              </a:path>
              <a:path stroke="0" w="21600" h="21554">
                <a:moveTo>
                  <a:pt x="1407" y="-1"/>
                </a:moveTo>
                <a:cubicBezTo>
                  <a:pt x="12765" y="741"/>
                  <a:pt x="21600" y="10170"/>
                  <a:pt x="21600" y="21554"/>
                </a:cubicBezTo>
                <a:lnTo>
                  <a:pt x="0" y="21554"/>
                </a:lnTo>
                <a:lnTo>
                  <a:pt x="1407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Arc 34"/>
          <p:cNvSpPr/>
          <p:nvPr/>
        </p:nvSpPr>
        <p:spPr>
          <a:xfrm flipH="1">
            <a:off x="2986920" y="5229360"/>
            <a:ext cx="360360" cy="215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Text Box 35"/>
          <p:cNvSpPr/>
          <p:nvPr/>
        </p:nvSpPr>
        <p:spPr>
          <a:xfrm>
            <a:off x="4358520" y="409248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333000"/>
            <a:ext cx="7792920" cy="20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cc"/>
                </a:solidFill>
                <a:latin typeface="Tahoma"/>
              </a:rPr>
              <a:t>Спасибо за урок!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48" name="Picture 5" descr="i?id=162832347-01"/>
          <p:cNvPicPr/>
          <p:nvPr/>
        </p:nvPicPr>
        <p:blipFill>
          <a:blip r:embed="rId1"/>
          <a:stretch/>
        </p:blipFill>
        <p:spPr>
          <a:xfrm>
            <a:off x="2987640" y="220500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6" descr="1186330404_3"/>
          <p:cNvPicPr/>
          <p:nvPr/>
        </p:nvPicPr>
        <p:blipFill>
          <a:blip r:embed="rId2"/>
          <a:stretch/>
        </p:blipFill>
        <p:spPr>
          <a:xfrm>
            <a:off x="3422520" y="2017800"/>
            <a:ext cx="3292560" cy="4114800"/>
          </a:xfrm>
          <a:prstGeom prst="rect">
            <a:avLst/>
          </a:prstGeom>
          <a:ln w="0">
            <a:noFill/>
          </a:ln>
        </p:spPr>
      </p:pic>
      <p:sp>
        <p:nvSpPr>
          <p:cNvPr id="45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Литератур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Газета «Математика».- Изд.: Первое сентября, 2000-2007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8850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Цели уро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844280"/>
            <a:ext cx="777240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истематизировать и обобщить знания учащихс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верить уровень усвоения тем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ормировать умения применять знания к решению задач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вить интерес к предмет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360" y="404640"/>
            <a:ext cx="6983280" cy="136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Ход уро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7280" y="1844280"/>
            <a:ext cx="7772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ганизационный момент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атематический диктант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ешение задач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гра «Догонялки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дание на до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мостоятельная работ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дведение итог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50560" y="333000"/>
            <a:ext cx="48610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Организационный момент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8172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Мы закончили изучение темы: «Четырехугольники». Сегодня еще раз вспомним определения и свойства известных вам фигур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расскажу я вам сказку. Сказки бывают волшебные, а наша еще 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лезная. Почему, потом поймете. Вы будете помогать мне. Как называется сказка, вы должны угадать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Жил был вот такой четырехугольник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вали его Параллелограм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вайте вспомним определение и свойства Параллелограмм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Ходил Параллелограмм по свету, и стало тяготить его одиночество: ни побеседовать задушевно не с кем, ни потрудиться в хорошей дружной компании. А уж, какое веселье одному? Весело бывает только с друзьями, и решил Параллелограмм поискать родственник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Ежели встречу родственника, то я сразу узнаю его, - думал Параллелограмм, - ведь он на меня должен быть чем-то похож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днажды встречает он на пути такую фигур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5219640" y="3213000"/>
            <a:ext cx="1079640" cy="287280"/>
          </a:xfrm>
          <a:prstGeom prst="parallelogram">
            <a:avLst>
              <a:gd name="adj" fmla="val 9395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084720" y="5516640"/>
            <a:ext cx="93528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7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70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99640" y="259920"/>
            <a:ext cx="8055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ал Параллелограмм к ней приглядываться, что-то знакомое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одное увидел он в этой фигуре, и спросил он тогда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Как тебя зовут, приятель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Называют меня Прямоугольнико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вайте вспомним определение и свойства Прямоугольни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радовались фигуры, что нашли друг друга. Стали теперь они вдвоем жить-поживать, вместе трудиться, вместе  веселиться и по белу свету шагать. Вот отдыхают они на опушке леса и видят: выходит из-за кустарника какие-то фигуры и направляются прямо к ним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 вид они имели такой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Кто же вы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Да мы же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родственник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! -  воскликнул Параллелограм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к же мы теперь озаглавим эту сказку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 теперь Параллелограмм, Прямоугольник, Ромб, Квадрат загадают вам загадки. Постарайтесь их отгадат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3635280" y="4076640"/>
            <a:ext cx="1152720" cy="503280"/>
          </a:xfrm>
          <a:prstGeom prst="flowChartDecision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5076720" y="4076640"/>
            <a:ext cx="574920" cy="504720"/>
          </a:xfrm>
          <a:prstGeom prst="flowChartProcess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116000" y="404640"/>
            <a:ext cx="7777080" cy="1368720"/>
          </a:xfrm>
          <a:prstGeom prst="flowChartProcess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1187280" y="2133720"/>
            <a:ext cx="3818160" cy="223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5148360" y="2133720"/>
            <a:ext cx="3744720" cy="223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187280" y="4797360"/>
            <a:ext cx="7777440" cy="1944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Line 8"/>
          <p:cNvSpPr/>
          <p:nvPr/>
        </p:nvSpPr>
        <p:spPr>
          <a:xfrm flipH="1">
            <a:off x="3995640" y="1773360"/>
            <a:ext cx="1008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5003640" y="1773360"/>
            <a:ext cx="1081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3059280" y="4365720"/>
            <a:ext cx="10810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2"/>
          <p:cNvSpPr/>
          <p:nvPr/>
        </p:nvSpPr>
        <p:spPr>
          <a:xfrm flipH="1">
            <a:off x="5940000" y="4365720"/>
            <a:ext cx="1079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4140360" y="4437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Квадра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3743280" y="6048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араллелограм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1816200" y="1773360"/>
            <a:ext cx="206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рямоугольни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628020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Ром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1403280" y="620640"/>
            <a:ext cx="1646280" cy="289080"/>
          </a:xfrm>
          <a:prstGeom prst="parallelogram">
            <a:avLst>
              <a:gd name="adj" fmla="val 14237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1258920" y="1413000"/>
            <a:ext cx="1214280" cy="287280"/>
          </a:xfrm>
          <a:prstGeom prst="parallelogram">
            <a:avLst>
              <a:gd name="adj" fmla="val 10567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3203640" y="1413000"/>
            <a:ext cx="1214280" cy="288720"/>
          </a:xfrm>
          <a:prstGeom prst="parallelogram">
            <a:avLst>
              <a:gd name="adj" fmla="val 10514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AutoShape 20"/>
          <p:cNvSpPr/>
          <p:nvPr/>
        </p:nvSpPr>
        <p:spPr>
          <a:xfrm>
            <a:off x="5219640" y="1413000"/>
            <a:ext cx="1214640" cy="287280"/>
          </a:xfrm>
          <a:prstGeom prst="parallelogram">
            <a:avLst>
              <a:gd name="adj" fmla="val 10570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AutoShape 21"/>
          <p:cNvSpPr/>
          <p:nvPr/>
        </p:nvSpPr>
        <p:spPr>
          <a:xfrm>
            <a:off x="7308720" y="1413000"/>
            <a:ext cx="1214640" cy="287280"/>
          </a:xfrm>
          <a:prstGeom prst="parallelogram">
            <a:avLst>
              <a:gd name="adj" fmla="val 10570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23"/>
          <p:cNvSpPr/>
          <p:nvPr/>
        </p:nvSpPr>
        <p:spPr>
          <a:xfrm>
            <a:off x="1239840" y="9079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24"/>
          <p:cNvSpPr/>
          <p:nvPr/>
        </p:nvSpPr>
        <p:spPr>
          <a:xfrm>
            <a:off x="1455840" y="40464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3040200" y="404640"/>
            <a:ext cx="28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2681280" y="85572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27"/>
          <p:cNvSpPr/>
          <p:nvPr/>
        </p:nvSpPr>
        <p:spPr>
          <a:xfrm>
            <a:off x="3276720" y="423720"/>
            <a:ext cx="554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пределение: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четырёхугольник,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АВ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||C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Д, ВС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||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А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АВСД- параллелограмм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28"/>
              <p:cNvSpPr txBox="1"/>
              <p:nvPr/>
            </p:nvSpPr>
            <p:spPr>
              <a:xfrm>
                <a:off x="3995640" y="2133720"/>
                <a:ext cx="215100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9" name="Rectangle 33"/>
          <p:cNvSpPr/>
          <p:nvPr/>
        </p:nvSpPr>
        <p:spPr>
          <a:xfrm>
            <a:off x="2843280" y="2133720"/>
            <a:ext cx="208908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пределение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параллелограмм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‹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=90</a:t>
            </a:r>
            <a:r>
              <a:rPr b="0" lang="ar-SA" sz="1200" spc="-1" strike="noStrike">
                <a:solidFill>
                  <a:srgbClr val="000000"/>
                </a:solidFill>
                <a:latin typeface="Tahoma"/>
                <a:cs typeface="Tahoma"/>
              </a:rPr>
              <a:t>ْ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_________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прямоугольни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34"/>
          <p:cNvSpPr/>
          <p:nvPr/>
        </p:nvSpPr>
        <p:spPr>
          <a:xfrm>
            <a:off x="3130560" y="1071720"/>
            <a:ext cx="181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Свойства и признак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Line 35"/>
          <p:cNvSpPr/>
          <p:nvPr/>
        </p:nvSpPr>
        <p:spPr>
          <a:xfrm>
            <a:off x="1908000" y="134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Line 36"/>
          <p:cNvSpPr/>
          <p:nvPr/>
        </p:nvSpPr>
        <p:spPr>
          <a:xfrm>
            <a:off x="1763640" y="1628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Line 37"/>
          <p:cNvSpPr/>
          <p:nvPr/>
        </p:nvSpPr>
        <p:spPr>
          <a:xfrm>
            <a:off x="1403280" y="148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Line 38"/>
          <p:cNvSpPr/>
          <p:nvPr/>
        </p:nvSpPr>
        <p:spPr>
          <a:xfrm>
            <a:off x="1332000" y="1557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Line 39"/>
          <p:cNvSpPr/>
          <p:nvPr/>
        </p:nvSpPr>
        <p:spPr>
          <a:xfrm>
            <a:off x="2268360" y="148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40"/>
          <p:cNvSpPr/>
          <p:nvPr/>
        </p:nvSpPr>
        <p:spPr>
          <a:xfrm>
            <a:off x="2195640" y="1557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Arc 41"/>
          <p:cNvSpPr/>
          <p:nvPr/>
        </p:nvSpPr>
        <p:spPr>
          <a:xfrm>
            <a:off x="3276720" y="1628640"/>
            <a:ext cx="71280" cy="71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Arc 45"/>
          <p:cNvSpPr/>
          <p:nvPr/>
        </p:nvSpPr>
        <p:spPr>
          <a:xfrm flipV="1">
            <a:off x="3454560" y="1340640"/>
            <a:ext cx="168120" cy="142920"/>
          </a:xfrm>
          <a:custGeom>
            <a:avLst/>
            <a:gdLst/>
            <a:ahLst/>
            <a:rect l="l" t="t" r="r" b="b"/>
            <a:pathLst>
              <a:path fill="none" w="25362" h="21600">
                <a:moveTo>
                  <a:pt x="-1" y="789"/>
                </a:moveTo>
                <a:cubicBezTo>
                  <a:pt x="1884" y="265"/>
                  <a:pt x="3831" y="-1"/>
                  <a:pt x="5788" y="0"/>
                </a:cubicBezTo>
                <a:cubicBezTo>
                  <a:pt x="14180" y="0"/>
                  <a:pt x="21812" y="4861"/>
                  <a:pt x="25361" y="12466"/>
                </a:cubicBezTo>
              </a:path>
              <a:path stroke="0" w="25362" h="21600">
                <a:moveTo>
                  <a:pt x="-1" y="789"/>
                </a:moveTo>
                <a:cubicBezTo>
                  <a:pt x="1884" y="265"/>
                  <a:pt x="3831" y="-1"/>
                  <a:pt x="5788" y="0"/>
                </a:cubicBezTo>
                <a:cubicBezTo>
                  <a:pt x="14180" y="0"/>
                  <a:pt x="21812" y="4861"/>
                  <a:pt x="25361" y="12466"/>
                </a:cubicBezTo>
                <a:lnTo>
                  <a:pt x="5788" y="21600"/>
                </a:lnTo>
                <a:lnTo>
                  <a:pt x="-1" y="789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Arc 46"/>
          <p:cNvSpPr/>
          <p:nvPr/>
        </p:nvSpPr>
        <p:spPr>
          <a:xfrm flipH="1" flipV="1">
            <a:off x="4284000" y="1413720"/>
            <a:ext cx="73080" cy="120600"/>
          </a:xfrm>
          <a:custGeom>
            <a:avLst/>
            <a:gdLst/>
            <a:ahLst/>
            <a:rect l="l" t="t" r="r" b="b"/>
            <a:pathLst>
              <a:path fill="none" w="21600" h="17952">
                <a:moveTo>
                  <a:pt x="12011" y="0"/>
                </a:moveTo>
                <a:cubicBezTo>
                  <a:pt x="18003" y="4009"/>
                  <a:pt x="21600" y="10742"/>
                  <a:pt x="21600" y="17952"/>
                </a:cubicBezTo>
              </a:path>
              <a:path stroke="0" w="21600" h="17952">
                <a:moveTo>
                  <a:pt x="12011" y="0"/>
                </a:moveTo>
                <a:cubicBezTo>
                  <a:pt x="18003" y="4009"/>
                  <a:pt x="21600" y="10742"/>
                  <a:pt x="21600" y="17952"/>
                </a:cubicBezTo>
                <a:lnTo>
                  <a:pt x="0" y="17952"/>
                </a:lnTo>
                <a:lnTo>
                  <a:pt x="1201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Arc 48"/>
          <p:cNvSpPr/>
          <p:nvPr/>
        </p:nvSpPr>
        <p:spPr>
          <a:xfrm flipH="1">
            <a:off x="3996720" y="1628640"/>
            <a:ext cx="190440" cy="71640"/>
          </a:xfrm>
          <a:custGeom>
            <a:avLst/>
            <a:gdLst/>
            <a:ahLst/>
            <a:rect l="l" t="t" r="r" b="b"/>
            <a:pathLst>
              <a:path fill="none" w="28439" h="21600">
                <a:moveTo>
                  <a:pt x="0" y="1111"/>
                </a:moveTo>
                <a:cubicBezTo>
                  <a:pt x="2205" y="375"/>
                  <a:pt x="4514" y="-1"/>
                  <a:pt x="6839" y="0"/>
                </a:cubicBezTo>
                <a:cubicBezTo>
                  <a:pt x="18768" y="0"/>
                  <a:pt x="28439" y="9670"/>
                  <a:pt x="28439" y="21600"/>
                </a:cubicBezTo>
              </a:path>
              <a:path stroke="0" w="28439" h="21600">
                <a:moveTo>
                  <a:pt x="0" y="1111"/>
                </a:moveTo>
                <a:cubicBezTo>
                  <a:pt x="2205" y="375"/>
                  <a:pt x="4514" y="-1"/>
                  <a:pt x="6839" y="0"/>
                </a:cubicBezTo>
                <a:cubicBezTo>
                  <a:pt x="18768" y="0"/>
                  <a:pt x="28439" y="9670"/>
                  <a:pt x="28439" y="21600"/>
                </a:cubicBezTo>
                <a:lnTo>
                  <a:pt x="6839" y="21600"/>
                </a:lnTo>
                <a:lnTo>
                  <a:pt x="0" y="111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Line 50"/>
          <p:cNvSpPr/>
          <p:nvPr/>
        </p:nvSpPr>
        <p:spPr>
          <a:xfrm flipV="1">
            <a:off x="5219640" y="1413000"/>
            <a:ext cx="1224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Line 51"/>
          <p:cNvSpPr/>
          <p:nvPr/>
        </p:nvSpPr>
        <p:spPr>
          <a:xfrm>
            <a:off x="5508720" y="1413000"/>
            <a:ext cx="647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52"/>
          <p:cNvSpPr/>
          <p:nvPr/>
        </p:nvSpPr>
        <p:spPr>
          <a:xfrm>
            <a:off x="5651640" y="148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54"/>
          <p:cNvSpPr/>
          <p:nvPr/>
        </p:nvSpPr>
        <p:spPr>
          <a:xfrm>
            <a:off x="5580000" y="148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55"/>
          <p:cNvSpPr/>
          <p:nvPr/>
        </p:nvSpPr>
        <p:spPr>
          <a:xfrm>
            <a:off x="5940360" y="162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56"/>
          <p:cNvSpPr/>
          <p:nvPr/>
        </p:nvSpPr>
        <p:spPr>
          <a:xfrm>
            <a:off x="6012000" y="1413000"/>
            <a:ext cx="72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57"/>
          <p:cNvSpPr/>
          <p:nvPr/>
        </p:nvSpPr>
        <p:spPr>
          <a:xfrm>
            <a:off x="6084720" y="1413000"/>
            <a:ext cx="71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58"/>
          <p:cNvSpPr/>
          <p:nvPr/>
        </p:nvSpPr>
        <p:spPr>
          <a:xfrm>
            <a:off x="5435640" y="1557360"/>
            <a:ext cx="144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Line 59"/>
          <p:cNvSpPr/>
          <p:nvPr/>
        </p:nvSpPr>
        <p:spPr>
          <a:xfrm>
            <a:off x="5508720" y="155736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Line 61"/>
          <p:cNvSpPr/>
          <p:nvPr/>
        </p:nvSpPr>
        <p:spPr>
          <a:xfrm flipV="1">
            <a:off x="7308720" y="1413000"/>
            <a:ext cx="1224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Line 62"/>
          <p:cNvSpPr/>
          <p:nvPr/>
        </p:nvSpPr>
        <p:spPr>
          <a:xfrm flipH="1">
            <a:off x="7884720" y="134136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Line 63"/>
          <p:cNvSpPr/>
          <p:nvPr/>
        </p:nvSpPr>
        <p:spPr>
          <a:xfrm flipH="1">
            <a:off x="7956720" y="1628640"/>
            <a:ext cx="71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Arc 64"/>
          <p:cNvSpPr/>
          <p:nvPr/>
        </p:nvSpPr>
        <p:spPr>
          <a:xfrm>
            <a:off x="7596360" y="1628640"/>
            <a:ext cx="71280" cy="71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Arc 65"/>
          <p:cNvSpPr/>
          <p:nvPr/>
        </p:nvSpPr>
        <p:spPr>
          <a:xfrm flipH="1" flipV="1">
            <a:off x="8101080" y="1413000"/>
            <a:ext cx="7128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66"/>
          <p:cNvSpPr/>
          <p:nvPr/>
        </p:nvSpPr>
        <p:spPr>
          <a:xfrm>
            <a:off x="1476360" y="2276640"/>
            <a:ext cx="1008000" cy="504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67"/>
          <p:cNvSpPr/>
          <p:nvPr/>
        </p:nvSpPr>
        <p:spPr>
          <a:xfrm>
            <a:off x="2268360" y="3716280"/>
            <a:ext cx="1008360" cy="504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69"/>
          <p:cNvSpPr/>
          <p:nvPr/>
        </p:nvSpPr>
        <p:spPr>
          <a:xfrm>
            <a:off x="1311120" y="2708280"/>
            <a:ext cx="27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70"/>
          <p:cNvSpPr/>
          <p:nvPr/>
        </p:nvSpPr>
        <p:spPr>
          <a:xfrm>
            <a:off x="1237320" y="2079720"/>
            <a:ext cx="27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71"/>
          <p:cNvSpPr/>
          <p:nvPr/>
        </p:nvSpPr>
        <p:spPr>
          <a:xfrm>
            <a:off x="2484360" y="20797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72"/>
          <p:cNvSpPr/>
          <p:nvPr/>
        </p:nvSpPr>
        <p:spPr>
          <a:xfrm>
            <a:off x="2465280" y="265572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73"/>
          <p:cNvSpPr/>
          <p:nvPr/>
        </p:nvSpPr>
        <p:spPr>
          <a:xfrm>
            <a:off x="2195640" y="3232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Свой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Line 74"/>
          <p:cNvSpPr/>
          <p:nvPr/>
        </p:nvSpPr>
        <p:spPr>
          <a:xfrm flipV="1">
            <a:off x="2268360" y="3716280"/>
            <a:ext cx="1008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Line 75"/>
          <p:cNvSpPr/>
          <p:nvPr/>
        </p:nvSpPr>
        <p:spPr>
          <a:xfrm>
            <a:off x="2268360" y="3716280"/>
            <a:ext cx="1008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Line 76"/>
          <p:cNvSpPr/>
          <p:nvPr/>
        </p:nvSpPr>
        <p:spPr>
          <a:xfrm flipH="1">
            <a:off x="2484000" y="378936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77"/>
          <p:cNvSpPr/>
          <p:nvPr/>
        </p:nvSpPr>
        <p:spPr>
          <a:xfrm flipH="1">
            <a:off x="2916000" y="400536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78"/>
          <p:cNvSpPr/>
          <p:nvPr/>
        </p:nvSpPr>
        <p:spPr>
          <a:xfrm>
            <a:off x="2916360" y="378936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79"/>
          <p:cNvSpPr/>
          <p:nvPr/>
        </p:nvSpPr>
        <p:spPr>
          <a:xfrm>
            <a:off x="2484360" y="407664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AutoShape 81"/>
          <p:cNvSpPr/>
          <p:nvPr/>
        </p:nvSpPr>
        <p:spPr>
          <a:xfrm rot="3901800">
            <a:off x="5571000" y="1967760"/>
            <a:ext cx="609480" cy="1297080"/>
          </a:xfrm>
          <a:prstGeom prst="flowChartSor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82"/>
          <p:cNvSpPr/>
          <p:nvPr/>
        </p:nvSpPr>
        <p:spPr>
          <a:xfrm>
            <a:off x="6732720" y="2133720"/>
            <a:ext cx="2087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пределен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параллелограмм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=А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________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ромб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83"/>
          <p:cNvSpPr/>
          <p:nvPr/>
        </p:nvSpPr>
        <p:spPr>
          <a:xfrm>
            <a:off x="5487120" y="2079720"/>
            <a:ext cx="27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85"/>
          <p:cNvSpPr/>
          <p:nvPr/>
        </p:nvSpPr>
        <p:spPr>
          <a:xfrm>
            <a:off x="6422040" y="2079720"/>
            <a:ext cx="27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86"/>
          <p:cNvSpPr/>
          <p:nvPr/>
        </p:nvSpPr>
        <p:spPr>
          <a:xfrm>
            <a:off x="5919480" y="2871720"/>
            <a:ext cx="27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87"/>
          <p:cNvSpPr/>
          <p:nvPr/>
        </p:nvSpPr>
        <p:spPr>
          <a:xfrm>
            <a:off x="5148360" y="285264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AutoShape 88"/>
          <p:cNvSpPr/>
          <p:nvPr/>
        </p:nvSpPr>
        <p:spPr>
          <a:xfrm rot="3969000">
            <a:off x="5724000" y="3282840"/>
            <a:ext cx="576360" cy="1436760"/>
          </a:xfrm>
          <a:prstGeom prst="flowChartSor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AutoShape 89"/>
          <p:cNvSpPr/>
          <p:nvPr/>
        </p:nvSpPr>
        <p:spPr>
          <a:xfrm rot="3901800">
            <a:off x="7602120" y="3274560"/>
            <a:ext cx="574920" cy="1435320"/>
          </a:xfrm>
          <a:prstGeom prst="flowChartSor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Line 90"/>
          <p:cNvSpPr/>
          <p:nvPr/>
        </p:nvSpPr>
        <p:spPr>
          <a:xfrm>
            <a:off x="5435640" y="249228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Line 91"/>
          <p:cNvSpPr/>
          <p:nvPr/>
        </p:nvSpPr>
        <p:spPr>
          <a:xfrm>
            <a:off x="6084720" y="22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Line 92"/>
          <p:cNvSpPr/>
          <p:nvPr/>
        </p:nvSpPr>
        <p:spPr>
          <a:xfrm flipV="1">
            <a:off x="5364000" y="3715920"/>
            <a:ext cx="12956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Line 94"/>
          <p:cNvSpPr/>
          <p:nvPr/>
        </p:nvSpPr>
        <p:spPr>
          <a:xfrm>
            <a:off x="6156360" y="39337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Line 97"/>
          <p:cNvSpPr/>
          <p:nvPr/>
        </p:nvSpPr>
        <p:spPr>
          <a:xfrm flipH="1">
            <a:off x="6084360" y="407664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98"/>
          <p:cNvSpPr/>
          <p:nvPr/>
        </p:nvSpPr>
        <p:spPr>
          <a:xfrm>
            <a:off x="6272280" y="3232080"/>
            <a:ext cx="93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Свой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99"/>
          <p:cNvSpPr/>
          <p:nvPr/>
        </p:nvSpPr>
        <p:spPr>
          <a:xfrm flipV="1">
            <a:off x="7236000" y="3715920"/>
            <a:ext cx="1296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rc 101"/>
          <p:cNvSpPr/>
          <p:nvPr/>
        </p:nvSpPr>
        <p:spPr>
          <a:xfrm flipV="1">
            <a:off x="7812000" y="3715560"/>
            <a:ext cx="14472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103"/>
          <p:cNvSpPr/>
          <p:nvPr/>
        </p:nvSpPr>
        <p:spPr>
          <a:xfrm>
            <a:off x="1547640" y="4869000"/>
            <a:ext cx="64800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 Box 106"/>
          <p:cNvSpPr/>
          <p:nvPr/>
        </p:nvSpPr>
        <p:spPr>
          <a:xfrm>
            <a:off x="2392200" y="4797360"/>
            <a:ext cx="2324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пределен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прямоугольник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=А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________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квадра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 Box 107"/>
          <p:cNvSpPr/>
          <p:nvPr/>
        </p:nvSpPr>
        <p:spPr>
          <a:xfrm>
            <a:off x="4780080" y="51037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Text Box 108"/>
          <p:cNvSpPr/>
          <p:nvPr/>
        </p:nvSpPr>
        <p:spPr>
          <a:xfrm>
            <a:off x="5559480" y="4797360"/>
            <a:ext cx="2612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пределение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ромб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‹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=90</a:t>
            </a: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ْ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_________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квадра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112"/>
          <p:cNvSpPr/>
          <p:nvPr/>
        </p:nvSpPr>
        <p:spPr>
          <a:xfrm>
            <a:off x="8172360" y="6093000"/>
            <a:ext cx="57636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13"/>
          <p:cNvSpPr/>
          <p:nvPr/>
        </p:nvSpPr>
        <p:spPr>
          <a:xfrm>
            <a:off x="5724360" y="6093000"/>
            <a:ext cx="57636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Rectangle 114"/>
          <p:cNvSpPr/>
          <p:nvPr/>
        </p:nvSpPr>
        <p:spPr>
          <a:xfrm>
            <a:off x="4067280" y="6093000"/>
            <a:ext cx="57600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Rectangle 115"/>
          <p:cNvSpPr/>
          <p:nvPr/>
        </p:nvSpPr>
        <p:spPr>
          <a:xfrm>
            <a:off x="2484360" y="6093000"/>
            <a:ext cx="57636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 Box 116"/>
          <p:cNvSpPr/>
          <p:nvPr/>
        </p:nvSpPr>
        <p:spPr>
          <a:xfrm>
            <a:off x="4500720" y="5676840"/>
            <a:ext cx="11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Свой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117"/>
          <p:cNvSpPr/>
          <p:nvPr/>
        </p:nvSpPr>
        <p:spPr>
          <a:xfrm>
            <a:off x="1384200" y="5445000"/>
            <a:ext cx="27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Text Box 118"/>
          <p:cNvSpPr/>
          <p:nvPr/>
        </p:nvSpPr>
        <p:spPr>
          <a:xfrm>
            <a:off x="1308600" y="4816440"/>
            <a:ext cx="27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119"/>
          <p:cNvSpPr/>
          <p:nvPr/>
        </p:nvSpPr>
        <p:spPr>
          <a:xfrm>
            <a:off x="2176560" y="4797360"/>
            <a:ext cx="2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120"/>
          <p:cNvSpPr/>
          <p:nvPr/>
        </p:nvSpPr>
        <p:spPr>
          <a:xfrm>
            <a:off x="2176560" y="53737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Line 121"/>
          <p:cNvSpPr/>
          <p:nvPr/>
        </p:nvSpPr>
        <p:spPr>
          <a:xfrm>
            <a:off x="2484360" y="6165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Line 122"/>
          <p:cNvSpPr/>
          <p:nvPr/>
        </p:nvSpPr>
        <p:spPr>
          <a:xfrm flipV="1">
            <a:off x="2556000" y="6093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125"/>
          <p:cNvSpPr/>
          <p:nvPr/>
        </p:nvSpPr>
        <p:spPr>
          <a:xfrm>
            <a:off x="2484360" y="6597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Line 126"/>
          <p:cNvSpPr/>
          <p:nvPr/>
        </p:nvSpPr>
        <p:spPr>
          <a:xfrm>
            <a:off x="2556000" y="6597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127"/>
          <p:cNvSpPr/>
          <p:nvPr/>
        </p:nvSpPr>
        <p:spPr>
          <a:xfrm flipH="1">
            <a:off x="2987280" y="6597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Line 128"/>
          <p:cNvSpPr/>
          <p:nvPr/>
        </p:nvSpPr>
        <p:spPr>
          <a:xfrm>
            <a:off x="2987640" y="6597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29"/>
          <p:cNvSpPr/>
          <p:nvPr/>
        </p:nvSpPr>
        <p:spPr>
          <a:xfrm flipH="1">
            <a:off x="2987280" y="6165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Line 130"/>
          <p:cNvSpPr/>
          <p:nvPr/>
        </p:nvSpPr>
        <p:spPr>
          <a:xfrm flipV="1">
            <a:off x="2987640" y="6093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Line 131"/>
          <p:cNvSpPr/>
          <p:nvPr/>
        </p:nvSpPr>
        <p:spPr>
          <a:xfrm flipV="1">
            <a:off x="4067280" y="6093000"/>
            <a:ext cx="5760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2"/>
          <p:cNvSpPr/>
          <p:nvPr/>
        </p:nvSpPr>
        <p:spPr>
          <a:xfrm>
            <a:off x="4067280" y="6093000"/>
            <a:ext cx="5760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Line 133"/>
          <p:cNvSpPr/>
          <p:nvPr/>
        </p:nvSpPr>
        <p:spPr>
          <a:xfrm>
            <a:off x="4427640" y="623736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134"/>
          <p:cNvSpPr/>
          <p:nvPr/>
        </p:nvSpPr>
        <p:spPr>
          <a:xfrm>
            <a:off x="4140360" y="645336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Line 135"/>
          <p:cNvSpPr/>
          <p:nvPr/>
        </p:nvSpPr>
        <p:spPr>
          <a:xfrm flipH="1">
            <a:off x="4140000" y="623736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Line 136"/>
          <p:cNvSpPr/>
          <p:nvPr/>
        </p:nvSpPr>
        <p:spPr>
          <a:xfrm flipH="1">
            <a:off x="4427280" y="6381720"/>
            <a:ext cx="730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137"/>
          <p:cNvSpPr/>
          <p:nvPr/>
        </p:nvSpPr>
        <p:spPr>
          <a:xfrm>
            <a:off x="5651640" y="6381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138"/>
          <p:cNvSpPr/>
          <p:nvPr/>
        </p:nvSpPr>
        <p:spPr>
          <a:xfrm>
            <a:off x="6012000" y="6021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Line 139"/>
          <p:cNvSpPr/>
          <p:nvPr/>
        </p:nvSpPr>
        <p:spPr>
          <a:xfrm>
            <a:off x="6227640" y="638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Line 142"/>
          <p:cNvSpPr/>
          <p:nvPr/>
        </p:nvSpPr>
        <p:spPr>
          <a:xfrm>
            <a:off x="6012000" y="6597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Rectangle 143"/>
          <p:cNvSpPr/>
          <p:nvPr/>
        </p:nvSpPr>
        <p:spPr>
          <a:xfrm>
            <a:off x="7020000" y="6093000"/>
            <a:ext cx="57636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Line 144"/>
          <p:cNvSpPr/>
          <p:nvPr/>
        </p:nvSpPr>
        <p:spPr>
          <a:xfrm flipV="1">
            <a:off x="7020000" y="609300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Line 145"/>
          <p:cNvSpPr/>
          <p:nvPr/>
        </p:nvSpPr>
        <p:spPr>
          <a:xfrm>
            <a:off x="7020000" y="609300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Line 146"/>
          <p:cNvSpPr/>
          <p:nvPr/>
        </p:nvSpPr>
        <p:spPr>
          <a:xfrm flipV="1">
            <a:off x="7380360" y="638136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Line 148"/>
          <p:cNvSpPr/>
          <p:nvPr/>
        </p:nvSpPr>
        <p:spPr>
          <a:xfrm>
            <a:off x="7451640" y="630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Line 149"/>
          <p:cNvSpPr/>
          <p:nvPr/>
        </p:nvSpPr>
        <p:spPr>
          <a:xfrm>
            <a:off x="7380360" y="630864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Line 150"/>
          <p:cNvSpPr/>
          <p:nvPr/>
        </p:nvSpPr>
        <p:spPr>
          <a:xfrm flipV="1">
            <a:off x="8172360" y="609300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Line 151"/>
          <p:cNvSpPr/>
          <p:nvPr/>
        </p:nvSpPr>
        <p:spPr>
          <a:xfrm>
            <a:off x="8172360" y="609300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Arc 152"/>
          <p:cNvSpPr/>
          <p:nvPr/>
        </p:nvSpPr>
        <p:spPr>
          <a:xfrm flipV="1">
            <a:off x="8172360" y="6237360"/>
            <a:ext cx="14472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Arc 155"/>
          <p:cNvSpPr/>
          <p:nvPr/>
        </p:nvSpPr>
        <p:spPr>
          <a:xfrm flipV="1">
            <a:off x="8317080" y="6092280"/>
            <a:ext cx="14256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Arc 156"/>
          <p:cNvSpPr/>
          <p:nvPr/>
        </p:nvSpPr>
        <p:spPr>
          <a:xfrm>
            <a:off x="8172360" y="6453360"/>
            <a:ext cx="14472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Arc 157"/>
          <p:cNvSpPr/>
          <p:nvPr/>
        </p:nvSpPr>
        <p:spPr>
          <a:xfrm>
            <a:off x="8317080" y="6524640"/>
            <a:ext cx="7128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Arc 159"/>
          <p:cNvSpPr/>
          <p:nvPr/>
        </p:nvSpPr>
        <p:spPr>
          <a:xfrm flipH="1" flipV="1">
            <a:off x="8532000" y="6092280"/>
            <a:ext cx="7164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Arc 160"/>
          <p:cNvSpPr/>
          <p:nvPr/>
        </p:nvSpPr>
        <p:spPr>
          <a:xfrm flipH="1" flipV="1">
            <a:off x="8603640" y="6237360"/>
            <a:ext cx="14436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Arc 162"/>
          <p:cNvSpPr/>
          <p:nvPr/>
        </p:nvSpPr>
        <p:spPr>
          <a:xfrm flipH="1">
            <a:off x="8603640" y="6453360"/>
            <a:ext cx="14436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Arc 163"/>
          <p:cNvSpPr/>
          <p:nvPr/>
        </p:nvSpPr>
        <p:spPr>
          <a:xfrm flipH="1">
            <a:off x="8532000" y="6524640"/>
            <a:ext cx="7164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Arc 167"/>
          <p:cNvSpPr/>
          <p:nvPr/>
        </p:nvSpPr>
        <p:spPr>
          <a:xfrm flipH="1">
            <a:off x="7956000" y="4078440"/>
            <a:ext cx="198360" cy="72720"/>
          </a:xfrm>
          <a:custGeom>
            <a:avLst/>
            <a:gdLst/>
            <a:ahLst/>
            <a:rect l="l" t="t" r="r" b="b"/>
            <a:pathLst>
              <a:path fill="none" w="29633" h="21600">
                <a:moveTo>
                  <a:pt x="0" y="1549"/>
                </a:moveTo>
                <a:cubicBezTo>
                  <a:pt x="2554" y="525"/>
                  <a:pt x="5281" y="-1"/>
                  <a:pt x="8033" y="0"/>
                </a:cubicBezTo>
                <a:cubicBezTo>
                  <a:pt x="19962" y="0"/>
                  <a:pt x="29633" y="9670"/>
                  <a:pt x="29633" y="21600"/>
                </a:cubicBezTo>
              </a:path>
              <a:path stroke="0" w="29633" h="21600">
                <a:moveTo>
                  <a:pt x="0" y="1549"/>
                </a:moveTo>
                <a:cubicBezTo>
                  <a:pt x="2554" y="525"/>
                  <a:pt x="5281" y="-1"/>
                  <a:pt x="8033" y="0"/>
                </a:cubicBezTo>
                <a:cubicBezTo>
                  <a:pt x="19962" y="0"/>
                  <a:pt x="29633" y="9670"/>
                  <a:pt x="29633" y="21600"/>
                </a:cubicBezTo>
                <a:lnTo>
                  <a:pt x="8033" y="21600"/>
                </a:lnTo>
                <a:lnTo>
                  <a:pt x="0" y="154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Arc 168"/>
          <p:cNvSpPr/>
          <p:nvPr/>
        </p:nvSpPr>
        <p:spPr>
          <a:xfrm flipH="1">
            <a:off x="7812000" y="4151160"/>
            <a:ext cx="144720" cy="103320"/>
          </a:xfrm>
          <a:custGeom>
            <a:avLst/>
            <a:gdLst/>
            <a:ahLst/>
            <a:rect l="l" t="t" r="r" b="b"/>
            <a:pathLst>
              <a:path fill="none" w="21600" h="3141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012"/>
                  <a:pt x="20791" y="28375"/>
                  <a:pt x="19241" y="31415"/>
                </a:cubicBezTo>
              </a:path>
              <a:path stroke="0" w="21600" h="3141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012"/>
                  <a:pt x="20791" y="28375"/>
                  <a:pt x="19241" y="3141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Arc 174"/>
          <p:cNvSpPr/>
          <p:nvPr/>
        </p:nvSpPr>
        <p:spPr>
          <a:xfrm flipV="1">
            <a:off x="7596360" y="3859920"/>
            <a:ext cx="215640" cy="730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Arc 179"/>
          <p:cNvSpPr/>
          <p:nvPr/>
        </p:nvSpPr>
        <p:spPr>
          <a:xfrm flipH="1" flipV="1">
            <a:off x="8172360" y="3859920"/>
            <a:ext cx="144720" cy="730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Arc 180"/>
          <p:cNvSpPr/>
          <p:nvPr/>
        </p:nvSpPr>
        <p:spPr>
          <a:xfrm flipH="1" flipV="1">
            <a:off x="8101080" y="3715560"/>
            <a:ext cx="7128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Arc 182"/>
          <p:cNvSpPr/>
          <p:nvPr/>
        </p:nvSpPr>
        <p:spPr>
          <a:xfrm>
            <a:off x="7451640" y="4076640"/>
            <a:ext cx="73080" cy="730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Arc 183"/>
          <p:cNvSpPr/>
          <p:nvPr/>
        </p:nvSpPr>
        <p:spPr>
          <a:xfrm>
            <a:off x="7524720" y="4149720"/>
            <a:ext cx="71640" cy="142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Line 185"/>
          <p:cNvSpPr/>
          <p:nvPr/>
        </p:nvSpPr>
        <p:spPr>
          <a:xfrm>
            <a:off x="1476360" y="5229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Line 186"/>
          <p:cNvSpPr/>
          <p:nvPr/>
        </p:nvSpPr>
        <p:spPr>
          <a:xfrm>
            <a:off x="1908000" y="5373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Line 189"/>
          <p:cNvSpPr/>
          <p:nvPr/>
        </p:nvSpPr>
        <p:spPr>
          <a:xfrm>
            <a:off x="1476360" y="2637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Line 190"/>
          <p:cNvSpPr/>
          <p:nvPr/>
        </p:nvSpPr>
        <p:spPr>
          <a:xfrm>
            <a:off x="1619280" y="26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Математический диктант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1844280"/>
            <a:ext cx="777240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Верно ли, что каждый параллелограмм является ромбом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Является ли прямоугольником параллелограмм, у которого есть прямой угол?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.Если две стороны четырёхугольника параллельны, а две другие нет, то он является трапецией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.Диагонали квадрата являются биссектрисами его углов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.У ромба и параллелограмма диагонали перпендикулярны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6.Диагонали параллелограмма 5см и 5см. Является ли этот параллелограмм прямоугольником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166760" y="4581360"/>
            <a:ext cx="599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1.не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2.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3.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4.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5.не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6.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1834920" y="764640"/>
            <a:ext cx="52578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гадка Параллелограм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932360" y="2133720"/>
            <a:ext cx="402264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AutoShape 4"/>
          <p:cNvSpPr/>
          <p:nvPr/>
        </p:nvSpPr>
        <p:spPr>
          <a:xfrm>
            <a:off x="611280" y="3357720"/>
            <a:ext cx="2374920" cy="647640"/>
          </a:xfrm>
          <a:prstGeom prst="parallelogram">
            <a:avLst>
              <a:gd name="adj" fmla="val 9167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324000" y="40053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900000" y="29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2916360" y="2997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2340000" y="4005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Arc 12"/>
          <p:cNvSpPr/>
          <p:nvPr/>
        </p:nvSpPr>
        <p:spPr>
          <a:xfrm>
            <a:off x="826920" y="3789360"/>
            <a:ext cx="71640" cy="216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Arc 16"/>
          <p:cNvSpPr/>
          <p:nvPr/>
        </p:nvSpPr>
        <p:spPr>
          <a:xfrm flipV="1">
            <a:off x="1116000" y="3357000"/>
            <a:ext cx="298440" cy="144360"/>
          </a:xfrm>
          <a:custGeom>
            <a:avLst/>
            <a:gdLst/>
            <a:ahLst/>
            <a:rect l="l" t="t" r="r" b="b"/>
            <a:pathLst>
              <a:path fill="none" w="22363" h="21600">
                <a:moveTo>
                  <a:pt x="0" y="13"/>
                </a:moveTo>
                <a:cubicBezTo>
                  <a:pt x="254" y="4"/>
                  <a:pt x="508" y="-1"/>
                  <a:pt x="763" y="0"/>
                </a:cubicBezTo>
                <a:cubicBezTo>
                  <a:pt x="12692" y="0"/>
                  <a:pt x="22363" y="9670"/>
                  <a:pt x="22363" y="21600"/>
                </a:cubicBezTo>
              </a:path>
              <a:path stroke="0" w="22363" h="21600">
                <a:moveTo>
                  <a:pt x="0" y="13"/>
                </a:moveTo>
                <a:cubicBezTo>
                  <a:pt x="254" y="4"/>
                  <a:pt x="508" y="-1"/>
                  <a:pt x="763" y="0"/>
                </a:cubicBezTo>
                <a:cubicBezTo>
                  <a:pt x="12692" y="0"/>
                  <a:pt x="22363" y="9670"/>
                  <a:pt x="22363" y="21600"/>
                </a:cubicBezTo>
                <a:lnTo>
                  <a:pt x="763" y="21600"/>
                </a:lnTo>
                <a:lnTo>
                  <a:pt x="0" y="1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826920" y="3716280"/>
            <a:ext cx="5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AutoShape 18"/>
          <p:cNvSpPr/>
          <p:nvPr/>
        </p:nvSpPr>
        <p:spPr>
          <a:xfrm>
            <a:off x="1187280" y="3716280"/>
            <a:ext cx="73080" cy="73080"/>
          </a:xfrm>
          <a:prstGeom prst="flowChartConnector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Text Box 19"/>
          <p:cNvSpPr/>
          <p:nvPr/>
        </p:nvSpPr>
        <p:spPr>
          <a:xfrm>
            <a:off x="1258920" y="342900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16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34"/>
          <p:cNvSpPr/>
          <p:nvPr/>
        </p:nvSpPr>
        <p:spPr>
          <a:xfrm>
            <a:off x="1042920" y="2276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йди ошибку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35"/>
          <p:cNvSpPr/>
          <p:nvPr/>
        </p:nvSpPr>
        <p:spPr>
          <a:xfrm>
            <a:off x="250920" y="4379760"/>
            <a:ext cx="8893080" cy="1465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.К АВС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- параллелограмм (по условию), то ВС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||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А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(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по определению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)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А и ‹ В – внутренние односторонние углы при параллельных прямых ВС и А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, секущей АВ (по определению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‹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А + ‹ В = 180  (по свойству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AutoShape 36"/>
          <p:cNvSpPr/>
          <p:nvPr/>
        </p:nvSpPr>
        <p:spPr>
          <a:xfrm>
            <a:off x="1979640" y="5589720"/>
            <a:ext cx="71280" cy="712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Text Box 37"/>
          <p:cNvSpPr/>
          <p:nvPr/>
        </p:nvSpPr>
        <p:spPr>
          <a:xfrm>
            <a:off x="1190520" y="3413160"/>
            <a:ext cx="5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Oval 40"/>
          <p:cNvSpPr/>
          <p:nvPr/>
        </p:nvSpPr>
        <p:spPr>
          <a:xfrm>
            <a:off x="1763640" y="3429000"/>
            <a:ext cx="71640" cy="73080"/>
          </a:xfrm>
          <a:prstGeom prst="ellipse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Rectangle 41"/>
          <p:cNvSpPr/>
          <p:nvPr/>
        </p:nvSpPr>
        <p:spPr>
          <a:xfrm>
            <a:off x="8244000" y="6524640"/>
            <a:ext cx="900000" cy="333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2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8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гадка Прямоугольни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916280"/>
            <a:ext cx="38102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1 = 5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Найти: ‹2, ‹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76360" y="1844280"/>
            <a:ext cx="387828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N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M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O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∆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K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 ? ‹3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+ ‹2 + ‹3 = ?   ‹2 + ‹3 =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1763640" y="3068640"/>
            <a:ext cx="2232000" cy="1008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140328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Text Box 9"/>
          <p:cNvSpPr/>
          <p:nvPr/>
        </p:nvSpPr>
        <p:spPr>
          <a:xfrm>
            <a:off x="1403280" y="2781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3995640" y="2781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3995640" y="4005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Line 12"/>
          <p:cNvSpPr/>
          <p:nvPr/>
        </p:nvSpPr>
        <p:spPr>
          <a:xfrm flipV="1">
            <a:off x="1763640" y="3068640"/>
            <a:ext cx="22320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Line 13"/>
          <p:cNvSpPr/>
          <p:nvPr/>
        </p:nvSpPr>
        <p:spPr>
          <a:xfrm>
            <a:off x="1763640" y="3068640"/>
            <a:ext cx="22320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Arc 14"/>
          <p:cNvSpPr/>
          <p:nvPr/>
        </p:nvSpPr>
        <p:spPr>
          <a:xfrm>
            <a:off x="1763640" y="3933720"/>
            <a:ext cx="144360" cy="71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Arc 16"/>
          <p:cNvSpPr/>
          <p:nvPr/>
        </p:nvSpPr>
        <p:spPr>
          <a:xfrm flipV="1">
            <a:off x="1692360" y="2998080"/>
            <a:ext cx="204840" cy="276120"/>
          </a:xfrm>
          <a:custGeom>
            <a:avLst/>
            <a:gdLst/>
            <a:ahLst/>
            <a:rect l="l" t="t" r="r" b="b"/>
            <a:pathLst>
              <a:path fill="none" w="18865" h="20551">
                <a:moveTo>
                  <a:pt x="6650" y="0"/>
                </a:moveTo>
                <a:cubicBezTo>
                  <a:pt x="11843" y="1680"/>
                  <a:pt x="16207" y="5264"/>
                  <a:pt x="18865" y="10030"/>
                </a:cubicBezTo>
              </a:path>
              <a:path stroke="0" w="18865" h="20551">
                <a:moveTo>
                  <a:pt x="6650" y="0"/>
                </a:moveTo>
                <a:cubicBezTo>
                  <a:pt x="11843" y="1680"/>
                  <a:pt x="16207" y="5264"/>
                  <a:pt x="18865" y="10030"/>
                </a:cubicBezTo>
                <a:lnTo>
                  <a:pt x="0" y="20551"/>
                </a:lnTo>
                <a:lnTo>
                  <a:pt x="665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Arc 17"/>
          <p:cNvSpPr/>
          <p:nvPr/>
        </p:nvSpPr>
        <p:spPr>
          <a:xfrm flipH="1">
            <a:off x="2556000" y="3460680"/>
            <a:ext cx="71280" cy="260280"/>
          </a:xfrm>
          <a:custGeom>
            <a:avLst/>
            <a:gdLst/>
            <a:ahLst/>
            <a:rect l="l" t="t" r="r" b="b"/>
            <a:pathLst>
              <a:path fill="none" w="21600" h="25999">
                <a:moveTo>
                  <a:pt x="11235" y="0"/>
                </a:moveTo>
                <a:cubicBezTo>
                  <a:pt x="17672" y="3920"/>
                  <a:pt x="21600" y="10911"/>
                  <a:pt x="21600" y="18448"/>
                </a:cubicBezTo>
                <a:cubicBezTo>
                  <a:pt x="21600" y="21026"/>
                  <a:pt x="21138" y="23583"/>
                  <a:pt x="20237" y="25999"/>
                </a:cubicBezTo>
              </a:path>
              <a:path stroke="0" w="21600" h="25999">
                <a:moveTo>
                  <a:pt x="11235" y="0"/>
                </a:moveTo>
                <a:cubicBezTo>
                  <a:pt x="17672" y="3920"/>
                  <a:pt x="21600" y="10911"/>
                  <a:pt x="21600" y="18448"/>
                </a:cubicBezTo>
                <a:cubicBezTo>
                  <a:pt x="21600" y="21026"/>
                  <a:pt x="21138" y="23583"/>
                  <a:pt x="20237" y="25999"/>
                </a:cubicBezTo>
                <a:lnTo>
                  <a:pt x="0" y="18448"/>
                </a:lnTo>
                <a:lnTo>
                  <a:pt x="1123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 Box 18"/>
          <p:cNvSpPr/>
          <p:nvPr/>
        </p:nvSpPr>
        <p:spPr>
          <a:xfrm>
            <a:off x="2340000" y="34290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19"/>
          <p:cNvSpPr/>
          <p:nvPr/>
        </p:nvSpPr>
        <p:spPr>
          <a:xfrm>
            <a:off x="1763640" y="37162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Text Box 20"/>
          <p:cNvSpPr/>
          <p:nvPr/>
        </p:nvSpPr>
        <p:spPr>
          <a:xfrm>
            <a:off x="1835280" y="3141720"/>
            <a:ext cx="28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Text Box 23"/>
          <p:cNvSpPr/>
          <p:nvPr/>
        </p:nvSpPr>
        <p:spPr>
          <a:xfrm>
            <a:off x="1187280" y="4427640"/>
            <a:ext cx="748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Text Box 24"/>
          <p:cNvSpPr/>
          <p:nvPr/>
        </p:nvSpPr>
        <p:spPr>
          <a:xfrm>
            <a:off x="2700360" y="35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AutoShape 46"/>
          <p:cNvSpPr/>
          <p:nvPr/>
        </p:nvSpPr>
        <p:spPr>
          <a:xfrm>
            <a:off x="2050920" y="1989000"/>
            <a:ext cx="71640" cy="730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Text Box 48"/>
          <p:cNvSpPr/>
          <p:nvPr/>
        </p:nvSpPr>
        <p:spPr>
          <a:xfrm>
            <a:off x="468360" y="4379760"/>
            <a:ext cx="856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.к.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LMNK –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прямоугольник (по условию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LN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=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M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, 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LN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imes New Roman"/>
              </a:rPr>
              <a:t>∩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M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= О,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O = OM = LO = KO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(по свойству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∆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LOK–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равнобедренный с основанием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L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(по определению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о ‹2 = ‹3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(по свойству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1 + ‹2 + ‹3 = 180 (по свойству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2 + ‹3 = 130 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2 = ‹3 = 6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AutoShape 50"/>
          <p:cNvSpPr/>
          <p:nvPr/>
        </p:nvSpPr>
        <p:spPr>
          <a:xfrm>
            <a:off x="1979640" y="6093000"/>
            <a:ext cx="71280" cy="712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Text Box 51"/>
          <p:cNvSpPr/>
          <p:nvPr/>
        </p:nvSpPr>
        <p:spPr>
          <a:xfrm>
            <a:off x="1755360" y="32068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AutoShape 52"/>
          <p:cNvSpPr/>
          <p:nvPr/>
        </p:nvSpPr>
        <p:spPr>
          <a:xfrm flipH="1">
            <a:off x="2050200" y="3213000"/>
            <a:ext cx="73080" cy="71640"/>
          </a:xfrm>
          <a:prstGeom prst="flowChartConnector">
            <a:avLst/>
          </a:prstGeom>
          <a:solidFill>
            <a:srgbClr val="00e4a8"/>
          </a:solidFill>
          <a:ln w="1908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Text Box 53"/>
          <p:cNvSpPr/>
          <p:nvPr/>
        </p:nvSpPr>
        <p:spPr>
          <a:xfrm>
            <a:off x="1692360" y="364500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AutoShape 54"/>
          <p:cNvSpPr/>
          <p:nvPr/>
        </p:nvSpPr>
        <p:spPr>
          <a:xfrm>
            <a:off x="1979640" y="3645000"/>
            <a:ext cx="73080" cy="71280"/>
          </a:xfrm>
          <a:prstGeom prst="flowChartConnector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AutoShape 55"/>
          <p:cNvSpPr/>
          <p:nvPr/>
        </p:nvSpPr>
        <p:spPr>
          <a:xfrm>
            <a:off x="2484360" y="5805360"/>
            <a:ext cx="7308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Oval 56"/>
          <p:cNvSpPr/>
          <p:nvPr/>
        </p:nvSpPr>
        <p:spPr>
          <a:xfrm>
            <a:off x="1908000" y="6381720"/>
            <a:ext cx="71640" cy="71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Line 57"/>
          <p:cNvSpPr/>
          <p:nvPr/>
        </p:nvSpPr>
        <p:spPr>
          <a:xfrm flipH="1">
            <a:off x="2340000" y="321300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Line 58"/>
          <p:cNvSpPr/>
          <p:nvPr/>
        </p:nvSpPr>
        <p:spPr>
          <a:xfrm>
            <a:off x="2268360" y="3789360"/>
            <a:ext cx="216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Rectangle 59"/>
          <p:cNvSpPr/>
          <p:nvPr/>
        </p:nvSpPr>
        <p:spPr>
          <a:xfrm>
            <a:off x="8244000" y="6524640"/>
            <a:ext cx="900000" cy="333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3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2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8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4:00:18Z</dcterms:created>
  <dc:creator>User</dc:creator>
  <dc:description/>
  <dc:language>en-US</dc:language>
  <cp:lastModifiedBy>LEGION</cp:lastModifiedBy>
  <dcterms:modified xsi:type="dcterms:W3CDTF">2015-01-23T13:32:51Z</dcterms:modified>
  <cp:revision>75</cp:revision>
  <dc:subject/>
  <dc:title>Четырехугольники</dc:title>
</cp:coreProperties>
</file>