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AFE8-6349-4F29-8B2C-457C64E6920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hyperlink" Target="http://oldru.narod.ru/history106.html" TargetMode="External"/><Relationship Id="rId2" Type="http://schemas.openxmlformats.org/officeDocument/2006/relationships/hyperlink" Target="http://oldru.narod.ru/history106.html" TargetMode="External"/><Relationship Id="rId3" Type="http://schemas.openxmlformats.org/officeDocument/2006/relationships/slide" Target="../slides/slide28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мерение отрез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EE4F-C996-4345-AED5-081F04C1C91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3 аршина составляли САЖ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E7B8-4CBE-4A37-8F52-A1A654CF554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49e7"/>
                </a:solidFill>
                <a:latin typeface="Calibri"/>
              </a:rPr>
              <a:t>Длина локтя или шага у разных людей различная, а мера длины должна быть одинак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2FF8-0115-4B20-8DD1-AAF4DE768D1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бразец меры – метр, принятий за эталон, сейчас хранится в одном из французских музее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93A1-F701-4A93-9849-6E30EC9B0EE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92296"/>
                </a:solidFill>
                <a:latin typeface="Calibri"/>
              </a:rPr>
              <a:t>Вернемся к вопросу, заданному в начале: «Что значит измерить?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о можно ответить так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Измерить – значит сравнить с эталоном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F72D-B47F-4E01-9E1D-6773A8ED8A9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- А чем мы обычно измеря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 древнейшим геометрическим инструмен-там относятся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циркуль и линей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Сначала изобрели линейку, а циркуль был изобретен позже - в I ве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Древней Гр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BCF1-7606-40B7-9132-112C0F42906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техническом черчении употребляю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масштабную миллиметровую линейку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измерения диамет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убки использу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штангенциркуль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8714-8F26-483B-BB6D-39B444E2E55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измерения расстояний на местности пользуются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улеткой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«Рулетка» - с французского (rouler – свертывать, ката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87CD-F1E4-4D88-A185-A49ECAE76DD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трезки нельзя начерт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2,5 с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5 с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- 2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A3E7-8DA2-44FE-8FDF-64948A28F87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сказать о длине двух равных отрезко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12FE-6087-4F65-A0E8-11828EADE49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чертить отрезок АВ, поставить на нём точку С, то получатся отрезки АС и СВ. Что можно узнать, сложив длины отрезков АС и С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71E2-A1E2-430A-BAC8-75AC34B87B3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99"/>
                </a:solidFill>
                <a:latin typeface="Calibri"/>
              </a:rPr>
              <a:t>Измерь самого себя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99"/>
                </a:solidFill>
                <a:latin typeface="Calibri"/>
              </a:rPr>
              <a:t>и ты станешь настоящим геомет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рсилио Сичи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8C33-9CDB-4166-AE7C-E3E7CB9CC1B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шение зад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1) (Устно) На отрезке АС поставлена точка В, АВ = 5,6 см, ВС=2,8 см. Найдите длину 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c5e"/>
                </a:solidFill>
                <a:latin typeface="Calibri"/>
              </a:rPr>
              <a:t>2)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(Письменно) </a:t>
            </a:r>
            <a:r>
              <a:rPr b="0" lang="ru-RU" sz="1200" spc="-1" strike="noStrike">
                <a:solidFill>
                  <a:srgbClr val="344c5e"/>
                </a:solidFill>
                <a:latin typeface="Calibri"/>
              </a:rPr>
              <a:t>На отрезке АВ лежит точка С, АС = 6,1 см, АВ = 8,7 см. Найдите длину С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0A4C-4991-4FF5-AF69-88657789299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бразец оформ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дач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ано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езок А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ahoma"/>
              </a:rPr>
              <a:t>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 А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 = 6,1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= 8,7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С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332E-E58E-4A9B-B2C8-B3A5BD61F75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ешить самостоя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1) Точка М лежит на прямой ЕF между Е и F. Чему равна длина отрезка МF, если EF = 7,2 cм, EM = 2,2 c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2) На отрезке LS лежат точки K и R так, что К лежит между L и R, LK = 3,5 см, LS = 9 см и LK = KR. Найти 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F84A-85BA-45ED-A31E-E3B048F9FA9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ернёмся к цели уро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CC37-FA56-4105-8A4B-F7B9E0D900E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ополн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нглийский король Генрих 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вел в качестве единиц длины ЯРД – расстояние от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163D-FC1E-40EC-959B-D2BADD36B0D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ополн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Длина отрезка выражается  ….…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DC52-D509-4E5B-8092-AD2A1306237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 древнейшим геометрическим инструментам относя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5E29-1169-41F0-8F48-E975F12DBB7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. 7,8 (с.13-16) – 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5, 33, 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A1A6-4563-454C-A195-4D9E3DA8037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я, 7 – 9: Учеб. для общеобразоват. учреждений/ Л.С. Атанасян, В.Ф. Бутузов, С.Б. Кадомцев и др. – М.: Просвещение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ru.wikipedia.org/wiki/%DF%F0%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ldru.narod.ru/history10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estival.1september.ru/articles/31211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-u.ru/biblio/archive/depman_mir/00.asp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арти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nnok-nikol.narod.ru/images/clip_image017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milanmark.files.wordpress.com/2009/11/0905p68-measuring-tape-l.jpg?w=280&amp;h=28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activerain.com/image_store/uploads/1/6/4/6/6/ar1226496636646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school.xvatit.com/images/0/03/22102010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screenshots.etvnet.com/000/363/443/b09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mer.kakras.ru/img-mer/arshin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vladpaper.ru/d/168020/d/3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bikmark.ru/goods_big/%C3%CE%C401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g.zinzilin.com/items/29/lineyka-masshtabnaya-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specural.com/files/slovar/metr_2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40B6-1409-497C-9C1C-C630E92E126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FD51-06D4-4CEC-859D-23FF223FC5C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то значит измерить какую-то величину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Герои одного мультфильма измеряли длину удава в попуга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E51E-65EC-4D58-9117-F8827A6E5CC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Единицы измерения дл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в разное врем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и в раз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глийский король Генрих 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л в качестве единиц длины ЯРД – расстояние от кончика своего носа до большого пальца вытянутой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F607-E7E0-45DF-A9E2-2122456C06A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ругая английская единица длины ФУТ, что по-английски означает «ступня». 16 англичан выстраивались в цепочку таким образом, что каждый следующий касался концами пальцев своих ног пяток предыдущего. 1/16 такой цепочки и составляла 1 ф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FEC7-2327-456A-8F54-0E6EB386240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а Руси в старину мерой длины был ШАГ и ПЯДЬ: </a:t>
            </a:r>
            <a:r>
              <a:rPr b="0" i="1" lang="ru-RU" sz="1200" spc="-1" strike="noStrike">
                <a:solidFill>
                  <a:srgbClr val="006600"/>
                </a:solidFill>
                <a:latin typeface="Calibri"/>
              </a:rPr>
              <a:t>Малая пядь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равнялась расстоянию между концами растянутых пальцев, большего и указательного (~19 см), </a:t>
            </a:r>
            <a:r>
              <a:rPr b="0" i="1" lang="ru-RU" sz="1200" spc="-1" strike="noStrike">
                <a:solidFill>
                  <a:srgbClr val="006600"/>
                </a:solidFill>
                <a:latin typeface="Calibri"/>
              </a:rPr>
              <a:t>большая пядь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– расстояние между раздвинутым большим пальцем и мизинцем   (~ 23 с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9733-4411-4728-8866-C14B0395264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АДОНЬ – ширина кисти руки, ЛОКОТЬ – расстояние от локтя до конца среднего пальца </a:t>
            </a:r>
            <a:r>
              <a:rPr b="0" lang="ru-RU" sz="1000" spc="-1" strike="noStrike">
                <a:solidFill>
                  <a:srgbClr val="800080"/>
                </a:solidFill>
                <a:latin typeface="Calibri"/>
              </a:rPr>
              <a:t>(~71 см)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3432-AD01-46CF-BA4D-B6FD2DBAAE3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АРШИН в переводе с персидского – локоть. Существовал персидский аршин, турецкий аршин и др., отсюда и появилась поговорка «Мерить на свой аршин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4AC3-1B36-470F-A477-D30450C57F6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042-77E5-4EF9-BA8B-8BC381A6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0F2-E2CC-4AC7-8464-AEB08D1D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C90-D42D-4F4F-9CA3-778FAE94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9170-B429-4125-8185-39EB9BB9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0FE-CB4D-4DCA-BF48-4413B7E1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C7C-072C-47EE-9DEF-8A16F603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EEF-B19C-4CD0-ACBC-AF050D53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D173-69A6-4922-B3FF-433C4A1B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93D-1EC0-4D33-9CCD-334CA968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9C3C-6BAC-4194-A8C6-73A4CFAA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D8E-425E-4FC8-9832-34A46213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45B-9E7F-4EC2-A89D-409FCB0F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5AAF-B187-47A3-B59E-81546E3738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oldru.narod.ru/history106.html" TargetMode="External"/><Relationship Id="rId2" Type="http://schemas.openxmlformats.org/officeDocument/2006/relationships/hyperlink" Target="http://oldru.narod.ru/history106.html" TargetMode="External"/><Relationship Id="rId3" Type="http://schemas.openxmlformats.org/officeDocument/2006/relationships/hyperlink" Target="http://festival.1september.ru/articles/312112/" TargetMode="External"/><Relationship Id="rId4" Type="http://schemas.openxmlformats.org/officeDocument/2006/relationships/hyperlink" Target="http://www.i-u.ru/biblio/archive/depman_mir/00.aspx" TargetMode="External"/><Relationship Id="rId5" Type="http://schemas.openxmlformats.org/officeDocument/2006/relationships/hyperlink" Target="http://innok-nikol.narod.ru/images/clip_image017.png" TargetMode="External"/><Relationship Id="rId6" Type="http://schemas.openxmlformats.org/officeDocument/2006/relationships/hyperlink" Target="http://milanmark.wordpress.com/" TargetMode="External"/><Relationship Id="rId7" Type="http://schemas.openxmlformats.org/officeDocument/2006/relationships/hyperlink" Target="http://activerain.com/image_store/uploads/1/6/4/6/6/ar12264966366461.png" TargetMode="External"/><Relationship Id="rId8" Type="http://schemas.openxmlformats.org/officeDocument/2006/relationships/hyperlink" Target="http://school.xvatit.com/images/0/03/22102010.jpg" TargetMode="External"/><Relationship Id="rId9" Type="http://schemas.openxmlformats.org/officeDocument/2006/relationships/hyperlink" Target="http://screenshots.etvnet.com/000/363/443/b09.jpg" TargetMode="External"/><Relationship Id="rId10" Type="http://schemas.openxmlformats.org/officeDocument/2006/relationships/hyperlink" Target="http://mer.kakras.ru/img-mer/arshin.gif" TargetMode="External"/><Relationship Id="rId11" Type="http://schemas.openxmlformats.org/officeDocument/2006/relationships/hyperlink" Target="http://vladpaper.ru/d/168020/d/31.png" TargetMode="External"/><Relationship Id="rId12" Type="http://schemas.openxmlformats.org/officeDocument/2006/relationships/hyperlink" Target="http://www.bikmark.ru/goods_big/%C3%CE%C4018.jpg" TargetMode="External"/><Relationship Id="rId13" Type="http://schemas.openxmlformats.org/officeDocument/2006/relationships/hyperlink" Target="http://img.zinzilin.com/items/29/lineyka-masshtabnaya-1.png" TargetMode="External"/><Relationship Id="rId14" Type="http://schemas.openxmlformats.org/officeDocument/2006/relationships/hyperlink" Target="http://www.specural.com/files/slovar/metr_2.gif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WordArt 5"/>
          <p:cNvGrpSpPr/>
          <p:nvPr/>
        </p:nvGrpSpPr>
        <p:grpSpPr>
          <a:xfrm>
            <a:off x="682560" y="2146320"/>
            <a:ext cx="7705800" cy="1627200"/>
            <a:chOff x="682560" y="2146320"/>
            <a:chExt cx="7705800" cy="1627200"/>
          </a:xfrm>
        </p:grpSpPr>
        <p:pic>
          <p:nvPicPr>
            <p:cNvPr id="49" name="WordArt 5" descr=""/>
            <p:cNvPicPr/>
            <p:nvPr/>
          </p:nvPicPr>
          <p:blipFill>
            <a:blip r:embed="rId1"/>
            <a:stretch/>
          </p:blipFill>
          <p:spPr>
            <a:xfrm>
              <a:off x="682560" y="2149200"/>
              <a:ext cx="770580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4360" y="2146320"/>
              <a:ext cx="7704000" cy="16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змерение отрезко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" name="Rectangle 6"/>
          <p:cNvSpPr/>
          <p:nvPr/>
        </p:nvSpPr>
        <p:spPr>
          <a:xfrm>
            <a:off x="3363120" y="551880"/>
            <a:ext cx="30762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2492"/>
                </a:solidFill>
                <a:latin typeface="Tahoma"/>
              </a:rPr>
              <a:t>Геометрия 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500720" y="5000760"/>
            <a:ext cx="4643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Баталова О.В.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НРМОУ «Сингапайская СОШ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rcRect l="0" t="12211" r="0" b="0"/>
          <a:stretch/>
        </p:blipFill>
        <p:spPr>
          <a:xfrm>
            <a:off x="0" y="3784680"/>
            <a:ext cx="3500280" cy="3073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858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ahoma"/>
              </a:rPr>
              <a:t>3 аршина составляли САЖЕНЬ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1" name="Picture 23" descr="1357"/>
          <p:cNvPicPr/>
          <p:nvPr/>
        </p:nvPicPr>
        <p:blipFill>
          <a:blip r:embed="rId1"/>
          <a:srcRect l="27607" t="0" r="0" b="0"/>
          <a:stretch/>
        </p:blipFill>
        <p:spPr>
          <a:xfrm>
            <a:off x="928800" y="1495440"/>
            <a:ext cx="7412040" cy="53625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46800" cy="26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49e7"/>
                </a:solidFill>
                <a:latin typeface="Tahoma"/>
              </a:rPr>
              <a:t>Длина локтя или шага у разных людей различная, а мера длины должна быть одинаковой.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919960" y="2928240"/>
            <a:ext cx="28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явился мет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2357280" y="3619440"/>
            <a:ext cx="4314960" cy="3238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65200" y="907560"/>
            <a:ext cx="490716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Образец меры – метр, принятий за эталон, сейчас хранится в одном из французских музеев.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0" y="3971880"/>
            <a:ext cx="4238640" cy="288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-14400" y="1192320"/>
            <a:ext cx="4229280" cy="26654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92296"/>
                </a:solidFill>
                <a:latin typeface="Tahoma"/>
              </a:rPr>
              <a:t>Вернемся к вопросу, заданному в начале: «Что значит измерить?»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оротко можно ответить так: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«Измерить – значит сравнить с эталоном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 А чем мы обычно измеряе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 древнейшим геометрическим инструмен-там относятся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циркуль и линейка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 Сначала изобрели линейку, а циркуль был изобретен позже - в I век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Древней Гре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000080" y="3857760"/>
            <a:ext cx="3214800" cy="300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5072040" y="3857760"/>
            <a:ext cx="3000240" cy="30002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6760" y="126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техническом черчении употребляют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масштабную миллиметровую линейку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ля измерения диаметр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рубки использую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штангенциркуль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0" t="37149" r="0" b="35000"/>
          <a:stretch/>
        </p:blipFill>
        <p:spPr>
          <a:xfrm>
            <a:off x="3286080" y="2357280"/>
            <a:ext cx="3333960" cy="9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643280" y="4524480"/>
            <a:ext cx="3500640" cy="23335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ля измерения расстояний на местности пользуются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рулеткой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«Рулетка» - с французского (rouler – свертывать, катать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428920" y="271476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отрезки нельзя начерт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2,5 с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5 с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- 2 с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1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653920" y="5083920"/>
            <a:ext cx="624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отрезка выражае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положительным числом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можно сказать о длине двух равных отрезко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2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61880" y="5444280"/>
            <a:ext cx="83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Равные отрезки имеют равные длины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начертить отрезок АВ, поставить на нём точку С, то получатся отрезки АС и СВ. Что можно узнать, сложив длины отрезков АС и С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3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593360" y="4958280"/>
            <a:ext cx="594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всего отрезка рав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сумме длин отрезков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из которых он состоит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71280" y="493092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Марсилио Сичин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65400" cy="487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499080" y="4103640"/>
            <a:ext cx="2644920" cy="27543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4572000" y="460440"/>
            <a:ext cx="397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ahoma"/>
              </a:rPr>
              <a:t>Измерь самого себя –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ahoma"/>
              </a:rPr>
              <a:t>и ты станешь настоящим геометр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Решение задач</a:t>
            </a: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3296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ahoma"/>
              </a:rPr>
              <a:t>1) (Устно) На отрезке АС поставлена точка В, АВ = 5,6 см, ВС=2,8 см. Найдите длину АС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44c5e"/>
                </a:solidFill>
                <a:latin typeface="Tahoma"/>
              </a:rPr>
              <a:t>2) </a:t>
            </a:r>
            <a:r>
              <a:rPr b="0" lang="ru-RU" sz="4000" spc="-1" strike="noStrike">
                <a:solidFill>
                  <a:srgbClr val="800000"/>
                </a:solidFill>
                <a:latin typeface="Tahoma"/>
              </a:rPr>
              <a:t>(Письменно) </a:t>
            </a:r>
            <a:r>
              <a:rPr b="0" lang="ru-RU" sz="4000" spc="-1" strike="noStrike">
                <a:solidFill>
                  <a:srgbClr val="344c5e"/>
                </a:solidFill>
                <a:latin typeface="Tahoma"/>
              </a:rPr>
              <a:t>На отрезке АВ лежит точка С, АС = 6,1 см, АВ = 8,7 см. Найдите длину С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Образец оформления</a:t>
            </a: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Задача 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Дано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резок А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А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С = 6,1с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 = 8,7с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йти С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916360" y="2349360"/>
            <a:ext cx="0" cy="280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250920" y="472428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Group 16"/>
          <p:cNvGrpSpPr/>
          <p:nvPr/>
        </p:nvGrpSpPr>
        <p:grpSpPr>
          <a:xfrm>
            <a:off x="3276720" y="1628640"/>
            <a:ext cx="5305320" cy="1931040"/>
            <a:chOff x="3276720" y="1628640"/>
            <a:chExt cx="5305320" cy="1931040"/>
          </a:xfrm>
        </p:grpSpPr>
        <p:grpSp>
          <p:nvGrpSpPr>
            <p:cNvPr id="141" name="Group 7"/>
            <p:cNvGrpSpPr/>
            <p:nvPr/>
          </p:nvGrpSpPr>
          <p:grpSpPr>
            <a:xfrm>
              <a:off x="3515040" y="2149920"/>
              <a:ext cx="4586040" cy="1409760"/>
              <a:chOff x="3515040" y="2149920"/>
              <a:chExt cx="4586040" cy="1409760"/>
            </a:xfrm>
          </p:grpSpPr>
          <p:sp>
            <p:nvSpPr>
              <p:cNvPr id="142" name="Oval 8"/>
              <p:cNvSpPr/>
              <p:nvPr/>
            </p:nvSpPr>
            <p:spPr>
              <a:xfrm flipV="1" rot="19734600">
                <a:off x="3558240" y="3363120"/>
                <a:ext cx="75600" cy="190440"/>
              </a:xfrm>
              <a:prstGeom prst="ellipse">
                <a:avLst/>
              </a:prstGeom>
              <a:solidFill>
                <a:srgbClr val="ff6600"/>
              </a:solidFill>
              <a:ln w="572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3" name="Group 9"/>
              <p:cNvGrpSpPr/>
              <p:nvPr/>
            </p:nvGrpSpPr>
            <p:grpSpPr>
              <a:xfrm>
                <a:off x="3563640" y="2149920"/>
                <a:ext cx="4537440" cy="1328400"/>
                <a:chOff x="3563640" y="2149920"/>
                <a:chExt cx="4537440" cy="1328400"/>
              </a:xfrm>
            </p:grpSpPr>
            <p:sp>
              <p:nvSpPr>
                <p:cNvPr id="144" name="Line 10"/>
                <p:cNvSpPr/>
                <p:nvPr/>
              </p:nvSpPr>
              <p:spPr>
                <a:xfrm flipV="1">
                  <a:off x="3563640" y="2231640"/>
                  <a:ext cx="4488120" cy="1246680"/>
                </a:xfrm>
                <a:prstGeom prst="line">
                  <a:avLst/>
                </a:prstGeom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Oval 11"/>
                <p:cNvSpPr/>
                <p:nvPr/>
              </p:nvSpPr>
              <p:spPr>
                <a:xfrm flipV="1" rot="19734600">
                  <a:off x="7981560" y="2155680"/>
                  <a:ext cx="75600" cy="190440"/>
                </a:xfrm>
                <a:prstGeom prst="ellipse">
                  <a:avLst/>
                </a:prstGeom>
                <a:solidFill>
                  <a:srgbClr val="ff6600"/>
                </a:solidFill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46" name="Oval 12"/>
            <p:cNvSpPr/>
            <p:nvPr/>
          </p:nvSpPr>
          <p:spPr>
            <a:xfrm flipH="1">
              <a:off x="6227640" y="2637000"/>
              <a:ext cx="85680" cy="142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WordArt 13"/>
            <p:cNvSpPr txBox="1"/>
            <p:nvPr/>
          </p:nvSpPr>
          <p:spPr>
            <a:xfrm>
              <a:off x="6084720" y="1989000"/>
              <a:ext cx="3384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8" name="WordArt 14"/>
            <p:cNvSpPr txBox="1"/>
            <p:nvPr/>
          </p:nvSpPr>
          <p:spPr>
            <a:xfrm>
              <a:off x="3276720" y="2637000"/>
              <a:ext cx="3380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9" name="WordArt 15"/>
            <p:cNvSpPr txBox="1"/>
            <p:nvPr/>
          </p:nvSpPr>
          <p:spPr>
            <a:xfrm>
              <a:off x="8244000" y="1628640"/>
              <a:ext cx="3380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В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50" name="Rectangle 17"/>
          <p:cNvSpPr/>
          <p:nvPr/>
        </p:nvSpPr>
        <p:spPr>
          <a:xfrm>
            <a:off x="209520" y="189000"/>
            <a:ext cx="86724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отрезке АВ лежит точка С, АС = 6,1 см, АВ = 8,7 с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йдите длину С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4645080" y="263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,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20"/>
          <p:cNvSpPr/>
          <p:nvPr/>
        </p:nvSpPr>
        <p:spPr>
          <a:xfrm>
            <a:off x="3564000" y="2276640"/>
            <a:ext cx="4464000" cy="130968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2812" h="825">
                <a:moveTo>
                  <a:pt x="0" y="771"/>
                </a:moveTo>
                <a:cubicBezTo>
                  <a:pt x="113" y="790"/>
                  <a:pt x="226" y="809"/>
                  <a:pt x="317" y="817"/>
                </a:cubicBezTo>
                <a:cubicBezTo>
                  <a:pt x="408" y="825"/>
                  <a:pt x="431" y="825"/>
                  <a:pt x="544" y="817"/>
                </a:cubicBezTo>
                <a:cubicBezTo>
                  <a:pt x="657" y="809"/>
                  <a:pt x="862" y="794"/>
                  <a:pt x="998" y="771"/>
                </a:cubicBezTo>
                <a:cubicBezTo>
                  <a:pt x="1134" y="748"/>
                  <a:pt x="1248" y="711"/>
                  <a:pt x="1361" y="681"/>
                </a:cubicBezTo>
                <a:cubicBezTo>
                  <a:pt x="1474" y="651"/>
                  <a:pt x="1557" y="628"/>
                  <a:pt x="1678" y="590"/>
                </a:cubicBezTo>
                <a:cubicBezTo>
                  <a:pt x="1799" y="552"/>
                  <a:pt x="1966" y="499"/>
                  <a:pt x="2087" y="454"/>
                </a:cubicBezTo>
                <a:cubicBezTo>
                  <a:pt x="2208" y="409"/>
                  <a:pt x="2306" y="371"/>
                  <a:pt x="2404" y="318"/>
                </a:cubicBezTo>
                <a:cubicBezTo>
                  <a:pt x="2502" y="265"/>
                  <a:pt x="2608" y="189"/>
                  <a:pt x="2676" y="136"/>
                </a:cubicBezTo>
                <a:cubicBezTo>
                  <a:pt x="2744" y="83"/>
                  <a:pt x="2778" y="41"/>
                  <a:pt x="28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960160" y="335772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,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3203640" y="40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7020000" y="1989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3132000" y="4724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АВ - А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3132000" y="51325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8,7 – 6,1 = 2,6 (см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3203640" y="57085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2,6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Решить самостоятельно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ahoma"/>
              </a:rPr>
              <a:t>1) Точка М лежит на прямой ЕF между Е и F. Чему равна длина отрезка МF, если EF = 7,2 cм, EM = 2,2 cм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Tahoma"/>
              </a:rPr>
              <a:t>2) На отрезке LS лежат точки K и R так, что К лежит между L и R, LK = 3,5 см, LS = 9 см и LK = KR. Найти RS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24000" y="22320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492"/>
                </a:solidFill>
                <a:latin typeface="Tahoma"/>
              </a:rPr>
              <a:t>Вернёмся к цели урока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Tahoma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Дополни предлож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Английский король Генрих 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вел в качестве единиц длины ЯРД – расстояние от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6920" y="24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чика своего носа до большого пальца вытянутой ру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11280" y="285264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ФУТ, что по-английски означае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156360" y="2997360"/>
            <a:ext cx="2519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2492"/>
                </a:solidFill>
                <a:latin typeface="Tahoma"/>
              </a:rPr>
              <a:t>«ступня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11280" y="350028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ОКОТЬ приближённо равен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7236000" y="3500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71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6520" y="4075200"/>
            <a:ext cx="64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МАХОВАЯ САЖЕНЬ – расстояние между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132000" y="44308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вытянутыми в стороны рук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79280" y="4869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Эталон метра хранится в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284720" y="4869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одном из французских музе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11280" y="5589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змерить – значит сравнить с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6084720" y="5589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этало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Дополни предлож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отрезка выражается  ….… числ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5796000" y="22050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ложительны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24000" y="2852640"/>
            <a:ext cx="6265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ahoma"/>
              </a:rPr>
              <a:t>Равные отрезки имеют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229440" y="2924280"/>
            <a:ext cx="2663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ahoma"/>
              </a:rPr>
              <a:t>равные дли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11280" y="350028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ahoma"/>
              </a:rPr>
              <a:t>Длина всего отрезка равна сумме длин отрезков, из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932360" y="4508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ahoma"/>
              </a:rPr>
              <a:t>которых он состо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79280" y="4869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Эталон метра хранится в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4284720" y="4869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одном из французских музе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611280" y="5589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змерить – значит сравнить с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6084720" y="5589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этало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К древнейшим геометрическим инструментам относятся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708360" y="1268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циркуль и линей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140360" y="246708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миллиметровую линейк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140360" y="386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штангенцирку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084720" y="530064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рулетк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68360" y="1989000"/>
            <a:ext cx="8640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В техническом черчении употребляют </a:t>
            </a:r>
            <a:r>
              <a:rPr b="1" lang="ru-RU" sz="3600" spc="-1" strike="noStrike">
                <a:solidFill>
                  <a:srgbClr val="003399"/>
                </a:solidFill>
                <a:latin typeface="Tahoma"/>
              </a:rPr>
              <a:t>масштабную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395280" y="3355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ля измерения диаметра трубки используют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68360" y="4869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ля измерения расстояний на местности пользуются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. 7,8 (с.13-16) – читат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25, 33, 4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258920" y="692280"/>
            <a:ext cx="619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2124000" y="3933720"/>
            <a:ext cx="4681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Список использованной литературы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0040" y="15717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метрия, 7 – 9: Учеб. для общеобразоват. учреждений/ Л.С. Атанасян, В.Ф. Бутузов, С.Б. Кадомцев и др. – М.: Просвещение, 20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1"/>
              </a:rPr>
              <a:t>http://ru.wikipedia.org/wiki/%DF%F0%E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2"/>
              </a:rPr>
              <a:t>http://oldru.narod.ru/history106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3"/>
              </a:rPr>
              <a:t>http://festival.1september.ru/articles/312112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4"/>
              </a:rPr>
              <a:t>http://www.i-u.ru/biblio/archive/depman_mir/00.asp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Картин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5"/>
              </a:rPr>
              <a:t>http://innok-nikol.narod.ru/images/clip_image017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6"/>
              </a:rPr>
              <a:t>http://milanmark.files.wordpress.com/2009/11/0905p68-measuring-tape-l.jpg?w=280&amp;h=2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7"/>
              </a:rPr>
              <a:t>http://activerain.com/image_store/uploads/1/6/4/6/6/ar1226496636646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8"/>
              </a:rPr>
              <a:t>http://school.xvatit.com/images/0/03/22102010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9"/>
              </a:rPr>
              <a:t>http://screenshots.etvnet.com/000/363/443/b09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0"/>
              </a:rPr>
              <a:t>http://mer.kakras.ru/img-mer/arshin.g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1"/>
              </a:rPr>
              <a:t>http://vladpaper.ru/d/168020/d/3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2"/>
              </a:rPr>
              <a:t>http://www.bikmark.ru/goods_big/%C3%CE%C4018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3"/>
              </a:rPr>
              <a:t>http://img.zinzilin.com/items/29/lineyka-masshtabnaya-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4"/>
              </a:rPr>
              <a:t>http://www.specural.com/files/slovar/metr_2.g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24000" y="2338920"/>
            <a:ext cx="856908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492"/>
                </a:solidFill>
                <a:latin typeface="Tahoma"/>
              </a:rPr>
              <a:t>Цель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1200" y="1642320"/>
            <a:ext cx="90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«Что значит измерить какую-то величину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684360" y="404640"/>
            <a:ext cx="3166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прос: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00040" y="3295800"/>
            <a:ext cx="32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Герои одного мультфильма измеряли длину удава в попугая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rcRect l="3123" t="3123" r="3123" b="1824"/>
          <a:stretch/>
        </p:blipFill>
        <p:spPr>
          <a:xfrm>
            <a:off x="3652920" y="2403360"/>
            <a:ext cx="5491080" cy="44546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1187280" y="18900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диницы измерения длины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ное врем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в разных страна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924360" y="2128680"/>
            <a:ext cx="504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глийский король Генрих 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л в качестве единиц длины ЯРД – расстояние от кончика своего носа до большого пальца вытянутой ру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285840" y="2108160"/>
            <a:ext cx="3500280" cy="45356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2.jpg (20792 bytes)"/>
          <p:cNvPicPr/>
          <p:nvPr/>
        </p:nvPicPr>
        <p:blipFill>
          <a:blip r:embed="rId1"/>
          <a:stretch/>
        </p:blipFill>
        <p:spPr>
          <a:xfrm>
            <a:off x="228600" y="1484280"/>
            <a:ext cx="3287880" cy="4446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76720" y="380520"/>
            <a:ext cx="541008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Другая английская единица длины ФУТ, что по-английски означает «ступня». 16 англичан выстраивались в цепочку таким образом, что каждый следующий касался концами пальцев своих ног пяток предыдущего. 1/16 такой цепочки и составляла 1 фут.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img3.jpg (39872 bytes)"/>
          <p:cNvPicPr/>
          <p:nvPr/>
        </p:nvPicPr>
        <p:blipFill>
          <a:blip r:embed="rId1"/>
          <a:stretch/>
        </p:blipFill>
        <p:spPr>
          <a:xfrm>
            <a:off x="-4616280" y="1854360"/>
            <a:ext cx="1774800" cy="2582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img4.jpg (27326 bytes)"/>
          <p:cNvPicPr/>
          <p:nvPr/>
        </p:nvPicPr>
        <p:blipFill>
          <a:blip r:embed="rId2"/>
          <a:stretch/>
        </p:blipFill>
        <p:spPr>
          <a:xfrm>
            <a:off x="-4216320" y="2593800"/>
            <a:ext cx="1238040" cy="2409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-461340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-4611240" y="2630880"/>
            <a:ext cx="43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80000" y="380520"/>
            <a:ext cx="490680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На Руси в старину мерой длины был ШАГ и ПЯДЬ: 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Малая пядь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равнялась расстоянию между концами растянутых пальцев, большего и указательного (~19 см), 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большая пядь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– расстояние между раздвинутым большим пальцем и мизинцем   (~ 23 см)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0" name="Picture 8" descr="img3.jpg (39872 bytes)"/>
          <p:cNvPicPr/>
          <p:nvPr/>
        </p:nvPicPr>
        <p:blipFill>
          <a:blip r:embed="rId3"/>
          <a:stretch/>
        </p:blipFill>
        <p:spPr>
          <a:xfrm>
            <a:off x="357120" y="1000080"/>
            <a:ext cx="3114720" cy="45370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7280" y="836280"/>
            <a:ext cx="4859280" cy="578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ЛАДОНЬ – ширина кисти руки, ЛОКОТЬ – расстояние от локтя до конца среднего пальца </a:t>
            </a:r>
            <a:r>
              <a:rPr b="0" lang="ru-RU" sz="3600" spc="-1" strike="noStrike">
                <a:solidFill>
                  <a:srgbClr val="242492"/>
                </a:solidFill>
                <a:latin typeface="Tahoma"/>
              </a:rPr>
              <a:t>(~71 см)</a:t>
            </a: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351240" cy="50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14122" t="0" r="12137" b="0"/>
          <a:stretch/>
        </p:blipFill>
        <p:spPr>
          <a:xfrm>
            <a:off x="0" y="3705120"/>
            <a:ext cx="3357720" cy="31528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2320"/>
            <a:ext cx="8362800" cy="29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АРШИН в переводе с персидского – локоть. Существовал персидский аршин, турецкий аршин и др., отсюда и появилась поговорка «Мерить на свой аршин». 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286000" y="3000240"/>
            <a:ext cx="4429080" cy="3714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-74520" y="142920"/>
            <a:ext cx="95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ahoma"/>
              </a:rPr>
              <a:t>Большие расстояния измерялись ПОЛЕТОМ СТРЕ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9:48:14Z</dcterms:created>
  <dc:creator>артем</dc:creator>
  <dc:description/>
  <dc:language>en-US</dc:language>
  <cp:lastModifiedBy>LEGION</cp:lastModifiedBy>
  <dcterms:modified xsi:type="dcterms:W3CDTF">2015-01-26T10:15:46Z</dcterms:modified>
  <cp:revision>73</cp:revision>
  <dc:subject/>
  <dc:title>Слайд 1</dc:title>
</cp:coreProperties>
</file>