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13.png" ContentType="image/png"/>
  <Override PartName="/ppt/media/image11.jpeg" ContentType="image/jpeg"/>
  <Override PartName="/ppt/media/image9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6.png" ContentType="image/png"/>
  <Override PartName="/ppt/media/image23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png" ContentType="image/png"/>
  <Override PartName="/ppt/media/image14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cb5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15C8E-BE38-474E-A1A0-B8F2E3004CDA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hyperlink" Target="http://oldru.narod.ru/history106.html" TargetMode="External"/><Relationship Id="rId2" Type="http://schemas.openxmlformats.org/officeDocument/2006/relationships/hyperlink" Target="http://oldru.narod.ru/history106.html" TargetMode="External"/><Relationship Id="rId3" Type="http://schemas.openxmlformats.org/officeDocument/2006/relationships/slide" Target="../slides/slide28.xml"/><Relationship Id="rId4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Arial"/>
              </a:rPr>
              <a:t>Измерение отрез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C6E44-1ADD-408C-9E17-E517778B8240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alibri"/>
              </a:rPr>
              <a:t>3 аршина составляли САЖЕН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70D11-20E7-45B7-825C-06A423063007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6349e7"/>
                </a:solidFill>
                <a:latin typeface="Calibri"/>
              </a:rPr>
              <a:t>Длина локтя или шага у разных людей различная, а мера длины должна быть одинаков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89F17-B27D-499F-9877-503239408C49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Образец меры – метр, принятий за эталон, сейчас хранится в одном из французских музеев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5B233-D781-47E8-9AFE-E23F15AC1969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492296"/>
                </a:solidFill>
                <a:latin typeface="Calibri"/>
              </a:rPr>
              <a:t>Вернемся к вопросу, заданному в начале: «Что значит измерить?»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ротко можно ответить так: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«Измерить – значит сравнить с эталоном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E9C79-7B97-4DB3-AA6A-AEC4DE825836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44c5e"/>
                </a:solidFill>
                <a:latin typeface="Calibri"/>
              </a:rPr>
              <a:t>Инструменты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Calibri"/>
              </a:rPr>
              <a:t>- А чем мы обычно измеряем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 древнейшим геометрическим инструмен-там относятся </a:t>
            </a: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циркуль и линейка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. Сначала изобрели линейку, а циркуль был изобретен позже - в I век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 Древней Гре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A2CED-C7EB-47ED-898A-D739F0195E24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44c5e"/>
                </a:solidFill>
                <a:latin typeface="Calibri"/>
              </a:rPr>
              <a:t>Инструменты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В техническом черчении употребляют </a:t>
            </a: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масштабную миллиметровую линейку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Для измерения диаметр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трубки используют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штангенциркуль.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7EFE4-BFAC-4126-B799-A9F86BBE679F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44c5e"/>
                </a:solidFill>
                <a:latin typeface="Calibri"/>
              </a:rPr>
              <a:t>Инструменты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Для измерения расстояний на местности пользуются </a:t>
            </a: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рулеткой.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«Рулетка» - с французского (rouler – свертывать, катать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FB9F7-17A5-4250-B20B-969E6243BA0A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Свойства длины отрезка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е отрезки нельзя начертить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2,5 см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5 см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- 2 с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E94D9-3FDC-4CAF-9E29-45B942FFE030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Свойства длины отрезка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то можно сказать о длине двух равных отрезков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288A5-B2FC-4C94-AFCF-2CDAF777FBD3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Свойства длины отрезка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начертить отрезок АВ, поставить на нём точку С, то получатся отрезки АС и СВ. Что можно узнать, сложив длины отрезков АС и СВ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02BBE-8C78-4B8C-B6B1-D31255D9C357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3399"/>
                </a:solidFill>
                <a:latin typeface="Calibri"/>
              </a:rPr>
              <a:t>Измерь самого себя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3399"/>
                </a:solidFill>
                <a:latin typeface="Calibri"/>
              </a:rPr>
              <a:t>и ты станешь настоящим геометр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Марсилио Сичи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9F7CA-6BF6-45A7-89BE-44573071E596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Решение задач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alibri"/>
              </a:rPr>
              <a:t>1) (Устно) На отрезке АС поставлена точка В, АВ = 5,6 см, ВС=2,8 см. Найдите длину АС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44c5e"/>
                </a:solidFill>
                <a:latin typeface="Calibri"/>
              </a:rPr>
              <a:t>2) </a:t>
            </a:r>
            <a:r>
              <a:rPr b="0" lang="ru-RU" sz="1200" spc="-1" strike="noStrike">
                <a:solidFill>
                  <a:srgbClr val="800000"/>
                </a:solidFill>
                <a:latin typeface="Calibri"/>
              </a:rPr>
              <a:t>(Письменно) </a:t>
            </a:r>
            <a:r>
              <a:rPr b="0" lang="ru-RU" sz="1200" spc="-1" strike="noStrike">
                <a:solidFill>
                  <a:srgbClr val="344c5e"/>
                </a:solidFill>
                <a:latin typeface="Calibri"/>
              </a:rPr>
              <a:t>На отрезке АВ лежит точка С, АС = 6,1 см, АВ = 8,7 см. Найдите длину С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B09AE-FD1B-4B14-B86B-548157710AFA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Образец оформле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Calibri"/>
              </a:rPr>
              <a:t>Задача 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Дано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езок АВ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</a:t>
            </a:r>
            <a:r>
              <a:rPr b="0" lang="ru-RU" sz="1000" spc="-1" strike="noStrike">
                <a:solidFill>
                  <a:srgbClr val="000000"/>
                </a:solidFill>
                <a:latin typeface="Calibri"/>
                <a:ea typeface="Tahoma"/>
              </a:rPr>
              <a:t>Є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  <a:ea typeface="Tahoma"/>
              </a:rPr>
              <a:t> А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С = 6,1с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 = 8,7с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йти С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0022F-BB5B-449D-A174-B0D77B5A407B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Решить самостоятель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00"/>
                </a:solidFill>
                <a:latin typeface="Calibri"/>
              </a:rPr>
              <a:t>1) Точка М лежит на прямой ЕF между Е и F. Чему равна длина отрезка МF, если EF = 7,2 cм, EM = 2,2 cм?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2) На отрезке LS лежат точки K и R так, что К лежит между L и R, LK = 3,5 см, LS = 9 см и LK = KR. Найти R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B84BB-3DD4-4E7E-AB01-B614EA7DA62D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80"/>
                </a:solidFill>
                <a:latin typeface="Calibri"/>
              </a:rPr>
              <a:t>Вернёмся к цели урока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познакомиться с процедурой измерения отрезков, рассмотреть свойства длин отрезка, познакомиться с различными единицами измерения длины и инструментами для измерения отрезков, узнать, как можно измерять без инструмент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5F164-6265-4BFD-A6E7-3364009D2450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Дополни предло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Английский король Генрих I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ввел в качестве единиц длины ЯРД – расстояние от 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BB7EE-1DAD-49DE-AC8E-CA901F48E510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Дополни предло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0000"/>
                </a:solidFill>
                <a:latin typeface="Calibri"/>
              </a:rPr>
              <a:t>Длина отрезка выражается  ….… числ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8A117-356A-4100-A6AE-5529BC32422C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К древнейшим геометрическим инструментам относятся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3ACC6-AD32-44A1-85A9-0B41F1B85B19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. 7,8 (с.13-16) – чита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№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25, 33, 4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42E4D-61B3-476E-A7C9-BD5E8B5E4B33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писок использованной литературы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еометрия, 7 – 9: Учеб. для общеобразоват. учреждений/ Л.С. Атанасян, В.Ф. Бутузов, С.Б. Кадомцев и др. – М.: Просвещение, 200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ru.wikipedia.org/wiki/%DF%F0%E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oldru.narod.ru/history106.htm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festival.1september.ru/articles/312112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ttp://www.i-u.ru/biblio/archive/depman_mir/00.asp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Calibri"/>
              </a:rPr>
              <a:t>Картин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http://innok-nikol.narod.ru/images/clip_image017.pn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http://milanmark.files.wordpress.com/2009/11/0905p68-measuring-tape-l.jpg?w=280&amp;h=280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http://activerain.com/image_store/uploads/1/6/4/6/6/ar12264966366461.pn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http://school.xvatit.com/images/0/03/22102010.jp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http://screenshots.etvnet.com/000/363/443/b09.jp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http://mer.kakras.ru/img-mer/arshin.gif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http://vladpaper.ru/d/168020/d/31.pn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http://www.bikmark.ru/goods_big/%C3%CE%C4018.jp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http://img.zinzilin.com/items/29/lineyka-masshtabnaya-1.png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http://www.specural.com/files/slovar/metr_2.gif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C1B54-BAE7-4BBC-9FC7-398FF4138769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800080"/>
                </a:solidFill>
                <a:latin typeface="Calibri"/>
              </a:rPr>
              <a:t>Цель: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познакомиться с процедурой измерения отрезков, рассмотреть свойства длин отрезка, познакомиться с различными единицами измерения длины и инструментами для измерения отрезков, узнать, как можно измерять без инструмент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CB069-CC24-4677-8BCA-0A02B0A41A3C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Impact"/>
              </a:rPr>
              <a:t>Вопрос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«Что значит измерить какую-то величину?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6600"/>
                </a:solidFill>
                <a:latin typeface="Calibri"/>
              </a:rPr>
              <a:t>Герои одного мультфильма измеряли длину удава в попугая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0D063-08CB-487F-ABBA-583913C0888A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c0504d"/>
                </a:solidFill>
                <a:latin typeface="Arial"/>
                <a:ea typeface="Arial"/>
              </a:rPr>
              <a:t>Единицы измерения длин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c0504d"/>
                </a:solidFill>
                <a:latin typeface="Arial"/>
                <a:ea typeface="Arial"/>
              </a:rPr>
              <a:t>в разное врем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c0504d"/>
                </a:solidFill>
                <a:latin typeface="Arial"/>
                <a:ea typeface="Arial"/>
              </a:rPr>
              <a:t>и в разных страна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нглийский король Генрих I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ввел в качестве единиц длины ЯРД – расстояние от кончика своего носа до большого пальца вытянутой ру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460DE0-02FC-4715-A5C6-D19D958E614D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Другая английская единица длины ФУТ, что по-английски означает «ступня». 16 англичан выстраивались в цепочку таким образом, что каждый следующий касался концами пальцев своих ног пяток предыдущего. 1/16 такой цепочки и составляла 1 фу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681EA-B524-410F-86A2-230CDB2A1FF6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6600"/>
                </a:solidFill>
                <a:latin typeface="Calibri"/>
              </a:rPr>
              <a:t>На Руси в старину мерой длины был ШАГ и ПЯДЬ: </a:t>
            </a:r>
            <a:r>
              <a:rPr b="0" i="1" lang="ru-RU" sz="1200" spc="-1" strike="noStrike">
                <a:solidFill>
                  <a:srgbClr val="006600"/>
                </a:solidFill>
                <a:latin typeface="Calibri"/>
              </a:rPr>
              <a:t>Малая пядь</a:t>
            </a:r>
            <a:r>
              <a:rPr b="0" lang="ru-RU" sz="1200" spc="-1" strike="noStrike">
                <a:solidFill>
                  <a:srgbClr val="006600"/>
                </a:solidFill>
                <a:latin typeface="Calibri"/>
              </a:rPr>
              <a:t> равнялась расстоянию между концами растянутых пальцев, большего и указательного (~19 см), </a:t>
            </a:r>
            <a:r>
              <a:rPr b="0" i="1" lang="ru-RU" sz="1200" spc="-1" strike="noStrike">
                <a:solidFill>
                  <a:srgbClr val="006600"/>
                </a:solidFill>
                <a:latin typeface="Calibri"/>
              </a:rPr>
              <a:t>большая пядь</a:t>
            </a:r>
            <a:r>
              <a:rPr b="0" lang="ru-RU" sz="1200" spc="-1" strike="noStrike">
                <a:solidFill>
                  <a:srgbClr val="006600"/>
                </a:solidFill>
                <a:latin typeface="Calibri"/>
              </a:rPr>
              <a:t> – расстояние между раздвинутым большим пальцем и мизинцем   (~ 23 см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0727E-AB14-42BA-A03A-4A711B9703DB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ЛАДОНЬ – ширина кисти руки, ЛОКОТЬ – расстояние от локтя до конца среднего пальца </a:t>
            </a:r>
            <a:r>
              <a:rPr b="0" lang="ru-RU" sz="1000" spc="-1" strike="noStrike">
                <a:solidFill>
                  <a:srgbClr val="800080"/>
                </a:solidFill>
                <a:latin typeface="Calibri"/>
              </a:rPr>
              <a:t>(~71 см)</a:t>
            </a:r>
            <a:r>
              <a:rPr b="0" lang="ru-RU" sz="1200" spc="-1" strike="noStrike">
                <a:solidFill>
                  <a:srgbClr val="800080"/>
                </a:solidFill>
                <a:latin typeface="Calibri"/>
              </a:rPr>
              <a:t>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D56C8-1C85-455E-9900-0004259E0AFA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Calibri"/>
              </a:rPr>
              <a:t>АРШИН в переводе с персидского – локоть. Существовал персидский аршин, турецкий аршин и др., отсюда и появилась поговорка «Мерить на свой аршин»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E8EE7-049D-4FBA-8F9B-0AD194B231E8}" type="slidenum">
              <a:rPr b="0" lang="uk-UA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F8EA4-0C10-4088-AB2D-48E0E7C38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6BB1-FC04-457D-99CF-6D06BD09B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2E68-66B8-48BE-9E7E-71A56F797B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E2AE8-BBEE-40A6-9145-BF36CC632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E021-A8FC-441C-B310-73AB450B8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77A26-8460-4045-8620-53C6893C8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89387-90AA-4464-9C0A-6210F82F3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3BD74-F58D-4CC8-B417-5E2F6AA03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E5368-A332-4A69-8F28-F42636EE7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6BB89-2B2A-4EEC-8B24-6EFD9B0D9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AF46A-89C0-47B6-B6D7-95E8A0D71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C4D0-46B5-4741-83AF-1AC48F9DE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b9cb5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24249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37445-2557-420D-AC4D-67428827235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hyperlink" Target="http://oldru.narod.ru/history106.html" TargetMode="External"/><Relationship Id="rId2" Type="http://schemas.openxmlformats.org/officeDocument/2006/relationships/hyperlink" Target="http://oldru.narod.ru/history106.html" TargetMode="External"/><Relationship Id="rId3" Type="http://schemas.openxmlformats.org/officeDocument/2006/relationships/hyperlink" Target="http://festival.1september.ru/articles/312112/" TargetMode="External"/><Relationship Id="rId4" Type="http://schemas.openxmlformats.org/officeDocument/2006/relationships/hyperlink" Target="http://www.i-u.ru/biblio/archive/depman_mir/00.aspx" TargetMode="External"/><Relationship Id="rId5" Type="http://schemas.openxmlformats.org/officeDocument/2006/relationships/hyperlink" Target="http://innok-nikol.narod.ru/images/clip_image017.png" TargetMode="External"/><Relationship Id="rId6" Type="http://schemas.openxmlformats.org/officeDocument/2006/relationships/hyperlink" Target="http://milanmark.wordpress.com/" TargetMode="External"/><Relationship Id="rId7" Type="http://schemas.openxmlformats.org/officeDocument/2006/relationships/hyperlink" Target="http://activerain.com/image_store/uploads/1/6/4/6/6/ar12264966366461.png" TargetMode="External"/><Relationship Id="rId8" Type="http://schemas.openxmlformats.org/officeDocument/2006/relationships/hyperlink" Target="http://school.xvatit.com/images/0/03/22102010.jpg" TargetMode="External"/><Relationship Id="rId9" Type="http://schemas.openxmlformats.org/officeDocument/2006/relationships/hyperlink" Target="http://screenshots.etvnet.com/000/363/443/b09.jpg" TargetMode="External"/><Relationship Id="rId10" Type="http://schemas.openxmlformats.org/officeDocument/2006/relationships/hyperlink" Target="http://mer.kakras.ru/img-mer/arshin.gif" TargetMode="External"/><Relationship Id="rId11" Type="http://schemas.openxmlformats.org/officeDocument/2006/relationships/hyperlink" Target="http://vladpaper.ru/d/168020/d/31.png" TargetMode="External"/><Relationship Id="rId12" Type="http://schemas.openxmlformats.org/officeDocument/2006/relationships/hyperlink" Target="http://www.bikmark.ru/goods_big/%C3%CE%C4018.jpg" TargetMode="External"/><Relationship Id="rId13" Type="http://schemas.openxmlformats.org/officeDocument/2006/relationships/hyperlink" Target="http://img.zinzilin.com/items/29/lineyka-masshtabnaya-1.png" TargetMode="External"/><Relationship Id="rId14" Type="http://schemas.openxmlformats.org/officeDocument/2006/relationships/hyperlink" Target="http://www.specural.com/files/slovar/metr_2.gif" TargetMode="External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WordArt 5"/>
          <p:cNvGrpSpPr/>
          <p:nvPr/>
        </p:nvGrpSpPr>
        <p:grpSpPr>
          <a:xfrm>
            <a:off x="682560" y="2146320"/>
            <a:ext cx="7705800" cy="1627200"/>
            <a:chOff x="682560" y="2146320"/>
            <a:chExt cx="7705800" cy="1627200"/>
          </a:xfrm>
        </p:grpSpPr>
        <p:pic>
          <p:nvPicPr>
            <p:cNvPr id="49" name="WordArt 5" descr=""/>
            <p:cNvPicPr/>
            <p:nvPr/>
          </p:nvPicPr>
          <p:blipFill>
            <a:blip r:embed="rId1"/>
            <a:stretch/>
          </p:blipFill>
          <p:spPr>
            <a:xfrm>
              <a:off x="682560" y="2149200"/>
              <a:ext cx="7705800" cy="162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" name=""/>
            <p:cNvSpPr/>
            <p:nvPr/>
          </p:nvSpPr>
          <p:spPr>
            <a:xfrm>
              <a:off x="684360" y="2146320"/>
              <a:ext cx="7704000" cy="162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00"/>
                  </a:solidFill>
                  <a:latin typeface="Arial"/>
                  <a:ea typeface="Arial"/>
                </a:rPr>
                <a:t>Измерение отрезков</a:t>
              </a:r>
              <a:endParaRPr b="0" lang="en-US" sz="36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1" name="Rectangle 6"/>
          <p:cNvSpPr/>
          <p:nvPr/>
        </p:nvSpPr>
        <p:spPr>
          <a:xfrm>
            <a:off x="3363120" y="551880"/>
            <a:ext cx="3076200" cy="10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42492"/>
                </a:solidFill>
                <a:latin typeface="Tahoma"/>
              </a:rPr>
              <a:t>Геометрия - 7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Rectangle 2"/>
          <p:cNvSpPr/>
          <p:nvPr/>
        </p:nvSpPr>
        <p:spPr>
          <a:xfrm>
            <a:off x="4500720" y="5000760"/>
            <a:ext cx="4643280" cy="109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a8ad8"/>
                </a:solidFill>
                <a:latin typeface="Tahoma"/>
              </a:rPr>
              <a:t>Баталова О.В.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a8ad8"/>
                </a:solidFill>
                <a:latin typeface="Tahoma"/>
              </a:rPr>
              <a:t>учитель математик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a8ad8"/>
                </a:solidFill>
                <a:latin typeface="Tahoma"/>
              </a:rPr>
              <a:t>НРМОУ «Сингапайская СОШ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3" name="Picture 10" descr=""/>
          <p:cNvPicPr/>
          <p:nvPr/>
        </p:nvPicPr>
        <p:blipFill>
          <a:blip r:embed="rId2"/>
          <a:srcRect l="0" t="12211" r="0" b="0"/>
          <a:stretch/>
        </p:blipFill>
        <p:spPr>
          <a:xfrm>
            <a:off x="0" y="3784680"/>
            <a:ext cx="3500280" cy="3073320"/>
          </a:xfrm>
          <a:prstGeom prst="rect">
            <a:avLst/>
          </a:prstGeom>
          <a:ln w="0">
            <a:noFill/>
          </a:ln>
        </p:spPr>
      </p:pic>
      <p:sp>
        <p:nvSpPr>
          <p:cNvPr id="54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2920" y="214200"/>
            <a:ext cx="88581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0000"/>
                </a:solidFill>
                <a:latin typeface="Tahoma"/>
              </a:rPr>
              <a:t>3 аршина составляли САЖЕНЬ</a:t>
            </a:r>
            <a:endParaRPr b="0" lang="en-US" sz="3600" spc="-1" strike="noStrike">
              <a:solidFill>
                <a:srgbClr val="7b9cb5"/>
              </a:solidFill>
              <a:latin typeface="Tahoma"/>
            </a:endParaRPr>
          </a:p>
        </p:txBody>
      </p:sp>
      <p:pic>
        <p:nvPicPr>
          <p:cNvPr id="91" name="Picture 23" descr="1357"/>
          <p:cNvPicPr/>
          <p:nvPr/>
        </p:nvPicPr>
        <p:blipFill>
          <a:blip r:embed="rId1"/>
          <a:srcRect l="27607" t="0" r="0" b="0"/>
          <a:stretch/>
        </p:blipFill>
        <p:spPr>
          <a:xfrm>
            <a:off x="928800" y="1495440"/>
            <a:ext cx="7412040" cy="5362560"/>
          </a:xfrm>
          <a:prstGeom prst="rect">
            <a:avLst/>
          </a:prstGeom>
          <a:ln w="0">
            <a:noFill/>
          </a:ln>
        </p:spPr>
      </p:pic>
      <p:sp>
        <p:nvSpPr>
          <p:cNvPr id="92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1680" y="285480"/>
            <a:ext cx="8146800" cy="268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6349e7"/>
                </a:solidFill>
                <a:latin typeface="Tahoma"/>
              </a:rPr>
              <a:t>Длина локтя или шага у разных людей различная, а мера длины должна быть одинаковой.</a:t>
            </a:r>
            <a:endParaRPr b="0" lang="en-US" sz="40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2919960" y="2928240"/>
            <a:ext cx="285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оявился метр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5" name="Picture 7" descr=""/>
          <p:cNvPicPr/>
          <p:nvPr/>
        </p:nvPicPr>
        <p:blipFill>
          <a:blip r:embed="rId1"/>
          <a:stretch/>
        </p:blipFill>
        <p:spPr>
          <a:xfrm>
            <a:off x="2357280" y="3619440"/>
            <a:ext cx="4314960" cy="3238560"/>
          </a:xfrm>
          <a:prstGeom prst="rect">
            <a:avLst/>
          </a:prstGeom>
          <a:ln w="0">
            <a:noFill/>
          </a:ln>
        </p:spPr>
      </p:pic>
      <p:sp>
        <p:nvSpPr>
          <p:cNvPr id="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165200" y="907560"/>
            <a:ext cx="4907160" cy="525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80"/>
                </a:solidFill>
                <a:latin typeface="Tahoma"/>
              </a:rPr>
              <a:t>Образец меры – метр, принятий за эталон, сейчас хранится в одном из французских музеев.</a:t>
            </a:r>
            <a:br>
              <a:rPr sz="4400"/>
            </a:b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pic>
        <p:nvPicPr>
          <p:cNvPr id="98" name="Picture 8" descr=""/>
          <p:cNvPicPr/>
          <p:nvPr/>
        </p:nvPicPr>
        <p:blipFill>
          <a:blip r:embed="rId1"/>
          <a:stretch/>
        </p:blipFill>
        <p:spPr>
          <a:xfrm>
            <a:off x="0" y="3971880"/>
            <a:ext cx="4238640" cy="288612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9" descr=""/>
          <p:cNvPicPr/>
          <p:nvPr/>
        </p:nvPicPr>
        <p:blipFill>
          <a:blip r:embed="rId2"/>
          <a:stretch/>
        </p:blipFill>
        <p:spPr>
          <a:xfrm>
            <a:off x="-14400" y="1192320"/>
            <a:ext cx="4229280" cy="2665440"/>
          </a:xfrm>
          <a:prstGeom prst="rect">
            <a:avLst/>
          </a:prstGeom>
          <a:ln w="0">
            <a:noFill/>
          </a:ln>
        </p:spPr>
      </p:pic>
      <p:sp>
        <p:nvSpPr>
          <p:cNvPr id="1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492296"/>
                </a:solidFill>
                <a:latin typeface="Tahoma"/>
              </a:rPr>
              <a:t>Вернемся к вопросу, заданному в начале: «Что значит измерить?»</a:t>
            </a:r>
            <a:br>
              <a:rPr sz="4000"/>
            </a:br>
            <a:endParaRPr b="0" lang="en-US" sz="40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ahoma"/>
              </a:rPr>
              <a:t>Коротко можно ответить так:</a:t>
            </a:r>
            <a:r>
              <a:rPr b="0" i="1" lang="ru-RU" sz="4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4000" spc="-1" strike="noStrike">
                <a:solidFill>
                  <a:srgbClr val="ff0000"/>
                </a:solidFill>
                <a:latin typeface="Tahoma"/>
              </a:rPr>
              <a:t>«Измерить – значит сравнить с эталоном»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44c5e"/>
                </a:solidFill>
                <a:latin typeface="Tahoma"/>
              </a:rPr>
              <a:t>Инструменты</a:t>
            </a:r>
            <a:br>
              <a:rPr sz="4000"/>
            </a:br>
            <a:endParaRPr b="0" lang="en-US" sz="40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0" y="12682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- А чем мы обычно измеряем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 algn="ctr">
              <a:lnSpc>
                <a:spcPct val="80000"/>
              </a:lnSpc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К древнейшим геометрическим инструмен-там относятся </a:t>
            </a:r>
            <a:r>
              <a:rPr b="1" lang="ru-RU" sz="3200" spc="-1" strike="noStrike">
                <a:solidFill>
                  <a:srgbClr val="003399"/>
                </a:solidFill>
                <a:latin typeface="Tahoma"/>
              </a:rPr>
              <a:t>циркуль и линейка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. Сначала изобрели линейку, а циркуль был изобретен позже - в I веке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в Древней Греци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6" name="Picture 5" descr=""/>
          <p:cNvPicPr/>
          <p:nvPr/>
        </p:nvPicPr>
        <p:blipFill>
          <a:blip r:embed="rId1"/>
          <a:stretch/>
        </p:blipFill>
        <p:spPr>
          <a:xfrm>
            <a:off x="1000080" y="3857760"/>
            <a:ext cx="3214800" cy="30002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"/>
          <p:cNvPicPr/>
          <p:nvPr/>
        </p:nvPicPr>
        <p:blipFill>
          <a:blip r:embed="rId2"/>
          <a:stretch/>
        </p:blipFill>
        <p:spPr>
          <a:xfrm>
            <a:off x="5072040" y="3857760"/>
            <a:ext cx="3000240" cy="3000240"/>
          </a:xfrm>
          <a:prstGeom prst="rect">
            <a:avLst/>
          </a:prstGeom>
          <a:ln w="0">
            <a:noFill/>
          </a:ln>
        </p:spPr>
      </p:pic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44c5e"/>
                </a:solidFill>
                <a:latin typeface="Tahoma"/>
              </a:rPr>
              <a:t>Инструменты</a:t>
            </a:r>
            <a:br>
              <a:rPr sz="4000"/>
            </a:br>
            <a:endParaRPr b="0" lang="en-US" sz="40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56760" y="1268280"/>
            <a:ext cx="8001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В техническом черчении употребляют </a:t>
            </a:r>
            <a:r>
              <a:rPr b="1" lang="ru-RU" sz="3200" spc="-1" strike="noStrike">
                <a:solidFill>
                  <a:srgbClr val="003399"/>
                </a:solidFill>
                <a:latin typeface="Tahoma"/>
              </a:rPr>
              <a:t>масштабную миллиметровую линейку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Для измерения диаметра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трубки используют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Tahoma"/>
              </a:rPr>
              <a:t>штангенциркуль.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1"/>
          <a:srcRect l="0" t="37149" r="0" b="35000"/>
          <a:stretch/>
        </p:blipFill>
        <p:spPr>
          <a:xfrm>
            <a:off x="3286080" y="2357280"/>
            <a:ext cx="3333960" cy="9288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3" descr=""/>
          <p:cNvPicPr/>
          <p:nvPr/>
        </p:nvPicPr>
        <p:blipFill>
          <a:blip r:embed="rId2"/>
          <a:stretch/>
        </p:blipFill>
        <p:spPr>
          <a:xfrm>
            <a:off x="4643280" y="4524480"/>
            <a:ext cx="3500640" cy="233352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44c5e"/>
                </a:solidFill>
                <a:latin typeface="Tahoma"/>
              </a:rPr>
              <a:t>Инструменты</a:t>
            </a:r>
            <a:br>
              <a:rPr sz="4000"/>
            </a:br>
            <a:endParaRPr b="0" lang="en-US" sz="40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0" y="12682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Для измерения расстояний на местности пользуются </a:t>
            </a:r>
            <a:r>
              <a:rPr b="1" lang="ru-RU" sz="3200" spc="-1" strike="noStrike">
                <a:solidFill>
                  <a:srgbClr val="003399"/>
                </a:solidFill>
                <a:latin typeface="Tahoma"/>
              </a:rPr>
              <a:t>рулеткой.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 «Рулетка» - с французского (rouler – свертывать, катать)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6" name="Picture 4" descr=""/>
          <p:cNvPicPr/>
          <p:nvPr/>
        </p:nvPicPr>
        <p:blipFill>
          <a:blip r:embed="rId1"/>
          <a:stretch/>
        </p:blipFill>
        <p:spPr>
          <a:xfrm>
            <a:off x="2428920" y="2714760"/>
            <a:ext cx="4000320" cy="4000320"/>
          </a:xfrm>
          <a:prstGeom prst="rect">
            <a:avLst/>
          </a:prstGeom>
          <a:ln w="0">
            <a:noFill/>
          </a:ln>
        </p:spPr>
      </p:pic>
      <p:sp>
        <p:nvSpPr>
          <p:cNvPr id="1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80"/>
                </a:solidFill>
                <a:latin typeface="Tahoma"/>
              </a:rPr>
              <a:t>Свойства длины отрезка</a:t>
            </a:r>
            <a:r>
              <a:rPr b="0" lang="ru-RU" sz="4400" spc="-1" strike="noStrike">
                <a:solidFill>
                  <a:srgbClr val="80008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29600" cy="24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акие отрезки нельзя начертить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) 2,5 см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б) 5 см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) - 2 см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WordArt 4"/>
          <p:cNvSpPr txBox="1"/>
          <p:nvPr/>
        </p:nvSpPr>
        <p:spPr>
          <a:xfrm>
            <a:off x="611280" y="3860640"/>
            <a:ext cx="29527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ывод 1: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2653920" y="5083920"/>
            <a:ext cx="624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Длина отрезка выражается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положительным числом</a:t>
            </a:r>
            <a:r>
              <a:rPr b="1" lang="ru-RU" sz="32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8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80"/>
                </a:solidFill>
                <a:latin typeface="Tahoma"/>
              </a:rPr>
              <a:t>Свойства длины отрезка</a:t>
            </a:r>
            <a:r>
              <a:rPr b="0" lang="ru-RU" sz="4400" spc="-1" strike="noStrike">
                <a:solidFill>
                  <a:srgbClr val="80008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29600" cy="24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Что можно сказать о длине двух равных отрезков?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WordArt 4"/>
          <p:cNvSpPr txBox="1"/>
          <p:nvPr/>
        </p:nvSpPr>
        <p:spPr>
          <a:xfrm>
            <a:off x="611280" y="3860640"/>
            <a:ext cx="29527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ывод 2: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6" name="Rectangle 5"/>
          <p:cNvSpPr/>
          <p:nvPr/>
        </p:nvSpPr>
        <p:spPr>
          <a:xfrm>
            <a:off x="461880" y="5444280"/>
            <a:ext cx="833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Равные отрезки имеют равные длины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" dur="80"/>
                                        <p:tgtEl>
                                          <p:spTgt spid="12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80"/>
                </a:solidFill>
                <a:latin typeface="Tahoma"/>
              </a:rPr>
              <a:t>Свойства длины отрезка</a:t>
            </a:r>
            <a:r>
              <a:rPr b="0" lang="ru-RU" sz="4400" spc="-1" strike="noStrike">
                <a:solidFill>
                  <a:srgbClr val="800080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29600" cy="245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Если начертить отрезок АВ, поставить на нём точку С, то получатся отрезки АС и СВ. Что можно узнать, сложив длины отрезков АС и СВ?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0" name="WordArt 4"/>
          <p:cNvSpPr txBox="1"/>
          <p:nvPr/>
        </p:nvSpPr>
        <p:spPr>
          <a:xfrm>
            <a:off x="611280" y="3860640"/>
            <a:ext cx="29527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ывод 3: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31" name="Rectangle 5"/>
          <p:cNvSpPr/>
          <p:nvPr/>
        </p:nvSpPr>
        <p:spPr>
          <a:xfrm>
            <a:off x="1593360" y="4958280"/>
            <a:ext cx="59475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Длина всего отрезка равна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сумме длин отрезков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из которых он состоит</a:t>
            </a: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7"/>
          <p:cNvSpPr/>
          <p:nvPr/>
        </p:nvSpPr>
        <p:spPr>
          <a:xfrm>
            <a:off x="71280" y="4930920"/>
            <a:ext cx="421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ahoma"/>
              </a:rPr>
              <a:t>Марсилио Сичино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3965400" cy="4876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"/>
          <p:cNvPicPr/>
          <p:nvPr/>
        </p:nvPicPr>
        <p:blipFill>
          <a:blip r:embed="rId2"/>
          <a:stretch/>
        </p:blipFill>
        <p:spPr>
          <a:xfrm>
            <a:off x="6499080" y="4103640"/>
            <a:ext cx="2644920" cy="2754360"/>
          </a:xfrm>
          <a:prstGeom prst="rect">
            <a:avLst/>
          </a:prstGeom>
          <a:ln w="0">
            <a:noFill/>
          </a:ln>
        </p:spPr>
      </p:pic>
      <p:sp>
        <p:nvSpPr>
          <p:cNvPr id="58" name="Прямоугольник 4"/>
          <p:cNvSpPr/>
          <p:nvPr/>
        </p:nvSpPr>
        <p:spPr>
          <a:xfrm>
            <a:off x="4572000" y="460440"/>
            <a:ext cx="3979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3399"/>
                </a:solidFill>
                <a:latin typeface="Tahoma"/>
              </a:rPr>
              <a:t>Измерь самого себя –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3399"/>
                </a:solidFill>
                <a:latin typeface="Tahoma"/>
              </a:rPr>
              <a:t>и ты станешь настоящим геометром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80"/>
                </a:solidFill>
                <a:latin typeface="Tahoma"/>
              </a:rPr>
              <a:t>Решение задач</a:t>
            </a:r>
            <a:r>
              <a:rPr b="0" lang="ru-RU" sz="4400" spc="-1" strike="noStrike">
                <a:solidFill>
                  <a:srgbClr val="7b9cb5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484280"/>
            <a:ext cx="832968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0000"/>
                </a:solidFill>
                <a:latin typeface="Tahoma"/>
              </a:rPr>
              <a:t>1) (Устно) На отрезке АС поставлена точка В, АВ = 5,6 см, ВС=2,8 см. Найдите длину АС.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44c5e"/>
                </a:solidFill>
                <a:latin typeface="Tahoma"/>
              </a:rPr>
              <a:t>2) </a:t>
            </a:r>
            <a:r>
              <a:rPr b="0" lang="ru-RU" sz="4000" spc="-1" strike="noStrike">
                <a:solidFill>
                  <a:srgbClr val="800000"/>
                </a:solidFill>
                <a:latin typeface="Tahoma"/>
              </a:rPr>
              <a:t>(Письменно) </a:t>
            </a:r>
            <a:r>
              <a:rPr b="0" lang="ru-RU" sz="4000" spc="-1" strike="noStrike">
                <a:solidFill>
                  <a:srgbClr val="344c5e"/>
                </a:solidFill>
                <a:latin typeface="Tahoma"/>
              </a:rPr>
              <a:t>На отрезке АВ лежит точка С, АС = 6,1 см, АВ = 8,7 см. Найдите длину СВ.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95280" y="549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80"/>
                </a:solidFill>
                <a:latin typeface="Tahoma"/>
              </a:rPr>
              <a:t>Образец оформления</a:t>
            </a:r>
            <a:r>
              <a:rPr b="0" lang="ru-RU" sz="4400" spc="-1" strike="noStrike">
                <a:solidFill>
                  <a:srgbClr val="7b9cb5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844280"/>
            <a:ext cx="8229600" cy="35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ahoma"/>
              </a:rPr>
              <a:t>Задача 2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42492"/>
                </a:solidFill>
                <a:latin typeface="Tahoma"/>
              </a:rPr>
              <a:t>Дано: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отрезок АВ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  <a:ea typeface="Tahoma"/>
              </a:rPr>
              <a:t>Є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  <a:ea typeface="Tahoma"/>
              </a:rPr>
              <a:t> АВ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С = 6,1см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В = 8,7см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айти СВ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8" name="Line 4"/>
          <p:cNvSpPr/>
          <p:nvPr/>
        </p:nvSpPr>
        <p:spPr>
          <a:xfrm>
            <a:off x="2916360" y="2349360"/>
            <a:ext cx="0" cy="280836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9" name="Line 5"/>
          <p:cNvSpPr/>
          <p:nvPr/>
        </p:nvSpPr>
        <p:spPr>
          <a:xfrm>
            <a:off x="250920" y="4724280"/>
            <a:ext cx="2592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40" name="Group 16"/>
          <p:cNvGrpSpPr/>
          <p:nvPr/>
        </p:nvGrpSpPr>
        <p:grpSpPr>
          <a:xfrm>
            <a:off x="3276720" y="1628640"/>
            <a:ext cx="5305320" cy="1931040"/>
            <a:chOff x="3276720" y="1628640"/>
            <a:chExt cx="5305320" cy="1931040"/>
          </a:xfrm>
        </p:grpSpPr>
        <p:grpSp>
          <p:nvGrpSpPr>
            <p:cNvPr id="141" name="Group 7"/>
            <p:cNvGrpSpPr/>
            <p:nvPr/>
          </p:nvGrpSpPr>
          <p:grpSpPr>
            <a:xfrm>
              <a:off x="3515040" y="2149920"/>
              <a:ext cx="4586040" cy="1409760"/>
              <a:chOff x="3515040" y="2149920"/>
              <a:chExt cx="4586040" cy="1409760"/>
            </a:xfrm>
          </p:grpSpPr>
          <p:sp>
            <p:nvSpPr>
              <p:cNvPr id="142" name="Oval 8"/>
              <p:cNvSpPr/>
              <p:nvPr/>
            </p:nvSpPr>
            <p:spPr>
              <a:xfrm flipV="1" rot="19734600">
                <a:off x="3558240" y="3363120"/>
                <a:ext cx="75600" cy="190440"/>
              </a:xfrm>
              <a:prstGeom prst="ellipse">
                <a:avLst/>
              </a:prstGeom>
              <a:solidFill>
                <a:srgbClr val="ff6600"/>
              </a:solidFill>
              <a:ln w="5724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grpSp>
            <p:nvGrpSpPr>
              <p:cNvPr id="143" name="Group 9"/>
              <p:cNvGrpSpPr/>
              <p:nvPr/>
            </p:nvGrpSpPr>
            <p:grpSpPr>
              <a:xfrm>
                <a:off x="3563640" y="2149920"/>
                <a:ext cx="4537440" cy="1328400"/>
                <a:chOff x="3563640" y="2149920"/>
                <a:chExt cx="4537440" cy="1328400"/>
              </a:xfrm>
            </p:grpSpPr>
            <p:sp>
              <p:nvSpPr>
                <p:cNvPr id="144" name="Line 10"/>
                <p:cNvSpPr/>
                <p:nvPr/>
              </p:nvSpPr>
              <p:spPr>
                <a:xfrm flipV="1">
                  <a:off x="3563640" y="2231640"/>
                  <a:ext cx="4488120" cy="1246680"/>
                </a:xfrm>
                <a:prstGeom prst="line">
                  <a:avLst/>
                </a:prstGeom>
                <a:ln w="572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  <p:sp>
              <p:nvSpPr>
                <p:cNvPr id="145" name="Oval 11"/>
                <p:cNvSpPr/>
                <p:nvPr/>
              </p:nvSpPr>
              <p:spPr>
                <a:xfrm flipV="1" rot="19734600">
                  <a:off x="7981560" y="2155680"/>
                  <a:ext cx="75600" cy="190440"/>
                </a:xfrm>
                <a:prstGeom prst="ellipse">
                  <a:avLst/>
                </a:prstGeom>
                <a:solidFill>
                  <a:srgbClr val="ff6600"/>
                </a:solidFill>
                <a:ln w="57240">
                  <a:solidFill>
                    <a:srgbClr val="0000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ahoma"/>
                  </a:endParaRPr>
                </a:p>
              </p:txBody>
            </p:sp>
          </p:grpSp>
        </p:grpSp>
        <p:sp>
          <p:nvSpPr>
            <p:cNvPr id="146" name="Oval 12"/>
            <p:cNvSpPr/>
            <p:nvPr/>
          </p:nvSpPr>
          <p:spPr>
            <a:xfrm flipH="1">
              <a:off x="6227640" y="2637000"/>
              <a:ext cx="85680" cy="142560"/>
            </a:xfrm>
            <a:prstGeom prst="ellipse">
              <a:avLst/>
            </a:prstGeom>
            <a:solidFill>
              <a:srgbClr val="00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147" name="WordArt 13"/>
            <p:cNvSpPr txBox="1"/>
            <p:nvPr/>
          </p:nvSpPr>
          <p:spPr>
            <a:xfrm>
              <a:off x="6084720" y="1989000"/>
              <a:ext cx="338400" cy="571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С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148" name="WordArt 14"/>
            <p:cNvSpPr txBox="1"/>
            <p:nvPr/>
          </p:nvSpPr>
          <p:spPr>
            <a:xfrm>
              <a:off x="3276720" y="2637000"/>
              <a:ext cx="338040" cy="5713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А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  <p:sp>
          <p:nvSpPr>
            <p:cNvPr id="149" name="WordArt 15"/>
            <p:cNvSpPr txBox="1"/>
            <p:nvPr/>
          </p:nvSpPr>
          <p:spPr>
            <a:xfrm>
              <a:off x="8244000" y="1628640"/>
              <a:ext cx="338040" cy="571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19080">
                    <a:solidFill>
                      <a:srgbClr val="99ccff"/>
                    </a:solidFill>
                    <a:miter/>
                  </a:ln>
                  <a:solidFill>
                    <a:srgbClr val="0066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Impact"/>
                </a:rPr>
                <a:t>В</a:t>
              </a:r>
              <a:endPara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  <a:ea typeface="Impact"/>
              </a:endParaRPr>
            </a:p>
          </p:txBody>
        </p:sp>
      </p:grpSp>
      <p:sp>
        <p:nvSpPr>
          <p:cNvPr id="150" name="Rectangle 17"/>
          <p:cNvSpPr/>
          <p:nvPr/>
        </p:nvSpPr>
        <p:spPr>
          <a:xfrm>
            <a:off x="209520" y="189000"/>
            <a:ext cx="8672400" cy="7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а отрезке АВ лежит точка С, АС = 6,1 см, АВ = 8,7 см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айдите длину СВ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Text Box 19"/>
          <p:cNvSpPr/>
          <p:nvPr/>
        </p:nvSpPr>
        <p:spPr>
          <a:xfrm>
            <a:off x="4645080" y="263700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6,1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2" name="Freeform 20"/>
          <p:cNvSpPr/>
          <p:nvPr/>
        </p:nvSpPr>
        <p:spPr>
          <a:xfrm>
            <a:off x="3564000" y="2276640"/>
            <a:ext cx="4464000" cy="1309680"/>
          </a:xfrm>
          <a:custGeom>
            <a:avLst/>
            <a:gdLst>
              <a:gd name="textAreaLeft" fmla="*/ 0 w 4464000"/>
              <a:gd name="textAreaRight" fmla="*/ 4464360 w 4464000"/>
              <a:gd name="textAreaTop" fmla="*/ 0 h 1309680"/>
              <a:gd name="textAreaBottom" fmla="*/ 1310040 h 1309680"/>
            </a:gdLst>
            <a:ahLst/>
            <a:rect l="textAreaLeft" t="textAreaTop" r="textAreaRight" b="textAreaBottom"/>
            <a:pathLst>
              <a:path w="2812" h="825">
                <a:moveTo>
                  <a:pt x="0" y="771"/>
                </a:moveTo>
                <a:cubicBezTo>
                  <a:pt x="113" y="790"/>
                  <a:pt x="226" y="809"/>
                  <a:pt x="317" y="817"/>
                </a:cubicBezTo>
                <a:cubicBezTo>
                  <a:pt x="408" y="825"/>
                  <a:pt x="431" y="825"/>
                  <a:pt x="544" y="817"/>
                </a:cubicBezTo>
                <a:cubicBezTo>
                  <a:pt x="657" y="809"/>
                  <a:pt x="862" y="794"/>
                  <a:pt x="998" y="771"/>
                </a:cubicBezTo>
                <a:cubicBezTo>
                  <a:pt x="1134" y="748"/>
                  <a:pt x="1248" y="711"/>
                  <a:pt x="1361" y="681"/>
                </a:cubicBezTo>
                <a:cubicBezTo>
                  <a:pt x="1474" y="651"/>
                  <a:pt x="1557" y="628"/>
                  <a:pt x="1678" y="590"/>
                </a:cubicBezTo>
                <a:cubicBezTo>
                  <a:pt x="1799" y="552"/>
                  <a:pt x="1966" y="499"/>
                  <a:pt x="2087" y="454"/>
                </a:cubicBezTo>
                <a:cubicBezTo>
                  <a:pt x="2208" y="409"/>
                  <a:pt x="2306" y="371"/>
                  <a:pt x="2404" y="318"/>
                </a:cubicBezTo>
                <a:cubicBezTo>
                  <a:pt x="2502" y="265"/>
                  <a:pt x="2608" y="189"/>
                  <a:pt x="2676" y="136"/>
                </a:cubicBezTo>
                <a:cubicBezTo>
                  <a:pt x="2744" y="83"/>
                  <a:pt x="2778" y="41"/>
                  <a:pt x="281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Text Box 21"/>
          <p:cNvSpPr/>
          <p:nvPr/>
        </p:nvSpPr>
        <p:spPr>
          <a:xfrm>
            <a:off x="5960160" y="3357720"/>
            <a:ext cx="50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8,7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4" name="Text Box 22"/>
          <p:cNvSpPr/>
          <p:nvPr/>
        </p:nvSpPr>
        <p:spPr>
          <a:xfrm>
            <a:off x="3203640" y="4005360"/>
            <a:ext cx="165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42492"/>
                </a:solidFill>
                <a:latin typeface="Tahoma"/>
              </a:rPr>
              <a:t>Решение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Text Box 23"/>
          <p:cNvSpPr/>
          <p:nvPr/>
        </p:nvSpPr>
        <p:spPr>
          <a:xfrm>
            <a:off x="7020000" y="19890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Text Box 24"/>
          <p:cNvSpPr/>
          <p:nvPr/>
        </p:nvSpPr>
        <p:spPr>
          <a:xfrm>
            <a:off x="3132000" y="4724280"/>
            <a:ext cx="309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В = АВ - А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7" name="Text Box 25"/>
          <p:cNvSpPr/>
          <p:nvPr/>
        </p:nvSpPr>
        <p:spPr>
          <a:xfrm>
            <a:off x="3132000" y="5132520"/>
            <a:ext cx="40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В = 8,7 – 6,1 = 2,6 (см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8" name="Text Box 26"/>
          <p:cNvSpPr/>
          <p:nvPr/>
        </p:nvSpPr>
        <p:spPr>
          <a:xfrm>
            <a:off x="3203640" y="5708520"/>
            <a:ext cx="50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42492"/>
                </a:solidFill>
                <a:latin typeface="Tahoma"/>
              </a:rPr>
              <a:t>Ответ: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В = 2,6 с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Місце для нижнього колонтитула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" dur="8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" dur="8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10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0" dur="10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10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5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1000"/>
                                        <p:tgtEl>
                                          <p:spTgt spid="1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1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0" nodeType="afterEffect" fill="hold" presetClass="entr" presetID="53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4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9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242492"/>
                </a:solidFill>
                <a:latin typeface="Tahoma"/>
              </a:rPr>
              <a:t>Решить самостоятельно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79280" y="1341360"/>
            <a:ext cx="878544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00"/>
                </a:solidFill>
                <a:latin typeface="Tahoma"/>
              </a:rPr>
              <a:t>1) Точка М лежит на прямой ЕF между Е и F. Чему равна длина отрезка МF, если EF = 7,2 cм, EM = 2,2 cм?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800080"/>
                </a:solidFill>
                <a:latin typeface="Tahoma"/>
              </a:rPr>
              <a:t>2) На отрезке LS лежат точки K и R так, что К лежит между L и R, LK = 3,5 см, LS = 9 см и LK = KR. Найти RS. 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2"/>
          <p:cNvSpPr/>
          <p:nvPr/>
        </p:nvSpPr>
        <p:spPr>
          <a:xfrm>
            <a:off x="324000" y="223200"/>
            <a:ext cx="85690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42492"/>
                </a:solidFill>
                <a:latin typeface="Tahoma"/>
              </a:rPr>
              <a:t>Вернёмся к цели урока: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800080"/>
                </a:solidFill>
                <a:latin typeface="Tahoma"/>
              </a:rPr>
              <a:t>познакомиться с процедурой измерения отрезков, рассмотреть свойства длин отрезка, познакомиться с различными единицами измерения длины и инструментами для измерения отрезков, узнать, как можно измерять без инструментов.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80"/>
                </a:solidFill>
                <a:latin typeface="Tahoma"/>
              </a:rPr>
              <a:t>Дополни предложения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Английский король Генрих I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 ввел в качестве единиц длины ЯРД – расстояние от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7" name="Text Box 4"/>
          <p:cNvSpPr/>
          <p:nvPr/>
        </p:nvSpPr>
        <p:spPr>
          <a:xfrm>
            <a:off x="826920" y="2492280"/>
            <a:ext cx="73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кончика своего носа до большого пальца вытянутой руки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8" name="Rectangle 5"/>
          <p:cNvSpPr/>
          <p:nvPr/>
        </p:nvSpPr>
        <p:spPr>
          <a:xfrm>
            <a:off x="611280" y="2852640"/>
            <a:ext cx="82296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42492"/>
                </a:solidFill>
                <a:latin typeface="Tahoma"/>
              </a:rPr>
              <a:t>ФУТ, что по-английски означает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9" name="Text Box 6"/>
          <p:cNvSpPr/>
          <p:nvPr/>
        </p:nvSpPr>
        <p:spPr>
          <a:xfrm>
            <a:off x="6156360" y="2997360"/>
            <a:ext cx="2519280" cy="34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42492"/>
                </a:solidFill>
                <a:latin typeface="Tahoma"/>
              </a:rPr>
              <a:t>«ступня»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0" name="Rectangle 7"/>
          <p:cNvSpPr/>
          <p:nvPr/>
        </p:nvSpPr>
        <p:spPr>
          <a:xfrm>
            <a:off x="611280" y="3500280"/>
            <a:ext cx="662472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80"/>
                </a:solidFill>
                <a:latin typeface="Tahoma"/>
              </a:rPr>
              <a:t>ЛОКОТЬ приближённо равен …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Text Box 8"/>
          <p:cNvSpPr/>
          <p:nvPr/>
        </p:nvSpPr>
        <p:spPr>
          <a:xfrm>
            <a:off x="7236000" y="3500280"/>
            <a:ext cx="14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42492"/>
                </a:solidFill>
                <a:latin typeface="Tahoma"/>
              </a:rPr>
              <a:t>71 с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2" name="Rectangle 9"/>
          <p:cNvSpPr/>
          <p:nvPr/>
        </p:nvSpPr>
        <p:spPr>
          <a:xfrm>
            <a:off x="56520" y="4075200"/>
            <a:ext cx="64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8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800000"/>
                </a:solidFill>
                <a:latin typeface="Tahoma"/>
              </a:rPr>
              <a:t>МАХОВАЯ САЖЕНЬ – расстояние между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Text Box 10"/>
          <p:cNvSpPr/>
          <p:nvPr/>
        </p:nvSpPr>
        <p:spPr>
          <a:xfrm>
            <a:off x="3132000" y="4430880"/>
            <a:ext cx="590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ahoma"/>
              </a:rPr>
              <a:t>вытянутыми в стороны рукам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4" name="Text Box 11"/>
          <p:cNvSpPr/>
          <p:nvPr/>
        </p:nvSpPr>
        <p:spPr>
          <a:xfrm>
            <a:off x="179280" y="4869000"/>
            <a:ext cx="44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8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Tahoma"/>
              </a:rPr>
              <a:t>Эталон метра хранится в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Text Box 12"/>
          <p:cNvSpPr/>
          <p:nvPr/>
        </p:nvSpPr>
        <p:spPr>
          <a:xfrm>
            <a:off x="4284720" y="4869000"/>
            <a:ext cx="47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Tahoma"/>
              </a:rPr>
              <a:t>одном из французских музее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Text Box 13"/>
          <p:cNvSpPr/>
          <p:nvPr/>
        </p:nvSpPr>
        <p:spPr>
          <a:xfrm>
            <a:off x="611280" y="5589720"/>
            <a:ext cx="554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ahoma"/>
              </a:rPr>
              <a:t>Измерить – значит сравнить с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7" name="Text Box 14"/>
          <p:cNvSpPr/>
          <p:nvPr/>
        </p:nvSpPr>
        <p:spPr>
          <a:xfrm>
            <a:off x="6084720" y="5589720"/>
            <a:ext cx="25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ahoma"/>
              </a:rPr>
              <a:t>эталоно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1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2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3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8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9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" dur="80"/>
                                        <p:tgtEl>
                                          <p:spTgt spid="1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6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2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3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9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0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1" dur="8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6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7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8" dur="8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80"/>
                </a:solidFill>
                <a:latin typeface="Tahoma"/>
              </a:rPr>
              <a:t>Дополни предложения</a:t>
            </a: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700280"/>
            <a:ext cx="8229600" cy="151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Tahoma"/>
              </a:rPr>
              <a:t>Длина отрезка выражается  ….… числом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Text Box 4"/>
          <p:cNvSpPr/>
          <p:nvPr/>
        </p:nvSpPr>
        <p:spPr>
          <a:xfrm>
            <a:off x="5796000" y="2205000"/>
            <a:ext cx="288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ahoma"/>
              </a:rPr>
              <a:t>положительны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324000" y="2852640"/>
            <a:ext cx="626580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3399"/>
                </a:solidFill>
                <a:latin typeface="Tahoma"/>
              </a:rPr>
              <a:t>Равные отрезки имеют </a:t>
            </a:r>
            <a:r>
              <a:rPr b="1" lang="ru-RU" sz="3200" spc="-1" strike="noStrike">
                <a:solidFill>
                  <a:srgbClr val="003399"/>
                </a:solidFill>
                <a:latin typeface="Tahoma"/>
              </a:rPr>
              <a:t>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3" name="Text Box 6"/>
          <p:cNvSpPr/>
          <p:nvPr/>
        </p:nvSpPr>
        <p:spPr>
          <a:xfrm>
            <a:off x="6229440" y="2924280"/>
            <a:ext cx="26636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99"/>
                </a:solidFill>
                <a:latin typeface="Tahoma"/>
              </a:rPr>
              <a:t>равные длин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4" name="Rectangle 7"/>
          <p:cNvSpPr/>
          <p:nvPr/>
        </p:nvSpPr>
        <p:spPr>
          <a:xfrm>
            <a:off x="611280" y="3500280"/>
            <a:ext cx="662472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800080"/>
                </a:solidFill>
                <a:latin typeface="Tahoma"/>
              </a:rPr>
              <a:t>Длина всего отрезка равна сумме длин отрезков, из </a:t>
            </a:r>
            <a:r>
              <a:rPr b="0" lang="ru-RU" sz="3200" spc="-1" strike="noStrike">
                <a:solidFill>
                  <a:srgbClr val="800080"/>
                </a:solidFill>
                <a:latin typeface="Tahoma"/>
              </a:rPr>
              <a:t>…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5" name="Text Box 8"/>
          <p:cNvSpPr/>
          <p:nvPr/>
        </p:nvSpPr>
        <p:spPr>
          <a:xfrm>
            <a:off x="4932360" y="4508640"/>
            <a:ext cx="388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80"/>
                </a:solidFill>
                <a:latin typeface="Tahoma"/>
              </a:rPr>
              <a:t>которых он состои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6" name="Text Box 11"/>
          <p:cNvSpPr/>
          <p:nvPr/>
        </p:nvSpPr>
        <p:spPr>
          <a:xfrm>
            <a:off x="179280" y="4869000"/>
            <a:ext cx="44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8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Tahoma"/>
              </a:rPr>
              <a:t>Эталон метра хранится в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7" name="Text Box 12"/>
          <p:cNvSpPr/>
          <p:nvPr/>
        </p:nvSpPr>
        <p:spPr>
          <a:xfrm>
            <a:off x="4284720" y="4869000"/>
            <a:ext cx="475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800080"/>
                </a:solidFill>
                <a:latin typeface="Tahoma"/>
              </a:rPr>
              <a:t>одном из французских музеев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8" name="Text Box 13"/>
          <p:cNvSpPr/>
          <p:nvPr/>
        </p:nvSpPr>
        <p:spPr>
          <a:xfrm>
            <a:off x="611280" y="5589720"/>
            <a:ext cx="554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ahoma"/>
              </a:rPr>
              <a:t>Измерить – значит сравнить с …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9" name="Text Box 14"/>
          <p:cNvSpPr/>
          <p:nvPr/>
        </p:nvSpPr>
        <p:spPr>
          <a:xfrm>
            <a:off x="6084720" y="5589720"/>
            <a:ext cx="25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Tahoma"/>
              </a:rPr>
              <a:t>эталоном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5" dur="8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6" dur="8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7" dur="80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2" dur="8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3" dur="8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4" dur="8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9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0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1" dur="80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6" dur="8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7" dur="8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8" dur="80"/>
                                        <p:tgtEl>
                                          <p:spTgt spid="1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3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4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5" dur="8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/>
          </p:nvPr>
        </p:nvSpPr>
        <p:spPr>
          <a:xfrm>
            <a:off x="539640" y="189000"/>
            <a:ext cx="8229600" cy="108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ahoma"/>
              </a:rPr>
              <a:t>К древнейшим геометрическим инструментам относятся…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3708360" y="1268280"/>
            <a:ext cx="47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Tahoma"/>
              </a:rPr>
              <a:t>циркуль и линейк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3" name="Text Box 5"/>
          <p:cNvSpPr/>
          <p:nvPr/>
        </p:nvSpPr>
        <p:spPr>
          <a:xfrm>
            <a:off x="4140360" y="2467080"/>
            <a:ext cx="424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Tahoma"/>
              </a:rPr>
              <a:t>миллиметровую линейку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4" name="Text Box 6"/>
          <p:cNvSpPr/>
          <p:nvPr/>
        </p:nvSpPr>
        <p:spPr>
          <a:xfrm>
            <a:off x="4140360" y="3860640"/>
            <a:ext cx="30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Tahoma"/>
              </a:rPr>
              <a:t>штангенциркул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5" name="Text Box 7"/>
          <p:cNvSpPr/>
          <p:nvPr/>
        </p:nvSpPr>
        <p:spPr>
          <a:xfrm>
            <a:off x="6084720" y="5300640"/>
            <a:ext cx="259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Tahoma"/>
              </a:rPr>
              <a:t>рулетко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6" name="Rectangle 8"/>
          <p:cNvSpPr/>
          <p:nvPr/>
        </p:nvSpPr>
        <p:spPr>
          <a:xfrm>
            <a:off x="468360" y="1989000"/>
            <a:ext cx="864072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ahoma"/>
              </a:rPr>
              <a:t>В техническом черчении употребляют </a:t>
            </a:r>
            <a:r>
              <a:rPr b="1" lang="ru-RU" sz="3600" spc="-1" strike="noStrike">
                <a:solidFill>
                  <a:srgbClr val="003399"/>
                </a:solidFill>
                <a:latin typeface="Tahoma"/>
              </a:rPr>
              <a:t>масштабную</a:t>
            </a:r>
            <a:r>
              <a:rPr b="0" i="1" lang="ru-RU" sz="36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7" name="Rectangle 9"/>
          <p:cNvSpPr/>
          <p:nvPr/>
        </p:nvSpPr>
        <p:spPr>
          <a:xfrm>
            <a:off x="395280" y="3355920"/>
            <a:ext cx="822960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ahoma"/>
              </a:rPr>
              <a:t>Для измерения диаметра трубки используют…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8" name="Rectangle 10"/>
          <p:cNvSpPr/>
          <p:nvPr/>
        </p:nvSpPr>
        <p:spPr>
          <a:xfrm>
            <a:off x="468360" y="4869000"/>
            <a:ext cx="82296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ahoma"/>
              </a:rPr>
              <a:t>Для измерения расстояний на местности пользуются…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2" dur="8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3" dur="8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4" dur="8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9" dur="8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0" dur="8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1" dur="8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6" dur="8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7" dur="8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8" dur="80"/>
                                        <p:tgtEl>
                                          <p:spTgt spid="1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3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4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5" dur="80"/>
                                        <p:tgtEl>
                                          <p:spTgt spid="1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ahoma"/>
              </a:rPr>
              <a:t>П. 7,8 (с.13-16) – читать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ahoma"/>
              </a:rPr>
              <a:t>№ </a:t>
            </a:r>
            <a:r>
              <a:rPr b="1" lang="ru-RU" sz="4000" spc="-1" strike="noStrike">
                <a:solidFill>
                  <a:srgbClr val="000000"/>
                </a:solidFill>
                <a:latin typeface="Tahoma"/>
              </a:rPr>
              <a:t>25, 33, 40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1" name="WordArt 4"/>
          <p:cNvSpPr txBox="1"/>
          <p:nvPr/>
        </p:nvSpPr>
        <p:spPr>
          <a:xfrm>
            <a:off x="1258920" y="692280"/>
            <a:ext cx="61927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66"/>
                  </a:solidFill>
                  <a:miter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Домашнее задание:</a:t>
            </a:r>
            <a:endParaRPr b="1" lang="en-US" sz="1800" spc="1" strike="noStrike">
              <a:ln w="9360">
                <a:solidFill>
                  <a:srgbClr val="000066"/>
                </a:solidFill>
                <a:miter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2" name="WordArt 5"/>
          <p:cNvSpPr txBox="1"/>
          <p:nvPr/>
        </p:nvSpPr>
        <p:spPr>
          <a:xfrm>
            <a:off x="2124000" y="3933720"/>
            <a:ext cx="46814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Желаю удачи!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229600" cy="13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b9cb5"/>
                </a:solidFill>
                <a:latin typeface="Tahoma"/>
              </a:rPr>
              <a:t>Список использованной литературы</a:t>
            </a:r>
            <a:br>
              <a:rPr sz="4400"/>
            </a:b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500040" y="1571760"/>
            <a:ext cx="8229600" cy="430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400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Геометрия, 7 – 9: Учеб. для общеобразоват. учреждений/ Л.С. Атанасян, В.Ф. Бутузов, С.Б. Кадомцев и др. – М.: Просвещение, 200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00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8a8ad8"/>
                </a:solidFill>
                <a:uFillTx/>
                <a:latin typeface="Tahoma"/>
                <a:hlinkClick r:id="rId1"/>
              </a:rPr>
              <a:t>http://ru.wikipedia.org/wiki/%DF%F0%E4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00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8a8ad8"/>
                </a:solidFill>
                <a:uFillTx/>
                <a:latin typeface="Tahoma"/>
                <a:hlinkClick r:id="rId2"/>
              </a:rPr>
              <a:t>http://oldru.narod.ru/history106.htm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00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8a8ad8"/>
                </a:solidFill>
                <a:uFillTx/>
                <a:latin typeface="Tahoma"/>
                <a:hlinkClick r:id="rId3"/>
              </a:rPr>
              <a:t>http://festival.1september.ru/articles/312112/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00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8a8ad8"/>
                </a:solidFill>
                <a:uFillTx/>
                <a:latin typeface="Tahoma"/>
                <a:hlinkClick r:id="rId4"/>
              </a:rPr>
              <a:t>http://www.i-u.ru/biblio/archive/depman_mir/00.aspx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Tahoma"/>
              </a:rPr>
              <a:t>Картинки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34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8a8ad8"/>
                </a:solidFill>
                <a:uFillTx/>
                <a:latin typeface="Tahoma"/>
                <a:hlinkClick r:id="rId5"/>
              </a:rPr>
              <a:t>http://innok-nikol.narod.ru/images/clip_image017.pn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34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8a8ad8"/>
                </a:solidFill>
                <a:uFillTx/>
                <a:latin typeface="Tahoma"/>
                <a:hlinkClick r:id="rId6"/>
              </a:rPr>
              <a:t>http://milanmark.files.wordpress.com/2009/11/0905p68-measuring-tape-l.jpg?w=280&amp;h=280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34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8a8ad8"/>
                </a:solidFill>
                <a:uFillTx/>
                <a:latin typeface="Tahoma"/>
                <a:hlinkClick r:id="rId7"/>
              </a:rPr>
              <a:t>http://activerain.com/image_store/uploads/1/6/4/6/6/ar12264966366461.pn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34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8a8ad8"/>
                </a:solidFill>
                <a:uFillTx/>
                <a:latin typeface="Tahoma"/>
                <a:hlinkClick r:id="rId8"/>
              </a:rPr>
              <a:t>http://school.xvatit.com/images/0/03/22102010.jp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34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8a8ad8"/>
                </a:solidFill>
                <a:uFillTx/>
                <a:latin typeface="Tahoma"/>
                <a:hlinkClick r:id="rId9"/>
              </a:rPr>
              <a:t>http://screenshots.etvnet.com/000/363/443/b09.jp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34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8a8ad8"/>
                </a:solidFill>
                <a:uFillTx/>
                <a:latin typeface="Tahoma"/>
                <a:hlinkClick r:id="rId10"/>
              </a:rPr>
              <a:t>http://mer.kakras.ru/img-mer/arshin.gif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34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8a8ad8"/>
                </a:solidFill>
                <a:uFillTx/>
                <a:latin typeface="Tahoma"/>
                <a:hlinkClick r:id="rId11"/>
              </a:rPr>
              <a:t>http://vladpaper.ru/d/168020/d/31.pn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34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8a8ad8"/>
                </a:solidFill>
                <a:uFillTx/>
                <a:latin typeface="Tahoma"/>
                <a:hlinkClick r:id="rId12"/>
              </a:rPr>
              <a:t>http://www.bikmark.ru/goods_big/%C3%CE%C4018.jp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34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8a8ad8"/>
                </a:solidFill>
                <a:uFillTx/>
                <a:latin typeface="Tahoma"/>
                <a:hlinkClick r:id="rId13"/>
              </a:rPr>
              <a:t>http://img.zinzilin.com/items/29/lineyka-masshtabnaya-1.pn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34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8a8ad8"/>
                </a:solidFill>
                <a:uFillTx/>
                <a:latin typeface="Tahoma"/>
                <a:hlinkClick r:id="rId14"/>
              </a:rPr>
              <a:t>http://www.specural.com/files/slovar/metr_2.gif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34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00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00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00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00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400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99"/>
              </a:spcBef>
              <a:buClr>
                <a:srgbClr val="8a8ad8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324000" y="2338920"/>
            <a:ext cx="8569080" cy="45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242492"/>
                </a:solidFill>
                <a:latin typeface="Tahoma"/>
              </a:rPr>
              <a:t>Цель: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80"/>
                </a:solidFill>
                <a:latin typeface="Tahoma"/>
              </a:rPr>
              <a:t>познакомиться с процедурой измерения отрезков, рассмотреть свойства длин отрезка, познакомиться с различными единицами измерения длины и инструментами для измерения отрезков, узнать, как можно измерять без инструментов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" name="Picture 3" descr=""/>
          <p:cNvPicPr/>
          <p:nvPr/>
        </p:nvPicPr>
        <p:blipFill>
          <a:blip r:embed="rId1"/>
          <a:stretch/>
        </p:blipFill>
        <p:spPr>
          <a:xfrm>
            <a:off x="6000840" y="0"/>
            <a:ext cx="3143160" cy="2857680"/>
          </a:xfrm>
          <a:prstGeom prst="rect">
            <a:avLst/>
          </a:prstGeom>
          <a:ln w="0">
            <a:noFill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2"/>
          <p:cNvSpPr/>
          <p:nvPr/>
        </p:nvSpPr>
        <p:spPr>
          <a:xfrm>
            <a:off x="61200" y="1642320"/>
            <a:ext cx="906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«Что значит измерить какую-то величину?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WordArt 3"/>
          <p:cNvSpPr txBox="1"/>
          <p:nvPr/>
        </p:nvSpPr>
        <p:spPr>
          <a:xfrm>
            <a:off x="684360" y="404640"/>
            <a:ext cx="316692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Вопрос: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65" name="Rectangle 4"/>
          <p:cNvSpPr/>
          <p:nvPr/>
        </p:nvSpPr>
        <p:spPr>
          <a:xfrm>
            <a:off x="500040" y="3295800"/>
            <a:ext cx="3214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Tahoma"/>
              </a:rPr>
              <a:t>Герои одного мультфильма измеряли длину удава в попугаях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6" name="Picture 7" descr=""/>
          <p:cNvPicPr/>
          <p:nvPr/>
        </p:nvPicPr>
        <p:blipFill>
          <a:blip r:embed="rId1"/>
          <a:srcRect l="3123" t="3123" r="3123" b="1824"/>
          <a:stretch/>
        </p:blipFill>
        <p:spPr>
          <a:xfrm>
            <a:off x="3652920" y="2403360"/>
            <a:ext cx="5491080" cy="4454640"/>
          </a:xfrm>
          <a:prstGeom prst="rect">
            <a:avLst/>
          </a:prstGeom>
          <a:ln w="0">
            <a:noFill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74,-7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-40,-118,-118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WordArt 3"/>
          <p:cNvSpPr txBox="1"/>
          <p:nvPr/>
        </p:nvSpPr>
        <p:spPr>
          <a:xfrm>
            <a:off x="1187280" y="189000"/>
            <a:ext cx="727236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ab6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Единицы измерения длины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bab6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ab6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 разное время 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bab6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bab6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и в разных странах</a:t>
            </a:r>
            <a:endParaRPr b="0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bab6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69" name="Rectangle 5"/>
          <p:cNvSpPr/>
          <p:nvPr/>
        </p:nvSpPr>
        <p:spPr>
          <a:xfrm>
            <a:off x="3924360" y="2128680"/>
            <a:ext cx="504036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1" i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нглийский король Генрих I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ввел в качестве единиц длины ЯРД – расстояние от кончика своего носа до большого пальца вытянутой рук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70" name="Picture 6" descr=""/>
          <p:cNvPicPr/>
          <p:nvPr/>
        </p:nvPicPr>
        <p:blipFill>
          <a:blip r:embed="rId1"/>
          <a:stretch/>
        </p:blipFill>
        <p:spPr>
          <a:xfrm>
            <a:off x="285840" y="2108160"/>
            <a:ext cx="3500280" cy="4535640"/>
          </a:xfrm>
          <a:prstGeom prst="rect">
            <a:avLst/>
          </a:prstGeom>
          <a:ln w="0">
            <a:noFill/>
          </a:ln>
        </p:spPr>
      </p:pic>
      <p:sp>
        <p:nvSpPr>
          <p:cNvPr id="7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img2.jpg (20792 bytes)"/>
          <p:cNvPicPr/>
          <p:nvPr/>
        </p:nvPicPr>
        <p:blipFill>
          <a:blip r:embed="rId1"/>
          <a:stretch/>
        </p:blipFill>
        <p:spPr>
          <a:xfrm>
            <a:off x="228600" y="1484280"/>
            <a:ext cx="3287880" cy="4446720"/>
          </a:xfrm>
          <a:prstGeom prst="rect">
            <a:avLst/>
          </a:prstGeom>
          <a:ln w="0">
            <a:noFill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276720" y="380520"/>
            <a:ext cx="5410080" cy="621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42492"/>
                </a:solidFill>
                <a:latin typeface="Tahoma"/>
              </a:rPr>
              <a:t>Другая английская единица длины ФУТ, что по-английски означает «ступня». 16 англичан выстраивались в цепочку таким образом, что каждый следующий касался концами пальцев своих ног пяток предыдущего. 1/16 такой цепочки и составляла 1 фут.</a:t>
            </a:r>
            <a:endParaRPr b="0" lang="en-US" sz="3200" spc="-1" strike="noStrike">
              <a:solidFill>
                <a:srgbClr val="7b9cb5"/>
              </a:solidFill>
              <a:latin typeface="Tahoma"/>
            </a:endParaRPr>
          </a:p>
        </p:txBody>
      </p:sp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3" descr="img3.jpg (39872 bytes)"/>
          <p:cNvPicPr/>
          <p:nvPr/>
        </p:nvPicPr>
        <p:blipFill>
          <a:blip r:embed="rId1"/>
          <a:stretch/>
        </p:blipFill>
        <p:spPr>
          <a:xfrm>
            <a:off x="-4616280" y="1854360"/>
            <a:ext cx="1774800" cy="25826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img4.jpg (27326 bytes)"/>
          <p:cNvPicPr/>
          <p:nvPr/>
        </p:nvPicPr>
        <p:blipFill>
          <a:blip r:embed="rId2"/>
          <a:stretch/>
        </p:blipFill>
        <p:spPr>
          <a:xfrm>
            <a:off x="-4216320" y="2593800"/>
            <a:ext cx="1238040" cy="240984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4"/>
          <p:cNvSpPr/>
          <p:nvPr/>
        </p:nvSpPr>
        <p:spPr>
          <a:xfrm>
            <a:off x="-4613400" y="1854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Rectangle 6"/>
          <p:cNvSpPr/>
          <p:nvPr/>
        </p:nvSpPr>
        <p:spPr>
          <a:xfrm>
            <a:off x="-4611240" y="2630880"/>
            <a:ext cx="436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780000" y="380520"/>
            <a:ext cx="4906800" cy="6216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6600"/>
                </a:solidFill>
                <a:latin typeface="Tahoma"/>
              </a:rPr>
              <a:t>На Руси в старину мерой длины был ШАГ и ПЯДЬ: </a:t>
            </a:r>
            <a:r>
              <a:rPr b="0" i="1" lang="ru-RU" sz="3200" spc="-1" strike="noStrike">
                <a:solidFill>
                  <a:srgbClr val="006600"/>
                </a:solidFill>
                <a:latin typeface="Tahoma"/>
              </a:rPr>
              <a:t>Малая пядь</a:t>
            </a:r>
            <a:r>
              <a:rPr b="0" lang="ru-RU" sz="3200" spc="-1" strike="noStrike">
                <a:solidFill>
                  <a:srgbClr val="006600"/>
                </a:solidFill>
                <a:latin typeface="Tahoma"/>
              </a:rPr>
              <a:t> равнялась расстоянию между концами растянутых пальцев, большего и указательного (~19 см), </a:t>
            </a:r>
            <a:r>
              <a:rPr b="0" i="1" lang="ru-RU" sz="3200" spc="-1" strike="noStrike">
                <a:solidFill>
                  <a:srgbClr val="006600"/>
                </a:solidFill>
                <a:latin typeface="Tahoma"/>
              </a:rPr>
              <a:t>большая пядь</a:t>
            </a:r>
            <a:r>
              <a:rPr b="0" lang="ru-RU" sz="3200" spc="-1" strike="noStrike">
                <a:solidFill>
                  <a:srgbClr val="006600"/>
                </a:solidFill>
                <a:latin typeface="Tahoma"/>
              </a:rPr>
              <a:t> – расстояние между раздвинутым большим пальцем и мизинцем   (~ 23 см)</a:t>
            </a:r>
            <a:endParaRPr b="0" lang="en-US" sz="3200" spc="-1" strike="noStrike">
              <a:solidFill>
                <a:srgbClr val="7b9cb5"/>
              </a:solidFill>
              <a:latin typeface="Tahoma"/>
            </a:endParaRPr>
          </a:p>
        </p:txBody>
      </p:sp>
      <p:pic>
        <p:nvPicPr>
          <p:cNvPr id="80" name="Picture 8" descr="img3.jpg (39872 bytes)"/>
          <p:cNvPicPr/>
          <p:nvPr/>
        </p:nvPicPr>
        <p:blipFill>
          <a:blip r:embed="rId3"/>
          <a:stretch/>
        </p:blipFill>
        <p:spPr>
          <a:xfrm>
            <a:off x="357120" y="1000080"/>
            <a:ext cx="3114720" cy="4537080"/>
          </a:xfrm>
          <a:prstGeom prst="rect">
            <a:avLst/>
          </a:prstGeom>
          <a:ln w="0">
            <a:noFill/>
          </a:ln>
        </p:spPr>
      </p:pic>
      <p:sp>
        <p:nvSpPr>
          <p:cNvPr id="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067280" y="836280"/>
            <a:ext cx="4859280" cy="578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800080"/>
                </a:solidFill>
                <a:latin typeface="Tahoma"/>
              </a:rPr>
              <a:t>ЛАДОНЬ – ширина кисти руки, ЛОКОТЬ – расстояние от локтя до конца среднего пальца </a:t>
            </a:r>
            <a:r>
              <a:rPr b="0" lang="ru-RU" sz="3600" spc="-1" strike="noStrike">
                <a:solidFill>
                  <a:srgbClr val="242492"/>
                </a:solidFill>
                <a:latin typeface="Tahoma"/>
              </a:rPr>
              <a:t>(~71 см)</a:t>
            </a:r>
            <a:r>
              <a:rPr b="0" lang="ru-RU" sz="4400" spc="-1" strike="noStrike">
                <a:solidFill>
                  <a:srgbClr val="242492"/>
                </a:solidFill>
                <a:latin typeface="Tahoma"/>
              </a:rPr>
              <a:t>.</a:t>
            </a:r>
            <a:br>
              <a:rPr sz="4400"/>
            </a:br>
            <a:endParaRPr b="0" lang="en-US" sz="4400" spc="-1" strike="noStrike">
              <a:solidFill>
                <a:srgbClr val="7b9cb5"/>
              </a:solidFill>
              <a:latin typeface="Tahoma"/>
            </a:endParaRPr>
          </a:p>
        </p:txBody>
      </p:sp>
      <p:pic>
        <p:nvPicPr>
          <p:cNvPr id="83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3351240" cy="50720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"/>
          <p:cNvPicPr/>
          <p:nvPr/>
        </p:nvPicPr>
        <p:blipFill>
          <a:blip r:embed="rId2"/>
          <a:srcRect l="14122" t="0" r="12137" b="0"/>
          <a:stretch/>
        </p:blipFill>
        <p:spPr>
          <a:xfrm>
            <a:off x="0" y="3705120"/>
            <a:ext cx="3357720" cy="3152880"/>
          </a:xfrm>
          <a:prstGeom prst="rect">
            <a:avLst/>
          </a:prstGeom>
          <a:ln w="0">
            <a:noFill/>
          </a:ln>
        </p:spPr>
      </p:pic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382320"/>
            <a:ext cx="8362800" cy="290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00000"/>
                </a:solidFill>
                <a:latin typeface="Tahoma"/>
              </a:rPr>
              <a:t>АРШИН в переводе с персидского – локоть. Существовал персидский аршин, турецкий аршин и др., отсюда и появилась поговорка «Мерить на свой аршин». </a:t>
            </a:r>
            <a:endParaRPr b="0" lang="en-US" sz="3200" spc="-1" strike="noStrike">
              <a:solidFill>
                <a:srgbClr val="7b9cb5"/>
              </a:solidFill>
              <a:latin typeface="Tahoma"/>
            </a:endParaRPr>
          </a:p>
        </p:txBody>
      </p:sp>
      <p:pic>
        <p:nvPicPr>
          <p:cNvPr id="87" name="Picture 5" descr=""/>
          <p:cNvPicPr/>
          <p:nvPr/>
        </p:nvPicPr>
        <p:blipFill>
          <a:blip r:embed="rId1"/>
          <a:stretch/>
        </p:blipFill>
        <p:spPr>
          <a:xfrm>
            <a:off x="2286000" y="3000240"/>
            <a:ext cx="4429080" cy="371484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2"/>
          <p:cNvSpPr/>
          <p:nvPr/>
        </p:nvSpPr>
        <p:spPr>
          <a:xfrm>
            <a:off x="-74520" y="142920"/>
            <a:ext cx="950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800080"/>
                </a:solidFill>
                <a:latin typeface="Tahoma"/>
              </a:rPr>
              <a:t>Большие расстояния измерялись ПОЛЕТОМ СТРЕЛЫ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9T19:48:14Z</dcterms:created>
  <dc:creator>артем</dc:creator>
  <dc:description/>
  <dc:language>en-US</dc:language>
  <cp:lastModifiedBy>LEGION</cp:lastModifiedBy>
  <dcterms:modified xsi:type="dcterms:W3CDTF">2015-01-26T10:15:46Z</dcterms:modified>
  <cp:revision>73</cp:revision>
  <dc:subject/>
  <dc:title>Слайд 1</dc:title>
</cp:coreProperties>
</file>