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92B6-792F-4915-8769-01DDEB6139C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дачи на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69D5-18AD-4B00-8077-35D86F960B8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0301-9E57-46D3-A937-D86D242D737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2DFA-04BB-4799-808D-387CCBF2577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33cc"/>
                </a:solidFill>
                <a:uFillTx/>
                <a:latin typeface="Calibri"/>
              </a:rPr>
              <a:t>П.2.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cc"/>
                </a:solidFill>
                <a:latin typeface="Calibri"/>
              </a:rPr>
              <a:t>Стр.141, № 13, 15,  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оп. №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F893-6041-41BE-910D-8E392418E89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атематика - это язык, на         котором говорят все точные науки.    </a:t>
            </a:r>
            <a:br>
              <a:rPr sz="1200"/>
            </a:b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Н.И. Лобачев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55E1-789A-40F3-B46B-EB63F2F3F1F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ак бы машина хорошо ни работала, она может решать все требуемые от нее задачи, но она никогда не придумает ни од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А. Эйнштейн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А вот нам с вами предстоит сейчас придумать задачу по предложенной схеме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2E18-4AE4-4202-A7C1-1E852842551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думайте и решите задачу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 помощью сх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0216-3598-4DD2-8427-CC0B2603E77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800080"/>
                </a:solidFill>
                <a:latin typeface="Arial"/>
              </a:rPr>
              <a:t>24.10.12         </a:t>
            </a:r>
            <a:r>
              <a:rPr b="1" lang="ru-RU" sz="1200" spc="-1" strike="noStrike">
                <a:solidFill>
                  <a:srgbClr val="800080"/>
                </a:solidFill>
                <a:latin typeface="Arial"/>
              </a:rPr>
              <a:t>Задачи на ч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думайте и ответьте: какое важное условие (которое не оговаривается, но принимается по умолчанию) должно выполняться в задачах на части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Подсказка: это хорошо видно на схем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43C2-8AC1-4B5E-B77C-CF4AD5EDD72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думайте и ответьте: что первым делом необходимо найти при решении задачи на ча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ужно узнать, сколько составляет одна ч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6D10-6217-4C5D-8CB1-34C1EA78902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варенья из вишни на 2 части ягод берут 3 части сахара. Сколько сахара требуется на 4 кг ягод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029B-2249-497F-B3F0-AD924CF5F0D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9E6E-3C6F-465D-88DF-D20B47A278E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ботаем в па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0B80-3957-4D2D-A04C-5DE9EEA61BC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1F71-6E53-42E5-A255-12AC02AA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CB47-527F-4F5C-87A6-AC7A7FA4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95C5-9E4A-4174-A469-5AA1AE7F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A99-FEB2-40A5-96E3-F8F5DFA4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CFF0-02A6-401F-9C84-EC0C3B01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74C-3EE7-43E2-AE73-049FD6F0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D3C9-59A1-4214-9E30-48E47CBF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DEC-868B-41E4-8578-20C33ADC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7E7-2F4D-4B13-B53C-2A319A0C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7C8-264C-41D5-98DB-48F8D595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849-81F3-4CDB-A646-C30F6EBC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8D3-D003-463B-964A-1791FF69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EBFD-6B7E-49CB-8FFB-CA340706CA9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9E21-7A7D-4EC9-A470-489E807D72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5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794320" y="292428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Задачи на ча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75240" y="4292640"/>
            <a:ext cx="72824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Разработка учителя математики МКОУ «СОШ №2  им. И.С.Унковского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Коломиец А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.Воротынск Калуж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845800" y="1700280"/>
            <a:ext cx="411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бник С.А.Козловой, А.Г.Руб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647520" y="1484280"/>
            <a:ext cx="6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96440" y="23511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м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278800" y="29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602280" y="263844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1619280" y="256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1619280" y="2852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635280" y="328464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363528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507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Line 15"/>
          <p:cNvSpPr/>
          <p:nvPr/>
        </p:nvSpPr>
        <p:spPr>
          <a:xfrm>
            <a:off x="651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Line 16"/>
          <p:cNvSpPr/>
          <p:nvPr/>
        </p:nvSpPr>
        <p:spPr>
          <a:xfrm>
            <a:off x="363528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17"/>
          <p:cNvSpPr/>
          <p:nvPr/>
        </p:nvSpPr>
        <p:spPr>
          <a:xfrm>
            <a:off x="507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Line 18"/>
          <p:cNvSpPr/>
          <p:nvPr/>
        </p:nvSpPr>
        <p:spPr>
          <a:xfrm>
            <a:off x="651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363528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20"/>
          <p:cNvSpPr/>
          <p:nvPr/>
        </p:nvSpPr>
        <p:spPr>
          <a:xfrm>
            <a:off x="507672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795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900000" y="17733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rc 25"/>
          <p:cNvSpPr/>
          <p:nvPr/>
        </p:nvSpPr>
        <p:spPr>
          <a:xfrm flipV="1" rot="10800000">
            <a:off x="3635280" y="3283560"/>
            <a:ext cx="1440000" cy="144360"/>
          </a:xfrm>
          <a:custGeom>
            <a:avLst/>
            <a:gdLst/>
            <a:ahLst/>
            <a:rect l="l" t="t" r="r" b="b"/>
            <a:pathLst>
              <a:path fill="none" w="41705" h="21600">
                <a:moveTo>
                  <a:pt x="-23832" y="5856"/>
                </a:moveTo>
                <a:cubicBezTo>
                  <a:pt x="-26455" y="15168"/>
                  <a:pt x="30587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05" h="21600">
                <a:moveTo>
                  <a:pt x="-23832" y="5856"/>
                </a:moveTo>
                <a:cubicBezTo>
                  <a:pt x="-26455" y="15168"/>
                  <a:pt x="30587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3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3934080" y="3500280"/>
            <a:ext cx="7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rc 27"/>
          <p:cNvSpPr/>
          <p:nvPr/>
        </p:nvSpPr>
        <p:spPr>
          <a:xfrm flipV="1">
            <a:off x="3635280" y="2348280"/>
            <a:ext cx="4321440" cy="357480"/>
          </a:xfrm>
          <a:custGeom>
            <a:avLst/>
            <a:gdLst/>
            <a:ahLst/>
            <a:rect l="l" t="t" r="r" b="b"/>
            <a:pathLst>
              <a:path fill="none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22" y="58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5133600" y="191628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3 ч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3915720" y="3429000"/>
            <a:ext cx="95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1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AutoShape 30"/>
          <p:cNvSpPr/>
          <p:nvPr/>
        </p:nvSpPr>
        <p:spPr>
          <a:xfrm>
            <a:off x="7885080" y="2492280"/>
            <a:ext cx="432000" cy="936720"/>
          </a:xfrm>
          <a:custGeom>
            <a:avLst/>
            <a:gdLst>
              <a:gd name="textAreaLeft" fmla="*/ 0 w 432000"/>
              <a:gd name="textAreaRight" fmla="*/ 155880 w 43200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8253720" y="2708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?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1634400" y="400536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 часть – 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1828440" y="4583160"/>
            <a:ext cx="49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Всё зерно (мука + отходы) – 4 ч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1707480" y="5157720"/>
            <a:ext cx="52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) 12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4 = 48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всего смололи зер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2185200" y="5835600"/>
            <a:ext cx="170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вет: 48 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мес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723120" y="1292400"/>
            <a:ext cx="73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296440" y="235116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му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278800" y="29988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02280" y="263844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ер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7"/>
          <p:cNvSpPr/>
          <p:nvPr/>
        </p:nvSpPr>
        <p:spPr>
          <a:xfrm flipV="1">
            <a:off x="1619280" y="256536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1619280" y="2852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3635280" y="328464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63528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507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6516720" y="2637000"/>
            <a:ext cx="144144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363528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507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651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363528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5076720" y="3213000"/>
            <a:ext cx="0" cy="14472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7956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900000" y="1773360"/>
            <a:ext cx="5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alibri"/>
              </a:rPr>
              <a:t>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1"/>
          <p:cNvSpPr/>
          <p:nvPr/>
        </p:nvSpPr>
        <p:spPr>
          <a:xfrm>
            <a:off x="5950080" y="1844640"/>
            <a:ext cx="7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rc 22"/>
          <p:cNvSpPr/>
          <p:nvPr/>
        </p:nvSpPr>
        <p:spPr>
          <a:xfrm flipV="1">
            <a:off x="5076720" y="2348280"/>
            <a:ext cx="2880000" cy="357480"/>
          </a:xfrm>
          <a:custGeom>
            <a:avLst/>
            <a:gdLst/>
            <a:ahLst/>
            <a:rect l="l" t="t" r="r" b="b"/>
            <a:pathLst>
              <a:path fill="none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</a:path>
              <a:path stroke="0" w="41715" h="21600">
                <a:moveTo>
                  <a:pt x="-23822" y="5820"/>
                </a:moveTo>
                <a:cubicBezTo>
                  <a:pt x="-26432" y="15150"/>
                  <a:pt x="30601" y="21599"/>
                  <a:pt x="20914" y="21600"/>
                </a:cubicBezTo>
                <a:cubicBezTo>
                  <a:pt x="11064" y="21600"/>
                  <a:pt x="2462" y="14937"/>
                  <a:pt x="0" y="5400"/>
                </a:cubicBezTo>
                <a:lnTo>
                  <a:pt x="20914" y="0"/>
                </a:lnTo>
                <a:lnTo>
                  <a:pt x="-23822" y="58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23"/>
          <p:cNvSpPr/>
          <p:nvPr/>
        </p:nvSpPr>
        <p:spPr>
          <a:xfrm>
            <a:off x="7885080" y="2492280"/>
            <a:ext cx="432000" cy="865440"/>
          </a:xfrm>
          <a:custGeom>
            <a:avLst/>
            <a:gdLst>
              <a:gd name="textAreaLeft" fmla="*/ 0 w 432000"/>
              <a:gd name="textAreaRight" fmla="*/ 155880 w 432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8253720" y="2708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?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1379880" y="386064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 части – это 12 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121400" y="436572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1) 12 : 2 = 6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составляет 1 ч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29"/>
          <p:cNvSpPr/>
          <p:nvPr/>
        </p:nvSpPr>
        <p:spPr>
          <a:xfrm>
            <a:off x="1274040" y="5013360"/>
            <a:ext cx="51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2) 6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4 = 24 (ц) – </a:t>
            </a:r>
            <a:r>
              <a:rPr b="1" i="1" lang="ru-RU" sz="2400" spc="-1" strike="noStrike">
                <a:solidFill>
                  <a:srgbClr val="0033cc"/>
                </a:solidFill>
                <a:latin typeface="Calibri"/>
              </a:rPr>
              <a:t>всего смололи зер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2061360" y="558972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Ответ: 24 ц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Домашнее зада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33cc"/>
                </a:solidFill>
                <a:uFillTx/>
                <a:latin typeface="Calibri"/>
              </a:rPr>
              <a:t>П.2.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alibri"/>
              </a:rPr>
              <a:t>Стр.141, № 13, 15,   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доп. №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Математика - это язык, на         котором говорят все точные науки.    </a:t>
            </a:r>
            <a:br>
              <a:rPr sz="4400"/>
            </a:br>
            <a:r>
              <a:rPr b="1" lang="ru-RU" sz="4400" spc="-1" strike="noStrike">
                <a:solidFill>
                  <a:srgbClr val="800080"/>
                </a:solidFill>
                <a:latin typeface="Calibri"/>
              </a:rPr>
              <a:t>                     Н.И. Лобачевски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Как бы машина хорошо ни работала, она может решать все требуемые от нее задачи, но она никогда не придумает ни одной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                                           </a:t>
            </a:r>
            <a:r>
              <a:rPr b="1" lang="ru-RU" sz="3300" spc="-1" strike="noStrike">
                <a:solidFill>
                  <a:srgbClr val="800080"/>
                </a:solidFill>
                <a:latin typeface="Calibri"/>
              </a:rPr>
              <a:t>А. Эйнштейн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 вот нам с вами предстоит сейчас придумать задачу по предложенной схеме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476280"/>
            <a:ext cx="7859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ридумайте и решите задачу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с помощью схе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7"/>
          <p:cNvSpPr/>
          <p:nvPr/>
        </p:nvSpPr>
        <p:spPr>
          <a:xfrm>
            <a:off x="169236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8"/>
          <p:cNvSpPr/>
          <p:nvPr/>
        </p:nvSpPr>
        <p:spPr>
          <a:xfrm>
            <a:off x="399564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9"/>
          <p:cNvSpPr/>
          <p:nvPr/>
        </p:nvSpPr>
        <p:spPr>
          <a:xfrm>
            <a:off x="169236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169236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399564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399564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13"/>
          <p:cNvSpPr/>
          <p:nvPr/>
        </p:nvSpPr>
        <p:spPr>
          <a:xfrm>
            <a:off x="1692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6300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445320" y="234936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I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п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373680" y="31417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II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 пол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6443640" y="2492280"/>
            <a:ext cx="360360" cy="1224000"/>
          </a:xfrm>
          <a:custGeom>
            <a:avLst/>
            <a:gdLst>
              <a:gd name="textAreaLeft" fmla="*/ 0 w 360360"/>
              <a:gd name="textAreaRight" fmla="*/ 12996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6978240" y="285264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150 </a:t>
            </a: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кни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rc 21"/>
          <p:cNvSpPr/>
          <p:nvPr/>
        </p:nvSpPr>
        <p:spPr>
          <a:xfrm flipV="1">
            <a:off x="1674720" y="2348640"/>
            <a:ext cx="231948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rc 22"/>
          <p:cNvSpPr/>
          <p:nvPr/>
        </p:nvSpPr>
        <p:spPr>
          <a:xfrm flipV="1">
            <a:off x="3995640" y="2348640"/>
            <a:ext cx="231948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rc 23"/>
          <p:cNvSpPr/>
          <p:nvPr/>
        </p:nvSpPr>
        <p:spPr>
          <a:xfrm flipV="1" rot="10800000">
            <a:off x="1692360" y="3427920"/>
            <a:ext cx="231912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2297880" y="37893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? кни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684360" y="486900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alibri"/>
              </a:rPr>
              <a:t>На первой полке книг в два раза больше, чем на второй. Сколько книг на второй полке, если на обеих полках 150 книг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26"/>
          <p:cNvSpPr/>
          <p:nvPr/>
        </p:nvSpPr>
        <p:spPr>
          <a:xfrm>
            <a:off x="1527840" y="4367160"/>
            <a:ext cx="44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дин из возможных вари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27"/>
          <p:cNvGrpSpPr/>
          <p:nvPr/>
        </p:nvGrpSpPr>
        <p:grpSpPr>
          <a:xfrm>
            <a:off x="3276720" y="3789360"/>
            <a:ext cx="3241440" cy="2135160"/>
            <a:chOff x="3276720" y="3789360"/>
            <a:chExt cx="3241440" cy="2135160"/>
          </a:xfrm>
        </p:grpSpPr>
        <p:pic>
          <p:nvPicPr>
            <p:cNvPr id="79" name="Picture 28" descr="MCj04244440000[1]"/>
            <p:cNvPicPr/>
            <p:nvPr/>
          </p:nvPicPr>
          <p:blipFill>
            <a:blip r:embed="rId1"/>
            <a:stretch/>
          </p:blipFill>
          <p:spPr>
            <a:xfrm>
              <a:off x="3276720" y="4321800"/>
              <a:ext cx="1460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29"/>
            <p:cNvSpPr/>
            <p:nvPr/>
          </p:nvSpPr>
          <p:spPr>
            <a:xfrm>
              <a:off x="4263120" y="3789360"/>
              <a:ext cx="2255040" cy="73872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24.10.12         </a:t>
            </a: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Задачи на ча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думайте и ответьте: какое важное условие (которое не оговаривается, но принимается по умолчанию) должно выполняться в задачах на част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Подсказка: это хорошо видно на схе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10080" y="4653000"/>
            <a:ext cx="736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се части, о которых идет речь в задач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равны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4932360" y="3933720"/>
            <a:ext cx="3787920" cy="2597040"/>
            <a:chOff x="4932360" y="3933720"/>
            <a:chExt cx="3787920" cy="2597040"/>
          </a:xfrm>
        </p:grpSpPr>
        <p:pic>
          <p:nvPicPr>
            <p:cNvPr id="86" name="Picture 6" descr="MCj04244440000[1]"/>
            <p:cNvPicPr/>
            <p:nvPr/>
          </p:nvPicPr>
          <p:blipFill>
            <a:blip r:embed="rId1"/>
            <a:stretch/>
          </p:blipFill>
          <p:spPr>
            <a:xfrm>
              <a:off x="4932360" y="458136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AutoShape 7"/>
            <p:cNvSpPr/>
            <p:nvPr/>
          </p:nvSpPr>
          <p:spPr>
            <a:xfrm>
              <a:off x="6085080" y="393372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uk-UA" sz="4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84360" y="177336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Подумайте и ответьте: что первым делом необходимо найти при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11280" y="3500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ужно узнать, сколько составляет одна ч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11"/>
          <p:cNvGrpSpPr/>
          <p:nvPr/>
        </p:nvGrpSpPr>
        <p:grpSpPr>
          <a:xfrm>
            <a:off x="4356000" y="3284640"/>
            <a:ext cx="3787920" cy="2597040"/>
            <a:chOff x="4356000" y="3284640"/>
            <a:chExt cx="3787920" cy="2597040"/>
          </a:xfrm>
        </p:grpSpPr>
        <p:pic>
          <p:nvPicPr>
            <p:cNvPr id="93" name="Picture 12" descr="MCj04244440000[1]"/>
            <p:cNvPicPr/>
            <p:nvPr/>
          </p:nvPicPr>
          <p:blipFill>
            <a:blip r:embed="rId1"/>
            <a:stretch/>
          </p:blipFill>
          <p:spPr>
            <a:xfrm>
              <a:off x="4356000" y="3932280"/>
              <a:ext cx="170676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AutoShape 13"/>
            <p:cNvSpPr/>
            <p:nvPr/>
          </p:nvSpPr>
          <p:spPr>
            <a:xfrm>
              <a:off x="5508720" y="3284640"/>
              <a:ext cx="2635200" cy="898560"/>
            </a:xfrm>
            <a:prstGeom prst="wedgeEllipseCallout">
              <a:avLst>
                <a:gd name="adj1" fmla="val -45481"/>
                <a:gd name="adj2" fmla="val 142226"/>
              </a:avLst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Times New Roman"/>
                </a:rPr>
                <a:t>ПОДУМАЙ!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2920" y="259920"/>
            <a:ext cx="73659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ля варенья из вишни на 2 части ягод берут 3 части сахара. Сколько сахара требуется на 4 кг ягод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3"/>
          <p:cNvSpPr/>
          <p:nvPr/>
        </p:nvSpPr>
        <p:spPr>
          <a:xfrm>
            <a:off x="169236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995640" y="2637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5"/>
          <p:cNvSpPr/>
          <p:nvPr/>
        </p:nvSpPr>
        <p:spPr>
          <a:xfrm>
            <a:off x="169236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169236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99564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399564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1692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6300720" y="256536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69080" y="23493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Я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71600" y="3141720"/>
            <a:ext cx="9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Arc 16"/>
          <p:cNvSpPr/>
          <p:nvPr/>
        </p:nvSpPr>
        <p:spPr>
          <a:xfrm flipV="1">
            <a:off x="1692360" y="2348280"/>
            <a:ext cx="462276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rc 17"/>
          <p:cNvSpPr/>
          <p:nvPr/>
        </p:nvSpPr>
        <p:spPr>
          <a:xfrm flipV="1" rot="10800000">
            <a:off x="1692360" y="3427920"/>
            <a:ext cx="6912000" cy="358920"/>
          </a:xfrm>
          <a:custGeom>
            <a:avLst/>
            <a:gdLst/>
            <a:ahLst/>
            <a:rect l="l" t="t" r="r" b="b"/>
            <a:pathLst>
              <a:path fill="none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</a:path>
              <a:path stroke="0" w="42073" h="21600">
                <a:moveTo>
                  <a:pt x="42072" y="5856"/>
                </a:moveTo>
                <a:cubicBezTo>
                  <a:pt x="39449" y="15168"/>
                  <a:pt x="30955" y="21599"/>
                  <a:pt x="21282" y="21600"/>
                </a:cubicBezTo>
                <a:cubicBezTo>
                  <a:pt x="10776" y="21600"/>
                  <a:pt x="1794" y="14041"/>
                  <a:pt x="-1" y="3691"/>
                </a:cubicBezTo>
                <a:lnTo>
                  <a:pt x="21282" y="0"/>
                </a:lnTo>
                <a:lnTo>
                  <a:pt x="42072" y="58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399564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6300720" y="3429000"/>
            <a:ext cx="23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630072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8604360" y="3357720"/>
            <a:ext cx="0" cy="14436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3066840" y="184464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 части – 4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8"/>
          <p:cNvSpPr/>
          <p:nvPr/>
        </p:nvSpPr>
        <p:spPr>
          <a:xfrm>
            <a:off x="4146120" y="3860640"/>
            <a:ext cx="187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3 части – ? к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1108800" y="4538520"/>
            <a:ext cx="47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) 4 : 2 = 2 (кг) –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составляет одна ча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0"/>
          <p:cNvSpPr/>
          <p:nvPr/>
        </p:nvSpPr>
        <p:spPr>
          <a:xfrm>
            <a:off x="839520" y="508464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)  2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·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 3 = 6 (кг) – нужно взять саха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3754440" y="559260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Ответ: 6 кг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629360" y="1852560"/>
            <a:ext cx="2120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Стр. 13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№ 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1,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ботаем в пар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39640" y="1677960"/>
            <a:ext cx="8136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1 ряд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2 ряд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3 ря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№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r>
              <a:rPr b="1" lang="ru-RU" sz="4000" spc="-1" strike="noStrike">
                <a:solidFill>
                  <a:srgbClr val="0033cc"/>
                </a:solidFill>
                <a:latin typeface="Calibri"/>
              </a:rPr>
              <a:t>№4                    №5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1:09:41Z</dcterms:created>
  <dc:creator>user</dc:creator>
  <dc:description/>
  <dc:language>en-US</dc:language>
  <cp:lastModifiedBy>LEGION</cp:lastModifiedBy>
  <dcterms:modified xsi:type="dcterms:W3CDTF">2015-01-26T10:17:48Z</dcterms:modified>
  <cp:revision>65</cp:revision>
  <dc:subject/>
  <dc:title>Презентация PowerPoint</dc:title>
</cp:coreProperties>
</file>