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FFA2-5512-4E55-98F0-D969A734619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69FE-C349-4D66-AC21-78FBF865ADA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2835-5636-4C7C-A70E-711811300B3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D855-157F-4625-AC9D-4F3FEC080C6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01E0-FB8C-4B34-9AD5-B76939D9BC1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313B-FFF1-4F3C-BF59-6E3558B3FD3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DDFB-2CD8-4C40-8CCA-1A3FFB9FEDE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AA24-22AE-4B9C-B116-7F7115D3A4F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D2E4-CA61-4C2B-A7E8-BE5453AD6DB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A4D9-25B2-4207-9008-FFB420FC21A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113E-D0B5-42FF-9BF6-BABA0323105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D2D1-8926-4145-85C0-96B3EC92B75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9692-0EE3-4A4D-994E-D6E404E3C9B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EAB-BD14-4E8C-840C-EEB70454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B32-CAB6-4409-9010-53B0E93D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0CF-8FF4-49B8-80E5-058EBB9B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D1C-372D-4F72-B963-B733CA6C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336-FC82-4CAC-9FE6-B7FE4CDE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C18-7DD8-4F71-BF2A-81CE2395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3A9-5B56-4347-94A0-5A2AE0C5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36A-E72D-469F-94A0-F4392B0A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194-9B89-4B90-A5AD-730191B5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C80-7DC7-4002-826A-9A1BE17E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745-D817-4B55-A4D4-364114F3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654-2669-4577-B9C7-6156151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81A5-BB2C-492E-9444-8FCDDCF745B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72C3-3BFC-4E01-94BC-C13C3A15D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94320" y="292428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5240" y="4292640"/>
            <a:ext cx="7282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зработка учителя математики МКОУ «СОШ №2  им. И.С.Унковско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оломиец А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.Воротынск Калуж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845800" y="1700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бник С.А.Козловой, А.Г.Руб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647520" y="1484280"/>
            <a:ext cx="6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rc 25"/>
          <p:cNvSpPr/>
          <p:nvPr/>
        </p:nvSpPr>
        <p:spPr>
          <a:xfrm flipV="1" rot="10800000">
            <a:off x="3635280" y="3283560"/>
            <a:ext cx="1440000" cy="144360"/>
          </a:xfrm>
          <a:custGeom>
            <a:avLst/>
            <a:gdLst/>
            <a:ahLst/>
            <a:rect l="l" t="t" r="r" b="b"/>
            <a:pathLst>
              <a:path fill="none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3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934080" y="35002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rc 27"/>
          <p:cNvSpPr/>
          <p:nvPr/>
        </p:nvSpPr>
        <p:spPr>
          <a:xfrm flipV="1">
            <a:off x="3635280" y="2348280"/>
            <a:ext cx="432144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133600" y="191628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3915720" y="342900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30"/>
          <p:cNvSpPr/>
          <p:nvPr/>
        </p:nvSpPr>
        <p:spPr>
          <a:xfrm>
            <a:off x="7885080" y="2492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1634400" y="400536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 часть –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1828440" y="458316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Всё зерно (мука + отходы) – 4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707480" y="515772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48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2185200" y="583560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48 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723120" y="1292400"/>
            <a:ext cx="7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5950080" y="1844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rc 22"/>
          <p:cNvSpPr/>
          <p:nvPr/>
        </p:nvSpPr>
        <p:spPr>
          <a:xfrm flipV="1">
            <a:off x="5076720" y="2348280"/>
            <a:ext cx="288000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23"/>
          <p:cNvSpPr/>
          <p:nvPr/>
        </p:nvSpPr>
        <p:spPr>
          <a:xfrm>
            <a:off x="7885080" y="2492280"/>
            <a:ext cx="432000" cy="865440"/>
          </a:xfrm>
          <a:custGeom>
            <a:avLst/>
            <a:gdLst>
              <a:gd name="textAreaLeft" fmla="*/ 0 w 432000"/>
              <a:gd name="textAreaRight" fmla="*/ 155880 w 432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1379880" y="386064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 части – это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121400" y="436572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: 2 = 6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составляет 1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274040" y="5013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2) 6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24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2061360" y="55897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24 ц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9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45320" y="234936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73680" y="31417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6443640" y="249228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6978240" y="28526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150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rc 21"/>
          <p:cNvSpPr/>
          <p:nvPr/>
        </p:nvSpPr>
        <p:spPr>
          <a:xfrm flipV="1">
            <a:off x="167472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rc 22"/>
          <p:cNvSpPr/>
          <p:nvPr/>
        </p:nvSpPr>
        <p:spPr>
          <a:xfrm flipV="1">
            <a:off x="399564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rc 23"/>
          <p:cNvSpPr/>
          <p:nvPr/>
        </p:nvSpPr>
        <p:spPr>
          <a:xfrm flipV="1" rot="10800000">
            <a:off x="1692360" y="3427920"/>
            <a:ext cx="231912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2297880" y="3789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? 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684360" y="486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На первой полке книг в два раза больше, чем на второй. Сколько книг на второй полке, если на обеих полках 150 книг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527840" y="436716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дин из возможных вари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27"/>
          <p:cNvGrpSpPr/>
          <p:nvPr/>
        </p:nvGrpSpPr>
        <p:grpSpPr>
          <a:xfrm>
            <a:off x="3276720" y="3789360"/>
            <a:ext cx="3241440" cy="2135160"/>
            <a:chOff x="3276720" y="3789360"/>
            <a:chExt cx="3241440" cy="2135160"/>
          </a:xfrm>
        </p:grpSpPr>
        <p:pic>
          <p:nvPicPr>
            <p:cNvPr id="79" name="Picture 28" descr="MCj04244440000[1]"/>
            <p:cNvPicPr/>
            <p:nvPr/>
          </p:nvPicPr>
          <p:blipFill>
            <a:blip r:embed="rId1"/>
            <a:stretch/>
          </p:blipFill>
          <p:spPr>
            <a:xfrm>
              <a:off x="3276720" y="4321800"/>
              <a:ext cx="1460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29"/>
            <p:cNvSpPr/>
            <p:nvPr/>
          </p:nvSpPr>
          <p:spPr>
            <a:xfrm>
              <a:off x="4263120" y="3789360"/>
              <a:ext cx="2255040" cy="73872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10080" y="465300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се части, о которых идет речь в задач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равны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4932360" y="3933720"/>
            <a:ext cx="3787920" cy="2597040"/>
            <a:chOff x="4932360" y="3933720"/>
            <a:chExt cx="3787920" cy="2597040"/>
          </a:xfrm>
        </p:grpSpPr>
        <p:pic>
          <p:nvPicPr>
            <p:cNvPr id="86" name="Picture 6" descr="MCj04244440000[1]"/>
            <p:cNvPicPr/>
            <p:nvPr/>
          </p:nvPicPr>
          <p:blipFill>
            <a:blip r:embed="rId1"/>
            <a:stretch/>
          </p:blipFill>
          <p:spPr>
            <a:xfrm>
              <a:off x="4932360" y="458136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7"/>
            <p:cNvSpPr/>
            <p:nvPr/>
          </p:nvSpPr>
          <p:spPr>
            <a:xfrm>
              <a:off x="6085080" y="393372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84360" y="1773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11280" y="350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1"/>
          <p:cNvGrpSpPr/>
          <p:nvPr/>
        </p:nvGrpSpPr>
        <p:grpSpPr>
          <a:xfrm>
            <a:off x="4356000" y="3284640"/>
            <a:ext cx="3787920" cy="2597040"/>
            <a:chOff x="4356000" y="3284640"/>
            <a:chExt cx="3787920" cy="2597040"/>
          </a:xfrm>
        </p:grpSpPr>
        <p:pic>
          <p:nvPicPr>
            <p:cNvPr id="93" name="Picture 12" descr="MCj04244440000[1]"/>
            <p:cNvPicPr/>
            <p:nvPr/>
          </p:nvPicPr>
          <p:blipFill>
            <a:blip r:embed="rId1"/>
            <a:stretch/>
          </p:blipFill>
          <p:spPr>
            <a:xfrm>
              <a:off x="4356000" y="393228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13"/>
            <p:cNvSpPr/>
            <p:nvPr/>
          </p:nvSpPr>
          <p:spPr>
            <a:xfrm>
              <a:off x="5508720" y="328464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3659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3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9080" y="23493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71600" y="3141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rc 16"/>
          <p:cNvSpPr/>
          <p:nvPr/>
        </p:nvSpPr>
        <p:spPr>
          <a:xfrm flipV="1">
            <a:off x="1692360" y="2348280"/>
            <a:ext cx="462276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rc 17"/>
          <p:cNvSpPr/>
          <p:nvPr/>
        </p:nvSpPr>
        <p:spPr>
          <a:xfrm flipV="1" rot="10800000">
            <a:off x="1692360" y="3427920"/>
            <a:ext cx="691200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399564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30072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630072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8604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066840" y="184464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 части – 4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4146120" y="386064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 части – ?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108800" y="4538520"/>
            <a:ext cx="47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) 4 : 2 = 2 (кг) –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оставляет одна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839520" y="50846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)  2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3 = 6 (кг) – нужно взять саха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3754440" y="55926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Ответ: 6 к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629360" y="1852560"/>
            <a:ext cx="212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тр. 13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№ 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1,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9640" y="1677960"/>
            <a:ext cx="8136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1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2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3 ря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4                    №5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1:09:41Z</dcterms:created>
  <dc:creator>user</dc:creator>
  <dc:description/>
  <dc:language>en-US</dc:language>
  <cp:lastModifiedBy>LEGION</cp:lastModifiedBy>
  <dcterms:modified xsi:type="dcterms:W3CDTF">2015-01-26T10:17:48Z</dcterms:modified>
  <cp:revision>65</cp:revision>
  <dc:subject/>
  <dc:title>Презентация PowerPoint</dc:title>
</cp:coreProperties>
</file>