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9195-A3FE-4678-B905-C3501A9E1CEC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Задачи на ч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5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6479-E728-4CC5-9ACC-781FE9768FC6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таем вмес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C0B7-AEBE-49E1-B424-31BAB3984236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таем вмес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1920-A13E-4D3A-B06A-8795235DA412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Домашнее зад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33cc"/>
                </a:solidFill>
                <a:uFillTx/>
                <a:latin typeface="Calibri"/>
              </a:rPr>
              <a:t>П.2.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Calibri"/>
              </a:rPr>
              <a:t>Стр.141, № 13, 15,  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доп. №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D768-1729-449F-BF45-FD2F7F212F34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Математика - это язык, на         котором говорят все точные науки.    </a:t>
            </a:r>
            <a:br>
              <a:rPr sz="1200"/>
            </a:b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                    Н.И. Лобачевск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D310-3941-4F86-9414-06B8CDFC7FD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Как бы машина хорошо ни работала, она может решать все требуемые от нее задачи, но она никогда не придумает ни од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                                          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А. Эйнштейн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А вот нам с вами предстоит сейчас придумать задачу по предложенной схеме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7D86-CE84-4676-B1E3-596C770786A9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думайте и решите задачу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 помощью сх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F319-EAEE-4744-BCE4-1FF8605E0894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800080"/>
                </a:solidFill>
                <a:latin typeface="Arial"/>
              </a:rPr>
              <a:t>24.10.12         </a:t>
            </a:r>
            <a:r>
              <a:rPr b="1" lang="ru-RU" sz="1200" spc="-1" strike="noStrike">
                <a:solidFill>
                  <a:srgbClr val="800080"/>
                </a:solidFill>
                <a:latin typeface="Arial"/>
              </a:rPr>
              <a:t>Задачи на ч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одумайте и ответьте: какое важное условие (которое не оговаривается, но принимается по умолчанию) должно выполняться в задачах на части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1" lang="ru-RU" sz="1100" spc="-1" strike="noStrike">
                <a:solidFill>
                  <a:srgbClr val="800080"/>
                </a:solidFill>
                <a:latin typeface="Calibri"/>
              </a:rPr>
              <a:t>Подсказка: это хорошо видно на схеме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8FBE-4CCA-4ED2-9768-9982F24D649A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одумайте и ответьте: что первым делом необходимо найти при решении задачи на ча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Нужно узнать, сколько составляет одна ча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70BB-BB72-43A0-8C9E-D7964A1E9292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варенья из вишни на 2 части ягод берут 3 части сахара. Сколько сахара требуется на 4 кг ягод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6E98-F51B-42C9-A672-C01633F4161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таем уст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472B-DED3-4AB7-ACD2-0D98BEC847DD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таем в пар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C150-EE62-44DD-8D1E-B0DACC9EF48F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67A6-7A5F-4BA9-A224-C72132AED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9000-D945-483F-83DD-AAE655A5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CC53-BEB7-44A8-8D02-08373D3D0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0EAA-CB5D-4E1E-A307-E15B0B6A2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98C3-04D6-4ABE-A1DF-D462A0D9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9621-390E-41DD-A455-8A228A0A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A716-F5DE-429B-B554-0317CAC4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3115-81F9-4DE9-98DC-ADD54294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1EA0-7339-4628-B661-5C774263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448E-3DE3-4E10-9F9A-67367216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5ED6-B3DF-4470-A691-1060A9AE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49E6-5F93-4244-9267-7ADDAE21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5764-F38B-4878-AED0-B70A4D62BD1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57A0-7517-4E83-8A21-11FF86BD87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5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794320" y="2924280"/>
            <a:ext cx="33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Задачи на ча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975240" y="4292640"/>
            <a:ext cx="728244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Разработка учителя математики МКОУ «СОШ №2  им. И.С.Унковского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Коломиец А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п.Воротынск Калужской обла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2845800" y="1700280"/>
            <a:ext cx="411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чебник С.А.Козловой, А.Г.Руб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бо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3647520" y="1484280"/>
            <a:ext cx="65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№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2296440" y="2351160"/>
            <a:ext cx="8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му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2278800" y="29988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отх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602280" y="263844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ер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Line 10"/>
          <p:cNvSpPr/>
          <p:nvPr/>
        </p:nvSpPr>
        <p:spPr>
          <a:xfrm flipV="1">
            <a:off x="1619280" y="2565360"/>
            <a:ext cx="720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1619280" y="2852640"/>
            <a:ext cx="649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3635280" y="3284640"/>
            <a:ext cx="144144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Line 13"/>
          <p:cNvSpPr/>
          <p:nvPr/>
        </p:nvSpPr>
        <p:spPr>
          <a:xfrm>
            <a:off x="3635280" y="2637000"/>
            <a:ext cx="144144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Line 14"/>
          <p:cNvSpPr/>
          <p:nvPr/>
        </p:nvSpPr>
        <p:spPr>
          <a:xfrm>
            <a:off x="5076720" y="2637000"/>
            <a:ext cx="144144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Line 15"/>
          <p:cNvSpPr/>
          <p:nvPr/>
        </p:nvSpPr>
        <p:spPr>
          <a:xfrm>
            <a:off x="6516720" y="2637000"/>
            <a:ext cx="144144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Line 16"/>
          <p:cNvSpPr/>
          <p:nvPr/>
        </p:nvSpPr>
        <p:spPr>
          <a:xfrm>
            <a:off x="363528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Line 17"/>
          <p:cNvSpPr/>
          <p:nvPr/>
        </p:nvSpPr>
        <p:spPr>
          <a:xfrm>
            <a:off x="507672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Line 18"/>
          <p:cNvSpPr/>
          <p:nvPr/>
        </p:nvSpPr>
        <p:spPr>
          <a:xfrm>
            <a:off x="651672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Line 19"/>
          <p:cNvSpPr/>
          <p:nvPr/>
        </p:nvSpPr>
        <p:spPr>
          <a:xfrm>
            <a:off x="3635280" y="3213000"/>
            <a:ext cx="0" cy="14472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Line 20"/>
          <p:cNvSpPr/>
          <p:nvPr/>
        </p:nvSpPr>
        <p:spPr>
          <a:xfrm>
            <a:off x="5076720" y="3213000"/>
            <a:ext cx="0" cy="14472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Line 21"/>
          <p:cNvSpPr/>
          <p:nvPr/>
        </p:nvSpPr>
        <p:spPr>
          <a:xfrm>
            <a:off x="795672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22"/>
          <p:cNvSpPr/>
          <p:nvPr/>
        </p:nvSpPr>
        <p:spPr>
          <a:xfrm>
            <a:off x="900000" y="1773360"/>
            <a:ext cx="5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Arc 25"/>
          <p:cNvSpPr/>
          <p:nvPr/>
        </p:nvSpPr>
        <p:spPr>
          <a:xfrm flipV="1" rot="10800000">
            <a:off x="3635280" y="3283560"/>
            <a:ext cx="1440000" cy="144360"/>
          </a:xfrm>
          <a:custGeom>
            <a:avLst/>
            <a:gdLst/>
            <a:ahLst/>
            <a:rect l="l" t="t" r="r" b="b"/>
            <a:pathLst>
              <a:path fill="none" w="41705" h="21600">
                <a:moveTo>
                  <a:pt x="-23832" y="5856"/>
                </a:moveTo>
                <a:cubicBezTo>
                  <a:pt x="-26455" y="15168"/>
                  <a:pt x="30587" y="21599"/>
                  <a:pt x="20914" y="21600"/>
                </a:cubicBezTo>
                <a:cubicBezTo>
                  <a:pt x="11064" y="21600"/>
                  <a:pt x="2462" y="14937"/>
                  <a:pt x="0" y="5400"/>
                </a:cubicBezTo>
              </a:path>
              <a:path stroke="0" w="41705" h="21600">
                <a:moveTo>
                  <a:pt x="-23832" y="5856"/>
                </a:moveTo>
                <a:cubicBezTo>
                  <a:pt x="-26455" y="15168"/>
                  <a:pt x="30587" y="21599"/>
                  <a:pt x="20914" y="21600"/>
                </a:cubicBezTo>
                <a:cubicBezTo>
                  <a:pt x="11064" y="21600"/>
                  <a:pt x="2462" y="14937"/>
                  <a:pt x="0" y="5400"/>
                </a:cubicBezTo>
                <a:lnTo>
                  <a:pt x="20914" y="0"/>
                </a:lnTo>
                <a:lnTo>
                  <a:pt x="-23832" y="585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3934080" y="3500280"/>
            <a:ext cx="7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12 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Arc 27"/>
          <p:cNvSpPr/>
          <p:nvPr/>
        </p:nvSpPr>
        <p:spPr>
          <a:xfrm flipV="1">
            <a:off x="3635280" y="2348280"/>
            <a:ext cx="4321440" cy="357480"/>
          </a:xfrm>
          <a:custGeom>
            <a:avLst/>
            <a:gdLst/>
            <a:ahLst/>
            <a:rect l="l" t="t" r="r" b="b"/>
            <a:pathLst>
              <a:path fill="none" w="41715" h="21600">
                <a:moveTo>
                  <a:pt x="-23822" y="5820"/>
                </a:moveTo>
                <a:cubicBezTo>
                  <a:pt x="-26432" y="15150"/>
                  <a:pt x="30601" y="21599"/>
                  <a:pt x="20914" y="21600"/>
                </a:cubicBezTo>
                <a:cubicBezTo>
                  <a:pt x="11064" y="21600"/>
                  <a:pt x="2462" y="14937"/>
                  <a:pt x="0" y="5400"/>
                </a:cubicBezTo>
              </a:path>
              <a:path stroke="0" w="41715" h="21600">
                <a:moveTo>
                  <a:pt x="-23822" y="5820"/>
                </a:moveTo>
                <a:cubicBezTo>
                  <a:pt x="-26432" y="15150"/>
                  <a:pt x="30601" y="21599"/>
                  <a:pt x="20914" y="21600"/>
                </a:cubicBezTo>
                <a:cubicBezTo>
                  <a:pt x="11064" y="21600"/>
                  <a:pt x="2462" y="14937"/>
                  <a:pt x="0" y="5400"/>
                </a:cubicBezTo>
                <a:lnTo>
                  <a:pt x="20914" y="0"/>
                </a:lnTo>
                <a:lnTo>
                  <a:pt x="-23822" y="582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5133600" y="191628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3 ч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3915720" y="3429000"/>
            <a:ext cx="95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1 ча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AutoShape 30"/>
          <p:cNvSpPr/>
          <p:nvPr/>
        </p:nvSpPr>
        <p:spPr>
          <a:xfrm>
            <a:off x="7885080" y="2492280"/>
            <a:ext cx="432000" cy="936720"/>
          </a:xfrm>
          <a:custGeom>
            <a:avLst/>
            <a:gdLst>
              <a:gd name="textAreaLeft" fmla="*/ 0 w 432000"/>
              <a:gd name="textAreaRight" fmla="*/ 155880 w 432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8253720" y="27082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? 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1634400" y="4005360"/>
            <a:ext cx="19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 часть – 12 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33"/>
          <p:cNvSpPr/>
          <p:nvPr/>
        </p:nvSpPr>
        <p:spPr>
          <a:xfrm>
            <a:off x="1828440" y="4583160"/>
            <a:ext cx="49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Всё зерно (мука + отходы) – 4 ч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34"/>
          <p:cNvSpPr/>
          <p:nvPr/>
        </p:nvSpPr>
        <p:spPr>
          <a:xfrm>
            <a:off x="1707480" y="5157720"/>
            <a:ext cx="52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1) 12 </a:t>
            </a: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·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 4 = 48 (ц) – </a:t>
            </a:r>
            <a:r>
              <a:rPr b="1" i="1" lang="ru-RU" sz="2400" spc="-1" strike="noStrike">
                <a:solidFill>
                  <a:srgbClr val="0033cc"/>
                </a:solidFill>
                <a:latin typeface="Calibri"/>
              </a:rPr>
              <a:t>всего смололи зер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35"/>
          <p:cNvSpPr/>
          <p:nvPr/>
        </p:nvSpPr>
        <p:spPr>
          <a:xfrm>
            <a:off x="2185200" y="5835600"/>
            <a:ext cx="170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Ответ: 48 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бо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3723120" y="1292400"/>
            <a:ext cx="73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№</a:t>
            </a: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296440" y="2351160"/>
            <a:ext cx="8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му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2278800" y="29988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отх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602280" y="263844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ер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Line 7"/>
          <p:cNvSpPr/>
          <p:nvPr/>
        </p:nvSpPr>
        <p:spPr>
          <a:xfrm flipV="1">
            <a:off x="1619280" y="2565360"/>
            <a:ext cx="720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Line 8"/>
          <p:cNvSpPr/>
          <p:nvPr/>
        </p:nvSpPr>
        <p:spPr>
          <a:xfrm>
            <a:off x="1619280" y="2852640"/>
            <a:ext cx="649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Line 9"/>
          <p:cNvSpPr/>
          <p:nvPr/>
        </p:nvSpPr>
        <p:spPr>
          <a:xfrm>
            <a:off x="3635280" y="3284640"/>
            <a:ext cx="144144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3635280" y="2637000"/>
            <a:ext cx="144144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Line 11"/>
          <p:cNvSpPr/>
          <p:nvPr/>
        </p:nvSpPr>
        <p:spPr>
          <a:xfrm>
            <a:off x="5076720" y="2637000"/>
            <a:ext cx="144144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Line 12"/>
          <p:cNvSpPr/>
          <p:nvPr/>
        </p:nvSpPr>
        <p:spPr>
          <a:xfrm>
            <a:off x="6516720" y="2637000"/>
            <a:ext cx="144144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Line 13"/>
          <p:cNvSpPr/>
          <p:nvPr/>
        </p:nvSpPr>
        <p:spPr>
          <a:xfrm>
            <a:off x="363528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Line 14"/>
          <p:cNvSpPr/>
          <p:nvPr/>
        </p:nvSpPr>
        <p:spPr>
          <a:xfrm>
            <a:off x="507672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Line 15"/>
          <p:cNvSpPr/>
          <p:nvPr/>
        </p:nvSpPr>
        <p:spPr>
          <a:xfrm>
            <a:off x="651672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Line 16"/>
          <p:cNvSpPr/>
          <p:nvPr/>
        </p:nvSpPr>
        <p:spPr>
          <a:xfrm>
            <a:off x="3635280" y="3213000"/>
            <a:ext cx="0" cy="14472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Line 17"/>
          <p:cNvSpPr/>
          <p:nvPr/>
        </p:nvSpPr>
        <p:spPr>
          <a:xfrm>
            <a:off x="5076720" y="3213000"/>
            <a:ext cx="0" cy="14472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Line 18"/>
          <p:cNvSpPr/>
          <p:nvPr/>
        </p:nvSpPr>
        <p:spPr>
          <a:xfrm>
            <a:off x="795672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 Box 19"/>
          <p:cNvSpPr/>
          <p:nvPr/>
        </p:nvSpPr>
        <p:spPr>
          <a:xfrm>
            <a:off x="900000" y="1773360"/>
            <a:ext cx="5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б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21"/>
          <p:cNvSpPr/>
          <p:nvPr/>
        </p:nvSpPr>
        <p:spPr>
          <a:xfrm>
            <a:off x="5950080" y="1844640"/>
            <a:ext cx="7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12 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Arc 22"/>
          <p:cNvSpPr/>
          <p:nvPr/>
        </p:nvSpPr>
        <p:spPr>
          <a:xfrm flipV="1">
            <a:off x="5076720" y="2348280"/>
            <a:ext cx="2880000" cy="357480"/>
          </a:xfrm>
          <a:custGeom>
            <a:avLst/>
            <a:gdLst/>
            <a:ahLst/>
            <a:rect l="l" t="t" r="r" b="b"/>
            <a:pathLst>
              <a:path fill="none" w="41715" h="21600">
                <a:moveTo>
                  <a:pt x="-23822" y="5820"/>
                </a:moveTo>
                <a:cubicBezTo>
                  <a:pt x="-26432" y="15150"/>
                  <a:pt x="30601" y="21599"/>
                  <a:pt x="20914" y="21600"/>
                </a:cubicBezTo>
                <a:cubicBezTo>
                  <a:pt x="11064" y="21600"/>
                  <a:pt x="2462" y="14937"/>
                  <a:pt x="0" y="5400"/>
                </a:cubicBezTo>
              </a:path>
              <a:path stroke="0" w="41715" h="21600">
                <a:moveTo>
                  <a:pt x="-23822" y="5820"/>
                </a:moveTo>
                <a:cubicBezTo>
                  <a:pt x="-26432" y="15150"/>
                  <a:pt x="30601" y="21599"/>
                  <a:pt x="20914" y="21600"/>
                </a:cubicBezTo>
                <a:cubicBezTo>
                  <a:pt x="11064" y="21600"/>
                  <a:pt x="2462" y="14937"/>
                  <a:pt x="0" y="5400"/>
                </a:cubicBezTo>
                <a:lnTo>
                  <a:pt x="20914" y="0"/>
                </a:lnTo>
                <a:lnTo>
                  <a:pt x="-23822" y="582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AutoShape 23"/>
          <p:cNvSpPr/>
          <p:nvPr/>
        </p:nvSpPr>
        <p:spPr>
          <a:xfrm>
            <a:off x="7885080" y="2492280"/>
            <a:ext cx="432000" cy="865440"/>
          </a:xfrm>
          <a:custGeom>
            <a:avLst/>
            <a:gdLst>
              <a:gd name="textAreaLeft" fmla="*/ 0 w 432000"/>
              <a:gd name="textAreaRight" fmla="*/ 155880 w 43200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 Box 24"/>
          <p:cNvSpPr/>
          <p:nvPr/>
        </p:nvSpPr>
        <p:spPr>
          <a:xfrm>
            <a:off x="8253720" y="27082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? 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26"/>
          <p:cNvSpPr/>
          <p:nvPr/>
        </p:nvSpPr>
        <p:spPr>
          <a:xfrm>
            <a:off x="1379880" y="3860640"/>
            <a:ext cx="24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2 части – это 12 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 Box 27"/>
          <p:cNvSpPr/>
          <p:nvPr/>
        </p:nvSpPr>
        <p:spPr>
          <a:xfrm>
            <a:off x="1121400" y="4365720"/>
            <a:ext cx="52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1) 12 : 2 = 6 (ц) – </a:t>
            </a:r>
            <a:r>
              <a:rPr b="1" i="1" lang="ru-RU" sz="2400" spc="-1" strike="noStrike">
                <a:solidFill>
                  <a:srgbClr val="0033cc"/>
                </a:solidFill>
                <a:latin typeface="Calibri"/>
              </a:rPr>
              <a:t>составляет 1 ча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29"/>
          <p:cNvSpPr/>
          <p:nvPr/>
        </p:nvSpPr>
        <p:spPr>
          <a:xfrm>
            <a:off x="1274040" y="5013360"/>
            <a:ext cx="51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2) 6 </a:t>
            </a: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·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 4 = 24 (ц) – </a:t>
            </a:r>
            <a:r>
              <a:rPr b="1" i="1" lang="ru-RU" sz="2400" spc="-1" strike="noStrike">
                <a:solidFill>
                  <a:srgbClr val="0033cc"/>
                </a:solidFill>
                <a:latin typeface="Calibri"/>
              </a:rPr>
              <a:t>всего смололи зер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30"/>
          <p:cNvSpPr/>
          <p:nvPr/>
        </p:nvSpPr>
        <p:spPr>
          <a:xfrm>
            <a:off x="2061360" y="558972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Ответ: 24 ц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58920" y="1628640"/>
            <a:ext cx="691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Домашнее зада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33cc"/>
                </a:solidFill>
                <a:uFillTx/>
                <a:latin typeface="Calibri"/>
              </a:rPr>
              <a:t>П.2.1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Стр.141, № 13, 15,  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доп. №1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400" spc="-1" strike="noStrike">
                <a:solidFill>
                  <a:srgbClr val="800080"/>
                </a:solidFill>
                <a:latin typeface="Calibri"/>
              </a:rPr>
              <a:t>Математика - это язык, на         котором говорят все точные науки.    </a:t>
            </a:r>
            <a:br>
              <a:rPr sz="4400"/>
            </a:br>
            <a:r>
              <a:rPr b="1" lang="ru-RU" sz="4400" spc="-1" strike="noStrike">
                <a:solidFill>
                  <a:srgbClr val="800080"/>
                </a:solidFill>
                <a:latin typeface="Calibri"/>
              </a:rPr>
              <a:t>                     Н.И. Лобачевский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800080"/>
                </a:solidFill>
                <a:latin typeface="Calibri"/>
              </a:rPr>
              <a:t>Как бы машина хорошо ни работала, она может решать все требуемые от нее задачи, но она никогда не придумает ни одной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800080"/>
                </a:solidFill>
                <a:latin typeface="Calibri"/>
              </a:rPr>
              <a:t>                                     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800080"/>
                </a:solidFill>
                <a:latin typeface="Calibri"/>
              </a:rPr>
              <a:t>                                           </a:t>
            </a:r>
            <a:r>
              <a:rPr b="1" lang="ru-RU" sz="3300" spc="-1" strike="noStrike">
                <a:solidFill>
                  <a:srgbClr val="800080"/>
                </a:solidFill>
                <a:latin typeface="Calibri"/>
              </a:rPr>
              <a:t>А. Эйнштейн 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А вот нам с вами предстоит сейчас придумать задачу по предложенной схеме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560" y="476280"/>
            <a:ext cx="7859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идумайте и решите задачу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с помощью схем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Line 7"/>
          <p:cNvSpPr/>
          <p:nvPr/>
        </p:nvSpPr>
        <p:spPr>
          <a:xfrm>
            <a:off x="1692360" y="2637000"/>
            <a:ext cx="23050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Line 8"/>
          <p:cNvSpPr/>
          <p:nvPr/>
        </p:nvSpPr>
        <p:spPr>
          <a:xfrm>
            <a:off x="3995640" y="2637000"/>
            <a:ext cx="23050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Line 9"/>
          <p:cNvSpPr/>
          <p:nvPr/>
        </p:nvSpPr>
        <p:spPr>
          <a:xfrm>
            <a:off x="1692360" y="3429000"/>
            <a:ext cx="23050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169236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Line 11"/>
          <p:cNvSpPr/>
          <p:nvPr/>
        </p:nvSpPr>
        <p:spPr>
          <a:xfrm>
            <a:off x="3995640" y="335772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Line 12"/>
          <p:cNvSpPr/>
          <p:nvPr/>
        </p:nvSpPr>
        <p:spPr>
          <a:xfrm>
            <a:off x="399564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Line 13"/>
          <p:cNvSpPr/>
          <p:nvPr/>
        </p:nvSpPr>
        <p:spPr>
          <a:xfrm>
            <a:off x="1692360" y="335772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ine 14"/>
          <p:cNvSpPr/>
          <p:nvPr/>
        </p:nvSpPr>
        <p:spPr>
          <a:xfrm>
            <a:off x="630072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445320" y="2349360"/>
            <a:ext cx="11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I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 пол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373680" y="314172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II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 пол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AutoShape 19"/>
          <p:cNvSpPr/>
          <p:nvPr/>
        </p:nvSpPr>
        <p:spPr>
          <a:xfrm>
            <a:off x="6443640" y="2492280"/>
            <a:ext cx="360360" cy="1224000"/>
          </a:xfrm>
          <a:custGeom>
            <a:avLst/>
            <a:gdLst>
              <a:gd name="textAreaLeft" fmla="*/ 0 w 360360"/>
              <a:gd name="textAreaRight" fmla="*/ 129960 w 3603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20"/>
          <p:cNvSpPr/>
          <p:nvPr/>
        </p:nvSpPr>
        <p:spPr>
          <a:xfrm>
            <a:off x="6978240" y="285264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150 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кни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Arc 21"/>
          <p:cNvSpPr/>
          <p:nvPr/>
        </p:nvSpPr>
        <p:spPr>
          <a:xfrm flipV="1">
            <a:off x="1674720" y="2348640"/>
            <a:ext cx="2319480" cy="358920"/>
          </a:xfrm>
          <a:custGeom>
            <a:avLst/>
            <a:gdLst/>
            <a:ahLst/>
            <a:rect l="l" t="t" r="r" b="b"/>
            <a:pathLst>
              <a:path fill="none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</a:path>
              <a:path stroke="0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  <a:lnTo>
                  <a:pt x="21282" y="0"/>
                </a:lnTo>
                <a:lnTo>
                  <a:pt x="42072" y="585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rc 22"/>
          <p:cNvSpPr/>
          <p:nvPr/>
        </p:nvSpPr>
        <p:spPr>
          <a:xfrm flipV="1">
            <a:off x="3995640" y="2348640"/>
            <a:ext cx="2319480" cy="358920"/>
          </a:xfrm>
          <a:custGeom>
            <a:avLst/>
            <a:gdLst/>
            <a:ahLst/>
            <a:rect l="l" t="t" r="r" b="b"/>
            <a:pathLst>
              <a:path fill="none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</a:path>
              <a:path stroke="0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  <a:lnTo>
                  <a:pt x="21282" y="0"/>
                </a:lnTo>
                <a:lnTo>
                  <a:pt x="42072" y="585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rc 23"/>
          <p:cNvSpPr/>
          <p:nvPr/>
        </p:nvSpPr>
        <p:spPr>
          <a:xfrm flipV="1" rot="10800000">
            <a:off x="1692360" y="3427920"/>
            <a:ext cx="2319120" cy="358920"/>
          </a:xfrm>
          <a:custGeom>
            <a:avLst/>
            <a:gdLst/>
            <a:ahLst/>
            <a:rect l="l" t="t" r="r" b="b"/>
            <a:pathLst>
              <a:path fill="none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</a:path>
              <a:path stroke="0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  <a:lnTo>
                  <a:pt x="21282" y="0"/>
                </a:lnTo>
                <a:lnTo>
                  <a:pt x="42072" y="585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24"/>
          <p:cNvSpPr/>
          <p:nvPr/>
        </p:nvSpPr>
        <p:spPr>
          <a:xfrm>
            <a:off x="2297880" y="378936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? кни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25"/>
          <p:cNvSpPr/>
          <p:nvPr/>
        </p:nvSpPr>
        <p:spPr>
          <a:xfrm>
            <a:off x="684360" y="486900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На первой полке книг в два раза больше, чем на второй. Сколько книг на второй полке, если на обеих полках 150 книг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26"/>
          <p:cNvSpPr/>
          <p:nvPr/>
        </p:nvSpPr>
        <p:spPr>
          <a:xfrm>
            <a:off x="1527840" y="4367160"/>
            <a:ext cx="44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Один из возможных вариант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Group 27"/>
          <p:cNvGrpSpPr/>
          <p:nvPr/>
        </p:nvGrpSpPr>
        <p:grpSpPr>
          <a:xfrm>
            <a:off x="3276720" y="3789360"/>
            <a:ext cx="3241440" cy="2135160"/>
            <a:chOff x="3276720" y="3789360"/>
            <a:chExt cx="3241440" cy="2135160"/>
          </a:xfrm>
        </p:grpSpPr>
        <p:pic>
          <p:nvPicPr>
            <p:cNvPr id="79" name="Picture 28" descr="MCj04244440000[1]"/>
            <p:cNvPicPr/>
            <p:nvPr/>
          </p:nvPicPr>
          <p:blipFill>
            <a:blip r:embed="rId1"/>
            <a:stretch/>
          </p:blipFill>
          <p:spPr>
            <a:xfrm>
              <a:off x="3276720" y="4321800"/>
              <a:ext cx="1460520" cy="160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AutoShape 29"/>
            <p:cNvSpPr/>
            <p:nvPr/>
          </p:nvSpPr>
          <p:spPr>
            <a:xfrm>
              <a:off x="4263120" y="3789360"/>
              <a:ext cx="2255040" cy="738720"/>
            </a:xfrm>
            <a:prstGeom prst="wedgeEllipseCallout">
              <a:avLst>
                <a:gd name="adj1" fmla="val -45481"/>
                <a:gd name="adj2" fmla="val 142226"/>
              </a:avLst>
            </a:prstGeom>
            <a:solidFill>
              <a:srgbClr val="ffff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ПОДУМАЙ!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24.10.12         </a:t>
            </a: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Задачи на ча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Подумайте и ответьте: какое важное условие (которое не оговаривается, но принимается по умолчанию) должно выполняться в задачах на части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Подсказка: это хорошо видно на схем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10080" y="4653000"/>
            <a:ext cx="736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се части, о которых идет речь в задач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равные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Group 5"/>
          <p:cNvGrpSpPr/>
          <p:nvPr/>
        </p:nvGrpSpPr>
        <p:grpSpPr>
          <a:xfrm>
            <a:off x="4932360" y="3933720"/>
            <a:ext cx="3787920" cy="2597040"/>
            <a:chOff x="4932360" y="3933720"/>
            <a:chExt cx="3787920" cy="2597040"/>
          </a:xfrm>
        </p:grpSpPr>
        <p:pic>
          <p:nvPicPr>
            <p:cNvPr id="86" name="Picture 6" descr="MCj04244440000[1]"/>
            <p:cNvPicPr/>
            <p:nvPr/>
          </p:nvPicPr>
          <p:blipFill>
            <a:blip r:embed="rId1"/>
            <a:stretch/>
          </p:blipFill>
          <p:spPr>
            <a:xfrm>
              <a:off x="4932360" y="4581360"/>
              <a:ext cx="170676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AutoShape 7"/>
            <p:cNvSpPr/>
            <p:nvPr/>
          </p:nvSpPr>
          <p:spPr>
            <a:xfrm>
              <a:off x="6085080" y="3933720"/>
              <a:ext cx="2635200" cy="898560"/>
            </a:xfrm>
            <a:prstGeom prst="wedgeEllipseCallout">
              <a:avLst>
                <a:gd name="adj1" fmla="val -45481"/>
                <a:gd name="adj2" fmla="val 142226"/>
              </a:avLst>
            </a:prstGeom>
            <a:solidFill>
              <a:srgbClr val="ffff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ПОДУМАЙ!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uk-UA" sz="4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684360" y="1773360"/>
            <a:ext cx="748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Подумайте и ответьте: что первым делом необходимо найти при решении задачи на част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611280" y="350028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ужно узнать, сколько составляет одна ча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11"/>
          <p:cNvGrpSpPr/>
          <p:nvPr/>
        </p:nvGrpSpPr>
        <p:grpSpPr>
          <a:xfrm>
            <a:off x="4356000" y="3284640"/>
            <a:ext cx="3787920" cy="2597040"/>
            <a:chOff x="4356000" y="3284640"/>
            <a:chExt cx="3787920" cy="2597040"/>
          </a:xfrm>
        </p:grpSpPr>
        <p:pic>
          <p:nvPicPr>
            <p:cNvPr id="93" name="Picture 12" descr="MCj04244440000[1]"/>
            <p:cNvPicPr/>
            <p:nvPr/>
          </p:nvPicPr>
          <p:blipFill>
            <a:blip r:embed="rId1"/>
            <a:stretch/>
          </p:blipFill>
          <p:spPr>
            <a:xfrm>
              <a:off x="4356000" y="3932280"/>
              <a:ext cx="170676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AutoShape 13"/>
            <p:cNvSpPr/>
            <p:nvPr/>
          </p:nvSpPr>
          <p:spPr>
            <a:xfrm>
              <a:off x="5508720" y="3284640"/>
              <a:ext cx="2635200" cy="898560"/>
            </a:xfrm>
            <a:prstGeom prst="wedgeEllipseCallout">
              <a:avLst>
                <a:gd name="adj1" fmla="val -45481"/>
                <a:gd name="adj2" fmla="val 142226"/>
              </a:avLst>
            </a:prstGeom>
            <a:solidFill>
              <a:srgbClr val="ffff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ПОДУМАЙ!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73659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ля варенья из вишни на 2 части ягод берут 3 части сахара. Сколько сахара требуется на 4 кг ягод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Line 3"/>
          <p:cNvSpPr/>
          <p:nvPr/>
        </p:nvSpPr>
        <p:spPr>
          <a:xfrm>
            <a:off x="1692360" y="2637000"/>
            <a:ext cx="23050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Line 4"/>
          <p:cNvSpPr/>
          <p:nvPr/>
        </p:nvSpPr>
        <p:spPr>
          <a:xfrm>
            <a:off x="3995640" y="2637000"/>
            <a:ext cx="23050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Line 5"/>
          <p:cNvSpPr/>
          <p:nvPr/>
        </p:nvSpPr>
        <p:spPr>
          <a:xfrm>
            <a:off x="1692360" y="3429000"/>
            <a:ext cx="23050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Line 6"/>
          <p:cNvSpPr/>
          <p:nvPr/>
        </p:nvSpPr>
        <p:spPr>
          <a:xfrm>
            <a:off x="169236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Line 7"/>
          <p:cNvSpPr/>
          <p:nvPr/>
        </p:nvSpPr>
        <p:spPr>
          <a:xfrm>
            <a:off x="3995640" y="335772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399564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Line 9"/>
          <p:cNvSpPr/>
          <p:nvPr/>
        </p:nvSpPr>
        <p:spPr>
          <a:xfrm>
            <a:off x="1692360" y="335772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Line 10"/>
          <p:cNvSpPr/>
          <p:nvPr/>
        </p:nvSpPr>
        <p:spPr>
          <a:xfrm>
            <a:off x="630072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469080" y="234936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Яг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471600" y="3141720"/>
            <a:ext cx="9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Саха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Arc 16"/>
          <p:cNvSpPr/>
          <p:nvPr/>
        </p:nvSpPr>
        <p:spPr>
          <a:xfrm flipV="1">
            <a:off x="1692360" y="2348280"/>
            <a:ext cx="4622760" cy="358920"/>
          </a:xfrm>
          <a:custGeom>
            <a:avLst/>
            <a:gdLst/>
            <a:ahLst/>
            <a:rect l="l" t="t" r="r" b="b"/>
            <a:pathLst>
              <a:path fill="none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</a:path>
              <a:path stroke="0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  <a:lnTo>
                  <a:pt x="21282" y="0"/>
                </a:lnTo>
                <a:lnTo>
                  <a:pt x="42072" y="585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Arc 17"/>
          <p:cNvSpPr/>
          <p:nvPr/>
        </p:nvSpPr>
        <p:spPr>
          <a:xfrm flipV="1" rot="10800000">
            <a:off x="1692360" y="3427920"/>
            <a:ext cx="6912000" cy="358920"/>
          </a:xfrm>
          <a:custGeom>
            <a:avLst/>
            <a:gdLst/>
            <a:ahLst/>
            <a:rect l="l" t="t" r="r" b="b"/>
            <a:pathLst>
              <a:path fill="none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</a:path>
              <a:path stroke="0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  <a:lnTo>
                  <a:pt x="21282" y="0"/>
                </a:lnTo>
                <a:lnTo>
                  <a:pt x="42072" y="585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Line 21"/>
          <p:cNvSpPr/>
          <p:nvPr/>
        </p:nvSpPr>
        <p:spPr>
          <a:xfrm>
            <a:off x="3995640" y="3429000"/>
            <a:ext cx="23050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Line 22"/>
          <p:cNvSpPr/>
          <p:nvPr/>
        </p:nvSpPr>
        <p:spPr>
          <a:xfrm>
            <a:off x="6300720" y="3429000"/>
            <a:ext cx="23050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Line 24"/>
          <p:cNvSpPr/>
          <p:nvPr/>
        </p:nvSpPr>
        <p:spPr>
          <a:xfrm>
            <a:off x="6300720" y="335772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Line 25"/>
          <p:cNvSpPr/>
          <p:nvPr/>
        </p:nvSpPr>
        <p:spPr>
          <a:xfrm>
            <a:off x="8604360" y="335772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27"/>
          <p:cNvSpPr/>
          <p:nvPr/>
        </p:nvSpPr>
        <p:spPr>
          <a:xfrm>
            <a:off x="3066840" y="184464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2 части – 4 к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28"/>
          <p:cNvSpPr/>
          <p:nvPr/>
        </p:nvSpPr>
        <p:spPr>
          <a:xfrm>
            <a:off x="4146120" y="3860640"/>
            <a:ext cx="18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3 части – ? к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29"/>
          <p:cNvSpPr/>
          <p:nvPr/>
        </p:nvSpPr>
        <p:spPr>
          <a:xfrm>
            <a:off x="1108800" y="4538520"/>
            <a:ext cx="47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1) 4 : 2 = 2 (кг) – 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составляет одна ча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30"/>
          <p:cNvSpPr/>
          <p:nvPr/>
        </p:nvSpPr>
        <p:spPr>
          <a:xfrm>
            <a:off x="839520" y="5084640"/>
            <a:ext cx="500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2)  2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·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 3 = 6 (кг) – нужно взять сахар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31"/>
          <p:cNvSpPr/>
          <p:nvPr/>
        </p:nvSpPr>
        <p:spPr>
          <a:xfrm>
            <a:off x="3754440" y="559260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Ответ: 6 кг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ботаем уст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1629360" y="1852560"/>
            <a:ext cx="2120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Стр. 13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 № </a:t>
            </a: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1,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ботаем в пар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539640" y="1677960"/>
            <a:ext cx="813600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1 ряд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2 ряд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              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3 ря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Calibri"/>
              </a:rPr>
              <a:t>      </a:t>
            </a:r>
            <a:r>
              <a:rPr b="1" lang="ru-RU" sz="4000" spc="-1" strike="noStrike">
                <a:solidFill>
                  <a:srgbClr val="0033cc"/>
                </a:solidFill>
                <a:latin typeface="Calibri"/>
              </a:rPr>
              <a:t>№</a:t>
            </a:r>
            <a:r>
              <a:rPr b="1" lang="ru-RU" sz="4000" spc="-1" strike="noStrike">
                <a:solidFill>
                  <a:srgbClr val="0033cc"/>
                </a:solidFill>
                <a:latin typeface="Calibri"/>
              </a:rPr>
              <a:t>3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                 </a:t>
            </a:r>
            <a:r>
              <a:rPr b="1" lang="ru-RU" sz="4000" spc="-1" strike="noStrike">
                <a:solidFill>
                  <a:srgbClr val="0033cc"/>
                </a:solidFill>
                <a:latin typeface="Calibri"/>
              </a:rPr>
              <a:t>№4                    №5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8T01:09:41Z</dcterms:created>
  <dc:creator>user</dc:creator>
  <dc:description/>
  <dc:language>en-US</dc:language>
  <cp:lastModifiedBy>LEGION</cp:lastModifiedBy>
  <dcterms:modified xsi:type="dcterms:W3CDTF">2015-01-26T10:17:48Z</dcterms:modified>
  <cp:revision>65</cp:revision>
  <dc:subject/>
  <dc:title>Презентация PowerPoint</dc:title>
</cp:coreProperties>
</file>