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26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9720" y="728640"/>
            <a:ext cx="4856040" cy="36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26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C97B-6ACB-4059-A7EF-453D4805FC3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4140-61FD-43DF-BECE-2774D45AB9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8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ыжник от озера до деревни шёл со скоростью 15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обратно – со скоростью 12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м/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олько времени ушло у него на обратную дорог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ч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03581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0D4-AA3C-4402-A9F2-F20B29210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937B-BD0F-406A-8ADB-D7F63170AA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10400364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Times New Roman"/>
              </a:rPr>
              <a:t>Логические те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шите анаграмму и исключите лишнее слов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10400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прямая, луч, отрезок, перимет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тавьте пропущенное числ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53EB-8B7E-4970-B91B-C8B442AC95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римеры тестовы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C48D-07F5-47A2-AA88-FA9CD5EEA8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42C3-283E-4656-ACEE-CE03EA3136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F26A-F874-4D94-B1A4-0764BD4AD8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 «Равнобедренный треугольн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8CB-0712-450E-BAB0-7139B5F7B5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354F-7E71-4872-80BB-ECD522CE44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Тестирование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иды тес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в зависимости от цели прове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и формы отв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957C-B1ED-4288-983B-049E016595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ff"/>
                </a:solidFill>
                <a:latin typeface="Times New Roman"/>
              </a:rPr>
              <a:t>Правила тестирова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45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296D-9A1E-4905-ACBF-2294C42C26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Тесты обученност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Преимущество тестовой провер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E7F9-058E-4AD6-823D-90F836114D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Недостатки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Использование тестир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129C-119A-4D56-8EED-230251AD05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Решите уравнение: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4491-4042-43F6-A3B9-93F790CCE4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54E3-8376-41E2-AE4B-67DFA9C03A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6040" cy="36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496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Подготовка к ГИ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29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15E0-E3B9-482C-9E4E-6437F54FB0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C90-C865-4616-A44F-4211FA494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7E80-FFDB-4567-ABD6-42D15105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0315-66A9-4ED2-B37B-8EFDC09B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B84B-5AC6-423D-BA70-F482CB36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3F51-E38A-432A-82E0-993F03D6B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1698-3F96-403E-B3A4-E05459C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2431-22A2-4265-9D2B-289C08F5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79C1-1BF7-4A40-92C5-BC084443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C6BB-40B1-4F58-BB5B-7ECDB35E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BD5-02AE-460A-9507-B9959331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77CF-8106-4A63-8E75-9533333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891-4912-48E2-A118-CFEECB07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61D4-E87C-4EEA-86A2-E8C621A2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2DB9-5C3B-42A4-8132-6E35E602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3357-1B0E-4B04-8DA1-6ECC5C15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A718-6A42-420B-B4E6-52D6EB38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8E788-79DC-4262-8054-E2B77736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8A6-1ABE-426B-A005-B12802D1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E51A-7B0D-44DA-B9CE-0CB8AED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647-C089-4436-A89C-B415BDE4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BD4D-F6FB-4435-9DF6-07562B86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F63-7A29-49B8-8ACB-6B5E627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081-4325-4347-A238-1C7CCFCE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3AD-0E0B-41F8-AD99-76C6BD51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F2C0-CFB3-411E-B139-E96DF6CDDA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A434-15FB-4308-A6CD-833BBFD882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05440" cy="2374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e05b3"/>
                </a:solidFill>
                <a:latin typeface="FrankC"/>
              </a:rPr>
              <a:t>Применение тестов на уроках математики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4716720" cy="2160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Кушнаренко И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МОУ «Гимназия №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05b3"/>
                </a:solidFill>
                <a:latin typeface="FrankC"/>
              </a:rPr>
              <a:t>г. Белгород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rack02.mp3" descr=""/>
          <p:cNvPicPr/>
          <p:nvPr/>
        </p:nvPicPr>
        <p:blipFill>
          <a:blip r:embed="rId1"/>
          <a:stretch/>
        </p:blipFill>
        <p:spPr>
          <a:xfrm>
            <a:off x="611280" y="6858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9"/>
          <p:cNvSpPr/>
          <p:nvPr/>
        </p:nvSpPr>
        <p:spPr>
          <a:xfrm>
            <a:off x="2205720" y="260280"/>
            <a:ext cx="6380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8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ыжник от озера до деревни шёл со скоростью 15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обратно – со скоростью 12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м/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олько времени ушло у него на обратную дорог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на весь путь туда и обратно лыжник затратил 3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8"/>
              <p:cNvSpPr txBox="1"/>
              <p:nvPr/>
            </p:nvSpPr>
            <p:spPr>
              <a:xfrm>
                <a:off x="3059280" y="1413000"/>
                <a:ext cx="2491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Rectangle 10"/>
          <p:cNvSpPr/>
          <p:nvPr/>
        </p:nvSpPr>
        <p:spPr>
          <a:xfrm>
            <a:off x="2341440" y="234828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7"/>
              <p:cNvSpPr txBox="1"/>
              <p:nvPr/>
            </p:nvSpPr>
            <p:spPr>
              <a:xfrm>
                <a:off x="2700360" y="2365200"/>
                <a:ext cx="1295280" cy="2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Rectangle 11"/>
          <p:cNvSpPr/>
          <p:nvPr/>
        </p:nvSpPr>
        <p:spPr>
          <a:xfrm>
            <a:off x="5073840" y="2348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Б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6"/>
              <p:cNvSpPr txBox="1"/>
              <p:nvPr/>
            </p:nvSpPr>
            <p:spPr>
              <a:xfrm>
                <a:off x="5508720" y="2276640"/>
                <a:ext cx="11206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Rectangle 12"/>
          <p:cNvSpPr/>
          <p:nvPr/>
        </p:nvSpPr>
        <p:spPr>
          <a:xfrm>
            <a:off x="2414880" y="2848320"/>
            <a:ext cx="3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5"/>
              <p:cNvSpPr txBox="1"/>
              <p:nvPr/>
            </p:nvSpPr>
            <p:spPr>
              <a:xfrm>
                <a:off x="5435640" y="2852640"/>
                <a:ext cx="151272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13"/>
          <p:cNvSpPr/>
          <p:nvPr/>
        </p:nvSpPr>
        <p:spPr>
          <a:xfrm>
            <a:off x="-2430000" y="4307760"/>
            <a:ext cx="30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771640" y="2852640"/>
                <a:ext cx="1368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6" name="Picture 14" descr="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916360" y="5013360"/>
            <a:ext cx="5029200" cy="12096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20"/>
          <p:cNvSpPr/>
          <p:nvPr/>
        </p:nvSpPr>
        <p:spPr>
          <a:xfrm>
            <a:off x="2406600" y="3284280"/>
            <a:ext cx="60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каком рисунке показано множество решений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вен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9"/>
              <p:cNvSpPr txBox="1"/>
              <p:nvPr/>
            </p:nvSpPr>
            <p:spPr>
              <a:xfrm>
                <a:off x="3995640" y="3716280"/>
                <a:ext cx="1368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≥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Rectangle 22"/>
          <p:cNvSpPr/>
          <p:nvPr/>
        </p:nvSpPr>
        <p:spPr>
          <a:xfrm>
            <a:off x="2411280" y="1700280"/>
            <a:ext cx="56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время, затраченное на обратную дорог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ое из уравнений соответствует условию задач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5005080" y="285264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2556000" y="549360"/>
                <a:ext cx="12952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03" name="Picture 4" descr="4"/>
          <p:cNvPicPr/>
          <p:nvPr/>
        </p:nvPicPr>
        <p:blipFill>
          <a:blip r:embed="rId1"/>
          <a:stretch/>
        </p:blipFill>
        <p:spPr>
          <a:xfrm>
            <a:off x="2843280" y="41497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1"/>
          <p:cNvSpPr/>
          <p:nvPr/>
        </p:nvSpPr>
        <p:spPr>
          <a:xfrm>
            <a:off x="2118960" y="89640"/>
            <a:ext cx="66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каждой функции, заданной формулой, укажите её граф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9"/>
              <p:cNvSpPr txBox="1"/>
              <p:nvPr/>
            </p:nvSpPr>
            <p:spPr>
              <a:xfrm>
                <a:off x="4716360" y="62064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6516720" y="620640"/>
                <a:ext cx="10080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" name="Rectangle 14"/>
          <p:cNvSpPr/>
          <p:nvPr/>
        </p:nvSpPr>
        <p:spPr>
          <a:xfrm>
            <a:off x="228600" y="159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10358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3"/>
          <p:cNvPicPr/>
          <p:nvPr/>
        </p:nvPicPr>
        <p:blipFill>
          <a:blip r:embed="rId2"/>
          <a:stretch/>
        </p:blipFill>
        <p:spPr>
          <a:xfrm>
            <a:off x="2484360" y="1052640"/>
            <a:ext cx="5133960" cy="16761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5"/>
          <p:cNvSpPr/>
          <p:nvPr/>
        </p:nvSpPr>
        <p:spPr>
          <a:xfrm>
            <a:off x="2265120" y="2565000"/>
            <a:ext cx="561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лот плывёт по ре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ён график его движ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горизонтальной оси откладывается время дви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6"/>
              <p:cNvSpPr txBox="1"/>
              <p:nvPr/>
            </p:nvSpPr>
            <p:spPr>
              <a:xfrm>
                <a:off x="7885080" y="3068640"/>
                <a:ext cx="2556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Rectangle 16"/>
          <p:cNvSpPr/>
          <p:nvPr/>
        </p:nvSpPr>
        <p:spPr>
          <a:xfrm>
            <a:off x="2268360" y="3428280"/>
            <a:ext cx="31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ертикальной – расстоя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5"/>
              <p:cNvSpPr txBox="1"/>
              <p:nvPr/>
            </p:nvSpPr>
            <p:spPr>
              <a:xfrm>
                <a:off x="228600" y="3975120"/>
                <a:ext cx="11448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Rectangle 17"/>
          <p:cNvSpPr/>
          <p:nvPr/>
        </p:nvSpPr>
        <p:spPr>
          <a:xfrm>
            <a:off x="2336400" y="3788640"/>
            <a:ext cx="549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участке пути скорость течения наибольш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9"/>
              <p:cNvSpPr txBox="1"/>
              <p:nvPr/>
            </p:nvSpPr>
            <p:spPr>
              <a:xfrm>
                <a:off x="5364000" y="3429000"/>
                <a:ext cx="26856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Rectangle 21"/>
          <p:cNvSpPr/>
          <p:nvPr/>
        </p:nvSpPr>
        <p:spPr>
          <a:xfrm>
            <a:off x="2195640" y="5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2"/>
          <p:cNvSpPr/>
          <p:nvPr/>
        </p:nvSpPr>
        <p:spPr>
          <a:xfrm>
            <a:off x="4286160" y="620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4"/>
          <p:cNvSpPr/>
          <p:nvPr/>
        </p:nvSpPr>
        <p:spPr>
          <a:xfrm>
            <a:off x="6086520" y="62064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8102520" y="31417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5508360" y="3429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оторое проплыл пло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7"/>
          <p:cNvSpPr/>
          <p:nvPr/>
        </p:nvSpPr>
        <p:spPr>
          <a:xfrm flipV="1" rot="10800000">
            <a:off x="5148360" y="4651920"/>
            <a:ext cx="33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8"/>
          <p:cNvSpPr/>
          <p:nvPr/>
        </p:nvSpPr>
        <p:spPr>
          <a:xfrm>
            <a:off x="2268360" y="252720"/>
            <a:ext cx="72360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r>
              <a:rPr b="1" i="1" lang="ru-RU" sz="2800" spc="-1" strike="noStrike">
                <a:solidFill>
                  <a:srgbClr val="e4005c"/>
                </a:solidFill>
                <a:latin typeface="Arial"/>
                <a:ea typeface="Times New Roman"/>
              </a:rPr>
              <a:t>Логические те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те анаграмму и исключите лишнее слов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А П Р Я Я ; Ч У Л; Р Е З О Т О К; Р И П Е Т Р Е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прямая, луч, отрезок, периме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ишнее слово-- периметр (метрическая величина), остальные-- геометрические фиг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,1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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,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3;4;5;6;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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ставьте необходимую фигур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003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2383920" y="3284640"/>
            <a:ext cx="4689000" cy="31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040036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00%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0%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(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  62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(?)      9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16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(?)   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4. Вставьте пропущенное числ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8x-4=24+x                     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x+6= -1                     3x-1,5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003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20)                                    (-25)                             (?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36799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1"/>
          <p:cNvSpPr/>
          <p:nvPr/>
        </p:nvSpPr>
        <p:spPr>
          <a:xfrm>
            <a:off x="45943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2"/>
          <p:cNvSpPr/>
          <p:nvPr/>
        </p:nvSpPr>
        <p:spPr>
          <a:xfrm>
            <a:off x="5508720" y="3645000"/>
            <a:ext cx="73188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3"/>
          <p:cNvSpPr/>
          <p:nvPr/>
        </p:nvSpPr>
        <p:spPr>
          <a:xfrm>
            <a:off x="6515280" y="3645000"/>
            <a:ext cx="731520" cy="365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4"/>
          <p:cNvSpPr/>
          <p:nvPr/>
        </p:nvSpPr>
        <p:spPr>
          <a:xfrm>
            <a:off x="2340000" y="1318680"/>
            <a:ext cx="6264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известно, что 0 &lt; а &lt;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, что числ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отрицательное. На каком из рисун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с координат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, 2т, т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ены на координатной пря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ильном поряд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7" descr=""/>
          <p:cNvPicPr/>
          <p:nvPr/>
        </p:nvPicPr>
        <p:blipFill>
          <a:blip r:embed="rId1"/>
          <a:stretch/>
        </p:blipFill>
        <p:spPr>
          <a:xfrm>
            <a:off x="3059280" y="5229360"/>
            <a:ext cx="4884480" cy="9363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5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2967480" y="281160"/>
            <a:ext cx="408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имеры тестов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лгебра 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2344680" y="623160"/>
            <a:ext cx="631332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птовом магазине сахарный песок продается на след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х: первые 30 кг — по цене 20 р. за килограм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алее — по цене 10 р. за кило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рафик соответствует этим услов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17" descr=""/>
          <p:cNvPicPr/>
          <p:nvPr/>
        </p:nvPicPr>
        <p:blipFill>
          <a:blip r:embed="rId1"/>
          <a:stretch/>
        </p:blipFill>
        <p:spPr>
          <a:xfrm>
            <a:off x="-3506760" y="2471760"/>
            <a:ext cx="3038400" cy="27050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-3506760" y="517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7" descr=""/>
          <p:cNvPicPr/>
          <p:nvPr/>
        </p:nvPicPr>
        <p:blipFill>
          <a:blip r:embed="rId2"/>
          <a:stretch/>
        </p:blipFill>
        <p:spPr>
          <a:xfrm>
            <a:off x="3708360" y="2898720"/>
            <a:ext cx="3311640" cy="29480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202480" y="260280"/>
            <a:ext cx="531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а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у = ах2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+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каком рисунке изображен график этой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известно, чт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 &gt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и квадратный трехч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х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х + 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еет два положительных корн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" descr="C:\Users\Admin\Documents\Мои результаты сканирования\2008-02 (фев)\сканирование0003.gif"/>
          <p:cNvPicPr/>
          <p:nvPr/>
        </p:nvPicPr>
        <p:blipFill>
          <a:blip r:embed="rId1"/>
          <a:srcRect l="4305" t="4061" r="4918" b="0"/>
          <a:stretch/>
        </p:blipFill>
        <p:spPr>
          <a:xfrm>
            <a:off x="4067280" y="1773360"/>
            <a:ext cx="2558880" cy="2046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6"/>
          <p:cNvSpPr/>
          <p:nvPr/>
        </p:nvSpPr>
        <p:spPr>
          <a:xfrm>
            <a:off x="2198880" y="3978720"/>
            <a:ext cx="650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из точек А(2; 1), В(-2; -1), С(-1; -1); Д(3; 2/3) принадле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у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), где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"/>
          <p:cNvPicPr/>
          <p:nvPr/>
        </p:nvPicPr>
        <p:blipFill>
          <a:blip r:embed="rId2"/>
          <a:stretch/>
        </p:blipFill>
        <p:spPr>
          <a:xfrm>
            <a:off x="4140360" y="4869000"/>
            <a:ext cx="2376360" cy="757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8"/>
          <p:cNvSpPr/>
          <p:nvPr/>
        </p:nvSpPr>
        <p:spPr>
          <a:xfrm>
            <a:off x="3141720" y="587628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Точка 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Точка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очка 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Точка 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8"/>
          <p:cNvSpPr/>
          <p:nvPr/>
        </p:nvSpPr>
        <p:spPr>
          <a:xfrm>
            <a:off x="3059280" y="15573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3132000" y="2060640"/>
            <a:ext cx="18288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3634920" y="206064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126520" y="1051920"/>
            <a:ext cx="22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. Найти перимет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4140360" y="162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б)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3203640" y="2103120"/>
            <a:ext cx="649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см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2844000" y="260280"/>
            <a:ext cx="528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«Равнобедренный треуголь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еометрия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4"/>
          <p:cNvSpPr/>
          <p:nvPr/>
        </p:nvSpPr>
        <p:spPr>
          <a:xfrm>
            <a:off x="2267640" y="1700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3 см 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5"/>
          <p:cNvSpPr/>
          <p:nvPr/>
        </p:nvSpPr>
        <p:spPr>
          <a:xfrm>
            <a:off x="5491440" y="1051920"/>
            <a:ext cx="33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6"/>
          <p:cNvSpPr/>
          <p:nvPr/>
        </p:nvSpPr>
        <p:spPr>
          <a:xfrm>
            <a:off x="5264280" y="156996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8"/>
          <p:cNvSpPr/>
          <p:nvPr/>
        </p:nvSpPr>
        <p:spPr>
          <a:xfrm>
            <a:off x="5378400" y="1925640"/>
            <a:ext cx="168480" cy="155520"/>
          </a:xfrm>
          <a:custGeom>
            <a:avLst/>
            <a:gdLst/>
            <a:ahLst/>
            <a:rect l="l" t="t" r="r" b="b"/>
            <a:pathLst>
              <a:path w="106" h="98">
                <a:moveTo>
                  <a:pt x="0" y="0"/>
                </a:moveTo>
                <a:lnTo>
                  <a:pt x="106" y="98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9"/>
          <p:cNvSpPr/>
          <p:nvPr/>
        </p:nvSpPr>
        <p:spPr>
          <a:xfrm flipH="1">
            <a:off x="5797080" y="1917720"/>
            <a:ext cx="18252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rc 22"/>
          <p:cNvSpPr/>
          <p:nvPr/>
        </p:nvSpPr>
        <p:spPr>
          <a:xfrm>
            <a:off x="5364000" y="2349360"/>
            <a:ext cx="92160" cy="1828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5448960" y="2203920"/>
            <a:ext cx="47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6588000" y="155736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8"/>
          <p:cNvSpPr/>
          <p:nvPr/>
        </p:nvSpPr>
        <p:spPr>
          <a:xfrm>
            <a:off x="666108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9"/>
          <p:cNvSpPr/>
          <p:nvPr/>
        </p:nvSpPr>
        <p:spPr>
          <a:xfrm flipH="1">
            <a:off x="7164000" y="1989000"/>
            <a:ext cx="18252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rc 30"/>
          <p:cNvSpPr/>
          <p:nvPr/>
        </p:nvSpPr>
        <p:spPr>
          <a:xfrm>
            <a:off x="6661080" y="2421000"/>
            <a:ext cx="18252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6818040" y="2255760"/>
            <a:ext cx="4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32"/>
          <p:cNvSpPr/>
          <p:nvPr/>
        </p:nvSpPr>
        <p:spPr>
          <a:xfrm>
            <a:off x="7758360" y="1699920"/>
            <a:ext cx="76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4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3"/>
          <p:cNvSpPr/>
          <p:nvPr/>
        </p:nvSpPr>
        <p:spPr>
          <a:xfrm>
            <a:off x="2107800" y="335700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 Вычислить перимет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262728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35"/>
          <p:cNvSpPr/>
          <p:nvPr/>
        </p:nvSpPr>
        <p:spPr>
          <a:xfrm>
            <a:off x="26748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6"/>
          <p:cNvSpPr/>
          <p:nvPr/>
        </p:nvSpPr>
        <p:spPr>
          <a:xfrm flipH="1">
            <a:off x="3132000" y="4581360"/>
            <a:ext cx="18288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9"/>
          <p:cNvSpPr/>
          <p:nvPr/>
        </p:nvSpPr>
        <p:spPr>
          <a:xfrm>
            <a:off x="399564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40"/>
          <p:cNvSpPr/>
          <p:nvPr/>
        </p:nvSpPr>
        <p:spPr>
          <a:xfrm>
            <a:off x="411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1"/>
          <p:cNvSpPr/>
          <p:nvPr/>
        </p:nvSpPr>
        <p:spPr>
          <a:xfrm flipH="1">
            <a:off x="450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2259360" y="5157720"/>
            <a:ext cx="30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2 см меньше    на 3 см меньш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3"/>
          <p:cNvSpPr/>
          <p:nvPr/>
        </p:nvSpPr>
        <p:spPr>
          <a:xfrm>
            <a:off x="3336480" y="4508640"/>
            <a:ext cx="190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 см                     7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44"/>
          <p:cNvSpPr/>
          <p:nvPr/>
        </p:nvSpPr>
        <p:spPr>
          <a:xfrm>
            <a:off x="3061080" y="5445000"/>
            <a:ext cx="103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18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20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16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46"/>
          <p:cNvSpPr/>
          <p:nvPr/>
        </p:nvSpPr>
        <p:spPr>
          <a:xfrm>
            <a:off x="5867280" y="4076640"/>
            <a:ext cx="82260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7"/>
          <p:cNvSpPr/>
          <p:nvPr/>
        </p:nvSpPr>
        <p:spPr>
          <a:xfrm>
            <a:off x="591516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8"/>
          <p:cNvSpPr/>
          <p:nvPr/>
        </p:nvSpPr>
        <p:spPr>
          <a:xfrm flipH="1">
            <a:off x="6372000" y="458136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9"/>
          <p:cNvSpPr/>
          <p:nvPr/>
        </p:nvSpPr>
        <p:spPr>
          <a:xfrm>
            <a:off x="7236000" y="407664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0"/>
          <p:cNvSpPr/>
          <p:nvPr/>
        </p:nvSpPr>
        <p:spPr>
          <a:xfrm>
            <a:off x="735480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51"/>
          <p:cNvSpPr/>
          <p:nvPr/>
        </p:nvSpPr>
        <p:spPr>
          <a:xfrm flipH="1">
            <a:off x="7740360" y="4508640"/>
            <a:ext cx="18252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2"/>
          <p:cNvSpPr/>
          <p:nvPr/>
        </p:nvSpPr>
        <p:spPr>
          <a:xfrm>
            <a:off x="6588000" y="537912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5см                 б) 4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3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3"/>
          <p:cNvSpPr/>
          <p:nvPr/>
        </p:nvSpPr>
        <p:spPr>
          <a:xfrm>
            <a:off x="5718960" y="33570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. Найти осн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4"/>
          <p:cNvSpPr/>
          <p:nvPr/>
        </p:nvSpPr>
        <p:spPr>
          <a:xfrm>
            <a:off x="5834520" y="4435560"/>
            <a:ext cx="271044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 см                      6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Р=14 см                   Р=15 с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AutoShape 9"/>
          <p:cNvSpPr/>
          <p:nvPr/>
        </p:nvSpPr>
        <p:spPr>
          <a:xfrm>
            <a:off x="516888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2700360" y="907920"/>
            <a:ext cx="822240" cy="1006560"/>
          </a:xfrm>
          <a:prstGeom prst="flowChartExtra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79072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 flipH="1">
            <a:off x="3247560" y="1365120"/>
            <a:ext cx="182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5259240" y="1457280"/>
            <a:ext cx="18432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 flipH="1">
            <a:off x="5716440" y="1365120"/>
            <a:ext cx="18432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0"/>
          <p:cNvSpPr/>
          <p:nvPr/>
        </p:nvSpPr>
        <p:spPr>
          <a:xfrm>
            <a:off x="3522600" y="1914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1"/>
          <p:cNvSpPr/>
          <p:nvPr/>
        </p:nvSpPr>
        <p:spPr>
          <a:xfrm>
            <a:off x="5991120" y="19144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rc 12"/>
          <p:cNvSpPr/>
          <p:nvPr/>
        </p:nvSpPr>
        <p:spPr>
          <a:xfrm>
            <a:off x="343044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rc 13"/>
          <p:cNvSpPr/>
          <p:nvPr/>
        </p:nvSpPr>
        <p:spPr>
          <a:xfrm>
            <a:off x="5900760" y="1731960"/>
            <a:ext cx="274680" cy="182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55600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2340000" y="2204280"/>
            <a:ext cx="53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: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а, 2б, 3в, 4б, 5в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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б, 2а, 3а, 4в,5б.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2410920" y="334800"/>
            <a:ext cx="30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Найти угол при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495240" y="1484280"/>
            <a:ext cx="29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120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7093080" y="981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10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 6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 8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6" descr="цветы "/>
          <p:cNvPicPr/>
          <p:nvPr/>
        </p:nvPicPr>
        <p:blipFill>
          <a:blip r:embed="rId1"/>
          <a:stretch/>
        </p:blipFill>
        <p:spPr>
          <a:xfrm>
            <a:off x="3419640" y="836640"/>
            <a:ext cx="4228920" cy="5346720"/>
          </a:xfrm>
          <a:prstGeom prst="rect">
            <a:avLst/>
          </a:prstGeom>
          <a:ln w="0">
            <a:noFill/>
          </a:ln>
        </p:spPr>
      </p:pic>
      <p:sp>
        <p:nvSpPr>
          <p:cNvPr id="303" name="WordArt 7"/>
          <p:cNvSpPr txBox="1"/>
          <p:nvPr/>
        </p:nvSpPr>
        <p:spPr>
          <a:xfrm>
            <a:off x="2484360" y="692280"/>
            <a:ext cx="6120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Благодарю за внимание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4" name="WordArt 8"/>
          <p:cNvSpPr txBox="1"/>
          <p:nvPr/>
        </p:nvSpPr>
        <p:spPr>
          <a:xfrm>
            <a:off x="3492360" y="5589720"/>
            <a:ext cx="4084920" cy="7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59008e"/>
                  </a:outerShdw>
                </a:effectLst>
                <a:latin typeface="Comic Sans MS"/>
              </a:rPr>
              <a:t>Желаю успехов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7819" dir="2700000" blurRad="0" rotWithShape="0">
                  <a:srgbClr val="59008e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2343960" y="473040"/>
            <a:ext cx="658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ирован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оследнее время стано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распространённым методом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ть тестирования заключается в постан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учащимися некоторой системы вопрос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чая на которые, учащиес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явля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ни учебных знаний и умений, псих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я, социального опы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275560" y="3354120"/>
            <a:ext cx="621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иды те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в зависимости от цели прове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и формы ответ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заполнение пропусков в истин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на установление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твер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 с выбором от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2166120" y="473760"/>
            <a:ext cx="68918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Правила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льзя включать ответы, неправильность котор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мент тестирования не може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основана учащим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правильные ответы должны конструиров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основе типичных ошибок 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доподоб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ьные ответы среди всех предлагаемых отве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жны размещаться в случайном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повторять формулировок учеб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еты на одни вопросы не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сказками для ответов на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просы не должны содержать "ловушек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495160" y="402120"/>
            <a:ext cx="584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Тесты обученности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няются на вс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ах дидактическ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их помощью эффективно обеспе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варительный, текущий, тема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итоговый контроль знаний, умений,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вае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592720" y="2993760"/>
            <a:ext cx="5968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Преимущество тестовой провер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овременно занят и продуктив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ет весь кл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 несколько минут можно получить ср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ученности всех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роверке определяются пробе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зна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2846160" y="3930840"/>
            <a:ext cx="560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Использование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кзамен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рез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ыставлении итоговых оцен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четании с традиционными фор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методами пров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83360" y="256680"/>
            <a:ext cx="6557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4005c"/>
                </a:solidFill>
                <a:latin typeface="Times New Roman"/>
              </a:rPr>
              <a:t>Недостатки тестир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все характеристики усвоения мож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с помощью тес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ащийся не имеет возможности связ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ически и доказательно выражать свои мыс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учитываются психолого-педаг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сс тестирования весьма трудоём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достатки обработки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6840" y="7542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1. Решите уравнени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х(х-3)-84=2х(2,5х-4)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6920" y="1650960"/>
            <a:ext cx="3124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12;             б)         ;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-12;            г)           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8"/>
              <p:cNvSpPr txBox="1"/>
              <p:nvPr/>
            </p:nvSpPr>
            <p:spPr>
              <a:xfrm>
                <a:off x="3851280" y="1844640"/>
                <a:ext cx="38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0"/>
              <p:cNvSpPr txBox="1"/>
              <p:nvPr/>
            </p:nvSpPr>
            <p:spPr>
              <a:xfrm>
                <a:off x="3708360" y="2637000"/>
                <a:ext cx="504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Rectangle 12"/>
          <p:cNvSpPr/>
          <p:nvPr/>
        </p:nvSpPr>
        <p:spPr>
          <a:xfrm>
            <a:off x="5867280" y="907920"/>
            <a:ext cx="288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2. Упростите выражение: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5а-3)(2а+6)-14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5938920" y="2082960"/>
            <a:ext cx="20620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6299280" y="2082960"/>
                <a:ext cx="1297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5"/>
              <p:cNvSpPr txBox="1"/>
              <p:nvPr/>
            </p:nvSpPr>
            <p:spPr>
              <a:xfrm>
                <a:off x="6226200" y="2585880"/>
                <a:ext cx="13669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6226200" y="3090960"/>
                <a:ext cx="13683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7"/>
              <p:cNvSpPr txBox="1"/>
              <p:nvPr/>
            </p:nvSpPr>
            <p:spPr>
              <a:xfrm>
                <a:off x="6226200" y="3594240"/>
                <a:ext cx="1368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20"/>
              <p:cNvSpPr txBox="1"/>
              <p:nvPr/>
            </p:nvSpPr>
            <p:spPr>
              <a:xfrm>
                <a:off x="5506920" y="4386240"/>
                <a:ext cx="31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21"/>
              <p:cNvSpPr txBox="1"/>
              <p:nvPr/>
            </p:nvSpPr>
            <p:spPr>
              <a:xfrm>
                <a:off x="6299280" y="4890960"/>
                <a:ext cx="169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22"/>
              <p:cNvSpPr txBox="1"/>
              <p:nvPr/>
            </p:nvSpPr>
            <p:spPr>
              <a:xfrm>
                <a:off x="6227640" y="5538960"/>
                <a:ext cx="2955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3" name="Rectangle 23"/>
          <p:cNvSpPr/>
          <p:nvPr/>
        </p:nvSpPr>
        <p:spPr>
          <a:xfrm>
            <a:off x="5866560" y="410040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4. Решите уравн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5938920" y="4962600"/>
            <a:ext cx="1998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;               б)  -7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;               г)  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44"/>
              <p:cNvSpPr txBox="1"/>
              <p:nvPr/>
            </p:nvSpPr>
            <p:spPr>
              <a:xfrm>
                <a:off x="2770200" y="4386240"/>
                <a:ext cx="21589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Rectangle 45"/>
          <p:cNvSpPr/>
          <p:nvPr/>
        </p:nvSpPr>
        <p:spPr>
          <a:xfrm>
            <a:off x="2483280" y="3809880"/>
            <a:ext cx="29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3.  Представьте в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0039"/>
                </a:solidFill>
                <a:latin typeface="Times New Roman"/>
              </a:rPr>
              <a:t>произведения многочле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6"/>
          <p:cNvSpPr/>
          <p:nvPr/>
        </p:nvSpPr>
        <p:spPr>
          <a:xfrm>
            <a:off x="2843280" y="4818240"/>
            <a:ext cx="19447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)                            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)                             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7"/>
              <p:cNvSpPr txBox="1"/>
              <p:nvPr/>
            </p:nvSpPr>
            <p:spPr>
              <a:xfrm>
                <a:off x="3132000" y="4818240"/>
                <a:ext cx="12430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48"/>
              <p:cNvSpPr txBox="1"/>
              <p:nvPr/>
            </p:nvSpPr>
            <p:spPr>
              <a:xfrm>
                <a:off x="3059280" y="5300640"/>
                <a:ext cx="129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49"/>
              <p:cNvSpPr txBox="1"/>
              <p:nvPr/>
            </p:nvSpPr>
            <p:spPr>
              <a:xfrm>
                <a:off x="3132000" y="5754600"/>
                <a:ext cx="11509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50"/>
              <p:cNvSpPr txBox="1"/>
              <p:nvPr/>
            </p:nvSpPr>
            <p:spPr>
              <a:xfrm>
                <a:off x="3132000" y="6259680"/>
                <a:ext cx="1152720" cy="27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Text Box 51"/>
          <p:cNvSpPr/>
          <p:nvPr/>
        </p:nvSpPr>
        <p:spPr>
          <a:xfrm>
            <a:off x="2772360" y="115920"/>
            <a:ext cx="619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Тест на тему: «Произведение многочле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c"/>
                </a:solidFill>
                <a:latin typeface="Times New Roman"/>
              </a:rPr>
              <a:t>Алгебра,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52644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39"/>
                </a:solidFill>
                <a:latin typeface="Times New Roman"/>
              </a:rPr>
              <a:t>5. Какие из перечисленных равенств являются тождествами: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916280"/>
            <a:ext cx="6400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)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)                                           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все;                    б) 1;3;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1;2;4;                   г) 1;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3132000" y="1989000"/>
                <a:ext cx="39610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а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а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2916360" y="2565360"/>
                <a:ext cx="4319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8"/>
              <p:cNvSpPr txBox="1"/>
              <p:nvPr/>
            </p:nvSpPr>
            <p:spPr>
              <a:xfrm>
                <a:off x="3059280" y="3173400"/>
                <a:ext cx="41767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0"/>
              <p:cNvSpPr txBox="1"/>
              <p:nvPr/>
            </p:nvSpPr>
            <p:spPr>
              <a:xfrm>
                <a:off x="3132000" y="3645000"/>
                <a:ext cx="38894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у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у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2050920" y="1413000"/>
            <a:ext cx="673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йдите значение выражения                 при х = - 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,07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0,7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1,24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ыражение не имеет смы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формулы удельной теплоёмкости             выразите мас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авните       и а , если известно, чт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сравнения не хватает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стейшие - паразиты имеют длину от 1см до             см. Выразите последнюю величину в миллиме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0,0000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вух библиотеках было одинаковое количество книг. Через год в первой библиотеке число книг увеличилось на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а во второй – в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за. В какой библиотеке книг стало больш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 первой библиотек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Во второй библио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ниг осталось поровну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ля ответа не хватает 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8"/>
              <p:cNvSpPr txBox="1"/>
              <p:nvPr/>
            </p:nvSpPr>
            <p:spPr>
              <a:xfrm>
                <a:off x="5724360" y="1413000"/>
                <a:ext cx="90180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8" name="Rectangle 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6372360" y="1916280"/>
                <a:ext cx="57924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Rectangle 1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2"/>
              <p:cNvSpPr txBox="1"/>
              <p:nvPr/>
            </p:nvSpPr>
            <p:spPr>
              <a:xfrm>
                <a:off x="4356000" y="2133720"/>
                <a:ext cx="57780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Rectangle 13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14"/>
              <p:cNvSpPr txBox="1"/>
              <p:nvPr/>
            </p:nvSpPr>
            <p:spPr>
              <a:xfrm>
                <a:off x="6156360" y="2133720"/>
                <a:ext cx="62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Rectangle 15"/>
          <p:cNvSpPr/>
          <p:nvPr/>
        </p:nvSpPr>
        <p:spPr>
          <a:xfrm>
            <a:off x="1577880" y="287820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16"/>
              <p:cNvSpPr txBox="1"/>
              <p:nvPr/>
            </p:nvSpPr>
            <p:spPr>
              <a:xfrm>
                <a:off x="7956720" y="2205000"/>
                <a:ext cx="6634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Rectangle 1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8"/>
              <p:cNvSpPr txBox="1"/>
              <p:nvPr/>
            </p:nvSpPr>
            <p:spPr>
              <a:xfrm>
                <a:off x="3708360" y="2492280"/>
                <a:ext cx="29232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8" name="Rectangle 19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0"/>
              <p:cNvSpPr txBox="1"/>
              <p:nvPr/>
            </p:nvSpPr>
            <p:spPr>
              <a:xfrm>
                <a:off x="6372360" y="2565360"/>
                <a:ext cx="7920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21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2"/>
              <p:cNvSpPr txBox="1"/>
              <p:nvPr/>
            </p:nvSpPr>
            <p:spPr>
              <a:xfrm>
                <a:off x="2916360" y="2781360"/>
                <a:ext cx="5778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24"/>
              <p:cNvSpPr txBox="1"/>
              <p:nvPr/>
            </p:nvSpPr>
            <p:spPr>
              <a:xfrm>
                <a:off x="4140360" y="2781360"/>
                <a:ext cx="609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26"/>
              <p:cNvSpPr txBox="1"/>
              <p:nvPr/>
            </p:nvSpPr>
            <p:spPr>
              <a:xfrm>
                <a:off x="5148360" y="2781360"/>
                <a:ext cx="544320" cy="2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4" name="Rectangle 27"/>
          <p:cNvSpPr/>
          <p:nvPr/>
        </p:nvSpPr>
        <p:spPr>
          <a:xfrm>
            <a:off x="1577880" y="-355680"/>
            <a:ext cx="75661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28"/>
              <p:cNvSpPr txBox="1"/>
              <p:nvPr/>
            </p:nvSpPr>
            <p:spPr>
              <a:xfrm>
                <a:off x="2771640" y="2276640"/>
                <a:ext cx="662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29"/>
              <p:cNvSpPr txBox="1"/>
              <p:nvPr/>
            </p:nvSpPr>
            <p:spPr>
              <a:xfrm>
                <a:off x="7380360" y="3273480"/>
                <a:ext cx="6476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Text Box 33"/>
          <p:cNvSpPr/>
          <p:nvPr/>
        </p:nvSpPr>
        <p:spPr>
          <a:xfrm>
            <a:off x="3418200" y="285840"/>
            <a:ext cx="3614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c"/>
                </a:solidFill>
                <a:latin typeface="Times New Roman"/>
              </a:rPr>
              <a:t>Подготовка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4"/>
          <p:cNvSpPr/>
          <p:nvPr/>
        </p:nvSpPr>
        <p:spPr>
          <a:xfrm>
            <a:off x="2455560" y="403920"/>
            <a:ext cx="316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простите выраж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13"/>
              <p:cNvSpPr txBox="1"/>
              <p:nvPr/>
            </p:nvSpPr>
            <p:spPr>
              <a:xfrm>
                <a:off x="5724360" y="404640"/>
                <a:ext cx="244800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c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" name="Rectangle 15"/>
          <p:cNvSpPr/>
          <p:nvPr/>
        </p:nvSpPr>
        <p:spPr>
          <a:xfrm>
            <a:off x="2772720" y="90720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2"/>
              <p:cNvSpPr txBox="1"/>
              <p:nvPr/>
            </p:nvSpPr>
            <p:spPr>
              <a:xfrm>
                <a:off x="3276720" y="981000"/>
                <a:ext cx="107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"/>
              <p:cNvSpPr txBox="1"/>
              <p:nvPr/>
            </p:nvSpPr>
            <p:spPr>
              <a:xfrm>
                <a:off x="3132000" y="1413000"/>
                <a:ext cx="1368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132000" y="1844640"/>
                <a:ext cx="15019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3276720" y="2421000"/>
                <a:ext cx="10699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19"/>
          <p:cNvSpPr/>
          <p:nvPr/>
        </p:nvSpPr>
        <p:spPr>
          <a:xfrm>
            <a:off x="2557080" y="2780280"/>
            <a:ext cx="46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03581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ое из данных выражений не ра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7308720" y="2565360"/>
                <a:ext cx="621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</m:e>
                    </m:rad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7"/>
              <p:cNvSpPr txBox="1"/>
              <p:nvPr/>
            </p:nvSpPr>
            <p:spPr>
              <a:xfrm>
                <a:off x="3132000" y="3284640"/>
                <a:ext cx="6480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3203640" y="4005360"/>
                <a:ext cx="5572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3132000" y="4797360"/>
                <a:ext cx="55260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132000" y="5661000"/>
                <a:ext cx="6480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24"/>
          <p:cNvSpPr/>
          <p:nvPr/>
        </p:nvSpPr>
        <p:spPr>
          <a:xfrm>
            <a:off x="2773080" y="1341360"/>
            <a:ext cx="39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2701800" y="3357720"/>
            <a:ext cx="39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3:28:08Z</dcterms:created>
  <dc:creator>Антон</dc:creator>
  <dc:description/>
  <dc:language>en-US</dc:language>
  <cp:lastModifiedBy>LEGION</cp:lastModifiedBy>
  <dcterms:modified xsi:type="dcterms:W3CDTF">2015-01-26T10:19:04Z</dcterms:modified>
  <cp:revision>42</cp:revision>
  <dc:subject/>
  <dc:title>Тест на тему: «Произведение многочленов»</dc:title>
</cp:coreProperties>
</file>