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26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9720" y="728640"/>
            <a:ext cx="4856040" cy="36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26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EF9E-65A0-47C2-AA1B-0682712B01E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05b3"/>
                </a:solidFill>
                <a:latin typeface="FrankC"/>
              </a:rPr>
              <a:t>Применение тестов на уроках матема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Кушнаренко Ирина Дмитри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МОУ «Гимназия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г. Белгоро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5A04-B325-42F7-A64A-6AF407CE39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8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Лыжник от озера до деревни шёл со скоростью 15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м/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 обратно – со скоростью 1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м/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олько времени ушло у него на обратную дорог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на весь путь туда и обратно лыжник затратил 3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аком рисунке показано множество решени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F6E6-9443-4396-A168-40D955EF43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т плывёт по р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ён график его дви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оризонтальной оси откладывается время дви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82C6-69FB-4721-B3B9-24E2B87E94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0400364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Логические тес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4003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ите анаграмму и исключите лишнее слов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0400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А П Р Я Я ; Ч У Л; Р Е З О Т О К; Р И П Е Т Р Е 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прямая, луч, отрезок, перимет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шнее слово-- периметр (метрическая величина), остальные-- геометрические 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тавьте пропущенное числ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,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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6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3;4;5;6;   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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тавьте необходимую фигуру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74D1-18ED-4854-A24C-37C60E480C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римеры тестовы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лгебра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известно, что 0 &lt; а &lt; 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ля сравнения не хватает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, что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трицательное. На каком из рису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с координатам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, 2т, т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ы на координатной прям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м поряд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C667-A942-4DE8-B90E-BE65323A43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товом магазине сахарный песок продается на следующ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х: первые 30 кг — по цене 20 р. за килограм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алее — по цене 10 р. за ки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график соответствует этим условия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DEA0-B464-4592-B55A-948F192DCE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 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а функци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 = ах2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ом рисунке изображен график этой фун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известно, чт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 &gt;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 и квадратный трехч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х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х + с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ет два положительных кор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точек А(2; 1), В(-2; -1), С(-1; -1); Д(3; 2/3) принадлеж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у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), где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F906-D80A-4B87-BD7B-F823C115DE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Тест «Равнобедренный треугольн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еометрия, 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5813-CC37-4F33-8740-1B95A85DCA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68F3-1626-446F-BE25-8E664A15A0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Тестировани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леднее время станов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распространённым методом контр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ть тестирования заключается в постанов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д учащимися некоторой системы вопро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я на которые, учащиес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яв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ни учебных знаний и умений, псих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, социальн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Виды тес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в зависимости от цели прове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и формы отв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 на заполнение пропусков в исти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 на установление исти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 с выбором от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C6EC-2BD0-48A4-BF0D-0091138D5F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Правила тестир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льзя включать ответы, неправильность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мент тестирования не может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нована учащими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авильные ответы должны конструиров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е типичных ошибок и должны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доподоб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ые ответы среди всех предлагаемых отв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ны размещаться в случайном поряд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не должны повторять формулировок учеб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ы на одни вопросы не должны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сказками для ответов на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не должны содержать "ловушек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7BC1-0472-4AC2-92D6-F9AC73B5CF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Тесты обученности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яются на все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ах дидактическ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их помощью эффективно обеспе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варительный, текущий, тем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тоговый контроль знаний, умений, у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п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Преимущество тестовой провер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овременно занят и продуктив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ет весь кла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несколько минут можно получить ср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ученности всех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роверке определяются пробе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н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50A5-A78C-4762-84E3-D4AD8F8166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Недостатки тест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все характеристики усвоения мо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ть с помощью тес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ащийся не имеет возможности связ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чески и доказательно выражать свои мыс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учитываются психолого-педаг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тестирования весьма трудоём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обработки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Использование тест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кзаме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рез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выставлении итоговых оце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четании с традиционными фор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методами провер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596F-C3A0-4270-BBBE-3F1206F15F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Решите уравнение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х(х-3)-84=2х(2,5х-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12;             б)         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-12;            г)           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F9AA-1E03-4A5C-8D4E-147D16B43E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5. Какие из перечисленных равенств являются тождествам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                                    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                                    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                                    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)                               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все;                    б) 1;3;4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1;2;4;                   г) 1;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F2EC-0FDE-45AE-836F-E2A1BA01AF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одготовка к ГИ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йдите значение выражения                 при х = - 0,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,07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0,7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1,24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ыражение не имеет смы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з формулы удельной теплоёмкости             выразите мас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       и а , если известно, что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сравнения не хватает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- паразиты имеют длину от 1см до             см. Выразите последнюю величину в миллимет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0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00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вух библиотеках было одинаковое количество книг. Через год в первой библиотеке число книг увеличилось на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а во второй – в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а. В какой библиотеке книг стало бо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 первой библиоте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о второй библиот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ниг осталось поровну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ответа не хватает 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0A66-114A-470D-8845-601D5762CF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DD80-6E15-494F-A369-4DA819F6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4CB-4510-4708-B4FF-575EAA84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8008-0D76-4F6B-A51B-F69EA5E0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1F19-32DD-4BB1-AFB8-EF06CF3A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35FA-B813-4ECA-BEDC-763C1996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CE08-D7CC-4C9D-A128-FD074771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FF59-AE0C-4912-AA07-479C2703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3860-2C57-4609-AF4C-A26DF804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836F-4FE3-496C-8E1A-64FD6272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2B57-E619-4908-8283-EAD4A300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65E0-E2B6-4CAC-A78A-5D001C01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35DA-21F8-401A-A3BF-322B9F53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DE93-193A-408C-9ED2-0D03027E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829A-BC0C-458B-9DF3-AFD0B040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B87A-4C7C-415A-84AA-0E7BC156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FBC3-3836-47C5-B8A0-FC1573CA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0A07-B273-418F-9008-69E920DF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DE9-FC30-4D2C-BAE2-3F4842D2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1543-3DEF-4991-B6FA-E6AC6E65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D006-E5CA-4ECF-BEA5-62A83EFD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C37-D2D2-4919-B11B-DC918F09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66D9-D9FB-4F11-A8F1-4D9BC71D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72C7-6136-4261-9C7D-99F3FF37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EB2-900D-40B6-B4CE-717DDB71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AC7A-746C-4DB2-A3F7-D1B1B9B285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0BDB-94B5-40B7-A442-7B60ED79A9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05440" cy="2374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e05b3"/>
                </a:solidFill>
                <a:latin typeface="FrankC"/>
              </a:rPr>
              <a:t>Применение тестов на уроках математики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9280" y="3644640"/>
            <a:ext cx="4716720" cy="2160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Кушнаренко Ирина Дмитри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Учитель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МОУ «Гимназия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г. Белгор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rack02.mp3" descr=""/>
          <p:cNvPicPr/>
          <p:nvPr/>
        </p:nvPicPr>
        <p:blipFill>
          <a:blip r:embed="rId1"/>
          <a:stretch/>
        </p:blipFill>
        <p:spPr>
          <a:xfrm>
            <a:off x="61128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2205720" y="260280"/>
            <a:ext cx="638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ыжник от озера до деревни шёл со скоростью 15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м/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обратно – со скоростью 12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м/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времени ушло у него на обратную дорог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а весь путь туда и обратно лыжник затратил 3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8"/>
              <p:cNvSpPr txBox="1"/>
              <p:nvPr/>
            </p:nvSpPr>
            <p:spPr>
              <a:xfrm>
                <a:off x="3059280" y="1413000"/>
                <a:ext cx="2491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10"/>
          <p:cNvSpPr/>
          <p:nvPr/>
        </p:nvSpPr>
        <p:spPr>
          <a:xfrm>
            <a:off x="2341440" y="2348280"/>
            <a:ext cx="4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2700360" y="2365200"/>
                <a:ext cx="1295280" cy="2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11"/>
          <p:cNvSpPr/>
          <p:nvPr/>
        </p:nvSpPr>
        <p:spPr>
          <a:xfrm>
            <a:off x="5073840" y="2348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5508720" y="2276640"/>
                <a:ext cx="1120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Rectangle 12"/>
          <p:cNvSpPr/>
          <p:nvPr/>
        </p:nvSpPr>
        <p:spPr>
          <a:xfrm>
            <a:off x="2414880" y="28483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5435640" y="2852640"/>
                <a:ext cx="1512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Rectangle 13"/>
          <p:cNvSpPr/>
          <p:nvPr/>
        </p:nvSpPr>
        <p:spPr>
          <a:xfrm>
            <a:off x="-2430000" y="4307760"/>
            <a:ext cx="30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2771640" y="2852640"/>
                <a:ext cx="13687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6" name="Picture 14" descr="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916360" y="5013360"/>
            <a:ext cx="5029200" cy="1209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0"/>
          <p:cNvSpPr/>
          <p:nvPr/>
        </p:nvSpPr>
        <p:spPr>
          <a:xfrm>
            <a:off x="2406600" y="3284280"/>
            <a:ext cx="602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аком рисунке показано множество решени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ен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9"/>
              <p:cNvSpPr txBox="1"/>
              <p:nvPr/>
            </p:nvSpPr>
            <p:spPr>
              <a:xfrm>
                <a:off x="3995640" y="3716280"/>
                <a:ext cx="1368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≥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Rectangle 22"/>
          <p:cNvSpPr/>
          <p:nvPr/>
        </p:nvSpPr>
        <p:spPr>
          <a:xfrm>
            <a:off x="2411280" y="1700280"/>
            <a:ext cx="56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время, затраченное на обратную дорог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е из уравнений соответствует условию задач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3"/>
          <p:cNvSpPr/>
          <p:nvPr/>
        </p:nvSpPr>
        <p:spPr>
          <a:xfrm>
            <a:off x="5005080" y="285264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" name="Object 10"/>
              <p:cNvSpPr txBox="1"/>
              <p:nvPr/>
            </p:nvSpPr>
            <p:spPr>
              <a:xfrm>
                <a:off x="2556000" y="549360"/>
                <a:ext cx="12952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3" name="Picture 4" descr="4"/>
          <p:cNvPicPr/>
          <p:nvPr/>
        </p:nvPicPr>
        <p:blipFill>
          <a:blip r:embed="rId1"/>
          <a:stretch/>
        </p:blipFill>
        <p:spPr>
          <a:xfrm>
            <a:off x="2843280" y="4149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1"/>
          <p:cNvSpPr/>
          <p:nvPr/>
        </p:nvSpPr>
        <p:spPr>
          <a:xfrm>
            <a:off x="2118960" y="89640"/>
            <a:ext cx="66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каждой функции, заданной формулой, укажите её граф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4716360" y="620640"/>
                <a:ext cx="1008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8"/>
              <p:cNvSpPr txBox="1"/>
              <p:nvPr/>
            </p:nvSpPr>
            <p:spPr>
              <a:xfrm>
                <a:off x="6516720" y="620640"/>
                <a:ext cx="100800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14"/>
          <p:cNvSpPr/>
          <p:nvPr/>
        </p:nvSpPr>
        <p:spPr>
          <a:xfrm>
            <a:off x="228600" y="15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03581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3"/>
          <p:cNvPicPr/>
          <p:nvPr/>
        </p:nvPicPr>
        <p:blipFill>
          <a:blip r:embed="rId2"/>
          <a:stretch/>
        </p:blipFill>
        <p:spPr>
          <a:xfrm>
            <a:off x="2484360" y="1052640"/>
            <a:ext cx="5133960" cy="16761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5"/>
          <p:cNvSpPr/>
          <p:nvPr/>
        </p:nvSpPr>
        <p:spPr>
          <a:xfrm>
            <a:off x="2265120" y="2565000"/>
            <a:ext cx="561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т плывёт по ре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ён график его дви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оризонтальной оси откладывается время дви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7885080" y="3068640"/>
                <a:ext cx="2556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16"/>
          <p:cNvSpPr/>
          <p:nvPr/>
        </p:nvSpPr>
        <p:spPr>
          <a:xfrm>
            <a:off x="2268360" y="3428280"/>
            <a:ext cx="31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ертикальной – расстоя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228600" y="3975120"/>
                <a:ext cx="11448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Rectangle 17"/>
          <p:cNvSpPr/>
          <p:nvPr/>
        </p:nvSpPr>
        <p:spPr>
          <a:xfrm>
            <a:off x="2336400" y="3788640"/>
            <a:ext cx="54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м участке пути скорость течения наибольша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9"/>
              <p:cNvSpPr txBox="1"/>
              <p:nvPr/>
            </p:nvSpPr>
            <p:spPr>
              <a:xfrm>
                <a:off x="5364000" y="3429000"/>
                <a:ext cx="2685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Rectangle 21"/>
          <p:cNvSpPr/>
          <p:nvPr/>
        </p:nvSpPr>
        <p:spPr>
          <a:xfrm>
            <a:off x="2195640" y="5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4286160" y="620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6086520" y="62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8102520" y="31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5508360" y="34290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которое проплыл пл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7"/>
          <p:cNvSpPr/>
          <p:nvPr/>
        </p:nvSpPr>
        <p:spPr>
          <a:xfrm flipV="1" rot="10800000">
            <a:off x="5148360" y="4651920"/>
            <a:ext cx="33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От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о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2268360" y="252720"/>
            <a:ext cx="7236000" cy="37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104003640"/>
              </a:tabLst>
            </a:pPr>
            <a:r>
              <a:rPr b="1" i="1" lang="ru-RU" sz="2800" spc="-1" strike="noStrike">
                <a:solidFill>
                  <a:srgbClr val="e4005c"/>
                </a:solidFill>
                <a:latin typeface="Arial"/>
                <a:ea typeface="Times New Roman"/>
              </a:rPr>
              <a:t>Логические те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те анаграмму и исключите лишнее сло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А П Р Я Я ; Ч У Л; Р Е З О Т О К; Р И П Е Т Р Е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прямая, луч, отрезок, перимет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Лишнее слово-- периметр (метрическая величина), остальные-- геометрические фиг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авьте пропущенное чис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,1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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,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3;4;5;6;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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тавьте необходимую фигур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003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2383920" y="3284640"/>
            <a:ext cx="468900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0%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0%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 Вставьте пропущенное чис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(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 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2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(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 62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(?)      9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(?)    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. Вставьте пропущенное чис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x-4=24+x                     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x+6= -1                     3x-1,5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20)                                    (-25)                            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3679920" y="3645000"/>
            <a:ext cx="73188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1"/>
          <p:cNvSpPr/>
          <p:nvPr/>
        </p:nvSpPr>
        <p:spPr>
          <a:xfrm>
            <a:off x="4594320" y="3645000"/>
            <a:ext cx="73188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2"/>
          <p:cNvSpPr/>
          <p:nvPr/>
        </p:nvSpPr>
        <p:spPr>
          <a:xfrm>
            <a:off x="5508720" y="3645000"/>
            <a:ext cx="73188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6515280" y="3645000"/>
            <a:ext cx="73152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4"/>
          <p:cNvSpPr/>
          <p:nvPr/>
        </p:nvSpPr>
        <p:spPr>
          <a:xfrm>
            <a:off x="2340000" y="1318680"/>
            <a:ext cx="62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известно, что 0 &lt; а &lt;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ля сравнения не хватает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, что числ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трицательное. На каком из рисун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с координатам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, 2т, т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ы на координатной пря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м поряд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7" descr=""/>
          <p:cNvPicPr/>
          <p:nvPr/>
        </p:nvPicPr>
        <p:blipFill>
          <a:blip r:embed="rId1"/>
          <a:stretch/>
        </p:blipFill>
        <p:spPr>
          <a:xfrm>
            <a:off x="3059280" y="5229360"/>
            <a:ext cx="4884480" cy="9363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5"/>
          <p:cNvSpPr/>
          <p:nvPr/>
        </p:nvSpPr>
        <p:spPr>
          <a:xfrm>
            <a:off x="0" y="310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2967480" y="281160"/>
            <a:ext cx="40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Примеры тестовы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лгебра 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2344680" y="623160"/>
            <a:ext cx="631332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товом магазине сахарный песок продается на следую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х: первые 30 кг — по цене 20 р. за килограм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алее — по цене 10 р. за кил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график соответствует этим услов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17" descr=""/>
          <p:cNvPicPr/>
          <p:nvPr/>
        </p:nvPicPr>
        <p:blipFill>
          <a:blip r:embed="rId1"/>
          <a:stretch/>
        </p:blipFill>
        <p:spPr>
          <a:xfrm>
            <a:off x="-3506760" y="2471760"/>
            <a:ext cx="3038400" cy="27050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-3506760" y="517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17" descr=""/>
          <p:cNvPicPr/>
          <p:nvPr/>
        </p:nvPicPr>
        <p:blipFill>
          <a:blip r:embed="rId2"/>
          <a:stretch/>
        </p:blipFill>
        <p:spPr>
          <a:xfrm>
            <a:off x="3708360" y="2898720"/>
            <a:ext cx="3311640" cy="29480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2202480" y="260280"/>
            <a:ext cx="531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а функци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 = ах2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+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каком рисунке изображен график этой функ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известно, чт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 &gt;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и квадратный трехч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х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 + с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ет два положительных кор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C:\Users\Admin\Documents\Мои результаты сканирования\2008-02 (фев)\сканирование0003.gif"/>
          <p:cNvPicPr/>
          <p:nvPr/>
        </p:nvPicPr>
        <p:blipFill>
          <a:blip r:embed="rId1"/>
          <a:srcRect l="4305" t="4061" r="4918" b="0"/>
          <a:stretch/>
        </p:blipFill>
        <p:spPr>
          <a:xfrm>
            <a:off x="4067280" y="1773360"/>
            <a:ext cx="2558880" cy="2046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2198880" y="3978720"/>
            <a:ext cx="650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точек А(2; 1), В(-2; -1), С(-1; -1); Д(3; 2/3) принадле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у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), где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2"/>
          <a:stretch/>
        </p:blipFill>
        <p:spPr>
          <a:xfrm>
            <a:off x="4140360" y="4869000"/>
            <a:ext cx="2376360" cy="7570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8"/>
          <p:cNvSpPr/>
          <p:nvPr/>
        </p:nvSpPr>
        <p:spPr>
          <a:xfrm>
            <a:off x="3141720" y="5876280"/>
            <a:ext cx="44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Точка 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Точка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Точка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Точка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8"/>
          <p:cNvSpPr/>
          <p:nvPr/>
        </p:nvSpPr>
        <p:spPr>
          <a:xfrm>
            <a:off x="3059280" y="155736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132000" y="2060640"/>
            <a:ext cx="18288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 flipH="1">
            <a:off x="3634920" y="2060640"/>
            <a:ext cx="18252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126520" y="105192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 Найти перимет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4140360" y="162828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)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3203640" y="2103120"/>
            <a:ext cx="649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см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2844000" y="260280"/>
            <a:ext cx="528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Тест «Равнобедренный треуголь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еометрия,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2267640" y="1700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3 см 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5491440" y="105192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ти угол при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6"/>
          <p:cNvSpPr/>
          <p:nvPr/>
        </p:nvSpPr>
        <p:spPr>
          <a:xfrm>
            <a:off x="5264280" y="156996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8"/>
          <p:cNvSpPr/>
          <p:nvPr/>
        </p:nvSpPr>
        <p:spPr>
          <a:xfrm>
            <a:off x="5378400" y="1925640"/>
            <a:ext cx="168480" cy="1555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0" y="0"/>
                </a:moveTo>
                <a:lnTo>
                  <a:pt x="106" y="9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5797080" y="1917720"/>
            <a:ext cx="18252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rc 22"/>
          <p:cNvSpPr/>
          <p:nvPr/>
        </p:nvSpPr>
        <p:spPr>
          <a:xfrm>
            <a:off x="5364000" y="2349360"/>
            <a:ext cx="92160" cy="182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5448960" y="220392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7"/>
          <p:cNvSpPr/>
          <p:nvPr/>
        </p:nvSpPr>
        <p:spPr>
          <a:xfrm>
            <a:off x="6588000" y="1557360"/>
            <a:ext cx="82260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8"/>
          <p:cNvSpPr/>
          <p:nvPr/>
        </p:nvSpPr>
        <p:spPr>
          <a:xfrm>
            <a:off x="6661080" y="1989000"/>
            <a:ext cx="18252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9"/>
          <p:cNvSpPr/>
          <p:nvPr/>
        </p:nvSpPr>
        <p:spPr>
          <a:xfrm flipH="1">
            <a:off x="7164000" y="1989000"/>
            <a:ext cx="18252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30"/>
          <p:cNvSpPr/>
          <p:nvPr/>
        </p:nvSpPr>
        <p:spPr>
          <a:xfrm>
            <a:off x="6661080" y="2421000"/>
            <a:ext cx="182520" cy="182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6818040" y="2255760"/>
            <a:ext cx="4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2"/>
          <p:cNvSpPr/>
          <p:nvPr/>
        </p:nvSpPr>
        <p:spPr>
          <a:xfrm>
            <a:off x="7758360" y="1699920"/>
            <a:ext cx="76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 6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4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5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3"/>
          <p:cNvSpPr/>
          <p:nvPr/>
        </p:nvSpPr>
        <p:spPr>
          <a:xfrm>
            <a:off x="2107800" y="335700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 Вычислить перимет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4"/>
          <p:cNvSpPr/>
          <p:nvPr/>
        </p:nvSpPr>
        <p:spPr>
          <a:xfrm>
            <a:off x="2627280" y="407664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5"/>
          <p:cNvSpPr/>
          <p:nvPr/>
        </p:nvSpPr>
        <p:spPr>
          <a:xfrm>
            <a:off x="2674800" y="4581360"/>
            <a:ext cx="1828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6"/>
          <p:cNvSpPr/>
          <p:nvPr/>
        </p:nvSpPr>
        <p:spPr>
          <a:xfrm flipH="1">
            <a:off x="3132000" y="4581360"/>
            <a:ext cx="1828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9"/>
          <p:cNvSpPr/>
          <p:nvPr/>
        </p:nvSpPr>
        <p:spPr>
          <a:xfrm>
            <a:off x="3995640" y="4076640"/>
            <a:ext cx="82260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0"/>
          <p:cNvSpPr/>
          <p:nvPr/>
        </p:nvSpPr>
        <p:spPr>
          <a:xfrm>
            <a:off x="411480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1"/>
          <p:cNvSpPr/>
          <p:nvPr/>
        </p:nvSpPr>
        <p:spPr>
          <a:xfrm flipH="1">
            <a:off x="450036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2259360" y="5157720"/>
            <a:ext cx="30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2 см меньше    на 3 см меньш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3336480" y="4508640"/>
            <a:ext cx="19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 см                     7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4"/>
          <p:cNvSpPr/>
          <p:nvPr/>
        </p:nvSpPr>
        <p:spPr>
          <a:xfrm>
            <a:off x="3061080" y="5445000"/>
            <a:ext cx="103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18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2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16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6"/>
          <p:cNvSpPr/>
          <p:nvPr/>
        </p:nvSpPr>
        <p:spPr>
          <a:xfrm>
            <a:off x="5867280" y="4076640"/>
            <a:ext cx="82260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7"/>
          <p:cNvSpPr/>
          <p:nvPr/>
        </p:nvSpPr>
        <p:spPr>
          <a:xfrm>
            <a:off x="5915160" y="458136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8"/>
          <p:cNvSpPr/>
          <p:nvPr/>
        </p:nvSpPr>
        <p:spPr>
          <a:xfrm flipH="1">
            <a:off x="6372000" y="458136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9"/>
          <p:cNvSpPr/>
          <p:nvPr/>
        </p:nvSpPr>
        <p:spPr>
          <a:xfrm>
            <a:off x="7236000" y="407664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50"/>
          <p:cNvSpPr/>
          <p:nvPr/>
        </p:nvSpPr>
        <p:spPr>
          <a:xfrm>
            <a:off x="735480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1"/>
          <p:cNvSpPr/>
          <p:nvPr/>
        </p:nvSpPr>
        <p:spPr>
          <a:xfrm flipH="1">
            <a:off x="774036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2"/>
          <p:cNvSpPr/>
          <p:nvPr/>
        </p:nvSpPr>
        <p:spPr>
          <a:xfrm>
            <a:off x="6588000" y="537912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5см                 б) 4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3"/>
          <p:cNvSpPr/>
          <p:nvPr/>
        </p:nvSpPr>
        <p:spPr>
          <a:xfrm>
            <a:off x="5718960" y="33570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 Найти осн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4"/>
          <p:cNvSpPr/>
          <p:nvPr/>
        </p:nvSpPr>
        <p:spPr>
          <a:xfrm>
            <a:off x="5834520" y="4435560"/>
            <a:ext cx="27104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 см                      6 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=14 см                   Р=15 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9"/>
          <p:cNvSpPr/>
          <p:nvPr/>
        </p:nvSpPr>
        <p:spPr>
          <a:xfrm>
            <a:off x="5168880" y="90792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700360" y="90792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790720" y="136512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 flipH="1">
            <a:off x="3247560" y="136512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5259240" y="1457280"/>
            <a:ext cx="18432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8"/>
          <p:cNvSpPr/>
          <p:nvPr/>
        </p:nvSpPr>
        <p:spPr>
          <a:xfrm flipH="1">
            <a:off x="5716440" y="1365120"/>
            <a:ext cx="18432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3522600" y="191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5991120" y="191448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rc 12"/>
          <p:cNvSpPr/>
          <p:nvPr/>
        </p:nvSpPr>
        <p:spPr>
          <a:xfrm>
            <a:off x="3430440" y="1731960"/>
            <a:ext cx="274680" cy="182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rc 13"/>
          <p:cNvSpPr/>
          <p:nvPr/>
        </p:nvSpPr>
        <p:spPr>
          <a:xfrm>
            <a:off x="5900760" y="1731960"/>
            <a:ext cx="274680" cy="182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255600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2340000" y="2204280"/>
            <a:ext cx="53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: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а, 2б, 3в, 4б, 5в  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б, 2а, 3а, 4в,5б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2410920" y="334800"/>
            <a:ext cx="30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Найти угол при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7"/>
          <p:cNvSpPr/>
          <p:nvPr/>
        </p:nvSpPr>
        <p:spPr>
          <a:xfrm>
            <a:off x="3495240" y="1484280"/>
            <a:ext cx="29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12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7093080" y="9810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10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6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8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цветы "/>
          <p:cNvPicPr/>
          <p:nvPr/>
        </p:nvPicPr>
        <p:blipFill>
          <a:blip r:embed="rId1"/>
          <a:stretch/>
        </p:blipFill>
        <p:spPr>
          <a:xfrm>
            <a:off x="3419640" y="836640"/>
            <a:ext cx="4228920" cy="5346720"/>
          </a:xfrm>
          <a:prstGeom prst="rect">
            <a:avLst/>
          </a:prstGeom>
          <a:ln w="0">
            <a:noFill/>
          </a:ln>
        </p:spPr>
      </p:pic>
      <p:sp>
        <p:nvSpPr>
          <p:cNvPr id="303" name="WordArt 7"/>
          <p:cNvSpPr txBox="1"/>
          <p:nvPr/>
        </p:nvSpPr>
        <p:spPr>
          <a:xfrm>
            <a:off x="2484360" y="692280"/>
            <a:ext cx="6120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Comic Sans MS"/>
              </a:rPr>
              <a:t>Благодарю за внимание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4" name="WordArt 8"/>
          <p:cNvSpPr txBox="1"/>
          <p:nvPr/>
        </p:nvSpPr>
        <p:spPr>
          <a:xfrm>
            <a:off x="3492360" y="5589720"/>
            <a:ext cx="408492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Comic Sans MS"/>
              </a:rPr>
              <a:t>Желаю успехов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2343960" y="473040"/>
            <a:ext cx="658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Тестир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оследнее время стано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распространённым методом 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тестирования заключается в постан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учащимися некоторой системы вопрос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чая на которые, учащие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явл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и учебных знаний и умений, псих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я, социального опы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275560" y="3354120"/>
            <a:ext cx="621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Виды те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в зависимости от цели 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и формы отве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на заполнение пропусков в истин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вержд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на установление ист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вер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с выбором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2166120" y="473760"/>
            <a:ext cx="68918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Правила тес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льзя включать ответы, неправильность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мент тестирования не может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снована учащим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равильные ответы должны конструиро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основе типичных ошибок и должны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доподоб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ьные ответы среди всех предлагаемых отве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жны размещаться в случайном поряд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просы не должны повторять формулировок учеб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ы на одни вопросы не должны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сказками для ответов на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просы не должны содержать "ловушек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495160" y="402120"/>
            <a:ext cx="584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Тесты обученност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няются на вс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пах дидактическ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их помощью эффективно обеспеч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варительный, текущий, тема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итоговый контроль знаний, умений, 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вае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592720" y="2993760"/>
            <a:ext cx="596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Преимущество тестовой провер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временно занят и продукти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ет весь кл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несколько минут можно получить с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енности всех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роверке определяются проб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зн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846160" y="3930840"/>
            <a:ext cx="560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Использование тес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экзамен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рез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выставлении итоговых оце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четании с традиционными фор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методами прове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583360" y="256680"/>
            <a:ext cx="6557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Недостатки тес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все характеристики усвоения 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ть с помощью тес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щийся не имеет возможности связ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гически и доказательно выражать свои мыс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учитываются психолого-педагог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енности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 тестирования весьма трудоём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достатки обработки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6840" y="7542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1. Решите уравнени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х(х-3)-84=2х(2,5х-4)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66920" y="1650960"/>
            <a:ext cx="31240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12;             б)         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-12;            г)           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8"/>
              <p:cNvSpPr txBox="1"/>
              <p:nvPr/>
            </p:nvSpPr>
            <p:spPr>
              <a:xfrm>
                <a:off x="3851280" y="1844640"/>
                <a:ext cx="380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0"/>
              <p:cNvSpPr txBox="1"/>
              <p:nvPr/>
            </p:nvSpPr>
            <p:spPr>
              <a:xfrm>
                <a:off x="3708360" y="2637000"/>
                <a:ext cx="5047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Rectangle 12"/>
          <p:cNvSpPr/>
          <p:nvPr/>
        </p:nvSpPr>
        <p:spPr>
          <a:xfrm>
            <a:off x="5867280" y="907920"/>
            <a:ext cx="288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2. Упростите выражение: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5а-3)(2а+6)-14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5938920" y="2082960"/>
            <a:ext cx="2062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     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      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     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)                                 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6299280" y="2082960"/>
                <a:ext cx="1297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5"/>
              <p:cNvSpPr txBox="1"/>
              <p:nvPr/>
            </p:nvSpPr>
            <p:spPr>
              <a:xfrm>
                <a:off x="6226200" y="2585880"/>
                <a:ext cx="13669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6226200" y="3090960"/>
                <a:ext cx="1368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7"/>
              <p:cNvSpPr txBox="1"/>
              <p:nvPr/>
            </p:nvSpPr>
            <p:spPr>
              <a:xfrm>
                <a:off x="6226200" y="3594240"/>
                <a:ext cx="1368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20"/>
              <p:cNvSpPr txBox="1"/>
              <p:nvPr/>
            </p:nvSpPr>
            <p:spPr>
              <a:xfrm>
                <a:off x="5506920" y="4386240"/>
                <a:ext cx="3168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1"/>
              <p:cNvSpPr txBox="1"/>
              <p:nvPr/>
            </p:nvSpPr>
            <p:spPr>
              <a:xfrm>
                <a:off x="6299280" y="4890960"/>
                <a:ext cx="1699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22"/>
              <p:cNvSpPr txBox="1"/>
              <p:nvPr/>
            </p:nvSpPr>
            <p:spPr>
              <a:xfrm>
                <a:off x="6227640" y="5538960"/>
                <a:ext cx="29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Rectangle 23"/>
          <p:cNvSpPr/>
          <p:nvPr/>
        </p:nvSpPr>
        <p:spPr>
          <a:xfrm>
            <a:off x="5866560" y="410040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4. Решите урав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5938920" y="496260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       ;               б)  -7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        ;               г)   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4"/>
              <p:cNvSpPr txBox="1"/>
              <p:nvPr/>
            </p:nvSpPr>
            <p:spPr>
              <a:xfrm>
                <a:off x="2770200" y="4386240"/>
                <a:ext cx="21589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Rectangle 45"/>
          <p:cNvSpPr/>
          <p:nvPr/>
        </p:nvSpPr>
        <p:spPr>
          <a:xfrm>
            <a:off x="2483280" y="3809880"/>
            <a:ext cx="29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3.  Представьте в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произведения многочле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2843280" y="4818240"/>
            <a:ext cx="194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)                           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7"/>
              <p:cNvSpPr txBox="1"/>
              <p:nvPr/>
            </p:nvSpPr>
            <p:spPr>
              <a:xfrm>
                <a:off x="3132000" y="4818240"/>
                <a:ext cx="12430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48"/>
              <p:cNvSpPr txBox="1"/>
              <p:nvPr/>
            </p:nvSpPr>
            <p:spPr>
              <a:xfrm>
                <a:off x="3059280" y="5300640"/>
                <a:ext cx="12967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49"/>
              <p:cNvSpPr txBox="1"/>
              <p:nvPr/>
            </p:nvSpPr>
            <p:spPr>
              <a:xfrm>
                <a:off x="3132000" y="5754600"/>
                <a:ext cx="11509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50"/>
              <p:cNvSpPr txBox="1"/>
              <p:nvPr/>
            </p:nvSpPr>
            <p:spPr>
              <a:xfrm>
                <a:off x="3132000" y="6259680"/>
                <a:ext cx="1152720" cy="27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Text Box 51"/>
          <p:cNvSpPr/>
          <p:nvPr/>
        </p:nvSpPr>
        <p:spPr>
          <a:xfrm>
            <a:off x="2772360" y="115920"/>
            <a:ext cx="61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Тест на тему: «Произведение многочлен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Алгебра,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52644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Times New Roman"/>
              </a:rPr>
              <a:t>5. Какие из перечисленных равенств являются тождествами: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916280"/>
            <a:ext cx="64008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                                       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все;                    б) 1;3;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1;2;4;                   г) 1;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3132000" y="1989000"/>
                <a:ext cx="39610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2916360" y="2565360"/>
                <a:ext cx="4319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8"/>
              <p:cNvSpPr txBox="1"/>
              <p:nvPr/>
            </p:nvSpPr>
            <p:spPr>
              <a:xfrm>
                <a:off x="3059280" y="3173400"/>
                <a:ext cx="4176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0"/>
              <p:cNvSpPr txBox="1"/>
              <p:nvPr/>
            </p:nvSpPr>
            <p:spPr>
              <a:xfrm>
                <a:off x="3132000" y="3645000"/>
                <a:ext cx="38894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2050920" y="1413000"/>
            <a:ext cx="6732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йдите значение выражения                 при х = - 0,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,07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0,7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1,24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ыражение не имеет смы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 формулы удельной теплоёмкости             выразите мас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авните       и а , если известно, чт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я сравнения не хватает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тейшие - паразиты имеют длину от 1см до             см. Выразите последнюю величину в миллиме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0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00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двух библиотеках было одинаковое количество книг. Через год в первой библиотеке число книг увеличилось н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во второй – в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за. В какой библиотеке книг стало больш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 первой библиоте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о второй библио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ниг осталось поровну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я ответа не хватает 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724360" y="1413000"/>
                <a:ext cx="9018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8" name="Rectangle 9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6372360" y="1916280"/>
                <a:ext cx="5792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11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2"/>
              <p:cNvSpPr txBox="1"/>
              <p:nvPr/>
            </p:nvSpPr>
            <p:spPr>
              <a:xfrm>
                <a:off x="4356000" y="2133720"/>
                <a:ext cx="5778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Rectangle 13"/>
          <p:cNvSpPr/>
          <p:nvPr/>
        </p:nvSpPr>
        <p:spPr>
          <a:xfrm>
            <a:off x="1577880" y="287820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4"/>
              <p:cNvSpPr txBox="1"/>
              <p:nvPr/>
            </p:nvSpPr>
            <p:spPr>
              <a:xfrm>
                <a:off x="6156360" y="2133720"/>
                <a:ext cx="627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Rectangle 15"/>
          <p:cNvSpPr/>
          <p:nvPr/>
        </p:nvSpPr>
        <p:spPr>
          <a:xfrm>
            <a:off x="1577880" y="287820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7956720" y="2205000"/>
                <a:ext cx="663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17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3708360" y="2492280"/>
                <a:ext cx="292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Rectangle 19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0"/>
              <p:cNvSpPr txBox="1"/>
              <p:nvPr/>
            </p:nvSpPr>
            <p:spPr>
              <a:xfrm>
                <a:off x="6372360" y="2565360"/>
                <a:ext cx="7920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21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2"/>
              <p:cNvSpPr txBox="1"/>
              <p:nvPr/>
            </p:nvSpPr>
            <p:spPr>
              <a:xfrm>
                <a:off x="2916360" y="2781360"/>
                <a:ext cx="5778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4"/>
              <p:cNvSpPr txBox="1"/>
              <p:nvPr/>
            </p:nvSpPr>
            <p:spPr>
              <a:xfrm>
                <a:off x="4140360" y="2781360"/>
                <a:ext cx="6094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6"/>
              <p:cNvSpPr txBox="1"/>
              <p:nvPr/>
            </p:nvSpPr>
            <p:spPr>
              <a:xfrm>
                <a:off x="5148360" y="2781360"/>
                <a:ext cx="5443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Rectangle 27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8"/>
              <p:cNvSpPr txBox="1"/>
              <p:nvPr/>
            </p:nvSpPr>
            <p:spPr>
              <a:xfrm>
                <a:off x="2771640" y="2276640"/>
                <a:ext cx="662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29"/>
              <p:cNvSpPr txBox="1"/>
              <p:nvPr/>
            </p:nvSpPr>
            <p:spPr>
              <a:xfrm>
                <a:off x="7380360" y="3273480"/>
                <a:ext cx="6476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8" name="Text Box 33"/>
          <p:cNvSpPr/>
          <p:nvPr/>
        </p:nvSpPr>
        <p:spPr>
          <a:xfrm>
            <a:off x="3418200" y="285840"/>
            <a:ext cx="361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005c"/>
                </a:solidFill>
                <a:latin typeface="Times New Roman"/>
              </a:rPr>
              <a:t>Подготовка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4"/>
          <p:cNvSpPr/>
          <p:nvPr/>
        </p:nvSpPr>
        <p:spPr>
          <a:xfrm>
            <a:off x="2455560" y="403920"/>
            <a:ext cx="316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Упростите выра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3"/>
              <p:cNvSpPr txBox="1"/>
              <p:nvPr/>
            </p:nvSpPr>
            <p:spPr>
              <a:xfrm>
                <a:off x="5724360" y="404640"/>
                <a:ext cx="244800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c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Rectangle 15"/>
          <p:cNvSpPr/>
          <p:nvPr/>
        </p:nvSpPr>
        <p:spPr>
          <a:xfrm>
            <a:off x="2772720" y="90720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2"/>
              <p:cNvSpPr txBox="1"/>
              <p:nvPr/>
            </p:nvSpPr>
            <p:spPr>
              <a:xfrm>
                <a:off x="3276720" y="981000"/>
                <a:ext cx="10792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1"/>
              <p:cNvSpPr txBox="1"/>
              <p:nvPr/>
            </p:nvSpPr>
            <p:spPr>
              <a:xfrm>
                <a:off x="3132000" y="1413000"/>
                <a:ext cx="1368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0"/>
              <p:cNvSpPr txBox="1"/>
              <p:nvPr/>
            </p:nvSpPr>
            <p:spPr>
              <a:xfrm>
                <a:off x="3132000" y="1844640"/>
                <a:ext cx="1501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3276720" y="2421000"/>
                <a:ext cx="1069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19"/>
          <p:cNvSpPr/>
          <p:nvPr/>
        </p:nvSpPr>
        <p:spPr>
          <a:xfrm>
            <a:off x="2557080" y="2780280"/>
            <a:ext cx="46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е из данных выражений не рав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7308720" y="2565360"/>
                <a:ext cx="621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</m:e>
                    </m:rad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3132000" y="3284640"/>
                <a:ext cx="648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3203640" y="4005360"/>
                <a:ext cx="5572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3132000" y="4797360"/>
                <a:ext cx="5526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3132000" y="5661000"/>
                <a:ext cx="6480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24"/>
          <p:cNvSpPr/>
          <p:nvPr/>
        </p:nvSpPr>
        <p:spPr>
          <a:xfrm>
            <a:off x="2773080" y="1341360"/>
            <a:ext cx="3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2701800" y="3357720"/>
            <a:ext cx="39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13:28:08Z</dcterms:created>
  <dc:creator>Антон</dc:creator>
  <dc:description/>
  <dc:language>en-US</dc:language>
  <cp:lastModifiedBy>LEGION</cp:lastModifiedBy>
  <dcterms:modified xsi:type="dcterms:W3CDTF">2015-01-26T10:19:04Z</dcterms:modified>
  <cp:revision>42</cp:revision>
  <dc:subject/>
  <dc:title>Тест на тему: «Произведение многочленов»</dc:title>
</cp:coreProperties>
</file>