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gif" ContentType="image/gif"/>
  <Override PartName="/ppt/media/image6.wmf" ContentType="image/x-wmf"/>
  <Override PartName="/ppt/media/image4.wmf" ContentType="image/x-wmf"/>
  <Override PartName="/ppt/media/image5.png" ContentType="image/png"/>
  <Override PartName="/ppt/media/image7.gif" ContentType="image/gif"/>
  <Override PartName="/ppt/media/image8.gif" ContentType="image/gif"/>
  <Override PartName="/ppt/media/image9.gif" ContentType="image/gif"/>
  <Override PartName="/ppt/media/image10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8A4F-2D0C-4DB7-887A-01A0526BA2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Решение</a:t>
            </a:r>
            <a:r>
              <a:rPr b="1" i="1" lang="ru-RU" sz="28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2800" spc="-1" strike="noStrike">
                <a:solidFill>
                  <a:srgbClr val="0000ff"/>
                </a:solidFill>
                <a:latin typeface="Monotype Corsiva"/>
              </a:rPr>
              <a:t>квадратных уравнений и неравенст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учитель математ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МБОУ «Гимназия № 97 г. Ель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Monotype Corsiva"/>
              </a:rPr>
              <a:t>Агеева Юлия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6EDE-C30D-4DCB-88EE-0D74AB87058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12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237EF-1DDA-4761-9153-4F62539611D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Что такое алгебра и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91A9-0CD5-4403-B6C4-C9994CDF6A0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Monotype Corsiva"/>
              </a:rPr>
              <a:t>Возможно ли эт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AB9D-1714-4957-9133-F897609C3C5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. Что это и каковы её графические возможн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уравнений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) графический способ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Б) аналитический спос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ешение квадратных неравенств в СКМ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MathCAD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FD73-E6A7-4A4E-BD8D-9931ACBDC3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СКМ </a:t>
            </a:r>
            <a:r>
              <a:rPr b="0" lang="en-US" sz="1200" spc="-1" strike="noStrike">
                <a:solidFill>
                  <a:srgbClr val="0000ff"/>
                </a:solidFill>
                <a:latin typeface="Monotype Corsiva"/>
              </a:rPr>
              <a:t>MathCAD </a:t>
            </a:r>
            <a:r>
              <a:rPr b="0" lang="ru-RU" sz="1200" spc="-1" strike="noStrike">
                <a:solidFill>
                  <a:srgbClr val="0000ff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57A4-5529-4F72-AB0A-4B5231AF6BB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Образов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athCAD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, а также навыки работы в этой сис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Развивающи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Times New Roman"/>
              </a:rPr>
              <a:t>Воспитательные: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E7A4-3619-4306-8B3E-D9AE104D01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B3B2-D8CD-402A-9E88-3C36DB8BBB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Работа в группах – 2, 3 у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64DD-3A8B-40DA-AADD-A802306638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12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F86D-2192-40AF-A871-33007B03D7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C529-6478-48DD-A0DF-86FFD82A6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122E-D9A8-47BE-8930-9750395D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B57-D908-4956-AB35-973BCC00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E1BF-8DAF-41C3-BFC2-324C34A4C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F29C-883A-47EA-BB49-FE4F3EC4F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A58AC-ABB1-455E-8752-CCC924E2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83C1-A603-4FF2-A9DE-8B757759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85411-B11E-4635-B0C9-7ED640C0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F95D9-94D0-4ABC-908E-18F559A56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D8F7E-2D1F-4325-A664-FF637597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CDC66-8AA2-4524-A361-381A63929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F0A9-F780-429E-B005-C200FBBE0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70AD-970E-4399-9D37-5CFF4846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B352-EBF3-4EEE-B0F1-EBC8B91A7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1FD17-5CCC-4100-9421-44F6EF4B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95B5-464B-457A-B78D-637542614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998B-BC4B-4366-B927-BDF2D5248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5798-E299-4F13-A5D6-BABA0563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C9C-DF9A-4530-B991-9EA88C0B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82AF-44B2-4502-87CD-D00524FAF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DDA-11C4-42ED-8C09-988907B8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9134-E0C6-4E3D-A20F-7E775997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E7B0-5FC8-4854-8487-FBFF1666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85FD-F764-442E-B8E0-C43FA6E6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71BE-7789-4AC7-B21E-08EAA8AF43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4ED5-F28D-4946-AB27-6D819A8DFA3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79280" y="277560"/>
            <a:ext cx="8507520" cy="315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Решение</a:t>
            </a:r>
            <a:r>
              <a:rPr b="1" i="1" lang="ru-RU" sz="7200" spc="-1" strike="noStrike">
                <a:solidFill>
                  <a:srgbClr val="ccecff"/>
                </a:solidFill>
                <a:latin typeface="Monotype Corsiva"/>
              </a:rPr>
              <a:t> </a:t>
            </a:r>
            <a:r>
              <a:rPr b="1" i="1" lang="ru-RU" sz="7200" spc="-1" strike="noStrike">
                <a:solidFill>
                  <a:srgbClr val="99ff99"/>
                </a:solidFill>
                <a:latin typeface="Monotype Corsiva"/>
              </a:rPr>
              <a:t>квадратных уравнений и неравенств</a:t>
            </a:r>
            <a:endParaRPr b="0" lang="en-US" sz="7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23640" y="3284640"/>
            <a:ext cx="7993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ffff"/>
                </a:solidFill>
                <a:uFillTx/>
                <a:latin typeface="Monotype Corsiva"/>
              </a:rPr>
              <a:t>Руководитель:</a:t>
            </a: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учитель математик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МБОУ «Гимназия № 97 г. Ельц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Monotype Corsiva"/>
              </a:rPr>
              <a:t>Агеева Юлия Владимиров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WordArt 4"/>
          <p:cNvSpPr txBox="1"/>
          <p:nvPr/>
        </p:nvSpPr>
        <p:spPr>
          <a:xfrm>
            <a:off x="179280" y="549360"/>
            <a:ext cx="864072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ведение итого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68000" y="2565000"/>
            <a:ext cx="8280360" cy="30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В ходе проведенных исследований мы пришли к выводу о правильности выдвинутой гипотезы, а именно: СКМ </a:t>
            </a:r>
            <a:r>
              <a:rPr b="0" lang="en-US" sz="3600" spc="-1" strike="noStrike">
                <a:solidFill>
                  <a:srgbClr val="99ffcc"/>
                </a:solidFill>
                <a:latin typeface="Monotype Corsiva"/>
              </a:rPr>
              <a:t>MathCAD </a:t>
            </a:r>
            <a:r>
              <a:rPr b="0" lang="ru-RU" sz="3600" spc="-1" strike="noStrike">
                <a:solidFill>
                  <a:srgbClr val="99ffcc"/>
                </a:solidFill>
                <a:latin typeface="Monotype Corsiva"/>
              </a:rPr>
              <a:t>значительно облегчает работу по решению квадратных уравнений и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7" descr="AG00373_"/>
          <p:cNvPicPr/>
          <p:nvPr/>
        </p:nvPicPr>
        <p:blipFill>
          <a:blip r:embed="rId1"/>
          <a:stretch/>
        </p:blipFill>
        <p:spPr>
          <a:xfrm>
            <a:off x="6804000" y="4869000"/>
            <a:ext cx="2160720" cy="17287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Animate0036"/>
          <p:cNvPicPr/>
          <p:nvPr/>
        </p:nvPicPr>
        <p:blipFill>
          <a:blip r:embed="rId2"/>
          <a:stretch/>
        </p:blipFill>
        <p:spPr>
          <a:xfrm>
            <a:off x="395280" y="4808520"/>
            <a:ext cx="2089080" cy="1860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WordArt 5"/>
          <p:cNvSpPr txBox="1"/>
          <p:nvPr/>
        </p:nvSpPr>
        <p:spPr>
          <a:xfrm rot="21099600">
            <a:off x="324000" y="765000"/>
            <a:ext cx="835164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ополагающий вопро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4360" y="3068640"/>
            <a:ext cx="7772400" cy="17287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99ff99"/>
                </a:solidFill>
                <a:latin typeface="Monotype Corsiva"/>
              </a:rPr>
              <a:t>Что такое алгебра и зачем она нужна?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3" name="Picture 10" descr="Animate0013"/>
          <p:cNvPicPr/>
          <p:nvPr/>
        </p:nvPicPr>
        <p:blipFill>
          <a:blip r:embed="rId1"/>
          <a:stretch/>
        </p:blipFill>
        <p:spPr>
          <a:xfrm>
            <a:off x="3276720" y="4724280"/>
            <a:ext cx="2950920" cy="187344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611280" y="333360"/>
            <a:ext cx="799308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облемный вопрос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Компьютер решает квадратные уравнения и неравенства.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Monotype Corsiva"/>
              </a:rPr>
              <a:t>Возможно ли это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7" descr="Animate0208"/>
          <p:cNvPicPr/>
          <p:nvPr/>
        </p:nvPicPr>
        <p:blipFill>
          <a:blip r:embed="rId1"/>
          <a:stretch/>
        </p:blipFill>
        <p:spPr>
          <a:xfrm>
            <a:off x="7020000" y="4594320"/>
            <a:ext cx="1944720" cy="1930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0195384"/>
          <p:cNvPicPr/>
          <p:nvPr/>
        </p:nvPicPr>
        <p:blipFill>
          <a:blip r:embed="rId2"/>
          <a:stretch/>
        </p:blipFill>
        <p:spPr>
          <a:xfrm>
            <a:off x="324000" y="4691160"/>
            <a:ext cx="1795320" cy="183348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d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5"/>
          <p:cNvSpPr txBox="1"/>
          <p:nvPr/>
        </p:nvSpPr>
        <p:spPr>
          <a:xfrm>
            <a:off x="539640" y="260280"/>
            <a:ext cx="8136000" cy="16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тические вопрос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21840" y="1844280"/>
            <a:ext cx="8713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. Что это и каковы её графические возможно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Из истории квадратных уравн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уравнений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А) графический способ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Б) аналитический спосо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Решение квадратных неравенств в СКМ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MathCAD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99ff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99ff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8" descr="j0292020"/>
          <p:cNvPicPr/>
          <p:nvPr/>
        </p:nvPicPr>
        <p:blipFill>
          <a:blip r:embed="rId3"/>
          <a:stretch/>
        </p:blipFill>
        <p:spPr>
          <a:xfrm>
            <a:off x="6156360" y="3816360"/>
            <a:ext cx="2016000" cy="177336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98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98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98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98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4"/>
          <p:cNvSpPr txBox="1"/>
          <p:nvPr/>
        </p:nvSpPr>
        <p:spPr>
          <a:xfrm>
            <a:off x="1619280" y="692280"/>
            <a:ext cx="6337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ИПОТЕЗ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826560" y="2276280"/>
            <a:ext cx="7705800" cy="23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СКМ </a:t>
            </a:r>
            <a:r>
              <a:rPr b="0" lang="en-US" sz="5400" spc="-1" strike="noStrike">
                <a:solidFill>
                  <a:srgbClr val="99ff99"/>
                </a:solidFill>
                <a:latin typeface="Monotype Corsiva"/>
              </a:rPr>
              <a:t>MathCAD </a:t>
            </a:r>
            <a:r>
              <a:rPr b="0" lang="ru-RU" sz="5400" spc="-1" strike="noStrike">
                <a:solidFill>
                  <a:srgbClr val="99ff99"/>
                </a:solidFill>
                <a:latin typeface="Monotype Corsiva"/>
              </a:rPr>
              <a:t>облегчает решение квадратных уравнений и неравенств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8" descr="Animate0035"/>
          <p:cNvPicPr/>
          <p:nvPr/>
        </p:nvPicPr>
        <p:blipFill>
          <a:blip r:embed="rId1"/>
          <a:stretch/>
        </p:blipFill>
        <p:spPr>
          <a:xfrm>
            <a:off x="3851280" y="4952880"/>
            <a:ext cx="1584360" cy="1428840"/>
          </a:xfrm>
          <a:prstGeom prst="rect">
            <a:avLst/>
          </a:prstGeom>
          <a:ln w="0">
            <a:noFill/>
          </a:ln>
        </p:spPr>
      </p:pic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324000" y="0"/>
            <a:ext cx="842472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и проек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358560" y="1628280"/>
            <a:ext cx="8785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Образов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сформировать у учащихся представления о возможностях решения квадратных уравнений и неравенств в СКМ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athCAD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, а также навыки работы в этой систем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Развивающи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развить алгоритмическое мышление, произвольное внимание, произвольную память, интерес к математике и информатик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ff99"/>
                </a:solidFill>
                <a:latin typeface="Times New Roman"/>
              </a:rPr>
              <a:t>Воспитательные: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воспитать усидчивость, прилежность, умение работать в группе, аккуратность при обращении с ПК, настойчивость в достижении поставленных цел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WordArt 4"/>
          <p:cNvSpPr txBox="1"/>
          <p:nvPr/>
        </p:nvSpPr>
        <p:spPr>
          <a:xfrm>
            <a:off x="324000" y="476280"/>
            <a:ext cx="856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рганизация выполнения проекта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Сообщается тема проекта «Решение квадратных уравнений и неравенств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Класс разбивается на 3 группы, выбираются темы исслед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Исследование проблемы и выполнение каждой группой задания в виде презентации и публик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Monotype Corsiva"/>
              </a:rPr>
              <a:t>Обсуждение результатов исследова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611280" y="404640"/>
            <a:ext cx="8064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ланирование по тем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4920" y="1483920"/>
            <a:ext cx="8209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Сообщение тем исследований и формирование групп для проведения исследований – 1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Работа в группах – 2, 3 урок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Подготовка презентации и публикации – 4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99ff99"/>
                </a:solidFill>
                <a:latin typeface="Monotype Corsiva"/>
              </a:rPr>
              <a:t>Защита работ учащихся и подведение итогов – 5 уро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WordArt 5"/>
          <p:cNvSpPr txBox="1"/>
          <p:nvPr/>
        </p:nvSpPr>
        <p:spPr>
          <a:xfrm>
            <a:off x="611280" y="476280"/>
            <a:ext cx="8208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еречень тем   проект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395280" y="1700280"/>
            <a:ext cx="835344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1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2) СКМ </a:t>
            </a:r>
            <a:r>
              <a:rPr b="0" i="1" lang="en-US" sz="3600" spc="-1" strike="noStrike">
                <a:solidFill>
                  <a:srgbClr val="33ccff"/>
                </a:solidFill>
                <a:latin typeface="Times New Roman"/>
              </a:rPr>
              <a:t>MathCAD </a:t>
            </a: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и её возможности при решении квадратных неравенст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3ccff"/>
                </a:solidFill>
                <a:latin typeface="Times New Roman"/>
              </a:rPr>
              <a:t>3) Из истории квадратных уравнений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8" descr="Animate0029"/>
          <p:cNvPicPr/>
          <p:nvPr/>
        </p:nvPicPr>
        <p:blipFill>
          <a:blip r:embed="rId1"/>
          <a:stretch/>
        </p:blipFill>
        <p:spPr>
          <a:xfrm>
            <a:off x="6022800" y="4743360"/>
            <a:ext cx="2509920" cy="1781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9" descr="Animate0030"/>
          <p:cNvPicPr/>
          <p:nvPr/>
        </p:nvPicPr>
        <p:blipFill>
          <a:blip r:embed="rId2"/>
          <a:stretch/>
        </p:blipFill>
        <p:spPr>
          <a:xfrm>
            <a:off x="971640" y="4797360"/>
            <a:ext cx="2592360" cy="187164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898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98" fill="hold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898" fill="hold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7T23:45:29Z</dcterms:created>
  <dc:creator>1234</dc:creator>
  <dc:description/>
  <dc:language>en-US</dc:language>
  <cp:lastModifiedBy>LEGION</cp:lastModifiedBy>
  <dcterms:modified xsi:type="dcterms:W3CDTF">2015-01-26T10:19:40Z</dcterms:modified>
  <cp:revision>16</cp:revision>
  <dc:subject/>
  <dc:title>Решение </dc:title>
</cp:coreProperties>
</file>