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FD60-989A-4ED7-B145-384BEA8DA0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 чисел 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деся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кимова Елена Юрьевна 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У «Тарская гимназия №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. А.М.Луппо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мской области Тар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. Т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CD31-0FEC-4923-8DE2-A09FC18C61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9CC-E388-40E0-B860-CC83E651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19E-4F56-4464-98F2-650F1168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A8B-CB79-44F5-B979-A4239FEC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F11-E4BF-4C65-8338-08ACBD46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25A-AB04-4A5D-A748-F94F94B5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586-B28D-4C11-919F-E9711190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F3D-5D3F-4996-879C-6E58F35D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455-8AA0-498D-BF21-65E498D6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E49-F92A-4196-8CAA-5F94C3B0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FCB-8AD9-4EF1-86BA-4A7F1D9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CF7-8F20-4E4F-8465-5615E70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96F-2210-4358-AF74-2C094E4B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420E-0CEB-4203-AF1C-5EBAD8FC6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 чисел 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solidFill>
            <a:srgbClr val="92d050"/>
          </a:solidFill>
          <a:ln w="9360">
            <a:solidFill>
              <a:srgbClr val="ff99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имова Елена Юрьевна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У «Тарская гимназия №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. А.М.Лупп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мской области Та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 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4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5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3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29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0:23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