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6D8-FB85-4D85-84D6-86D0F0D069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Нахождение наибольшего и наименьшего значения функции </a:t>
            </a:r>
            <a:br>
              <a:rPr sz="1200"/>
            </a:b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(при решении задач прикладного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4B69-3D1B-4237-97CA-7D18E43B7713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опрос: каковы самые выгодные размеры страницы, исходя только из экономии бума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4F5A-CEB1-4C1B-855E-FD267C39AB99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ые размеры страниц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8х36,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B576-3AF6-4155-BE0F-6001E9665F5C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74b4b"/>
                </a:solidFill>
                <a:latin typeface="Calibri"/>
              </a:rPr>
              <a:t>Д/з решить задачу: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ламный щит имеет форму прямоугольник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= 9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ставляет 200 грн + 25 грн за погонный метр длины щи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CC67-A81C-422A-BFC6-4819F23E999B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се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391C-33D1-4E3C-A15E-807AD8C46D24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числить значение функции в этих точках и на концах отрезка, где определена фун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рать из полученных значений оптим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A800-969D-4E72-AD87-154EA79C398C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полнит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промежутки возрастания и убывания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экстремумы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наибольшее и наименьшее значение функции на отрезк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[-1;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644-01B5-4E58-AB99-B0A606DF8C84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прос: какую наибольшую площадь земли могли купить финикий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7C8E-E4C5-4605-9381-965ABCD01DBE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Переведём задачу на язык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1EE0-49EA-47CE-8CB4-84AE5C5519FA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74b4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74b4b"/>
                </a:solidFill>
                <a:latin typeface="Calibri"/>
              </a:rPr>
              <a:t>Y′ = L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AD95-1FBD-4EF7-81C4-685E306A7B65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S = av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³ +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, где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- скорость судна в км/ч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и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– коэффициенты, заданные для каждого судна (для нашего а=0,005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=4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залось бы, чем медленнее движется корабль, тем дешевле его эксплуатация. Так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6DAE-184D-4FB1-856F-8277B0E3618B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ая скорость катера для минимальных затрат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вна 16 км/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0771-E6C2-40BC-A05C-43FD10D08041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9C4-7CF7-4C02-B748-15E38183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69F-AF82-4229-9204-69BD9DA9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164-9E77-4EF1-A0EF-E571C1AD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BDA-F33D-46A2-A808-C67E1369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DE83-1D9F-4031-9FE3-BD049FC2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4D81-E424-4B0E-85A4-871A17E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DB5C-834E-4D05-96DF-9D619864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A1B8-9D85-4C93-97BB-0954ED4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15DA-0594-4A5D-A933-86A92148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94E1-FDCB-4A51-B052-63695F6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6280-5CFF-4BD3-9507-5D22F065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46F-1CCC-4F96-A830-F1FB086F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FC24-1C48-4992-9D0D-83EDB47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ECB0-72E5-46C0-A3BA-DC899C4E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9F0A-6291-499C-B768-76AD3D60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575A-ECD9-4478-9E19-ED96521B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CC0A-8CC3-46CE-806C-FA83B4AE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138-706C-4C86-882D-9AC2DCF2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9E6-B9D8-452A-B97E-D8B4874F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835-6CBE-441E-A4D5-3B607799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70C-FF95-434C-BAA2-B725EB25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586-DFB4-4571-8EC9-9DCCE56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88A-DD14-4F70-BDDA-443CDD9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10E-F9B9-4A45-B325-4061CE48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B80A-C09A-4EEA-9E5E-619AB2EA5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9EF2-EC6A-4B73-9AF8-1A2AC6D9EF93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4360" y="252432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Нахождение наибольшего и наименьшего значения функции </a:t>
            </a:r>
            <a:br>
              <a:rPr sz="3600"/>
            </a:b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(при решении задач прикладного характера)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11040" y="6284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535200" y="378000"/>
            <a:ext cx="53895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Через математические знания лежит широкая дорога к огромным, почти необозримым областям труда и открыт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Маркушевич А.И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885960" y="5253120"/>
            <a:ext cx="780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Презентацию подготовила преподаватель 1 категории Керченского профессионального строительного лицея Селиванова Ирина Викторовн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4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p0001"/>
          <p:cNvPicPr/>
          <p:nvPr/>
        </p:nvPicPr>
        <p:blipFill>
          <a:blip r:embed="rId1"/>
          <a:stretch/>
        </p:blipFill>
        <p:spPr>
          <a:xfrm>
            <a:off x="363600" y="363600"/>
            <a:ext cx="8410680" cy="62071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522440" y="1952640"/>
            <a:ext cx="69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53880" y="53020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прос: каковы самые выгодные размеры страницы, исходя только из экономии бумаг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384280" y="809640"/>
            <a:ext cx="4319640" cy="46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9" name="Picture 7" descr="book3"/>
          <p:cNvPicPr/>
          <p:nvPr/>
        </p:nvPicPr>
        <p:blipFill>
          <a:blip r:embed="rId1"/>
          <a:stretch/>
        </p:blipFill>
        <p:spPr>
          <a:xfrm>
            <a:off x="7265880" y="596880"/>
            <a:ext cx="1198800" cy="1198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8"/>
          <p:cNvSpPr/>
          <p:nvPr/>
        </p:nvSpPr>
        <p:spPr>
          <a:xfrm>
            <a:off x="3048120" y="1285920"/>
            <a:ext cx="2968560" cy="3591000"/>
          </a:xfrm>
          <a:prstGeom prst="rect">
            <a:avLst/>
          </a:prstGeom>
          <a:gradFill rotWithShape="0">
            <a:gsLst>
              <a:gs pos="0">
                <a:srgbClr val="ffff00">
                  <a:alpha val="46274"/>
                </a:srgbClr>
              </a:gs>
              <a:gs pos="100000">
                <a:srgbClr val="ff0000">
                  <a:alpha val="42352"/>
                </a:srgbClr>
              </a:gs>
            </a:gsLst>
            <a:lin ang="189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690640" y="9936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664000" y="46512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122880" y="46641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031080" y="92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74960" y="463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745320" y="42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730920" y="5365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908000" y="53816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2371680" y="2995560"/>
            <a:ext cx="67644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6019920" y="2987640"/>
            <a:ext cx="67608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4532400" y="80964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4549680" y="490680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573640" y="26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6208920" y="26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135320" y="49816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4097160" y="8524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3871800" y="2703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 = 400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м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3089160" y="3139920"/>
            <a:ext cx="4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4029120" y="4452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400/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741240" y="2570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AB = 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423720" y="3062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BC = 400/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638760" y="307656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L = 400/x +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6997680" y="261144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N = x + 4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239920" y="5645160"/>
            <a:ext cx="451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S = (x + 4)</a:t>
            </a: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·(400/x + 8) 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= 1600/x + 8x + 43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319480" y="4366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1600/x + 8x + 432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371680" y="121932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. S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′ = -1600/x² +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386080" y="1801800"/>
            <a:ext cx="637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2. S′ =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;       -1600/x² + 8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600/x² =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²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1600/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 14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728800" y="429264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06880" y="44593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3497400" y="503064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864480" y="448632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V="1">
            <a:off x="6440400" y="5122440"/>
            <a:ext cx="74160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4491000" y="5135400"/>
            <a:ext cx="755640" cy="60984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300640" y="549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3333600" y="44337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5699160" y="498492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5311800" y="5137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04720" y="2384280"/>
            <a:ext cx="41086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ые размеры страницы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18х36,5 см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304920" y="5197320"/>
            <a:ext cx="475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N =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х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+ 4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=1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L = 400/x + 8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  <a:ea typeface="Arial"/>
              </a:rPr>
              <a:t>36,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2680" y="1652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2 - Ekseption - A La Turka (Mozart).mp3" descr=""/>
          <p:cNvPicPr/>
          <p:nvPr/>
        </p:nvPicPr>
        <p:blipFill>
          <a:blip r:embed="rId1"/>
          <a:stretch/>
        </p:blipFill>
        <p:spPr>
          <a:xfrm>
            <a:off x="304920" y="632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1455840" y="1365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77920" y="4319640"/>
            <a:ext cx="8626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4b4b"/>
                </a:solidFill>
                <a:latin typeface="Arial"/>
              </a:rPr>
              <a:t>Д/з решить задачу: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Рекламный щит имеет форму прямоугольника 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= 9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составляет 200 грн + 25 грн за погонный метр длины щита.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74"/>
          <p:cNvPicPr/>
          <p:nvPr/>
        </p:nvPicPr>
        <p:blipFill>
          <a:blip r:embed="rId1"/>
          <a:stretch/>
        </p:blipFill>
        <p:spPr>
          <a:xfrm>
            <a:off x="457200" y="476280"/>
            <a:ext cx="8424720" cy="6116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44520" y="351324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e74b4b"/>
                </a:solidFill>
                <a:uFillTx/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974960" y="1403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се молодцы!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43" name="Picture 13" descr="1"/>
          <p:cNvPicPr/>
          <p:nvPr/>
        </p:nvPicPr>
        <p:blipFill>
          <a:blip r:embed="rId2"/>
          <a:stretch/>
        </p:blipFill>
        <p:spPr>
          <a:xfrm>
            <a:off x="7940520" y="5664240"/>
            <a:ext cx="1000440" cy="96192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2292480" y="569880"/>
            <a:ext cx="17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Text Box 45"/>
          <p:cNvSpPr/>
          <p:nvPr/>
        </p:nvSpPr>
        <p:spPr>
          <a:xfrm>
            <a:off x="5951520" y="10605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2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³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0" y="5207040"/>
            <a:ext cx="17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7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189840" y="3403440"/>
            <a:ext cx="18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0)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465120" y="27846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28 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2279520" y="603396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5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 + 3x - 9 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977160" y="49338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5163840" y="43308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2x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7070760" y="2746440"/>
            <a:ext cx="13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6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4616280" y="812880"/>
            <a:ext cx="66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7597800" y="1395360"/>
            <a:ext cx="7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1833480" y="183348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3" name="Group 70"/>
          <p:cNvGrpSpPr/>
          <p:nvPr/>
        </p:nvGrpSpPr>
        <p:grpSpPr>
          <a:xfrm>
            <a:off x="933480" y="3938760"/>
            <a:ext cx="1665000" cy="825120"/>
            <a:chOff x="933480" y="3938760"/>
            <a:chExt cx="1665000" cy="825120"/>
          </a:xfrm>
        </p:grpSpPr>
        <p:sp>
          <p:nvSpPr>
            <p:cNvPr id="124" name="Text Box 68"/>
            <p:cNvSpPr/>
            <p:nvPr/>
          </p:nvSpPr>
          <p:spPr>
            <a:xfrm>
              <a:off x="933480" y="393876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e74b4b"/>
                  </a:solidFill>
                  <a:latin typeface="Arial"/>
                </a:rPr>
                <a:t>10x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Text Box 69"/>
            <p:cNvSpPr/>
            <p:nvPr/>
          </p:nvSpPr>
          <p:spPr>
            <a:xfrm>
              <a:off x="2082600" y="39387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74b4b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26" name="Text Box 72"/>
          <p:cNvSpPr/>
          <p:nvPr/>
        </p:nvSpPr>
        <p:spPr>
          <a:xfrm>
            <a:off x="3228840" y="5095800"/>
            <a:ext cx="23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10x + 3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Group 78"/>
          <p:cNvGrpSpPr/>
          <p:nvPr/>
        </p:nvGrpSpPr>
        <p:grpSpPr>
          <a:xfrm>
            <a:off x="3486240" y="1722600"/>
            <a:ext cx="1923840" cy="855000"/>
            <a:chOff x="3486240" y="1722600"/>
            <a:chExt cx="1923840" cy="855000"/>
          </a:xfrm>
        </p:grpSpPr>
        <p:grpSp>
          <p:nvGrpSpPr>
            <p:cNvPr id="128" name="Group 56"/>
            <p:cNvGrpSpPr/>
            <p:nvPr/>
          </p:nvGrpSpPr>
          <p:grpSpPr>
            <a:xfrm>
              <a:off x="3486240" y="1722600"/>
              <a:ext cx="1883520" cy="825120"/>
              <a:chOff x="3486240" y="1722600"/>
              <a:chExt cx="1883520" cy="825120"/>
            </a:xfrm>
          </p:grpSpPr>
          <p:sp>
            <p:nvSpPr>
              <p:cNvPr id="129" name="Text Box 46"/>
              <p:cNvSpPr/>
              <p:nvPr/>
            </p:nvSpPr>
            <p:spPr>
              <a:xfrm>
                <a:off x="3486240" y="1722600"/>
                <a:ext cx="111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(x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30" name="Text Box 55"/>
              <p:cNvSpPr/>
              <p:nvPr/>
            </p:nvSpPr>
            <p:spPr>
              <a:xfrm>
                <a:off x="4167360" y="1749240"/>
                <a:ext cx="120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6666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1" name="Text Box 75"/>
            <p:cNvSpPr/>
            <p:nvPr/>
          </p:nvSpPr>
          <p:spPr>
            <a:xfrm>
              <a:off x="4483080" y="1752480"/>
              <a:ext cx="927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2" name="Group 77"/>
          <p:cNvGrpSpPr/>
          <p:nvPr/>
        </p:nvGrpSpPr>
        <p:grpSpPr>
          <a:xfrm>
            <a:off x="2994120" y="3483000"/>
            <a:ext cx="2374920" cy="1460160"/>
            <a:chOff x="2994120" y="3483000"/>
            <a:chExt cx="2374920" cy="1460160"/>
          </a:xfrm>
        </p:grpSpPr>
        <p:grpSp>
          <p:nvGrpSpPr>
            <p:cNvPr id="133" name="Group 54"/>
            <p:cNvGrpSpPr/>
            <p:nvPr/>
          </p:nvGrpSpPr>
          <p:grpSpPr>
            <a:xfrm>
              <a:off x="3168720" y="3483000"/>
              <a:ext cx="1762200" cy="1460160"/>
              <a:chOff x="3168720" y="3483000"/>
              <a:chExt cx="1762200" cy="1460160"/>
            </a:xfrm>
          </p:grpSpPr>
          <p:grpSp>
            <p:nvGrpSpPr>
              <p:cNvPr id="134" name="Group 52"/>
              <p:cNvGrpSpPr/>
              <p:nvPr/>
            </p:nvGrpSpPr>
            <p:grpSpPr>
              <a:xfrm>
                <a:off x="3168720" y="3483000"/>
                <a:ext cx="676440" cy="1460160"/>
                <a:chOff x="3168720" y="3483000"/>
                <a:chExt cx="676440" cy="1460160"/>
              </a:xfrm>
            </p:grpSpPr>
            <p:sp>
              <p:nvSpPr>
                <p:cNvPr id="135" name="Text Box 50"/>
                <p:cNvSpPr/>
                <p:nvPr/>
              </p:nvSpPr>
              <p:spPr>
                <a:xfrm>
                  <a:off x="3260880" y="3483000"/>
                  <a:ext cx="5842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 u="sng">
                      <a:solidFill>
                        <a:srgbClr val="336666"/>
                      </a:solidFill>
                      <a:uFillTx/>
                      <a:latin typeface="Arial"/>
                    </a:rPr>
                    <a:t>1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51"/>
                <p:cNvSpPr/>
                <p:nvPr/>
              </p:nvSpPr>
              <p:spPr>
                <a:xfrm>
                  <a:off x="3168720" y="4118040"/>
                  <a:ext cx="6098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336666"/>
                      </a:solidFill>
                      <a:latin typeface="Arial"/>
                    </a:rPr>
                    <a:t>3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Text Box 53"/>
              <p:cNvSpPr/>
              <p:nvPr/>
            </p:nvSpPr>
            <p:spPr>
              <a:xfrm>
                <a:off x="3845160" y="3720960"/>
                <a:ext cx="1085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x</a:t>
                </a: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  <a:ea typeface="Arial"/>
                  </a:rPr>
                  <a:t>³ 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8" name="Text Box 74"/>
            <p:cNvSpPr/>
            <p:nvPr/>
          </p:nvSpPr>
          <p:spPr>
            <a:xfrm>
              <a:off x="4454640" y="37620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Text Box 76"/>
            <p:cNvSpPr/>
            <p:nvPr/>
          </p:nvSpPr>
          <p:spPr>
            <a:xfrm>
              <a:off x="2994120" y="3708000"/>
              <a:ext cx="4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(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0717 L -0.52657 0.1982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0255 L 0.36909 0.39315 E">
                                      <p:cBhvr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6869 L -0.02083 0.49353 E">
                                      <p:cBhvr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-0.071 L -0.13628 -0.54788 E">
                                      <p:cBhvr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2544E-006 L 0.46371 -0.31868 E">
                                      <p:cBhvr>
                                        <p:cTn id="4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7192 L 0.0776 -0.2419 E">
                                      <p:cBhvr>
                                        <p:cTn id="5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6638 L -0.17622 -0.1723 E">
                                      <p:cBhvr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5 0.00277 L 0.38282 0.14384 E">
                                      <p:cBhvr>
                                        <p:cTn id="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74b4b"/>
                </a:solidFill>
                <a:uFillTx/>
                <a:latin typeface="Arial"/>
              </a:rPr>
              <a:t>АЛГО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5520" y="1281240"/>
            <a:ext cx="77281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числить значение функции в этих точках и на концах отрезка, где определена 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брать из полученных значений оптима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468440" y="4898880"/>
            <a:ext cx="76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Перевести задачу на язык математики, т. е. выразить искомую величину через функцию от некоторой переменной и найти область её определени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utoShape 13">
            <a:hlinkClick r:id="" action="ppaction://hlinkshowjump?jump=nextslide"/>
          </p:cNvPr>
          <p:cNvSpPr/>
          <p:nvPr/>
        </p:nvSpPr>
        <p:spPr>
          <a:xfrm>
            <a:off x="293760" y="6243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03423E-006 L 4.44444E-006 -0.52035 E">
                                      <p:cBhvr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273E-006 L -0.00157 0.25 E">
                                      <p:cBhvr>
                                        <p:cTn id="1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9195E-006 L 0.00156 0.23659 E">
                                      <p:cBhvr>
                                        <p:cTn id="10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8446E-006 L -0.00156 0.21994 E">
                                      <p:cBhvr>
                                        <p:cTn id="10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106720" y="736560"/>
            <a:ext cx="62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4b4b"/>
                </a:solidFill>
                <a:latin typeface="Arial"/>
              </a:rPr>
              <a:t>Выполните задание: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849240" y="2228760"/>
            <a:ext cx="793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промежутки возрастания и убывания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экстремумы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наибольшее и наименьшее значение функции на отрезке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[-1;2]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7" name="Group 21"/>
          <p:cNvGrpSpPr/>
          <p:nvPr/>
        </p:nvGrpSpPr>
        <p:grpSpPr>
          <a:xfrm>
            <a:off x="2131920" y="4594320"/>
            <a:ext cx="5207040" cy="906120"/>
            <a:chOff x="2131920" y="4594320"/>
            <a:chExt cx="5207040" cy="906120"/>
          </a:xfrm>
        </p:grpSpPr>
        <p:sp>
          <p:nvSpPr>
            <p:cNvPr id="158" name="Text Box 13"/>
            <p:cNvSpPr/>
            <p:nvPr/>
          </p:nvSpPr>
          <p:spPr>
            <a:xfrm>
              <a:off x="2131920" y="4594320"/>
              <a:ext cx="52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Y = </a:t>
              </a:r>
              <a:r>
                <a:rPr b="1" i="1" lang="en-US" sz="2800" spc="-1" strike="noStrike" u="sng">
                  <a:solidFill>
                    <a:srgbClr val="e74b4b"/>
                  </a:solidFill>
                  <a:uFillTx/>
                  <a:latin typeface="Arial"/>
                </a:rPr>
                <a:t>N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 x³ - 2·N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x² + 3·N</a:t>
              </a:r>
              <a:r>
                <a:rPr b="1" i="1" lang="en-US" sz="2800" spc="-1" strike="noStrike" baseline="30000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3301920" y="4979880"/>
              <a:ext cx="3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60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24000" y="6297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2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2830680" y="5573880"/>
            <a:ext cx="39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74b4b"/>
                </a:solidFill>
                <a:latin typeface="Arial"/>
              </a:rPr>
              <a:t>Y = N </a:t>
            </a:r>
            <a:r>
              <a:rPr b="1" i="1" lang="en-US" sz="2800" spc="-1" strike="noStrike">
                <a:solidFill>
                  <a:srgbClr val="e74b4b"/>
                </a:solidFill>
                <a:latin typeface="Arial"/>
                <a:ea typeface="Arial"/>
              </a:rPr>
              <a:t>· x² - 2·N · x + 8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00041205"/>
          <p:cNvPicPr/>
          <p:nvPr/>
        </p:nvPicPr>
        <p:blipFill>
          <a:blip r:embed="rId1"/>
          <a:stretch/>
        </p:blipFill>
        <p:spPr>
          <a:xfrm>
            <a:off x="392040" y="382680"/>
            <a:ext cx="8505720" cy="6211800"/>
          </a:xfrm>
          <a:prstGeom prst="rect">
            <a:avLst/>
          </a:prstGeom>
          <a:ln w="0">
            <a:noFill/>
          </a:ln>
        </p:spPr>
      </p:pic>
      <p:sp>
        <p:nvSpPr>
          <p:cNvPr id="16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60520" y="793800"/>
            <a:ext cx="825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58262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опрос: какую наибольшую площадь земли могли купить финикийцы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1403280" y="2887560"/>
            <a:ext cx="1968480" cy="338400"/>
          </a:xfrm>
          <a:custGeom>
            <a:avLst/>
            <a:gdLst/>
            <a:ahLst/>
            <a:rect l="l" t="t" r="r" b="b"/>
            <a:pathLst>
              <a:path w="1240" h="213">
                <a:moveTo>
                  <a:pt x="0" y="69"/>
                </a:moveTo>
                <a:cubicBezTo>
                  <a:pt x="140" y="34"/>
                  <a:pt x="280" y="0"/>
                  <a:pt x="408" y="23"/>
                </a:cubicBezTo>
                <a:cubicBezTo>
                  <a:pt x="536" y="46"/>
                  <a:pt x="642" y="197"/>
                  <a:pt x="771" y="205"/>
                </a:cubicBezTo>
                <a:cubicBezTo>
                  <a:pt x="900" y="213"/>
                  <a:pt x="1120" y="92"/>
                  <a:pt x="1180" y="69"/>
                </a:cubicBezTo>
                <a:cubicBezTo>
                  <a:pt x="1240" y="46"/>
                  <a:pt x="1187" y="57"/>
                  <a:pt x="1134" y="69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3862440" y="2935440"/>
            <a:ext cx="172728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0" y="182"/>
                </a:moveTo>
                <a:cubicBezTo>
                  <a:pt x="117" y="91"/>
                  <a:pt x="234" y="0"/>
                  <a:pt x="362" y="0"/>
                </a:cubicBezTo>
                <a:cubicBezTo>
                  <a:pt x="490" y="0"/>
                  <a:pt x="650" y="159"/>
                  <a:pt x="771" y="182"/>
                </a:cubicBezTo>
                <a:cubicBezTo>
                  <a:pt x="892" y="205"/>
                  <a:pt x="990" y="171"/>
                  <a:pt x="1088" y="137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724360" y="3057480"/>
            <a:ext cx="2448000" cy="239760"/>
          </a:xfrm>
          <a:custGeom>
            <a:avLst/>
            <a:gdLst/>
            <a:ahLst/>
            <a:rect l="l" t="t" r="r" b="b"/>
            <a:pathLst>
              <a:path w="1542" h="151">
                <a:moveTo>
                  <a:pt x="0" y="143"/>
                </a:moveTo>
                <a:cubicBezTo>
                  <a:pt x="136" y="98"/>
                  <a:pt x="272" y="53"/>
                  <a:pt x="408" y="53"/>
                </a:cubicBezTo>
                <a:cubicBezTo>
                  <a:pt x="544" y="53"/>
                  <a:pt x="680" y="151"/>
                  <a:pt x="816" y="143"/>
                </a:cubicBezTo>
                <a:cubicBezTo>
                  <a:pt x="952" y="135"/>
                  <a:pt x="1103" y="14"/>
                  <a:pt x="1224" y="7"/>
                </a:cubicBezTo>
                <a:cubicBezTo>
                  <a:pt x="1345" y="0"/>
                  <a:pt x="1443" y="49"/>
                  <a:pt x="1542" y="98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755800" y="2608200"/>
            <a:ext cx="2737080" cy="228600"/>
          </a:xfrm>
          <a:custGeom>
            <a:avLst/>
            <a:gdLst/>
            <a:ahLst/>
            <a:rect l="l" t="t" r="r" b="b"/>
            <a:pathLst>
              <a:path w="1724" h="144">
                <a:moveTo>
                  <a:pt x="0" y="99"/>
                </a:moveTo>
                <a:cubicBezTo>
                  <a:pt x="72" y="53"/>
                  <a:pt x="144" y="8"/>
                  <a:pt x="272" y="8"/>
                </a:cubicBezTo>
                <a:cubicBezTo>
                  <a:pt x="400" y="8"/>
                  <a:pt x="620" y="84"/>
                  <a:pt x="771" y="99"/>
                </a:cubicBezTo>
                <a:cubicBezTo>
                  <a:pt x="922" y="114"/>
                  <a:pt x="1073" y="114"/>
                  <a:pt x="1179" y="99"/>
                </a:cubicBezTo>
                <a:cubicBezTo>
                  <a:pt x="1285" y="84"/>
                  <a:pt x="1315" y="0"/>
                  <a:pt x="1406" y="8"/>
                </a:cubicBezTo>
                <a:cubicBezTo>
                  <a:pt x="1497" y="16"/>
                  <a:pt x="1610" y="80"/>
                  <a:pt x="1724" y="144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390600" y="2490840"/>
            <a:ext cx="2160360" cy="298440"/>
          </a:xfrm>
          <a:custGeom>
            <a:avLst/>
            <a:gdLst/>
            <a:ahLst/>
            <a:rect l="l" t="t" r="r" b="b"/>
            <a:pathLst>
              <a:path w="1361" h="188">
                <a:moveTo>
                  <a:pt x="0" y="181"/>
                </a:moveTo>
                <a:cubicBezTo>
                  <a:pt x="140" y="90"/>
                  <a:pt x="280" y="0"/>
                  <a:pt x="408" y="0"/>
                </a:cubicBezTo>
                <a:cubicBezTo>
                  <a:pt x="536" y="0"/>
                  <a:pt x="650" y="174"/>
                  <a:pt x="771" y="181"/>
                </a:cubicBezTo>
                <a:cubicBezTo>
                  <a:pt x="892" y="188"/>
                  <a:pt x="1036" y="60"/>
                  <a:pt x="1134" y="45"/>
                </a:cubicBezTo>
                <a:cubicBezTo>
                  <a:pt x="1232" y="30"/>
                  <a:pt x="1296" y="60"/>
                  <a:pt x="1361" y="91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5951520" y="2567160"/>
            <a:ext cx="2521080" cy="298440"/>
          </a:xfrm>
          <a:custGeom>
            <a:avLst/>
            <a:gdLst/>
            <a:ahLst/>
            <a:rect l="l" t="t" r="r" b="b"/>
            <a:pathLst>
              <a:path w="1588" h="188">
                <a:moveTo>
                  <a:pt x="0" y="188"/>
                </a:moveTo>
                <a:cubicBezTo>
                  <a:pt x="204" y="101"/>
                  <a:pt x="409" y="14"/>
                  <a:pt x="590" y="7"/>
                </a:cubicBezTo>
                <a:cubicBezTo>
                  <a:pt x="771" y="0"/>
                  <a:pt x="976" y="136"/>
                  <a:pt x="1089" y="143"/>
                </a:cubicBezTo>
                <a:cubicBezTo>
                  <a:pt x="1202" y="150"/>
                  <a:pt x="1187" y="52"/>
                  <a:pt x="1270" y="52"/>
                </a:cubicBezTo>
                <a:cubicBezTo>
                  <a:pt x="1353" y="52"/>
                  <a:pt x="1470" y="97"/>
                  <a:pt x="1588" y="143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7858080" y="2878200"/>
            <a:ext cx="1008000" cy="156960"/>
          </a:xfrm>
          <a:custGeom>
            <a:avLst/>
            <a:gdLst/>
            <a:ahLst/>
            <a:rect l="l" t="t" r="r" b="b"/>
            <a:pathLst>
              <a:path w="635" h="99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93" y="83"/>
                  <a:pt x="453" y="91"/>
                </a:cubicBezTo>
                <a:cubicBezTo>
                  <a:pt x="513" y="99"/>
                  <a:pt x="559" y="53"/>
                  <a:pt x="589" y="46"/>
                </a:cubicBezTo>
                <a:cubicBezTo>
                  <a:pt x="619" y="39"/>
                  <a:pt x="627" y="42"/>
                  <a:pt x="635" y="46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328680" y="2874960"/>
            <a:ext cx="1655640" cy="349200"/>
          </a:xfrm>
          <a:custGeom>
            <a:avLst/>
            <a:gdLst/>
            <a:ahLst/>
            <a:rect l="l" t="t" r="r" b="b"/>
            <a:pathLst>
              <a:path w="1043" h="220">
                <a:moveTo>
                  <a:pt x="0" y="144"/>
                </a:moveTo>
                <a:cubicBezTo>
                  <a:pt x="125" y="72"/>
                  <a:pt x="250" y="0"/>
                  <a:pt x="363" y="8"/>
                </a:cubicBezTo>
                <a:cubicBezTo>
                  <a:pt x="476" y="16"/>
                  <a:pt x="567" y="160"/>
                  <a:pt x="680" y="190"/>
                </a:cubicBezTo>
                <a:cubicBezTo>
                  <a:pt x="793" y="220"/>
                  <a:pt x="918" y="205"/>
                  <a:pt x="1043" y="190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50920" y="2421000"/>
            <a:ext cx="8642160" cy="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41128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673272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050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7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8040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2556000" y="407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4b4b"/>
                </a:solidFill>
                <a:uFillTx/>
                <a:latin typeface="Arial"/>
              </a:rPr>
              <a:t>AC+CD+DB=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6824520" y="41688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5092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564000" y="5580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2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490840" y="530280"/>
            <a:ext cx="58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74b4b"/>
                </a:solidFill>
                <a:uFillTx/>
                <a:latin typeface="Arial"/>
              </a:rPr>
              <a:t>Переведём задачу на язык математики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6826320" y="1598760"/>
            <a:ext cx="1590120" cy="812160"/>
            <a:chOff x="6826320" y="1598760"/>
            <a:chExt cx="1590120" cy="812160"/>
          </a:xfrm>
        </p:grpSpPr>
        <p:sp>
          <p:nvSpPr>
            <p:cNvPr id="197" name="Freeform 32"/>
            <p:cNvSpPr/>
            <p:nvPr/>
          </p:nvSpPr>
          <p:spPr>
            <a:xfrm>
              <a:off x="6826320" y="1598760"/>
              <a:ext cx="1590120" cy="792720"/>
            </a:xfrm>
            <a:custGeom>
              <a:avLst/>
              <a:gdLst/>
              <a:ahLst/>
              <a:rect l="l" t="t" r="r" b="b"/>
              <a:pathLst>
                <a:path w="993" h="370">
                  <a:moveTo>
                    <a:pt x="0" y="370"/>
                  </a:moveTo>
                  <a:cubicBezTo>
                    <a:pt x="37" y="289"/>
                    <a:pt x="74" y="209"/>
                    <a:pt x="125" y="153"/>
                  </a:cubicBezTo>
                  <a:cubicBezTo>
                    <a:pt x="176" y="97"/>
                    <a:pt x="223" y="58"/>
                    <a:pt x="308" y="36"/>
                  </a:cubicBezTo>
                  <a:cubicBezTo>
                    <a:pt x="393" y="14"/>
                    <a:pt x="539" y="0"/>
                    <a:pt x="634" y="20"/>
                  </a:cubicBezTo>
                  <a:cubicBezTo>
                    <a:pt x="729" y="40"/>
                    <a:pt x="816" y="95"/>
                    <a:pt x="876" y="153"/>
                  </a:cubicBezTo>
                  <a:cubicBezTo>
                    <a:pt x="936" y="211"/>
                    <a:pt x="973" y="335"/>
                    <a:pt x="993" y="370"/>
                  </a:cubicBezTo>
                </a:path>
              </a:pathLst>
            </a:custGeom>
            <a:solidFill>
              <a:srgbClr val="ffff00">
                <a:alpha val="78000"/>
              </a:srgbClr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6851520" y="2391480"/>
              <a:ext cx="1564920" cy="1944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9" name="Line 38"/>
          <p:cNvSpPr/>
          <p:nvPr/>
        </p:nvSpPr>
        <p:spPr>
          <a:xfrm flipV="1">
            <a:off x="7924680" y="609120"/>
            <a:ext cx="370080" cy="107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V="1">
            <a:off x="8083440" y="1125000"/>
            <a:ext cx="623880" cy="676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Line 40"/>
          <p:cNvSpPr/>
          <p:nvPr/>
        </p:nvSpPr>
        <p:spPr>
          <a:xfrm flipV="1">
            <a:off x="8362800" y="2133360"/>
            <a:ext cx="50328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 flipV="1">
            <a:off x="8229600" y="1576080"/>
            <a:ext cx="596880" cy="384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 flipV="1">
            <a:off x="7672320" y="317520"/>
            <a:ext cx="39600" cy="1285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 flipH="1" flipV="1">
            <a:off x="7262280" y="463320"/>
            <a:ext cx="158760" cy="119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 flipH="1" flipV="1">
            <a:off x="6162480" y="422280"/>
            <a:ext cx="1060200" cy="1339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 flipH="1" flipV="1">
            <a:off x="6360840" y="1536480"/>
            <a:ext cx="662040" cy="42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 flipH="1" flipV="1">
            <a:off x="3432240" y="1350720"/>
            <a:ext cx="3525840" cy="795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 flipH="1" flipV="1">
            <a:off x="2265480" y="2066760"/>
            <a:ext cx="4572000" cy="29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Line 4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4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50" descr="z044"/>
          <p:cNvPicPr/>
          <p:nvPr/>
        </p:nvPicPr>
        <p:blipFill>
          <a:blip r:embed="rId1"/>
          <a:stretch/>
        </p:blipFill>
        <p:spPr>
          <a:xfrm>
            <a:off x="306360" y="398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1"/>
          <p:cNvSpPr/>
          <p:nvPr/>
        </p:nvSpPr>
        <p:spPr>
          <a:xfrm>
            <a:off x="1951200" y="598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x(L-2x)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2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9288E-006 L 1.0158 0.23566 E">
                                      <p:cBhvr>
                                        <p:cTn id="155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00320" y="58248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x(L-2x)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a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782800" y="1614240"/>
            <a:ext cx="63612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74"/>
              </a:spcBef>
              <a:buClr>
                <a:srgbClr val="e74b4b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74b4b"/>
                </a:solidFill>
                <a:latin typeface="Arial"/>
              </a:rPr>
              <a:t>Y′ = L – 4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3551400" y="410040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Freeform 13"/>
          <p:cNvSpPr/>
          <p:nvPr/>
        </p:nvSpPr>
        <p:spPr>
          <a:xfrm>
            <a:off x="3403440" y="353052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65800" y="420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0,25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334040" y="35434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467400" y="34639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4002120" y="440496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572160" y="432432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54640" y="4562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20760" y="2305080"/>
            <a:ext cx="273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716200" y="239868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L = 4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= 0,25L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730600" y="31924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2797200" y="5340240"/>
            <a:ext cx="56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AC = 0,25L ;DC =  0,5L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5737320" y="4041720"/>
            <a:ext cx="106200" cy="1065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3621240" y="1047600"/>
            <a:ext cx="36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Lx – 2x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00041177"/>
          <p:cNvPicPr/>
          <p:nvPr/>
        </p:nvPicPr>
        <p:blipFill>
          <a:blip r:embed="rId1"/>
          <a:stretch/>
        </p:blipFill>
        <p:spPr>
          <a:xfrm>
            <a:off x="353880" y="365040"/>
            <a:ext cx="8539200" cy="6226200"/>
          </a:xfrm>
          <a:prstGeom prst="rect">
            <a:avLst/>
          </a:prstGeom>
          <a:ln w="0">
            <a:noFill/>
          </a:ln>
        </p:spPr>
      </p:pic>
      <p:sp>
        <p:nvSpPr>
          <p:cNvPr id="2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39560" y="878040"/>
            <a:ext cx="8375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 = av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³ +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, где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 скорость судна в км/ч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– коэффициенты, заданные для каждого судна (для нашего а=0,005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=40)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79400" y="3865680"/>
            <a:ext cx="776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26960" y="57546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залось бы, чем медленнее движется корабль, тем дешевле его эксплуатация. Так ли это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292480" y="56988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/v = 0,005v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 + 40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  <a:ea typeface="Arial"/>
              </a:rPr>
              <a:t>/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v 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332080" y="1285920"/>
            <a:ext cx="630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557440" y="1271520"/>
            <a:ext cx="62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e74b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,005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·2v –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121280" y="51465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511440" y="5718240"/>
            <a:ext cx="461196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326200" y="58244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878520" y="517356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6454800" y="581004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>
            <a:off x="4505400" y="582300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315040" y="6180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>
            <a:off x="3362400" y="51339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Oval 22"/>
          <p:cNvSpPr/>
          <p:nvPr/>
        </p:nvSpPr>
        <p:spPr>
          <a:xfrm>
            <a:off x="5713560" y="567216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318960" y="2584440"/>
            <a:ext cx="284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ая скорость катера для минимальных затрат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равна 16 км/ч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2611440" y="2041560"/>
            <a:ext cx="625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– 40/v²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    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=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³ = 4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³</a:t>
            </a:r>
            <a:r>
              <a:rPr b="1" lang="en-US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400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 ≈ 16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км/ч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2635200" y="5310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3:05Z</dcterms:created>
  <dc:creator>Edik</dc:creator>
  <dc:description/>
  <dc:language>en-US</dc:language>
  <cp:lastModifiedBy>LEGION</cp:lastModifiedBy>
  <dcterms:modified xsi:type="dcterms:W3CDTF">2015-01-26T10:32:11Z</dcterms:modified>
  <cp:revision>49</cp:revision>
  <dc:subject/>
  <dc:title>Слайд 1</dc:title>
</cp:coreProperties>
</file>