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655F-EDD4-4725-9F18-84F6E2C7CF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Нахождение наибольшего и наименьшего значения функции </a:t>
            </a:r>
            <a:br>
              <a:rPr sz="1200"/>
            </a:b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(при решении задач прикладного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0970-B819-4512-B29E-4D1CEE8F83EE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Печатный текст (вместе с промежутками между строками) одной страницы книги должен занимать 400 см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  <a:ea typeface="Arial"/>
              </a:rPr>
              <a:t>. Верхние и нижние поля страницы должны иметь ширину 2 см. Боковые – 4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опрос: каковы самые выгодные размеры страницы, исходя только из экономии бумаг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AFD9-8289-4FFB-BD63-B9E81792EFBA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тимальные размеры страниц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8х36,5 с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57B4-C942-4126-AF1D-F00D4A6F452F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изводная функции успешно применяется при решении оптимальных задач в различных сферах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74b4b"/>
                </a:solidFill>
                <a:latin typeface="Calibri"/>
              </a:rPr>
              <a:t>Д/з решить задачу: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кламный щит имеет форму прямоугольник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= 9 м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Изготовьте щит в виде прямоугольника с наименьшим периметром. Определите его стоимость, если суммарная цена материалов и работ по изготовлению за 1 м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ставляет 200 грн + 25 грн за погонный метр длины щит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0BBC-88BA-4082-87AD-0A865D44D9B9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се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212D-55AE-4673-95CE-CCCB14F78B0E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АЛГОРИТ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йти точки экстремума функции, т. е. точки в которых производная равна нулю и меняет свой зн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числить значение функции в этих точках и на концах отрезка, где определена фун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брать из полученных значений оптима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F9C6-AF6C-4BD0-8BFB-FF0B2B38B3CA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ыполнит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промежутки возрастания и убывания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экстремумы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наибольшее и наименьшее значение функции на отрезке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[-1;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25B4-F65C-47FC-9BB1-06F85FEFE31C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егенда об основании Карфагена гласит, что когда финикийский корабль пристал к берегу, местные жители согласились продать прибывшим столько земли, сколько можно огородить её одной бычьей шкурой. Но хитрая царица Дидона разрезала эту шкуру на ремешки, связала их и огородила полученным ремнём большой участок земли, примыкавший к побереж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Вопрос: какую наибольшую площадь земли могли купить финикийц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A5DE-B1D8-4593-A581-416968902931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Переведём задачу на язык мате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C88B-D408-46CE-B7CF-560CC30F1219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анный прямоугольник является половиной квадрата, длинной стороной примыкающей к берегу мор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e74b4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74b4b"/>
                </a:solidFill>
                <a:latin typeface="Calibri"/>
              </a:rPr>
              <a:t>Y′ = L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2EA2-9615-4DD5-B287-EE6D4121FF64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тоимость (за один час перевозки) содержания баржи состоит из двух частей: стоимости топлива, пропорциональной кубу скорости баржи, и стоимости амортизации баржи ( зарплата команды, стоимость оборудования и т. д.). Общая стоимость содержания баржи за час выражается формулой: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S = av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³ + 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  <a:ea typeface="Arial"/>
              </a:rPr>
              <a:t>, где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- скорость судна в км/ч,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 и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 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 – коэффициенты, заданные для каждого судна (для нашего а=0,005,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=4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Ясно, что расходы на топливо будут тем больше, чем быстрее движется корабль, остальные расходы от скорости не завис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Казалось бы, чем медленнее движется корабль, тем дешевле его эксплуатация. Так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0E00-367E-4389-8CDA-D4D79DC0A7B2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тимальная скорость катера для минимальных затрат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вна 16 км/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DC46-7695-4783-91B7-F7146951F451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1A8-4F84-4071-8ED1-96AA6D89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113-CD27-45E5-B09F-7A85E90E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075-561D-4B74-A6B7-45BABF2C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4B0-C395-48BB-B7C7-024455F0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55CA-D2C9-4DCE-8F35-88164A03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3668-4056-463A-ABE9-4DBC6699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F3F5-29B7-43F0-AF0D-83077422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F51D-30D0-4CAA-B7AC-A9CB531A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7147-C68C-46F4-9EBE-1C75BEAD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73D9-66C8-4FD2-8695-B94445D7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08B7-85EB-49AF-B9F4-486B701B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156-01A5-439C-8845-CD9B58E4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F485-F134-47F6-8CAF-7B98BDF1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DD4B-4B0F-47AB-A0DC-9B4884D7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656E-4B00-46AA-A269-B2FA4D5F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4437-1E7C-4B93-9E12-F8DE3AA4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73FC-558D-428F-B877-B1E9339F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545-9E03-4322-B1C3-D2376234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788-6CC3-45A4-B63E-63FDACE8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2DD-ED6B-44CA-B8A6-50BF2595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0B2-1B55-4758-9D02-3248290A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C74-16E1-405A-A64A-CA393167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E42-6F78-4C90-ADC0-47569471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17E-D32B-4612-8A5D-D12564C7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DB61-80A5-4817-B89F-221E9F628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5043-A363-4CA2-B379-EA2F0D10E04F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e74b4b"/>
                </a:solidFill>
                <a:latin typeface="Arial"/>
              </a:rPr>
              <a:t>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4360" y="2524320"/>
            <a:ext cx="786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4b4b"/>
                </a:solidFill>
                <a:latin typeface="Arial"/>
              </a:rPr>
              <a:t>Нахождение наибольшего и наименьшего значения функции </a:t>
            </a:r>
            <a:br>
              <a:rPr sz="3600"/>
            </a:br>
            <a:r>
              <a:rPr b="1" i="1" lang="ru-RU" sz="3600" spc="-1" strike="noStrike">
                <a:solidFill>
                  <a:srgbClr val="e74b4b"/>
                </a:solidFill>
                <a:latin typeface="Arial"/>
              </a:rPr>
              <a:t>(при решении задач прикладного характера).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31 - Francis Goya - Elvira Madigan (Mozart).mp3" descr=""/>
          <p:cNvPicPr/>
          <p:nvPr/>
        </p:nvPicPr>
        <p:blipFill>
          <a:blip r:embed="rId1"/>
          <a:stretch/>
        </p:blipFill>
        <p:spPr>
          <a:xfrm>
            <a:off x="311040" y="6284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535200" y="378000"/>
            <a:ext cx="53895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Через математические знания лежит широкая дорога к огромным, почти необозримым областям труда и открытий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Маркушевич А.И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885960" y="5253120"/>
            <a:ext cx="780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Презентацию подготовила преподаватель 1 категории Керченского профессионального строительного лицея Селиванова Ирина Викторовна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14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p0001"/>
          <p:cNvPicPr/>
          <p:nvPr/>
        </p:nvPicPr>
        <p:blipFill>
          <a:blip r:embed="rId1"/>
          <a:stretch/>
        </p:blipFill>
        <p:spPr>
          <a:xfrm>
            <a:off x="363600" y="363600"/>
            <a:ext cx="8410680" cy="6207120"/>
          </a:xfrm>
          <a:prstGeom prst="rect">
            <a:avLst/>
          </a:prstGeom>
          <a:ln w="0">
            <a:noFill/>
          </a:ln>
        </p:spPr>
      </p:pic>
      <p:sp>
        <p:nvSpPr>
          <p:cNvPr id="26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1522440" y="1952640"/>
            <a:ext cx="692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ечатный текст (вместе с промежутками между строками) одной страницы книги должен занимать 400 см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 Верхние и нижние поля страницы должны иметь ширину 2 см. Боковые – 4 см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53880" y="530208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прос: каковы самые выгодные размеры страницы, исходя только из экономии бумаги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2384280" y="809640"/>
            <a:ext cx="4319640" cy="46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79" name="Picture 7" descr="book3"/>
          <p:cNvPicPr/>
          <p:nvPr/>
        </p:nvPicPr>
        <p:blipFill>
          <a:blip r:embed="rId1"/>
          <a:stretch/>
        </p:blipFill>
        <p:spPr>
          <a:xfrm>
            <a:off x="7265880" y="596880"/>
            <a:ext cx="1198800" cy="11984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8"/>
          <p:cNvSpPr/>
          <p:nvPr/>
        </p:nvSpPr>
        <p:spPr>
          <a:xfrm>
            <a:off x="3048120" y="1285920"/>
            <a:ext cx="2968560" cy="3591000"/>
          </a:xfrm>
          <a:prstGeom prst="rect">
            <a:avLst/>
          </a:prstGeom>
          <a:gradFill rotWithShape="0">
            <a:gsLst>
              <a:gs pos="0">
                <a:srgbClr val="ffff00">
                  <a:alpha val="46274"/>
                </a:srgbClr>
              </a:gs>
              <a:gs pos="100000">
                <a:srgbClr val="ff0000">
                  <a:alpha val="42352"/>
                </a:srgbClr>
              </a:gs>
            </a:gsLst>
            <a:lin ang="189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2690640" y="9936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2664000" y="465120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122880" y="46641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031080" y="92700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974960" y="4636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745320" y="42372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6730920" y="53658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1908000" y="538164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9" name="Line 19"/>
          <p:cNvSpPr/>
          <p:nvPr/>
        </p:nvSpPr>
        <p:spPr>
          <a:xfrm>
            <a:off x="2371680" y="2995560"/>
            <a:ext cx="676440" cy="1260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Line 20"/>
          <p:cNvSpPr/>
          <p:nvPr/>
        </p:nvSpPr>
        <p:spPr>
          <a:xfrm>
            <a:off x="6019920" y="2987640"/>
            <a:ext cx="676080" cy="1260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1" name="Line 21"/>
          <p:cNvSpPr/>
          <p:nvPr/>
        </p:nvSpPr>
        <p:spPr>
          <a:xfrm>
            <a:off x="4532400" y="809640"/>
            <a:ext cx="0" cy="50328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2" name="Line 22"/>
          <p:cNvSpPr/>
          <p:nvPr/>
        </p:nvSpPr>
        <p:spPr>
          <a:xfrm>
            <a:off x="4549680" y="4906800"/>
            <a:ext cx="0" cy="50328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2573640" y="260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6208920" y="26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4135320" y="498168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4097160" y="85248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3871800" y="27036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 = 400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м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3089160" y="3139920"/>
            <a:ext cx="4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4b4b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9" name="Text Box 29"/>
          <p:cNvSpPr/>
          <p:nvPr/>
        </p:nvSpPr>
        <p:spPr>
          <a:xfrm>
            <a:off x="4029120" y="445284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4b4b"/>
                </a:solidFill>
                <a:latin typeface="Arial"/>
              </a:rPr>
              <a:t>400/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741240" y="2570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AB = 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423720" y="30621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BC = 400/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2" name="Text Box 32"/>
          <p:cNvSpPr/>
          <p:nvPr/>
        </p:nvSpPr>
        <p:spPr>
          <a:xfrm>
            <a:off x="6638760" y="307656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KL = 400/x + 8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6997680" y="2611440"/>
            <a:ext cx="17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KN = x + 4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2239920" y="5645160"/>
            <a:ext cx="451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S = (x + 4)</a:t>
            </a:r>
            <a:r>
              <a:rPr b="1" i="1" lang="en-US" sz="2400" spc="-1" strike="noStrike">
                <a:solidFill>
                  <a:srgbClr val="e74b4b"/>
                </a:solidFill>
                <a:latin typeface="Arial"/>
                <a:ea typeface="Arial"/>
              </a:rPr>
              <a:t>·(400/x + 8) =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  <a:ea typeface="Arial"/>
              </a:rPr>
              <a:t>= 1600/x + 8x + 43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2319480" y="436680"/>
            <a:ext cx="60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 = 1600/x + 8x + 432 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→ min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2371680" y="1219320"/>
            <a:ext cx="58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1. S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′ = -1600/x² +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386080" y="1801800"/>
            <a:ext cx="637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2. S′ =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;       -1600/x² + 8 = 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1600/x² =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²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= 1600/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≈ 14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2728800" y="4292640"/>
            <a:ext cx="6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4106880" y="445932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3497400" y="5030640"/>
            <a:ext cx="46116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6864480" y="448632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 flipV="1">
            <a:off x="6440400" y="5122440"/>
            <a:ext cx="74160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4491000" y="5135400"/>
            <a:ext cx="755640" cy="60984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5300640" y="549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0" name="Freeform 17"/>
          <p:cNvSpPr/>
          <p:nvPr/>
        </p:nvSpPr>
        <p:spPr>
          <a:xfrm>
            <a:off x="3333600" y="443376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5699160" y="4984920"/>
            <a:ext cx="88920" cy="1317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5311800" y="5137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504720" y="2384280"/>
            <a:ext cx="410868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Оптимальные размеры страницы</a:t>
            </a:r>
            <a:r>
              <a:rPr b="1" i="1" lang="ru-RU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66"/>
                </a:solidFill>
                <a:latin typeface="Arial"/>
              </a:rPr>
              <a:t>18х36,5 см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304920" y="5197320"/>
            <a:ext cx="4757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KN =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х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+ 4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=1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KL = 400/x + 8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≈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  <a:ea typeface="Arial"/>
              </a:rPr>
              <a:t>36,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42680" y="1652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4b4b"/>
                </a:solidFill>
                <a:latin typeface="Arial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32 - Ekseption - A La Turka (Mozart).mp3" descr=""/>
          <p:cNvPicPr/>
          <p:nvPr/>
        </p:nvPicPr>
        <p:blipFill>
          <a:blip r:embed="rId1"/>
          <a:stretch/>
        </p:blipFill>
        <p:spPr>
          <a:xfrm>
            <a:off x="304920" y="6327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1455840" y="1365120"/>
            <a:ext cx="740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Производная функции успешно применяется при решении оптимальных задач в различных сферах деятельности человека.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277920" y="4319640"/>
            <a:ext cx="86263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74b4b"/>
                </a:solidFill>
                <a:latin typeface="Arial"/>
              </a:rPr>
              <a:t>Д/з решить задачу: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Рекламный щит имеет форму прямоугольника 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</a:rPr>
              <a:t>S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 = 9 м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. Изготовьте щит в виде прямоугольника с наименьшим периметром. Определите его стоимость, если суммарная цена материалов и работ по изготовлению за 1 м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 составляет 200 грн + 25 грн за погонный метр длины щита.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5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1" descr="74"/>
          <p:cNvPicPr/>
          <p:nvPr/>
        </p:nvPicPr>
        <p:blipFill>
          <a:blip r:embed="rId1"/>
          <a:stretch/>
        </p:blipFill>
        <p:spPr>
          <a:xfrm>
            <a:off x="457200" y="476280"/>
            <a:ext cx="8424720" cy="61167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e74b4b"/>
                </a:solidFill>
                <a:latin typeface="Arial"/>
              </a:rPr>
              <a:t>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344520" y="3513240"/>
            <a:ext cx="87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e74b4b"/>
                </a:solidFill>
                <a:uFillTx/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1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1974960" y="1403280"/>
            <a:ext cx="62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4b4b"/>
                </a:solidFill>
                <a:latin typeface="Arial"/>
              </a:rPr>
              <a:t>Все молодцы!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343" name="Picture 13" descr="1"/>
          <p:cNvPicPr/>
          <p:nvPr/>
        </p:nvPicPr>
        <p:blipFill>
          <a:blip r:embed="rId2"/>
          <a:stretch/>
        </p:blipFill>
        <p:spPr>
          <a:xfrm>
            <a:off x="7940520" y="5664240"/>
            <a:ext cx="1000440" cy="96192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7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1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35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2292480" y="569880"/>
            <a:ext cx="172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²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Text Box 45"/>
          <p:cNvSpPr/>
          <p:nvPr/>
        </p:nvSpPr>
        <p:spPr>
          <a:xfrm>
            <a:off x="5951520" y="106056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2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³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0" y="5207040"/>
            <a:ext cx="177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7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48"/>
          <p:cNvSpPr/>
          <p:nvPr/>
        </p:nvSpPr>
        <p:spPr>
          <a:xfrm>
            <a:off x="6189840" y="3403440"/>
            <a:ext cx="186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10)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49"/>
          <p:cNvSpPr/>
          <p:nvPr/>
        </p:nvSpPr>
        <p:spPr>
          <a:xfrm>
            <a:off x="465120" y="278460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128 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57"/>
          <p:cNvSpPr/>
          <p:nvPr/>
        </p:nvSpPr>
        <p:spPr>
          <a:xfrm>
            <a:off x="2279520" y="6033960"/>
            <a:ext cx="45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5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² + 3x - 9 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6977160" y="4933800"/>
            <a:ext cx="74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x</a:t>
            </a:r>
            <a:r>
              <a:rPr b="1" i="1" lang="en-US" sz="4800" spc="-1" strike="noStrike">
                <a:solidFill>
                  <a:srgbClr val="e74b4b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Rectangle 60"/>
          <p:cNvSpPr/>
          <p:nvPr/>
        </p:nvSpPr>
        <p:spPr>
          <a:xfrm>
            <a:off x="5163840" y="43308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2x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62"/>
          <p:cNvSpPr/>
          <p:nvPr/>
        </p:nvSpPr>
        <p:spPr>
          <a:xfrm>
            <a:off x="7070760" y="2746440"/>
            <a:ext cx="132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6x</a:t>
            </a:r>
            <a:r>
              <a:rPr b="1" i="1" lang="en-US" sz="4800" spc="-1" strike="noStrike">
                <a:solidFill>
                  <a:srgbClr val="e74b4b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63"/>
          <p:cNvSpPr/>
          <p:nvPr/>
        </p:nvSpPr>
        <p:spPr>
          <a:xfrm>
            <a:off x="4616280" y="812880"/>
            <a:ext cx="66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64"/>
          <p:cNvSpPr/>
          <p:nvPr/>
        </p:nvSpPr>
        <p:spPr>
          <a:xfrm>
            <a:off x="7597800" y="1395360"/>
            <a:ext cx="7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Text Box 65"/>
          <p:cNvSpPr/>
          <p:nvPr/>
        </p:nvSpPr>
        <p:spPr>
          <a:xfrm>
            <a:off x="1833480" y="183348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3" name="Group 70"/>
          <p:cNvGrpSpPr/>
          <p:nvPr/>
        </p:nvGrpSpPr>
        <p:grpSpPr>
          <a:xfrm>
            <a:off x="933480" y="3938760"/>
            <a:ext cx="1665000" cy="825120"/>
            <a:chOff x="933480" y="3938760"/>
            <a:chExt cx="1665000" cy="825120"/>
          </a:xfrm>
        </p:grpSpPr>
        <p:sp>
          <p:nvSpPr>
            <p:cNvPr id="124" name="Text Box 68"/>
            <p:cNvSpPr/>
            <p:nvPr/>
          </p:nvSpPr>
          <p:spPr>
            <a:xfrm>
              <a:off x="933480" y="3938760"/>
              <a:ext cx="1333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e74b4b"/>
                  </a:solidFill>
                  <a:latin typeface="Arial"/>
                </a:rPr>
                <a:t>10x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Text Box 69"/>
            <p:cNvSpPr/>
            <p:nvPr/>
          </p:nvSpPr>
          <p:spPr>
            <a:xfrm>
              <a:off x="2082600" y="393876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74b4b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26" name="Text Box 72"/>
          <p:cNvSpPr/>
          <p:nvPr/>
        </p:nvSpPr>
        <p:spPr>
          <a:xfrm>
            <a:off x="3228840" y="5095800"/>
            <a:ext cx="23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10x + 3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7" name="Group 78"/>
          <p:cNvGrpSpPr/>
          <p:nvPr/>
        </p:nvGrpSpPr>
        <p:grpSpPr>
          <a:xfrm>
            <a:off x="3486240" y="1722600"/>
            <a:ext cx="1923840" cy="855000"/>
            <a:chOff x="3486240" y="1722600"/>
            <a:chExt cx="1923840" cy="855000"/>
          </a:xfrm>
        </p:grpSpPr>
        <p:grpSp>
          <p:nvGrpSpPr>
            <p:cNvPr id="128" name="Group 56"/>
            <p:cNvGrpSpPr/>
            <p:nvPr/>
          </p:nvGrpSpPr>
          <p:grpSpPr>
            <a:xfrm>
              <a:off x="3486240" y="1722600"/>
              <a:ext cx="1883520" cy="825120"/>
              <a:chOff x="3486240" y="1722600"/>
              <a:chExt cx="1883520" cy="825120"/>
            </a:xfrm>
          </p:grpSpPr>
          <p:sp>
            <p:nvSpPr>
              <p:cNvPr id="129" name="Text Box 46"/>
              <p:cNvSpPr/>
              <p:nvPr/>
            </p:nvSpPr>
            <p:spPr>
              <a:xfrm>
                <a:off x="3486240" y="1722600"/>
                <a:ext cx="11109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</a:rPr>
                  <a:t>(x</a:t>
                </a:r>
                <a:endParaRPr b="0" lang="en-US" sz="4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30" name="Text Box 55"/>
              <p:cNvSpPr/>
              <p:nvPr/>
            </p:nvSpPr>
            <p:spPr>
              <a:xfrm>
                <a:off x="4167360" y="1749240"/>
                <a:ext cx="120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6666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31" name="Text Box 75"/>
            <p:cNvSpPr/>
            <p:nvPr/>
          </p:nvSpPr>
          <p:spPr>
            <a:xfrm>
              <a:off x="4483080" y="1752480"/>
              <a:ext cx="927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)</a:t>
              </a: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  <a:ea typeface="Arial"/>
                </a:rPr>
                <a:t>′=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32" name="Group 77"/>
          <p:cNvGrpSpPr/>
          <p:nvPr/>
        </p:nvGrpSpPr>
        <p:grpSpPr>
          <a:xfrm>
            <a:off x="2994120" y="3483000"/>
            <a:ext cx="2374920" cy="1460160"/>
            <a:chOff x="2994120" y="3483000"/>
            <a:chExt cx="2374920" cy="1460160"/>
          </a:xfrm>
        </p:grpSpPr>
        <p:grpSp>
          <p:nvGrpSpPr>
            <p:cNvPr id="133" name="Group 54"/>
            <p:cNvGrpSpPr/>
            <p:nvPr/>
          </p:nvGrpSpPr>
          <p:grpSpPr>
            <a:xfrm>
              <a:off x="3168720" y="3483000"/>
              <a:ext cx="1762200" cy="1460160"/>
              <a:chOff x="3168720" y="3483000"/>
              <a:chExt cx="1762200" cy="1460160"/>
            </a:xfrm>
          </p:grpSpPr>
          <p:grpSp>
            <p:nvGrpSpPr>
              <p:cNvPr id="134" name="Group 52"/>
              <p:cNvGrpSpPr/>
              <p:nvPr/>
            </p:nvGrpSpPr>
            <p:grpSpPr>
              <a:xfrm>
                <a:off x="3168720" y="3483000"/>
                <a:ext cx="676440" cy="1460160"/>
                <a:chOff x="3168720" y="3483000"/>
                <a:chExt cx="676440" cy="1460160"/>
              </a:xfrm>
            </p:grpSpPr>
            <p:sp>
              <p:nvSpPr>
                <p:cNvPr id="135" name="Text Box 50"/>
                <p:cNvSpPr/>
                <p:nvPr/>
              </p:nvSpPr>
              <p:spPr>
                <a:xfrm>
                  <a:off x="3260880" y="3483000"/>
                  <a:ext cx="58428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 u="sng">
                      <a:solidFill>
                        <a:srgbClr val="336666"/>
                      </a:solidFill>
                      <a:uFillTx/>
                      <a:latin typeface="Arial"/>
                    </a:rPr>
                    <a:t>1</a:t>
                  </a:r>
                  <a:endParaRPr b="0" lang="en-US" sz="4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51"/>
                <p:cNvSpPr/>
                <p:nvPr/>
              </p:nvSpPr>
              <p:spPr>
                <a:xfrm>
                  <a:off x="3168720" y="4118040"/>
                  <a:ext cx="60984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336666"/>
                      </a:solidFill>
                      <a:latin typeface="Arial"/>
                    </a:rPr>
                    <a:t>3</a:t>
                  </a:r>
                  <a:endParaRPr b="0" lang="en-US" sz="4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Text Box 53"/>
              <p:cNvSpPr/>
              <p:nvPr/>
            </p:nvSpPr>
            <p:spPr>
              <a:xfrm>
                <a:off x="3845160" y="3720960"/>
                <a:ext cx="1085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</a:rPr>
                  <a:t>x</a:t>
                </a: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  <a:ea typeface="Arial"/>
                  </a:rPr>
                  <a:t>³ </a:t>
                </a:r>
                <a:endParaRPr b="0" lang="en-US" sz="4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38" name="Text Box 74"/>
            <p:cNvSpPr/>
            <p:nvPr/>
          </p:nvSpPr>
          <p:spPr>
            <a:xfrm>
              <a:off x="4454640" y="376200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)</a:t>
              </a: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  <a:ea typeface="Arial"/>
                </a:rPr>
                <a:t>′=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9" name="Text Box 76"/>
            <p:cNvSpPr/>
            <p:nvPr/>
          </p:nvSpPr>
          <p:spPr>
            <a:xfrm>
              <a:off x="2994120" y="3708000"/>
              <a:ext cx="49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(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1 0.00717 L -0.52657 0.1982 E">
                                      <p:cBhvr>
                                        <p:cTn id="1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4 -0.00255 L 0.36909 0.39315 E">
                                      <p:cBhvr>
                                        <p:cTn id="2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6869 L -0.02083 0.49353 E">
                                      <p:cBhvr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26 -0.071 L -0.13628 -0.54788 E">
                                      <p:cBhvr>
                                        <p:cTn id="4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2544E-006 L 0.46371 -0.31868 E">
                                      <p:cBhvr>
                                        <p:cTn id="4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-0.07192 L 0.0776 -0.2419 E">
                                      <p:cBhvr>
                                        <p:cTn id="5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6638 L -0.17622 -0.1723 E">
                                      <p:cBhvr>
                                        <p:cTn id="6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85 0.00277 L 0.38282 0.14384 E">
                                      <p:cBhvr>
                                        <p:cTn id="7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e74b4b"/>
                </a:solidFill>
                <a:uFillTx/>
                <a:latin typeface="Arial"/>
              </a:rPr>
              <a:t>АЛГОРИТ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15520" y="1281240"/>
            <a:ext cx="772812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Найти точки экстремума функции, т. е. точки в которых производная равна нулю и меняет свой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числить значение функции в этих точках и на концах отрезка, где определена фун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брать из полученных значений оптима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468440" y="4898880"/>
            <a:ext cx="767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Перевести задачу на язык математики, т. е. выразить искомую величину через функцию от некоторой переменной и найти область её определения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AutoShape 13">
            <a:hlinkClick r:id="" action="ppaction://hlinkshowjump?jump=nextslide"/>
          </p:cNvPr>
          <p:cNvSpPr/>
          <p:nvPr/>
        </p:nvSpPr>
        <p:spPr>
          <a:xfrm>
            <a:off x="293760" y="6243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8142120" y="6248520"/>
            <a:ext cx="779760" cy="426960"/>
          </a:xfrm>
          <a:prstGeom prst="rightArrow">
            <a:avLst>
              <a:gd name="adj1" fmla="val 50000"/>
              <a:gd name="adj2" fmla="val 456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03423E-006 L 4.44444E-006 -0.52035 E">
                                      <p:cBhvr>
                                        <p:cTn id="9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273E-006 L -0.00157 0.25 E">
                                      <p:cBhvr>
                                        <p:cTn id="10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69195E-006 L 0.00156 0.23659 E">
                                      <p:cBhvr>
                                        <p:cTn id="102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8446E-006 L -0.00156 0.21994 E">
                                      <p:cBhvr>
                                        <p:cTn id="104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106720" y="736560"/>
            <a:ext cx="62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4b4b"/>
                </a:solidFill>
                <a:latin typeface="Arial"/>
              </a:rPr>
              <a:t>Выполните задание: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849240" y="2228760"/>
            <a:ext cx="7937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промежутки возрастания и убывания функц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экстремумы функц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наибольшее и наименьшее значение функции на отрезке 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[-1;2]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57" name="Group 21"/>
          <p:cNvGrpSpPr/>
          <p:nvPr/>
        </p:nvGrpSpPr>
        <p:grpSpPr>
          <a:xfrm>
            <a:off x="2131920" y="4594320"/>
            <a:ext cx="5207040" cy="906120"/>
            <a:chOff x="2131920" y="4594320"/>
            <a:chExt cx="5207040" cy="906120"/>
          </a:xfrm>
        </p:grpSpPr>
        <p:sp>
          <p:nvSpPr>
            <p:cNvPr id="158" name="Text Box 13"/>
            <p:cNvSpPr/>
            <p:nvPr/>
          </p:nvSpPr>
          <p:spPr>
            <a:xfrm>
              <a:off x="2131920" y="4594320"/>
              <a:ext cx="520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Y = </a:t>
              </a:r>
              <a:r>
                <a:rPr b="1" i="1" lang="en-US" sz="2800" spc="-1" strike="noStrike" u="sng">
                  <a:solidFill>
                    <a:srgbClr val="e74b4b"/>
                  </a:solidFill>
                  <a:uFillTx/>
                  <a:latin typeface="Arial"/>
                </a:rPr>
                <a:t>N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· x³ - 2·N</a:t>
              </a:r>
              <a:r>
                <a:rPr b="1" i="1" lang="ru-RU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·</a:t>
              </a:r>
              <a:r>
                <a:rPr b="1" i="1" lang="ru-RU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x² + 3·N</a:t>
              </a:r>
              <a:r>
                <a:rPr b="1" i="1" lang="en-US" sz="2800" spc="-1" strike="noStrike" baseline="30000">
                  <a:solidFill>
                    <a:srgbClr val="e74b4b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3301920" y="4979880"/>
              <a:ext cx="3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pic>
        <p:nvPicPr>
          <p:cNvPr id="160" name="31 - Francis Goya - Elvira Madigan (Mozart).mp3" descr=""/>
          <p:cNvPicPr/>
          <p:nvPr/>
        </p:nvPicPr>
        <p:blipFill>
          <a:blip r:embed="rId1"/>
          <a:stretch/>
        </p:blipFill>
        <p:spPr>
          <a:xfrm>
            <a:off x="324000" y="6297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2"/>
          <p:cNvSpPr/>
          <p:nvPr/>
        </p:nvSpPr>
        <p:spPr>
          <a:xfrm>
            <a:off x="320760" y="6270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2830680" y="5573880"/>
            <a:ext cx="39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74b4b"/>
                </a:solidFill>
                <a:latin typeface="Arial"/>
              </a:rPr>
              <a:t>Y = N </a:t>
            </a:r>
            <a:r>
              <a:rPr b="1" i="1" lang="en-US" sz="2800" spc="-1" strike="noStrike">
                <a:solidFill>
                  <a:srgbClr val="e74b4b"/>
                </a:solidFill>
                <a:latin typeface="Arial"/>
                <a:ea typeface="Arial"/>
              </a:rPr>
              <a:t>· x² - 2·N · x + 8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00041205"/>
          <p:cNvPicPr/>
          <p:nvPr/>
        </p:nvPicPr>
        <p:blipFill>
          <a:blip r:embed="rId1"/>
          <a:stretch/>
        </p:blipFill>
        <p:spPr>
          <a:xfrm>
            <a:off x="392040" y="382680"/>
            <a:ext cx="8505720" cy="6211800"/>
          </a:xfrm>
          <a:prstGeom prst="rect">
            <a:avLst/>
          </a:prstGeom>
          <a:ln w="0">
            <a:noFill/>
          </a:ln>
        </p:spPr>
      </p:pic>
      <p:sp>
        <p:nvSpPr>
          <p:cNvPr id="16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60520" y="793800"/>
            <a:ext cx="825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егенда об основании Карфагена гласит, что когда финикийский корабль пристал к берегу, местные жители согласились продать прибывшим столько земли, сколько можно огородить её одной бычьей шкурой. Но хитрая царица Дидона разрезала эту шкуру на ремешки, связала их и огородила полученным ремнём большой участок земли, примыкавший к побережью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33520" y="582624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опрос: какую наибольшую площадь земли могли купить финикийцы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Freeform 6"/>
          <p:cNvSpPr/>
          <p:nvPr/>
        </p:nvSpPr>
        <p:spPr>
          <a:xfrm>
            <a:off x="1403280" y="2887560"/>
            <a:ext cx="1968480" cy="338400"/>
          </a:xfrm>
          <a:custGeom>
            <a:avLst/>
            <a:gdLst/>
            <a:ahLst/>
            <a:rect l="l" t="t" r="r" b="b"/>
            <a:pathLst>
              <a:path w="1240" h="213">
                <a:moveTo>
                  <a:pt x="0" y="69"/>
                </a:moveTo>
                <a:cubicBezTo>
                  <a:pt x="140" y="34"/>
                  <a:pt x="280" y="0"/>
                  <a:pt x="408" y="23"/>
                </a:cubicBezTo>
                <a:cubicBezTo>
                  <a:pt x="536" y="46"/>
                  <a:pt x="642" y="197"/>
                  <a:pt x="771" y="205"/>
                </a:cubicBezTo>
                <a:cubicBezTo>
                  <a:pt x="900" y="213"/>
                  <a:pt x="1120" y="92"/>
                  <a:pt x="1180" y="69"/>
                </a:cubicBezTo>
                <a:cubicBezTo>
                  <a:pt x="1240" y="46"/>
                  <a:pt x="1187" y="57"/>
                  <a:pt x="1134" y="69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Freeform 7"/>
          <p:cNvSpPr/>
          <p:nvPr/>
        </p:nvSpPr>
        <p:spPr>
          <a:xfrm>
            <a:off x="3862440" y="2935440"/>
            <a:ext cx="1727280" cy="325440"/>
          </a:xfrm>
          <a:custGeom>
            <a:avLst/>
            <a:gdLst/>
            <a:ahLst/>
            <a:rect l="l" t="t" r="r" b="b"/>
            <a:pathLst>
              <a:path w="1088" h="205">
                <a:moveTo>
                  <a:pt x="0" y="182"/>
                </a:moveTo>
                <a:cubicBezTo>
                  <a:pt x="117" y="91"/>
                  <a:pt x="234" y="0"/>
                  <a:pt x="362" y="0"/>
                </a:cubicBezTo>
                <a:cubicBezTo>
                  <a:pt x="490" y="0"/>
                  <a:pt x="650" y="159"/>
                  <a:pt x="771" y="182"/>
                </a:cubicBezTo>
                <a:cubicBezTo>
                  <a:pt x="892" y="205"/>
                  <a:pt x="990" y="171"/>
                  <a:pt x="1088" y="137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Freeform 8"/>
          <p:cNvSpPr/>
          <p:nvPr/>
        </p:nvSpPr>
        <p:spPr>
          <a:xfrm>
            <a:off x="5724360" y="3057480"/>
            <a:ext cx="2448000" cy="239760"/>
          </a:xfrm>
          <a:custGeom>
            <a:avLst/>
            <a:gdLst/>
            <a:ahLst/>
            <a:rect l="l" t="t" r="r" b="b"/>
            <a:pathLst>
              <a:path w="1542" h="151">
                <a:moveTo>
                  <a:pt x="0" y="143"/>
                </a:moveTo>
                <a:cubicBezTo>
                  <a:pt x="136" y="98"/>
                  <a:pt x="272" y="53"/>
                  <a:pt x="408" y="53"/>
                </a:cubicBezTo>
                <a:cubicBezTo>
                  <a:pt x="544" y="53"/>
                  <a:pt x="680" y="151"/>
                  <a:pt x="816" y="143"/>
                </a:cubicBezTo>
                <a:cubicBezTo>
                  <a:pt x="952" y="135"/>
                  <a:pt x="1103" y="14"/>
                  <a:pt x="1224" y="7"/>
                </a:cubicBezTo>
                <a:cubicBezTo>
                  <a:pt x="1345" y="0"/>
                  <a:pt x="1443" y="49"/>
                  <a:pt x="1542" y="98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755800" y="2608200"/>
            <a:ext cx="2737080" cy="228600"/>
          </a:xfrm>
          <a:custGeom>
            <a:avLst/>
            <a:gdLst/>
            <a:ahLst/>
            <a:rect l="l" t="t" r="r" b="b"/>
            <a:pathLst>
              <a:path w="1724" h="144">
                <a:moveTo>
                  <a:pt x="0" y="99"/>
                </a:moveTo>
                <a:cubicBezTo>
                  <a:pt x="72" y="53"/>
                  <a:pt x="144" y="8"/>
                  <a:pt x="272" y="8"/>
                </a:cubicBezTo>
                <a:cubicBezTo>
                  <a:pt x="400" y="8"/>
                  <a:pt x="620" y="84"/>
                  <a:pt x="771" y="99"/>
                </a:cubicBezTo>
                <a:cubicBezTo>
                  <a:pt x="922" y="114"/>
                  <a:pt x="1073" y="114"/>
                  <a:pt x="1179" y="99"/>
                </a:cubicBezTo>
                <a:cubicBezTo>
                  <a:pt x="1285" y="84"/>
                  <a:pt x="1315" y="0"/>
                  <a:pt x="1406" y="8"/>
                </a:cubicBezTo>
                <a:cubicBezTo>
                  <a:pt x="1497" y="16"/>
                  <a:pt x="1610" y="80"/>
                  <a:pt x="1724" y="144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Freeform 10"/>
          <p:cNvSpPr/>
          <p:nvPr/>
        </p:nvSpPr>
        <p:spPr>
          <a:xfrm>
            <a:off x="390600" y="2490840"/>
            <a:ext cx="2160360" cy="298440"/>
          </a:xfrm>
          <a:custGeom>
            <a:avLst/>
            <a:gdLst/>
            <a:ahLst/>
            <a:rect l="l" t="t" r="r" b="b"/>
            <a:pathLst>
              <a:path w="1361" h="188">
                <a:moveTo>
                  <a:pt x="0" y="181"/>
                </a:moveTo>
                <a:cubicBezTo>
                  <a:pt x="140" y="90"/>
                  <a:pt x="280" y="0"/>
                  <a:pt x="408" y="0"/>
                </a:cubicBezTo>
                <a:cubicBezTo>
                  <a:pt x="536" y="0"/>
                  <a:pt x="650" y="174"/>
                  <a:pt x="771" y="181"/>
                </a:cubicBezTo>
                <a:cubicBezTo>
                  <a:pt x="892" y="188"/>
                  <a:pt x="1036" y="60"/>
                  <a:pt x="1134" y="45"/>
                </a:cubicBezTo>
                <a:cubicBezTo>
                  <a:pt x="1232" y="30"/>
                  <a:pt x="1296" y="60"/>
                  <a:pt x="1361" y="91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5951520" y="2567160"/>
            <a:ext cx="2521080" cy="298440"/>
          </a:xfrm>
          <a:custGeom>
            <a:avLst/>
            <a:gdLst/>
            <a:ahLst/>
            <a:rect l="l" t="t" r="r" b="b"/>
            <a:pathLst>
              <a:path w="1588" h="188">
                <a:moveTo>
                  <a:pt x="0" y="188"/>
                </a:moveTo>
                <a:cubicBezTo>
                  <a:pt x="204" y="101"/>
                  <a:pt x="409" y="14"/>
                  <a:pt x="590" y="7"/>
                </a:cubicBezTo>
                <a:cubicBezTo>
                  <a:pt x="771" y="0"/>
                  <a:pt x="976" y="136"/>
                  <a:pt x="1089" y="143"/>
                </a:cubicBezTo>
                <a:cubicBezTo>
                  <a:pt x="1202" y="150"/>
                  <a:pt x="1187" y="52"/>
                  <a:pt x="1270" y="52"/>
                </a:cubicBezTo>
                <a:cubicBezTo>
                  <a:pt x="1353" y="52"/>
                  <a:pt x="1470" y="97"/>
                  <a:pt x="1588" y="143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7858080" y="2878200"/>
            <a:ext cx="1008000" cy="156960"/>
          </a:xfrm>
          <a:custGeom>
            <a:avLst/>
            <a:gdLst/>
            <a:ahLst/>
            <a:rect l="l" t="t" r="r" b="b"/>
            <a:pathLst>
              <a:path w="635" h="99">
                <a:moveTo>
                  <a:pt x="0" y="91"/>
                </a:moveTo>
                <a:cubicBezTo>
                  <a:pt x="75" y="45"/>
                  <a:pt x="151" y="0"/>
                  <a:pt x="226" y="0"/>
                </a:cubicBezTo>
                <a:cubicBezTo>
                  <a:pt x="301" y="0"/>
                  <a:pt x="393" y="83"/>
                  <a:pt x="453" y="91"/>
                </a:cubicBezTo>
                <a:cubicBezTo>
                  <a:pt x="513" y="99"/>
                  <a:pt x="559" y="53"/>
                  <a:pt x="589" y="46"/>
                </a:cubicBezTo>
                <a:cubicBezTo>
                  <a:pt x="619" y="39"/>
                  <a:pt x="627" y="42"/>
                  <a:pt x="635" y="46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328680" y="2874960"/>
            <a:ext cx="1655640" cy="349200"/>
          </a:xfrm>
          <a:custGeom>
            <a:avLst/>
            <a:gdLst/>
            <a:ahLst/>
            <a:rect l="l" t="t" r="r" b="b"/>
            <a:pathLst>
              <a:path w="1043" h="220">
                <a:moveTo>
                  <a:pt x="0" y="144"/>
                </a:moveTo>
                <a:cubicBezTo>
                  <a:pt x="125" y="72"/>
                  <a:pt x="250" y="0"/>
                  <a:pt x="363" y="8"/>
                </a:cubicBezTo>
                <a:cubicBezTo>
                  <a:pt x="476" y="16"/>
                  <a:pt x="567" y="160"/>
                  <a:pt x="680" y="190"/>
                </a:cubicBezTo>
                <a:cubicBezTo>
                  <a:pt x="793" y="220"/>
                  <a:pt x="918" y="205"/>
                  <a:pt x="1043" y="190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250920" y="2421000"/>
            <a:ext cx="8642160" cy="0"/>
          </a:xfrm>
          <a:prstGeom prst="line">
            <a:avLst/>
          </a:prstGeom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411280" y="3429000"/>
            <a:ext cx="0" cy="216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2411280" y="5589720"/>
            <a:ext cx="4321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6732720" y="3429000"/>
            <a:ext cx="0" cy="216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205092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73272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197964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6804000" y="530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2556000" y="407664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e74b4b"/>
                </a:solidFill>
                <a:uFillTx/>
                <a:latin typeface="Arial"/>
              </a:rPr>
              <a:t>AC+CD+DB=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6824520" y="41688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2050920" y="42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Text Box 29"/>
          <p:cNvSpPr/>
          <p:nvPr/>
        </p:nvSpPr>
        <p:spPr>
          <a:xfrm>
            <a:off x="3564000" y="5580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2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2490840" y="530280"/>
            <a:ext cx="583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e74b4b"/>
                </a:solidFill>
                <a:uFillTx/>
                <a:latin typeface="Arial"/>
              </a:rPr>
              <a:t>Переведём задачу на язык математики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6826320" y="1598760"/>
            <a:ext cx="1590120" cy="812160"/>
            <a:chOff x="6826320" y="1598760"/>
            <a:chExt cx="1590120" cy="812160"/>
          </a:xfrm>
        </p:grpSpPr>
        <p:sp>
          <p:nvSpPr>
            <p:cNvPr id="197" name="Freeform 32"/>
            <p:cNvSpPr/>
            <p:nvPr/>
          </p:nvSpPr>
          <p:spPr>
            <a:xfrm>
              <a:off x="6826320" y="1598760"/>
              <a:ext cx="1590120" cy="792720"/>
            </a:xfrm>
            <a:custGeom>
              <a:avLst/>
              <a:gdLst/>
              <a:ahLst/>
              <a:rect l="l" t="t" r="r" b="b"/>
              <a:pathLst>
                <a:path w="993" h="370">
                  <a:moveTo>
                    <a:pt x="0" y="370"/>
                  </a:moveTo>
                  <a:cubicBezTo>
                    <a:pt x="37" y="289"/>
                    <a:pt x="74" y="209"/>
                    <a:pt x="125" y="153"/>
                  </a:cubicBezTo>
                  <a:cubicBezTo>
                    <a:pt x="176" y="97"/>
                    <a:pt x="223" y="58"/>
                    <a:pt x="308" y="36"/>
                  </a:cubicBezTo>
                  <a:cubicBezTo>
                    <a:pt x="393" y="14"/>
                    <a:pt x="539" y="0"/>
                    <a:pt x="634" y="20"/>
                  </a:cubicBezTo>
                  <a:cubicBezTo>
                    <a:pt x="729" y="40"/>
                    <a:pt x="816" y="95"/>
                    <a:pt x="876" y="153"/>
                  </a:cubicBezTo>
                  <a:cubicBezTo>
                    <a:pt x="936" y="211"/>
                    <a:pt x="973" y="335"/>
                    <a:pt x="993" y="370"/>
                  </a:cubicBezTo>
                </a:path>
              </a:pathLst>
            </a:custGeom>
            <a:solidFill>
              <a:srgbClr val="ffff00">
                <a:alpha val="78000"/>
              </a:srgbClr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8" name="Line 35"/>
            <p:cNvSpPr/>
            <p:nvPr/>
          </p:nvSpPr>
          <p:spPr>
            <a:xfrm flipV="1">
              <a:off x="6851520" y="2391480"/>
              <a:ext cx="1564920" cy="1944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9" name="Line 38"/>
          <p:cNvSpPr/>
          <p:nvPr/>
        </p:nvSpPr>
        <p:spPr>
          <a:xfrm flipV="1">
            <a:off x="7924680" y="609120"/>
            <a:ext cx="370080" cy="107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39"/>
          <p:cNvSpPr/>
          <p:nvPr/>
        </p:nvSpPr>
        <p:spPr>
          <a:xfrm flipV="1">
            <a:off x="8083440" y="1125000"/>
            <a:ext cx="623880" cy="676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Line 40"/>
          <p:cNvSpPr/>
          <p:nvPr/>
        </p:nvSpPr>
        <p:spPr>
          <a:xfrm flipV="1">
            <a:off x="8362800" y="2133360"/>
            <a:ext cx="50328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41"/>
          <p:cNvSpPr/>
          <p:nvPr/>
        </p:nvSpPr>
        <p:spPr>
          <a:xfrm flipV="1">
            <a:off x="8229600" y="1576080"/>
            <a:ext cx="596880" cy="384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Line 42"/>
          <p:cNvSpPr/>
          <p:nvPr/>
        </p:nvSpPr>
        <p:spPr>
          <a:xfrm flipV="1">
            <a:off x="7672320" y="317520"/>
            <a:ext cx="39600" cy="1285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Line 43"/>
          <p:cNvSpPr/>
          <p:nvPr/>
        </p:nvSpPr>
        <p:spPr>
          <a:xfrm flipH="1" flipV="1">
            <a:off x="7262280" y="463320"/>
            <a:ext cx="158760" cy="1191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Line 44"/>
          <p:cNvSpPr/>
          <p:nvPr/>
        </p:nvSpPr>
        <p:spPr>
          <a:xfrm flipH="1" flipV="1">
            <a:off x="6162480" y="422280"/>
            <a:ext cx="1060200" cy="1339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Line 45"/>
          <p:cNvSpPr/>
          <p:nvPr/>
        </p:nvSpPr>
        <p:spPr>
          <a:xfrm flipH="1" flipV="1">
            <a:off x="6360840" y="1536480"/>
            <a:ext cx="662040" cy="423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Line 46"/>
          <p:cNvSpPr/>
          <p:nvPr/>
        </p:nvSpPr>
        <p:spPr>
          <a:xfrm flipH="1" flipV="1">
            <a:off x="3432240" y="1350720"/>
            <a:ext cx="3525840" cy="795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Line 47"/>
          <p:cNvSpPr/>
          <p:nvPr/>
        </p:nvSpPr>
        <p:spPr>
          <a:xfrm flipH="1" flipV="1">
            <a:off x="2265480" y="2066760"/>
            <a:ext cx="4572000" cy="29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Line 4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Line 4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11" name="Picture 50" descr="z044"/>
          <p:cNvPicPr/>
          <p:nvPr/>
        </p:nvPicPr>
        <p:blipFill>
          <a:blip r:embed="rId1"/>
          <a:stretch/>
        </p:blipFill>
        <p:spPr>
          <a:xfrm>
            <a:off x="306360" y="3985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1"/>
          <p:cNvSpPr/>
          <p:nvPr/>
        </p:nvSpPr>
        <p:spPr>
          <a:xfrm>
            <a:off x="1951200" y="598644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 = x(L-2x)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AutoShape 52"/>
          <p:cNvSpPr/>
          <p:nvPr/>
        </p:nvSpPr>
        <p:spPr>
          <a:xfrm>
            <a:off x="8142120" y="6248520"/>
            <a:ext cx="779760" cy="426960"/>
          </a:xfrm>
          <a:prstGeom prst="rightArrow">
            <a:avLst>
              <a:gd name="adj1" fmla="val 50000"/>
              <a:gd name="adj2" fmla="val 456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69288E-006 L 1.0158 0.23566 E">
                                      <p:cBhvr>
                                        <p:cTn id="155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200320" y="58248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Y = x(L-2x) 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→ max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782800" y="1614240"/>
            <a:ext cx="6361200" cy="6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874"/>
              </a:spcBef>
              <a:buClr>
                <a:srgbClr val="e74b4b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74b4b"/>
                </a:solidFill>
                <a:latin typeface="Arial"/>
              </a:rPr>
              <a:t>Y′ = L – 4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3551400" y="4100400"/>
            <a:ext cx="46116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Freeform 13"/>
          <p:cNvSpPr/>
          <p:nvPr/>
        </p:nvSpPr>
        <p:spPr>
          <a:xfrm>
            <a:off x="3403440" y="353052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365800" y="42069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0,25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334040" y="354348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6467400" y="346392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 flipV="1">
            <a:off x="4002120" y="4404960"/>
            <a:ext cx="74124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6572160" y="4324320"/>
            <a:ext cx="755640" cy="6094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5354640" y="4562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320760" y="2305080"/>
            <a:ext cx="273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Данный прямоугольник является половиной квадрата, длинной стороной примыкающей к берегу моря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2716200" y="2398680"/>
            <a:ext cx="64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2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 ;  L = 4x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 = 0,25L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2730600" y="319248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2797200" y="5340240"/>
            <a:ext cx="56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AC = 0,25L ;DC =  0,5L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5737320" y="4041720"/>
            <a:ext cx="106200" cy="1065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Text Box 31"/>
          <p:cNvSpPr/>
          <p:nvPr/>
        </p:nvSpPr>
        <p:spPr>
          <a:xfrm>
            <a:off x="3621240" y="1047600"/>
            <a:ext cx="36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Y = Lx – 2x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320760" y="6270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00041177"/>
          <p:cNvPicPr/>
          <p:nvPr/>
        </p:nvPicPr>
        <p:blipFill>
          <a:blip r:embed="rId1"/>
          <a:stretch/>
        </p:blipFill>
        <p:spPr>
          <a:xfrm>
            <a:off x="353880" y="365040"/>
            <a:ext cx="8539200" cy="6226200"/>
          </a:xfrm>
          <a:prstGeom prst="rect">
            <a:avLst/>
          </a:prstGeom>
          <a:ln w="0">
            <a:noFill/>
          </a:ln>
        </p:spPr>
      </p:pic>
      <p:sp>
        <p:nvSpPr>
          <p:cNvPr id="23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39560" y="878040"/>
            <a:ext cx="8375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тоимость (за один час перевозки) содержания баржи состоит из двух частей: стоимости топлива, пропорциональной кубу скорости баржи, и стоимости амортизации баржи ( зарплата команды, стоимость оборудования и т. д.). Общая стоимость содержания баржи за час выражается формулой: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 = av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³ + 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, где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- скорость судна в км/ч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и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– коэффициенты, заданные для каждого судна (для нашего а=0,005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=40)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79400" y="3865680"/>
            <a:ext cx="776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Ясно, что расходы на топливо будут тем больше, чем быстрее движется корабль, остальные расходы от скорости не зависят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26960" y="575460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залось бы, чем медленнее движется корабль, тем дешевле его эксплуатация. Так ли это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292480" y="569880"/>
            <a:ext cx="56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/v = 0,005v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² + 40</a:t>
            </a:r>
            <a:r>
              <a:rPr b="1" i="1" lang="ru-RU" sz="3200" spc="-1" strike="noStrike">
                <a:solidFill>
                  <a:srgbClr val="336666"/>
                </a:solidFill>
                <a:latin typeface="Arial"/>
                <a:ea typeface="Arial"/>
              </a:rPr>
              <a:t>/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v → min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332080" y="1285920"/>
            <a:ext cx="6308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557440" y="1271520"/>
            <a:ext cx="62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e74b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,005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·2v – 40/v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121280" y="51465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3511440" y="5718240"/>
            <a:ext cx="461196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326200" y="58244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6878520" y="5173560"/>
            <a:ext cx="4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6454800" y="5810040"/>
            <a:ext cx="74124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>
            <a:off x="4505400" y="5823000"/>
            <a:ext cx="755640" cy="6094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5315040" y="6180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Freeform 20"/>
          <p:cNvSpPr/>
          <p:nvPr/>
        </p:nvSpPr>
        <p:spPr>
          <a:xfrm>
            <a:off x="3362400" y="513396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Oval 22"/>
          <p:cNvSpPr/>
          <p:nvPr/>
        </p:nvSpPr>
        <p:spPr>
          <a:xfrm>
            <a:off x="5713560" y="5672160"/>
            <a:ext cx="88920" cy="1317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318960" y="2584440"/>
            <a:ext cx="284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Оптимальная скорость катера для минимальных затрат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равна 16 км/ч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Line 2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2611440" y="2041560"/>
            <a:ext cx="6254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2.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 ; 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 – 40/v² = 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     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 = 40/v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³ = 4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v³</a:t>
            </a:r>
            <a:r>
              <a:rPr b="1" lang="en-US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= 400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v ≈ 16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км/ч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2635200" y="5310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03:05Z</dcterms:created>
  <dc:creator>Edik</dc:creator>
  <dc:description/>
  <dc:language>en-US</dc:language>
  <cp:lastModifiedBy>LEGION</cp:lastModifiedBy>
  <dcterms:modified xsi:type="dcterms:W3CDTF">2015-01-26T10:32:11Z</dcterms:modified>
  <cp:revision>49</cp:revision>
  <dc:subject/>
  <dc:title>Слайд 1</dc:title>
</cp:coreProperties>
</file>