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9CEA-5FC5-4AB6-A580-90436F8202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Нахождение наибольшего и наименьшего значения функции </a:t>
            </a:r>
            <a:br>
              <a:rPr sz="1200"/>
            </a:b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(при решении задач прикладного характе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9E81-BEFE-4708-BA10-198DB01E4CEC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Печатный текст (вместе с промежутками между строками) одной страницы книги должен занимать 400 см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²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  <a:ea typeface="Arial"/>
              </a:rPr>
              <a:t>. Верхние и нижние поля страницы должны иметь ширину 2 см. Боковые – 4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опрос: каковы самые выгодные размеры страницы, исходя только из экономии бумаг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8028-8B0B-4822-B138-B4D2453349E0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птимальные размеры страницы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18х36,5 с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7DCA-B753-40D0-ADA2-7F356A3E2E58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оизводная функции успешно применяется при решении оптимальных задач в различных сферах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74b4b"/>
                </a:solidFill>
                <a:latin typeface="Calibri"/>
              </a:rPr>
              <a:t>Д/з решить задачу: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кламный щит имеет форму прямоугольника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= 9 м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Изготовьте щит в виде прямоугольника с наименьшим периметром. Определите его стоимость, если суммарная цена материалов и работ по изготовлению за 1 м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составляет 200 грн + 25 грн за погонный метр длины щит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65FB-631B-4A38-827F-11101C9A72E0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Все 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e74b4b"/>
                </a:solidFill>
                <a:uFillTx/>
                <a:latin typeface="Calibri"/>
              </a:rPr>
              <a:t>Спасибо за урок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08CF-4B92-4EE0-882B-788F41C53CE0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e74b4b"/>
                </a:solidFill>
                <a:uFillTx/>
                <a:latin typeface="Calibri"/>
              </a:rPr>
              <a:t>АЛГОРИТ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йти точки экстремума функции, т. е. точки в которых производная равна нулю и меняет свой зн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числить значение функции в этих точках и на концах отрезка, где определена фун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брать из полученных значений оптималь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E2C6-4CAF-492C-AA28-294A1984704C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Выполнит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ти промежутки возрастания и убывания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ти экстремумы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ти наибольшее и наименьшее значение функции на отрезке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[-1;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1F4A-4B98-499E-9EBB-D64AFCF78359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Легенда об основании Карфагена гласит, что когда финикийский корабль пристал к берегу, местные жители согласились продать прибывшим столько земли, сколько можно огородить её одной бычьей шкурой. Но хитрая царица Дидона разрезала эту шкуру на ремешки, связала их и огородила полученным ремнём большой участок земли, примыкавший к побереж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Вопрос: какую наибольшую площадь земли могли купить финикийц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85E2-C8BE-46E3-912B-6C4B90003BE6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e74b4b"/>
                </a:solidFill>
                <a:uFillTx/>
                <a:latin typeface="Calibri"/>
              </a:rPr>
              <a:t>Переведём задачу на язык мате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ECAE-8BF5-47F0-9C0C-B7242E21C1E0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анный прямоугольник является половиной квадрата, длинной стороной примыкающей к берегу мор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e74b4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e74b4b"/>
                </a:solidFill>
                <a:latin typeface="Calibri"/>
              </a:rPr>
              <a:t>Y′ = L – 4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7C59-C4AB-4177-8F83-B48C89D99950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Стоимость (за один час перевозки) содержания баржи состоит из двух частей: стоимости топлива, пропорциональной кубу скорости баржи, и стоимости амортизации баржи ( зарплата команды, стоимость оборудования и т. д.). Общая стоимость содержания баржи за час выражается формулой: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S = av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³ + b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  <a:ea typeface="Arial"/>
              </a:rPr>
              <a:t>, где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- скорость судна в км/ч,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 и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 b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 – коэффициенты, заданные для каждого судна (для нашего а=0,005,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b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=40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Ясно, что расходы на топливо будут тем больше, чем быстрее движется корабль, остальные расходы от скорости не завис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Казалось бы, чем медленнее движется корабль, тем дешевле его эксплуатация. Так ли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3B73-8E29-4BB0-9F21-8EDEEA3E5A0C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птимальная скорость катера для минимальных затрат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вна 16 км/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B294-E77A-4012-82AE-D0FBBB11D68D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FBAA-8A3D-4110-9759-14FB8BE8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8873-2B72-4583-96AF-BBA35865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6D88-104F-4835-BA59-0EB518CB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5FD9-8CBE-431C-A0D6-538E815B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6EC4-5146-4A6C-919F-B4E67406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79FB-307C-440D-9FF6-5AAF1148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29B9-8F48-429C-86CC-BF86CFB9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1C28-18AE-4F23-A15F-7D9E626B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B0E0-1FFE-445C-AADF-63C046ED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11AB-29DF-46CB-AFD9-5D115D0A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7EC0-4784-4365-82DB-5E744BC4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C4B-4D90-4CCD-A314-C26500CA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ABAF-DC1B-4360-B199-12783E5C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6001-8403-4E4D-B390-E1ED42FA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FDEE-EFAF-4D18-9B26-78914F85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22B9-8FF5-4E90-9B5A-1FFE1180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806D-04E7-4300-AFF3-684E52E1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F31C-029E-4F8C-B30A-302FFEE8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165-B145-48E1-AA99-FC069D62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6E0-9ADF-4E90-8CF9-9599FE68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07E6-3CA2-4E3D-A5E8-0053041F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504F-DC44-4CE5-B6A5-072C7B8F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3B01-3C41-4C8A-9689-18A362BD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815F-EF85-4086-BA5B-6C9A244E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3F2E-FF83-44EC-B573-5B794F9BFC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ECC0-B1B2-4018-BDAF-4F3A691DD275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e74b4b"/>
                </a:solidFill>
                <a:latin typeface="Arial"/>
              </a:rPr>
              <a:t>  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84360" y="2524320"/>
            <a:ext cx="786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74b4b"/>
                </a:solidFill>
                <a:latin typeface="Arial"/>
              </a:rPr>
              <a:t>Нахождение наибольшего и наименьшего значения функции </a:t>
            </a:r>
            <a:br>
              <a:rPr sz="3600"/>
            </a:br>
            <a:r>
              <a:rPr b="1" i="1" lang="ru-RU" sz="3600" spc="-1" strike="noStrike">
                <a:solidFill>
                  <a:srgbClr val="e74b4b"/>
                </a:solidFill>
                <a:latin typeface="Arial"/>
              </a:rPr>
              <a:t>(при решении задач прикладного характера).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3" name="31 - Francis Goya - Elvira Madigan (Mozart).mp3" descr=""/>
          <p:cNvPicPr/>
          <p:nvPr/>
        </p:nvPicPr>
        <p:blipFill>
          <a:blip r:embed="rId1"/>
          <a:stretch/>
        </p:blipFill>
        <p:spPr>
          <a:xfrm>
            <a:off x="311040" y="6284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3535200" y="378000"/>
            <a:ext cx="538956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Через математические знания лежит широкая дорога к огромным, почти необозримым областям труда и открытий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Маркушевич А.И.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885960" y="5253120"/>
            <a:ext cx="780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Презентацию подготовила преподаватель 1 категории Керченского профессионального строительного лицея Селиванова Ирина Викторовна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14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8" descr="p0001"/>
          <p:cNvPicPr/>
          <p:nvPr/>
        </p:nvPicPr>
        <p:blipFill>
          <a:blip r:embed="rId1"/>
          <a:stretch/>
        </p:blipFill>
        <p:spPr>
          <a:xfrm>
            <a:off x="363600" y="363600"/>
            <a:ext cx="8410680" cy="6207120"/>
          </a:xfrm>
          <a:prstGeom prst="rect">
            <a:avLst/>
          </a:prstGeom>
          <a:ln w="0">
            <a:noFill/>
          </a:ln>
        </p:spPr>
      </p:pic>
      <p:sp>
        <p:nvSpPr>
          <p:cNvPr id="26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8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1522440" y="1952640"/>
            <a:ext cx="692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ечатный текст (вместе с промежутками между строками) одной страницы книги должен занимать 400 см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²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. Верхние и нижние поля страницы должны иметь ширину 2 см. Боковые – 4 см.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353880" y="5302080"/>
            <a:ext cx="84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прос: каковы самые выгодные размеры страницы, исходя только из экономии бумаги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9"/>
          <p:cNvSpPr/>
          <p:nvPr/>
        </p:nvSpPr>
        <p:spPr>
          <a:xfrm>
            <a:off x="2384280" y="809640"/>
            <a:ext cx="4319640" cy="46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5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6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79" name="Picture 7" descr="book3"/>
          <p:cNvPicPr/>
          <p:nvPr/>
        </p:nvPicPr>
        <p:blipFill>
          <a:blip r:embed="rId1"/>
          <a:stretch/>
        </p:blipFill>
        <p:spPr>
          <a:xfrm>
            <a:off x="7265880" y="596880"/>
            <a:ext cx="1198800" cy="119844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8"/>
          <p:cNvSpPr/>
          <p:nvPr/>
        </p:nvSpPr>
        <p:spPr>
          <a:xfrm>
            <a:off x="3048120" y="1285920"/>
            <a:ext cx="2968560" cy="3591000"/>
          </a:xfrm>
          <a:prstGeom prst="rect">
            <a:avLst/>
          </a:prstGeom>
          <a:gradFill rotWithShape="0">
            <a:gsLst>
              <a:gs pos="0">
                <a:srgbClr val="ffff00">
                  <a:alpha val="46274"/>
                </a:srgbClr>
              </a:gs>
              <a:gs pos="100000">
                <a:srgbClr val="ff0000">
                  <a:alpha val="42352"/>
                </a:srgbClr>
              </a:gs>
            </a:gsLst>
            <a:lin ang="189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2690640" y="9936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2664000" y="4651200"/>
            <a:ext cx="5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122880" y="46641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031080" y="92700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1974960" y="4636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6745320" y="423720"/>
            <a:ext cx="3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6730920" y="536580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1908000" y="538164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9" name="Line 19"/>
          <p:cNvSpPr/>
          <p:nvPr/>
        </p:nvSpPr>
        <p:spPr>
          <a:xfrm>
            <a:off x="2371680" y="2995560"/>
            <a:ext cx="676440" cy="1260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0" name="Line 20"/>
          <p:cNvSpPr/>
          <p:nvPr/>
        </p:nvSpPr>
        <p:spPr>
          <a:xfrm>
            <a:off x="6019920" y="2987640"/>
            <a:ext cx="676080" cy="1260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1" name="Line 21"/>
          <p:cNvSpPr/>
          <p:nvPr/>
        </p:nvSpPr>
        <p:spPr>
          <a:xfrm>
            <a:off x="4532400" y="809640"/>
            <a:ext cx="0" cy="50328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2" name="Line 22"/>
          <p:cNvSpPr/>
          <p:nvPr/>
        </p:nvSpPr>
        <p:spPr>
          <a:xfrm>
            <a:off x="4549680" y="4906800"/>
            <a:ext cx="0" cy="50328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2573640" y="260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6208920" y="261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5" name="Text Box 25"/>
          <p:cNvSpPr/>
          <p:nvPr/>
        </p:nvSpPr>
        <p:spPr>
          <a:xfrm>
            <a:off x="4135320" y="498168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4097160" y="85248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7" name="Text Box 27"/>
          <p:cNvSpPr/>
          <p:nvPr/>
        </p:nvSpPr>
        <p:spPr>
          <a:xfrm>
            <a:off x="3871800" y="27036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S = 400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м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8" name="Text Box 28"/>
          <p:cNvSpPr/>
          <p:nvPr/>
        </p:nvSpPr>
        <p:spPr>
          <a:xfrm>
            <a:off x="3089160" y="3139920"/>
            <a:ext cx="4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74b4b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9" name="Text Box 29"/>
          <p:cNvSpPr/>
          <p:nvPr/>
        </p:nvSpPr>
        <p:spPr>
          <a:xfrm>
            <a:off x="4029120" y="445284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74b4b"/>
                </a:solidFill>
                <a:latin typeface="Arial"/>
              </a:rPr>
              <a:t>400/х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0" name="Text Box 30"/>
          <p:cNvSpPr/>
          <p:nvPr/>
        </p:nvSpPr>
        <p:spPr>
          <a:xfrm>
            <a:off x="741240" y="25700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AB = x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1" name="Text Box 31"/>
          <p:cNvSpPr/>
          <p:nvPr/>
        </p:nvSpPr>
        <p:spPr>
          <a:xfrm>
            <a:off x="423720" y="30621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BC = 400/x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2" name="Text Box 32"/>
          <p:cNvSpPr/>
          <p:nvPr/>
        </p:nvSpPr>
        <p:spPr>
          <a:xfrm>
            <a:off x="6638760" y="3076560"/>
            <a:ext cx="25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KL = 400/x + 8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3" name="Text Box 33"/>
          <p:cNvSpPr/>
          <p:nvPr/>
        </p:nvSpPr>
        <p:spPr>
          <a:xfrm>
            <a:off x="6997680" y="2611440"/>
            <a:ext cx="17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KN = x + 4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2239920" y="5645160"/>
            <a:ext cx="451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S = (x + 4)</a:t>
            </a:r>
            <a:r>
              <a:rPr b="1" i="1" lang="en-US" sz="2400" spc="-1" strike="noStrike">
                <a:solidFill>
                  <a:srgbClr val="e74b4b"/>
                </a:solidFill>
                <a:latin typeface="Arial"/>
                <a:ea typeface="Arial"/>
              </a:rPr>
              <a:t>·(400/x + 8) =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  <a:ea typeface="Arial"/>
              </a:rPr>
              <a:t>= 1600/x + 8x + 432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2319480" y="436680"/>
            <a:ext cx="604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S = 1600/x + 8x + 432 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→ min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2371680" y="1219320"/>
            <a:ext cx="58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1. S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′ = -1600/x² +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2386080" y="1801800"/>
            <a:ext cx="6373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2. S′ =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;       -1600/x² + 8 = 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1600/x² =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x²</a:t>
            </a: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= 1600/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x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≈ 14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2728800" y="4292640"/>
            <a:ext cx="6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4106880" y="445932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—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3497400" y="5030640"/>
            <a:ext cx="4611600" cy="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6864480" y="4486320"/>
            <a:ext cx="4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7" name="Line 14"/>
          <p:cNvSpPr/>
          <p:nvPr/>
        </p:nvSpPr>
        <p:spPr>
          <a:xfrm flipV="1">
            <a:off x="6440400" y="5122440"/>
            <a:ext cx="741600" cy="5698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8" name="Line 15"/>
          <p:cNvSpPr/>
          <p:nvPr/>
        </p:nvSpPr>
        <p:spPr>
          <a:xfrm>
            <a:off x="4491000" y="5135400"/>
            <a:ext cx="755640" cy="60984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5300640" y="5492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mi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0" name="Freeform 17"/>
          <p:cNvSpPr/>
          <p:nvPr/>
        </p:nvSpPr>
        <p:spPr>
          <a:xfrm>
            <a:off x="3333600" y="4433760"/>
            <a:ext cx="5261040" cy="581040"/>
          </a:xfrm>
          <a:custGeom>
            <a:avLst/>
            <a:gdLst/>
            <a:ahLst/>
            <a:rect l="l" t="t" r="r" b="b"/>
            <a:pathLst>
              <a:path w="3314" h="366">
                <a:moveTo>
                  <a:pt x="0" y="64"/>
                </a:moveTo>
                <a:cubicBezTo>
                  <a:pt x="396" y="39"/>
                  <a:pt x="792" y="14"/>
                  <a:pt x="1044" y="64"/>
                </a:cubicBezTo>
                <a:cubicBezTo>
                  <a:pt x="1296" y="114"/>
                  <a:pt x="1387" y="366"/>
                  <a:pt x="1511" y="365"/>
                </a:cubicBezTo>
                <a:cubicBezTo>
                  <a:pt x="1635" y="364"/>
                  <a:pt x="1535" y="112"/>
                  <a:pt x="1787" y="56"/>
                </a:cubicBezTo>
                <a:cubicBezTo>
                  <a:pt x="2039" y="0"/>
                  <a:pt x="2768" y="35"/>
                  <a:pt x="3022" y="31"/>
                </a:cubicBezTo>
                <a:cubicBezTo>
                  <a:pt x="3276" y="27"/>
                  <a:pt x="3268" y="31"/>
                  <a:pt x="3314" y="31"/>
                </a:cubicBez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1" name="Oval 18"/>
          <p:cNvSpPr/>
          <p:nvPr/>
        </p:nvSpPr>
        <p:spPr>
          <a:xfrm>
            <a:off x="5699160" y="4984920"/>
            <a:ext cx="88920" cy="13176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5311800" y="51372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3" name="Text Box 20"/>
          <p:cNvSpPr/>
          <p:nvPr/>
        </p:nvSpPr>
        <p:spPr>
          <a:xfrm>
            <a:off x="504720" y="2384280"/>
            <a:ext cx="410868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Оптимальные размеры страницы</a:t>
            </a:r>
            <a:r>
              <a:rPr b="1" i="1" lang="ru-RU" sz="3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66"/>
                </a:solidFill>
                <a:latin typeface="Arial"/>
              </a:rPr>
              <a:t>18х36,5 см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4" name="Text Box 22"/>
          <p:cNvSpPr/>
          <p:nvPr/>
        </p:nvSpPr>
        <p:spPr>
          <a:xfrm>
            <a:off x="304920" y="5197320"/>
            <a:ext cx="4757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4.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KN =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х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+ 4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=1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KL = 400/x + 8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≈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  <a:ea typeface="Arial"/>
              </a:rPr>
              <a:t>36,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9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42680" y="16524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74b4b"/>
                </a:solidFill>
                <a:latin typeface="Arial"/>
              </a:rPr>
              <a:t>Вывод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32 - Ekseption - A La Turka (Mozart).mp3" descr=""/>
          <p:cNvPicPr/>
          <p:nvPr/>
        </p:nvPicPr>
        <p:blipFill>
          <a:blip r:embed="rId1"/>
          <a:stretch/>
        </p:blipFill>
        <p:spPr>
          <a:xfrm>
            <a:off x="304920" y="6327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0"/>
          <p:cNvSpPr/>
          <p:nvPr/>
        </p:nvSpPr>
        <p:spPr>
          <a:xfrm>
            <a:off x="1455840" y="1365120"/>
            <a:ext cx="740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66"/>
                </a:solidFill>
                <a:latin typeface="Arial"/>
              </a:rPr>
              <a:t>Производная функции успешно применяется при решении оптимальных задач в различных сферах деятельности человека.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277920" y="4319640"/>
            <a:ext cx="86263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74b4b"/>
                </a:solidFill>
                <a:latin typeface="Arial"/>
              </a:rPr>
              <a:t>Д/з решить задачу:</a:t>
            </a: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Рекламный щит имеет форму прямоугольника </a:t>
            </a:r>
            <a:r>
              <a:rPr b="1" i="1" lang="en-US" sz="2000" spc="-1" strike="noStrike">
                <a:solidFill>
                  <a:srgbClr val="336666"/>
                </a:solidFill>
                <a:latin typeface="Arial"/>
              </a:rPr>
              <a:t>S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 = 9 м</a:t>
            </a:r>
            <a:r>
              <a:rPr b="1" i="1" lang="en-US" sz="2000" spc="-1" strike="noStrike">
                <a:solidFill>
                  <a:srgbClr val="336666"/>
                </a:solidFill>
                <a:latin typeface="Arial"/>
                <a:ea typeface="Arial"/>
              </a:rPr>
              <a:t>²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. Изготовьте щит в виде прямоугольника с наименьшим периметром. Определите его стоимость, если суммарная цена материалов и работ по изготовлению за 1 м</a:t>
            </a:r>
            <a:r>
              <a:rPr b="1" i="1" lang="en-US" sz="2000" spc="-1" strike="noStrike">
                <a:solidFill>
                  <a:srgbClr val="336666"/>
                </a:solidFill>
                <a:latin typeface="Arial"/>
                <a:ea typeface="Arial"/>
              </a:rPr>
              <a:t>²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 составляет 200 грн + 25 грн за погонный метр длины щита.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5" dur="1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1" descr="74"/>
          <p:cNvPicPr/>
          <p:nvPr/>
        </p:nvPicPr>
        <p:blipFill>
          <a:blip r:embed="rId1"/>
          <a:stretch/>
        </p:blipFill>
        <p:spPr>
          <a:xfrm>
            <a:off x="457200" y="476280"/>
            <a:ext cx="8424720" cy="61167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e74b4b"/>
                </a:solidFill>
                <a:latin typeface="Arial"/>
              </a:rPr>
              <a:t>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8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344520" y="3513240"/>
            <a:ext cx="879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e74b4b"/>
                </a:solidFill>
                <a:uFillTx/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1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1974960" y="1403280"/>
            <a:ext cx="62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74b4b"/>
                </a:solidFill>
                <a:latin typeface="Arial"/>
              </a:rPr>
              <a:t>Все молодцы!</a:t>
            </a:r>
            <a:endParaRPr b="0" lang="en-US" sz="5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343" name="Picture 13" descr="1"/>
          <p:cNvPicPr/>
          <p:nvPr/>
        </p:nvPicPr>
        <p:blipFill>
          <a:blip r:embed="rId2"/>
          <a:stretch/>
        </p:blipFill>
        <p:spPr>
          <a:xfrm>
            <a:off x="7940520" y="5664240"/>
            <a:ext cx="1000440" cy="96192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0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77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7" dur="770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9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1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77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7" dur="770" fill="hold"/>
                                        <p:tgtEl>
                                          <p:spTgt spid="3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9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1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val 1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Line 34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Line 35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2292480" y="569880"/>
            <a:ext cx="172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²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Text Box 45"/>
          <p:cNvSpPr/>
          <p:nvPr/>
        </p:nvSpPr>
        <p:spPr>
          <a:xfrm>
            <a:off x="5951520" y="106056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2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³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Text Box 47"/>
          <p:cNvSpPr/>
          <p:nvPr/>
        </p:nvSpPr>
        <p:spPr>
          <a:xfrm>
            <a:off x="0" y="5207040"/>
            <a:ext cx="177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7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Text Box 48"/>
          <p:cNvSpPr/>
          <p:nvPr/>
        </p:nvSpPr>
        <p:spPr>
          <a:xfrm>
            <a:off x="6189840" y="3403440"/>
            <a:ext cx="186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10)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Text Box 49"/>
          <p:cNvSpPr/>
          <p:nvPr/>
        </p:nvSpPr>
        <p:spPr>
          <a:xfrm>
            <a:off x="465120" y="278460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128 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Text Box 57"/>
          <p:cNvSpPr/>
          <p:nvPr/>
        </p:nvSpPr>
        <p:spPr>
          <a:xfrm>
            <a:off x="2279520" y="6033960"/>
            <a:ext cx="45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5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² + 3x - 9 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Text Box 58"/>
          <p:cNvSpPr/>
          <p:nvPr/>
        </p:nvSpPr>
        <p:spPr>
          <a:xfrm>
            <a:off x="6977160" y="4933800"/>
            <a:ext cx="74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x</a:t>
            </a:r>
            <a:r>
              <a:rPr b="1" i="1" lang="en-US" sz="4800" spc="-1" strike="noStrike">
                <a:solidFill>
                  <a:srgbClr val="e74b4b"/>
                </a:solidFill>
                <a:latin typeface="Arial"/>
                <a:ea typeface="Arial"/>
              </a:rPr>
              <a:t>²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Rectangle 60"/>
          <p:cNvSpPr/>
          <p:nvPr/>
        </p:nvSpPr>
        <p:spPr>
          <a:xfrm>
            <a:off x="5163840" y="433080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2x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Text Box 62"/>
          <p:cNvSpPr/>
          <p:nvPr/>
        </p:nvSpPr>
        <p:spPr>
          <a:xfrm>
            <a:off x="7070760" y="2746440"/>
            <a:ext cx="132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6x</a:t>
            </a:r>
            <a:r>
              <a:rPr b="1" i="1" lang="en-US" sz="4800" spc="-1" strike="noStrike">
                <a:solidFill>
                  <a:srgbClr val="e74b4b"/>
                </a:solidFill>
                <a:latin typeface="Arial"/>
                <a:ea typeface="Arial"/>
              </a:rPr>
              <a:t>²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Text Box 63"/>
          <p:cNvSpPr/>
          <p:nvPr/>
        </p:nvSpPr>
        <p:spPr>
          <a:xfrm>
            <a:off x="4616280" y="812880"/>
            <a:ext cx="66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Text Box 64"/>
          <p:cNvSpPr/>
          <p:nvPr/>
        </p:nvSpPr>
        <p:spPr>
          <a:xfrm>
            <a:off x="7597800" y="1395360"/>
            <a:ext cx="71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Text Box 65"/>
          <p:cNvSpPr/>
          <p:nvPr/>
        </p:nvSpPr>
        <p:spPr>
          <a:xfrm>
            <a:off x="1833480" y="183348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23" name="Group 70"/>
          <p:cNvGrpSpPr/>
          <p:nvPr/>
        </p:nvGrpSpPr>
        <p:grpSpPr>
          <a:xfrm>
            <a:off x="933480" y="3938760"/>
            <a:ext cx="1665000" cy="825120"/>
            <a:chOff x="933480" y="3938760"/>
            <a:chExt cx="1665000" cy="825120"/>
          </a:xfrm>
        </p:grpSpPr>
        <p:sp>
          <p:nvSpPr>
            <p:cNvPr id="124" name="Text Box 68"/>
            <p:cNvSpPr/>
            <p:nvPr/>
          </p:nvSpPr>
          <p:spPr>
            <a:xfrm>
              <a:off x="933480" y="3938760"/>
              <a:ext cx="1333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e74b4b"/>
                  </a:solidFill>
                  <a:latin typeface="Arial"/>
                </a:rPr>
                <a:t>10x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5" name="Text Box 69"/>
            <p:cNvSpPr/>
            <p:nvPr/>
          </p:nvSpPr>
          <p:spPr>
            <a:xfrm>
              <a:off x="2082600" y="393876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74b4b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26" name="Text Box 72"/>
          <p:cNvSpPr/>
          <p:nvPr/>
        </p:nvSpPr>
        <p:spPr>
          <a:xfrm>
            <a:off x="3228840" y="5095800"/>
            <a:ext cx="23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10x + 3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27" name="Group 78"/>
          <p:cNvGrpSpPr/>
          <p:nvPr/>
        </p:nvGrpSpPr>
        <p:grpSpPr>
          <a:xfrm>
            <a:off x="3486240" y="1722600"/>
            <a:ext cx="1923840" cy="855000"/>
            <a:chOff x="3486240" y="1722600"/>
            <a:chExt cx="1923840" cy="855000"/>
          </a:xfrm>
        </p:grpSpPr>
        <p:grpSp>
          <p:nvGrpSpPr>
            <p:cNvPr id="128" name="Group 56"/>
            <p:cNvGrpSpPr/>
            <p:nvPr/>
          </p:nvGrpSpPr>
          <p:grpSpPr>
            <a:xfrm>
              <a:off x="3486240" y="1722600"/>
              <a:ext cx="1883520" cy="825120"/>
              <a:chOff x="3486240" y="1722600"/>
              <a:chExt cx="1883520" cy="825120"/>
            </a:xfrm>
          </p:grpSpPr>
          <p:sp>
            <p:nvSpPr>
              <p:cNvPr id="129" name="Text Box 46"/>
              <p:cNvSpPr/>
              <p:nvPr/>
            </p:nvSpPr>
            <p:spPr>
              <a:xfrm>
                <a:off x="3486240" y="1722600"/>
                <a:ext cx="11109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336666"/>
                    </a:solidFill>
                    <a:latin typeface="Arial"/>
                  </a:rPr>
                  <a:t>(x</a:t>
                </a:r>
                <a:endParaRPr b="0" lang="en-US" sz="4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30" name="Text Box 55"/>
              <p:cNvSpPr/>
              <p:nvPr/>
            </p:nvSpPr>
            <p:spPr>
              <a:xfrm>
                <a:off x="4167360" y="1749240"/>
                <a:ext cx="120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6666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sp>
          <p:nvSpPr>
            <p:cNvPr id="131" name="Text Box 75"/>
            <p:cNvSpPr/>
            <p:nvPr/>
          </p:nvSpPr>
          <p:spPr>
            <a:xfrm>
              <a:off x="4483080" y="1752480"/>
              <a:ext cx="927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</a:rPr>
                <a:t>)</a:t>
              </a: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  <a:ea typeface="Arial"/>
                </a:rPr>
                <a:t>′=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32" name="Group 77"/>
          <p:cNvGrpSpPr/>
          <p:nvPr/>
        </p:nvGrpSpPr>
        <p:grpSpPr>
          <a:xfrm>
            <a:off x="2994120" y="3483000"/>
            <a:ext cx="2374920" cy="1460160"/>
            <a:chOff x="2994120" y="3483000"/>
            <a:chExt cx="2374920" cy="1460160"/>
          </a:xfrm>
        </p:grpSpPr>
        <p:grpSp>
          <p:nvGrpSpPr>
            <p:cNvPr id="133" name="Group 54"/>
            <p:cNvGrpSpPr/>
            <p:nvPr/>
          </p:nvGrpSpPr>
          <p:grpSpPr>
            <a:xfrm>
              <a:off x="3168720" y="3483000"/>
              <a:ext cx="1762200" cy="1460160"/>
              <a:chOff x="3168720" y="3483000"/>
              <a:chExt cx="1762200" cy="1460160"/>
            </a:xfrm>
          </p:grpSpPr>
          <p:grpSp>
            <p:nvGrpSpPr>
              <p:cNvPr id="134" name="Group 52"/>
              <p:cNvGrpSpPr/>
              <p:nvPr/>
            </p:nvGrpSpPr>
            <p:grpSpPr>
              <a:xfrm>
                <a:off x="3168720" y="3483000"/>
                <a:ext cx="676440" cy="1460160"/>
                <a:chOff x="3168720" y="3483000"/>
                <a:chExt cx="676440" cy="1460160"/>
              </a:xfrm>
            </p:grpSpPr>
            <p:sp>
              <p:nvSpPr>
                <p:cNvPr id="135" name="Text Box 50"/>
                <p:cNvSpPr/>
                <p:nvPr/>
              </p:nvSpPr>
              <p:spPr>
                <a:xfrm>
                  <a:off x="3260880" y="3483000"/>
                  <a:ext cx="58428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 u="sng">
                      <a:solidFill>
                        <a:srgbClr val="336666"/>
                      </a:solidFill>
                      <a:uFillTx/>
                      <a:latin typeface="Arial"/>
                    </a:rPr>
                    <a:t>1</a:t>
                  </a:r>
                  <a:endParaRPr b="0" lang="en-US" sz="4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36" name="Text Box 51"/>
                <p:cNvSpPr/>
                <p:nvPr/>
              </p:nvSpPr>
              <p:spPr>
                <a:xfrm>
                  <a:off x="3168720" y="4118040"/>
                  <a:ext cx="60984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>
                      <a:solidFill>
                        <a:srgbClr val="336666"/>
                      </a:solidFill>
                      <a:latin typeface="Arial"/>
                    </a:rPr>
                    <a:t>3</a:t>
                  </a:r>
                  <a:endParaRPr b="0" lang="en-US" sz="4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Text Box 53"/>
              <p:cNvSpPr/>
              <p:nvPr/>
            </p:nvSpPr>
            <p:spPr>
              <a:xfrm>
                <a:off x="3845160" y="3720960"/>
                <a:ext cx="10857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336666"/>
                    </a:solidFill>
                    <a:latin typeface="Arial"/>
                  </a:rPr>
                  <a:t>x</a:t>
                </a:r>
                <a:r>
                  <a:rPr b="1" i="1" lang="en-US" sz="4800" spc="-1" strike="noStrike">
                    <a:solidFill>
                      <a:srgbClr val="336666"/>
                    </a:solidFill>
                    <a:latin typeface="Arial"/>
                    <a:ea typeface="Arial"/>
                  </a:rPr>
                  <a:t>³ </a:t>
                </a:r>
                <a:endParaRPr b="0" lang="en-US" sz="4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sp>
          <p:nvSpPr>
            <p:cNvPr id="138" name="Text Box 74"/>
            <p:cNvSpPr/>
            <p:nvPr/>
          </p:nvSpPr>
          <p:spPr>
            <a:xfrm>
              <a:off x="4454640" y="3762000"/>
              <a:ext cx="914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</a:rPr>
                <a:t>)</a:t>
              </a: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  <a:ea typeface="Arial"/>
                </a:rPr>
                <a:t>′=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9" name="Text Box 76"/>
            <p:cNvSpPr/>
            <p:nvPr/>
          </p:nvSpPr>
          <p:spPr>
            <a:xfrm>
              <a:off x="2994120" y="3708000"/>
              <a:ext cx="490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</a:rPr>
                <a:t>(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40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61 0.00717 L -0.52657 0.1982 E">
                                      <p:cBhvr>
                                        <p:cTn id="1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44 -0.00255 L 0.36909 0.39315 E">
                                      <p:cBhvr>
                                        <p:cTn id="24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6869 L -0.02083 0.49353 E">
                                      <p:cBhvr>
                                        <p:cTn id="32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26 -0.071 L -0.13628 -0.54788 E">
                                      <p:cBhvr>
                                        <p:cTn id="4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2544E-006 L 0.46371 -0.31868 E">
                                      <p:cBhvr>
                                        <p:cTn id="48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6 -0.07192 L 0.0776 -0.2419 E">
                                      <p:cBhvr>
                                        <p:cTn id="5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6638 L -0.17622 -0.1723 E">
                                      <p:cBhvr>
                                        <p:cTn id="6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85 0.00277 L 0.38282 0.14384 E">
                                      <p:cBhvr>
                                        <p:cTn id="7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189000"/>
            <a:ext cx="69850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e74b4b"/>
                </a:solidFill>
                <a:uFillTx/>
                <a:latin typeface="Arial"/>
              </a:rPr>
              <a:t>АЛГОРИТМ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15520" y="1281240"/>
            <a:ext cx="772812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Найти точки экстремума функции, т. е. точки в которых производная равна нулю и меняет свой зн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Вычислить значение функции в этих точках и на концах отрезка, где определена функ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Выбрать из полученных значений оптималь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1468440" y="4898880"/>
            <a:ext cx="767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Перевести задачу на язык математики, т. е. выразить искомую величину через функцию от некоторой переменной и найти область её определения.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AutoShape 13">
            <a:hlinkClick r:id="" action="ppaction://hlinkshowjump?jump=nextslide"/>
          </p:cNvPr>
          <p:cNvSpPr/>
          <p:nvPr/>
        </p:nvSpPr>
        <p:spPr>
          <a:xfrm>
            <a:off x="293760" y="6243480"/>
            <a:ext cx="779400" cy="42732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AutoShape 14"/>
          <p:cNvSpPr/>
          <p:nvPr/>
        </p:nvSpPr>
        <p:spPr>
          <a:xfrm>
            <a:off x="8142120" y="6248520"/>
            <a:ext cx="779760" cy="426960"/>
          </a:xfrm>
          <a:prstGeom prst="rightArrow">
            <a:avLst>
              <a:gd name="adj1" fmla="val 50000"/>
              <a:gd name="adj2" fmla="val 4565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03423E-006 L 4.44444E-006 -0.52035 E">
                                      <p:cBhvr>
                                        <p:cTn id="9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5273E-006 L -0.00157 0.25 E">
                                      <p:cBhvr>
                                        <p:cTn id="100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69195E-006 L 0.00156 0.23659 E">
                                      <p:cBhvr>
                                        <p:cTn id="102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78446E-006 L -0.00156 0.21994 E">
                                      <p:cBhvr>
                                        <p:cTn id="104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2106720" y="736560"/>
            <a:ext cx="620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74b4b"/>
                </a:solidFill>
                <a:latin typeface="Arial"/>
              </a:rPr>
              <a:t>Выполните задание: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849240" y="2228760"/>
            <a:ext cx="7937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Найти промежутки возрастания и убывания функции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Найти экстремумы функции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Найти наибольшее и наименьшее значение функции на отрезке </a:t>
            </a:r>
            <a:r>
              <a:rPr b="1" i="1" lang="en-US" sz="2400" spc="-1" strike="noStrike">
                <a:solidFill>
                  <a:srgbClr val="336666"/>
                </a:solidFill>
                <a:latin typeface="Arial"/>
              </a:rPr>
              <a:t>[-1;2]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57" name="Group 21"/>
          <p:cNvGrpSpPr/>
          <p:nvPr/>
        </p:nvGrpSpPr>
        <p:grpSpPr>
          <a:xfrm>
            <a:off x="2131920" y="4594320"/>
            <a:ext cx="5207040" cy="906120"/>
            <a:chOff x="2131920" y="4594320"/>
            <a:chExt cx="5207040" cy="906120"/>
          </a:xfrm>
        </p:grpSpPr>
        <p:sp>
          <p:nvSpPr>
            <p:cNvPr id="158" name="Text Box 13"/>
            <p:cNvSpPr/>
            <p:nvPr/>
          </p:nvSpPr>
          <p:spPr>
            <a:xfrm>
              <a:off x="2131920" y="4594320"/>
              <a:ext cx="520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Y = </a:t>
              </a:r>
              <a:r>
                <a:rPr b="1" i="1" lang="en-US" sz="2800" spc="-1" strike="noStrike" u="sng">
                  <a:solidFill>
                    <a:srgbClr val="e74b4b"/>
                  </a:solidFill>
                  <a:uFillTx/>
                  <a:latin typeface="Arial"/>
                </a:rPr>
                <a:t>N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· x³ - 2·N</a:t>
              </a:r>
              <a:r>
                <a:rPr b="1" i="1" lang="ru-RU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·</a:t>
              </a:r>
              <a:r>
                <a:rPr b="1" i="1" lang="ru-RU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x² + 3·N</a:t>
              </a:r>
              <a:r>
                <a:rPr b="1" i="1" lang="en-US" sz="2800" spc="-1" strike="noStrike" baseline="30000">
                  <a:solidFill>
                    <a:srgbClr val="e74b4b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9" name="Text Box 14"/>
            <p:cNvSpPr/>
            <p:nvPr/>
          </p:nvSpPr>
          <p:spPr>
            <a:xfrm>
              <a:off x="3301920" y="4979880"/>
              <a:ext cx="38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pic>
        <p:nvPicPr>
          <p:cNvPr id="160" name="31 - Francis Goya - Elvira Madigan (Mozart).mp3" descr=""/>
          <p:cNvPicPr/>
          <p:nvPr/>
        </p:nvPicPr>
        <p:blipFill>
          <a:blip r:embed="rId1"/>
          <a:stretch/>
        </p:blipFill>
        <p:spPr>
          <a:xfrm>
            <a:off x="324000" y="6297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22"/>
          <p:cNvSpPr/>
          <p:nvPr/>
        </p:nvSpPr>
        <p:spPr>
          <a:xfrm>
            <a:off x="320760" y="6270480"/>
            <a:ext cx="779400" cy="42732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2830680" y="5573880"/>
            <a:ext cx="39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74b4b"/>
                </a:solidFill>
                <a:latin typeface="Arial"/>
              </a:rPr>
              <a:t>Y = N </a:t>
            </a:r>
            <a:r>
              <a:rPr b="1" i="1" lang="en-US" sz="2800" spc="-1" strike="noStrike">
                <a:solidFill>
                  <a:srgbClr val="e74b4b"/>
                </a:solidFill>
                <a:latin typeface="Arial"/>
                <a:ea typeface="Arial"/>
              </a:rPr>
              <a:t>· x² - 2·N · x + 8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8" descr="00041205"/>
          <p:cNvPicPr/>
          <p:nvPr/>
        </p:nvPicPr>
        <p:blipFill>
          <a:blip r:embed="rId1"/>
          <a:stretch/>
        </p:blipFill>
        <p:spPr>
          <a:xfrm>
            <a:off x="392040" y="382680"/>
            <a:ext cx="8505720" cy="6211800"/>
          </a:xfrm>
          <a:prstGeom prst="rect">
            <a:avLst/>
          </a:prstGeom>
          <a:ln w="0">
            <a:noFill/>
          </a:ln>
        </p:spPr>
      </p:pic>
      <p:sp>
        <p:nvSpPr>
          <p:cNvPr id="165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560520" y="793800"/>
            <a:ext cx="8253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егенда об основании Карфагена гласит, что когда финикийский корабль пристал к берегу, местные жители согласились продать прибывшим столько земли, сколько можно огородить её одной бычьей шкурой. Но хитрая царица Дидона разрезала эту шкуру на ремешки, связала их и огородила полученным ремнём большой участок земли, примыкавший к побережью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33520" y="5826240"/>
            <a:ext cx="82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опрос: какую наибольшую площадь земли могли купить финикийцы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250920" y="3429000"/>
            <a:ext cx="86421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Freeform 6"/>
          <p:cNvSpPr/>
          <p:nvPr/>
        </p:nvSpPr>
        <p:spPr>
          <a:xfrm>
            <a:off x="1403280" y="2887560"/>
            <a:ext cx="1968480" cy="338400"/>
          </a:xfrm>
          <a:custGeom>
            <a:avLst/>
            <a:gdLst/>
            <a:ahLst/>
            <a:rect l="l" t="t" r="r" b="b"/>
            <a:pathLst>
              <a:path w="1240" h="213">
                <a:moveTo>
                  <a:pt x="0" y="69"/>
                </a:moveTo>
                <a:cubicBezTo>
                  <a:pt x="140" y="34"/>
                  <a:pt x="280" y="0"/>
                  <a:pt x="408" y="23"/>
                </a:cubicBezTo>
                <a:cubicBezTo>
                  <a:pt x="536" y="46"/>
                  <a:pt x="642" y="197"/>
                  <a:pt x="771" y="205"/>
                </a:cubicBezTo>
                <a:cubicBezTo>
                  <a:pt x="900" y="213"/>
                  <a:pt x="1120" y="92"/>
                  <a:pt x="1180" y="69"/>
                </a:cubicBezTo>
                <a:cubicBezTo>
                  <a:pt x="1240" y="46"/>
                  <a:pt x="1187" y="57"/>
                  <a:pt x="1134" y="69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Freeform 7"/>
          <p:cNvSpPr/>
          <p:nvPr/>
        </p:nvSpPr>
        <p:spPr>
          <a:xfrm>
            <a:off x="3862440" y="2935440"/>
            <a:ext cx="1727280" cy="325440"/>
          </a:xfrm>
          <a:custGeom>
            <a:avLst/>
            <a:gdLst/>
            <a:ahLst/>
            <a:rect l="l" t="t" r="r" b="b"/>
            <a:pathLst>
              <a:path w="1088" h="205">
                <a:moveTo>
                  <a:pt x="0" y="182"/>
                </a:moveTo>
                <a:cubicBezTo>
                  <a:pt x="117" y="91"/>
                  <a:pt x="234" y="0"/>
                  <a:pt x="362" y="0"/>
                </a:cubicBezTo>
                <a:cubicBezTo>
                  <a:pt x="490" y="0"/>
                  <a:pt x="650" y="159"/>
                  <a:pt x="771" y="182"/>
                </a:cubicBezTo>
                <a:cubicBezTo>
                  <a:pt x="892" y="205"/>
                  <a:pt x="990" y="171"/>
                  <a:pt x="1088" y="137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Freeform 8"/>
          <p:cNvSpPr/>
          <p:nvPr/>
        </p:nvSpPr>
        <p:spPr>
          <a:xfrm>
            <a:off x="5724360" y="3057480"/>
            <a:ext cx="2448000" cy="239760"/>
          </a:xfrm>
          <a:custGeom>
            <a:avLst/>
            <a:gdLst/>
            <a:ahLst/>
            <a:rect l="l" t="t" r="r" b="b"/>
            <a:pathLst>
              <a:path w="1542" h="151">
                <a:moveTo>
                  <a:pt x="0" y="143"/>
                </a:moveTo>
                <a:cubicBezTo>
                  <a:pt x="136" y="98"/>
                  <a:pt x="272" y="53"/>
                  <a:pt x="408" y="53"/>
                </a:cubicBezTo>
                <a:cubicBezTo>
                  <a:pt x="544" y="53"/>
                  <a:pt x="680" y="151"/>
                  <a:pt x="816" y="143"/>
                </a:cubicBezTo>
                <a:cubicBezTo>
                  <a:pt x="952" y="135"/>
                  <a:pt x="1103" y="14"/>
                  <a:pt x="1224" y="7"/>
                </a:cubicBezTo>
                <a:cubicBezTo>
                  <a:pt x="1345" y="0"/>
                  <a:pt x="1443" y="49"/>
                  <a:pt x="1542" y="98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Freeform 9"/>
          <p:cNvSpPr/>
          <p:nvPr/>
        </p:nvSpPr>
        <p:spPr>
          <a:xfrm>
            <a:off x="2755800" y="2608200"/>
            <a:ext cx="2737080" cy="228600"/>
          </a:xfrm>
          <a:custGeom>
            <a:avLst/>
            <a:gdLst/>
            <a:ahLst/>
            <a:rect l="l" t="t" r="r" b="b"/>
            <a:pathLst>
              <a:path w="1724" h="144">
                <a:moveTo>
                  <a:pt x="0" y="99"/>
                </a:moveTo>
                <a:cubicBezTo>
                  <a:pt x="72" y="53"/>
                  <a:pt x="144" y="8"/>
                  <a:pt x="272" y="8"/>
                </a:cubicBezTo>
                <a:cubicBezTo>
                  <a:pt x="400" y="8"/>
                  <a:pt x="620" y="84"/>
                  <a:pt x="771" y="99"/>
                </a:cubicBezTo>
                <a:cubicBezTo>
                  <a:pt x="922" y="114"/>
                  <a:pt x="1073" y="114"/>
                  <a:pt x="1179" y="99"/>
                </a:cubicBezTo>
                <a:cubicBezTo>
                  <a:pt x="1285" y="84"/>
                  <a:pt x="1315" y="0"/>
                  <a:pt x="1406" y="8"/>
                </a:cubicBezTo>
                <a:cubicBezTo>
                  <a:pt x="1497" y="16"/>
                  <a:pt x="1610" y="80"/>
                  <a:pt x="1724" y="144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Freeform 10"/>
          <p:cNvSpPr/>
          <p:nvPr/>
        </p:nvSpPr>
        <p:spPr>
          <a:xfrm>
            <a:off x="390600" y="2490840"/>
            <a:ext cx="2160360" cy="298440"/>
          </a:xfrm>
          <a:custGeom>
            <a:avLst/>
            <a:gdLst/>
            <a:ahLst/>
            <a:rect l="l" t="t" r="r" b="b"/>
            <a:pathLst>
              <a:path w="1361" h="188">
                <a:moveTo>
                  <a:pt x="0" y="181"/>
                </a:moveTo>
                <a:cubicBezTo>
                  <a:pt x="140" y="90"/>
                  <a:pt x="280" y="0"/>
                  <a:pt x="408" y="0"/>
                </a:cubicBezTo>
                <a:cubicBezTo>
                  <a:pt x="536" y="0"/>
                  <a:pt x="650" y="174"/>
                  <a:pt x="771" y="181"/>
                </a:cubicBezTo>
                <a:cubicBezTo>
                  <a:pt x="892" y="188"/>
                  <a:pt x="1036" y="60"/>
                  <a:pt x="1134" y="45"/>
                </a:cubicBezTo>
                <a:cubicBezTo>
                  <a:pt x="1232" y="30"/>
                  <a:pt x="1296" y="60"/>
                  <a:pt x="1361" y="91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Freeform 11"/>
          <p:cNvSpPr/>
          <p:nvPr/>
        </p:nvSpPr>
        <p:spPr>
          <a:xfrm>
            <a:off x="5951520" y="2567160"/>
            <a:ext cx="2521080" cy="298440"/>
          </a:xfrm>
          <a:custGeom>
            <a:avLst/>
            <a:gdLst/>
            <a:ahLst/>
            <a:rect l="l" t="t" r="r" b="b"/>
            <a:pathLst>
              <a:path w="1588" h="188">
                <a:moveTo>
                  <a:pt x="0" y="188"/>
                </a:moveTo>
                <a:cubicBezTo>
                  <a:pt x="204" y="101"/>
                  <a:pt x="409" y="14"/>
                  <a:pt x="590" y="7"/>
                </a:cubicBezTo>
                <a:cubicBezTo>
                  <a:pt x="771" y="0"/>
                  <a:pt x="976" y="136"/>
                  <a:pt x="1089" y="143"/>
                </a:cubicBezTo>
                <a:cubicBezTo>
                  <a:pt x="1202" y="150"/>
                  <a:pt x="1187" y="52"/>
                  <a:pt x="1270" y="52"/>
                </a:cubicBezTo>
                <a:cubicBezTo>
                  <a:pt x="1353" y="52"/>
                  <a:pt x="1470" y="97"/>
                  <a:pt x="1588" y="143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1" name="Freeform 12"/>
          <p:cNvSpPr/>
          <p:nvPr/>
        </p:nvSpPr>
        <p:spPr>
          <a:xfrm>
            <a:off x="7858080" y="2878200"/>
            <a:ext cx="1008000" cy="156960"/>
          </a:xfrm>
          <a:custGeom>
            <a:avLst/>
            <a:gdLst/>
            <a:ahLst/>
            <a:rect l="l" t="t" r="r" b="b"/>
            <a:pathLst>
              <a:path w="635" h="99">
                <a:moveTo>
                  <a:pt x="0" y="91"/>
                </a:moveTo>
                <a:cubicBezTo>
                  <a:pt x="75" y="45"/>
                  <a:pt x="151" y="0"/>
                  <a:pt x="226" y="0"/>
                </a:cubicBezTo>
                <a:cubicBezTo>
                  <a:pt x="301" y="0"/>
                  <a:pt x="393" y="83"/>
                  <a:pt x="453" y="91"/>
                </a:cubicBezTo>
                <a:cubicBezTo>
                  <a:pt x="513" y="99"/>
                  <a:pt x="559" y="53"/>
                  <a:pt x="589" y="46"/>
                </a:cubicBezTo>
                <a:cubicBezTo>
                  <a:pt x="619" y="39"/>
                  <a:pt x="627" y="42"/>
                  <a:pt x="635" y="46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Freeform 13"/>
          <p:cNvSpPr/>
          <p:nvPr/>
        </p:nvSpPr>
        <p:spPr>
          <a:xfrm>
            <a:off x="328680" y="2874960"/>
            <a:ext cx="1655640" cy="349200"/>
          </a:xfrm>
          <a:custGeom>
            <a:avLst/>
            <a:gdLst/>
            <a:ahLst/>
            <a:rect l="l" t="t" r="r" b="b"/>
            <a:pathLst>
              <a:path w="1043" h="220">
                <a:moveTo>
                  <a:pt x="0" y="144"/>
                </a:moveTo>
                <a:cubicBezTo>
                  <a:pt x="125" y="72"/>
                  <a:pt x="250" y="0"/>
                  <a:pt x="363" y="8"/>
                </a:cubicBezTo>
                <a:cubicBezTo>
                  <a:pt x="476" y="16"/>
                  <a:pt x="567" y="160"/>
                  <a:pt x="680" y="190"/>
                </a:cubicBezTo>
                <a:cubicBezTo>
                  <a:pt x="793" y="220"/>
                  <a:pt x="918" y="205"/>
                  <a:pt x="1043" y="190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250920" y="2421000"/>
            <a:ext cx="8642160" cy="0"/>
          </a:xfrm>
          <a:prstGeom prst="line">
            <a:avLst/>
          </a:prstGeom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2411280" y="3429000"/>
            <a:ext cx="0" cy="2160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2411280" y="5589720"/>
            <a:ext cx="43214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Line 19"/>
          <p:cNvSpPr/>
          <p:nvPr/>
        </p:nvSpPr>
        <p:spPr>
          <a:xfrm>
            <a:off x="6732720" y="3429000"/>
            <a:ext cx="0" cy="2160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205092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673272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197964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6804000" y="530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2556000" y="407664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e74b4b"/>
                </a:solidFill>
                <a:uFillTx/>
                <a:latin typeface="Arial"/>
              </a:rPr>
              <a:t>AC+CD+DB=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6824520" y="41688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2050920" y="422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Text Box 29"/>
          <p:cNvSpPr/>
          <p:nvPr/>
        </p:nvSpPr>
        <p:spPr>
          <a:xfrm>
            <a:off x="3564000" y="5580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L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2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2490840" y="530280"/>
            <a:ext cx="583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e74b4b"/>
                </a:solidFill>
                <a:uFillTx/>
                <a:latin typeface="Arial"/>
              </a:rPr>
              <a:t>Переведём задачу на язык математики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96" name="Group 37"/>
          <p:cNvGrpSpPr/>
          <p:nvPr/>
        </p:nvGrpSpPr>
        <p:grpSpPr>
          <a:xfrm>
            <a:off x="6826320" y="1598760"/>
            <a:ext cx="1590120" cy="812160"/>
            <a:chOff x="6826320" y="1598760"/>
            <a:chExt cx="1590120" cy="812160"/>
          </a:xfrm>
        </p:grpSpPr>
        <p:sp>
          <p:nvSpPr>
            <p:cNvPr id="197" name="Freeform 32"/>
            <p:cNvSpPr/>
            <p:nvPr/>
          </p:nvSpPr>
          <p:spPr>
            <a:xfrm>
              <a:off x="6826320" y="1598760"/>
              <a:ext cx="1590120" cy="792720"/>
            </a:xfrm>
            <a:custGeom>
              <a:avLst/>
              <a:gdLst/>
              <a:ahLst/>
              <a:rect l="l" t="t" r="r" b="b"/>
              <a:pathLst>
                <a:path w="993" h="370">
                  <a:moveTo>
                    <a:pt x="0" y="370"/>
                  </a:moveTo>
                  <a:cubicBezTo>
                    <a:pt x="37" y="289"/>
                    <a:pt x="74" y="209"/>
                    <a:pt x="125" y="153"/>
                  </a:cubicBezTo>
                  <a:cubicBezTo>
                    <a:pt x="176" y="97"/>
                    <a:pt x="223" y="58"/>
                    <a:pt x="308" y="36"/>
                  </a:cubicBezTo>
                  <a:cubicBezTo>
                    <a:pt x="393" y="14"/>
                    <a:pt x="539" y="0"/>
                    <a:pt x="634" y="20"/>
                  </a:cubicBezTo>
                  <a:cubicBezTo>
                    <a:pt x="729" y="40"/>
                    <a:pt x="816" y="95"/>
                    <a:pt x="876" y="153"/>
                  </a:cubicBezTo>
                  <a:cubicBezTo>
                    <a:pt x="936" y="211"/>
                    <a:pt x="973" y="335"/>
                    <a:pt x="993" y="370"/>
                  </a:cubicBezTo>
                </a:path>
              </a:pathLst>
            </a:custGeom>
            <a:solidFill>
              <a:srgbClr val="ffff00">
                <a:alpha val="78000"/>
              </a:srgbClr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8" name="Line 35"/>
            <p:cNvSpPr/>
            <p:nvPr/>
          </p:nvSpPr>
          <p:spPr>
            <a:xfrm flipV="1">
              <a:off x="6851520" y="2391480"/>
              <a:ext cx="1564920" cy="19440"/>
            </a:xfrm>
            <a:prstGeom prst="line">
              <a:avLst/>
            </a:prstGeom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99" name="Line 38"/>
          <p:cNvSpPr/>
          <p:nvPr/>
        </p:nvSpPr>
        <p:spPr>
          <a:xfrm flipV="1">
            <a:off x="7924680" y="609120"/>
            <a:ext cx="370080" cy="1073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Line 39"/>
          <p:cNvSpPr/>
          <p:nvPr/>
        </p:nvSpPr>
        <p:spPr>
          <a:xfrm flipV="1">
            <a:off x="8083440" y="1125000"/>
            <a:ext cx="623880" cy="676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Line 40"/>
          <p:cNvSpPr/>
          <p:nvPr/>
        </p:nvSpPr>
        <p:spPr>
          <a:xfrm flipV="1">
            <a:off x="8362800" y="2133360"/>
            <a:ext cx="50328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Line 41"/>
          <p:cNvSpPr/>
          <p:nvPr/>
        </p:nvSpPr>
        <p:spPr>
          <a:xfrm flipV="1">
            <a:off x="8229600" y="1576080"/>
            <a:ext cx="596880" cy="384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Line 42"/>
          <p:cNvSpPr/>
          <p:nvPr/>
        </p:nvSpPr>
        <p:spPr>
          <a:xfrm flipV="1">
            <a:off x="7672320" y="317520"/>
            <a:ext cx="39600" cy="1285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4" name="Line 43"/>
          <p:cNvSpPr/>
          <p:nvPr/>
        </p:nvSpPr>
        <p:spPr>
          <a:xfrm flipH="1" flipV="1">
            <a:off x="7262280" y="463320"/>
            <a:ext cx="158760" cy="1191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" name="Line 44"/>
          <p:cNvSpPr/>
          <p:nvPr/>
        </p:nvSpPr>
        <p:spPr>
          <a:xfrm flipH="1" flipV="1">
            <a:off x="6162480" y="422280"/>
            <a:ext cx="1060200" cy="1339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Line 45"/>
          <p:cNvSpPr/>
          <p:nvPr/>
        </p:nvSpPr>
        <p:spPr>
          <a:xfrm flipH="1" flipV="1">
            <a:off x="6360840" y="1536480"/>
            <a:ext cx="662040" cy="423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Line 46"/>
          <p:cNvSpPr/>
          <p:nvPr/>
        </p:nvSpPr>
        <p:spPr>
          <a:xfrm flipH="1" flipV="1">
            <a:off x="3432240" y="1350720"/>
            <a:ext cx="3525840" cy="795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8" name="Line 47"/>
          <p:cNvSpPr/>
          <p:nvPr/>
        </p:nvSpPr>
        <p:spPr>
          <a:xfrm flipH="1" flipV="1">
            <a:off x="2265480" y="2066760"/>
            <a:ext cx="4572000" cy="292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Line 4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Line 4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11" name="Picture 50" descr="z044"/>
          <p:cNvPicPr/>
          <p:nvPr/>
        </p:nvPicPr>
        <p:blipFill>
          <a:blip r:embed="rId1"/>
          <a:stretch/>
        </p:blipFill>
        <p:spPr>
          <a:xfrm>
            <a:off x="306360" y="3985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1"/>
          <p:cNvSpPr/>
          <p:nvPr/>
        </p:nvSpPr>
        <p:spPr>
          <a:xfrm>
            <a:off x="1951200" y="598644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S = x(L-2x)</a:t>
            </a: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AutoShape 52"/>
          <p:cNvSpPr/>
          <p:nvPr/>
        </p:nvSpPr>
        <p:spPr>
          <a:xfrm>
            <a:off x="8142120" y="6248520"/>
            <a:ext cx="779760" cy="426960"/>
          </a:xfrm>
          <a:prstGeom prst="rightArrow">
            <a:avLst>
              <a:gd name="adj1" fmla="val 50000"/>
              <a:gd name="adj2" fmla="val 4565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69288E-006 L 1.0158 0.23566 E">
                                      <p:cBhvr>
                                        <p:cTn id="155" dur="3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200320" y="58248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Y = x(L-2x) 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→ max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782800" y="1614240"/>
            <a:ext cx="6361200" cy="6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1874"/>
              </a:spcBef>
              <a:buClr>
                <a:srgbClr val="e74b4b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74b4b"/>
                </a:solidFill>
                <a:latin typeface="Arial"/>
              </a:rPr>
              <a:t>Y′ = L – 4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3551400" y="4100400"/>
            <a:ext cx="4611600" cy="0"/>
          </a:xfrm>
          <a:prstGeom prst="line">
            <a:avLst/>
          </a:prstGeom>
          <a:ln w="3816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Freeform 13"/>
          <p:cNvSpPr/>
          <p:nvPr/>
        </p:nvSpPr>
        <p:spPr>
          <a:xfrm>
            <a:off x="3403440" y="3530520"/>
            <a:ext cx="5261040" cy="581040"/>
          </a:xfrm>
          <a:custGeom>
            <a:avLst/>
            <a:gdLst/>
            <a:ahLst/>
            <a:rect l="l" t="t" r="r" b="b"/>
            <a:pathLst>
              <a:path w="3314" h="366">
                <a:moveTo>
                  <a:pt x="0" y="64"/>
                </a:moveTo>
                <a:cubicBezTo>
                  <a:pt x="396" y="39"/>
                  <a:pt x="792" y="14"/>
                  <a:pt x="1044" y="64"/>
                </a:cubicBezTo>
                <a:cubicBezTo>
                  <a:pt x="1296" y="114"/>
                  <a:pt x="1387" y="366"/>
                  <a:pt x="1511" y="365"/>
                </a:cubicBezTo>
                <a:cubicBezTo>
                  <a:pt x="1635" y="364"/>
                  <a:pt x="1535" y="112"/>
                  <a:pt x="1787" y="56"/>
                </a:cubicBezTo>
                <a:cubicBezTo>
                  <a:pt x="2039" y="0"/>
                  <a:pt x="2768" y="35"/>
                  <a:pt x="3022" y="31"/>
                </a:cubicBezTo>
                <a:cubicBezTo>
                  <a:pt x="3276" y="27"/>
                  <a:pt x="3268" y="31"/>
                  <a:pt x="3314" y="31"/>
                </a:cubicBez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5365800" y="42069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0,25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4334040" y="3543480"/>
            <a:ext cx="4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6467400" y="346392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—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Line 17"/>
          <p:cNvSpPr/>
          <p:nvPr/>
        </p:nvSpPr>
        <p:spPr>
          <a:xfrm flipV="1">
            <a:off x="4002120" y="4404960"/>
            <a:ext cx="741240" cy="5698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6572160" y="4324320"/>
            <a:ext cx="755640" cy="6094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5354640" y="4562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320760" y="2305080"/>
            <a:ext cx="273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Данный прямоугольник является половиной квадрата, длинной стороной примыкающей к берегу моря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" name="Line 2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0" name="Text Box 27"/>
          <p:cNvSpPr/>
          <p:nvPr/>
        </p:nvSpPr>
        <p:spPr>
          <a:xfrm>
            <a:off x="2716200" y="2398680"/>
            <a:ext cx="642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2.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Y′ = 0 ;  L = 4x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x = 0,25L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1" name="Text Box 28"/>
          <p:cNvSpPr/>
          <p:nvPr/>
        </p:nvSpPr>
        <p:spPr>
          <a:xfrm>
            <a:off x="2730600" y="319248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2" name="Text Box 29"/>
          <p:cNvSpPr/>
          <p:nvPr/>
        </p:nvSpPr>
        <p:spPr>
          <a:xfrm>
            <a:off x="2797200" y="5340240"/>
            <a:ext cx="567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4.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AC = 0,25L ;DC =  0,5L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Oval 9"/>
          <p:cNvSpPr/>
          <p:nvPr/>
        </p:nvSpPr>
        <p:spPr>
          <a:xfrm>
            <a:off x="5737320" y="4041720"/>
            <a:ext cx="106200" cy="10656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" name="Text Box 31"/>
          <p:cNvSpPr/>
          <p:nvPr/>
        </p:nvSpPr>
        <p:spPr>
          <a:xfrm>
            <a:off x="3621240" y="1047600"/>
            <a:ext cx="36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Y = Lx – 2x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5" name="AutoShape 33"/>
          <p:cNvSpPr/>
          <p:nvPr/>
        </p:nvSpPr>
        <p:spPr>
          <a:xfrm>
            <a:off x="320760" y="6270480"/>
            <a:ext cx="779400" cy="42732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00041177"/>
          <p:cNvPicPr/>
          <p:nvPr/>
        </p:nvPicPr>
        <p:blipFill>
          <a:blip r:embed="rId1"/>
          <a:stretch/>
        </p:blipFill>
        <p:spPr>
          <a:xfrm>
            <a:off x="353880" y="365040"/>
            <a:ext cx="8539200" cy="6226200"/>
          </a:xfrm>
          <a:prstGeom prst="rect">
            <a:avLst/>
          </a:prstGeom>
          <a:ln w="0">
            <a:noFill/>
          </a:ln>
        </p:spPr>
      </p:pic>
      <p:sp>
        <p:nvSpPr>
          <p:cNvPr id="238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9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439560" y="878040"/>
            <a:ext cx="8375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тоимость (за один час перевозки) содержания баржи состоит из двух частей: стоимости топлива, пропорциональной кубу скорости баржи, и стоимости амортизации баржи ( зарплата команды, стоимость оборудования и т. д.). Общая стоимость содержания баржи за час выражается формулой: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 = av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³ + b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, где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- скорость судна в км/ч,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и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b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– коэффициенты, заданные для каждого судна (для нашего а=0,005,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=40)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779400" y="3865680"/>
            <a:ext cx="776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Ясно, что расходы на топливо будут тем больше, чем быстрее движется корабль, остальные расходы от скорости не зависят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426960" y="5754600"/>
            <a:ext cx="84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азалось бы, чем медленнее движется корабль, тем дешевле его эксплуатация. Так ли это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2292480" y="569880"/>
            <a:ext cx="56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S/v = 0,005v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² + 40</a:t>
            </a:r>
            <a:r>
              <a:rPr b="1" i="1" lang="ru-RU" sz="3200" spc="-1" strike="noStrike">
                <a:solidFill>
                  <a:srgbClr val="336666"/>
                </a:solidFill>
                <a:latin typeface="Arial"/>
                <a:ea typeface="Arial"/>
              </a:rPr>
              <a:t>/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v → min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2332080" y="1285920"/>
            <a:ext cx="6308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2557440" y="1271520"/>
            <a:ext cx="62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e74b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Y′ = 0,005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·2v – 40/v²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4121280" y="514656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—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3511440" y="5718240"/>
            <a:ext cx="4611960" cy="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5326200" y="582444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6878520" y="5173560"/>
            <a:ext cx="4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5" name="Line 17"/>
          <p:cNvSpPr/>
          <p:nvPr/>
        </p:nvSpPr>
        <p:spPr>
          <a:xfrm flipV="1">
            <a:off x="6454800" y="5810040"/>
            <a:ext cx="741240" cy="5698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6" name="Line 18"/>
          <p:cNvSpPr/>
          <p:nvPr/>
        </p:nvSpPr>
        <p:spPr>
          <a:xfrm>
            <a:off x="4505400" y="5823000"/>
            <a:ext cx="755640" cy="6094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5315040" y="6180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mi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8" name="Freeform 20"/>
          <p:cNvSpPr/>
          <p:nvPr/>
        </p:nvSpPr>
        <p:spPr>
          <a:xfrm>
            <a:off x="3362400" y="5133960"/>
            <a:ext cx="5261040" cy="581040"/>
          </a:xfrm>
          <a:custGeom>
            <a:avLst/>
            <a:gdLst/>
            <a:ahLst/>
            <a:rect l="l" t="t" r="r" b="b"/>
            <a:pathLst>
              <a:path w="3314" h="366">
                <a:moveTo>
                  <a:pt x="0" y="64"/>
                </a:moveTo>
                <a:cubicBezTo>
                  <a:pt x="396" y="39"/>
                  <a:pt x="792" y="14"/>
                  <a:pt x="1044" y="64"/>
                </a:cubicBezTo>
                <a:cubicBezTo>
                  <a:pt x="1296" y="114"/>
                  <a:pt x="1387" y="366"/>
                  <a:pt x="1511" y="365"/>
                </a:cubicBezTo>
                <a:cubicBezTo>
                  <a:pt x="1635" y="364"/>
                  <a:pt x="1535" y="112"/>
                  <a:pt x="1787" y="56"/>
                </a:cubicBezTo>
                <a:cubicBezTo>
                  <a:pt x="2039" y="0"/>
                  <a:pt x="2768" y="35"/>
                  <a:pt x="3022" y="31"/>
                </a:cubicBezTo>
                <a:cubicBezTo>
                  <a:pt x="3276" y="27"/>
                  <a:pt x="3268" y="31"/>
                  <a:pt x="3314" y="31"/>
                </a:cubicBez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9" name="Oval 22"/>
          <p:cNvSpPr/>
          <p:nvPr/>
        </p:nvSpPr>
        <p:spPr>
          <a:xfrm>
            <a:off x="5713560" y="5672160"/>
            <a:ext cx="88920" cy="13176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0" name="Text Box 24"/>
          <p:cNvSpPr/>
          <p:nvPr/>
        </p:nvSpPr>
        <p:spPr>
          <a:xfrm>
            <a:off x="318960" y="2584440"/>
            <a:ext cx="284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Оптимальная скорость катера для минимальных затрат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равна 16 км/ч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1" name="Line 2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2" name="Line 2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3" name="Text Box 27"/>
          <p:cNvSpPr/>
          <p:nvPr/>
        </p:nvSpPr>
        <p:spPr>
          <a:xfrm>
            <a:off x="2611440" y="2041560"/>
            <a:ext cx="6254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2.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Y′ = 0 ; 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,01v – 40/v² = 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      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,01v = 40/v²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,01v³ = 4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v³</a:t>
            </a:r>
            <a:r>
              <a:rPr b="1" lang="en-US" sz="3200" spc="-1" strike="noStrike">
                <a:solidFill>
                  <a:srgbClr val="e74b4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= 400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v ≈ 16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км/ч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4" name="Rectangle 28"/>
          <p:cNvSpPr/>
          <p:nvPr/>
        </p:nvSpPr>
        <p:spPr>
          <a:xfrm>
            <a:off x="2635200" y="53107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6:03:05Z</dcterms:created>
  <dc:creator>Edik</dc:creator>
  <dc:description/>
  <dc:language>en-US</dc:language>
  <cp:lastModifiedBy>LEGION</cp:lastModifiedBy>
  <dcterms:modified xsi:type="dcterms:W3CDTF">2015-01-26T10:32:11Z</dcterms:modified>
  <cp:revision>49</cp:revision>
  <dc:subject/>
  <dc:title>Слайд 1</dc:title>
</cp:coreProperties>
</file>