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D48-3DE0-4E80-9169-537A8A052D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3C3A-B8E7-4B4A-9ED2-EBCF0BDDA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дачи, приводящие к       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понятию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1200"/>
            </a:b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3F7F-EC43-4D69-9989-E238E3F75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2C77-4D48-4BD0-B9EC-13629404F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630A-7E0B-42B0-A6E3-E73AEBB13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зультаты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0FF-6648-4D2A-9557-0D58F0FC1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001B-8D5B-48E3-9BB5-9FFF4FACA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4EB1-64AF-45CB-BE9F-D54E53060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AA82-81D9-4375-A291-83F2372DA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66FC-EFF2-44D4-B0D9-41E8242BC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3074-1927-4921-83DA-BF8A793E2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проекта в учебном процес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7AA-EDD9-42F4-9CE0-03B0A9AF87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сновополагающи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AADF-0D5F-4DED-8238-0F9DFF16D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1200"/>
            </a:b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(10.11 - 25.11.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D93C-2D83-4FAF-A2DB-7B3951AE8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роблемны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777B-0C39-4B3C-89D4-663187E36B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Темы самостоятельных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ADE0-E6A3-4CAB-A862-1CEF63FBF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2B6-FD43-43C3-A227-8ED09694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729-C44E-466F-8A90-37B3DE5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9CE-7ED3-43A0-9099-1AF668AB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12B-8D23-4D26-BA70-FAF05898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20D5-ACA8-492A-92F8-ACAD79CC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4483-8FBD-46C4-A98B-C07D1692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EA5E-1FA9-418E-95B0-E0D61DF9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D9F0-AC9E-4ED8-A331-CE4FB56A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574F-E315-4958-A11E-0044D220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27B2-D331-4575-8BAB-5D013239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3D1B-FC9D-48D6-907F-D503ABD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292-4E0C-43F9-90EE-088BF26F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DAED-1FC8-4717-8C1F-97FA2844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DEF8-3B03-4F4B-855E-FAFD852C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2C68-06AD-4209-A9ED-B9681C78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F049-0852-4620-B321-6E187831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5E7C-D6D1-4470-9464-F5A123AB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D05-3B68-4404-BBAC-2C25F2CA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022-AA0A-4BAB-A635-F4021BA7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29D-2F1A-4384-B081-B494608A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D3C-A99D-4AAD-99CE-FB89CD28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01C-1A46-4CA8-AC97-5502B24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BB0-2736-4282-AD68-6D623931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88F-FCF6-404B-B99B-2D4532CE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C3C3-5E86-4D73-B429-0EF1BDA194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46E2-D6C9-4168-B1D8-D9D823DB7A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дачи, приводящие к       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понятию производной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76360" y="2708280"/>
            <a:ext cx="5632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056280" y="105264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МОУСОШ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х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521000"/>
            <a:ext cx="1908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чись учить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й себя и умей находить исти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buClr>
                <a:srgbClr val="006600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2400"/>
            </a:b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Результаты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Информационные ресур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443640" y="1628640"/>
            <a:ext cx="25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арцумян Ануш, Дешевых Андрей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дин  Вячеслав,   Макаровская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ликова Евгения, Морохов Алексан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1_1"/>
          <p:cNvPicPr/>
          <p:nvPr/>
        </p:nvPicPr>
        <p:blipFill>
          <a:blip r:embed="rId1"/>
          <a:stretch/>
        </p:blipFill>
        <p:spPr>
          <a:xfrm>
            <a:off x="1116000" y="1557360"/>
            <a:ext cx="5040360" cy="3351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-27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дактические цел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70136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348000" y="5824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тодические задач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сто проекта в учебном процесс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2060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54492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Основополагающий вопрос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4861080"/>
            <a:ext cx="79218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60280"/>
            <a:ext cx="754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Учебный 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151452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вести понятие производной функции опираясь на известные понятия из предметов школьного кур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книга вопрос"/>
          <p:cNvPicPr/>
          <p:nvPr/>
        </p:nvPicPr>
        <p:blipFill>
          <a:blip r:embed="rId1"/>
          <a:stretch/>
        </p:blipFill>
        <p:spPr>
          <a:xfrm>
            <a:off x="6732720" y="258840"/>
            <a:ext cx="1439640" cy="855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ип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(10.11 - 25.11.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Проблемные вопро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Темы самостоятельных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7:57:20Z</dcterms:created>
  <dc:creator>Секретарь</dc:creator>
  <dc:description/>
  <dc:language>en-US</dc:language>
  <cp:lastModifiedBy>LEGION</cp:lastModifiedBy>
  <dcterms:modified xsi:type="dcterms:W3CDTF">2015-01-26T10:34:55Z</dcterms:modified>
  <cp:revision>41</cp:revision>
  <dc:subject/>
  <dc:title>Слайд 1</dc:title>
</cp:coreProperties>
</file>