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6A05-DA7F-46B9-A2B4-39EDCCF891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B539-4620-4176-8E64-A04F9DB537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дачи, приводящие к       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понятию производ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проект по матема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Этапы и сроки проведен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Организационно-подготовительный этап </a:t>
            </a:r>
            <a:br>
              <a:rPr sz="1200"/>
            </a:b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   (1 неделя – 45 минут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. Постановка пробл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. Формирование групп, составление плана дейст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. Обсуждение возможных источников информации по поставленной проблеме, вопросов защиты  авторских пр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4. Самостоятельное распределение заданий внутр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6D83-77D5-4374-9D4A-C7B7727ED8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Этапы и сроки пр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00"/>
                </a:solidFill>
                <a:latin typeface="Times New Roman"/>
              </a:rPr>
              <a:t>II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. Экспериментально-аналитическ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(1,2 недели - внеурочно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бор информации по проблемам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наблюдений, экспери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нализ результ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нсультационо-координирующая деятельность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бсуждение, обобщение результатов исследований (общие вывод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6600"/>
                </a:solidFill>
                <a:latin typeface="Times New Roman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93AB-2A63-4882-9217-ADD7985427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Arial"/>
              </a:rPr>
              <a:t>Этапы и сроки прове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00"/>
                </a:solidFill>
                <a:latin typeface="Times New Roman"/>
              </a:rPr>
              <a:t>III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. Заключительный этап</a:t>
            </a: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(2 неделя – внеурочно, 1,5 часа – подведение итогов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ыбор творческого названия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формление результатов исследования в вид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презентации и букл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формление «Портфолио мультимедийных умен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результатов исслед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ефлексия деятельности участников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ценивание деятельности участников проект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уч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8ABA-B160-4A38-A000-694A3DEBFD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Результаты исслед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Мультимедийная презентация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Бук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Остановись мгновенье! Мы тебя исследуе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Веб-сайт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4482-DD7E-445A-8C5B-6B2F5EE44E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Информационные 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«Обучение для будущего»: Учеб. пособие/ Под ред. Е.Н. Ястребцовой, Я.С Быховского. —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е издание испр. — М.: Интернет-Университет Информационных Технологий, 2006. — 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8 с.+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.      Журналы «Математика в школ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E213-DE28-4468-8A0D-E00750280E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3377-61DF-4D90-AAE4-BE4303A26A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ие цел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предметн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самостоятельной познавательной активности, навыков работы с большими объемами информации, умений видеть проблему и наметить пути ее решения, применять базовые знания для решения конкретной проблемы, развитие креативных способностей, логического мыш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коммуникативно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умения кратко, логично и понятно излагать свои мысли, математически грамотно говор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социальн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навыков работы в команде: умения отстаивать свою точку зрения, считаться с чужим мнением, проводить объективную рефлекс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2977-EB83-4D17-AE47-BFC777FF8A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кажи мне, и я забу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окажи мне, и я запомн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ай мне действовать  само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 я науч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фуц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2673-94E1-4228-948D-58BF9E1FED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и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ормировать у учащихся осознанное понятие производной функ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ить школьников обрабатывать и обобщать полученную  информацию в результате проведенных вычислений и экспериментов,  научить пользоваться  PowerPoint для оформления результатов,  научить  кратко излагать свои мысли устно и письмен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ормировать навыки проектной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C463-C349-4DD4-AAAB-1F062CCD44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проекта в учебном процесс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6600"/>
                </a:solidFill>
                <a:latin typeface="Times New Roman"/>
              </a:rPr>
              <a:t>Предметная область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6600"/>
                </a:solidFill>
                <a:latin typeface="Times New Roman"/>
              </a:rPr>
              <a:t>Учебная тем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Введение понятия производной функ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0FEE-FCE4-42F2-9AA9-92413C73AA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Основополагающий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тематика - это царица нау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ли их служан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6861-2331-40AA-B453-29157431CC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исследовательский </a:t>
            </a:r>
            <a:br>
              <a:rPr sz="1200"/>
            </a:b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по доминирующей деятельност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межпредметны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(по предметно-содержательной област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краткосрочный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 (10.11 - 25.11.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по продолжительности выполнени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открытый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(по характеру координации проект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внутришкольны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(по характеру контакт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групповой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(6 человек – три команд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DE96-FD97-4B3F-ACC7-C1EAA7B7AF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Проблемные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 Что такое мгновенная скорость с точки зрения математика ?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Какие характеристики  производной можно использовать для исследования функции  и построения графиков ?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Можно ли применить производную для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ения прикладных задач ?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5560-1062-4952-B941-946F80AAEB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Темы самостоятельных исслед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добрать и систематизирова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) задачи из курса физики и химии, приводящие к понятию  производ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) задачи из курса геометрии, приводящие к понятию  производ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) Задачи из курса экономики, приводящие к понятию  производ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6CF1-FF1F-45C6-AD9B-FBB2F9FEA4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E682-5DAA-46C7-A159-AC7F5E54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72A4-88EA-41B7-B325-84B289ED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465-3152-4524-9585-AE2395A2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5901-6711-4072-A9EE-8EEB5FD9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F2A8-0F91-4A85-84A4-7C6C8A41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499B-E0E8-4A08-9616-27A983E7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DB75-623B-47E7-9C0B-B21ED310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1B53-92BF-453D-9B64-544E6C89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166C-7163-40A8-B1FF-0D7C6EB7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7B84-B97C-4E9A-B28C-07092C28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8A38-4F5E-4899-83AB-53A9F86A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53F-C7C6-4B94-8953-DF864513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73CD-4C7D-4B47-AA26-5A79B080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65FD-B235-49CB-A696-F4409791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B353-FA39-4BD3-806F-1792D9B0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BE0C-0637-4516-841A-B9C8D59A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D2A1-E9EC-4A91-BE99-F8BDFFC1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AEC-6F96-4DC1-A218-B0C2AA4E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5C3-0934-4A0B-A8D8-F99A839F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1452-2D4F-4780-9782-F704C421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BD24-E46A-4BB3-8C18-F84E49C7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2CFB-41D5-4A35-9816-CC82A07E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0B3-1130-4152-A0C9-AE29463E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C8E0-0655-4E71-9F41-5C3C8880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141F-0573-476F-8635-174BAC20C4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40CD-333D-49F1-AFC6-4555B8E28AA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400500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Задачи, приводящие к        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понятию производной.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276360" y="2708280"/>
            <a:ext cx="56322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бный проект 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056280" y="1052640"/>
            <a:ext cx="316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ь МОУСОШ №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охов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ащиеся 10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0" y="1521000"/>
            <a:ext cx="1908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Учись учиться всю жи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ершенствуй себя и умей находить истин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Этапы и сроки проведения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208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00000"/>
              </a:lnSpc>
              <a:buClr>
                <a:srgbClr val="006600"/>
              </a:buClr>
              <a:buSzPct val="9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Организационно-подготовительный этап </a:t>
            </a:r>
            <a:br>
              <a:rPr sz="2400"/>
            </a:b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(1 неделя – 45 минут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. Постановка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 Формирование групп, составление плана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Обсуждение возможных источников информации по поставленной проблеме, вопросов защиты  авторских пр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. Самостоятельное распределение заданий внутри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Этапы и сроки проведени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I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. Экспериментально-аналитически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(1,2 недели - внеурочно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бор информации по проблемам исслед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ведение наблюдений, экспери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нализ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сультационо-координирующая деятельность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суждение, обобщение результатов исследований (общие выво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00"/>
                </a:solidFill>
                <a:latin typeface="Times New Roman"/>
              </a:rPr>
              <a:t>Этапы и сроки проведе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II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. Заключительный этап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(2 неделя – внеурочно, 1,5 часа – подведение итог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бор творческого названия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формление результатов исследования в виде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презентации и букл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формление «Портфолио мультимедийных уме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дставление результатов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флексия деятельности участников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ценивание деятельности участников проект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Результаты исследовани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Мультимедийная презентация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Бук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Остановись мгновенье! Мы тебя исследу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Веб-сайт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Информационные ресурс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«Обучение для будущего»: Учеб. пособие/ Под ред. Е.Н. Ястребцовой, Я.С Быховского. —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е издание испр. — М.: Интернет-Университет Информационных Технологий, 2006. — 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8 с.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.      Журналы «Математика в шк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Автор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6443640" y="1628640"/>
            <a:ext cx="252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щиеся 10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мбарцумян Ануш, Дешевых Андрей,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ындин  Вячеслав,   Макаровская И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ликова Евгения, Морохов Алексан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1_1"/>
          <p:cNvPicPr/>
          <p:nvPr/>
        </p:nvPicPr>
        <p:blipFill>
          <a:blip r:embed="rId1"/>
          <a:stretch/>
        </p:blipFill>
        <p:spPr>
          <a:xfrm>
            <a:off x="1116000" y="1557360"/>
            <a:ext cx="5040360" cy="33512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7640" y="-27000"/>
            <a:ext cx="65534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Дидактические цели проекта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701360"/>
            <a:ext cx="8425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предметной компетен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самостоятельной познавательной активности, навыков работы с большими объемами информации, умений видеть проблему и наметить пути ее решения, применять базовые знания для решения конкретной проблемы, развитие креативных способностей, логическ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коммуникативн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етен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умения кратко, логично и понятно излагать свои мысли, математически грамотно говор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социальной компетен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авыков работы в команде: умения отстаивать свою точку зрения, считаться с чужим мнением, проводить объективную рефлек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348000" y="58248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кажи мне, и я заб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кажи мне, и я запомн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ай мне действовать  сам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 я науч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кажи мне, и я забу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кажи мне, и я запомн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Дай мне действовать  самом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 я научу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фуц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5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Методические задач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у учащихся осознанное понятие производной функ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ить школьников обрабатывать и обобщать полученную  информацию в результате проведенных вычислений и экспериментов,  научить пользоваться  PowerPoint для оформления результатов,  научить  кратко излагать свои мысли устно и письм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навыки проектной дея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Место проекта в учебном процесс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71640" y="2060640"/>
            <a:ext cx="784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Предметная область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Учебная тем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Введение понятия производной функ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544920"/>
            <a:ext cx="75438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Основополагающий вопрос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560" y="4861080"/>
            <a:ext cx="792180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тематика - это царица на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ли их служан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042920" y="333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260280"/>
            <a:ext cx="7543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Учебный  вопрос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84360" y="1514520"/>
            <a:ext cx="81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ввести понятие производной функции опираясь на известные понятия из предметов школьного курс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книга вопрос"/>
          <p:cNvPicPr/>
          <p:nvPr/>
        </p:nvPicPr>
        <p:blipFill>
          <a:blip r:embed="rId1"/>
          <a:stretch/>
        </p:blipFill>
        <p:spPr>
          <a:xfrm>
            <a:off x="6732720" y="258840"/>
            <a:ext cx="1439640" cy="8557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Тип проект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исследовательский </a:t>
            </a:r>
            <a:br>
              <a:rPr sz="2400"/>
            </a:b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по доминирующей деятельно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межпредметный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(по предметно-содержательной обла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краткосрочный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 (10.11 - 25.11.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по продолжительности выполне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открытый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(по характеру координации проек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внутришкольный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(по характеру контакт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групповой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(6 человек – три коман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Проблемные вопрос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Что такое мгновенная скорость с точки зрения математика ?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акие характеристики  производной можно использовать для исследования функции  и построения графиков ?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Можно ли применить производную для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шения прикладных задач 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0920" y="27756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Темы самостоятельных исследовани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обрать и систематизиров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задачи из курса физики и химии, приводящие к понятию  производ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задачи из курса геометрии, приводящие к понятию  производ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Задачи из курса экономики, приводящие к понятию  производ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07:57:20Z</dcterms:created>
  <dc:creator>Секретарь</dc:creator>
  <dc:description/>
  <dc:language>en-US</dc:language>
  <cp:lastModifiedBy>LEGION</cp:lastModifiedBy>
  <dcterms:modified xsi:type="dcterms:W3CDTF">2015-01-26T10:34:55Z</dcterms:modified>
  <cp:revision>41</cp:revision>
  <dc:subject/>
  <dc:title>Слайд 1</dc:title>
</cp:coreProperties>
</file>