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A9F9-114D-4D3A-A1AA-EDB5D0C8EB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DDC3-4EBB-4304-B338-934D86B671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дачи, приводящие к       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понятию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проект по мате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Организационно-подготовительный этап </a:t>
            </a:r>
            <a:br>
              <a:rPr sz="1200"/>
            </a:b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(1 неделя – 45 минут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. Постановка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. Формирование групп, составление плана 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. Обсуждение возможных источников информации по поставленной проблеме, вопросов защиты  авторских пр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4. Самостоятельное распределение заданий внутр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4C24-A4D8-4801-BDE2-127E860143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. Экспериментально-аналитиче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(1,2 недели - внеурочно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бор информации по проблемам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наблюдений, экспери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нализ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нсультационо-координирующая деятельность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бсуждение, обобщение результатов исследований (общие выво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221C-8D24-4770-9881-92C3ADB864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. Заключительный этап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(2 неделя – внеурочно, 1,5 часа – подведение итого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бор творческого названи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 в вид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презентации и букл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формление «Портфолио мультимедийных умен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ефлексия деятельности участников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ценивание деятельности участников проект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уч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4A61-869F-4414-8C71-5813595BEE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Результаты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Мультимедийная презентация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Бук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становись мгновенье! Мы тебя исследуе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Веб-сайт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DCED-764A-460E-80AE-06F8D2A2DA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Информационные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«Обучение для будущего»: Учеб. пособие/ Под ред. Е.Н. Ястребцовой, Я.С Быховского. —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е издание испр. — М.: Интернет-Университет Информационных Технологий, 2006. — 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8 с.+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.      Журналы «Математика в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3509-F071-4D61-9B0C-6BD497BF3E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01A1-84D4-464C-82CE-23CE9B964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цел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едметн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самостоятельной познавательной активности, навыков работы с большими объемами информации, умений видеть проблему и наметить пути ее решения, применять базовые знания для решения конкретной проблемы, развитие креативных способностей, логического мыш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о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умения кратко, логично и понятно излагать свои мысли, математически грамотно говор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навыков работы в команде: умения отстаивать свою точку зрения, считаться с чужим мнением, проводить объективную рефлекс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D7B4-7391-4432-88B0-568E525218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74AE-5E45-4430-A59E-27B269CCEE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ть у учащихся осознанное понятие производной функ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ь школьников обрабатывать и обобщать полученную  информацию в результате проведенных вычислений и экспериментов,  научить пользоваться  PowerPoint для оформления результатов,  научить  кратко излагать свои мысли устно и письме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ть навыки проект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9EA6-F19F-4AB2-AB0C-1CD1BA31AC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проекта в учебном процес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Предметная область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Учебная тем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Введение понятия производной функ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F3D0-FF9C-4EBA-871C-A3193BA106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сновополагающи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тематика - это царица нау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ли их служа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5688-7169-4556-A229-D153594D8C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исследовательский </a:t>
            </a:r>
            <a:br>
              <a:rPr sz="1200"/>
            </a:b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по доминирующей деятельност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межпредметны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предметно-содержательной област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краткосрочны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 (10.11 - 25.11.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по продолжительности выполнени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открыты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характеру координации проект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внутришкольны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характеру контакт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группово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(6 человек – три коман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1265-9233-4CB9-8ED2-20002AB86E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Проблемные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Что такое мгновенная скорость с точки зрения математика ?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Какие характеристики  производной можно использовать для исследования функции  и построения графиков ?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Можно ли применить производную для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я прикладных задач ?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E1F1-1306-4A6E-92CF-3A5819EB78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Темы самостоятельных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добрать и систематизирова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задачи из курса физики и химии, приводящие к понятию  производ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задачи из курса геометрии, приводящие к понятию  производ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Задачи из курса экономики, приводящие к понятию 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7ED7-B83E-43AB-B641-71562D1F7C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6B0-3D39-4DE5-9E66-E9E08944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EAC-DB9D-4891-B9E9-B1F275EA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265-1B69-444F-B498-80063C8C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095-EE6B-4D1C-9CD6-FA5B77FC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47DE-7CB0-4C70-9418-71FC759D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C010-19F5-485E-9EC1-B33B27C3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7804-C3D6-4306-A57D-BBD9E886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E8A3-02DF-44DD-ABCC-2D02E85B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6E91-B202-40AC-8309-D962EF6D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E9D1-5405-48C1-8775-DD4D8236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B822-4136-4E81-B07E-0397BA83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559-FE4A-4462-B9AF-8AF63DCF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D41A-38D2-49FE-9B41-64A4D669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7289-F61D-4894-BBCF-D4774596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3258-A37A-415D-89D6-35E78038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9D14-8F75-4FBA-8C40-880F3D1B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A327-3CA4-49EA-9984-B0231715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CBE-9810-4F1E-9E9A-B363A4AB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D86-5F02-4764-B176-D0394467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77BE-3883-4D1F-A7B3-5F01C757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EBE-8490-4CF1-B300-B7A336B8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C1F-8CC4-4E21-A3C8-AC10F967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354-56A0-4762-8C1E-4D73B014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E3E-B53D-472A-ABF2-F3ED9DC0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A561-2C27-4B7A-BB8E-5455CC32DF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8AA0-740C-466F-B5A9-0276717D53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400500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Задачи, приводящие к        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понятию производной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76360" y="2708280"/>
            <a:ext cx="56322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ый проект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056280" y="1052640"/>
            <a:ext cx="316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МОУСОШ №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охов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ащиеся 10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1521000"/>
            <a:ext cx="1908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Учись учиться всю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ршенствуй себя и умей находить истин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00000"/>
              </a:lnSpc>
              <a:buClr>
                <a:srgbClr val="006600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рганизационно-подготовительный этап </a:t>
            </a:r>
            <a:br>
              <a:rPr sz="2400"/>
            </a:b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(1 неделя – 45 мину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 Постановка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Формирование групп, составление плана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Обсуждение возможных источников информации по поставленной проблеме, вопросов защиты  авторск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Самостоятельное распределение заданий внутри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. Экспериментально-аналитически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1,2 недели - внеурочно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бор информации по проблемам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ведение наблюдений, экспери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нализ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сультационо-координирующая деятельност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суждение, обобщение результатов исследований (общие вы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. Заключительный этап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2 неделя – внеурочно, 1,5 часа – подведение итог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бор творческого назван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 в вид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презентации и букл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формление «Портфолио мультимедийных ум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флексия деятельности участников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ценивание деятельности участников проект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Результаты исследова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Мультимедийная презентация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Бук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Остановись мгновенье! Мы тебя исследу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еб-сайт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Информационные ресурс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«Обучение для будущего»: Учеб. пособие/ Под ред. Е.Н. Ястребцовой, Я.С Быховского. —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е издание испр. — М.: Интернет-Университет Информационных Технологий, 2006. — 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8 с.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     Журналы «Математика в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6443640" y="1628640"/>
            <a:ext cx="252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еся 10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мбарцумян Ануш, Дешевых Андрей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ындин  Вячеслав,   Макаровская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ликова Евгения, Морохов Алексан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1_1"/>
          <p:cNvPicPr/>
          <p:nvPr/>
        </p:nvPicPr>
        <p:blipFill>
          <a:blip r:embed="rId1"/>
          <a:stretch/>
        </p:blipFill>
        <p:spPr>
          <a:xfrm>
            <a:off x="1116000" y="1557360"/>
            <a:ext cx="5040360" cy="3351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-27000"/>
            <a:ext cx="6553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Дидактические цели проект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701360"/>
            <a:ext cx="842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предметной 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амостоятельной познавательной активности, навыков работы с большими объемами информации, умений видеть проблему и наметить пути ее решения, применять базовые знания для решения конкретной проблемы, развитие креативных способностей, логи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умения кратко, логично и понятно излагать свои мысли, математически грамотно гово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выков работы в команде: умения отстаивать свою точку зрения, считаться с чужим мнением, проводить объективную рефлек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348000" y="58248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5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Методические задач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у учащихся осознанное понятие производной фун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 школьников обрабатывать и обобщать полученную  информацию в результате проведенных вычислений и экспериментов,  научить пользоваться  PowerPoint для оформления результатов,  научить  кратко излагать свои мысли устно и письм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навыки проектн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Место проекта в учебном процесс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71640" y="2060640"/>
            <a:ext cx="784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Предметная область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Учебная те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Введение понятия производной функ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544920"/>
            <a:ext cx="75438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Основополагающий вопрос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4861080"/>
            <a:ext cx="79218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матика - это царица на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ли их служа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42920" y="333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260280"/>
            <a:ext cx="7543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Учебный 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84360" y="151452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вести понятие производной функции опираясь на известные понятия из предметов школьного курс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книга вопрос"/>
          <p:cNvPicPr/>
          <p:nvPr/>
        </p:nvPicPr>
        <p:blipFill>
          <a:blip r:embed="rId1"/>
          <a:stretch/>
        </p:blipFill>
        <p:spPr>
          <a:xfrm>
            <a:off x="6732720" y="258840"/>
            <a:ext cx="1439640" cy="855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Тип проек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исследовательский </a:t>
            </a:r>
            <a:br>
              <a:rPr sz="2400"/>
            </a:b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доминирующей деятель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межпредметны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предметно-содержательной обла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краткосрочны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 (10.11 - 25.11.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продолжительности выполн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ткрыты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характеру координации проек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внутришкольны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характеру контакт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группово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(6 человек – три коман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Проблемные вопрос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Что такое мгновенная скорость с точки зрения математика ?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акие характеристики  производной можно использовать для исследования функции  и построения графиков ?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Можно ли применить производную дл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ения прикладных задач 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27756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Темы самостоятельных исследова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обрать и систематизиров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задачи из курса физики и химии, приводящие к понятию  производ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задачи из курса геометрии, приводящие к понятию  производ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Задачи из курса экономики, приводящие к понятию  произв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7:57:20Z</dcterms:created>
  <dc:creator>Секретарь</dc:creator>
  <dc:description/>
  <dc:language>en-US</dc:language>
  <cp:lastModifiedBy>LEGION</cp:lastModifiedBy>
  <dcterms:modified xsi:type="dcterms:W3CDTF">2015-01-26T10:34:55Z</dcterms:modified>
  <cp:revision>41</cp:revision>
  <dc:subject/>
  <dc:title>Слайд 1</dc:title>
</cp:coreProperties>
</file>