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9B8-8284-4191-8945-6F6C7F8164B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0627-B434-498E-9CA6-BDE30FFAFD0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(а)  102                                               № 5(а)    36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7C0-8A7A-4657-B2FC-53353CDCCBB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AED-15A2-4640-AD45-52840BCD7D6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2F9C-DE11-4606-90B3-101C744D5AD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26A8-CB57-4170-A175-2A54CB1D692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6687-D2FE-4F3A-9308-DFFBBF644E1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219F-CB74-4639-9148-4AC4EAEBDCB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0FEB-0493-4ACF-834E-34CD3DEFC7F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3B52-D97A-4478-87B6-BBCB753F652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B0C-3F8C-4D42-A97C-C6708AA8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0C7-75D1-4BFC-ABEC-BA3FA3A7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1B7E8-6F4A-4C7D-90D0-F949617B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DDD21-CB95-4941-B74E-EF3BD2AD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9A34C-EFCB-45C5-9CAE-0FE52A30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315D6-5129-438B-9B18-0601B50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6823A-8472-43E6-9A84-6714A1E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2FF31-DC2C-4642-B3CB-33250E6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41C1C-04D2-4965-B077-73FC1AA0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AC49E-19B9-4EBA-809C-0740F0D7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B724D-E6E4-42EE-AD29-56E14C05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75B-DAF0-4735-8EFF-592C386B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CCB-E1E3-4E65-A907-886FAB47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96A4-514A-4FE7-9F63-37314322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ABE7-CFBC-46A0-A992-BB1B3E8A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F1A6-FCAC-4454-A9DB-2E91B217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E906-2464-477F-8A66-1CC2B196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237A-93F5-4E06-A1A9-41252F3E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6BC3-51F0-45C2-A99D-16ECF2B8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C764-011A-4508-9B7D-5D12080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320-E3BD-41B4-95F0-7906F037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E7E1-6D0A-4888-9742-88B4C1F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1F65-DD1A-4E1C-8F03-DC63E5A7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79F-6551-47D1-8751-38C6790C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341B-CFD7-42D6-A72E-0F902AD0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D40C-B63F-40E3-B69D-47AF554E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81C9-8B04-4ECC-AB51-4BD48B46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1BBA-9493-4D47-BDED-1A39701D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AC4C-EE84-49FE-9F9E-A025DEB7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2A10-E413-4B8B-9521-F813F86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7EB4-ADF9-4187-B8D3-03A840DB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905-7A3A-40F4-8CED-2DEDF9D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17D1-036D-4506-9382-2EC0A50A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8BAE-4B7A-437C-9108-05836A8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423C-C194-4246-B4F9-849E3710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4E6A-8E54-4057-8A26-97BCDC44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3A47-E533-4A49-AA32-71AE73E1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B440-4456-4D0A-9E1F-BBF142C9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AF9A-7D5F-4561-B8AE-3608E358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3440-A3C2-40E6-BE00-E232FFB9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36803-56C3-42E4-AB24-9F0F37B2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B22B-7A22-43D8-9554-8D0D9BE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077-A025-4FEC-AC5B-D8BDD00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50BD-E1A0-468E-A0DC-6A3C09F1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6C81-CE8F-4EDE-B4ED-6428C16E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DDA5-706A-4669-96DC-27FBC6CA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00FB-851F-4E7B-A6BE-C498D90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16CF-D75D-48A7-9761-CE9503E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44B4-CC4A-4130-B5EE-731647E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7077-FF08-47E8-A391-295F7C8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A6AD-13A9-4F11-AE2F-5A809E48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5698-CD97-4329-B6D8-001CE58C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08995-965A-4890-97F6-034035E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AD6-469E-4988-B85E-EB81D63C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38E7-B6D4-4B65-949D-1B0FAC5D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5652D-355A-4323-B3D8-891BD9A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79E1-BA68-4D9F-856B-E7135843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AA9A-08C7-43DF-A806-1D49FF4C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D0B5E-BC0F-48DE-956A-D62AE0D1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FFCC-048C-460B-BE6C-996DBFCA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5B83-537B-4D11-A663-31C293A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924ED-7921-41E0-9115-711635F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C343-B4B8-4700-A39A-5B2357E1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CC642-7F30-4854-96C5-D6791381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8FF-D5E0-4BEE-82E6-A60AA7C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92F82-50D6-43C7-86EE-9DFD3CB6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603F-26EB-4E3D-9FC9-5B31EB8B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8785A-F883-43BE-A340-952EE4B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ABF8F-5E8B-494D-B907-4D23853F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B3BD-15E5-4392-B43B-C002293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E0CB-8A36-44F6-9F7A-EAF3E2C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6EA0E-51F6-42AD-A6AC-B820602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960F-1844-42F0-92CC-E00130A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3FFE9-8CEB-4166-9ED5-01ECA07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7668-8DFB-4140-BDBD-55A40CF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42B-4989-454B-85DC-5B26DF05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2940-3A7F-401B-BA20-DF4257E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CC1A1-56F4-4104-8026-9A5F4305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D234-A28E-445F-9166-98385179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52C39-00EF-486C-A875-631CC6AA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4FE0-6734-45DD-9496-9B525276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A07EE-64E8-47DB-AB99-6F9BCB41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7658-9266-46CA-A19F-3A600CAC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C595-09CC-451D-8399-0C246D69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5CDB-D10E-4C97-8A61-4F1632F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A78FE-3BFC-482F-A028-47E78DAA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574-7120-4F40-81BD-70CC685B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87A15-C266-4E0A-A4AA-3513E1E9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4E08B-FCAE-43D7-BD89-D52D3F5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A385F-4668-4CD5-A384-C79037DF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6C4C-7D5A-4D00-8B43-3B383663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88152-0223-4D44-8473-6A02FC18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973D-DBF6-4125-ACA3-AA5586D1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0A7E7-8AAD-47D7-B472-4693F179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7B400-89A8-4CC2-93A6-72DCE4F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E980-980E-4601-8040-752F4E4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CBF4A-6C53-4700-828C-F39D3BC9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1F4-B51B-4E7E-8D41-1A3C40B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7F2B-108E-44BB-9C0E-17DB364B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9D8F-616D-4C73-BFC0-BAD606A1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D1501-4868-48E7-A5F5-177E87F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DE2B5-128F-4878-AA04-DF0BE32A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03E3-6582-4B32-B9BB-BC679D52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7176-4102-476B-8C8C-E6077530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F289-D8C0-4816-BD1E-6E2D75BD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10FD8-BE77-488D-9180-7C0ACF78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3AB84-9C63-443D-8481-8443B44E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DDD05-2154-46A1-BD82-72A303B1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730E-FCFE-45D5-9CB0-7884C23473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F190-9CC7-4EBE-841F-CCB7DC07E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8AB9-2C29-4896-84B9-CAEEAB3DBF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3900-AB27-44EE-A5A3-48853795E5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F1E9-4D62-46D1-ADC8-5E38FCDE4F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6D43-EAE6-4B08-BF4D-DB7801E3D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CE7-AD70-4753-8A7E-650525C244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8A3-43F0-4785-950B-FB80822B1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7D86-F5BE-43EE-A479-78EB147397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583-0B40-4673-908C-92D3B3DCE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700-22F6-4758-A8AA-3E38856304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B82-727E-4CD1-A4F9-2840F2F05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3F10-A5BD-4ACA-BAA0-B13138DC662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DCD-A836-4075-AC93-4E5556C7D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F831-6119-4FAF-9327-4508B1C29E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EB5F-3611-441B-A033-3E05E4D4E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74C8-8C52-4961-9E4E-FCA8725E8B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B4B7-B2CC-4190-B8F8-81720D3A5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gi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192240" y="4724280"/>
            <a:ext cx="1623960" cy="171936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3518 C 0.00104 0.14537 0.0217 0.12708 0.07865 0.12292 C 0.16059 0.12292 0.16667 -0.7206 0.26459 -0.72361 C 0.35261 -0.72361 0.30556 0.01412 0.39028 0.01088 C 0.47882 0.01088 0.43125 -0.52292 0.52587 -0.52292 C 0.61059 -0.52292 0.56354 -0.16296 0.63906 -0.16296 C 0.71181 -0.16296 0.67413 -0.43773 0.74028 -0.43773 C 0.77795 -0.43773 0.78073 -0.36296 0.78403 -0.30556 E">
                                      <p:cBhvr>
                                        <p:cTn id="1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398 C -2.22222E-006 -0.09352 0.0875 0.06204 0.19427 0.06204 C 0.30434 0.06204 0.39202 -0.09352 0.39202 -0.29398 C 0.39202 -0.49468 0.47952 -0.65 0.58959 -0.65 C 0.69636 -0.65 0.78403 -0.49468 0.78403 -0.29398 E">
                                      <p:cBhvr>
                                        <p:cTn id="1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931 C -2.22222E-006 -0.50301 0.0875 -0.66065 0.19427 -0.66065 C 0.30434 -0.66065 0.39202 -0.50301 0.39202 -0.29931 C 0.39202 -0.09583 0.47952 0.06204 0.58959 0.06204 C 0.69636 0.06204 0.78403 -0.09583 0.78403 -0.29931 E">
                                      <p:cBhvr>
                                        <p:cTn id="2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1505 C -2.22222E-006 -0.10278 0.08837 0.06204 0.19618 0.06204 C 0.30729 0.06204 0.39584 -0.10278 0.39584 -0.31505 C 0.39584 -0.52755 0.48438 -0.69213 0.59549 -0.69213 C 0.7033 -0.69213 0.79184 -0.52755 0.79184 -0.31505 E">
                                      <p:cBhvr>
                                        <p:cTn id="24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635040" y="819000"/>
            <a:ext cx="912600" cy="9655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" descr=""/>
          <p:cNvPicPr/>
          <p:nvPr/>
        </p:nvPicPr>
        <p:blipFill>
          <a:blip r:embed="rId2"/>
          <a:stretch/>
        </p:blipFill>
        <p:spPr>
          <a:xfrm>
            <a:off x="4859280" y="11124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" descr=""/>
          <p:cNvPicPr/>
          <p:nvPr/>
        </p:nvPicPr>
        <p:blipFill>
          <a:blip r:embed="rId4"/>
          <a:stretch/>
        </p:blipFill>
        <p:spPr>
          <a:xfrm>
            <a:off x="7308720" y="1200240"/>
            <a:ext cx="1103400" cy="11682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"/>
          <p:cNvPicPr/>
          <p:nvPr/>
        </p:nvPicPr>
        <p:blipFill>
          <a:blip r:embed="rId5"/>
          <a:stretch/>
        </p:blipFill>
        <p:spPr>
          <a:xfrm>
            <a:off x="-5076720" y="3295800"/>
            <a:ext cx="3892320" cy="2528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"/>
          <p:cNvPicPr/>
          <p:nvPr/>
        </p:nvPicPr>
        <p:blipFill>
          <a:blip r:embed="rId6"/>
          <a:stretch/>
        </p:blipFill>
        <p:spPr>
          <a:xfrm>
            <a:off x="9144000" y="2924280"/>
            <a:ext cx="4927680" cy="32036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7" descr=""/>
          <p:cNvPicPr/>
          <p:nvPr/>
        </p:nvPicPr>
        <p:blipFill>
          <a:blip r:embed="rId7"/>
          <a:stretch/>
        </p:blipFill>
        <p:spPr>
          <a:xfrm>
            <a:off x="-2495520" y="4186080"/>
            <a:ext cx="200664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"/>
          <p:cNvPicPr/>
          <p:nvPr/>
        </p:nvPicPr>
        <p:blipFill>
          <a:blip r:embed="rId8"/>
          <a:stretch/>
        </p:blipFill>
        <p:spPr>
          <a:xfrm>
            <a:off x="9178920" y="3192480"/>
            <a:ext cx="2665440" cy="28242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5741 L 1.60625 0.05231 E">
                                      <p:cBhvr>
                                        <p:cTn id="30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0.06065 L -1.62465 0.06273 E">
                                      <p:cBhvr>
                                        <p:cTn id="3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-0.0088 L 1.37674 -0.01968 E">
                                      <p:cBhvr>
                                        <p:cTn id="36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 0.03865 L -1.61024 0.04143 E">
                                      <p:cBhvr>
                                        <p:cTn id="39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(а)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№ 5(а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3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Объект 3"/>
          <p:cNvGraphicFramePr/>
          <p:nvPr/>
        </p:nvGraphicFramePr>
        <p:xfrm>
          <a:off x="1403280" y="1628640"/>
          <a:ext cx="10810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1081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4"/>
          <p:cNvGraphicFramePr/>
          <p:nvPr/>
        </p:nvGraphicFramePr>
        <p:xfrm>
          <a:off x="5724360" y="1700280"/>
          <a:ext cx="935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700280"/>
                    <a:ext cx="93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Объект 5"/>
          <p:cNvGraphicFramePr/>
          <p:nvPr/>
        </p:nvGraphicFramePr>
        <p:xfrm>
          <a:off x="1403280" y="3068640"/>
          <a:ext cx="720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72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Объект 6"/>
          <p:cNvGraphicFramePr/>
          <p:nvPr/>
        </p:nvGraphicFramePr>
        <p:xfrm>
          <a:off x="5796000" y="2997360"/>
          <a:ext cx="647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2997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Объект 7"/>
          <p:cNvGraphicFramePr/>
          <p:nvPr/>
        </p:nvGraphicFramePr>
        <p:xfrm>
          <a:off x="1476360" y="3789360"/>
          <a:ext cx="863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378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Объект 8"/>
          <p:cNvGraphicFramePr/>
          <p:nvPr/>
        </p:nvGraphicFramePr>
        <p:xfrm>
          <a:off x="5435640" y="3789360"/>
          <a:ext cx="10810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789360"/>
                    <a:ext cx="10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Объект 5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6"/>
          <p:cNvGraphicFramePr/>
          <p:nvPr/>
        </p:nvGraphicFramePr>
        <p:xfrm>
          <a:off x="2268360" y="1197000"/>
          <a:ext cx="20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9700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7"/>
          <p:cNvGraphicFramePr/>
          <p:nvPr/>
        </p:nvGraphicFramePr>
        <p:xfrm>
          <a:off x="5651640" y="1197000"/>
          <a:ext cx="2305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197000"/>
                    <a:ext cx="2305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Объект 8"/>
          <p:cNvGraphicFramePr/>
          <p:nvPr/>
        </p:nvGraphicFramePr>
        <p:xfrm>
          <a:off x="2195640" y="2637000"/>
          <a:ext cx="468000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637000"/>
                    <a:ext cx="4680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Объект 9"/>
          <p:cNvGraphicFramePr/>
          <p:nvPr/>
        </p:nvGraphicFramePr>
        <p:xfrm>
          <a:off x="1042920" y="3860640"/>
          <a:ext cx="5977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860640"/>
                    <a:ext cx="5977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0"/>
          <p:cNvGraphicFramePr/>
          <p:nvPr/>
        </p:nvGraphicFramePr>
        <p:xfrm>
          <a:off x="1187280" y="5157720"/>
          <a:ext cx="51134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157720"/>
                    <a:ext cx="5113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34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9" name="Объект 4"/>
          <p:cNvGraphicFramePr/>
          <p:nvPr/>
        </p:nvGraphicFramePr>
        <p:xfrm>
          <a:off x="3780000" y="443700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370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Объект 5"/>
          <p:cNvGraphicFramePr/>
          <p:nvPr/>
        </p:nvGraphicFramePr>
        <p:xfrm>
          <a:off x="3492360" y="4437000"/>
          <a:ext cx="127080" cy="1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437000"/>
                    <a:ext cx="127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Объект 3"/>
          <p:cNvGraphicFramePr/>
          <p:nvPr/>
        </p:nvGraphicFramePr>
        <p:xfrm>
          <a:off x="2627280" y="1268280"/>
          <a:ext cx="34574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45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4"/>
          <p:cNvGraphicFramePr/>
          <p:nvPr/>
        </p:nvGraphicFramePr>
        <p:xfrm>
          <a:off x="1187280" y="2492280"/>
          <a:ext cx="33134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92280"/>
                    <a:ext cx="3313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Объект 5"/>
          <p:cNvGraphicFramePr/>
          <p:nvPr/>
        </p:nvGraphicFramePr>
        <p:xfrm>
          <a:off x="1332000" y="4005360"/>
          <a:ext cx="35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05360"/>
                    <a:ext cx="35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Объект 3"/>
          <p:cNvGraphicFramePr/>
          <p:nvPr/>
        </p:nvGraphicFramePr>
        <p:xfrm>
          <a:off x="971640" y="1125360"/>
          <a:ext cx="2808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280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Объект 4"/>
          <p:cNvGraphicFramePr/>
          <p:nvPr/>
        </p:nvGraphicFramePr>
        <p:xfrm>
          <a:off x="1116000" y="1989000"/>
          <a:ext cx="259236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989000"/>
                    <a:ext cx="2592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5"/>
          <p:cNvGraphicFramePr/>
          <p:nvPr/>
        </p:nvGraphicFramePr>
        <p:xfrm>
          <a:off x="1116000" y="2852640"/>
          <a:ext cx="3743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3743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6"/>
          <p:cNvGraphicFramePr/>
          <p:nvPr/>
        </p:nvGraphicFramePr>
        <p:xfrm>
          <a:off x="1187280" y="3789360"/>
          <a:ext cx="40323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78936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Объект 5"/>
          <p:cNvGraphicFramePr/>
          <p:nvPr/>
        </p:nvGraphicFramePr>
        <p:xfrm>
          <a:off x="6588000" y="2924280"/>
          <a:ext cx="792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924280"/>
                    <a:ext cx="792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00000" y="1268280"/>
            <a:ext cx="73440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Объект 3"/>
          <p:cNvGraphicFramePr/>
          <p:nvPr/>
        </p:nvGraphicFramePr>
        <p:xfrm>
          <a:off x="1547640" y="1341360"/>
          <a:ext cx="302436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3024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Объект 4"/>
          <p:cNvGraphicFramePr/>
          <p:nvPr/>
        </p:nvGraphicFramePr>
        <p:xfrm>
          <a:off x="1692360" y="2133720"/>
          <a:ext cx="27352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133720"/>
                    <a:ext cx="273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5"/>
          <p:cNvGraphicFramePr/>
          <p:nvPr/>
        </p:nvGraphicFramePr>
        <p:xfrm>
          <a:off x="1835280" y="3141720"/>
          <a:ext cx="23050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2305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3492360" y="228600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2" descr=""/>
          <p:cNvPicPr/>
          <p:nvPr/>
        </p:nvPicPr>
        <p:blipFill>
          <a:blip r:embed="rId2"/>
          <a:stretch/>
        </p:blipFill>
        <p:spPr>
          <a:xfrm>
            <a:off x="3203640" y="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3.33333E-006 C 0.23975 3.33333E-006 0.41232 0.16157 0.41232 0.36088 C 0.41232 0.55972 0.23975 0.72152 0.02829 0.72152 C -0.18316 0.72152 -0.35521 0.55972 -0.35521 0.36088 C -0.35521 0.16157 -0.18316 3.33333E-006 0.02829 3.33333E-006 Z">
                                      <p:cBhvr>
                                        <p:cTn id="6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0.2106 3.33333E-006 0.38195 0.15926 0.38195 0.35555 C 0.38195 0.55185 0.2106 0.71111 -4.72222E-006 0.71111 C -0.21093 0.71111 -0.38194 0.55185 -0.38194 0.35555 C -0.38194 0.15926 -0.21093 3.33333E-006 -4.72222E-006 3.33333E-006 Z">
                                      <p:cBhvr>
                                        <p:cTn id="9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12:03Z</dcterms:created>
  <dc:creator>EVA</dc:creator>
  <dc:description/>
  <dc:language>en-US</dc:language>
  <cp:lastModifiedBy>LEGION</cp:lastModifiedBy>
  <dcterms:modified xsi:type="dcterms:W3CDTF">2015-01-26T10:35:21Z</dcterms:modified>
  <cp:revision>13</cp:revision>
  <dc:subject/>
  <dc:title>Проверка домашнего задания:</dc:title>
</cp:coreProperties>
</file>