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28.jpeg" ContentType="image/jpeg"/>
  <Override PartName="/ppt/media/image24.jpeg" ContentType="image/jpeg"/>
  <Override PartName="/ppt/media/image21.jpeg" ContentType="image/jpeg"/>
  <Override PartName="/ppt/media/image2.wmf" ContentType="image/x-wmf"/>
  <Override PartName="/ppt/media/image32.wmf" ContentType="image/x-wmf"/>
  <Override PartName="/ppt/media/image19.wmf" ContentType="image/x-wmf"/>
  <Override PartName="/ppt/media/image26.jpeg" ContentType="image/jpeg"/>
  <Override PartName="/ppt/media/image20.wmf" ContentType="image/x-wmf"/>
  <Override PartName="/ppt/media/image25.jpeg" ContentType="image/jpeg"/>
  <Override PartName="/ppt/media/image10.wmf" ContentType="image/x-wmf"/>
  <Override PartName="/ppt/media/image31.jpeg" ContentType="image/jpeg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9.wmf" ContentType="image/x-wmf"/>
  <Override PartName="/ppt/media/image30.gif" ContentType="image/gif"/>
  <Override PartName="/ppt/media/image16.wmf" ContentType="image/x-wmf"/>
  <Override PartName="/ppt/media/image35.wmf" ContentType="image/x-wmf"/>
  <Override PartName="/ppt/media/image5.wmf" ContentType="image/x-wmf"/>
  <Override PartName="/ppt/media/image27.jpeg" ContentType="image/jpeg"/>
  <Override PartName="/ppt/media/image13.wmf" ContentType="image/x-wmf"/>
  <Override PartName="/ppt/media/image33.wmf" ContentType="image/x-wmf"/>
  <Override PartName="/ppt/media/image29.jpeg" ContentType="image/jpeg"/>
  <Override PartName="/ppt/media/image3.wmf" ContentType="image/x-wmf"/>
  <Override PartName="/ppt/media/image23.jpeg" ContentType="image/jpeg"/>
  <Override PartName="/ppt/media/image34.wmf" ContentType="image/x-wmf"/>
  <Override PartName="/ppt/media/image4.wmf" ContentType="image/x-wmf"/>
  <Override PartName="/ppt/media/image1.jpeg" ContentType="image/jpeg"/>
  <Override PartName="/ppt/media/image15.wmf" ContentType="image/x-wmf"/>
  <Override PartName="/ppt/media/image22.jpeg" ContentType="image/jpeg"/>
  <Override PartName="/ppt/media/image14.wmf" ContentType="image/x-wmf"/>
  <Override PartName="/ppt/media/image17.wmf" ContentType="image/x-wmf"/>
  <Override PartName="/ppt/media/image1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8B45-77C3-4527-970C-43F96C83D18C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Презентация к уроку алгебры </a:t>
            </a:r>
            <a:br>
              <a:rPr sz="900"/>
            </a:b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(8 класс)</a:t>
            </a:r>
            <a:br>
              <a:rPr sz="900"/>
            </a:br>
            <a:br>
              <a:rPr sz="9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«Преобразование выражений, содержащих операцию извлечения квадратного корн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математики Косова В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БОУ гимназия № 9 Г. Ставроп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2D83-7B6C-419B-884C-3C4471BAC2C9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тветы к тест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 вариа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2вариа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(а)                                                             № 3(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(а)  102                                               № 5(а)    36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(а)                                                             № 6 (а)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(а)                                                            № 7(а)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ритерии оценки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(а), № 6(а) –оценка «3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(а), № 6(а), № 5(а) –оценка «4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(а), № 6(а), № 5(а), № 7(а) –оценка «5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C3DD-257F-4EDB-8FF1-D2E771098A12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омашнего зад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№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5.6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)                                           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№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5.79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EC68-4743-4EA0-B248-559F770E6D1D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образование выражений, содержащих операцию извлечения квадратного кор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A5BF-F090-4927-91FD-1B946D423CC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сторическая справ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ифметический корень произошел от латинского слова radix – корень, radicalis – корен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иная с 13 века итальянские и другие европейские математики обозначали корень латинским словом radix ( сокращенно r). В 1525 г. в книге Х.Рудольфа “Быстрый и красивый счет при помощи искусных правил алгебры, обычно называемых Косс” появилось обозначение V для квадратного корня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V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ля кубического. В 1626 г. голландский математик А. Жирар ввел обозначен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V и т. д., которые вскоре вытеснили знак r, при этом над подкоренным выражением ставилась горизонтальная черта. Современное обозначение корня впервые появилось в книге Рене Декарта “Геометрия”, изданной в 1637 г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ECD6-CCDA-4F7A-8CE1-DDF06D36AB1B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стная рабо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числить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нести множитель из-под знака корн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сти множитель под знак корн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A979-95A8-46BB-92E2-8F1FF18027A6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Найдите ошибк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б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г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61B8-DB65-4B10-AD7D-1417987A1D5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5. Записать в тетрадь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формулу квадратного корня из произвед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формулу квадратного корня из частн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формулу квадратного корня и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E586-D778-4AA0-9710-87C6652BCF5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оверк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1EA3-ED30-4930-BCAA-8C31C73585EA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6AFE-AAEE-42E3-A466-5F5AEB7AD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A5D5-74F5-4BD4-9934-52AD1307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E4C9A-F2FA-4083-9D46-3E1F8480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55A183-880F-4939-8CEC-3292437E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B399CF-14BA-4CDA-8EE3-106448DD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E4EA11-8F4D-4A2A-A0E8-C4D94615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CEF134-FACD-470C-B51D-9BCB0083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61FE8C-201A-401F-9090-89112C00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D4B82C-36B7-4DB2-9580-3F90BA7A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F1721-9A82-402C-9170-E99365D04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5E073-45BD-4EF3-A2D8-B3A6AC153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4568-7510-4D3E-BE63-DEBA5B962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B5D0-DCEB-457D-BC23-22D71B6AB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AC34D-5079-4DF2-A69F-00FAEE432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BEDF8-2FC3-49E7-830B-D3BC8252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50E3-F0AE-482A-8C3C-B9508F57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21709-E249-41CB-AC85-96608206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C9EE-DA64-4836-A819-C76A712D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5717-F7C9-4D45-ABC1-CB45E03F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223D1-C833-44BE-A6E7-1526592B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9F6E-C594-43F7-9A62-0DB11430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6C36-21AA-40F5-BD97-DF09E78E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99E0-CD19-471D-828C-14A2B834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8C9B-F425-4C52-8260-27998843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9C60-1B91-4109-AEE4-EE426C8A3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3F37-F1D3-4956-8872-0707CCF18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A4458-892B-4C44-A4C4-DB01A3882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685DE-1FA2-456A-8AEE-0E6A6814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6DB53-BF91-4747-8FA6-04433A7D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8424E-E02B-4232-969F-659B0CD5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F9938-1093-4FDA-96E8-227BFAF6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DB2B-E5A6-401D-A351-3EF7EE60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09482-7E04-401B-BC8E-1BCF6B90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8C365-EDD0-4DDA-89C0-7867AA3C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BCE4E-3857-4914-A126-FDA2B2A6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B3482-5A03-4926-90DD-DEFDEFD6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B70C4-40AB-4F85-880D-4F596E35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9EB90-AC94-4CE3-BC63-5CDEF1729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27F74-0D72-4D58-A38F-557284AD3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2FBFD-ABA6-4E30-86E5-14EA59E1B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3214A-D7E6-4DD8-8CDF-E68628E3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2D753-C9B5-4D95-B724-FC6EA973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A4CA-13FD-47D4-B138-DB01111E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14342-3866-4DE3-8508-25AEDE25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20A45-9753-4AD5-9E80-FE06F2EF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A2A68-40ED-49BD-B5CF-58D80439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5E416-3671-4E3C-9A42-A5069C7F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3C03B-BD85-46E2-99A6-0FE2C7C6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57793-D3BD-4E66-BC77-9A955B57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E3396-91FA-4C6F-A6D2-4813660F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C8C72-3FC1-4AD1-A82F-A94EBD42A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F3836-2C84-446C-996D-6E9D508C0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2D327-15D7-4ED9-A864-F04E2A269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C027-0F3D-4BFF-A491-CC124094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094EE-A4A6-441D-AFAA-B2926A00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ED5E3-9D85-447B-9874-79A915ED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E0857-9398-46D3-9572-CC283E70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442D0-B423-46B2-903D-DE0A7A14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9136B-ACB9-4876-8D03-C101D8E7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4D5D8-1B86-4A40-9838-FAA0D981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4509D-2DA3-462B-A95C-EDF9C2E4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5537F-78F4-4FCB-A7A2-17B8F12C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1C02B-317B-442F-8BD5-FDB7D93A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FB284-FA3A-4EB6-8176-7BB6A36FA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9875-39BD-49EB-865D-2F1FBD36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E9710-D427-4FC4-BB34-18FBA564C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410B4-71B2-4442-8391-3FFD09051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5FB42-EFD5-45E9-BFBD-6FBD5C85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3892B-A33E-464E-AA5D-7F4F05F7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71E19-AFFE-460D-8589-84B4B30D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6F86E-2A98-423F-BC90-6E58DD70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91904-34DE-4A67-A1C9-DF313512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2EFBF-1E37-4F48-B426-DA1E31BC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01C55-2829-4225-A14A-D88A420F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4AD43-0549-415E-871E-402B8E9E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FB63-1413-4E22-9669-BF5F4B57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91DD1-0685-4A12-BFC9-AC052BD1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5F05A-5DE3-4CD5-A7A7-5F8F611E8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C5D5F-10A2-475D-AF35-DAD08CE5B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8232C-0C92-4E8E-80F2-8D6916530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0242E-CB3E-41C5-912B-B5D36DC1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B2323-CD69-407F-AE7B-AB157F1E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06A17-1AED-4B6F-A8EC-65C1A3E1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0A73D-95B8-4A28-9C4B-00BB7F08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0A142-CB95-480C-ACA3-F9F8CF45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48102-D4CB-4A63-B954-760054C1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A0A6-8BF6-435E-B5BF-FFDC0F71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D69EE-E148-4CD9-BA99-543B2D8B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9C88F-D51C-42F5-9301-A3286ED1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C2132-7713-469B-9EF1-564EB2F4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AA5BB-490D-4847-B1EA-E1A8F772E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55EE9-89A1-4542-9E02-689A71105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16165-FDC1-4B94-9EAF-ECCD98145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8E0E2-E295-429A-A386-612F8D13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D633E-973D-4FB9-8488-347A410F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B0D6F-4916-4923-876B-B5092C8C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D6F90-14C3-4991-BD69-BB4EE886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5742-F3B1-4CB5-9E5F-195C9DC5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7C485-FF99-4D65-9EBB-1A481DF0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F444B-834F-4CF3-B85F-EBBECC77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42AC6-C8D3-4104-96F6-77C6AA79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119C2-D3E2-4F59-B87A-0E2D0F13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BCD69-31DB-47DA-B4A6-A9C36101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6B742-D606-49DC-8A50-3493A1B57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78B0B-980E-4FCE-B257-C23CEABA3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143E88-47CD-47D5-B9B8-0D1C6B8F7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12ECC2-A152-4C46-9F5C-ED8CE69A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46E34-256B-44C3-A5EB-21ED42FE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5E8C-BDDB-4288-A7E1-257A8526AA0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0F0A-E57D-4EF6-9259-93D2E051B6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F6C8-B9A2-4F8A-8914-8C677985F32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A588-8FD8-4C1A-B5A7-1FA48C2DCE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2BC6-49D4-466B-8FFF-25583DBFA0E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81E9-B15A-4128-89FF-4FEE2ABB66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D986F-3FC1-42F5-9C58-4A33A4C7D0F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8B44-62A7-47A4-A24A-4063DE4D3F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3AD6-B926-4261-8594-F8896FB4097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7487-6EE7-4498-9659-6C9A38EB26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2F18-11E3-42E9-A58D-BECAF94749E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23F6-8569-4093-A815-436E192AD0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266A-7B3A-416D-A7A4-36A207EF670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A665-CD09-4CEF-B5DB-7C6C002F19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03C1-E59F-4CDC-9F2A-79CE912B5AC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CF17-C95B-41EA-89F1-135430AAD1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12F1-E8FD-48F5-8F27-D0C0F479E4F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FB92-E906-49D1-98DE-2ED4D12DF0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gif"/><Relationship Id="rId8" Type="http://schemas.openxmlformats.org/officeDocument/2006/relationships/image" Target="../media/image31.jpeg"/><Relationship Id="rId9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29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езентация к уроку алгебры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8 класс)</a:t>
            </a:r>
            <a:br>
              <a:rPr sz="24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«Преобразование выражений, содержащих операцию извлечения квадратного корня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ель математики Косова В.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БОУ гимназия № 9 Г. Ставропо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Рисунок 1" descr=""/>
          <p:cNvPicPr/>
          <p:nvPr/>
        </p:nvPicPr>
        <p:blipFill>
          <a:blip r:embed="rId1"/>
          <a:stretch/>
        </p:blipFill>
        <p:spPr>
          <a:xfrm>
            <a:off x="192240" y="4724280"/>
            <a:ext cx="1623960" cy="1719360"/>
          </a:xfrm>
          <a:prstGeom prst="rect">
            <a:avLst/>
          </a:prstGeom>
          <a:ln w="0">
            <a:noFill/>
          </a:ln>
        </p:spPr>
      </p:pic>
      <p:sp>
        <p:nvSpPr>
          <p:cNvPr id="44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38 -0.03518 C 0.00104 0.14537 0.0217 0.12708 0.07865 0.12292 C 0.16059 0.12292 0.16667 -0.7206 0.26459 -0.72361 C 0.35261 -0.72361 0.30556 0.01412 0.39028 0.01088 C 0.47882 0.01088 0.43125 -0.52292 0.52587 -0.52292 C 0.61059 -0.52292 0.56354 -0.16296 0.63906 -0.16296 C 0.71181 -0.16296 0.67413 -0.43773 0.74028 -0.43773 C 0.77795 -0.43773 0.78073 -0.36296 0.78403 -0.30556 E">
                                      <p:cBhvr>
                                        <p:cTn id="15" dur="5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0.29398 C -2.22222E-006 -0.09352 0.0875 0.06204 0.19427 0.06204 C 0.30434 0.06204 0.39202 -0.09352 0.39202 -0.29398 C 0.39202 -0.49468 0.47952 -0.65 0.58959 -0.65 C 0.69636 -0.65 0.78403 -0.49468 0.78403 -0.29398 E">
                                      <p:cBhvr>
                                        <p:cTn id="18" dur="5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" nodeType="after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0.29931 C -2.22222E-006 -0.50301 0.0875 -0.66065 0.19427 -0.66065 C 0.30434 -0.66065 0.39202 -0.50301 0.39202 -0.29931 C 0.39202 -0.09583 0.47952 0.06204 0.58959 0.06204 C 0.69636 0.06204 0.78403 -0.09583 0.78403 -0.29931 E">
                                      <p:cBhvr>
                                        <p:cTn id="21" dur="5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" nodeType="after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0.31505 C -2.22222E-006 -0.10278 0.08837 0.06204 0.19618 0.06204 C 0.30729 0.06204 0.39584 -0.10278 0.39584 -0.31505 C 0.39584 -0.52755 0.48438 -0.69213 0.59549 -0.69213 C 0.7033 -0.69213 0.79184 -0.52755 0.79184 -0.31505 E">
                                      <p:cBhvr>
                                        <p:cTn id="24" dur="5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Рисунок 1" descr=""/>
          <p:cNvPicPr/>
          <p:nvPr/>
        </p:nvPicPr>
        <p:blipFill>
          <a:blip r:embed="rId1"/>
          <a:stretch/>
        </p:blipFill>
        <p:spPr>
          <a:xfrm>
            <a:off x="635040" y="819000"/>
            <a:ext cx="912600" cy="965520"/>
          </a:xfrm>
          <a:prstGeom prst="rect">
            <a:avLst/>
          </a:prstGeom>
          <a:ln w="0">
            <a:noFill/>
          </a:ln>
        </p:spPr>
      </p:pic>
      <p:pic>
        <p:nvPicPr>
          <p:cNvPr id="444" name="Рисунок 2" descr=""/>
          <p:cNvPicPr/>
          <p:nvPr/>
        </p:nvPicPr>
        <p:blipFill>
          <a:blip r:embed="rId2"/>
          <a:stretch/>
        </p:blipFill>
        <p:spPr>
          <a:xfrm>
            <a:off x="4859280" y="111240"/>
            <a:ext cx="1081080" cy="1144440"/>
          </a:xfrm>
          <a:prstGeom prst="rect">
            <a:avLst/>
          </a:prstGeom>
          <a:ln w="0">
            <a:noFill/>
          </a:ln>
        </p:spPr>
      </p:pic>
      <p:pic>
        <p:nvPicPr>
          <p:cNvPr id="445" name="Рисунок 3" descr=""/>
          <p:cNvPicPr/>
          <p:nvPr/>
        </p:nvPicPr>
        <p:blipFill>
          <a:blip r:embed="rId3"/>
          <a:stretch/>
        </p:blipFill>
        <p:spPr>
          <a:xfrm>
            <a:off x="2484360" y="1341360"/>
            <a:ext cx="1023840" cy="1084320"/>
          </a:xfrm>
          <a:prstGeom prst="rect">
            <a:avLst/>
          </a:prstGeom>
          <a:ln w="0">
            <a:noFill/>
          </a:ln>
        </p:spPr>
      </p:pic>
      <p:pic>
        <p:nvPicPr>
          <p:cNvPr id="446" name="Рисунок 4" descr=""/>
          <p:cNvPicPr/>
          <p:nvPr/>
        </p:nvPicPr>
        <p:blipFill>
          <a:blip r:embed="rId4"/>
          <a:stretch/>
        </p:blipFill>
        <p:spPr>
          <a:xfrm>
            <a:off x="7308720" y="1200240"/>
            <a:ext cx="1103400" cy="1168200"/>
          </a:xfrm>
          <a:prstGeom prst="rect">
            <a:avLst/>
          </a:prstGeom>
          <a:ln w="0">
            <a:noFill/>
          </a:ln>
        </p:spPr>
      </p:pic>
      <p:pic>
        <p:nvPicPr>
          <p:cNvPr id="447" name="Рисунок 5" descr=""/>
          <p:cNvPicPr/>
          <p:nvPr/>
        </p:nvPicPr>
        <p:blipFill>
          <a:blip r:embed="rId5"/>
          <a:stretch/>
        </p:blipFill>
        <p:spPr>
          <a:xfrm>
            <a:off x="-5076720" y="3295800"/>
            <a:ext cx="3892320" cy="2528640"/>
          </a:xfrm>
          <a:prstGeom prst="rect">
            <a:avLst/>
          </a:prstGeom>
          <a:ln w="0">
            <a:noFill/>
          </a:ln>
        </p:spPr>
      </p:pic>
      <p:pic>
        <p:nvPicPr>
          <p:cNvPr id="448" name="Рисунок 6" descr=""/>
          <p:cNvPicPr/>
          <p:nvPr/>
        </p:nvPicPr>
        <p:blipFill>
          <a:blip r:embed="rId6"/>
          <a:stretch/>
        </p:blipFill>
        <p:spPr>
          <a:xfrm>
            <a:off x="9144000" y="2924280"/>
            <a:ext cx="4927680" cy="3203640"/>
          </a:xfrm>
          <a:prstGeom prst="rect">
            <a:avLst/>
          </a:prstGeom>
          <a:ln w="0">
            <a:noFill/>
          </a:ln>
        </p:spPr>
      </p:pic>
      <p:pic>
        <p:nvPicPr>
          <p:cNvPr id="449" name="Рисунок 7" descr=""/>
          <p:cNvPicPr/>
          <p:nvPr/>
        </p:nvPicPr>
        <p:blipFill>
          <a:blip r:embed="rId7"/>
          <a:stretch/>
        </p:blipFill>
        <p:spPr>
          <a:xfrm>
            <a:off x="-2495520" y="4186080"/>
            <a:ext cx="2006640" cy="1662120"/>
          </a:xfrm>
          <a:prstGeom prst="rect">
            <a:avLst/>
          </a:prstGeom>
          <a:ln w="0">
            <a:noFill/>
          </a:ln>
        </p:spPr>
      </p:pic>
      <p:pic>
        <p:nvPicPr>
          <p:cNvPr id="450" name="Рисунок 10" descr=""/>
          <p:cNvPicPr/>
          <p:nvPr/>
        </p:nvPicPr>
        <p:blipFill>
          <a:blip r:embed="rId8"/>
          <a:stretch/>
        </p:blipFill>
        <p:spPr>
          <a:xfrm>
            <a:off x="9178920" y="3192480"/>
            <a:ext cx="2665440" cy="2824200"/>
          </a:xfrm>
          <a:prstGeom prst="rect">
            <a:avLst/>
          </a:prstGeom>
          <a:ln w="0">
            <a:noFill/>
          </a:ln>
        </p:spPr>
      </p:pic>
      <p:sp>
        <p:nvSpPr>
          <p:cNvPr id="4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608 0.05741 L 1.60625 0.05231 E">
                                      <p:cBhvr>
                                        <p:cTn id="30" dur="5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611 0.06065 L -1.62465 0.06273 E">
                                      <p:cBhvr>
                                        <p:cTn id="33" dur="5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201 -0.0088 L 1.37674 -0.01968 E">
                                      <p:cBhvr>
                                        <p:cTn id="36" dur="5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8 0.03865 L -1.61024 0.04143 E">
                                      <p:cBhvr>
                                        <p:cTn id="39" dur="5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веты к тест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394920" y="126792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1 вариан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2вариан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(а)                                                             № 3(а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(а)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02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№ 5(а)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36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(а)                                                             № 6 (а)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(а)                                                            № 7(а)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ритерии оценки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(а), № 6(а) –оценка «3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(а), № 6(а), № 5(а) –оценка «4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(а), № 6(а), № 5(а), № 7(а) –оценка «5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4" name="Объект 3"/>
          <p:cNvGraphicFramePr/>
          <p:nvPr/>
        </p:nvGraphicFramePr>
        <p:xfrm>
          <a:off x="1403280" y="1628640"/>
          <a:ext cx="1081080" cy="5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628640"/>
                    <a:ext cx="108108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Объект 4"/>
          <p:cNvGraphicFramePr/>
          <p:nvPr/>
        </p:nvGraphicFramePr>
        <p:xfrm>
          <a:off x="5724360" y="1700280"/>
          <a:ext cx="935280" cy="5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7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4360" y="1700280"/>
                    <a:ext cx="9352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8" name="Объект 5"/>
          <p:cNvGraphicFramePr/>
          <p:nvPr/>
        </p:nvGraphicFramePr>
        <p:xfrm>
          <a:off x="1403280" y="3068640"/>
          <a:ext cx="72072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9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3068640"/>
                    <a:ext cx="7207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Объект 6"/>
          <p:cNvGraphicFramePr/>
          <p:nvPr/>
        </p:nvGraphicFramePr>
        <p:xfrm>
          <a:off x="5796000" y="2997360"/>
          <a:ext cx="647640" cy="431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1" name="Объект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96000" y="2997360"/>
                    <a:ext cx="647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Объект 7"/>
          <p:cNvGraphicFramePr/>
          <p:nvPr/>
        </p:nvGraphicFramePr>
        <p:xfrm>
          <a:off x="1476360" y="3789360"/>
          <a:ext cx="863640" cy="431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3" name="Объект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76360" y="3789360"/>
                    <a:ext cx="863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Объект 8"/>
          <p:cNvGraphicFramePr/>
          <p:nvPr/>
        </p:nvGraphicFramePr>
        <p:xfrm>
          <a:off x="5435640" y="3789360"/>
          <a:ext cx="1081080" cy="431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5" name="Объект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35640" y="3789360"/>
                    <a:ext cx="10810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рка домашнего зад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394920" y="1196640"/>
            <a:ext cx="820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№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15.65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)                                           г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№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15.79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81" name="Объект 5"/>
          <p:cNvGraphicFramePr/>
          <p:nvPr/>
        </p:nvGraphicFramePr>
        <p:xfrm>
          <a:off x="4514760" y="3340080"/>
          <a:ext cx="11448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4008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Объект 6"/>
          <p:cNvGraphicFramePr/>
          <p:nvPr/>
        </p:nvGraphicFramePr>
        <p:xfrm>
          <a:off x="2268360" y="1197000"/>
          <a:ext cx="208764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4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1197000"/>
                    <a:ext cx="20876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Объект 7"/>
          <p:cNvGraphicFramePr/>
          <p:nvPr/>
        </p:nvGraphicFramePr>
        <p:xfrm>
          <a:off x="5651640" y="1197000"/>
          <a:ext cx="2305080" cy="79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6" name="Объект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51640" y="1197000"/>
                    <a:ext cx="23050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Объект 8"/>
          <p:cNvGraphicFramePr/>
          <p:nvPr/>
        </p:nvGraphicFramePr>
        <p:xfrm>
          <a:off x="2195640" y="2637000"/>
          <a:ext cx="4680000" cy="93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8" name="Объект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95640" y="2637000"/>
                    <a:ext cx="468000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Объект 9"/>
          <p:cNvGraphicFramePr/>
          <p:nvPr/>
        </p:nvGraphicFramePr>
        <p:xfrm>
          <a:off x="1042920" y="3860640"/>
          <a:ext cx="5977080" cy="936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0" name="Объект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42920" y="3860640"/>
                    <a:ext cx="597708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Объект 10"/>
          <p:cNvGraphicFramePr/>
          <p:nvPr/>
        </p:nvGraphicFramePr>
        <p:xfrm>
          <a:off x="1187280" y="5157720"/>
          <a:ext cx="5113440" cy="1079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92" name="Объект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87280" y="5157720"/>
                    <a:ext cx="511344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еобразование выражений, содержащих операцию извлечения квадратного корн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сторическая справ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826920" y="1267920"/>
            <a:ext cx="7345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рифметический корень произошел от латинского слова radix – корень, radicalis – коренно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чиная с 13 века итальянские и другие европейские математики обозначали корень латинским словом radix ( сокращенно r). В 1525 г. в книге Х.Рудольфа “Быстрый и красивый счет при помощи искусных правил алгебры, обычно называемых Косс” появилось обозначение V для квадратного корня,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VV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для кубического. В 1626 г. голландский математик А. Жирар ввел обозначения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V и т. д., которые вскоре вытеснили знак r, при этом над подкоренным выражением ставилась горизонтальная черта. Современное обозначение корня впервые появилось в книге Рене Декарта “Геометрия”, изданной в 1637 год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99" name="Объект 4"/>
          <p:cNvGraphicFramePr/>
          <p:nvPr/>
        </p:nvGraphicFramePr>
        <p:xfrm>
          <a:off x="3780000" y="4437000"/>
          <a:ext cx="11412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4437000"/>
                    <a:ext cx="11412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Объект 5"/>
          <p:cNvGraphicFramePr/>
          <p:nvPr/>
        </p:nvGraphicFramePr>
        <p:xfrm>
          <a:off x="3492360" y="4437000"/>
          <a:ext cx="127080" cy="16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2" name="Объект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4437000"/>
                    <a:ext cx="127080" cy="1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стная рабо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394920" y="1125360"/>
            <a:ext cx="8064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числить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нести множитель из-под знака корн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нести множитель под знак корн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6" name="Объект 3"/>
          <p:cNvGraphicFramePr/>
          <p:nvPr/>
        </p:nvGraphicFramePr>
        <p:xfrm>
          <a:off x="2627280" y="1268280"/>
          <a:ext cx="345744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268280"/>
                    <a:ext cx="34574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Объект 4"/>
          <p:cNvGraphicFramePr/>
          <p:nvPr/>
        </p:nvGraphicFramePr>
        <p:xfrm>
          <a:off x="1187280" y="2492280"/>
          <a:ext cx="3313440" cy="60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9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2492280"/>
                    <a:ext cx="3313440" cy="6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Объект 5"/>
          <p:cNvGraphicFramePr/>
          <p:nvPr/>
        </p:nvGraphicFramePr>
        <p:xfrm>
          <a:off x="1332000" y="4005360"/>
          <a:ext cx="3527280" cy="64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1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4005360"/>
                    <a:ext cx="35272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Найдите ошибк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24000" y="119664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5" name="Объект 3"/>
          <p:cNvGraphicFramePr/>
          <p:nvPr/>
        </p:nvGraphicFramePr>
        <p:xfrm>
          <a:off x="971640" y="1125360"/>
          <a:ext cx="2808360" cy="6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125360"/>
                    <a:ext cx="280836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Объект 4"/>
          <p:cNvGraphicFramePr/>
          <p:nvPr/>
        </p:nvGraphicFramePr>
        <p:xfrm>
          <a:off x="1116000" y="1989000"/>
          <a:ext cx="2592360" cy="75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8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00" y="1989000"/>
                    <a:ext cx="2592360" cy="7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Объект 5"/>
          <p:cNvGraphicFramePr/>
          <p:nvPr/>
        </p:nvGraphicFramePr>
        <p:xfrm>
          <a:off x="1116000" y="2852640"/>
          <a:ext cx="3743280" cy="77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0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16000" y="2852640"/>
                    <a:ext cx="37432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Объект 6"/>
          <p:cNvGraphicFramePr/>
          <p:nvPr/>
        </p:nvGraphicFramePr>
        <p:xfrm>
          <a:off x="1187280" y="3789360"/>
          <a:ext cx="4032360" cy="736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2" name="Объект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87280" y="3789360"/>
                    <a:ext cx="403236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Записать в тетрад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611280" y="1268280"/>
            <a:ext cx="792144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формулу квадратного корня из произведе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формулу квадратного корня из частног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формулу квадратного корня из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6" name="Объект 5"/>
          <p:cNvGraphicFramePr/>
          <p:nvPr/>
        </p:nvGraphicFramePr>
        <p:xfrm>
          <a:off x="6588000" y="2924280"/>
          <a:ext cx="79236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0" y="2924280"/>
                    <a:ext cx="7923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к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900000" y="1268280"/>
            <a:ext cx="73440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1" name="Объект 3"/>
          <p:cNvGraphicFramePr/>
          <p:nvPr/>
        </p:nvGraphicFramePr>
        <p:xfrm>
          <a:off x="1547640" y="1341360"/>
          <a:ext cx="3024360" cy="5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341360"/>
                    <a:ext cx="302436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Объект 4"/>
          <p:cNvGraphicFramePr/>
          <p:nvPr/>
        </p:nvGraphicFramePr>
        <p:xfrm>
          <a:off x="1692360" y="2133720"/>
          <a:ext cx="2735280" cy="81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4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2133720"/>
                    <a:ext cx="2735280" cy="8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Объект 5"/>
          <p:cNvGraphicFramePr/>
          <p:nvPr/>
        </p:nvGraphicFramePr>
        <p:xfrm>
          <a:off x="1835280" y="3141720"/>
          <a:ext cx="2305080" cy="69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6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35280" y="3141720"/>
                    <a:ext cx="230508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Рисунок 1" descr=""/>
          <p:cNvPicPr/>
          <p:nvPr/>
        </p:nvPicPr>
        <p:blipFill>
          <a:blip r:embed="rId1"/>
          <a:stretch/>
        </p:blipFill>
        <p:spPr>
          <a:xfrm>
            <a:off x="3492360" y="2286000"/>
            <a:ext cx="2159280" cy="2286000"/>
          </a:xfrm>
          <a:prstGeom prst="rect">
            <a:avLst/>
          </a:prstGeom>
          <a:ln w="0">
            <a:noFill/>
          </a:ln>
        </p:spPr>
      </p:pic>
      <p:pic>
        <p:nvPicPr>
          <p:cNvPr id="439" name="Рисунок 2" descr=""/>
          <p:cNvPicPr/>
          <p:nvPr/>
        </p:nvPicPr>
        <p:blipFill>
          <a:blip r:embed="rId2"/>
          <a:stretch/>
        </p:blipFill>
        <p:spPr>
          <a:xfrm>
            <a:off x="3203640" y="0"/>
            <a:ext cx="2539800" cy="2286000"/>
          </a:xfrm>
          <a:prstGeom prst="rect">
            <a:avLst/>
          </a:prstGeom>
          <a:ln w="0">
            <a:noFill/>
          </a:ln>
        </p:spPr>
      </p:pic>
      <p:sp>
        <p:nvSpPr>
          <p:cNvPr id="4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3.33333E-006 C 0.23975 3.33333E-006 0.41232 0.16157 0.41232 0.36088 C 0.41232 0.55972 0.23975 0.72152 0.02829 0.72152 C -0.18316 0.72152 -0.35521 0.55972 -0.35521 0.36088 C -0.35521 0.16157 -0.18316 3.33333E-006 0.02829 3.33333E-006 Z">
                                      <p:cBhvr>
                                        <p:cTn id="6" dur="5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33333E-006 C 0.2106 3.33333E-006 0.38195 0.15926 0.38195 0.35555 C 0.38195 0.55185 0.2106 0.71111 -4.72222E-006 0.71111 C -0.21093 0.71111 -0.38194 0.55185 -0.38194 0.35555 C -0.38194 0.15926 -0.21093 3.33333E-006 -4.72222E-006 3.33333E-006 Z">
                                      <p:cBhvr>
                                        <p:cTn id="9" dur="5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7T09:12:03Z</dcterms:created>
  <dc:creator>EVA</dc:creator>
  <dc:description/>
  <dc:language>en-US</dc:language>
  <cp:lastModifiedBy>LEGION</cp:lastModifiedBy>
  <dcterms:modified xsi:type="dcterms:W3CDTF">2015-01-26T10:35:21Z</dcterms:modified>
  <cp:revision>13</cp:revision>
  <dc:subject/>
  <dc:title>Проверка домашнего задания:</dc:title>
</cp:coreProperties>
</file>