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26A6-0086-415E-B953-ED7730B69B3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A6E4-31FE-4C52-9FDF-945DF9558CB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(а)  102                                               № 5(а)    36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7FF-4D80-4D13-8579-361B15717B2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AA0E-E253-4732-AD94-137680C6FE9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ABE-4BF8-465B-81EA-53202C148CA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A70-70DA-4D4A-8744-1FE704478EF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0350-EE67-44BB-A1E3-FACB386D999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45ED-A9A3-4F08-8C5B-A89C1ED075E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EAA-6810-470B-A036-213874EF0EF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E2E-5035-442C-886E-8EBB810F6EB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440-213E-4B9C-8CB0-2F8CC734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544-5DEC-46A0-8CFB-26B9D7E6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5B3BE-938B-4135-99BC-EAD515B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9762-205C-4959-8415-B14A39EF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13EDA-7075-444E-A2F3-16EE28F7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7A8A9-2E1B-4904-A3BA-1FC9302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E13A8-1674-4488-BA97-A8B97D7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0244E-4493-4A50-A956-79E309F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987B8-E37C-4E2A-8497-DFD36F0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53932-D22B-4088-B2FC-4C860470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D0778-BB2C-4D84-B52B-56A2D6F2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907-C7A4-48D5-98B8-D98E5F6C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F97-6045-4A13-8CDC-4AC4401E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1AA4-C582-4FCF-9F70-690CB9B2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7645-52A0-4A14-AF30-3B038DC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1222-9637-4ADE-9A1E-CFD1DAF1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D416-BA33-47A9-821C-200F8AC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C19B-B46F-421F-8953-ABBE324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614-4F9B-4DBE-8178-28240285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4A13-ED8A-46FD-9E5B-A31818F8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FE2-C250-4294-B7D7-2D77D7B0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4085-A395-484F-B2C0-A186F82D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8C0E-6756-4BF1-8C26-CC2D502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E162-6775-4FA8-B921-52A2B0C1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CA47-B379-425E-BD66-F0690123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76EA-8EFF-4DF0-A530-E40FC9F6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2DBD-7081-43CF-8804-CF028CFA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C38C-5C17-4895-B17E-B07F49E4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09EC-D1C4-4328-A420-53C30458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58B1-80AF-4138-B599-C7176804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58E5-F2A9-485B-B90E-949C1568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FB8-16C4-432F-8099-8555B47C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2B01-3FD0-44C0-A58B-DC16CC9F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B44F-3041-4D89-B382-9C597295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97DF-541D-423E-88A1-425516FE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E21A7-BBFC-4EBE-8E1D-D2C1945D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D5B8-14CC-48C1-B496-D6BA9F9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EA3D-33FE-45E5-9CE3-5CBCE41F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9EA7-877E-452D-A419-A93B456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7192-1E40-4FDE-9937-309B855A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835D-16DB-446F-9450-0CABE08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C2D8-148A-43F8-A766-5A990CB2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E31-946C-46B8-9E0E-5F760F9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647D-206C-42E1-98BA-CB1B6A4B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7FB5-AAB1-4886-AC10-88DFB106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2732A-F327-4A82-A1A4-77BE4F7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AD2B-E9F2-4EA3-AAEC-E923EDCD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2441-B87C-4778-ABC2-C5013B2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9B36-F797-4EAF-9476-F6F3A3C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6761-B7D7-4F9A-84FB-FAEBE246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B0B2-E2A2-4879-B418-15D6FF31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B6342-A275-40BD-BA8C-C7D5437A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056C2-4F25-413A-9618-62BC013C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5D3-8513-449C-9C11-32EFE2D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6FD7-7D3F-44E9-BC91-816DBD4D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A2BA-8A8C-4453-8CD5-7F7B69BC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719A-CCE7-4365-BBF6-8D991DA9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26A86-0949-4964-B655-49A0FF6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B3DA-8B7F-4599-B87A-FA6773B5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ED786-ADE4-4C2E-9BA3-ADD62D8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9729-9E29-48D3-9AB1-4CD8F13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94127-F978-4F22-8FE0-DEEE85CF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16F4-BBAA-4760-9AB3-91EAC463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716D-6A50-44C5-B3D5-CD800EDA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7C4-B2F9-42F3-909B-C5A5C5F8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A5935-3362-4B99-9042-B7492345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214FD-7F14-4C75-8DFB-34DECA61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C635-82CE-40DF-B30F-0DBA8B6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D449-40FD-4E6D-8299-90B1DAF5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A4E6-7B94-4545-A685-965E24E2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08BAF-8F2B-4714-929F-FC380732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3861-6643-48DE-8D3C-D720E77C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EC67-1E32-46D1-8475-1C22595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17D7E-C7B2-4278-80F0-34CADB9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080D-EEC5-4594-8C13-FA6A385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783-E224-43DC-9B0D-D51F4A3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90D3-B789-4FE5-A020-382E83FB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62D1E-A65E-4318-807B-999BB2EA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28C70-4C1C-4B9C-8C9F-1576B223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7475-0B7E-44F0-8464-3E9FF03A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59D75-4028-40A1-A0D9-AFCB9E69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3D5B-6FF1-4296-8A41-D3799D6E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4983-A7AA-43C2-9E29-C97453E6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82085-90FB-4478-84E9-F85E0A4B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2FD1-24B0-45F9-9719-B05D6E75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D6CE8-C466-48B4-ACEE-57D24A4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4A2-3900-4457-BBDA-EBB18373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07995-5A2A-44B2-8E73-036960C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06530-33DA-4106-B398-6D58C8A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E841D-CFCC-40F6-B105-45A0D30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F9546-3E5E-463C-A6C5-431B698A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DF88-55F6-483A-A13F-CD5D4636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09008-D35D-4EF7-9100-83C2B708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CAA91-AE9A-4BA4-8FFB-B80078A5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7C20-6B54-458A-A843-85DE978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4CF97-3A90-402F-ADD2-C61121FE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DE53E-20C8-4E06-A7D0-28E97033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F63-AB09-41F4-83E1-49BC2D53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16DF4-8D01-4713-A647-8AD04C37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636B5-4C7D-482D-B745-BF150B6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05C6D-1B93-4465-8788-E10951B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E7BFE-DD6B-4E97-8EC8-27E4BFB2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49F98-A851-4A51-A1AD-8DE873FD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308CA-F198-4724-9BB6-C2E57FEF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2BAB-427C-44C1-8BFF-8F588E7E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2C2FB-5F98-43B1-9628-F10B14E7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FA5B0-93D1-4979-8787-B122D26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FF658-1740-4D29-A935-2097B16D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BA13-EC27-4D70-A8CD-A234C5A351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7900-E8E7-43ED-87BE-788BFC712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6CB-8124-43D0-A60D-26B84CC1445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6B2E-238E-4FAC-90FD-9DE67AE16C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C91E-E700-4ED1-8967-FA940B0A72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228-6341-4801-B58F-D5D0787CF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BFF6-4854-4BE0-9715-FE84217784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DF41-AF6B-464B-B5F0-CD5AF01AA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0787-C9A2-491D-9C93-A525B102DA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AF87-2FEF-4F1E-824D-ADA62F768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76C-13DF-4F69-B4BE-E732329770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4BF6-F853-4F76-BCBB-8A65E2CCF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700F-8BA4-45DD-B498-7E7FC6BFA2D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E084-EB19-4E4A-B6E3-FFE927EEC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18A0-5294-4B0D-BF34-4DDD0AA6A6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6DDC-5C3A-4ECB-80FD-A285A23F75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6F4F-3D9A-4615-84D4-730164D5D1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2597-0727-4ED9-92A0-E0C609DCE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gi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192240" y="4724280"/>
            <a:ext cx="1623960" cy="171936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3518 C 0.00104 0.14537 0.0217 0.12708 0.07865 0.12292 C 0.16059 0.12292 0.16667 -0.7206 0.26459 -0.72361 C 0.35261 -0.72361 0.30556 0.01412 0.39028 0.01088 C 0.47882 0.01088 0.43125 -0.52292 0.52587 -0.52292 C 0.61059 -0.52292 0.56354 -0.16296 0.63906 -0.16296 C 0.71181 -0.16296 0.67413 -0.43773 0.74028 -0.43773 C 0.77795 -0.43773 0.78073 -0.36296 0.78403 -0.30556 E">
                                      <p:cBhvr>
                                        <p:cTn id="1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398 C -2.22222E-006 -0.09352 0.0875 0.06204 0.19427 0.06204 C 0.30434 0.06204 0.39202 -0.09352 0.39202 -0.29398 C 0.39202 -0.49468 0.47952 -0.65 0.58959 -0.65 C 0.69636 -0.65 0.78403 -0.49468 0.78403 -0.29398 E">
                                      <p:cBhvr>
                                        <p:cTn id="1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931 C -2.22222E-006 -0.50301 0.0875 -0.66065 0.19427 -0.66065 C 0.30434 -0.66065 0.39202 -0.50301 0.39202 -0.29931 C 0.39202 -0.09583 0.47952 0.06204 0.58959 0.06204 C 0.69636 0.06204 0.78403 -0.09583 0.78403 -0.29931 E">
                                      <p:cBhvr>
                                        <p:cTn id="2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1505 C -2.22222E-006 -0.10278 0.08837 0.06204 0.19618 0.06204 C 0.30729 0.06204 0.39584 -0.10278 0.39584 -0.31505 C 0.39584 -0.52755 0.48438 -0.69213 0.59549 -0.69213 C 0.7033 -0.69213 0.79184 -0.52755 0.79184 -0.31505 E">
                                      <p:cBhvr>
                                        <p:cTn id="24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635040" y="819000"/>
            <a:ext cx="912600" cy="9655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" descr=""/>
          <p:cNvPicPr/>
          <p:nvPr/>
        </p:nvPicPr>
        <p:blipFill>
          <a:blip r:embed="rId2"/>
          <a:stretch/>
        </p:blipFill>
        <p:spPr>
          <a:xfrm>
            <a:off x="4859280" y="11124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" descr=""/>
          <p:cNvPicPr/>
          <p:nvPr/>
        </p:nvPicPr>
        <p:blipFill>
          <a:blip r:embed="rId4"/>
          <a:stretch/>
        </p:blipFill>
        <p:spPr>
          <a:xfrm>
            <a:off x="7308720" y="1200240"/>
            <a:ext cx="1103400" cy="11682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"/>
          <p:cNvPicPr/>
          <p:nvPr/>
        </p:nvPicPr>
        <p:blipFill>
          <a:blip r:embed="rId5"/>
          <a:stretch/>
        </p:blipFill>
        <p:spPr>
          <a:xfrm>
            <a:off x="-5076720" y="3295800"/>
            <a:ext cx="3892320" cy="2528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"/>
          <p:cNvPicPr/>
          <p:nvPr/>
        </p:nvPicPr>
        <p:blipFill>
          <a:blip r:embed="rId6"/>
          <a:stretch/>
        </p:blipFill>
        <p:spPr>
          <a:xfrm>
            <a:off x="9144000" y="2924280"/>
            <a:ext cx="4927680" cy="32036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7" descr=""/>
          <p:cNvPicPr/>
          <p:nvPr/>
        </p:nvPicPr>
        <p:blipFill>
          <a:blip r:embed="rId7"/>
          <a:stretch/>
        </p:blipFill>
        <p:spPr>
          <a:xfrm>
            <a:off x="-2495520" y="4186080"/>
            <a:ext cx="200664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"/>
          <p:cNvPicPr/>
          <p:nvPr/>
        </p:nvPicPr>
        <p:blipFill>
          <a:blip r:embed="rId8"/>
          <a:stretch/>
        </p:blipFill>
        <p:spPr>
          <a:xfrm>
            <a:off x="9178920" y="3192480"/>
            <a:ext cx="2665440" cy="28242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5741 L 1.60625 0.05231 E">
                                      <p:cBhvr>
                                        <p:cTn id="30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0.06065 L -1.62465 0.06273 E">
                                      <p:cBhvr>
                                        <p:cTn id="3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-0.0088 L 1.37674 -0.01968 E">
                                      <p:cBhvr>
                                        <p:cTn id="36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 0.03865 L -1.61024 0.04143 E">
                                      <p:cBhvr>
                                        <p:cTn id="39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(а)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№ 5(а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3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Объект 3"/>
          <p:cNvGraphicFramePr/>
          <p:nvPr/>
        </p:nvGraphicFramePr>
        <p:xfrm>
          <a:off x="1403280" y="1628640"/>
          <a:ext cx="10810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1081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4"/>
          <p:cNvGraphicFramePr/>
          <p:nvPr/>
        </p:nvGraphicFramePr>
        <p:xfrm>
          <a:off x="5724360" y="1700280"/>
          <a:ext cx="935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700280"/>
                    <a:ext cx="93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Объект 5"/>
          <p:cNvGraphicFramePr/>
          <p:nvPr/>
        </p:nvGraphicFramePr>
        <p:xfrm>
          <a:off x="1403280" y="3068640"/>
          <a:ext cx="720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72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Объект 6"/>
          <p:cNvGraphicFramePr/>
          <p:nvPr/>
        </p:nvGraphicFramePr>
        <p:xfrm>
          <a:off x="5796000" y="2997360"/>
          <a:ext cx="647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2997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Объект 7"/>
          <p:cNvGraphicFramePr/>
          <p:nvPr/>
        </p:nvGraphicFramePr>
        <p:xfrm>
          <a:off x="1476360" y="3789360"/>
          <a:ext cx="863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378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Объект 8"/>
          <p:cNvGraphicFramePr/>
          <p:nvPr/>
        </p:nvGraphicFramePr>
        <p:xfrm>
          <a:off x="5435640" y="3789360"/>
          <a:ext cx="10810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789360"/>
                    <a:ext cx="10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Объект 5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6"/>
          <p:cNvGraphicFramePr/>
          <p:nvPr/>
        </p:nvGraphicFramePr>
        <p:xfrm>
          <a:off x="2268360" y="1197000"/>
          <a:ext cx="20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9700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7"/>
          <p:cNvGraphicFramePr/>
          <p:nvPr/>
        </p:nvGraphicFramePr>
        <p:xfrm>
          <a:off x="5651640" y="1197000"/>
          <a:ext cx="2305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197000"/>
                    <a:ext cx="2305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Объект 8"/>
          <p:cNvGraphicFramePr/>
          <p:nvPr/>
        </p:nvGraphicFramePr>
        <p:xfrm>
          <a:off x="2195640" y="2637000"/>
          <a:ext cx="468000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637000"/>
                    <a:ext cx="4680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Объект 9"/>
          <p:cNvGraphicFramePr/>
          <p:nvPr/>
        </p:nvGraphicFramePr>
        <p:xfrm>
          <a:off x="1042920" y="3860640"/>
          <a:ext cx="5977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860640"/>
                    <a:ext cx="5977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0"/>
          <p:cNvGraphicFramePr/>
          <p:nvPr/>
        </p:nvGraphicFramePr>
        <p:xfrm>
          <a:off x="1187280" y="5157720"/>
          <a:ext cx="51134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157720"/>
                    <a:ext cx="5113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34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9" name="Объект 4"/>
          <p:cNvGraphicFramePr/>
          <p:nvPr/>
        </p:nvGraphicFramePr>
        <p:xfrm>
          <a:off x="3780000" y="443700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370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Объект 5"/>
          <p:cNvGraphicFramePr/>
          <p:nvPr/>
        </p:nvGraphicFramePr>
        <p:xfrm>
          <a:off x="3492360" y="4437000"/>
          <a:ext cx="127080" cy="1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437000"/>
                    <a:ext cx="127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Объект 3"/>
          <p:cNvGraphicFramePr/>
          <p:nvPr/>
        </p:nvGraphicFramePr>
        <p:xfrm>
          <a:off x="2627280" y="1268280"/>
          <a:ext cx="34574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45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4"/>
          <p:cNvGraphicFramePr/>
          <p:nvPr/>
        </p:nvGraphicFramePr>
        <p:xfrm>
          <a:off x="1187280" y="2492280"/>
          <a:ext cx="33134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92280"/>
                    <a:ext cx="3313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Объект 5"/>
          <p:cNvGraphicFramePr/>
          <p:nvPr/>
        </p:nvGraphicFramePr>
        <p:xfrm>
          <a:off x="1332000" y="4005360"/>
          <a:ext cx="35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05360"/>
                    <a:ext cx="35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Объект 3"/>
          <p:cNvGraphicFramePr/>
          <p:nvPr/>
        </p:nvGraphicFramePr>
        <p:xfrm>
          <a:off x="971640" y="1125360"/>
          <a:ext cx="2808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280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Объект 4"/>
          <p:cNvGraphicFramePr/>
          <p:nvPr/>
        </p:nvGraphicFramePr>
        <p:xfrm>
          <a:off x="1116000" y="1989000"/>
          <a:ext cx="259236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989000"/>
                    <a:ext cx="2592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5"/>
          <p:cNvGraphicFramePr/>
          <p:nvPr/>
        </p:nvGraphicFramePr>
        <p:xfrm>
          <a:off x="1116000" y="2852640"/>
          <a:ext cx="3743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3743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6"/>
          <p:cNvGraphicFramePr/>
          <p:nvPr/>
        </p:nvGraphicFramePr>
        <p:xfrm>
          <a:off x="1187280" y="3789360"/>
          <a:ext cx="40323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78936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Объект 5"/>
          <p:cNvGraphicFramePr/>
          <p:nvPr/>
        </p:nvGraphicFramePr>
        <p:xfrm>
          <a:off x="6588000" y="2924280"/>
          <a:ext cx="792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924280"/>
                    <a:ext cx="792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00000" y="1268280"/>
            <a:ext cx="73440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Объект 3"/>
          <p:cNvGraphicFramePr/>
          <p:nvPr/>
        </p:nvGraphicFramePr>
        <p:xfrm>
          <a:off x="1547640" y="1341360"/>
          <a:ext cx="302436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3024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Объект 4"/>
          <p:cNvGraphicFramePr/>
          <p:nvPr/>
        </p:nvGraphicFramePr>
        <p:xfrm>
          <a:off x="1692360" y="2133720"/>
          <a:ext cx="27352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133720"/>
                    <a:ext cx="273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5"/>
          <p:cNvGraphicFramePr/>
          <p:nvPr/>
        </p:nvGraphicFramePr>
        <p:xfrm>
          <a:off x="1835280" y="3141720"/>
          <a:ext cx="23050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2305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3492360" y="228600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2" descr=""/>
          <p:cNvPicPr/>
          <p:nvPr/>
        </p:nvPicPr>
        <p:blipFill>
          <a:blip r:embed="rId2"/>
          <a:stretch/>
        </p:blipFill>
        <p:spPr>
          <a:xfrm>
            <a:off x="3203640" y="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3.33333E-006 C 0.23975 3.33333E-006 0.41232 0.16157 0.41232 0.36088 C 0.41232 0.55972 0.23975 0.72152 0.02829 0.72152 C -0.18316 0.72152 -0.35521 0.55972 -0.35521 0.36088 C -0.35521 0.16157 -0.18316 3.33333E-006 0.02829 3.33333E-006 Z">
                                      <p:cBhvr>
                                        <p:cTn id="6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0.2106 3.33333E-006 0.38195 0.15926 0.38195 0.35555 C 0.38195 0.55185 0.2106 0.71111 -4.72222E-006 0.71111 C -0.21093 0.71111 -0.38194 0.55185 -0.38194 0.35555 C -0.38194 0.15926 -0.21093 3.33333E-006 -4.72222E-006 3.33333E-006 Z">
                                      <p:cBhvr>
                                        <p:cTn id="9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12:03Z</dcterms:created>
  <dc:creator>EVA</dc:creator>
  <dc:description/>
  <dc:language>en-US</dc:language>
  <cp:lastModifiedBy>LEGION</cp:lastModifiedBy>
  <dcterms:modified xsi:type="dcterms:W3CDTF">2015-01-26T10:35:21Z</dcterms:modified>
  <cp:revision>13</cp:revision>
  <dc:subject/>
  <dc:title>Проверка домашнего задания:</dc:title>
</cp:coreProperties>
</file>