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0.gif" ContentType="image/gif"/>
  <Override PartName="/ppt/media/image16.wmf" ContentType="image/x-wmf"/>
  <Override PartName="/ppt/media/image35.wmf" ContentType="image/x-wmf"/>
  <Override PartName="/ppt/media/image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98FC-C217-4B90-BA56-801EEB5B398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7B30-D73E-4113-A5E2-D09CE24E3FA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(а)  102                                               № 5(а)    36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B1F-F3EF-4711-AE92-E5AED441A87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6B6C-3663-42DE-BA0A-07E91474F39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AC31-9991-4549-BDEA-B03F3775AD8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C111-7DB6-4F9A-9B64-DFF16D56E5D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9AB1-7013-4B8D-8B16-A57942A6523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E2AA-9C7A-4A81-8E90-3905B7FEB33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1DD8-C2B1-4A2D-BF04-A6B76F2DF33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CDBB-D928-4AFB-AEB2-12374DC02DF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3D5-70CC-4F93-A409-714A653F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B12-4D95-4856-8DCC-6B44BDED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8E3DA-F906-4744-9D1A-34CA6C3F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F9866-A8F4-4333-B31A-D32D6DB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B157A-A84E-479B-A44C-FA729AD8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F0EA5-D91B-4F08-985A-6B85ABA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08791-0803-46DB-B08B-3CB13F8B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82A17-9E4B-45C5-882A-5C784DCA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01905-39B8-497B-B34F-0F146D60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F0E4D-1FDB-4CFA-AA89-A48C00B1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B950A-D149-4847-A30F-6175F30F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454-15B1-40E2-A93C-008B6DCB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A52-6B7B-4570-AEEE-63A6A00B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6A8C-3720-4609-BA3B-5278859D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AB3F-D37D-4324-A751-513A14D6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E6DB-A3ED-434D-90FE-7C198EDF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6F53-A674-495B-AD1D-F7C12EAC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DA8F-78DD-43DD-B98A-54CE6576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BD6-81D8-4B5C-8AE2-3A84A02E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2F32-4824-46C9-B145-CE048574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1D3-6C83-4806-A07F-C4ACB5D9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0481-F1E2-4BE1-93BC-DA1A2684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DCE7-D1AB-4AA8-9118-5DF9CE51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2676-83E2-4CC1-A687-A8F85407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D2A3-5081-44D3-9AC2-4F6C7714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59A5-A285-4EF4-A361-BAFAA897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1F1D-2801-4B2A-AB1C-2AA4C288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6331-8566-4C5C-83C2-C8814957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FCA9-1ADE-43C1-9991-F166C6F0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8B28-09FD-41F8-BD91-1CA48802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DF18-4F8E-445D-A266-031224B6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57B-E3CE-48F0-8044-4093CA5D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9359-CA8C-468B-ACFE-44BB3DDE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9B1F-92D1-4D09-BA13-911E49D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3151-7C16-416F-9DF3-77359F1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9291-CA84-4605-AA54-DFAA9B08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F3C8-235F-4054-9035-DCEF8A9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A27E-AA35-4B4D-B16B-9D42C0AF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5656-BE16-40F2-A5C8-2E86E6E8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9790-52E2-42BD-92C0-3F13057F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FE14-C267-45B3-9168-2A4DEF7A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58280-CFAA-42E4-A345-700E0995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B11-DBFC-486E-BAD8-C271B147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3D78-A319-4E5A-B280-572758BD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730F-E4A8-428F-A655-D65A70CA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C6EC-9E2A-47C0-AAF9-3FDF44A8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5F03-D453-4883-8575-BFDC8E1A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816B-7216-444F-B822-9E75829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B44C-C1A5-4DBB-A4CB-67D962B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C69E7-3FBB-41C5-9E37-2604BF8F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32726-DD7F-4E50-82E3-446439F4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9302E-B881-4859-810C-546D52C9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37D0-F799-4C19-BE6A-9FE5DAE6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A59-BAAF-4D6C-9EE5-FA67960E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906D8-D3B4-46EE-A684-6AE91FDB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19A0-0174-49BE-8AE6-30F6E0E2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E8EBD-6105-42B0-AA09-EF1CD0C1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CB160-3CF6-46BD-A7AF-4EB5D7A7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7B3DF-DB3B-4228-B668-FAD1E355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894A-33A8-4B58-B11D-6C20FCB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8F3B0-BD2E-4399-896C-15765EE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5DA9D-0D38-4B60-AD62-6E058CC7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00EDE-8BF4-480D-9E65-BE5BCC20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5947E-539E-41D8-B92D-75182BCF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113-48B4-4E2A-97B0-9415F729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E813-63F6-4F5F-982A-09B8F6C4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15967-B1F5-403C-BF84-EC0F95B4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1760C-7B93-4F37-BD53-EC429B15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8CDE-71E6-4596-8B8D-6BB349BB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708C-8294-48BE-AD45-E608C56E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D64FC-6031-4148-91DD-073E282F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77024-7787-45FD-B0AA-FD83E5C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8A73E-F477-46CF-A6E8-19C0E924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6C005-B912-4315-9E40-350958F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C9DCD-01AF-4B10-ABDC-1E2FB56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05A-1EC6-4E06-B61C-9CA33EB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0485-4F2A-44F0-AC19-DF0C87D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1CDC-848C-4D7E-B76A-DEC85080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4D94B-05A7-4511-A5C6-32B6AD44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455E-F349-4F5D-993F-09FE6438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6416-7452-46DA-9C4F-0762E1E0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2D70E-1954-4D46-A6B1-52919C73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AA0BD-B5A3-4959-A8BC-9240A7C9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D733D-346C-4E81-A98A-607C61C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3398-AF4F-4083-A139-3AB8E418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968EE-B075-428F-A49C-97D5680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AF2-4BDD-41A0-95A4-762258D7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D48FD-E75E-4BF9-8C42-B96C0AD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F94CF-8CE4-40D0-8CF9-7266A66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CFA07-469B-4E88-B415-E6A67975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4811-C744-4C46-9CB1-A8150F02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D1DED-CA40-401C-9DE1-2FC7B11B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FBAB7-C119-4550-A9FC-27254ADF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32C1B-AC84-4A97-9C6A-B9195A1E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0A3DD-512A-40F5-B037-3BB7228E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EAE24-6079-499A-8A48-A81803E1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9C891-7B0F-4B96-B2E7-EAEC7854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ED3-E1FC-4874-9D87-78320A2C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3F578-7A79-45B8-9EBF-80E3302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5BD31-22A0-49FE-993C-8901424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F22A-7E75-4CA6-BC50-5B384AC9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7C559-7B0C-4037-9D8C-A27F9152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EA4D-F1C1-43A3-861A-B45BE32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AF769-771A-4B93-8B25-7B23A69F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6A47-D983-4B6A-A08F-3D84098B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6C887-C365-47E5-AD5F-D27E2AC1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1A6E-2796-47DD-B9B2-96310635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AB4F4-708D-44E3-8CC4-06447121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2753-C7EA-474B-9D51-A9C2E3FDF1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B18D-B869-46FE-A4BA-F612B9D68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46E8-7605-47C1-919E-F79FCCA6011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0553-B6A5-42BA-94F2-F32EF5543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A1AD-2BE3-4990-8F9B-A566B1C24F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6D9D-0ED1-4883-9E4E-862DE168D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760A-4AA7-4BEB-8E01-94DF940495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4A89-04FF-489D-8B49-C7C81A754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B9AA-AACC-4543-924C-43CF16AA6C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20B1-F6B9-4383-9BDA-0D48F4F0C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4964-12B1-469A-AAD5-FA4B180428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E242-C20D-43BA-9C87-B5C6682F3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A809-FE45-4F82-9081-0417D025177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86EC-8049-4334-8A41-D9EB70DD8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F933-8ADC-479B-9021-8F5D2E1651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9DC-E469-4C63-8A70-18BF892ED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7214-F076-45A1-A9D2-3898DB049F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2CD8-C16A-4A76-9DB4-F169DAE22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gif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192240" y="4724280"/>
            <a:ext cx="1623960" cy="171936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-0.03518 C 0.00104 0.14537 0.0217 0.12708 0.07865 0.12292 C 0.16059 0.12292 0.16667 -0.7206 0.26459 -0.72361 C 0.35261 -0.72361 0.30556 0.01412 0.39028 0.01088 C 0.47882 0.01088 0.43125 -0.52292 0.52587 -0.52292 C 0.61059 -0.52292 0.56354 -0.16296 0.63906 -0.16296 C 0.71181 -0.16296 0.67413 -0.43773 0.74028 -0.43773 C 0.77795 -0.43773 0.78073 -0.36296 0.78403 -0.30556 E">
                                      <p:cBhvr>
                                        <p:cTn id="15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398 C -2.22222E-006 -0.09352 0.0875 0.06204 0.19427 0.06204 C 0.30434 0.06204 0.39202 -0.09352 0.39202 -0.29398 C 0.39202 -0.49468 0.47952 -0.65 0.58959 -0.65 C 0.69636 -0.65 0.78403 -0.49468 0.78403 -0.29398 E">
                                      <p:cBhvr>
                                        <p:cTn id="1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931 C -2.22222E-006 -0.50301 0.0875 -0.66065 0.19427 -0.66065 C 0.30434 -0.66065 0.39202 -0.50301 0.39202 -0.29931 C 0.39202 -0.09583 0.47952 0.06204 0.58959 0.06204 C 0.69636 0.06204 0.78403 -0.09583 0.78403 -0.29931 E">
                                      <p:cBhvr>
                                        <p:cTn id="21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1505 C -2.22222E-006 -0.10278 0.08837 0.06204 0.19618 0.06204 C 0.30729 0.06204 0.39584 -0.10278 0.39584 -0.31505 C 0.39584 -0.52755 0.48438 -0.69213 0.59549 -0.69213 C 0.7033 -0.69213 0.79184 -0.52755 0.79184 -0.31505 E">
                                      <p:cBhvr>
                                        <p:cTn id="24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635040" y="819000"/>
            <a:ext cx="912600" cy="9655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2" descr=""/>
          <p:cNvPicPr/>
          <p:nvPr/>
        </p:nvPicPr>
        <p:blipFill>
          <a:blip r:embed="rId2"/>
          <a:stretch/>
        </p:blipFill>
        <p:spPr>
          <a:xfrm>
            <a:off x="4859280" y="111240"/>
            <a:ext cx="1081080" cy="11444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4" descr=""/>
          <p:cNvPicPr/>
          <p:nvPr/>
        </p:nvPicPr>
        <p:blipFill>
          <a:blip r:embed="rId4"/>
          <a:stretch/>
        </p:blipFill>
        <p:spPr>
          <a:xfrm>
            <a:off x="7308720" y="1200240"/>
            <a:ext cx="1103400" cy="11682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"/>
          <p:cNvPicPr/>
          <p:nvPr/>
        </p:nvPicPr>
        <p:blipFill>
          <a:blip r:embed="rId5"/>
          <a:stretch/>
        </p:blipFill>
        <p:spPr>
          <a:xfrm>
            <a:off x="-5076720" y="3295800"/>
            <a:ext cx="3892320" cy="2528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6" descr=""/>
          <p:cNvPicPr/>
          <p:nvPr/>
        </p:nvPicPr>
        <p:blipFill>
          <a:blip r:embed="rId6"/>
          <a:stretch/>
        </p:blipFill>
        <p:spPr>
          <a:xfrm>
            <a:off x="9144000" y="2924280"/>
            <a:ext cx="4927680" cy="320364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7" descr=""/>
          <p:cNvPicPr/>
          <p:nvPr/>
        </p:nvPicPr>
        <p:blipFill>
          <a:blip r:embed="rId7"/>
          <a:stretch/>
        </p:blipFill>
        <p:spPr>
          <a:xfrm>
            <a:off x="-2495520" y="4186080"/>
            <a:ext cx="2006640" cy="16621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"/>
          <p:cNvPicPr/>
          <p:nvPr/>
        </p:nvPicPr>
        <p:blipFill>
          <a:blip r:embed="rId8"/>
          <a:stretch/>
        </p:blipFill>
        <p:spPr>
          <a:xfrm>
            <a:off x="9178920" y="3192480"/>
            <a:ext cx="2665440" cy="28242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0.05741 L 1.60625 0.05231 E">
                                      <p:cBhvr>
                                        <p:cTn id="30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0.06065 L -1.62465 0.06273 E">
                                      <p:cBhvr>
                                        <p:cTn id="3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-0.0088 L 1.37674 -0.01968 E">
                                      <p:cBhvr>
                                        <p:cTn id="36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8 0.03865 L -1.61024 0.04143 E">
                                      <p:cBhvr>
                                        <p:cTn id="39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(а)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№ 5(а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3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4" name="Объект 3"/>
          <p:cNvGraphicFramePr/>
          <p:nvPr/>
        </p:nvGraphicFramePr>
        <p:xfrm>
          <a:off x="1403280" y="1628640"/>
          <a:ext cx="108108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1081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4"/>
          <p:cNvGraphicFramePr/>
          <p:nvPr/>
        </p:nvGraphicFramePr>
        <p:xfrm>
          <a:off x="5724360" y="1700280"/>
          <a:ext cx="9352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700280"/>
                    <a:ext cx="93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Объект 5"/>
          <p:cNvGraphicFramePr/>
          <p:nvPr/>
        </p:nvGraphicFramePr>
        <p:xfrm>
          <a:off x="1403280" y="3068640"/>
          <a:ext cx="720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068640"/>
                    <a:ext cx="720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Объект 6"/>
          <p:cNvGraphicFramePr/>
          <p:nvPr/>
        </p:nvGraphicFramePr>
        <p:xfrm>
          <a:off x="5796000" y="2997360"/>
          <a:ext cx="6476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2997360"/>
                    <a:ext cx="647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Объект 7"/>
          <p:cNvGraphicFramePr/>
          <p:nvPr/>
        </p:nvGraphicFramePr>
        <p:xfrm>
          <a:off x="1476360" y="3789360"/>
          <a:ext cx="8636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378936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Объект 8"/>
          <p:cNvGraphicFramePr/>
          <p:nvPr/>
        </p:nvGraphicFramePr>
        <p:xfrm>
          <a:off x="5435640" y="3789360"/>
          <a:ext cx="10810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789360"/>
                    <a:ext cx="108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Объект 5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6"/>
          <p:cNvGraphicFramePr/>
          <p:nvPr/>
        </p:nvGraphicFramePr>
        <p:xfrm>
          <a:off x="2268360" y="1197000"/>
          <a:ext cx="2087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197000"/>
                    <a:ext cx="2087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7"/>
          <p:cNvGraphicFramePr/>
          <p:nvPr/>
        </p:nvGraphicFramePr>
        <p:xfrm>
          <a:off x="5651640" y="1197000"/>
          <a:ext cx="230508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197000"/>
                    <a:ext cx="2305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Объект 8"/>
          <p:cNvGraphicFramePr/>
          <p:nvPr/>
        </p:nvGraphicFramePr>
        <p:xfrm>
          <a:off x="2195640" y="2637000"/>
          <a:ext cx="4680000" cy="93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2637000"/>
                    <a:ext cx="4680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Объект 9"/>
          <p:cNvGraphicFramePr/>
          <p:nvPr/>
        </p:nvGraphicFramePr>
        <p:xfrm>
          <a:off x="1042920" y="3860640"/>
          <a:ext cx="597708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3860640"/>
                    <a:ext cx="5977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0"/>
          <p:cNvGraphicFramePr/>
          <p:nvPr/>
        </p:nvGraphicFramePr>
        <p:xfrm>
          <a:off x="1187280" y="5157720"/>
          <a:ext cx="511344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157720"/>
                    <a:ext cx="5113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26920" y="1267920"/>
            <a:ext cx="734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9" name="Объект 4"/>
          <p:cNvGraphicFramePr/>
          <p:nvPr/>
        </p:nvGraphicFramePr>
        <p:xfrm>
          <a:off x="3780000" y="443700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4370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Объект 5"/>
          <p:cNvGraphicFramePr/>
          <p:nvPr/>
        </p:nvGraphicFramePr>
        <p:xfrm>
          <a:off x="3492360" y="4437000"/>
          <a:ext cx="127080" cy="1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437000"/>
                    <a:ext cx="127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6" name="Объект 3"/>
          <p:cNvGraphicFramePr/>
          <p:nvPr/>
        </p:nvGraphicFramePr>
        <p:xfrm>
          <a:off x="2627280" y="1268280"/>
          <a:ext cx="34574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457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4"/>
          <p:cNvGraphicFramePr/>
          <p:nvPr/>
        </p:nvGraphicFramePr>
        <p:xfrm>
          <a:off x="1187280" y="2492280"/>
          <a:ext cx="331344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492280"/>
                    <a:ext cx="3313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Объект 5"/>
          <p:cNvGraphicFramePr/>
          <p:nvPr/>
        </p:nvGraphicFramePr>
        <p:xfrm>
          <a:off x="1332000" y="4005360"/>
          <a:ext cx="3527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4005360"/>
                    <a:ext cx="352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Объект 3"/>
          <p:cNvGraphicFramePr/>
          <p:nvPr/>
        </p:nvGraphicFramePr>
        <p:xfrm>
          <a:off x="971640" y="1125360"/>
          <a:ext cx="280836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2808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Объект 4"/>
          <p:cNvGraphicFramePr/>
          <p:nvPr/>
        </p:nvGraphicFramePr>
        <p:xfrm>
          <a:off x="1116000" y="1989000"/>
          <a:ext cx="2592360" cy="7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989000"/>
                    <a:ext cx="25923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5"/>
          <p:cNvGraphicFramePr/>
          <p:nvPr/>
        </p:nvGraphicFramePr>
        <p:xfrm>
          <a:off x="1116000" y="2852640"/>
          <a:ext cx="3743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852640"/>
                    <a:ext cx="3743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6"/>
          <p:cNvGraphicFramePr/>
          <p:nvPr/>
        </p:nvGraphicFramePr>
        <p:xfrm>
          <a:off x="1187280" y="3789360"/>
          <a:ext cx="403236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789360"/>
                    <a:ext cx="40323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Объект 5"/>
          <p:cNvGraphicFramePr/>
          <p:nvPr/>
        </p:nvGraphicFramePr>
        <p:xfrm>
          <a:off x="6588000" y="2924280"/>
          <a:ext cx="792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924280"/>
                    <a:ext cx="792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00000" y="1268280"/>
            <a:ext cx="73440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1" name="Объект 3"/>
          <p:cNvGraphicFramePr/>
          <p:nvPr/>
        </p:nvGraphicFramePr>
        <p:xfrm>
          <a:off x="1547640" y="1341360"/>
          <a:ext cx="302436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3024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Объект 4"/>
          <p:cNvGraphicFramePr/>
          <p:nvPr/>
        </p:nvGraphicFramePr>
        <p:xfrm>
          <a:off x="1692360" y="2133720"/>
          <a:ext cx="27352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133720"/>
                    <a:ext cx="27352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5"/>
          <p:cNvGraphicFramePr/>
          <p:nvPr/>
        </p:nvGraphicFramePr>
        <p:xfrm>
          <a:off x="1835280" y="3141720"/>
          <a:ext cx="23050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141720"/>
                    <a:ext cx="2305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"/>
          <p:cNvPicPr/>
          <p:nvPr/>
        </p:nvPicPr>
        <p:blipFill>
          <a:blip r:embed="rId1"/>
          <a:stretch/>
        </p:blipFill>
        <p:spPr>
          <a:xfrm>
            <a:off x="3492360" y="228600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2" descr=""/>
          <p:cNvPicPr/>
          <p:nvPr/>
        </p:nvPicPr>
        <p:blipFill>
          <a:blip r:embed="rId2"/>
          <a:stretch/>
        </p:blipFill>
        <p:spPr>
          <a:xfrm>
            <a:off x="3203640" y="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3.33333E-006 C 0.23975 3.33333E-006 0.41232 0.16157 0.41232 0.36088 C 0.41232 0.55972 0.23975 0.72152 0.02829 0.72152 C -0.18316 0.72152 -0.35521 0.55972 -0.35521 0.36088 C -0.35521 0.16157 -0.18316 3.33333E-006 0.02829 3.33333E-006 Z">
                                      <p:cBhvr>
                                        <p:cTn id="6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0.2106 3.33333E-006 0.38195 0.15926 0.38195 0.35555 C 0.38195 0.55185 0.2106 0.71111 -4.72222E-006 0.71111 C -0.21093 0.71111 -0.38194 0.55185 -0.38194 0.35555 C -0.38194 0.15926 -0.21093 3.33333E-006 -4.72222E-006 3.33333E-006 Z">
                                      <p:cBhvr>
                                        <p:cTn id="9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9:12:03Z</dcterms:created>
  <dc:creator>EVA</dc:creator>
  <dc:description/>
  <dc:language>en-US</dc:language>
  <cp:lastModifiedBy>LEGION</cp:lastModifiedBy>
  <dcterms:modified xsi:type="dcterms:W3CDTF">2015-01-26T10:35:21Z</dcterms:modified>
  <cp:revision>13</cp:revision>
  <dc:subject/>
  <dc:title>Проверка домашнего задания:</dc:title>
</cp:coreProperties>
</file>