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25.jpeg" ContentType="image/jpeg"/>
  <Override PartName="/ppt/media/image10.wmf" ContentType="image/x-wmf"/>
  <Override PartName="/ppt/media/image31.jpeg" ContentType="image/jpeg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9.wmf" ContentType="image/x-wmf"/>
  <Override PartName="/ppt/media/image30.gif" ContentType="image/gif"/>
  <Override PartName="/ppt/media/image16.wmf" ContentType="image/x-wmf"/>
  <Override PartName="/ppt/media/image35.wmf" ContentType="image/x-wmf"/>
  <Override PartName="/ppt/media/image5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521D-93BD-4FF0-A35A-737F471B1F0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509B-AD4A-4E27-8179-B4817707AD7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(а)  102                                               № 5(а)    36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87BF-365E-494A-B96B-BCF7052F944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AE49-BC19-4531-B2B3-1A45DCA8676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E671-2641-4368-A342-C0940D5C8E8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6EC8-703C-496B-8A8A-B13A54F642F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E087-0946-4373-A72D-317264698AC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049D-6B71-42BA-9AA8-850411A83AF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29BB-AE5B-4D79-93C2-34B07131209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DA52-ADC9-4604-9FB4-575B7372E12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291-5D63-43FB-9CFE-4E0CA8AC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4E8-D530-40AD-84FC-E81F92CE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82ABA-627F-418E-A5D5-59418CBF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22484-2197-48C2-88C4-CE7959F5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F8C7C-F7D9-4D8C-8954-675D3D55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C4907-B044-4858-AE96-CF3FFA64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7F256-EA75-4792-84F7-827C8330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20627-A3F6-4FBE-99EA-E743A7A8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7C429-D888-44B6-8FBA-3B82CA7F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9EC73-A66E-425F-AD92-1681AF88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2BA0C-AE97-46EA-8C11-F82A1DFD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59D1-991E-4A9F-96A0-4080FB61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FA1-2EC1-4389-8D79-3935A6EC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F61F-6544-45CB-8574-6D8B131E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12A5-3EA4-4BA4-9129-00CBCC32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C3F6-BD06-445E-8249-971A5255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B486-BF25-424C-B683-956EEE81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2D48-6166-4479-BA79-E367B726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CB97-FE9D-4C37-AA24-ADD8DB01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3544-DC34-48EB-B6C7-288414FB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8C2-B3E9-471B-8B66-B9D75867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E3D4-D2AD-42D5-8892-2095124D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530D-43E1-4725-BAF6-431CC0D1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EDA2-A004-4F34-9217-DB4EC9AC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924F-136C-4AD3-A0CF-A892924F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099C-376C-487C-A418-897A5BF7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9BD56-F1D3-4E63-AC3C-E20882DA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7E0E-E803-4C2E-AF4C-59D54CCA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BA35B-048E-40FB-967D-BF70C0AF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C7CA-0DFB-47AC-9F23-E3338F81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F50DF-4FAC-434C-80E7-535D2626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7F9-82E4-4383-ACBC-BE31AD57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FF47-D3F4-4BD2-AF37-5E150FC4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9A4F1-6872-422A-BC6A-6D6CB9E6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9698-8A8A-4354-B2D3-CCECB8EE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162C3-01EF-4CCD-BC55-92A2A2DE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7313-7BA9-4565-A635-D49B5E76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383AD-3FA6-4656-90A7-FFEF4B91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CDC5B-E2D3-4169-ADE8-6A21706F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50EA7-E1DE-4A9A-8CF0-B7CA4731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621E3-95AD-4640-9A96-CA4A52C8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BB66B-7C0B-465D-9A4F-57C581C9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85A-6F52-411A-A880-AC6D5500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E944F-2D9E-4B00-8D19-A0F1ED13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5ED78-9B95-43FC-80B6-5F75E67E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6EB7-1010-452B-AA47-E89AD4BE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A3820-D412-4C13-984F-49A10A2E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390DA-AF4E-4872-B2EA-B292527F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ABCD1-4896-4027-AD41-CD9C9509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B662D-C877-4EBA-B077-56887BEE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8F854-3CD5-4931-946D-A1C1D8B9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220C2-DA6D-445E-8FAC-1ECD93AE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C21D-5451-4105-9248-2D55056A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535-A2B1-4655-9AE6-0F1CD089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7341A-1FE0-490A-AA80-52D9D985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1F031-E460-42A4-AC78-A941D4F7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22821-4B7C-4ED7-9F69-2E2807D6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3DDB8-8EEB-4A0A-B9E2-680CC583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95F8F-305E-4CF2-A3FA-C9C7CF1D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31822-5454-47A7-B6B6-D713A063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8765D-308B-4169-9FFA-EF6CEE03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A525-24F9-49C4-987B-7214FB74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A9DF8-C7E5-4613-A96D-CCB3100B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7913F-DAD8-48F6-BBD7-37EC862C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76E-7E1D-4DAA-9EBC-5EB574BD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76A61-C024-4FE3-896D-F5F9017E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3315F-94E4-4116-8C70-1EFAE99A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41AE-633B-4DF1-9B50-BEBCA66B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52FA8-25CC-4DD9-BE81-A9431D75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64E44-810F-4C55-A68A-847156F1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B21BD-7EFE-4870-BCEC-425A88CB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4374F-00A2-4856-86E3-988A130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464E5-F5C3-4BC1-BEAA-1A04BB6F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ECF11-874E-4F06-8AFC-6C355740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F51A-6F20-480B-AAD3-9B2FDD3F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5EC-BD05-41F5-9425-DEB8274F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E8B7C-4D64-4145-B436-6D686A93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EF484-952E-4E25-80F0-C8222495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AA36-DE48-4535-80F2-3624B392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8EE75-CC68-437C-ABD1-8B7BB2E1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10FDC-BA3A-458D-AFC3-9FFB94D8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E33AB-0E86-494A-8CB9-BBC90656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6D210-7E24-43BF-B45E-1B393CFE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A9FB1-2656-4667-8E09-14A94849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3ED03-3D10-4961-9A63-1A0F2AEF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EBB87-1195-4540-8D47-77BFB557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F5FF-853C-4ADA-9FF8-857458AF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8AFE6-CD78-4640-A210-DDF4B9C4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3A6BD-A09E-4AE7-9EBA-589B441D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67CDB-641C-4A39-BC93-F6652168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163A9-7F46-454B-AFCF-5EFE3350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F8FF4-0939-41CE-950D-27CD5E6B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F1A6B-4C41-4AD6-898F-DBF4CDB8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155E5-9405-4AEC-96F5-1F26DFBA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5716C-7F58-46D6-8AEB-67065BD8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7BF70-646E-449C-A509-03DB835A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7C167-DF34-4253-9799-CD9B2C26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6FD6-00CD-4DBD-A324-E6959413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8E6F4-012B-4192-B62A-6FA75644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FF413-035D-4FB8-BC72-27DB1DE5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06B28-8BFB-4139-AB6E-54F9EC4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91ED1-89BE-4E74-81CA-6BD4CFF3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A63D9-A8D1-44CA-B6D1-66BB5D90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CD5D8-1F47-40E3-9795-CC09CBD8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26E5D-5B59-4924-B7D6-57F876C4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EBE1A-1F36-4AEA-8B48-A9E4D160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A0406-AC28-4C5C-8340-42EA0B2A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1BAFD-9A34-46A4-BF89-8F2B8F30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5139-3AB6-4983-836A-B51C6988651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3673-988E-4006-B16E-66A9C0F3D0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60B8-1437-4792-B6C9-BF2E70137B3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9E10-87A5-4834-9ACA-54A409758B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EC56-8AEB-4579-871F-7D261775B23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F5FA-E02F-4AAA-A2B4-3DD9799BC2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C9F0-44D6-4FD5-B031-AA76E14550D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9AB5-FF2B-4474-9A0F-4E3BD596F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5D46-B854-4565-9D1C-2716CF69D3B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B044-97A6-4EDB-914E-D10CE52EEF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8BBA-7331-407B-9487-D1FBAB2E0DD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B4D8-C2AC-453E-9EBF-526FC83CEB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A4C2-48A4-46E1-A652-4C5FC2D6617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97CD-00DD-4217-B80B-B7DD0DB9B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2E54-B66F-4EA7-80A3-FE75A8D7E3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4FE0-CC78-41E2-A392-352B80CEDC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C0FA-6DFC-4358-93F5-F39CC470F59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B3CD-850E-41F1-B5E9-D3AD099DA9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gif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2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192240" y="4724280"/>
            <a:ext cx="1623960" cy="171936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-0.03518 C 0.00104 0.14537 0.0217 0.12708 0.07865 0.12292 C 0.16059 0.12292 0.16667 -0.7206 0.26459 -0.72361 C 0.35261 -0.72361 0.30556 0.01412 0.39028 0.01088 C 0.47882 0.01088 0.43125 -0.52292 0.52587 -0.52292 C 0.61059 -0.52292 0.56354 -0.16296 0.63906 -0.16296 C 0.71181 -0.16296 0.67413 -0.43773 0.74028 -0.43773 C 0.77795 -0.43773 0.78073 -0.36296 0.78403 -0.30556 E">
                                      <p:cBhvr>
                                        <p:cTn id="15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398 C -2.22222E-006 -0.09352 0.0875 0.06204 0.19427 0.06204 C 0.30434 0.06204 0.39202 -0.09352 0.39202 -0.29398 C 0.39202 -0.49468 0.47952 -0.65 0.58959 -0.65 C 0.69636 -0.65 0.78403 -0.49468 0.78403 -0.29398 E">
                                      <p:cBhvr>
                                        <p:cTn id="1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931 C -2.22222E-006 -0.50301 0.0875 -0.66065 0.19427 -0.66065 C 0.30434 -0.66065 0.39202 -0.50301 0.39202 -0.29931 C 0.39202 -0.09583 0.47952 0.06204 0.58959 0.06204 C 0.69636 0.06204 0.78403 -0.09583 0.78403 -0.29931 E">
                                      <p:cBhvr>
                                        <p:cTn id="21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31505 C -2.22222E-006 -0.10278 0.08837 0.06204 0.19618 0.06204 C 0.30729 0.06204 0.39584 -0.10278 0.39584 -0.31505 C 0.39584 -0.52755 0.48438 -0.69213 0.59549 -0.69213 C 0.7033 -0.69213 0.79184 -0.52755 0.79184 -0.31505 E">
                                      <p:cBhvr>
                                        <p:cTn id="24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1" descr=""/>
          <p:cNvPicPr/>
          <p:nvPr/>
        </p:nvPicPr>
        <p:blipFill>
          <a:blip r:embed="rId1"/>
          <a:stretch/>
        </p:blipFill>
        <p:spPr>
          <a:xfrm>
            <a:off x="635040" y="819000"/>
            <a:ext cx="912600" cy="96552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2" descr=""/>
          <p:cNvPicPr/>
          <p:nvPr/>
        </p:nvPicPr>
        <p:blipFill>
          <a:blip r:embed="rId2"/>
          <a:stretch/>
        </p:blipFill>
        <p:spPr>
          <a:xfrm>
            <a:off x="4859280" y="111240"/>
            <a:ext cx="1081080" cy="11444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3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4" descr=""/>
          <p:cNvPicPr/>
          <p:nvPr/>
        </p:nvPicPr>
        <p:blipFill>
          <a:blip r:embed="rId4"/>
          <a:stretch/>
        </p:blipFill>
        <p:spPr>
          <a:xfrm>
            <a:off x="7308720" y="1200240"/>
            <a:ext cx="1103400" cy="116820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"/>
          <p:cNvPicPr/>
          <p:nvPr/>
        </p:nvPicPr>
        <p:blipFill>
          <a:blip r:embed="rId5"/>
          <a:stretch/>
        </p:blipFill>
        <p:spPr>
          <a:xfrm>
            <a:off x="-5076720" y="3295800"/>
            <a:ext cx="3892320" cy="25286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6" descr=""/>
          <p:cNvPicPr/>
          <p:nvPr/>
        </p:nvPicPr>
        <p:blipFill>
          <a:blip r:embed="rId6"/>
          <a:stretch/>
        </p:blipFill>
        <p:spPr>
          <a:xfrm>
            <a:off x="9144000" y="2924280"/>
            <a:ext cx="4927680" cy="320364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7" descr=""/>
          <p:cNvPicPr/>
          <p:nvPr/>
        </p:nvPicPr>
        <p:blipFill>
          <a:blip r:embed="rId7"/>
          <a:stretch/>
        </p:blipFill>
        <p:spPr>
          <a:xfrm>
            <a:off x="-2495520" y="4186080"/>
            <a:ext cx="2006640" cy="166212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0" descr=""/>
          <p:cNvPicPr/>
          <p:nvPr/>
        </p:nvPicPr>
        <p:blipFill>
          <a:blip r:embed="rId8"/>
          <a:stretch/>
        </p:blipFill>
        <p:spPr>
          <a:xfrm>
            <a:off x="9178920" y="3192480"/>
            <a:ext cx="2665440" cy="28242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08 0.05741 L 1.60625 0.05231 E">
                                      <p:cBhvr>
                                        <p:cTn id="30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11 0.06065 L -1.62465 0.06273 E">
                                      <p:cBhvr>
                                        <p:cTn id="3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201 -0.0088 L 1.37674 -0.01968 E">
                                      <p:cBhvr>
                                        <p:cTn id="36" dur="5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8 0.03865 L -1.61024 0.04143 E">
                                      <p:cBhvr>
                                        <p:cTn id="39" dur="5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(а)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№ 5(а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36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4" name="Объект 3"/>
          <p:cNvGraphicFramePr/>
          <p:nvPr/>
        </p:nvGraphicFramePr>
        <p:xfrm>
          <a:off x="1403280" y="1628640"/>
          <a:ext cx="108108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28640"/>
                    <a:ext cx="10810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Объект 4"/>
          <p:cNvGraphicFramePr/>
          <p:nvPr/>
        </p:nvGraphicFramePr>
        <p:xfrm>
          <a:off x="5724360" y="1700280"/>
          <a:ext cx="9352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1700280"/>
                    <a:ext cx="935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Объект 5"/>
          <p:cNvGraphicFramePr/>
          <p:nvPr/>
        </p:nvGraphicFramePr>
        <p:xfrm>
          <a:off x="1403280" y="3068640"/>
          <a:ext cx="7207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068640"/>
                    <a:ext cx="720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Объект 6"/>
          <p:cNvGraphicFramePr/>
          <p:nvPr/>
        </p:nvGraphicFramePr>
        <p:xfrm>
          <a:off x="5796000" y="2997360"/>
          <a:ext cx="64764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0" y="2997360"/>
                    <a:ext cx="647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Объект 7"/>
          <p:cNvGraphicFramePr/>
          <p:nvPr/>
        </p:nvGraphicFramePr>
        <p:xfrm>
          <a:off x="1476360" y="3789360"/>
          <a:ext cx="86364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3789360"/>
                    <a:ext cx="863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Объект 8"/>
          <p:cNvGraphicFramePr/>
          <p:nvPr/>
        </p:nvGraphicFramePr>
        <p:xfrm>
          <a:off x="5435640" y="3789360"/>
          <a:ext cx="10810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5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3789360"/>
                    <a:ext cx="108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Объект 5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Объект 6"/>
          <p:cNvGraphicFramePr/>
          <p:nvPr/>
        </p:nvGraphicFramePr>
        <p:xfrm>
          <a:off x="2268360" y="1197000"/>
          <a:ext cx="20876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197000"/>
                    <a:ext cx="2087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Объект 7"/>
          <p:cNvGraphicFramePr/>
          <p:nvPr/>
        </p:nvGraphicFramePr>
        <p:xfrm>
          <a:off x="5651640" y="1197000"/>
          <a:ext cx="2305080" cy="79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1197000"/>
                    <a:ext cx="2305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Объект 8"/>
          <p:cNvGraphicFramePr/>
          <p:nvPr/>
        </p:nvGraphicFramePr>
        <p:xfrm>
          <a:off x="2195640" y="2637000"/>
          <a:ext cx="4680000" cy="93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8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2637000"/>
                    <a:ext cx="4680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Объект 9"/>
          <p:cNvGraphicFramePr/>
          <p:nvPr/>
        </p:nvGraphicFramePr>
        <p:xfrm>
          <a:off x="1042920" y="3860640"/>
          <a:ext cx="597708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0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3860640"/>
                    <a:ext cx="5977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Объект 10"/>
          <p:cNvGraphicFramePr/>
          <p:nvPr/>
        </p:nvGraphicFramePr>
        <p:xfrm>
          <a:off x="1187280" y="5157720"/>
          <a:ext cx="511344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2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5157720"/>
                    <a:ext cx="51134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26920" y="1267920"/>
            <a:ext cx="734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9" name="Объект 4"/>
          <p:cNvGraphicFramePr/>
          <p:nvPr/>
        </p:nvGraphicFramePr>
        <p:xfrm>
          <a:off x="3780000" y="4437000"/>
          <a:ext cx="11412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4370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Объект 5"/>
          <p:cNvGraphicFramePr/>
          <p:nvPr/>
        </p:nvGraphicFramePr>
        <p:xfrm>
          <a:off x="3492360" y="4437000"/>
          <a:ext cx="127080" cy="1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437000"/>
                    <a:ext cx="1270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6" name="Объект 3"/>
          <p:cNvGraphicFramePr/>
          <p:nvPr/>
        </p:nvGraphicFramePr>
        <p:xfrm>
          <a:off x="2627280" y="1268280"/>
          <a:ext cx="34574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457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Объект 4"/>
          <p:cNvGraphicFramePr/>
          <p:nvPr/>
        </p:nvGraphicFramePr>
        <p:xfrm>
          <a:off x="1187280" y="2492280"/>
          <a:ext cx="331344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492280"/>
                    <a:ext cx="33134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Объект 5"/>
          <p:cNvGraphicFramePr/>
          <p:nvPr/>
        </p:nvGraphicFramePr>
        <p:xfrm>
          <a:off x="1332000" y="4005360"/>
          <a:ext cx="35272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4005360"/>
                    <a:ext cx="3527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Объект 3"/>
          <p:cNvGraphicFramePr/>
          <p:nvPr/>
        </p:nvGraphicFramePr>
        <p:xfrm>
          <a:off x="971640" y="1125360"/>
          <a:ext cx="280836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2808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Объект 4"/>
          <p:cNvGraphicFramePr/>
          <p:nvPr/>
        </p:nvGraphicFramePr>
        <p:xfrm>
          <a:off x="1116000" y="1989000"/>
          <a:ext cx="2592360" cy="7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989000"/>
                    <a:ext cx="25923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Объект 5"/>
          <p:cNvGraphicFramePr/>
          <p:nvPr/>
        </p:nvGraphicFramePr>
        <p:xfrm>
          <a:off x="1116000" y="2852640"/>
          <a:ext cx="374328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852640"/>
                    <a:ext cx="3743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Объект 6"/>
          <p:cNvGraphicFramePr/>
          <p:nvPr/>
        </p:nvGraphicFramePr>
        <p:xfrm>
          <a:off x="1187280" y="3789360"/>
          <a:ext cx="403236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789360"/>
                    <a:ext cx="40323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79214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Объект 5"/>
          <p:cNvGraphicFramePr/>
          <p:nvPr/>
        </p:nvGraphicFramePr>
        <p:xfrm>
          <a:off x="6588000" y="2924280"/>
          <a:ext cx="792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2924280"/>
                    <a:ext cx="792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00000" y="1268280"/>
            <a:ext cx="73440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1" name="Объект 3"/>
          <p:cNvGraphicFramePr/>
          <p:nvPr/>
        </p:nvGraphicFramePr>
        <p:xfrm>
          <a:off x="1547640" y="1341360"/>
          <a:ext cx="3024360" cy="5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30243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Объект 4"/>
          <p:cNvGraphicFramePr/>
          <p:nvPr/>
        </p:nvGraphicFramePr>
        <p:xfrm>
          <a:off x="1692360" y="2133720"/>
          <a:ext cx="273528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133720"/>
                    <a:ext cx="27352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Объект 5"/>
          <p:cNvGraphicFramePr/>
          <p:nvPr/>
        </p:nvGraphicFramePr>
        <p:xfrm>
          <a:off x="1835280" y="3141720"/>
          <a:ext cx="230508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6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141720"/>
                    <a:ext cx="2305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1" descr=""/>
          <p:cNvPicPr/>
          <p:nvPr/>
        </p:nvPicPr>
        <p:blipFill>
          <a:blip r:embed="rId1"/>
          <a:stretch/>
        </p:blipFill>
        <p:spPr>
          <a:xfrm>
            <a:off x="3492360" y="228600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2" descr=""/>
          <p:cNvPicPr/>
          <p:nvPr/>
        </p:nvPicPr>
        <p:blipFill>
          <a:blip r:embed="rId2"/>
          <a:stretch/>
        </p:blipFill>
        <p:spPr>
          <a:xfrm>
            <a:off x="3203640" y="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3.33333E-006 C 0.23975 3.33333E-006 0.41232 0.16157 0.41232 0.36088 C 0.41232 0.55972 0.23975 0.72152 0.02829 0.72152 C -0.18316 0.72152 -0.35521 0.55972 -0.35521 0.36088 C -0.35521 0.16157 -0.18316 3.33333E-006 0.02829 3.33333E-006 Z">
                                      <p:cBhvr>
                                        <p:cTn id="6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0.2106 3.33333E-006 0.38195 0.15926 0.38195 0.35555 C 0.38195 0.55185 0.2106 0.71111 -4.72222E-006 0.71111 C -0.21093 0.71111 -0.38194 0.55185 -0.38194 0.35555 C -0.38194 0.15926 -0.21093 3.33333E-006 -4.72222E-006 3.33333E-006 Z">
                                      <p:cBhvr>
                                        <p:cTn id="9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9:12:03Z</dcterms:created>
  <dc:creator>EVA</dc:creator>
  <dc:description/>
  <dc:language>en-US</dc:language>
  <cp:lastModifiedBy>LEGION</cp:lastModifiedBy>
  <dcterms:modified xsi:type="dcterms:W3CDTF">2015-01-26T10:35:21Z</dcterms:modified>
  <cp:revision>13</cp:revision>
  <dc:subject/>
  <dc:title>Проверка домашнего задания:</dc:title>
</cp:coreProperties>
</file>