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FDEB-68A0-4C04-8E08-1BB8528A7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УРОК алгебры и начала анализа в 11 «Б» классе учителя лицея № 179 ПАК НАТАЛЬИ НИКОЛАЕВ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7BD1-B6AB-4C79-85AD-53A6D565082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еометрический  смысл производ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остоит в том, что значение производной функции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y=f(x)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в  точке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1327-3F5C-4246-8DF7-1D3B1A11B0A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DA44-0A64-47A7-9A60-E11D611BEC9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скор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F5DF-915F-4870-8B2C-184BC29EC47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 движется прямолинейно по закону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числите  скорость движения точ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CE6C-D842-4555-ABA0-034546618B0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йдите скорость и ускорение для  точки, движущейся по зак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6440-599E-4047-84CF-DA74A5D86C0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е материальные  точки  движутся  прямолинейно  по  закон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кой  момент  времени скорости их  равны, т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C0F9-7CDE-46ED-AF4E-F9787C5DE3F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BD25-6584-47D0-9EE0-BFC419C87BD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9D85-C59D-4CF8-8A2D-C74CF0242F1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FE6A-00F1-4123-8BBD-FCE02FC45C5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= 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 с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с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′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т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см,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60 + 5 = 65(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65 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9A8A-43F6-4BD6-B1EE-61ADE9880A6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то такой учё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т, кто ночами, забыв про кровать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Усердно роется в книжной груде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тобы ещё кое-что узнать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Из того, что знают другие лю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. Хейне – американский экономист, доктор философ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D81F-7C24-4EDC-8B3D-E26418D464B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1A78-44CE-4B8B-B3AA-7D15AD21843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и о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 Слова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водная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ошло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мама»,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производна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дочь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Произв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87C0-E30B-4CCE-9658-B1FC0F07662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Производной функции в да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точке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A032-D4DF-40C5-AC75-78A854973FC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F929-8AF4-4EA0-8A3C-9FD32A5E9C2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 этому найти объяс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A9A5-CB6F-4861-9A35-58A82189363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явление можно объяснить с помощью законов физ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буем переложить всё это на математическ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9B66-B3E9-4ACA-9B77-108AA6998D9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9613-9A08-4810-8F62-57460D3CE09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7034-9678-439E-B2EB-6999B7A26F5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371-943F-4A6B-8F95-E750E250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82C-4A1C-4D58-976B-B4C24482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F25-BE6A-45A4-B934-D1EDA17C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482-D006-4104-B85C-739039C6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C748-DF22-41C9-9C62-CEDCC226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A327-7F39-424F-A6F8-2813FF9E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2F67-6A45-4BB9-AE84-9F6429AE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BEFB-5FEA-4593-AB17-2FB756B3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80EE-23E4-4C75-87F9-8C97C0B3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5956-1F5E-4744-844D-EF09D5C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D44F-315C-45D7-9FB0-300535E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878-1764-40CB-9DE1-20DEBAF4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DE5-BFFE-4A46-8A8A-B761F6F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C4D9-3BC2-46CF-BFE1-292A72A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6410-99E5-4D83-AF2B-A0127A21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833D-07ED-4C5A-8EDC-E1E4C22F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3F37-2AB7-407A-8610-DCEE0542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99D3-F694-4B08-A3E4-0A46C927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9228-85C7-46B2-8F02-D80F2EFD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BD80-32AE-4FF4-8499-12C9B142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72A6-64F2-4C45-8184-38475D59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ADE8-8A4B-4D77-93B7-BB1514C7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9B7-DF7C-4D3D-8E80-ADF709FF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108F-CA0B-49EE-BF9B-F02AD0F2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7029-25FB-4BE6-A98A-36EA824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3F80-7CA5-4F08-99A2-2FF2D9D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F548-3D81-45CC-ADFA-9390B82A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FD47A-7227-4537-A026-3C37B60E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D452-A3FA-4F02-ABD6-6823D15B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A9F7-27B2-463E-8243-46E77F05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7EF-95C3-4705-8765-8E0FB2CF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D72-BCFC-4903-936D-07C80D8B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7D9-BEBE-415E-A2AD-CA09149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10F-DF38-44A7-B58C-2E9E58F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6D1-F666-4470-A171-D29E2ED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085-1D09-463A-A9E6-E96FF8E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3DA5-5971-4003-B3AC-97AEB9A99F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BDCC-19C1-4AB3-BE3C-AF05A0219B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00A-5718-4AEB-A9B5-62A60362487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ru-RU" sz="51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УРОК алгебры и начала анализа в 11 «Б» классе учителя лицея № 179 ПАК НАТАЛЬИ НИКОЛАЕВНЫ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Verdana"/>
              </a:rPr>
              <a:t>Геометрический  смысл производн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состоит в том, что значение производной функции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y=f(x) </a:t>
            </a: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в  точке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32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0070c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476360" y="404640"/>
                <a:ext cx="5905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метрический смысл производн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763640" y="1484280"/>
            <a:ext cx="6261120" cy="50245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скорость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ускорение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1547640" y="1628640"/>
                <a:ext cx="172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692360" y="227664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619280" y="3068640"/>
                <a:ext cx="1511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971640" y="400536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перемещения по времени  является мгновенная скор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скорости по времени является ускор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чка движется прямолинейно по закону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числите  скорость движения точк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=2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877080" y="184464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28720" y="3860640"/>
                <a:ext cx="72723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дите скорость и ускорение для  точки, движущейся по закон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=3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148360" y="2421000"/>
                <a:ext cx="26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1258920" y="4076640"/>
                <a:ext cx="568944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64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е материальные  точки  движутся  прямолинейно  по  закона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й  момент  времени скорости их  равны, т.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2700360" y="2060640"/>
                <a:ext cx="4248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771640" y="4437000"/>
                <a:ext cx="424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755640" y="1341360"/>
                <a:ext cx="705636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3" descr="1479677_Untitled01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914640"/>
          </a:xfrm>
          <a:prstGeom prst="rect">
            <a:avLst/>
          </a:prstGeom>
          <a:ln w="0">
            <a:noFill/>
          </a:ln>
        </p:spPr>
      </p:pic>
      <p:pic>
        <p:nvPicPr>
          <p:cNvPr id="258" name="зарядка.wav" descr=""/>
          <p:cNvPicPr/>
          <p:nvPr/>
        </p:nvPicPr>
        <p:blipFill>
          <a:blip r:embed="rId2"/>
          <a:stretch/>
        </p:blipFill>
        <p:spPr>
          <a:xfrm>
            <a:off x="7929720" y="642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453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261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69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40" dur="2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7680" y="791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 = 3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 5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А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0 с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с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Т.к.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, т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5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0 см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10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 60 + 5 = 65(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 65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Verdana"/>
              </a:rPr>
              <a:t>Кто такой учёны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предел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Тот, кто ночами, забыв про кровать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сердно роется в книжной груде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Чтобы ещё кое-что узнать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Из того, что знают другие люд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П. Хейне – американский экономист, доктор философи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4880" y="277560"/>
            <a:ext cx="7734240" cy="834840"/>
          </a:xfrm>
          <a:prstGeom prst="rect">
            <a:avLst/>
          </a:prstGeom>
          <a:solidFill>
            <a:srgbClr val="37a3c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тематики о производной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501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 Слова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водная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ошло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мама»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ё производна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дочь»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Производн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1557000"/>
            <a:ext cx="7000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Производной функции в данной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точке </a:t>
            </a:r>
            <a:r>
              <a:rPr b="0" lang="ru-RU" sz="2600" spc="-1" strike="noStrike">
                <a:solidFill>
                  <a:srgbClr val="0070c0"/>
                </a:solidFill>
                <a:latin typeface="Verdana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419120" y="4653000"/>
                <a:ext cx="5948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1692360" y="1989000"/>
                <a:ext cx="5400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763640" y="3257640"/>
                <a:ext cx="863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692360" y="5083200"/>
                <a:ext cx="2303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8960" y="25905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чему так происходи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жно ли этому найти объяснени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81916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858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о явление можно объяснить с помощью законов физи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пробуем переложить всё это на математический язы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sl01040_"/>
          <p:cNvPicPr/>
          <p:nvPr/>
        </p:nvPicPr>
        <p:blipFill>
          <a:blip r:embed="rId1"/>
          <a:stretch/>
        </p:blipFill>
        <p:spPr>
          <a:xfrm>
            <a:off x="7885080" y="549360"/>
            <a:ext cx="893880" cy="90000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89000"/>
            <a:ext cx="7467480" cy="31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5"/>
          <p:cNvPicPr/>
          <p:nvPr/>
        </p:nvPicPr>
        <p:blipFill>
          <a:blip r:embed="rId1"/>
          <a:stretch/>
        </p:blipFill>
        <p:spPr>
          <a:xfrm>
            <a:off x="2590920" y="3429000"/>
            <a:ext cx="5181480" cy="27781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400800" cy="450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3" descr="6"/>
          <p:cNvPicPr/>
          <p:nvPr/>
        </p:nvPicPr>
        <p:blipFill>
          <a:blip r:embed="rId1"/>
          <a:stretch/>
        </p:blipFill>
        <p:spPr>
          <a:xfrm>
            <a:off x="5791320" y="3809880"/>
            <a:ext cx="3047760" cy="26784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52:50Z</dcterms:created>
  <dc:creator>User</dc:creator>
  <dc:description/>
  <dc:language>en-US</dc:language>
  <cp:lastModifiedBy>LEGION</cp:lastModifiedBy>
  <dcterms:modified xsi:type="dcterms:W3CDTF">2015-01-26T12:27:29Z</dcterms:modified>
  <cp:revision>18</cp:revision>
  <dc:subject/>
  <dc:title>Производная </dc:title>
</cp:coreProperties>
</file>