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gif" ContentType="image/gif"/>
  <Override PartName="/ppt/media/image26.wmf" ContentType="image/x-wmf"/>
  <Override PartName="/ppt/media/image15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F786-0EB9-4CDD-A801-52E91C8C07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slide" Target="../slides/slide9.xml"/><Relationship Id="rId3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РУГЛЫ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/пресс-конференци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геометрии в 11 классе . Автор: Михайлова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МОУ «СОШ № 15 п. Березайка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E7CA-4BDF-4C05-A99D-B00D796208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, творческой деятельности, ре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амостоятельности, активности, культуры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CB4F-FD10-4DD2-9306-CDE05004DF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линдром здесь зовусь, друз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ухне встретите ме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–термос, вкусный торт и свеч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трюля тёплая на пе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AB44-C9F6-402B-9938-EF44DF1913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Р,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глобус, апельсин и мя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круглый шар, я даже чай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88CE-7446-4D20-8079-EC42C9F74B4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b3579"/>
                </a:solidFill>
                <a:latin typeface="Calibri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ёшь меня легко в в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ёлке, в шляпке у гри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конус не стоит в ст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ковка – это тоже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A9F4-7708-434C-B50A-C543976639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Calibri"/>
              </a:rPr>
              <a:t>УСЕЧЁННЫЙ 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дская труба и маяк освещённый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 совсем не простой – усечённы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1E8B-E43B-4BDA-8854-90DD322970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задача не для робки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 упаковать в коробк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ен плотно он вой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пути не растряст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E5E7-B995-4F1B-A254-D649F1217C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итоге? Посмотр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 – коробка, мяч –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62DF-C025-404E-9749-A47DACE4A3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ая литература и Интернет –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/0/26/108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IR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YnZXG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13D2-6CA7-4294-8402-6C9E469947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476-4654-4817-AB47-B9EE9559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029-E3E3-4DD3-9361-23DA79AA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6A8-90C4-412E-819E-36EDF043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56E-A3B0-4A47-B75B-44D9210E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EC46-B0B4-4CAA-82C9-F19962F0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4A21-49F2-4A24-9B05-D3942366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0363-D8F3-4145-B2B7-4120EF6B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46F5-567F-4196-8A93-CC3B4BE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889F-AF0D-4887-B410-E5BEA18E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1A71-35EC-4B91-A32A-D438946C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00A8-2B58-4CEB-8B17-845BC2F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74A-7896-4E9B-911F-5F8C067C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AB87-D0DF-4E53-B1DD-6D6B40D3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809E-59A5-4423-B824-AF72625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EE35-CDE8-4619-811C-7966A86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5694-26CD-472E-A7D9-329DC203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648D-E1CC-417D-855C-6FEF2F56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AC6-5E20-4D70-8813-64FBC9B9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A23-70AE-42F9-B5D6-065C9449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FD0-5D05-43AA-A80F-869F5BE0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B33-DA87-4F36-8E16-887F2EE1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51B-B9A3-4DC0-8545-4E99C76F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A4C-6EE0-496F-A92D-008822BF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10E-6AD2-4BE6-82C2-F0EF1D2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2FF5-BDAE-425C-A28B-6EF028AFCE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F6E7-341E-4F48-A593-E4051735F2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adugavd.ru/d/63369/d/1409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media.meta.ua/files/pic/0/26/108/mIR6YnZXGo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-fotki.yandex.ru/get/3301/ostroum-igor.0/0_2586_82bc2d69_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skystvo.ru/wp-content/24.jpg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peky.ru/tovary/kastruli/p_k_7.jpg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iskystvo.ru/wp-content/26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s57.radikal.ru/i155/0810/61/a5647e91633f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cook.freecopy.su/cookbook/pictures/4306.jpg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zavodplastmas.kiev.ua/foto/26v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mega.km.ru/bes_2004/DATA/PREV1998/k_320i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kinoforum.my1.ru/_fr/3/7676031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hyperlink" Target="http://www.board74.ru/articles/geometry/tcone.gif" TargetMode="External"/><Relationship Id="rId5" Type="http://schemas.openxmlformats.org/officeDocument/2006/relationships/image" Target="../media/image24.png"/><Relationship Id="rId6" Type="http://schemas.openxmlformats.org/officeDocument/2006/relationships/hyperlink" Target="http://flamber.ru/files/photos/1152431728/1181070512_o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hyperlink" Target="http://media.meta.ua/files/pic/0/26/108/mIR6YnZXGo.jpg" TargetMode="External"/><Relationship Id="rId32" Type="http://schemas.openxmlformats.org/officeDocument/2006/relationships/hyperlink" Target="http://media.meta.ua/files/pic/0/26/108/mIR6YnZXGo.jpg" TargetMode="External"/><Relationship Id="rId33" Type="http://schemas.openxmlformats.org/officeDocument/2006/relationships/hyperlink" Target="http://media.meta.ua/files/pic/0/26/108/mIR6YnZXGo.jpg" TargetMode="External"/><Relationship Id="rId34" Type="http://schemas.openxmlformats.org/officeDocument/2006/relationships/hyperlink" Target="http://media.meta.ua/files/pic/0/26/108/mIR6YnZXGo.jpg" TargetMode="External"/><Relationship Id="rId35" Type="http://schemas.openxmlformats.org/officeDocument/2006/relationships/hyperlink" Target="http://media.meta.ua/files/pic/0/26/108/mIR6YnZXGo.jpg" TargetMode="External"/><Relationship Id="rId36" Type="http://schemas.openxmlformats.org/officeDocument/2006/relationships/hyperlink" Target="http://media.meta.ua/files/pic/0/26/108/mIR6YnZXGo.jpg" TargetMode="Externa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843280" y="714240"/>
            <a:ext cx="36576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ГЛЫЕ ТЕ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/пресс-конференция/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419640" y="2781360"/>
            <a:ext cx="2266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ЛИНД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5857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к уроку геометрии в 11 классе . Автор: Михайлова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МОУ «СОШ № 15 п. Березайка Тверской о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огического мышления, творческой деятельности,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, активности, культуры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85840" y="334800"/>
            <a:ext cx="7572240" cy="145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749600" y="407880"/>
            <a:ext cx="48463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714680" y="4929120"/>
                <a:ext cx="186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бо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6"/>
              <p:cNvSpPr txBox="1"/>
              <p:nvPr/>
            </p:nvSpPr>
            <p:spPr>
              <a:xfrm>
                <a:off x="1500120" y="5500800"/>
                <a:ext cx="23335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Box 13"/>
          <p:cNvSpPr/>
          <p:nvPr/>
        </p:nvSpPr>
        <p:spPr>
          <a:xfrm>
            <a:off x="357120" y="20718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илиндром здесь зовусь, дру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хне встретите мен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–термос, вкусный торт и све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трюля тёплая на печ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http://radugavd.ru/d/63369/d/1409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143080"/>
            <a:ext cx="1428840" cy="2055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http://media.meta.ua/files/pic/0/26/108/mIR6YnZXG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1928880"/>
            <a:ext cx="1785960" cy="14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Картинка 22 из 1205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72200" y="4071960"/>
            <a:ext cx="1398600" cy="195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Картинка 62 из 106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71760" y="3357720"/>
            <a:ext cx="221436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Картинка 2 из 9513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29080" y="4643280"/>
            <a:ext cx="17859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59000" y="291960"/>
            <a:ext cx="6986520" cy="160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5"/>
              <p:cNvSpPr txBox="1"/>
              <p:nvPr/>
            </p:nvSpPr>
            <p:spPr>
              <a:xfrm>
                <a:off x="3929040" y="5000760"/>
                <a:ext cx="1889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TextBox 16"/>
          <p:cNvSpPr/>
          <p:nvPr/>
        </p:nvSpPr>
        <p:spPr>
          <a:xfrm>
            <a:off x="200016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глобус, апельсин и мяч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круглый шар, я даже чайн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7" descr="http://im5-tub.yandex.net/i?id=57082072&amp;tov=5"/>
          <p:cNvPicPr/>
          <p:nvPr/>
        </p:nvPicPr>
        <p:blipFill>
          <a:blip r:embed="rId2"/>
          <a:stretch/>
        </p:blipFill>
        <p:spPr>
          <a:xfrm>
            <a:off x="1000080" y="4286160"/>
            <a:ext cx="133344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150 из 12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342900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ttp://im0-tub.yandex.net/i?id=61901722&amp;tov=0"/>
          <p:cNvPicPr/>
          <p:nvPr/>
        </p:nvPicPr>
        <p:blipFill>
          <a:blip r:embed="rId5"/>
          <a:stretch/>
        </p:blipFill>
        <p:spPr>
          <a:xfrm>
            <a:off x="714240" y="2571840"/>
            <a:ext cx="1333800" cy="132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101 из 125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97720" y="2214720"/>
            <a:ext cx="190332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Картинка 14 из 104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43800" y="4429080"/>
            <a:ext cx="2143080" cy="16081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2682720" y="334800"/>
            <a:ext cx="3535560" cy="145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9"/>
              <p:cNvSpPr txBox="1"/>
              <p:nvPr/>
            </p:nvSpPr>
            <p:spPr>
              <a:xfrm>
                <a:off x="5572080" y="4141800"/>
                <a:ext cx="13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5286240" y="4500720"/>
                <a:ext cx="1949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17"/>
          <p:cNvSpPr/>
          <p:nvPr/>
        </p:nvSpPr>
        <p:spPr>
          <a:xfrm>
            <a:off x="500040" y="1857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ёшь меня легко в в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ёлке, в шляпке у гри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, конус не стоит в ст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ковка – это тоже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6" descr="http://im4-tub.yandex.net/i?id=44256238&amp;tov=4"/>
          <p:cNvPicPr/>
          <p:nvPr/>
        </p:nvPicPr>
        <p:blipFill>
          <a:blip r:embed="rId2"/>
          <a:stretch/>
        </p:blipFill>
        <p:spPr>
          <a:xfrm>
            <a:off x="1857240" y="4714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im8-tub.yandex.net/i?id=73588947&amp;tov=8"/>
          <p:cNvPicPr/>
          <p:nvPr/>
        </p:nvPicPr>
        <p:blipFill>
          <a:blip r:embed="rId3"/>
          <a:stretch/>
        </p:blipFill>
        <p:spPr>
          <a:xfrm>
            <a:off x="3786120" y="3071880"/>
            <a:ext cx="1143000" cy="15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31 из 48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3214800"/>
            <a:ext cx="185760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Картинка 143 из 4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29160" y="20001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Картинка 5 из 700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00960" y="4429080"/>
            <a:ext cx="1206360" cy="1568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34800"/>
            <a:ext cx="8705880" cy="14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Program Files\Microsoft Office\MEDIA\CAGCAT10\j0285360.wmf"/>
          <p:cNvPicPr/>
          <p:nvPr/>
        </p:nvPicPr>
        <p:blipFill>
          <a:blip r:embed="rId2"/>
          <a:stretch/>
        </p:blipFill>
        <p:spPr>
          <a:xfrm>
            <a:off x="307800" y="3357720"/>
            <a:ext cx="173700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665440" y="5643720"/>
                <a:ext cx="370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308400" y="5072040"/>
                <a:ext cx="2246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11"/>
          <p:cNvSpPr/>
          <p:nvPr/>
        </p:nvSpPr>
        <p:spPr>
          <a:xfrm>
            <a:off x="1643040" y="1785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водская труба и маяк освещённый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онус совсем не простой – усечённый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Рисунок 11" descr="sea70.gif"/>
          <p:cNvPicPr/>
          <p:nvPr/>
        </p:nvPicPr>
        <p:blipFill>
          <a:blip r:embed="rId3"/>
          <a:stretch/>
        </p:blipFill>
        <p:spPr>
          <a:xfrm>
            <a:off x="7286760" y="2000160"/>
            <a:ext cx="1153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артинка 153 из 4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3071880"/>
            <a:ext cx="192420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5 из 133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00880" y="4286160"/>
            <a:ext cx="1976400" cy="1482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задача не для робких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яч упаковать в короб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ен плотно он вой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 в пути не растря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j0299763"/>
          <p:cNvPicPr/>
          <p:nvPr/>
        </p:nvPicPr>
        <p:blipFill>
          <a:blip r:embed="rId1"/>
          <a:stretch/>
        </p:blipFill>
        <p:spPr>
          <a:xfrm>
            <a:off x="785880" y="2714760"/>
            <a:ext cx="3097080" cy="254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4643280" y="2571840"/>
            <a:ext cx="3000600" cy="2643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Рисунок 4" descr="dis16.gif"/>
          <p:cNvPicPr/>
          <p:nvPr/>
        </p:nvPicPr>
        <p:blipFill>
          <a:blip r:embed="rId2"/>
          <a:stretch/>
        </p:blipFill>
        <p:spPr>
          <a:xfrm>
            <a:off x="7286760" y="28584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 в итоге? Посмотри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уб – коробка, мяч – внутр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j0299763"/>
          <p:cNvPicPr/>
          <p:nvPr/>
        </p:nvPicPr>
        <p:blipFill>
          <a:blip r:embed="rId1"/>
          <a:stretch/>
        </p:blipFill>
        <p:spPr>
          <a:xfrm>
            <a:off x="2714760" y="2786040"/>
            <a:ext cx="283824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Куб 4"/>
          <p:cNvSpPr/>
          <p:nvPr/>
        </p:nvSpPr>
        <p:spPr>
          <a:xfrm>
            <a:off x="2928960" y="2643120"/>
            <a:ext cx="2928960" cy="26431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6"/>
          <p:cNvSpPr/>
          <p:nvPr/>
        </p:nvSpPr>
        <p:spPr>
          <a:xfrm flipH="1">
            <a:off x="3569760" y="26431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 flipV="1">
            <a:off x="2928240" y="51436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V="1">
            <a:off x="3142440" y="49287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16"/>
          <p:cNvSpPr/>
          <p:nvPr/>
        </p:nvSpPr>
        <p:spPr>
          <a:xfrm flipH="1" flipV="1">
            <a:off x="5643360" y="464292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ая соединительная линия 18"/>
          <p:cNvSpPr/>
          <p:nvPr/>
        </p:nvSpPr>
        <p:spPr>
          <a:xfrm flipH="1" flipV="1">
            <a:off x="5428800" y="46429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 flipV="1">
            <a:off x="3429000" y="47149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22"/>
          <p:cNvSpPr/>
          <p:nvPr/>
        </p:nvSpPr>
        <p:spPr>
          <a:xfrm flipH="1">
            <a:off x="3569760" y="29289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5840" y="1785960"/>
            <a:ext cx="83581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/0/26/108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mIR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6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YnZXGo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12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ная литература и Интернет – ресур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48:30Z</dcterms:created>
  <dc:creator>Березайка</dc:creator>
  <dc:description/>
  <dc:language>en-US</dc:language>
  <cp:lastModifiedBy>LEGION</cp:lastModifiedBy>
  <dcterms:modified xsi:type="dcterms:W3CDTF">2015-01-26T12:29:00Z</dcterms:modified>
  <cp:revision>59</cp:revision>
  <dc:subject/>
  <dc:title>Слайд 1</dc:title>
</cp:coreProperties>
</file>