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gif" ContentType="image/gif"/>
  <Override PartName="/ppt/media/image26.wmf" ContentType="image/x-wmf"/>
  <Override PartName="/ppt/media/image15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2.wmf" ContentType="image/x-wmf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0113-ABF9-421F-8738-90A5DD96C7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slide" Target="../slides/slide9.xml"/><Relationship Id="rId3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РУГЛЫ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/пресс-конференция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Ш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геометрии в 11 классе . Автор: Михайлова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МОУ «СОШ № 15 п. Березайка Тверской об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01BB-5128-4095-A6E3-AA3596353F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логического мышления, творческой деятельности, ре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самостоятельности, активности, культуры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5495-A210-4CC6-8F27-4C3E80BF4F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ИЛИ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линдром здесь зовусь, друз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ухне встретите ме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–термос, вкусный торт и свеч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трюля тёплая на печ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2DA8-1EC0-47C3-BD03-364E3983DB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Р,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глобус, апельсин и мяч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круглый шар, я даже чай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F298-B817-4628-8288-544EF7622D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b3579"/>
                </a:solidFill>
                <a:latin typeface="Calibri"/>
              </a:rPr>
              <a:t>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ёшь меня легко в в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ёлке, в шляпке у гри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, конус не стоит в сторон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ковка – это тоже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74D6-6269-4BE0-B738-40AA8C34D11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d050"/>
                </a:solidFill>
                <a:latin typeface="Calibri"/>
              </a:rPr>
              <a:t>УСЕЧЁННЫЙ КОН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дская труба и маяк освещённый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 совсем не простой – усечённы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8186-39D0-4205-A934-1D7A40CB2C5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задача не для робки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ч упаковать в коробк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ен плотно он войт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 в пути не растрясти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E9E8-F962-4141-8451-F9E600AEDA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итоге? Посмотр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б – коробка, мяч –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B4A9-5A50-4E46-9519-0A03B99CD6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ая литература и Интернет – ресур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/0/26/108/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IR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YnZXG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9B67-8C88-4CD8-828D-6E2065BDD46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D3C4-A849-4500-93AF-0092E369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981-7858-44F9-8768-BFBA1C3C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42D-24C3-445C-886C-664C9044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E97-6FBE-42A1-8696-1318804E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34CC-C46D-4D7E-9D3A-FF70E583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4F7F-8C48-4742-9737-32072FF4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33DB-E34A-4A5B-8597-F8C941CC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50D-08CD-4141-8E21-7F38BD38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D309-BA6A-40EE-8C70-04DF331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91A9-EA9A-4A73-AB0F-F26BF1DA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9A1E-CDF8-45BB-9F59-E35D4437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204-FAAA-4B3C-BBD0-525B1B7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BE22-0010-4204-AA95-9ED062D9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8329-8D1A-4029-8DDC-F9D37474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69AC-7C95-4412-9353-F7B2A9F8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39C7-FAE7-4CD7-BA79-32AA334F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2D4F-D317-416E-B159-2F89394D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B8D-9D96-45FE-B786-4F15E2A7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4F4-C26E-47D5-BB46-952FC129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00CC-BEF0-4733-BB4B-F822D152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372-7907-44E5-B9BE-B38FE6A8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528-060C-495D-9F2F-955B3B9E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4808-B55F-4643-808F-97973F5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BCD-0373-42B9-9EB0-88DECC1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33ED-9931-486A-A36F-5173919299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7B23-7E88-4CAB-ADCF-CCC065BFCD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adugavd.ru/d/63369/d/14091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media.meta.ua/files/pic/0/26/108/mIR6YnZXGo.jpg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g-fotki.yandex.ru/get/3301/ostroum-igor.0/0_2586_82bc2d69_L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iskystvo.ru/wp-content/24.jpg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peky.ru/tovary/kastruli/p_k_7.jpg" TargetMode="Externa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http://iskystvo.ru/wp-content/26.jpg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hyperlink" Target="http://s57.radikal.ru/i155/0810/61/a5647e91633f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www.cook.freecopy.su/cookbook/pictures/4306.jpg" TargetMode="External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zavodplastmas.kiev.ua/foto/26v.jpg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mega.km.ru/bes_2004/DATA/PREV1998/k_320i.jpg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kinoforum.my1.ru/_fr/3/7676031.jpg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gif"/><Relationship Id="rId4" Type="http://schemas.openxmlformats.org/officeDocument/2006/relationships/hyperlink" Target="http://www.board74.ru/articles/geometry/tcone.gif" TargetMode="External"/><Relationship Id="rId5" Type="http://schemas.openxmlformats.org/officeDocument/2006/relationships/image" Target="../media/image24.png"/><Relationship Id="rId6" Type="http://schemas.openxmlformats.org/officeDocument/2006/relationships/hyperlink" Target="http://flamber.ru/files/photos/1152431728/1181070512_o.jpg" TargetMode="External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lda.ru/dishes/profi/" TargetMode="External"/><Relationship Id="rId2" Type="http://schemas.openxmlformats.org/officeDocument/2006/relationships/hyperlink" Target="http://www.cook.freecopy.su/cookbook/?l=23&amp;w=4306" TargetMode="External"/><Relationship Id="rId3" Type="http://schemas.openxmlformats.org/officeDocument/2006/relationships/hyperlink" Target="http://www.srbp.ru/offers/20/805/2456.html" TargetMode="External"/><Relationship Id="rId4" Type="http://schemas.openxmlformats.org/officeDocument/2006/relationships/hyperlink" Target="http://fotki.yandex.ru/users/mamuka532/view/60544/" TargetMode="External"/><Relationship Id="rId5" Type="http://schemas.openxmlformats.org/officeDocument/2006/relationships/hyperlink" Target="http://arsel.flamber.ru/photos/1200076904/" TargetMode="External"/><Relationship Id="rId6" Type="http://schemas.openxmlformats.org/officeDocument/2006/relationships/hyperlink" Target="http://www.vikar-plastic.com.ua/index.php?categoryID=301" TargetMode="External"/><Relationship Id="rId7" Type="http://schemas.openxmlformats.org/officeDocument/2006/relationships/hyperlink" Target="http://yogaclassic.ru/post/2343" TargetMode="External"/><Relationship Id="rId8" Type="http://schemas.openxmlformats.org/officeDocument/2006/relationships/hyperlink" Target="http://fantasyflash.ru/anime/index.php?kont=sea&amp;n=3" TargetMode="External"/><Relationship Id="rId9" Type="http://schemas.openxmlformats.org/officeDocument/2006/relationships/hyperlink" Target="http://fantasyflash.ru/anime/index.php?kont=disney&amp;n=1" TargetMode="External"/><Relationship Id="rId10" Type="http://schemas.openxmlformats.org/officeDocument/2006/relationships/hyperlink" Target="http://www.liveinternet.ru/photo/ha8xa7/post15454746/" TargetMode="External"/><Relationship Id="rId11" Type="http://schemas.openxmlformats.org/officeDocument/2006/relationships/hyperlink" Target="http://s99-omsk.narod.ru/projects/v/mozaika.htm" TargetMode="External"/><Relationship Id="rId12" Type="http://schemas.openxmlformats.org/officeDocument/2006/relationships/hyperlink" Target="http://iskystvo.ru/metka/forma/" TargetMode="External"/><Relationship Id="rId13" Type="http://schemas.openxmlformats.org/officeDocument/2006/relationships/hyperlink" Target="http://www.russika.ru/ef.php?s=3346" TargetMode="External"/><Relationship Id="rId14" Type="http://schemas.openxmlformats.org/officeDocument/2006/relationships/hyperlink" Target="http://akinfeev.livejournal.com/17482.html?page=26" TargetMode="External"/><Relationship Id="rId15" Type="http://schemas.openxmlformats.org/officeDocument/2006/relationships/hyperlink" Target="http://mega.km.ru/bes_2004/encyclop.asp?TopicNumber=34130&amp;rubr=156" TargetMode="External"/><Relationship Id="rId16" Type="http://schemas.openxmlformats.org/officeDocument/2006/relationships/hyperlink" Target="http://www.board74.ru/articles/geometry/tcone.html" TargetMode="External"/><Relationship Id="rId17" Type="http://schemas.openxmlformats.org/officeDocument/2006/relationships/hyperlink" Target="http://iskystvo.ru/2008/10/" TargetMode="External"/><Relationship Id="rId18" Type="http://schemas.openxmlformats.org/officeDocument/2006/relationships/hyperlink" Target="http://flamber.ru/photos/tags/%E4%EE%F0%EE%E3%E0/1181070512/" TargetMode="External"/><Relationship Id="rId19" Type="http://schemas.openxmlformats.org/officeDocument/2006/relationships/hyperlink" Target="http://slavyane.cddk.ru/publ/20-1-0-272" TargetMode="External"/><Relationship Id="rId20" Type="http://schemas.openxmlformats.org/officeDocument/2006/relationships/hyperlink" Target="http://media.meta.ua/files/pic/0/26/108/mIR6YnZXGo.jpg" TargetMode="External"/><Relationship Id="rId21" Type="http://schemas.openxmlformats.org/officeDocument/2006/relationships/hyperlink" Target="http://media.meta.ua/files/pic/0/26/108/mIR6YnZXGo.jpg" TargetMode="External"/><Relationship Id="rId22" Type="http://schemas.openxmlformats.org/officeDocument/2006/relationships/hyperlink" Target="http://media.meta.ua/files/pic/0/26/108/mIR6YnZXGo.jpg" TargetMode="External"/><Relationship Id="rId23" Type="http://schemas.openxmlformats.org/officeDocument/2006/relationships/hyperlink" Target="http://media.meta.ua/files/pic/0/26/108/mIR6YnZXGo.jpg" TargetMode="External"/><Relationship Id="rId24" Type="http://schemas.openxmlformats.org/officeDocument/2006/relationships/hyperlink" Target="http://media.meta.ua/files/pic/0/26/108/mIR6YnZXGo.jpg" TargetMode="External"/><Relationship Id="rId25" Type="http://schemas.openxmlformats.org/officeDocument/2006/relationships/hyperlink" Target="http://media.meta.ua/files/pic/0/26/108/mIR6YnZXGo.jpg" TargetMode="External"/><Relationship Id="rId26" Type="http://schemas.openxmlformats.org/officeDocument/2006/relationships/hyperlink" Target="http://media.meta.ua/files/pic/0/26/108/mIR6YnZXGo.jpg" TargetMode="External"/><Relationship Id="rId27" Type="http://schemas.openxmlformats.org/officeDocument/2006/relationships/hyperlink" Target="http://media.meta.ua/files/pic/0/26/108/mIR6YnZXGo.jpg" TargetMode="External"/><Relationship Id="rId28" Type="http://schemas.openxmlformats.org/officeDocument/2006/relationships/hyperlink" Target="http://media.meta.ua/files/pic/0/26/108/mIR6YnZXGo.jpg" TargetMode="External"/><Relationship Id="rId29" Type="http://schemas.openxmlformats.org/officeDocument/2006/relationships/hyperlink" Target="http://media.meta.ua/files/pic/0/26/108/mIR6YnZXGo.jpg" TargetMode="External"/><Relationship Id="rId30" Type="http://schemas.openxmlformats.org/officeDocument/2006/relationships/hyperlink" Target="http://media.meta.ua/files/pic/0/26/108/mIR6YnZXGo.jpg" TargetMode="External"/><Relationship Id="rId31" Type="http://schemas.openxmlformats.org/officeDocument/2006/relationships/hyperlink" Target="http://media.meta.ua/files/pic/0/26/108/mIR6YnZXGo.jpg" TargetMode="External"/><Relationship Id="rId32" Type="http://schemas.openxmlformats.org/officeDocument/2006/relationships/hyperlink" Target="http://media.meta.ua/files/pic/0/26/108/mIR6YnZXGo.jpg" TargetMode="External"/><Relationship Id="rId33" Type="http://schemas.openxmlformats.org/officeDocument/2006/relationships/hyperlink" Target="http://media.meta.ua/files/pic/0/26/108/mIR6YnZXGo.jpg" TargetMode="External"/><Relationship Id="rId34" Type="http://schemas.openxmlformats.org/officeDocument/2006/relationships/hyperlink" Target="http://media.meta.ua/files/pic/0/26/108/mIR6YnZXGo.jpg" TargetMode="External"/><Relationship Id="rId35" Type="http://schemas.openxmlformats.org/officeDocument/2006/relationships/hyperlink" Target="http://media.meta.ua/files/pic/0/26/108/mIR6YnZXGo.jpg" TargetMode="External"/><Relationship Id="rId36" Type="http://schemas.openxmlformats.org/officeDocument/2006/relationships/hyperlink" Target="http://media.meta.ua/files/pic/0/26/108/mIR6YnZXGo.jpg" TargetMode="External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5"/>
          <p:cNvSpPr txBox="1"/>
          <p:nvPr/>
        </p:nvSpPr>
        <p:spPr>
          <a:xfrm>
            <a:off x="2843280" y="714240"/>
            <a:ext cx="36576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УГЛЫЕ ТЕЛ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/пресс-конференция/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WordArt 6"/>
          <p:cNvSpPr txBox="1"/>
          <p:nvPr/>
        </p:nvSpPr>
        <p:spPr>
          <a:xfrm>
            <a:off x="3419640" y="2781360"/>
            <a:ext cx="226692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ИЛИНД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НУ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85840" y="585792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зентация к уроку геометрии в 11 классе . Автор: Михайлова 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МОУ «СОШ № 15 п. Березайка Тверской об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бщение и углубление знаний  о круглых телах;   применение их (круглых тел) на практике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витие логического мышления, творческой деятельности, реч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спитание самостоятельности, активности, культуры общ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Прямоугольник 3" descr=""/>
          <p:cNvPicPr/>
          <p:nvPr/>
        </p:nvPicPr>
        <p:blipFill>
          <a:blip r:embed="rId1"/>
          <a:stretch/>
        </p:blipFill>
        <p:spPr>
          <a:xfrm>
            <a:off x="285840" y="334800"/>
            <a:ext cx="7572240" cy="145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Прямоугольник 3" descr=""/>
          <p:cNvPicPr/>
          <p:nvPr/>
        </p:nvPicPr>
        <p:blipFill>
          <a:blip r:embed="rId1"/>
          <a:stretch/>
        </p:blipFill>
        <p:spPr>
          <a:xfrm>
            <a:off x="1749600" y="407880"/>
            <a:ext cx="4846320" cy="157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714680" y="4929120"/>
                <a:ext cx="18666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бо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6"/>
              <p:cNvSpPr txBox="1"/>
              <p:nvPr/>
            </p:nvSpPr>
            <p:spPr>
              <a:xfrm>
                <a:off x="1500120" y="5500800"/>
                <a:ext cx="23335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Box 13"/>
          <p:cNvSpPr/>
          <p:nvPr/>
        </p:nvSpPr>
        <p:spPr>
          <a:xfrm>
            <a:off x="357120" y="207180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илиндром здесь зовусь, друзь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кухне встретите мен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–термос, вкусный торт и свечк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стрюля тёплая на печк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4" descr="http://radugavd.ru/d/63369/d/1409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2143080"/>
            <a:ext cx="1428840" cy="2055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http://media.meta.ua/files/pic/0/26/108/mIR6YnZXGo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15080" y="1928880"/>
            <a:ext cx="1785960" cy="1496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Картинка 22 из 1205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72200" y="4071960"/>
            <a:ext cx="1398600" cy="195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Картинка 62 из 106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71760" y="3357720"/>
            <a:ext cx="2214360" cy="147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Картинка 2 из 9513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429080" y="4643280"/>
            <a:ext cx="1785960" cy="1428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1359000" y="291960"/>
            <a:ext cx="6986520" cy="16099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5"/>
              <p:cNvSpPr txBox="1"/>
              <p:nvPr/>
            </p:nvSpPr>
            <p:spPr>
              <a:xfrm>
                <a:off x="3929040" y="5000760"/>
                <a:ext cx="18892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2" name="TextBox 16"/>
          <p:cNvSpPr/>
          <p:nvPr/>
        </p:nvSpPr>
        <p:spPr>
          <a:xfrm>
            <a:off x="2000160" y="18572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глобус, апельсин и мяч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– круглый шар, я даже чайник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7" descr="http://im5-tub.yandex.net/i?id=57082072&amp;tov=5"/>
          <p:cNvPicPr/>
          <p:nvPr/>
        </p:nvPicPr>
        <p:blipFill>
          <a:blip r:embed="rId2"/>
          <a:stretch/>
        </p:blipFill>
        <p:spPr>
          <a:xfrm>
            <a:off x="1000080" y="4286160"/>
            <a:ext cx="1333440" cy="18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150 из 125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342900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ttp://im0-tub.yandex.net/i?id=61901722&amp;tov=0"/>
          <p:cNvPicPr/>
          <p:nvPr/>
        </p:nvPicPr>
        <p:blipFill>
          <a:blip r:embed="rId5"/>
          <a:stretch/>
        </p:blipFill>
        <p:spPr>
          <a:xfrm>
            <a:off x="714240" y="2571840"/>
            <a:ext cx="1333800" cy="1320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Картинка 101 из 125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97720" y="2214720"/>
            <a:ext cx="1903320" cy="142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Картинка 14 из 10484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43800" y="4429080"/>
            <a:ext cx="2143080" cy="16081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2682720" y="334800"/>
            <a:ext cx="3535560" cy="1457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9"/>
              <p:cNvSpPr txBox="1"/>
              <p:nvPr/>
            </p:nvSpPr>
            <p:spPr>
              <a:xfrm>
                <a:off x="5572080" y="4141800"/>
                <a:ext cx="13572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21"/>
              <p:cNvSpPr txBox="1"/>
              <p:nvPr/>
            </p:nvSpPr>
            <p:spPr>
              <a:xfrm>
                <a:off x="5286240" y="4500720"/>
                <a:ext cx="1949760" cy="44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полн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Box 17"/>
          <p:cNvSpPr/>
          <p:nvPr/>
        </p:nvSpPr>
        <p:spPr>
          <a:xfrm>
            <a:off x="500040" y="185724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ёшь меня легко в в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 ёлке, в шляпке у гриб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, конус не стоит в сторонк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ковка – это тоже 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6" descr="http://im4-tub.yandex.net/i?id=44256238&amp;tov=4"/>
          <p:cNvPicPr/>
          <p:nvPr/>
        </p:nvPicPr>
        <p:blipFill>
          <a:blip r:embed="rId2"/>
          <a:stretch/>
        </p:blipFill>
        <p:spPr>
          <a:xfrm>
            <a:off x="1857240" y="4714920"/>
            <a:ext cx="1800360" cy="13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http://im8-tub.yandex.net/i?id=73588947&amp;tov=8"/>
          <p:cNvPicPr/>
          <p:nvPr/>
        </p:nvPicPr>
        <p:blipFill>
          <a:blip r:embed="rId3"/>
          <a:stretch/>
        </p:blipFill>
        <p:spPr>
          <a:xfrm>
            <a:off x="3786120" y="3071880"/>
            <a:ext cx="1143000" cy="1517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Картинка 31 из 4814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20" y="3214800"/>
            <a:ext cx="1857600" cy="1311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43 из 47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429160" y="20001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Картинка 5 из 700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500960" y="4429080"/>
            <a:ext cx="1206360" cy="156852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34800"/>
            <a:ext cx="8705880" cy="1457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Program Files\Microsoft Office\MEDIA\CAGCAT10\j0285360.wmf"/>
          <p:cNvPicPr/>
          <p:nvPr/>
        </p:nvPicPr>
        <p:blipFill>
          <a:blip r:embed="rId2"/>
          <a:stretch/>
        </p:blipFill>
        <p:spPr>
          <a:xfrm>
            <a:off x="307800" y="3357720"/>
            <a:ext cx="1737000" cy="2143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2665440" y="5643720"/>
                <a:ext cx="37018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лн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308400" y="5072040"/>
                <a:ext cx="2246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бо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Box 11"/>
          <p:cNvSpPr/>
          <p:nvPr/>
        </p:nvSpPr>
        <p:spPr>
          <a:xfrm>
            <a:off x="1643040" y="178596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водская труба и маяк освещённый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конус совсем не простой – усечённый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Рисунок 11" descr="sea70.gif"/>
          <p:cNvPicPr/>
          <p:nvPr/>
        </p:nvPicPr>
        <p:blipFill>
          <a:blip r:embed="rId3"/>
          <a:stretch/>
        </p:blipFill>
        <p:spPr>
          <a:xfrm>
            <a:off x="7286760" y="2000160"/>
            <a:ext cx="11538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Картинка 153 из 47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3071880"/>
            <a:ext cx="1924200" cy="148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Картинка 5 из 133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00880" y="4286160"/>
            <a:ext cx="1976400" cy="1482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1320" y="999720"/>
            <a:ext cx="807228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от задача не для робких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яч упаковать в короб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ен плотно он войт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б в пути не растряст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2" descr="j0299763"/>
          <p:cNvPicPr/>
          <p:nvPr/>
        </p:nvPicPr>
        <p:blipFill>
          <a:blip r:embed="rId1"/>
          <a:stretch/>
        </p:blipFill>
        <p:spPr>
          <a:xfrm>
            <a:off x="785880" y="2714760"/>
            <a:ext cx="3097080" cy="25477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4643280" y="2571840"/>
            <a:ext cx="3000600" cy="2643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Рисунок 4" descr="dis16.gif"/>
          <p:cNvPicPr/>
          <p:nvPr/>
        </p:nvPicPr>
        <p:blipFill>
          <a:blip r:embed="rId2"/>
          <a:stretch/>
        </p:blipFill>
        <p:spPr>
          <a:xfrm>
            <a:off x="7286760" y="285840"/>
            <a:ext cx="952200" cy="1143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А в итоге? Посмотри: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Куб – коробка, мяч – внутри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2" descr="j0299763"/>
          <p:cNvPicPr/>
          <p:nvPr/>
        </p:nvPicPr>
        <p:blipFill>
          <a:blip r:embed="rId1"/>
          <a:stretch/>
        </p:blipFill>
        <p:spPr>
          <a:xfrm>
            <a:off x="2714760" y="2786040"/>
            <a:ext cx="2838240" cy="2286000"/>
          </a:xfrm>
          <a:prstGeom prst="rect">
            <a:avLst/>
          </a:prstGeom>
          <a:ln w="0">
            <a:noFill/>
          </a:ln>
        </p:spPr>
      </p:pic>
      <p:sp>
        <p:nvSpPr>
          <p:cNvPr id="148" name="Куб 4"/>
          <p:cNvSpPr/>
          <p:nvPr/>
        </p:nvSpPr>
        <p:spPr>
          <a:xfrm>
            <a:off x="2928960" y="2643120"/>
            <a:ext cx="2928960" cy="2643120"/>
          </a:xfrm>
          <a:prstGeom prst="cube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 flipH="1">
            <a:off x="3569760" y="264312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 flipV="1">
            <a:off x="2928240" y="514368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V="1">
            <a:off x="3142440" y="492876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рямая соединительная линия 16"/>
          <p:cNvSpPr/>
          <p:nvPr/>
        </p:nvSpPr>
        <p:spPr>
          <a:xfrm flipH="1" flipV="1">
            <a:off x="5643360" y="4642920"/>
            <a:ext cx="214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рямая соединительная линия 18"/>
          <p:cNvSpPr/>
          <p:nvPr/>
        </p:nvSpPr>
        <p:spPr>
          <a:xfrm flipH="1" flipV="1">
            <a:off x="5428800" y="4642920"/>
            <a:ext cx="1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Прямая соединительная линия 20"/>
          <p:cNvSpPr/>
          <p:nvPr/>
        </p:nvSpPr>
        <p:spPr>
          <a:xfrm flipV="1">
            <a:off x="3429000" y="47149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Прямая соединительная линия 22"/>
          <p:cNvSpPr/>
          <p:nvPr/>
        </p:nvSpPr>
        <p:spPr>
          <a:xfrm flipH="1">
            <a:off x="3569760" y="292896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285840" y="1785960"/>
            <a:ext cx="83581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ометрия: Учеб. для 10-11 кл.сред.шк./Л.С.Атанасян, В.Ф.Бутузов, С.Б. Кадомцев и др.-М.: Просвещение. 200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soft Office Power Point /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ллекция картинок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 http://www.salda.ru/dishes/prof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cook.freecopy.su/cookbook/?l=23&amp;w=43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srbp.ru/offers/20/805/2456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fotki.yandex.ru/users/mamuka532/view/6054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arsel.flamber.ru/photos/1200076904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vikar-plastic.com.ua/index.php?categoryID=3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yogaclassic.ru/post/234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fantasyflash.ru/anime/index.php?kont=sea&amp;n=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http://fantasyflash.ru/anime/index.php?kont=disney&amp;n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http://www.liveinternet.ru/photo/ha8xa7/post15454746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http://s99-omsk.narod.ru/projects/v/mozaika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http://iskystvo.ru/metka/forma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http://www.russika.ru/ef.php?s=334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http://akinfeev.livejournal.com/17482.html?page=2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http://mega.km.ru/bes_2004/encyclop.asp?TopicNumber=34130&amp;rubr=15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6"/>
              </a:rPr>
              <a:t>http://www.board74.ru/articles/geometry/tcone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7"/>
              </a:rPr>
              <a:t>http://iskystvo.ru/2008/10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8"/>
              </a:rPr>
              <a:t>http://flamber.ru/photos/tags/%E4%EE%F0%EE%E3%E0/1181070512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19"/>
              </a:rPr>
              <a:t>http://slavyane.cddk.ru/publ/20-1-0-27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0"/>
              </a:rPr>
              <a:t>http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1"/>
              </a:rPr>
              <a:t>:/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2"/>
              </a:rPr>
              <a:t>medi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3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4"/>
              </a:rPr>
              <a:t>met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6"/>
              </a:rPr>
              <a:t>ua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7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28"/>
              </a:rPr>
              <a:t>files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29"/>
              </a:rPr>
              <a:t>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0"/>
              </a:rPr>
              <a:t>pic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1"/>
              </a:rPr>
              <a:t>/0/26/108/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2"/>
              </a:rPr>
              <a:t>mIR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3"/>
              </a:rPr>
              <a:t>6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4"/>
              </a:rPr>
              <a:t>YnZXGo</a:t>
            </a:r>
            <a:r>
              <a:rPr b="0" lang="ru-RU" sz="1200" spc="-1" strike="noStrike" u="sng">
                <a:solidFill>
                  <a:srgbClr val="336699"/>
                </a:solidFill>
                <a:uFillTx/>
                <a:latin typeface="Verdana"/>
                <a:hlinkClick r:id="rId35"/>
              </a:rPr>
              <a:t>.</a:t>
            </a:r>
            <a:r>
              <a:rPr b="0" lang="en-US" sz="1200" spc="-1" strike="noStrike" u="sng">
                <a:solidFill>
                  <a:srgbClr val="336699"/>
                </a:solidFill>
                <a:uFillTx/>
                <a:latin typeface="Verdana"/>
                <a:hlinkClick r:id="rId36"/>
              </a:rPr>
              <a:t>jp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57120" y="285840"/>
            <a:ext cx="85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пользованная литература и Интернет – ресур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9:48:30Z</dcterms:created>
  <dc:creator>Березайка</dc:creator>
  <dc:description/>
  <dc:language>en-US</dc:language>
  <cp:lastModifiedBy>LEGION</cp:lastModifiedBy>
  <dcterms:modified xsi:type="dcterms:W3CDTF">2015-01-26T12:29:00Z</dcterms:modified>
  <cp:revision>59</cp:revision>
  <dc:subject/>
  <dc:title>Слайд 1</dc:title>
</cp:coreProperties>
</file>