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8B60-DBDC-4F61-AC2D-18DF007808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зык у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09AD-56E9-480E-AC70-E2A3F58107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Times New Roman"/>
              </a:rPr>
              <a:t>Уравнения с параметр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1.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Найдите значение коэффициента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при котором уравнение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х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=-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1)Имеет один корень. Найдите этот кор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2)Имеет один корень, равный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3)Не имеет кор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4)Имеет в качестве корня люб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3D03-60B5-49A3-B3A2-063BFB3AA4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2.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Найдите все возможные решения уравнения 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х = в, 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где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х 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- переменная,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– некоторые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BF5D-6C00-437B-836E-D63F39E739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6699"/>
                </a:solidFill>
                <a:uFillTx/>
                <a:latin typeface="Times New Roman"/>
              </a:rPr>
              <a:t>Задание 3</a:t>
            </a:r>
            <a:r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. Решите уравнения, где </a:t>
            </a:r>
            <a:r>
              <a:rPr b="1" i="1" lang="ru-RU" sz="1200" spc="-1" strike="noStrike">
                <a:solidFill>
                  <a:srgbClr val="336699"/>
                </a:solidFill>
                <a:latin typeface="Times New Roman"/>
              </a:rPr>
              <a:t>х </a:t>
            </a:r>
            <a:r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- переменная,  </a:t>
            </a:r>
            <a:r>
              <a:rPr b="1" i="1" lang="en-US" sz="1200" spc="-1" strike="noStrike">
                <a:solidFill>
                  <a:srgbClr val="336699"/>
                </a:solidFill>
                <a:latin typeface="Times New Roman"/>
              </a:rPr>
              <a:t>a, b, m, n</a:t>
            </a:r>
            <a:r>
              <a:rPr b="1" lang="en-US" sz="1200" spc="-1" strike="noStrike">
                <a:solidFill>
                  <a:srgbClr val="336699"/>
                </a:solidFill>
                <a:latin typeface="Times New Roman"/>
              </a:rPr>
              <a:t> – </a:t>
            </a:r>
            <a:r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некоторые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E5F4-7B99-43A6-8558-B4DF73B2E2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Мне приходилось делить время между политикой и уравнениями. Однако уравнения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по − моему, гораздо важнее. Политика существует только для данного момента, а уравнения будут существовать вечно.»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 А. Эйнштей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6680-B990-4D9F-9073-9C178B450C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остите вы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8378-4D87-4C34-B9BE-B619297D9F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значит решить уравнени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азывают корнем уравне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равенство называют уравнение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орней в уравнен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рьте, является ли число 7 корнем уравнений 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=4  и  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)=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ой вывод можно сделать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ь уравнение: 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 =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е данное уравнение другим способом, используя то, что сумма противоположных чисел равна 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дание 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ь уравне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;                  г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2x+5I=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х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(1,5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9);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1-7xI=-9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)(9-0,1х)(5+3х)=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5B53-2CB6-43C6-A6A3-E440A23243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нейные урав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Алгебра дает общую «отмычку», которой открываются любые задачные «замки», тогда как арифметика подбирает к каждой задаче свой ключ.» (И.К. Андр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Линейным уравне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одним неизвестным называют уравнение которое можно привести к виду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х=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≠0, т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в уравнении один кор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≠0, то 0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 уравнение не имеет кор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, то 0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 и уравнение имеет бесконечное число корней, х-люб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  <a:ea typeface="Arial"/>
              </a:rPr>
              <a:t>Модулем числа а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зывают расстояние (в единичных отрезках) от начала координат до точки А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дуль отрицательного числа есть положительное число, ему противополож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дуль положительного числа равен самому числ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дуль нуля равен ну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7369-AA0D-4213-88EC-67A3352DAB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Алгоритм решения уравн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ала уравнение упрости, если это возможно (раскрой скобки, приведи подобны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перенеси слагаемые, содержащие неизвестное, в одну часть уравнения, а остальные слагаемые – в другую часть уравнения, изменив при этом их знаки на противополож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одобные чле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 корни уравнения или докажи, что их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518D-37F1-49B5-B03D-F003D480AB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1. Решить уравн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,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5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6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. Найти корни уравнений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C5CD-1FB0-45D4-A19D-30A4C7401A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029-3FA0-418F-BA08-64D4F1C1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D29-D448-4EA0-8195-4BF2D86A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9A3-E804-48B7-AB14-E467C959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A29-87A6-4D26-8F5C-7DBE3BF9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BC39-16ED-435D-8E6D-C7B82670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B400-0346-423B-ADFD-8C6CDC40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E6A3-B5F7-4FCB-9D55-28A9DCB4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F74F-A8C8-44C4-92D7-57B837BA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9F1D-2FD1-464C-9728-A005FD47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1EA-BE92-4319-B6D8-307209E8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778-5E3E-4C14-84FD-17357AD8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CB3B-DF5A-4B44-A467-44B57592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3092-EEAD-4F4B-8CE8-C298A9F73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116000" y="4437000"/>
            <a:ext cx="77724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зык уравнений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364000" y="5805360"/>
            <a:ext cx="2953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 «Гимназия №10»  г. Тверь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   Горшкова И.А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pic>
        <p:nvPicPr>
          <p:cNvPr id="50" name="Picture 6" descr="kandinsky_2"/>
          <p:cNvPicPr/>
          <p:nvPr/>
        </p:nvPicPr>
        <p:blipFill>
          <a:blip r:embed="rId1"/>
          <a:stretch/>
        </p:blipFill>
        <p:spPr>
          <a:xfrm>
            <a:off x="1042920" y="0"/>
            <a:ext cx="7704360" cy="48322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imes New Roman"/>
              </a:rPr>
              <a:t>Уравнения с парамет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5200" y="549360"/>
            <a:ext cx="85788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1.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Найдите значение коэффициента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и котором уравнение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х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=-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)Имеет один корень. Найдите этот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2)Имеет один корень, равный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3)Не имеет кор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4)Имеет в качестве корня люб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0"/>
          <p:cNvGrpSpPr/>
          <p:nvPr/>
        </p:nvGrpSpPr>
        <p:grpSpPr>
          <a:xfrm>
            <a:off x="684360" y="3213000"/>
            <a:ext cx="8459640" cy="3456000"/>
            <a:chOff x="684360" y="3213000"/>
            <a:chExt cx="8459640" cy="3456000"/>
          </a:xfrm>
        </p:grpSpPr>
        <p:sp>
          <p:nvSpPr>
            <p:cNvPr id="163" name="Oval 4"/>
            <p:cNvSpPr/>
            <p:nvPr/>
          </p:nvSpPr>
          <p:spPr>
            <a:xfrm>
              <a:off x="3452760" y="3213000"/>
              <a:ext cx="2546280" cy="1008000"/>
            </a:xfrm>
            <a:prstGeom prst="ellipse">
              <a:avLst/>
            </a:prstGeom>
            <a:solidFill>
              <a:srgbClr val="ff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4" name="Text Box 5"/>
            <p:cNvSpPr/>
            <p:nvPr/>
          </p:nvSpPr>
          <p:spPr>
            <a:xfrm>
              <a:off x="3827520" y="3284640"/>
              <a:ext cx="202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∙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х= -5</a:t>
              </a:r>
              <a:endParaRPr b="0" lang="en-US" sz="40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5" name="AutoShape 6"/>
            <p:cNvSpPr/>
            <p:nvPr/>
          </p:nvSpPr>
          <p:spPr>
            <a:xfrm rot="14431800">
              <a:off x="2852640" y="3731760"/>
              <a:ext cx="284040" cy="1046160"/>
            </a:xfrm>
            <a:prstGeom prst="upArrow">
              <a:avLst>
                <a:gd name="adj1" fmla="val 50000"/>
                <a:gd name="adj2" fmla="val 92079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>
              <a:off x="684360" y="4437000"/>
              <a:ext cx="2095200" cy="165600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7" name="Oval 8"/>
            <p:cNvSpPr/>
            <p:nvPr/>
          </p:nvSpPr>
          <p:spPr>
            <a:xfrm>
              <a:off x="2779560" y="5084640"/>
              <a:ext cx="2320920" cy="158436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8" name="Oval 9"/>
            <p:cNvSpPr/>
            <p:nvPr/>
          </p:nvSpPr>
          <p:spPr>
            <a:xfrm>
              <a:off x="5324400" y="5084640"/>
              <a:ext cx="2246400" cy="151308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9" name="Text Box 10"/>
            <p:cNvSpPr/>
            <p:nvPr/>
          </p:nvSpPr>
          <p:spPr>
            <a:xfrm>
              <a:off x="1058760" y="4508640"/>
              <a:ext cx="134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≠0,</a:t>
              </a:r>
              <a:endParaRPr b="0" lang="en-US" sz="3600" spc="-1" strike="noStrike">
                <a:solidFill>
                  <a:srgbClr val="6600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Object 11"/>
                <p:cNvSpPr txBox="1"/>
                <p:nvPr/>
              </p:nvSpPr>
              <p:spPr>
                <a:xfrm>
                  <a:off x="982800" y="4941720"/>
                  <a:ext cx="1272960" cy="99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AutoShape 12"/>
            <p:cNvSpPr/>
            <p:nvPr/>
          </p:nvSpPr>
          <p:spPr>
            <a:xfrm rot="12256800">
              <a:off x="4127040" y="4292280"/>
              <a:ext cx="295200" cy="720720"/>
            </a:xfrm>
            <a:prstGeom prst="upArrow">
              <a:avLst>
                <a:gd name="adj1" fmla="val 50000"/>
                <a:gd name="adj2" fmla="val 61037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2" name="Text Box 13"/>
            <p:cNvSpPr/>
            <p:nvPr/>
          </p:nvSpPr>
          <p:spPr>
            <a:xfrm>
              <a:off x="3305160" y="5229360"/>
              <a:ext cx="1482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Таких значений нет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3" name="AutoShape 14"/>
            <p:cNvSpPr/>
            <p:nvPr/>
          </p:nvSpPr>
          <p:spPr>
            <a:xfrm rot="8838600">
              <a:off x="5400360" y="4220640"/>
              <a:ext cx="295200" cy="785880"/>
            </a:xfrm>
            <a:prstGeom prst="upArrow">
              <a:avLst>
                <a:gd name="adj1" fmla="val 50000"/>
                <a:gd name="adj2" fmla="val 66555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4" name="Text Box 15"/>
            <p:cNvSpPr/>
            <p:nvPr/>
          </p:nvSpPr>
          <p:spPr>
            <a:xfrm>
              <a:off x="5999040" y="5373720"/>
              <a:ext cx="134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0</a:t>
              </a:r>
              <a:endParaRPr b="0" lang="en-US" sz="36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5" name="AutoShape 16"/>
            <p:cNvSpPr/>
            <p:nvPr/>
          </p:nvSpPr>
          <p:spPr>
            <a:xfrm rot="6943800">
              <a:off x="6307920" y="3664440"/>
              <a:ext cx="284040" cy="1038240"/>
            </a:xfrm>
            <a:prstGeom prst="upArrow">
              <a:avLst>
                <a:gd name="adj1" fmla="val 50000"/>
                <a:gd name="adj2" fmla="val 91381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6" name="Oval 17"/>
            <p:cNvSpPr/>
            <p:nvPr/>
          </p:nvSpPr>
          <p:spPr>
            <a:xfrm>
              <a:off x="7048440" y="3789360"/>
              <a:ext cx="2095560" cy="165564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7" name="Text Box 18"/>
            <p:cNvSpPr/>
            <p:nvPr/>
          </p:nvSpPr>
          <p:spPr>
            <a:xfrm>
              <a:off x="7459560" y="3860640"/>
              <a:ext cx="160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Таких значений нет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</p:grp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2.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Найдите все возможные решения уравнения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ах = в,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где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х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- переменная,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– некоторые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7"/>
          <p:cNvGrpSpPr/>
          <p:nvPr/>
        </p:nvGrpSpPr>
        <p:grpSpPr>
          <a:xfrm>
            <a:off x="900000" y="1700280"/>
            <a:ext cx="7775640" cy="4681440"/>
            <a:chOff x="900000" y="1700280"/>
            <a:chExt cx="7775640" cy="4681440"/>
          </a:xfrm>
        </p:grpSpPr>
        <p:sp>
          <p:nvSpPr>
            <p:cNvPr id="181" name="Oval 3"/>
            <p:cNvSpPr/>
            <p:nvPr/>
          </p:nvSpPr>
          <p:spPr>
            <a:xfrm>
              <a:off x="3419640" y="1700280"/>
              <a:ext cx="2447640" cy="1369800"/>
            </a:xfrm>
            <a:prstGeom prst="ellipse">
              <a:avLst/>
            </a:prstGeom>
            <a:solidFill>
              <a:srgbClr val="c9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3851280" y="1916280"/>
              <a:ext cx="194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∙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х= в</a:t>
              </a:r>
              <a:endParaRPr b="0" lang="en-US" sz="40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 rot="14431800">
              <a:off x="2836080" y="2600640"/>
              <a:ext cx="284040" cy="1006560"/>
            </a:xfrm>
            <a:prstGeom prst="upArrow">
              <a:avLst>
                <a:gd name="adj1" fmla="val 50000"/>
                <a:gd name="adj2" fmla="val 88593"/>
              </a:avLst>
            </a:prstGeom>
            <a:solidFill>
              <a:srgbClr val="c9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900000" y="3284640"/>
              <a:ext cx="2087640" cy="2016000"/>
            </a:xfrm>
            <a:prstGeom prst="ellipse">
              <a:avLst/>
            </a:prstGeom>
            <a:solidFill>
              <a:srgbClr val="ffccff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3492360" y="4508640"/>
              <a:ext cx="2665440" cy="1873080"/>
            </a:xfrm>
            <a:prstGeom prst="ellipse">
              <a:avLst/>
            </a:prstGeom>
            <a:solidFill>
              <a:srgbClr val="ffccff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1332000" y="335772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≠0,</a:t>
              </a:r>
              <a:endParaRPr b="0" lang="en-US" sz="3600" spc="-1" strike="noStrike">
                <a:solidFill>
                  <a:srgbClr val="6600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9"/>
                <p:cNvSpPr txBox="1"/>
                <p:nvPr/>
              </p:nvSpPr>
              <p:spPr>
                <a:xfrm>
                  <a:off x="1258920" y="3933720"/>
                  <a:ext cx="965160" cy="99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AutoShape 10"/>
            <p:cNvSpPr/>
            <p:nvPr/>
          </p:nvSpPr>
          <p:spPr>
            <a:xfrm rot="10610400">
              <a:off x="4571640" y="3212640"/>
              <a:ext cx="284040" cy="1155960"/>
            </a:xfrm>
            <a:prstGeom prst="upArrow">
              <a:avLst>
                <a:gd name="adj1" fmla="val 50000"/>
                <a:gd name="adj2" fmla="val 101743"/>
              </a:avLst>
            </a:prstGeom>
            <a:solidFill>
              <a:srgbClr val="c9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4067280" y="4581360"/>
              <a:ext cx="1512720" cy="9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0; в=0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∙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=0; 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0" name="AutoShape 12"/>
            <p:cNvSpPr/>
            <p:nvPr/>
          </p:nvSpPr>
          <p:spPr>
            <a:xfrm rot="7763400">
              <a:off x="6065280" y="2727000"/>
              <a:ext cx="284040" cy="1112760"/>
            </a:xfrm>
            <a:prstGeom prst="upArrow">
              <a:avLst>
                <a:gd name="adj1" fmla="val 50000"/>
                <a:gd name="adj2" fmla="val 97940"/>
              </a:avLst>
            </a:prstGeom>
            <a:solidFill>
              <a:srgbClr val="c9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3636000" y="5516640"/>
              <a:ext cx="23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х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любое число.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2" name="Oval 14"/>
            <p:cNvSpPr/>
            <p:nvPr/>
          </p:nvSpPr>
          <p:spPr>
            <a:xfrm>
              <a:off x="6588000" y="3429000"/>
              <a:ext cx="2087640" cy="2016000"/>
            </a:xfrm>
            <a:prstGeom prst="ellipse">
              <a:avLst/>
            </a:prstGeom>
            <a:solidFill>
              <a:srgbClr val="ffccff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6804000" y="3716280"/>
              <a:ext cx="1871640" cy="9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0; в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</a:rPr>
                <a:t>≠</a:t>
              </a:r>
              <a:r>
                <a:rPr b="0" lang="ru-RU" sz="2800" spc="-1" strike="noStrike">
                  <a:solidFill>
                    <a:srgbClr val="6600cc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∙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= в; 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4" name="Rectangle 16"/>
            <p:cNvSpPr/>
            <p:nvPr/>
          </p:nvSpPr>
          <p:spPr>
            <a:xfrm>
              <a:off x="6733440" y="4653000"/>
              <a:ext cx="178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орней нет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</p:grp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280" y="260280"/>
            <a:ext cx="8064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99"/>
                </a:solidFill>
                <a:uFillTx/>
                <a:latin typeface="Times New Roman"/>
              </a:rPr>
              <a:t>Задание 3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. Решите уравнения, где </a:t>
            </a:r>
            <a:r>
              <a:rPr b="1" i="1" lang="ru-RU" sz="2800" spc="-1" strike="noStrike">
                <a:solidFill>
                  <a:srgbClr val="336699"/>
                </a:solidFill>
                <a:latin typeface="Times New Roman"/>
              </a:rPr>
              <a:t>х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- переменная,  </a:t>
            </a:r>
            <a:r>
              <a:rPr b="1" i="1" lang="en-US" sz="2800" spc="-1" strike="noStrike">
                <a:solidFill>
                  <a:srgbClr val="336699"/>
                </a:solidFill>
                <a:latin typeface="Times New Roman"/>
              </a:rPr>
              <a:t>a, b, m, n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екоторые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>
                <a:off x="1900080" y="1708200"/>
                <a:ext cx="3751560" cy="36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1042920" y="189000"/>
                <a:ext cx="309744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а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5292720" y="115920"/>
                <a:ext cx="2736720" cy="22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2"/>
              <p:cNvSpPr txBox="1"/>
              <p:nvPr/>
            </p:nvSpPr>
            <p:spPr>
              <a:xfrm>
                <a:off x="1042920" y="2997360"/>
                <a:ext cx="2925720" cy="34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а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в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в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6"/>
              <p:cNvSpPr txBox="1"/>
              <p:nvPr/>
            </p:nvSpPr>
            <p:spPr>
              <a:xfrm>
                <a:off x="5292720" y="2997360"/>
                <a:ext cx="2813040" cy="34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1042920" y="115920"/>
                <a:ext cx="2764080" cy="41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4643280" y="819000"/>
                <a:ext cx="345780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2"/>
              <p:cNvSpPr txBox="1"/>
              <p:nvPr/>
            </p:nvSpPr>
            <p:spPr>
              <a:xfrm>
                <a:off x="971640" y="4508640"/>
                <a:ext cx="3313080" cy="20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5"/>
              <p:cNvSpPr txBox="1"/>
              <p:nvPr/>
            </p:nvSpPr>
            <p:spPr>
              <a:xfrm>
                <a:off x="5580000" y="3429000"/>
                <a:ext cx="262116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а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560" y="1125000"/>
            <a:ext cx="793116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Мне приходилось делить время между политикой и уравнениями. Однако уравнения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о − моему, гораздо важнее. Политика существует только для данного момента, а уравнения будут существовать вечно.»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( А. Эйнштей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000" y="189000"/>
            <a:ext cx="84596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остите выраж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549360"/>
          <a:ext cx="8070840" cy="2519280"/>
        </p:xfrm>
        <a:graphic>
          <a:graphicData uri="http://schemas.openxmlformats.org/drawingml/2006/table">
            <a:tbl>
              <a:tblPr/>
              <a:tblGrid>
                <a:gridCol w="4032000"/>
                <a:gridCol w="4038840"/>
              </a:tblGrid>
              <a:tr h="25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6" name="Object 15"/>
              <p:cNvSpPr txBox="1"/>
              <p:nvPr/>
            </p:nvSpPr>
            <p:spPr>
              <a:xfrm>
                <a:off x="971640" y="981000"/>
                <a:ext cx="3671640" cy="25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3"/>
              <p:cNvSpPr txBox="1"/>
              <p:nvPr/>
            </p:nvSpPr>
            <p:spPr>
              <a:xfrm>
                <a:off x="5003640" y="1052640"/>
                <a:ext cx="3529080" cy="23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8" name=""/>
          <p:cNvGraphicFramePr/>
          <p:nvPr/>
        </p:nvGraphicFramePr>
        <p:xfrm>
          <a:off x="677880" y="3429000"/>
          <a:ext cx="8070840" cy="2519280"/>
        </p:xfrm>
        <a:graphic>
          <a:graphicData uri="http://schemas.openxmlformats.org/drawingml/2006/table">
            <a:tbl>
              <a:tblPr/>
              <a:tblGrid>
                <a:gridCol w="4032360"/>
                <a:gridCol w="4038480"/>
              </a:tblGrid>
              <a:tr h="25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2"/>
          <p:cNvSpPr/>
          <p:nvPr/>
        </p:nvSpPr>
        <p:spPr>
          <a:xfrm>
            <a:off x="1566360" y="3932280"/>
            <a:ext cx="225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) 8m-n;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n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) 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 + y + 6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 + 2y + 4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д) – 3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x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7y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0" name="Text Box 43"/>
          <p:cNvSpPr/>
          <p:nvPr/>
        </p:nvSpPr>
        <p:spPr>
          <a:xfrm>
            <a:off x="5427720" y="3933720"/>
            <a:ext cx="303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)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3m + 4n;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) 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m + 4n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) 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 + 5y + 7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x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y + 4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д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x + 15y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8y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32"/>
          <p:cNvSpPr/>
          <p:nvPr/>
        </p:nvSpPr>
        <p:spPr>
          <a:xfrm>
            <a:off x="826920" y="1125360"/>
            <a:ext cx="1800360" cy="1729080"/>
          </a:xfrm>
          <a:prstGeom prst="ellipse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3" name="Oval 33"/>
          <p:cNvSpPr/>
          <p:nvPr/>
        </p:nvSpPr>
        <p:spPr>
          <a:xfrm>
            <a:off x="900000" y="5013360"/>
            <a:ext cx="1800360" cy="1728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4" name="Oval 34"/>
          <p:cNvSpPr/>
          <p:nvPr/>
        </p:nvSpPr>
        <p:spPr>
          <a:xfrm>
            <a:off x="2916360" y="1197000"/>
            <a:ext cx="1800000" cy="1728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5" name="Oval 35"/>
          <p:cNvSpPr/>
          <p:nvPr/>
        </p:nvSpPr>
        <p:spPr>
          <a:xfrm>
            <a:off x="2916360" y="3068640"/>
            <a:ext cx="1800000" cy="1728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6" name="Oval 36"/>
          <p:cNvSpPr/>
          <p:nvPr/>
        </p:nvSpPr>
        <p:spPr>
          <a:xfrm>
            <a:off x="826920" y="3141720"/>
            <a:ext cx="1800360" cy="172872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7" name="Oval 37"/>
          <p:cNvSpPr/>
          <p:nvPr/>
        </p:nvSpPr>
        <p:spPr>
          <a:xfrm>
            <a:off x="6877080" y="1125360"/>
            <a:ext cx="1800360" cy="1729080"/>
          </a:xfrm>
          <a:prstGeom prst="ellipse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8" name="Oval 38"/>
          <p:cNvSpPr/>
          <p:nvPr/>
        </p:nvSpPr>
        <p:spPr>
          <a:xfrm>
            <a:off x="7093080" y="4941720"/>
            <a:ext cx="1800000" cy="1729080"/>
          </a:xfrm>
          <a:prstGeom prst="ellipse">
            <a:avLst/>
          </a:prstGeom>
          <a:solidFill>
            <a:srgbClr val="f99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9" name="Oval 39"/>
          <p:cNvSpPr/>
          <p:nvPr/>
        </p:nvSpPr>
        <p:spPr>
          <a:xfrm>
            <a:off x="5003640" y="4869000"/>
            <a:ext cx="1800360" cy="1728720"/>
          </a:xfrm>
          <a:prstGeom prst="ellipse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0" name="Oval 40"/>
          <p:cNvSpPr/>
          <p:nvPr/>
        </p:nvSpPr>
        <p:spPr>
          <a:xfrm>
            <a:off x="4932360" y="3068640"/>
            <a:ext cx="1800360" cy="172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1" name="Oval 41"/>
          <p:cNvSpPr/>
          <p:nvPr/>
        </p:nvSpPr>
        <p:spPr>
          <a:xfrm>
            <a:off x="2916360" y="4941720"/>
            <a:ext cx="1800000" cy="1729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2" name="Oval 43"/>
          <p:cNvSpPr/>
          <p:nvPr/>
        </p:nvSpPr>
        <p:spPr>
          <a:xfrm>
            <a:off x="6948360" y="2997360"/>
            <a:ext cx="1800360" cy="17287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3" name="Oval 44"/>
          <p:cNvSpPr/>
          <p:nvPr/>
        </p:nvSpPr>
        <p:spPr>
          <a:xfrm>
            <a:off x="4859280" y="1197000"/>
            <a:ext cx="1800360" cy="1728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4" name="Text Box 45"/>
          <p:cNvSpPr/>
          <p:nvPr/>
        </p:nvSpPr>
        <p:spPr>
          <a:xfrm>
            <a:off x="684360" y="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Из заданных выражений составьте уравнения с одной переменной и решите их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1042920" y="148428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х-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6" name="Text Box 47"/>
          <p:cNvSpPr/>
          <p:nvPr/>
        </p:nvSpPr>
        <p:spPr>
          <a:xfrm>
            <a:off x="2987640" y="1484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а+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7" name="Text Box 48"/>
          <p:cNvSpPr/>
          <p:nvPr/>
        </p:nvSpPr>
        <p:spPr>
          <a:xfrm>
            <a:off x="5076720" y="162864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z+4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8" name="Text Box 49"/>
          <p:cNvSpPr/>
          <p:nvPr/>
        </p:nvSpPr>
        <p:spPr>
          <a:xfrm>
            <a:off x="7236000" y="155736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-9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51"/>
              <p:cNvSpPr txBox="1"/>
              <p:nvPr/>
            </p:nvSpPr>
            <p:spPr>
              <a:xfrm>
                <a:off x="2419200" y="375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65"/>
              <p:cNvSpPr txBox="1"/>
              <p:nvPr/>
            </p:nvSpPr>
            <p:spPr>
              <a:xfrm>
                <a:off x="971640" y="3365640"/>
                <a:ext cx="15843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Text Box 68"/>
          <p:cNvSpPr/>
          <p:nvPr/>
        </p:nvSpPr>
        <p:spPr>
          <a:xfrm>
            <a:off x="3132000" y="350028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2"/>
              <p:cNvSpPr txBox="1"/>
              <p:nvPr/>
            </p:nvSpPr>
            <p:spPr>
              <a:xfrm>
                <a:off x="5076720" y="3295800"/>
                <a:ext cx="158292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82"/>
              <p:cNvSpPr txBox="1"/>
              <p:nvPr/>
            </p:nvSpPr>
            <p:spPr>
              <a:xfrm>
                <a:off x="6980400" y="3211560"/>
                <a:ext cx="169524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Text Box 83"/>
          <p:cNvSpPr/>
          <p:nvPr/>
        </p:nvSpPr>
        <p:spPr>
          <a:xfrm>
            <a:off x="1116000" y="544500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z+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5" name="Text Box 84"/>
          <p:cNvSpPr/>
          <p:nvPr/>
        </p:nvSpPr>
        <p:spPr>
          <a:xfrm>
            <a:off x="3276720" y="544500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-9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88"/>
              <p:cNvSpPr txBox="1"/>
              <p:nvPr/>
            </p:nvSpPr>
            <p:spPr>
              <a:xfrm>
                <a:off x="5148360" y="5019840"/>
                <a:ext cx="1511280" cy="14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Text Box 89"/>
          <p:cNvSpPr/>
          <p:nvPr/>
        </p:nvSpPr>
        <p:spPr>
          <a:xfrm>
            <a:off x="7236000" y="537372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а-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826920" y="189000"/>
            <a:ext cx="2374920" cy="2466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) 3х-1=х+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х=2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=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419640" y="115920"/>
            <a:ext cx="2519280" cy="2466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) 3а+1=3а-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0а=-2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й нет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227640" y="115920"/>
            <a:ext cx="2557440" cy="2466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+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7z+9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=5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=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55640" y="2997360"/>
            <a:ext cx="1944720" cy="28933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) в-9=в-9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0b=0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-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юбое число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771640" y="2708280"/>
            <a:ext cx="2880000" cy="3972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) 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+15=4y+4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2y-4y=4-15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8y=-1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=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1"/>
              <p:cNvSpPr txBox="1"/>
              <p:nvPr/>
            </p:nvSpPr>
            <p:spPr>
              <a:xfrm>
                <a:off x="3203640" y="2708280"/>
                <a:ext cx="22320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 Box 14"/>
          <p:cNvSpPr/>
          <p:nvPr/>
        </p:nvSpPr>
        <p:spPr>
          <a:xfrm>
            <a:off x="5796000" y="2708280"/>
            <a:ext cx="3168720" cy="3972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) 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c-1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3+12=2(1-2c)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-3+12=2-4c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c=-7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-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7"/>
              <p:cNvSpPr txBox="1"/>
              <p:nvPr/>
            </p:nvSpPr>
            <p:spPr>
              <a:xfrm>
                <a:off x="6300720" y="2637000"/>
                <a:ext cx="2519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8"/>
              <p:cNvSpPr txBox="1"/>
              <p:nvPr/>
            </p:nvSpPr>
            <p:spPr>
              <a:xfrm>
                <a:off x="6732720" y="1268280"/>
                <a:ext cx="4921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23"/>
              <p:cNvSpPr txBox="1"/>
              <p:nvPr/>
            </p:nvSpPr>
            <p:spPr>
              <a:xfrm>
                <a:off x="3276720" y="5300640"/>
                <a:ext cx="7538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7"/>
              <p:cNvSpPr txBox="1"/>
              <p:nvPr/>
            </p:nvSpPr>
            <p:spPr>
              <a:xfrm>
                <a:off x="7524720" y="1844640"/>
                <a:ext cx="4921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31"/>
              <p:cNvSpPr txBox="1"/>
              <p:nvPr/>
            </p:nvSpPr>
            <p:spPr>
              <a:xfrm>
                <a:off x="4643280" y="5950080"/>
                <a:ext cx="5223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32"/>
          <p:cNvSpPr/>
          <p:nvPr/>
        </p:nvSpPr>
        <p:spPr>
          <a:xfrm>
            <a:off x="900000" y="836640"/>
            <a:ext cx="2089440" cy="180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3492360" y="765000"/>
            <a:ext cx="2232000" cy="1727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3" name="Rectangle 34"/>
          <p:cNvSpPr/>
          <p:nvPr/>
        </p:nvSpPr>
        <p:spPr>
          <a:xfrm>
            <a:off x="6300720" y="765000"/>
            <a:ext cx="2089080" cy="180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4" name="Rectangle 35"/>
          <p:cNvSpPr/>
          <p:nvPr/>
        </p:nvSpPr>
        <p:spPr>
          <a:xfrm>
            <a:off x="826920" y="3645000"/>
            <a:ext cx="1802160" cy="216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5" name="Rectangle 36"/>
          <p:cNvSpPr/>
          <p:nvPr/>
        </p:nvSpPr>
        <p:spPr>
          <a:xfrm>
            <a:off x="2843280" y="3573360"/>
            <a:ext cx="2376360" cy="3024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5867280" y="3500280"/>
            <a:ext cx="2881440" cy="3097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начит решить уравнени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азывают корнем уравн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равенство называют уравнени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корней в уравн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79600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71640" y="2349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шить урав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это значит найти все его корни или убедиться, что это уравнение не имеет ни одного корня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971640" y="33577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рнем урав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зывают то значение неизвестного, при котором это уравнение обращается  в верное равенство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971640" y="43657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равнение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ют равенство, содержащее букву, значение которой надо найти. 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826920" y="2205000"/>
            <a:ext cx="806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те, является ли число 7 корнем уравнений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=4  и 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=20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вывод можно сделать?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уравнение: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е данное уравнение другим способом, используя то, что сумма противоположных чисел равна 0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3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уравнения: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;                  г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2x+5I=1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(1,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);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-7xI=-9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(9-0,1х)(5+3х)=0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644000" y="414180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x + 8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8 =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15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4644360" y="4502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x =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23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нейные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764640"/>
            <a:ext cx="77835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Алгебра дает общую «отмычку», которой открываются любые задачные «замки», тогда как арифметика подбирает к каждой задаче свой ключ.» (И.К. Андрон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Линейным уравнени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одним неизвестным называют уравнение которое можно привести к вид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х=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0, 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в уравнении один кор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0, то 0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уравнение не имеет 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, то 0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 и уравнение имеет бесконечное число корней, х-любое 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Модулем числа 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зывают расстояние (в единичных отрезках) от начала координат до точки А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отрицательного числа есть положительное число, ему противополож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положительного числа равен самому числ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нуля равен ну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2700360" y="2708280"/>
                <a:ext cx="7905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лгоритм решения уравн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уравнение упрости, если это возможно (раскрой скобки, приведи подобны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перенеси слагаемые, содержащие неизвестное, в одну часть уравнения, а остальные слагаемые – в другую часть уравнения, изменив при этом их знаки на противополож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 подобные чле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корни уравнения или докажи, что их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000" y="115560"/>
            <a:ext cx="81356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Решить урав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,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5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айти корни уравн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1116000" y="2635200"/>
                <a:ext cx="2160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5219640" y="2563920"/>
                <a:ext cx="2705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3"/>
              <p:cNvSpPr txBox="1"/>
              <p:nvPr/>
            </p:nvSpPr>
            <p:spPr>
              <a:xfrm>
                <a:off x="1187280" y="4292640"/>
                <a:ext cx="1943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 Box 14"/>
          <p:cNvSpPr/>
          <p:nvPr/>
        </p:nvSpPr>
        <p:spPr>
          <a:xfrm>
            <a:off x="1192320" y="814320"/>
            <a:ext cx="170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x - 7x = 20 - 5,9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1766160" y="110160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4,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887480" y="-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407960" y="1581120"/>
            <a:ext cx="15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4,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5584320" y="814320"/>
            <a:ext cx="164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x + 5x = 8 - 1,6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6014520" y="103032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x = 6,4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5655600" y="2133720"/>
            <a:ext cx="113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6231240" y="122076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6,4 : 1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158160" y="1484280"/>
            <a:ext cx="5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3"/>
              <p:cNvSpPr txBox="1"/>
              <p:nvPr/>
            </p:nvSpPr>
            <p:spPr>
              <a:xfrm>
                <a:off x="6588000" y="1484280"/>
                <a:ext cx="335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Text Box 25"/>
          <p:cNvSpPr/>
          <p:nvPr/>
        </p:nvSpPr>
        <p:spPr>
          <a:xfrm>
            <a:off x="1335600" y="32828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x + 27 = 6x + 45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1407960" y="3524400"/>
            <a:ext cx="16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x - 6x = 45 - 27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1910160" y="378936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8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1487160" y="400536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8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5369040" y="3211560"/>
            <a:ext cx="20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- 6y + 24 = 3y - 36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5370120" y="349884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- 6y -3y = - 36 - 24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6231240" y="402912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y = - 60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6353640" y="4245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= 60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5944680" y="4724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= 60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7" name="Text Box 35"/>
          <p:cNvSpPr/>
          <p:nvPr/>
        </p:nvSpPr>
        <p:spPr>
          <a:xfrm>
            <a:off x="118728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8" name="Text Box 36"/>
          <p:cNvSpPr/>
          <p:nvPr/>
        </p:nvSpPr>
        <p:spPr>
          <a:xfrm>
            <a:off x="1338480" y="4869000"/>
            <a:ext cx="163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 3) = 6(7 - x)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7"/>
              <p:cNvSpPr txBox="1"/>
              <p:nvPr/>
            </p:nvSpPr>
            <p:spPr>
              <a:xfrm>
                <a:off x="6804000" y="1989000"/>
                <a:ext cx="335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Text Box 38"/>
          <p:cNvSpPr/>
          <p:nvPr/>
        </p:nvSpPr>
        <p:spPr>
          <a:xfrm>
            <a:off x="1335600" y="52531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+ 6x = 42 + 9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1" name="Text Box 39"/>
          <p:cNvSpPr/>
          <p:nvPr/>
        </p:nvSpPr>
        <p:spPr>
          <a:xfrm>
            <a:off x="1336680" y="508464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- 9 = 42 -6x 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2" name="Text Box 40"/>
          <p:cNvSpPr/>
          <p:nvPr/>
        </p:nvSpPr>
        <p:spPr>
          <a:xfrm>
            <a:off x="1698480" y="5445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x = 5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3" name="Text Box 41"/>
          <p:cNvSpPr/>
          <p:nvPr/>
        </p:nvSpPr>
        <p:spPr>
          <a:xfrm>
            <a:off x="1763640" y="5829480"/>
            <a:ext cx="9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      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2"/>
              <p:cNvSpPr txBox="1"/>
              <p:nvPr/>
            </p:nvSpPr>
            <p:spPr>
              <a:xfrm>
                <a:off x="2201760" y="5680080"/>
                <a:ext cx="3049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Text Box 43"/>
          <p:cNvSpPr/>
          <p:nvPr/>
        </p:nvSpPr>
        <p:spPr>
          <a:xfrm>
            <a:off x="1692360" y="631188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4"/>
              <p:cNvSpPr txBox="1"/>
              <p:nvPr/>
            </p:nvSpPr>
            <p:spPr>
              <a:xfrm>
                <a:off x="2116080" y="6184800"/>
                <a:ext cx="3636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Text Box 45"/>
          <p:cNvSpPr/>
          <p:nvPr/>
        </p:nvSpPr>
        <p:spPr>
          <a:xfrm>
            <a:off x="2771640" y="6311880"/>
            <a:ext cx="13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6"/>
              <p:cNvSpPr txBox="1"/>
              <p:nvPr/>
            </p:nvSpPr>
            <p:spPr>
              <a:xfrm>
                <a:off x="3916440" y="6165720"/>
                <a:ext cx="3636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7:11:16Z</dcterms:created>
  <dc:creator/>
  <dc:description/>
  <dc:language>en-US</dc:language>
  <cp:lastModifiedBy>LEGION</cp:lastModifiedBy>
  <dcterms:modified xsi:type="dcterms:W3CDTF">2015-01-26T12:29:33Z</dcterms:modified>
  <cp:revision>112</cp:revision>
  <dc:subject/>
  <dc:title>Слайд 1</dc:title>
</cp:coreProperties>
</file>