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2AF5-5440-457A-8170-3880F36A1D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еометрия  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: «Площадь.  Площадь трапеци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3312-412F-46D6-A2E1-181CDD499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//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епараллельные отре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B011-CB29-490F-A500-B4213FB822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7787-4CED-4D7E-8475-CE772E47C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резки в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3F16-C9AB-4505-A87C-28970653AD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ff"/>
                </a:solidFill>
                <a:latin typeface="Arial"/>
                <a:ea typeface="Arial"/>
              </a:rPr>
              <a:t>Разбиение трапеции на части и нахождение площади трап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9A7C-4F00-4986-87D3-F38875895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ощадь трапеции равна произведению полусуммы её оснований на выс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о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BC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трапеция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//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=a, BC=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┴ AD, BH=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773D-DF6B-4C9F-862A-731793042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F52-1434-4111-A4C8-C8FA27C4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B9D-F3FE-4F6C-A9FF-292C038D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435DE-33DA-4794-AEAC-F91F11F0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08296-FB81-409F-B05D-0DAC5804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D1CE7-4572-48EE-B224-769BBA06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A132A-CD39-4572-A0E6-3F46D105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521CF-8F18-4ADA-B5A9-AC68D2E1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AF3B0-AE29-48ED-82E8-1F3F0197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77B23-A59E-48EF-BC34-778CA71E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9C0CC-A3E3-46FA-B1BF-0731E559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CA610-08AA-41C7-860C-B7463DC2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A79B7-37CB-4C71-BFA2-6D28A7AA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6C0-BF45-40BB-BD86-4B1DA663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FF358-F1EA-462D-B645-E66675E5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5F81E-D0A0-451F-8F7E-EEE0EAAF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5917A-85DF-45C1-A73E-232632C7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E8A08-B21F-458F-A0A3-8C731AFF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121EF-6F4A-4AF7-8758-F78EF7C5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6268A-4CE9-4777-8381-EFE6B675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652A3-D2E2-4E77-96FE-DA11E14D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499E8-A75A-48E9-9ED1-3BA3459B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2A64B-3717-4B77-88A8-3C05C03B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E348A-FA97-4071-9FD0-4B749BF8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655-9A3B-4931-88F4-9B4693ED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E5773-0A1F-4E37-82A2-CB65CDDB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FE6E7-A6BB-40A2-9B8E-6CE8F097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1B882-BFF1-4023-BD6D-C5178EEC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F8B5F-E355-4102-BB91-BE968C9E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1BA5E-4472-4657-98E2-0642784E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F9BCF-4178-4A6D-9E2C-FDE92051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4ABEA-26AC-4BD8-B7B5-E5AABEA9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06A81-1768-4218-BA3E-8195C743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83383-94CA-4223-B080-D44F9DC0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2E170-074D-4102-81C3-EAD33D90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CE1C-26D4-46D6-8A8C-9D8F5F7E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18381-59CF-44D3-BCE2-04D230BF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4159C-5682-40ED-9076-21E0ABA2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85A88-6726-45A0-A3C9-7FA612F4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9286F-227F-4896-8944-C237D683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89A78-1A95-4697-B98B-7E98B893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EFB86-41FF-4229-80C6-71445CE4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4FAA1-3C50-4276-A231-4630DE89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B7B3B-DA75-4F3A-952C-9DA1CE9E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98ACF-7106-4B0E-A1E9-90CECD03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E1207-3C50-498A-A007-4462E820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486B-3109-46DA-A99C-3FB33021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0A407-86DE-4974-8260-96EC8BDE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B0C01-3441-4174-8A57-5BE31204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5F9DF-879D-4500-8A5E-88A4CBA9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F8960-B8CC-4A38-B23B-BC92E615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12394-9B77-4D95-822E-316525C5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D11D0-2A39-4AC5-B64C-3AFC7160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EB719-C55C-4507-83B9-66B6C8DE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2C63E-F987-4959-84E3-7F3F0896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1129F-E74E-4C95-A84A-26F300D8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26296-C288-41FA-A461-A8878BAC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7320-71DC-4538-A749-D81B5EB6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0176B-7A09-4315-ABD7-21DB2C20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E7077-7288-4838-BD7F-C3F1F17A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DD79D-E9EE-409D-89AC-F4A15E1B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5D77A-C87B-4B4F-AC30-1D8012C5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6D309-4F62-467F-9DF4-1C503BF8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AA961-280D-432E-9C95-78660FFE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1FC3D-0646-418C-9C8A-C8B7311C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3ACC-790B-4A32-B6EA-8774F84A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9D29-B3A4-4AEB-A988-2794B747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BBD2-5B51-4E5E-8888-0A51E63F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3891-E883-45D3-8A19-3F58C0A8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C14-538E-464B-BF62-E071277E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C4D3-F4EE-4923-B4DD-B9F0D2F6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F799-E2CD-482A-A869-64A7F23F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B267-F4FD-4E1F-86C1-88654414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330C-99BC-41C1-AA6B-FACCB8A6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7EBE-4C92-4732-8E9A-F5E10E7B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D4BA0-0EA0-4105-86CE-EC210212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F4B7-C577-438E-83C2-F7AFDCD7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12509-C5B8-47AD-9A9D-4727A336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CA472-111F-4150-8A47-8D53D872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0B2CA-BF8E-4A61-B5C7-ABE0A71A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6BD-FE9B-4863-841D-184FF1FB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AD5DC-DF17-4F39-A1C9-681E8C1A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820BF-7094-41D9-A479-40279C33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22740-5835-4CB1-AF1F-90F906D5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F57D1-6C13-4312-A3EF-48426E17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BBD97-360E-45D3-BB3B-3F7ECE9F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80B2D-65EF-426D-BB83-827FBAEA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A1FD7-FE20-4F92-9671-8E2E7A29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00515-39F7-4A56-94E9-E8B42431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9960A-8C2F-44D9-871A-248444AF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BABAB-E2DB-4536-B98A-639C529F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D92-85C9-4CB7-B0C1-ADCAF885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A46AF-A4EB-4A53-99E0-93153F14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BE344-1246-4675-B26D-34C5C9BA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15641-E7EE-4EC1-824F-7058EA5A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FEB1F-6982-4B0F-91B8-176701F4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983B6-CB4F-4AEC-890E-DD2D178E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F6678-779B-4C4B-B93C-535DEC58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75064-F6A0-40CE-9E49-E594A343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9C336-D86B-4320-AE82-4D17CD67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0FBD0-BAAD-40D4-96DA-D6A4588C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CBB5E-EE12-4228-99A1-BDAC9741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19F-3D8D-43CE-B2A1-C346F457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3896F-20F6-41A5-8F33-81C07A30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D6133-3A70-43B8-9EA9-C0318AC9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FBE59-55A1-4D44-A3C3-FA248CA9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C7994-B001-4F60-95FC-135EC371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0FD31-41FE-4BCD-BBF9-E6599561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69CEB-8FC2-4B0A-ACE6-4D44972B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50494-5DC4-46E5-A677-33A573B6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3B38A-249F-4BCF-93E2-7A3765BA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26CAB-8822-42AC-ACC7-67F51A17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C66BB-7249-447B-A998-51E060E0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4B6-E4BA-4F1B-A859-6C02971A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A353B-0DE3-47F0-B05F-5B49E522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8FB8F-8981-48DB-8045-FD44C28C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F5F35-A5A1-4D41-9E7B-D138456C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57A80-F3C0-4260-B7AD-5E648DED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8ACBB-6E8F-456B-8DDD-F9F91B1B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9D6E3-D533-4440-BB77-ED72E6B0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CBB04-E0C3-489F-9B74-FD9A5D53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54387-4C36-4466-95D3-ACBDDA2B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271C3-2D9D-4299-B012-A140BB31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AC200-E1A0-45BA-B98E-998B68B6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857-509C-4444-8CDF-50015D46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B4A14-43FD-4052-A7D4-EF55121E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9F6E7-EAD8-40CC-914F-0DA84C04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6178A-970E-4331-AC2E-D8879A85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34797-1556-4D24-B58A-D0BE6B64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DC242-E9E1-4247-B2B4-DF9A9C6C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DD2D5-3AE6-4C85-AF23-3B25CF02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35308-6C12-4C8C-9930-B5EF3242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47CA9-E7C8-481E-A55D-447A5D4F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629DC-2426-4355-8761-3A27CA6A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3F6E0-B76E-4944-BE06-C3E5BD02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493-555B-448F-BC79-9279B531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95080-EF97-4FA3-82CF-E251C113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0DF60-41A6-4B2E-9952-7AFC3096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C7306-C770-4922-AEA9-FE51A47C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1FAC4-1127-483B-AF8B-E4AE0866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976B2-2758-44DE-858D-DA51FB45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B30A3-34B4-449B-86FA-F57DE5CF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6AA9D-190E-4CAC-9812-32B40EA2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676FF-9D4F-46B6-A338-004E0A84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54296-D4E7-4B5F-AB0B-F65CBA2E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85019-A58A-451C-A193-C1AD31C5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F81-85E4-4696-AD2A-DA88363C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81BE1-FAAB-4AA6-8999-6C14227C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259DB-4FBB-4A5D-8C8B-04093235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470D5-26F1-49DC-871A-77E5AA4C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8D919-35B7-4B23-B18F-B0D92F99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089BB-E1EE-4A54-A96F-A7767F9D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B7997-1A7E-406B-8611-83748F04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83A97-1E39-46D3-A23F-F7317B1E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860AA-B96C-4007-9C09-0B0E2497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92D08-07D5-4941-96CD-C807BAF4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19F47-B400-4167-B888-34E1F07D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AE82-3C78-49CC-8AF8-D4780B6421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6FBE-5638-4D73-B052-55063A6D0F86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6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4618-3841-4E88-B45F-6F933CEFBC9A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86E6-3EC7-46B6-9780-8606D7A77400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8AAB-2A4C-4C2F-909B-0E3BA1CA8A9D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40ED-9D93-4EEB-AF2C-4D0E152FF0E1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3D34-5B74-4E33-A88D-32BDA06F5A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71F6-E787-4D77-A737-E87D4CA27E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99A7-7FB2-4FB3-9A4B-D0EB8C06A9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FA3C-D65F-4428-8F37-A4389BF860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F35D-F2AB-4FC0-811A-75CF37065F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28D6-5351-45C8-9B82-F8A6DC2E74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96F9-FC9E-4447-873B-2479307DB3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5" descr=""/>
          <p:cNvPicPr/>
          <p:nvPr/>
        </p:nvPicPr>
        <p:blipFill>
          <a:blip r:embed="rId1"/>
          <a:stretch/>
        </p:blipFill>
        <p:spPr>
          <a:xfrm>
            <a:off x="469800" y="895320"/>
            <a:ext cx="7991640" cy="3000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00000" y="501336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аданова И.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МКОУ «Верх-Жилинская ООШ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WordArt 4"/>
          <p:cNvSpPr txBox="1"/>
          <p:nvPr/>
        </p:nvSpPr>
        <p:spPr>
          <a:xfrm>
            <a:off x="1042920" y="549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 трапеции: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9" name="Picture 10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3821400" cy="331776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1"/>
          <p:cNvSpPr/>
          <p:nvPr/>
        </p:nvSpPr>
        <p:spPr>
          <a:xfrm>
            <a:off x="1403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826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3924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4935600" y="1916280"/>
            <a:ext cx="3236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/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паралле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826920" y="4802040"/>
            <a:ext cx="80661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WordArt 4"/>
          <p:cNvSpPr txBox="1"/>
          <p:nvPr/>
        </p:nvSpPr>
        <p:spPr>
          <a:xfrm>
            <a:off x="1403280" y="54936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трапеции:</a:t>
            </a:r>
            <a:endParaRPr b="0" i="1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68436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12589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3059280" y="17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3708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971640" y="42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11" descr=""/>
          <p:cNvPicPr/>
          <p:nvPr/>
        </p:nvPicPr>
        <p:blipFill>
          <a:blip r:embed="rId5"/>
          <a:stretch/>
        </p:blipFill>
        <p:spPr>
          <a:xfrm>
            <a:off x="5076720" y="1844640"/>
            <a:ext cx="2951280" cy="2016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12"/>
          <p:cNvSpPr/>
          <p:nvPr/>
        </p:nvSpPr>
        <p:spPr>
          <a:xfrm>
            <a:off x="4932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493236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658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781200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5292720" y="501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4859280" y="414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395280" y="5373720"/>
            <a:ext cx="770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1116000" y="5013360"/>
            <a:ext cx="76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бокая  трапеция                               Прямоугольная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WordArt 4"/>
          <p:cNvSpPr txBox="1"/>
          <p:nvPr/>
        </p:nvSpPr>
        <p:spPr>
          <a:xfrm>
            <a:off x="1042920" y="476280"/>
            <a:ext cx="698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резки в трапеции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5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199960" cy="1495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162160" cy="16002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0"/>
          <p:cNvSpPr/>
          <p:nvPr/>
        </p:nvSpPr>
        <p:spPr>
          <a:xfrm>
            <a:off x="197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17928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39640" y="119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4"/>
          <p:cNvSpPr/>
          <p:nvPr/>
        </p:nvSpPr>
        <p:spPr>
          <a:xfrm>
            <a:off x="2843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1320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6"/>
          <p:cNvSpPr/>
          <p:nvPr/>
        </p:nvSpPr>
        <p:spPr>
          <a:xfrm>
            <a:off x="471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7"/>
          <p:cNvSpPr/>
          <p:nvPr/>
        </p:nvSpPr>
        <p:spPr>
          <a:xfrm>
            <a:off x="514836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8"/>
          <p:cNvSpPr/>
          <p:nvPr/>
        </p:nvSpPr>
        <p:spPr>
          <a:xfrm>
            <a:off x="6012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9"/>
          <p:cNvSpPr/>
          <p:nvPr/>
        </p:nvSpPr>
        <p:spPr>
          <a:xfrm>
            <a:off x="6443640" y="112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0"/>
          <p:cNvSpPr/>
          <p:nvPr/>
        </p:nvSpPr>
        <p:spPr>
          <a:xfrm>
            <a:off x="781200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8244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6588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3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4"/>
          <p:cNvSpPr/>
          <p:nvPr/>
        </p:nvSpPr>
        <p:spPr>
          <a:xfrm>
            <a:off x="702000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5"/>
          <p:cNvSpPr/>
          <p:nvPr/>
        </p:nvSpPr>
        <p:spPr>
          <a:xfrm>
            <a:off x="6659640" y="191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7164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7"/>
          <p:cNvSpPr/>
          <p:nvPr/>
        </p:nvSpPr>
        <p:spPr>
          <a:xfrm>
            <a:off x="395280" y="3357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8"/>
          <p:cNvSpPr/>
          <p:nvPr/>
        </p:nvSpPr>
        <p:spPr>
          <a:xfrm>
            <a:off x="2843280" y="350028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редняя л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½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В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9"/>
          <p:cNvSpPr/>
          <p:nvPr/>
        </p:nvSpPr>
        <p:spPr>
          <a:xfrm>
            <a:off x="2987640" y="17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0"/>
          <p:cNvSpPr/>
          <p:nvPr/>
        </p:nvSpPr>
        <p:spPr>
          <a:xfrm>
            <a:off x="500364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1"/>
          <p:cNvSpPr/>
          <p:nvPr/>
        </p:nvSpPr>
        <p:spPr>
          <a:xfrm>
            <a:off x="6012000" y="3573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3"/>
          <p:cNvSpPr/>
          <p:nvPr/>
        </p:nvSpPr>
        <p:spPr>
          <a:xfrm>
            <a:off x="6012000" y="3357720"/>
            <a:ext cx="252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┴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Х ┴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и УХ- выс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4"/>
          <p:cNvSpPr/>
          <p:nvPr/>
        </p:nvSpPr>
        <p:spPr>
          <a:xfrm>
            <a:off x="234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WordArt 4"/>
          <p:cNvSpPr txBox="1"/>
          <p:nvPr/>
        </p:nvSpPr>
        <p:spPr>
          <a:xfrm>
            <a:off x="324000" y="47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биение трапеции на части и нахождение площади трапеци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3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2362320" cy="1582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4"/>
          <a:stretch/>
        </p:blipFill>
        <p:spPr>
          <a:xfrm>
            <a:off x="5651640" y="1341360"/>
            <a:ext cx="2790720" cy="15811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448000" cy="15904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1" descr=""/>
          <p:cNvPicPr/>
          <p:nvPr/>
        </p:nvPicPr>
        <p:blipFill>
          <a:blip r:embed="rId6"/>
          <a:stretch/>
        </p:blipFill>
        <p:spPr>
          <a:xfrm>
            <a:off x="2627280" y="5013360"/>
            <a:ext cx="3168720" cy="14288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3" descr=""/>
          <p:cNvPicPr/>
          <p:nvPr/>
        </p:nvPicPr>
        <p:blipFill>
          <a:blip r:embed="rId7"/>
          <a:stretch/>
        </p:blipFill>
        <p:spPr>
          <a:xfrm>
            <a:off x="5867280" y="5084640"/>
            <a:ext cx="3095640" cy="110664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4"/>
          <p:cNvSpPr/>
          <p:nvPr/>
        </p:nvSpPr>
        <p:spPr>
          <a:xfrm>
            <a:off x="395280" y="134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395280" y="1916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108000" y="27082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900000" y="1330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539640" y="2852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176364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0"/>
          <p:cNvSpPr/>
          <p:nvPr/>
        </p:nvSpPr>
        <p:spPr>
          <a:xfrm>
            <a:off x="2124000" y="1413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1"/>
          <p:cNvSpPr/>
          <p:nvPr/>
        </p:nvSpPr>
        <p:spPr>
          <a:xfrm>
            <a:off x="2124000" y="20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2340000" y="263700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205092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2916360" y="2708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3348000" y="126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4067280" y="126828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5003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8"/>
          <p:cNvSpPr/>
          <p:nvPr/>
        </p:nvSpPr>
        <p:spPr>
          <a:xfrm flipH="1">
            <a:off x="5203800" y="134136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4643280" y="2060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0"/>
          <p:cNvSpPr/>
          <p:nvPr/>
        </p:nvSpPr>
        <p:spPr>
          <a:xfrm>
            <a:off x="3708360" y="2781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6443640" y="285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5796000" y="1341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3"/>
          <p:cNvSpPr/>
          <p:nvPr/>
        </p:nvSpPr>
        <p:spPr>
          <a:xfrm>
            <a:off x="800748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4"/>
          <p:cNvSpPr/>
          <p:nvPr/>
        </p:nvSpPr>
        <p:spPr>
          <a:xfrm>
            <a:off x="7308720" y="285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5"/>
          <p:cNvSpPr/>
          <p:nvPr/>
        </p:nvSpPr>
        <p:spPr>
          <a:xfrm>
            <a:off x="687708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6"/>
          <p:cNvSpPr/>
          <p:nvPr/>
        </p:nvSpPr>
        <p:spPr>
          <a:xfrm>
            <a:off x="5580000" y="2781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7"/>
          <p:cNvSpPr/>
          <p:nvPr/>
        </p:nvSpPr>
        <p:spPr>
          <a:xfrm>
            <a:off x="8172360" y="285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8"/>
          <p:cNvSpPr/>
          <p:nvPr/>
        </p:nvSpPr>
        <p:spPr>
          <a:xfrm>
            <a:off x="5991120" y="2122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9"/>
          <p:cNvSpPr/>
          <p:nvPr/>
        </p:nvSpPr>
        <p:spPr>
          <a:xfrm>
            <a:off x="7812000" y="2133720"/>
            <a:ext cx="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0"/>
          <p:cNvSpPr/>
          <p:nvPr/>
        </p:nvSpPr>
        <p:spPr>
          <a:xfrm>
            <a:off x="3564000" y="4365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1"/>
          <p:cNvSpPr/>
          <p:nvPr/>
        </p:nvSpPr>
        <p:spPr>
          <a:xfrm>
            <a:off x="3924360" y="306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2"/>
          <p:cNvSpPr/>
          <p:nvPr/>
        </p:nvSpPr>
        <p:spPr>
          <a:xfrm>
            <a:off x="5435640" y="3141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3"/>
          <p:cNvSpPr/>
          <p:nvPr/>
        </p:nvSpPr>
        <p:spPr>
          <a:xfrm>
            <a:off x="5724360" y="429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45" descr=""/>
          <p:cNvPicPr/>
          <p:nvPr/>
        </p:nvPicPr>
        <p:blipFill>
          <a:blip r:embed="rId8"/>
          <a:stretch/>
        </p:blipFill>
        <p:spPr>
          <a:xfrm>
            <a:off x="2700360" y="3357720"/>
            <a:ext cx="3311640" cy="10810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46"/>
          <p:cNvSpPr/>
          <p:nvPr/>
        </p:nvSpPr>
        <p:spPr>
          <a:xfrm>
            <a:off x="2390760" y="422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3708360" y="371628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8"/>
          <p:cNvSpPr/>
          <p:nvPr/>
        </p:nvSpPr>
        <p:spPr>
          <a:xfrm>
            <a:off x="108000" y="630864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9"/>
          <p:cNvSpPr/>
          <p:nvPr/>
        </p:nvSpPr>
        <p:spPr>
          <a:xfrm>
            <a:off x="539640" y="486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0"/>
          <p:cNvSpPr/>
          <p:nvPr/>
        </p:nvSpPr>
        <p:spPr>
          <a:xfrm>
            <a:off x="1547640" y="47862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1"/>
          <p:cNvSpPr/>
          <p:nvPr/>
        </p:nvSpPr>
        <p:spPr>
          <a:xfrm>
            <a:off x="2268360" y="6308640"/>
            <a:ext cx="2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2"/>
          <p:cNvSpPr/>
          <p:nvPr/>
        </p:nvSpPr>
        <p:spPr>
          <a:xfrm>
            <a:off x="2340000" y="4869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3"/>
          <p:cNvSpPr/>
          <p:nvPr/>
        </p:nvSpPr>
        <p:spPr>
          <a:xfrm>
            <a:off x="68436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4"/>
          <p:cNvSpPr/>
          <p:nvPr/>
        </p:nvSpPr>
        <p:spPr>
          <a:xfrm>
            <a:off x="843120" y="579420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5"/>
          <p:cNvSpPr/>
          <p:nvPr/>
        </p:nvSpPr>
        <p:spPr>
          <a:xfrm>
            <a:off x="2340000" y="566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6"/>
          <p:cNvSpPr/>
          <p:nvPr/>
        </p:nvSpPr>
        <p:spPr>
          <a:xfrm>
            <a:off x="2700360" y="623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3059280" y="47973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8"/>
          <p:cNvSpPr/>
          <p:nvPr/>
        </p:nvSpPr>
        <p:spPr>
          <a:xfrm>
            <a:off x="4500720" y="4797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9"/>
          <p:cNvSpPr/>
          <p:nvPr/>
        </p:nvSpPr>
        <p:spPr>
          <a:xfrm>
            <a:off x="5580000" y="623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0"/>
          <p:cNvSpPr/>
          <p:nvPr/>
        </p:nvSpPr>
        <p:spPr>
          <a:xfrm>
            <a:off x="313200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1"/>
          <p:cNvSpPr/>
          <p:nvPr/>
        </p:nvSpPr>
        <p:spPr>
          <a:xfrm>
            <a:off x="4356000" y="6308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2"/>
          <p:cNvSpPr/>
          <p:nvPr/>
        </p:nvSpPr>
        <p:spPr>
          <a:xfrm>
            <a:off x="3851280" y="63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3"/>
          <p:cNvSpPr/>
          <p:nvPr/>
        </p:nvSpPr>
        <p:spPr>
          <a:xfrm>
            <a:off x="5867280" y="6021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4"/>
          <p:cNvSpPr/>
          <p:nvPr/>
        </p:nvSpPr>
        <p:spPr>
          <a:xfrm>
            <a:off x="6227640" y="49417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5"/>
          <p:cNvSpPr/>
          <p:nvPr/>
        </p:nvSpPr>
        <p:spPr>
          <a:xfrm>
            <a:off x="7596360" y="4941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6"/>
          <p:cNvSpPr/>
          <p:nvPr/>
        </p:nvSpPr>
        <p:spPr>
          <a:xfrm>
            <a:off x="8675640" y="6093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7"/>
          <p:cNvSpPr/>
          <p:nvPr/>
        </p:nvSpPr>
        <p:spPr>
          <a:xfrm>
            <a:off x="637236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8"/>
          <p:cNvSpPr/>
          <p:nvPr/>
        </p:nvSpPr>
        <p:spPr>
          <a:xfrm>
            <a:off x="7524720" y="61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934920" y="26028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апеции равна произведению полусуммы её оснований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рапе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//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, B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 AD, BH=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5"/>
          <p:cNvSpPr/>
          <p:nvPr/>
        </p:nvSpPr>
        <p:spPr>
          <a:xfrm>
            <a:off x="1050840" y="2522520"/>
            <a:ext cx="388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1050840" y="2522520"/>
            <a:ext cx="59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7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8"/>
          <p:cNvSpPr/>
          <p:nvPr/>
        </p:nvSpPr>
        <p:spPr>
          <a:xfrm>
            <a:off x="179280" y="5084640"/>
            <a:ext cx="2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61128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1619280" y="3274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2340000" y="5084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2411280" y="3357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755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914400" y="428292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5"/>
          <p:cNvSpPr/>
          <p:nvPr/>
        </p:nvSpPr>
        <p:spPr>
          <a:xfrm>
            <a:off x="2411280" y="41497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6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024360" cy="1612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7"/>
          <p:cNvSpPr/>
          <p:nvPr/>
        </p:nvSpPr>
        <p:spPr>
          <a:xfrm>
            <a:off x="3419640" y="33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8"/>
          <p:cNvSpPr/>
          <p:nvPr/>
        </p:nvSpPr>
        <p:spPr>
          <a:xfrm>
            <a:off x="2987640" y="5084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9"/>
          <p:cNvSpPr/>
          <p:nvPr/>
        </p:nvSpPr>
        <p:spPr>
          <a:xfrm>
            <a:off x="4932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0"/>
          <p:cNvSpPr/>
          <p:nvPr/>
        </p:nvSpPr>
        <p:spPr>
          <a:xfrm>
            <a:off x="572436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1"/>
          <p:cNvSpPr/>
          <p:nvPr/>
        </p:nvSpPr>
        <p:spPr>
          <a:xfrm>
            <a:off x="3564000" y="5084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2"/>
          <p:cNvSpPr/>
          <p:nvPr/>
        </p:nvSpPr>
        <p:spPr>
          <a:xfrm>
            <a:off x="4716360" y="5157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3"/>
          <p:cNvSpPr/>
          <p:nvPr/>
        </p:nvSpPr>
        <p:spPr>
          <a:xfrm>
            <a:off x="4284720" y="5157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916360" cy="136836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25"/>
          <p:cNvSpPr/>
          <p:nvPr/>
        </p:nvSpPr>
        <p:spPr>
          <a:xfrm>
            <a:off x="6084720" y="48690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6"/>
          <p:cNvSpPr/>
          <p:nvPr/>
        </p:nvSpPr>
        <p:spPr>
          <a:xfrm>
            <a:off x="6443640" y="342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7"/>
          <p:cNvSpPr/>
          <p:nvPr/>
        </p:nvSpPr>
        <p:spPr>
          <a:xfrm>
            <a:off x="759636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8"/>
          <p:cNvSpPr/>
          <p:nvPr/>
        </p:nvSpPr>
        <p:spPr>
          <a:xfrm>
            <a:off x="8748720" y="486900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9"/>
          <p:cNvSpPr/>
          <p:nvPr/>
        </p:nvSpPr>
        <p:spPr>
          <a:xfrm>
            <a:off x="6516720" y="49417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0"/>
          <p:cNvSpPr/>
          <p:nvPr/>
        </p:nvSpPr>
        <p:spPr>
          <a:xfrm>
            <a:off x="759636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47:07Z</dcterms:created>
  <dc:creator/>
  <dc:description/>
  <dc:language>en-US</dc:language>
  <cp:lastModifiedBy>LEGION</cp:lastModifiedBy>
  <dcterms:modified xsi:type="dcterms:W3CDTF">2015-01-26T12:30:37Z</dcterms:modified>
  <cp:revision>20</cp:revision>
  <dc:subject/>
  <dc:title>Презентация PowerPoint</dc:title>
</cp:coreProperties>
</file>