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8402-5C6A-4854-8062-387CA077B3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Геометрия  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: «Площадь.  Площадь трапеци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0B9C-BD0A-4D3E-934B-E2D7ABAC3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//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епараллельные отре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D43-A4AD-47E7-9CE8-BCEF2E2F7B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D9AC-0F7F-4B18-9ECA-D423FDD68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резки в трапе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3F7C-70BB-4D8B-8C9B-8F21DC117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ff"/>
                </a:solidFill>
                <a:latin typeface="Arial"/>
                <a:ea typeface="Arial"/>
              </a:rPr>
              <a:t>Разбиение трапеции на части и нахождение площади трапе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A040-0D90-4531-ADD2-B33CEE0B7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лощадь трапеции равна произведению полусуммы её оснований на выс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о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трапеция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//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D=a, BC=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H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┴ AD, BH=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2F3F-11FE-4D81-8885-A6F3CF356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4C4-A8F7-47B6-8D9A-178F12A7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160-7EE0-4286-938F-EC8BB0CD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2F99D-91E1-46D6-B1BE-5FB97B11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33400-4551-42BF-8560-FEC5058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8A07F-8B81-4603-AF98-F39FD48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8D85A-1045-4358-B5F0-55417907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F0FFF-51F1-4B63-BC0E-4983F4D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D2AC3-8237-4D69-9A11-2DA83A6A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B529B-4F93-41FE-A3D8-52235369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406B6-4B3F-45BA-9404-8653A48D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B0AE8-43DB-4294-A2E8-A252F1D1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E1BED-7BCF-40C9-B3E2-AF37AFD9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A97-7A64-41AA-84EF-CD9822CE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0AAF3-D5D1-44FF-ADF2-EB6BB80C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160CF-8DA9-4CE0-A611-4BFB1C68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52353-A776-4DBA-B8DD-73D20F37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75142-615D-41C9-8D45-1BBF0B5F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EB42B-2631-42DA-BD5E-133B2C3C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1F3E3-46A9-4ED7-9808-8CCCB454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95D06-5369-4C35-81F4-CECE71A5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43DE8-BCB7-4CB1-98D1-A3E59A8B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5DD00-8516-4133-A4B4-89C2D18C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023C8-2D2E-4FE9-8B66-E706B1CA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E1B-E4A4-4B51-B1BF-6C607B05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CE614-5EE8-4C4E-8E65-DF85AC6F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1E69C-F8DD-4F31-9BED-E5550583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FD729-A74C-489B-90E0-590AB3BB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A38F-A170-414D-9085-BE37C2FF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54B87-93E7-493E-A19C-79100F62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898A8-53AF-4451-AC1F-7EB5A3D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D3E74-775D-4FA3-B44F-95F4E700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DD0FC-86E2-4612-B162-569BF4C1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90C60-F88D-41AC-BAC0-AD77B1C3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2ACBB-9F45-4664-B101-9AC538C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C872-65A8-4334-A81B-A5061591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C3EA0-4F50-44FD-AF7B-74DE0738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6FCC1-98D2-4E60-80B6-308F7667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2862D-4737-4FA7-AA45-CA682434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B6A7B-8EFA-4021-9E11-130D8764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893BF-FB4D-4C6D-B645-3D5EEE5A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6D3E3-73CF-43C8-8029-2C1DF68F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03466-A323-43CA-A551-B13A61DA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8C990-0ECC-4814-A618-0AE79945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9EF03-06E8-4114-A819-0BCE2F1F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CE8B6-5DDD-4759-99AC-47C7C856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D8D-8583-4DAF-A081-ECEE2D53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31FF7-9FDD-4D0B-9303-E5B6B789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74794-0498-4819-B66E-8B0B340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2BD84-DFC3-41ED-AE02-7C5848F0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B4E8E-701E-43C5-AAB3-E84976E8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84398-BA79-4600-8D94-575E2162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9E7AB-395F-4AD5-AD1D-71B3F5CF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22033-0D79-4A38-96EF-F72DC3F4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14BD4-8F4B-49C1-9422-09A4CAE2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13A06-B034-4338-B0BD-A29EE495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5B9C1-6664-4290-B667-B92AB290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D9E9-0B29-46E7-8936-3F8F86D6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9592F9-9147-4926-834A-081E617E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74598-D81A-4813-BBC4-212057A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47F76-A1A6-42FF-B915-28251CA1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B6BBB-7635-44D7-BF49-2840FA84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1A6EA-5A9F-4540-BE50-6164E91A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99A70-7570-4D59-A726-7906F9D9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6129D-4361-485A-8432-6A45C799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785A-4180-4FE7-8B58-04280F97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769E-9304-474A-B22E-8556A5B9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0A8C-ECCE-4771-BAC7-54947134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03EE-A604-44F7-9F5A-D44F0CCB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926-0067-4AD1-8AEA-BCF0EE61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0DE5-866D-46CE-8469-1DF02C4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C30F-D4D0-435F-98ED-CA8B1149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26A-670D-48E1-9EAC-7718955A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C1D2-A4AC-4052-A748-B6E7ADCA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1E77-DDDD-4CF5-BCC9-1CA9D7D9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FE972-659F-4E90-88C3-6A47F6F7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5B4B-E3FA-4BAA-8E8F-437D9C3A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4C61-FD03-4B91-BDCF-3C332795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0741-41D7-4A7B-8AED-5B38204A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9DAF-EA49-42D0-BE0F-4C6E473C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509-3B3C-4BF8-A101-8C4E43A5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EEFDB-B729-4145-A6E2-3A48B0AE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AC3A-A4C6-4E47-8C27-CA90097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CAD2-C88C-4689-8BB9-35C26D0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E776-3B14-4E92-977E-BB5ADBE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DB9C-985C-48FE-87E0-323CAD7B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0FB0-8B67-40EA-B180-A73CD35D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4C92-513A-4809-9A0C-0AEA4BD0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C173-72CC-4B50-A670-D0944D8D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056FB-D2C2-487D-961E-3A1E76D1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5F40-4D6B-4D08-9150-156B563F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C91-AAD2-4630-82A9-244C63E2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556B8-0576-492A-B3C4-F51A8E02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D6407-E610-4DB5-BF2C-1CC52E30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9005-F5F8-447A-A321-0EE565E9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5AA9-9422-497C-8733-732BE63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B760-BFF7-43B3-81AD-06F9A4AD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CC33-8FFF-4531-87E2-28BD18DA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446D-E0DF-487C-867E-D88A8FB5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C904-EB0A-4A8A-A184-BEF4ADB9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79102-DE79-49FF-9DC5-848C25CF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A904-9D85-4256-A62D-686501EB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69E-63EF-4655-9D6B-3FDE072F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73042-C984-472B-BD28-68ABEDFC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7EEFC-1CE5-4012-9340-43EA4789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ACA22-47EE-484D-8BFA-495C15BE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03FE-72D9-49DF-9CAA-67F9564A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6D4D6-76E0-4A5F-8DBD-850DF250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BE34-E56A-4D78-BA2E-D41F32D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B19A-B5B4-4CF3-B0DF-E3D05257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C19FF-E36E-40A4-A50E-02ADCAAF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A7461-3B19-438E-9142-B91F4359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DFA8D-F67A-43FC-AC56-5488A6EF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D6C-F147-46DC-911B-4965E538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E7B97-7615-4CF0-B18A-F4BE7608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5A779-9FD4-4271-A794-80C9265B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BC65-5060-4591-9DA2-5EECBF6A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99C6-7F43-46D4-AC71-27CD0219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1FC22-E673-4173-8A0C-5425F24A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78448-75A2-46C8-A2F8-DE5C5B6F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3581B-D711-46F0-A016-3B83CF85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7DB8-3939-4CCE-8E7A-CC2BBCA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DCFDF-DF49-42E1-AEDB-CDD7540C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59DE8-C0B5-403E-9C44-52C140BC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987-0464-4F35-B637-C873780F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7B16-A8AD-42DC-ADAF-5F36C5CB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02434-406C-4EE7-ABA6-F9D6695D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FD879-1150-4692-B102-89A713FE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AA5FB-DFED-4FE9-9E55-7C7B07BF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C30AE-9FF6-4F5C-9B1E-199F0338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0B6A7-A65C-49C9-8714-42DDEE90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8A39F-ACC4-4DB2-9C5C-C2779B08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2D3A3-CF96-49C4-96DD-DF9DDA3A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C85FE-4E93-443B-AFC5-54159F4E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46A2C-4A21-411D-8370-7B7CB8F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240-E53D-46A2-9F6C-7D1951B0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430F5-E571-40A8-BD41-53334E2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160D7-4CBC-4954-8C10-4538216F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18D0E-8D3E-42D3-84C9-0033F671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9668D-7639-44A9-B264-9599B2DA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85A4E-8907-4B7E-95D7-CE0DAF59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CE5A0-E8B9-4BEB-AB26-92AF276E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2666F-D902-4D61-8F81-E3A12825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E24C7-5855-4FD4-A5B0-84499786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48C80-84EF-4280-8FFD-5F16E749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C47CC-3C57-43D2-B7DC-968BE877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85E-9A92-403D-BEC4-DB339E59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0E6B2-0961-4C6B-84B8-08562CD0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D1E46-41F4-4F55-A035-55E3DD1E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256D8-2A4E-4389-B4C5-C19ACC86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61BCE-36CC-4357-9E1C-08A0A33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C4A7F-5ADA-48D6-888C-5BF40CEB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7B937-AAFC-43B7-9DDF-AE9E7257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EE6AE-3025-40D8-909A-0D86B136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1E68B-37FE-4729-9DBB-CBBD5013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73825-956D-43BA-B648-9FBA68F8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95861-0686-4871-A89A-899D7DD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8082-BE86-4D54-8417-FBFBA2FCC2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25FA-F623-47BE-A21D-1EE330E92836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46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103B-48AE-4041-9DBA-17FA0D2E12AD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625A-F7A4-4BE7-A855-84ABBF5B3D50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A08E-3D78-4E4F-B00E-10A43DD78506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marL="2160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33D8-6958-427E-AA63-87D991916448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2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5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705A-81E9-4BCB-A299-2C97A4E80A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0BBB-06C7-482B-A063-F3FCAAEDF0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42EC-F209-414F-8148-E05074F8E8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995C-62B1-409A-B5D5-C0379FC5A3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12F5-072D-452E-BF91-9BFCBE18B1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FB6E-272B-49DF-A3D8-83631DB2E6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7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0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FD4F-D6E5-407F-BB60-909ACCD4A9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WordArt 5" descr=""/>
          <p:cNvPicPr/>
          <p:nvPr/>
        </p:nvPicPr>
        <p:blipFill>
          <a:blip r:embed="rId1"/>
          <a:stretch/>
        </p:blipFill>
        <p:spPr>
          <a:xfrm>
            <a:off x="469800" y="895320"/>
            <a:ext cx="7991640" cy="3000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2700000" y="5013360"/>
            <a:ext cx="6119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Ладанова И.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МКОУ «Верх-Жилинская ООШ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1042920" y="549360"/>
            <a:ext cx="7416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ение трапеции:</a:t>
            </a:r>
            <a:endParaRPr b="0" i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9" name="Picture 10" descr=""/>
          <p:cNvPicPr/>
          <p:nvPr/>
        </p:nvPicPr>
        <p:blipFill>
          <a:blip r:embed="rId2"/>
          <a:stretch/>
        </p:blipFill>
        <p:spPr>
          <a:xfrm>
            <a:off x="466560" y="1484280"/>
            <a:ext cx="3821400" cy="331776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11"/>
          <p:cNvSpPr/>
          <p:nvPr/>
        </p:nvSpPr>
        <p:spPr>
          <a:xfrm>
            <a:off x="140328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8269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3348000" y="20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92436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"/>
          <p:cNvSpPr/>
          <p:nvPr/>
        </p:nvSpPr>
        <p:spPr>
          <a:xfrm>
            <a:off x="4935600" y="1916280"/>
            <a:ext cx="3236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// 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 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параллельные от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"/>
          <p:cNvSpPr/>
          <p:nvPr/>
        </p:nvSpPr>
        <p:spPr>
          <a:xfrm>
            <a:off x="826920" y="4802040"/>
            <a:ext cx="806616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пецией называется четырёхугольник, у которого только две противолежащие стороны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параллельные стороны называются основаниями трапеции, а две другие стороны называются боковыми сторо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1403280" y="54936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ды трапеции:</a:t>
            </a:r>
            <a:endParaRPr b="0" i="1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84720" cy="208728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684360" y="3500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125892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3059280" y="170028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370836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971640" y="42210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11" descr=""/>
          <p:cNvPicPr/>
          <p:nvPr/>
        </p:nvPicPr>
        <p:blipFill>
          <a:blip r:embed="rId5"/>
          <a:stretch/>
        </p:blipFill>
        <p:spPr>
          <a:xfrm>
            <a:off x="5076720" y="1844640"/>
            <a:ext cx="2951280" cy="2016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12"/>
          <p:cNvSpPr/>
          <p:nvPr/>
        </p:nvSpPr>
        <p:spPr>
          <a:xfrm>
            <a:off x="493236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4932360" y="17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6588000" y="177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781200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5292720" y="5013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2"/>
          <p:cNvSpPr/>
          <p:nvPr/>
        </p:nvSpPr>
        <p:spPr>
          <a:xfrm>
            <a:off x="4859280" y="4149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23"/>
          <p:cNvSpPr/>
          <p:nvPr/>
        </p:nvSpPr>
        <p:spPr>
          <a:xfrm>
            <a:off x="395280" y="5373720"/>
            <a:ext cx="770580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24"/>
          <p:cNvSpPr/>
          <p:nvPr/>
        </p:nvSpPr>
        <p:spPr>
          <a:xfrm>
            <a:off x="1116000" y="5013360"/>
            <a:ext cx="763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бокая  трапеция                               Прямоугольная трап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4"/>
          <p:cNvSpPr txBox="1"/>
          <p:nvPr/>
        </p:nvSpPr>
        <p:spPr>
          <a:xfrm>
            <a:off x="1042920" y="476280"/>
            <a:ext cx="6985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резки в трапеции: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35" name="Picture 5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199960" cy="1495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2447640" cy="16383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6227640" y="1197000"/>
            <a:ext cx="2162160" cy="1600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10"/>
          <p:cNvSpPr/>
          <p:nvPr/>
        </p:nvSpPr>
        <p:spPr>
          <a:xfrm>
            <a:off x="1979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17928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39640" y="119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2843280" y="263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13200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6"/>
          <p:cNvSpPr/>
          <p:nvPr/>
        </p:nvSpPr>
        <p:spPr>
          <a:xfrm>
            <a:off x="471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7"/>
          <p:cNvSpPr/>
          <p:nvPr/>
        </p:nvSpPr>
        <p:spPr>
          <a:xfrm>
            <a:off x="5148360" y="2565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8"/>
          <p:cNvSpPr/>
          <p:nvPr/>
        </p:nvSpPr>
        <p:spPr>
          <a:xfrm>
            <a:off x="601200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9"/>
          <p:cNvSpPr/>
          <p:nvPr/>
        </p:nvSpPr>
        <p:spPr>
          <a:xfrm>
            <a:off x="6443640" y="112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0"/>
          <p:cNvSpPr/>
          <p:nvPr/>
        </p:nvSpPr>
        <p:spPr>
          <a:xfrm>
            <a:off x="781200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8244000" y="2492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6588000" y="2708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23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4"/>
          <p:cNvSpPr/>
          <p:nvPr/>
        </p:nvSpPr>
        <p:spPr>
          <a:xfrm>
            <a:off x="702000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5"/>
          <p:cNvSpPr/>
          <p:nvPr/>
        </p:nvSpPr>
        <p:spPr>
          <a:xfrm>
            <a:off x="6659640" y="191628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6"/>
          <p:cNvSpPr/>
          <p:nvPr/>
        </p:nvSpPr>
        <p:spPr>
          <a:xfrm>
            <a:off x="7164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7"/>
          <p:cNvSpPr/>
          <p:nvPr/>
        </p:nvSpPr>
        <p:spPr>
          <a:xfrm>
            <a:off x="395280" y="335772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 и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8"/>
          <p:cNvSpPr/>
          <p:nvPr/>
        </p:nvSpPr>
        <p:spPr>
          <a:xfrm>
            <a:off x="2843280" y="3500280"/>
            <a:ext cx="23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средняя ли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ВС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/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½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В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9"/>
          <p:cNvSpPr/>
          <p:nvPr/>
        </p:nvSpPr>
        <p:spPr>
          <a:xfrm>
            <a:off x="2987640" y="17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"/>
          <p:cNvSpPr/>
          <p:nvPr/>
        </p:nvSpPr>
        <p:spPr>
          <a:xfrm>
            <a:off x="500364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"/>
          <p:cNvSpPr/>
          <p:nvPr/>
        </p:nvSpPr>
        <p:spPr>
          <a:xfrm>
            <a:off x="6012000" y="357336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3"/>
          <p:cNvSpPr/>
          <p:nvPr/>
        </p:nvSpPr>
        <p:spPr>
          <a:xfrm>
            <a:off x="6012000" y="3357720"/>
            <a:ext cx="2520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┴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Х ┴ В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К и УХ- высот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4"/>
          <p:cNvSpPr/>
          <p:nvPr/>
        </p:nvSpPr>
        <p:spPr>
          <a:xfrm>
            <a:off x="2340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4"/>
          <p:cNvSpPr txBox="1"/>
          <p:nvPr/>
        </p:nvSpPr>
        <p:spPr>
          <a:xfrm>
            <a:off x="324000" y="47628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>
                    <a:alpha val="72000"/>
                  </a:srgbClr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биение трапеции на части и нахождение площади трапеци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>
                  <a:alpha val="72000"/>
                </a:srgbClr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3" name="Picture 5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376720" cy="1511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2362320" cy="1582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"/>
          <p:cNvPicPr/>
          <p:nvPr/>
        </p:nvPicPr>
        <p:blipFill>
          <a:blip r:embed="rId4"/>
          <a:stretch/>
        </p:blipFill>
        <p:spPr>
          <a:xfrm>
            <a:off x="5651640" y="1341360"/>
            <a:ext cx="2790720" cy="1581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"/>
          <p:cNvPicPr/>
          <p:nvPr/>
        </p:nvPicPr>
        <p:blipFill>
          <a:blip r:embed="rId5"/>
          <a:stretch/>
        </p:blipFill>
        <p:spPr>
          <a:xfrm>
            <a:off x="179280" y="4869000"/>
            <a:ext cx="2448000" cy="15904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"/>
          <p:cNvPicPr/>
          <p:nvPr/>
        </p:nvPicPr>
        <p:blipFill>
          <a:blip r:embed="rId6"/>
          <a:stretch/>
        </p:blipFill>
        <p:spPr>
          <a:xfrm>
            <a:off x="2627280" y="5013360"/>
            <a:ext cx="3168720" cy="14288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3" descr=""/>
          <p:cNvPicPr/>
          <p:nvPr/>
        </p:nvPicPr>
        <p:blipFill>
          <a:blip r:embed="rId7"/>
          <a:stretch/>
        </p:blipFill>
        <p:spPr>
          <a:xfrm>
            <a:off x="5867280" y="5084640"/>
            <a:ext cx="3095640" cy="110664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4"/>
          <p:cNvSpPr/>
          <p:nvPr/>
        </p:nvSpPr>
        <p:spPr>
          <a:xfrm>
            <a:off x="395280" y="134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5280" y="1916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108000" y="270828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900000" y="1330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539640" y="2852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9"/>
          <p:cNvSpPr/>
          <p:nvPr/>
        </p:nvSpPr>
        <p:spPr>
          <a:xfrm>
            <a:off x="176364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0"/>
          <p:cNvSpPr/>
          <p:nvPr/>
        </p:nvSpPr>
        <p:spPr>
          <a:xfrm>
            <a:off x="2124000" y="1413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1"/>
          <p:cNvSpPr/>
          <p:nvPr/>
        </p:nvSpPr>
        <p:spPr>
          <a:xfrm>
            <a:off x="2124000" y="20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2340000" y="2637000"/>
            <a:ext cx="3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2050920" y="27813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2916360" y="270828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3348000" y="126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4067280" y="1268280"/>
            <a:ext cx="21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03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8"/>
          <p:cNvSpPr/>
          <p:nvPr/>
        </p:nvSpPr>
        <p:spPr>
          <a:xfrm flipH="1">
            <a:off x="5203800" y="1341360"/>
            <a:ext cx="44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4643280" y="2060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3708360" y="278136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443640" y="285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32"/>
          <p:cNvSpPr/>
          <p:nvPr/>
        </p:nvSpPr>
        <p:spPr>
          <a:xfrm>
            <a:off x="5796000" y="1341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8007480" y="134136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4"/>
          <p:cNvSpPr/>
          <p:nvPr/>
        </p:nvSpPr>
        <p:spPr>
          <a:xfrm>
            <a:off x="7308720" y="285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5"/>
          <p:cNvSpPr/>
          <p:nvPr/>
        </p:nvSpPr>
        <p:spPr>
          <a:xfrm>
            <a:off x="6877080" y="126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6"/>
          <p:cNvSpPr/>
          <p:nvPr/>
        </p:nvSpPr>
        <p:spPr>
          <a:xfrm>
            <a:off x="5580000" y="2781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7"/>
          <p:cNvSpPr/>
          <p:nvPr/>
        </p:nvSpPr>
        <p:spPr>
          <a:xfrm>
            <a:off x="8172360" y="285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38"/>
          <p:cNvSpPr/>
          <p:nvPr/>
        </p:nvSpPr>
        <p:spPr>
          <a:xfrm>
            <a:off x="5991120" y="21225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9"/>
          <p:cNvSpPr/>
          <p:nvPr/>
        </p:nvSpPr>
        <p:spPr>
          <a:xfrm>
            <a:off x="7812000" y="2133720"/>
            <a:ext cx="3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0"/>
          <p:cNvSpPr/>
          <p:nvPr/>
        </p:nvSpPr>
        <p:spPr>
          <a:xfrm>
            <a:off x="3564000" y="4365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1"/>
          <p:cNvSpPr/>
          <p:nvPr/>
        </p:nvSpPr>
        <p:spPr>
          <a:xfrm>
            <a:off x="3924360" y="306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2"/>
          <p:cNvSpPr/>
          <p:nvPr/>
        </p:nvSpPr>
        <p:spPr>
          <a:xfrm>
            <a:off x="5435640" y="3141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3"/>
          <p:cNvSpPr/>
          <p:nvPr/>
        </p:nvSpPr>
        <p:spPr>
          <a:xfrm>
            <a:off x="5724360" y="42926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45" descr=""/>
          <p:cNvPicPr/>
          <p:nvPr/>
        </p:nvPicPr>
        <p:blipFill>
          <a:blip r:embed="rId8"/>
          <a:stretch/>
        </p:blipFill>
        <p:spPr>
          <a:xfrm>
            <a:off x="2700360" y="3357720"/>
            <a:ext cx="3311640" cy="10810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46"/>
          <p:cNvSpPr/>
          <p:nvPr/>
        </p:nvSpPr>
        <p:spPr>
          <a:xfrm>
            <a:off x="2390760" y="422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3708360" y="371628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108000" y="630864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9"/>
          <p:cNvSpPr/>
          <p:nvPr/>
        </p:nvSpPr>
        <p:spPr>
          <a:xfrm>
            <a:off x="539640" y="4869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0"/>
          <p:cNvSpPr/>
          <p:nvPr/>
        </p:nvSpPr>
        <p:spPr>
          <a:xfrm>
            <a:off x="1547640" y="47862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1"/>
          <p:cNvSpPr/>
          <p:nvPr/>
        </p:nvSpPr>
        <p:spPr>
          <a:xfrm>
            <a:off x="2268360" y="6308640"/>
            <a:ext cx="2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2"/>
          <p:cNvSpPr/>
          <p:nvPr/>
        </p:nvSpPr>
        <p:spPr>
          <a:xfrm>
            <a:off x="2340000" y="4869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3"/>
          <p:cNvSpPr/>
          <p:nvPr/>
        </p:nvSpPr>
        <p:spPr>
          <a:xfrm>
            <a:off x="68436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4"/>
          <p:cNvSpPr/>
          <p:nvPr/>
        </p:nvSpPr>
        <p:spPr>
          <a:xfrm>
            <a:off x="843120" y="579420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5"/>
          <p:cNvSpPr/>
          <p:nvPr/>
        </p:nvSpPr>
        <p:spPr>
          <a:xfrm>
            <a:off x="2340000" y="566100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56"/>
          <p:cNvSpPr/>
          <p:nvPr/>
        </p:nvSpPr>
        <p:spPr>
          <a:xfrm>
            <a:off x="2700360" y="623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3059280" y="479736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8"/>
          <p:cNvSpPr/>
          <p:nvPr/>
        </p:nvSpPr>
        <p:spPr>
          <a:xfrm>
            <a:off x="4500720" y="4797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9"/>
          <p:cNvSpPr/>
          <p:nvPr/>
        </p:nvSpPr>
        <p:spPr>
          <a:xfrm>
            <a:off x="5580000" y="62373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0"/>
          <p:cNvSpPr/>
          <p:nvPr/>
        </p:nvSpPr>
        <p:spPr>
          <a:xfrm>
            <a:off x="3132000" y="63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1"/>
          <p:cNvSpPr/>
          <p:nvPr/>
        </p:nvSpPr>
        <p:spPr>
          <a:xfrm>
            <a:off x="4356000" y="6308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2"/>
          <p:cNvSpPr/>
          <p:nvPr/>
        </p:nvSpPr>
        <p:spPr>
          <a:xfrm>
            <a:off x="3851280" y="6308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3"/>
          <p:cNvSpPr/>
          <p:nvPr/>
        </p:nvSpPr>
        <p:spPr>
          <a:xfrm>
            <a:off x="5867280" y="6021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6227640" y="4941720"/>
            <a:ext cx="30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7596360" y="4941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8675640" y="60930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609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524720" y="61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934920" y="260280"/>
            <a:ext cx="7740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лощадь трапеции равна произведению полусуммы её оснований на выс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трапе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//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=a, BC=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┴ AD, BH=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5"/>
          <p:cNvSpPr/>
          <p:nvPr/>
        </p:nvSpPr>
        <p:spPr>
          <a:xfrm>
            <a:off x="1050840" y="2522520"/>
            <a:ext cx="388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1050840" y="2522520"/>
            <a:ext cx="59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ь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пе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7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448000" cy="1871640"/>
          </a:xfrm>
          <a:prstGeom prst="rect">
            <a:avLst/>
          </a:prstGeom>
          <a:ln w="0">
            <a:noFill/>
          </a:ln>
        </p:spPr>
      </p:pic>
      <p:sp>
        <p:nvSpPr>
          <p:cNvPr id="728" name="Text Box 8"/>
          <p:cNvSpPr/>
          <p:nvPr/>
        </p:nvSpPr>
        <p:spPr>
          <a:xfrm>
            <a:off x="179280" y="5084640"/>
            <a:ext cx="2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61128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0"/>
          <p:cNvSpPr/>
          <p:nvPr/>
        </p:nvSpPr>
        <p:spPr>
          <a:xfrm>
            <a:off x="1619280" y="32749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1"/>
          <p:cNvSpPr/>
          <p:nvPr/>
        </p:nvSpPr>
        <p:spPr>
          <a:xfrm>
            <a:off x="2340000" y="508464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411280" y="33577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755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914400" y="4282920"/>
            <a:ext cx="2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2411280" y="4149720"/>
            <a:ext cx="2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6" descr=""/>
          <p:cNvPicPr/>
          <p:nvPr/>
        </p:nvPicPr>
        <p:blipFill>
          <a:blip r:embed="rId3"/>
          <a:stretch/>
        </p:blipFill>
        <p:spPr>
          <a:xfrm>
            <a:off x="2987640" y="3645000"/>
            <a:ext cx="3024360" cy="1612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17"/>
          <p:cNvSpPr/>
          <p:nvPr/>
        </p:nvSpPr>
        <p:spPr>
          <a:xfrm>
            <a:off x="3419640" y="3357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8"/>
          <p:cNvSpPr/>
          <p:nvPr/>
        </p:nvSpPr>
        <p:spPr>
          <a:xfrm>
            <a:off x="2987640" y="5084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9"/>
          <p:cNvSpPr/>
          <p:nvPr/>
        </p:nvSpPr>
        <p:spPr>
          <a:xfrm>
            <a:off x="4932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0"/>
          <p:cNvSpPr/>
          <p:nvPr/>
        </p:nvSpPr>
        <p:spPr>
          <a:xfrm>
            <a:off x="5724360" y="50846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1"/>
          <p:cNvSpPr/>
          <p:nvPr/>
        </p:nvSpPr>
        <p:spPr>
          <a:xfrm>
            <a:off x="3564000" y="508464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2"/>
          <p:cNvSpPr/>
          <p:nvPr/>
        </p:nvSpPr>
        <p:spPr>
          <a:xfrm>
            <a:off x="4716360" y="5157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3"/>
          <p:cNvSpPr/>
          <p:nvPr/>
        </p:nvSpPr>
        <p:spPr>
          <a:xfrm>
            <a:off x="4284720" y="51577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4" descr=""/>
          <p:cNvPicPr/>
          <p:nvPr/>
        </p:nvPicPr>
        <p:blipFill>
          <a:blip r:embed="rId4"/>
          <a:stretch/>
        </p:blipFill>
        <p:spPr>
          <a:xfrm>
            <a:off x="6084720" y="3645000"/>
            <a:ext cx="2916360" cy="136836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25"/>
          <p:cNvSpPr/>
          <p:nvPr/>
        </p:nvSpPr>
        <p:spPr>
          <a:xfrm>
            <a:off x="6084720" y="486900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6"/>
          <p:cNvSpPr/>
          <p:nvPr/>
        </p:nvSpPr>
        <p:spPr>
          <a:xfrm>
            <a:off x="6443640" y="3429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7"/>
          <p:cNvSpPr/>
          <p:nvPr/>
        </p:nvSpPr>
        <p:spPr>
          <a:xfrm>
            <a:off x="7596360" y="34290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8"/>
          <p:cNvSpPr/>
          <p:nvPr/>
        </p:nvSpPr>
        <p:spPr>
          <a:xfrm>
            <a:off x="8748720" y="486900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9"/>
          <p:cNvSpPr/>
          <p:nvPr/>
        </p:nvSpPr>
        <p:spPr>
          <a:xfrm>
            <a:off x="6516720" y="49417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0"/>
          <p:cNvSpPr/>
          <p:nvPr/>
        </p:nvSpPr>
        <p:spPr>
          <a:xfrm>
            <a:off x="7596360" y="4941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ижнього колонтитула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6:47:07Z</dcterms:created>
  <dc:creator/>
  <dc:description/>
  <dc:language>en-US</dc:language>
  <cp:lastModifiedBy>LEGION</cp:lastModifiedBy>
  <dcterms:modified xsi:type="dcterms:W3CDTF">2015-01-26T12:30:37Z</dcterms:modified>
  <cp:revision>20</cp:revision>
  <dc:subject/>
  <dc:title>Презентация PowerPoint</dc:title>
</cp:coreProperties>
</file>