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112A-98F7-489D-B50E-118E72CD3C0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DejaVu Serif"/>
              </a:rPr>
              <a:t>урок математики в 4 кла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DejaVu Serif"/>
              </a:rPr>
              <a:t>Тема</a:t>
            </a:r>
            <a:r>
              <a:rPr b="0" lang="ru-RU" sz="3200" spc="-1" strike="noStrike">
                <a:solidFill>
                  <a:srgbClr val="800080"/>
                </a:solidFill>
                <a:latin typeface="DejaVu Serif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DejaVu Serif"/>
              </a:rPr>
              <a:t>«График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учитель высшей квалификационной категор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457F-F090-4400-821B-504210AB804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85AB-8EEB-439B-A57E-8648FD3ADA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4530-5B15-4AA3-BD42-AEED1E03A2C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Блиц-турн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(168 – 36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4)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8 + 4 = 7 (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00 – (70 + 80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3 = 150 (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00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100 ∙ 24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3 = 8 (км/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0FC6-CDFB-4C36-9A07-80AA0BF138A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C176-C004-404A-AB71-DA1B427A6C7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044-4EF0-4498-BBBA-E32EA078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30A-7905-4AD8-91E4-A461895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6E01F-C368-471B-9C93-F14BE57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99849-4B60-4BB0-97A5-E6D6EAFA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71656-32C5-4D34-B742-68CAB2DC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2908C-8854-4518-B5E8-1641A65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5563E-7F03-4471-9D4B-484D4ED8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F7E56-CF68-4737-9F0D-B8DE5319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28C55-35BE-4617-BC44-CF267D84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4001A-C538-4364-88F2-D54EF106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5AD32-5343-4854-BCFD-34C12632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8E8FD-291E-4BBE-8267-97C13D2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8D7-85C1-4B04-B1F7-E0983714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9A046-DA34-4E3F-9166-1263BA66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60902-C97B-45F3-85EF-CAD34106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9B106-13E6-4403-A4E5-14E63531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DFA09-E852-4EE5-AA42-8222690B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57947-1B35-4116-A34A-848B0759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79B07-4843-40B0-9B1F-56B148C9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13276-03F8-4AE0-8CCA-896876C6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054C3-FA9D-4CFC-93B7-4355F5A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99089-BC96-46FA-85FD-92A9F15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A399D-D72C-4755-B582-C53AB949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7E5-38F3-4DA0-8C5A-E3AAD6DC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A0BB5-71A5-4C21-BD68-6990C6EA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BC2B-11CF-492B-8AA7-99A97C14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399CB-AEA8-427C-815B-CB2A7302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42A66-AC31-498B-B1C3-9A8CFD9F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D95BE-3C23-4698-85D3-F51030EF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2F0BB-9E28-460D-807B-742863C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D11F0-86ED-4299-9C2E-F6D70615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D6A57-B034-46C8-93CD-4B4BFB5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3DB5C-1BAC-42CA-8AFF-1BCAC827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718AD-C68A-46A8-9063-F13A6B5B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8AEDF-DE92-4F09-A291-B06E8FEF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43086-B851-4D11-B8F0-D181705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5335C-E346-41C2-8ECA-1AD9514F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1D4D-2E4D-44D9-883F-404A2EC9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1749C-9411-4A55-AF9E-D20A177E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12575-89FC-4B48-9CD9-785079ED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51E1E-D3D6-4997-A7FD-982188B2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1B27C-1A5F-4E47-A89A-2E153C27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DDFC8-92A6-40E0-A2C4-F121D977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F77CB-3099-40E9-A5D8-FCAC123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B277E-0DF0-4BF8-B1F0-029E2D8E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5A411-4B65-4D3E-99E5-13AB4297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48405-E6F6-43C4-BD58-0247F8FB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78377-D5A2-48FB-9EF5-C4ACF15B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EBBC8-D000-48AE-B9BF-D03FB531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3CFC8-F586-4AAC-8F24-638B7688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2410D-EBE6-4249-B6C1-8D4CBFBB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7CA28-9F4F-468D-A7DC-82F5C8FC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C8303-46C8-4441-A584-42299564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3F000-A859-4E1C-872D-51F4F75B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A7BD7-1535-4CE2-B269-67E4BDAA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C253C-8D3F-4A16-9C65-AA2D16EC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82D9B-1BAF-4B19-90EE-A577606C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EBD7F-BD61-4E2C-99C1-B6BF3C9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4D3F9-4CBF-4985-A6FC-5F9E5C18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C8234-7117-4931-A256-02BD4D64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66A55-5521-4B18-8BE5-D791F82B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92F27-042D-4F2F-A3E9-8687F13B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14E58-63F4-422A-A303-E5D09EB0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5259B-2164-43F4-822F-D1B0F8F0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D6DBF-BB4B-4F5D-A51C-FC6BBCB5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C095F-A04D-4D94-99FB-604A7058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EE1D0-105A-4540-B649-CA843FDB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A7730-7334-485B-9096-1A9C1FD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C29-1AF7-4FF4-AB7E-0F84A5D0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F7209-5359-4E82-93C6-E97E665A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62C6C-837A-4FB7-A146-3540BADD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EC999-8C0B-47C3-86F6-5944DD86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78B4A-97E7-4E0A-8728-2D2B1B77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6F441-34B2-472D-A1EF-1FBE853D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19DC-D080-4DD1-ABC2-3982B175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3087-DC46-42B6-9172-6BD49CE2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18B2-459A-43A6-BABA-E02E34DA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9612-519C-4D00-AA88-AF5AAD3A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0CFD-5C2A-4EC6-A13E-C70B466E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F09-7121-4409-B9DA-E188595E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354E-66AA-4133-A38F-CE2C3E25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27D62-727A-44ED-A874-2C9DE4E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1ADE-4A04-40E5-8ACC-69BADD0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1E4F-39DC-48AB-B913-59892E30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E2AC-B7E4-493D-A294-7D04EAC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9634-B6C5-4B18-86A9-D21D7067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2FAB8-2248-4107-B7D2-24CD0481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41212-1758-4F46-A192-22A5EE1C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1641-485D-461A-8429-DB5E4FE5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79FD7-22ED-4F1F-9044-048779BD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725-86C7-410D-8026-F3562D7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557A-AC7F-4878-9310-ECD8C54B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9BE5-3F6E-4F64-BCF6-5A2FC614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8686-F785-4097-B127-6296AD16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88B1-817F-4F9F-92F6-8505A1A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0FDF-8074-4CD1-BC51-C9BC759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048D-8347-438B-A51F-82963DAC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06CCB-B426-4D38-97B9-F60B7D31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DDD1-7E42-4532-B4BF-1EDE789B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B52C1-546A-4F63-B974-9A138FDD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48590-B079-4FE8-AE45-A9D60FC8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19A-E364-4929-864A-3A9FA991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226D-A820-445A-9208-E34DE871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09D12-4262-4976-9CCB-2D15DC2A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5C1CA-F0CD-4F04-9C43-05D88C02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83EB-A4DE-416A-9DF9-A4D8E051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812D6-B380-4C16-8BA5-C699BA04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5F51-7036-416A-9B02-647CD92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6316-B775-4842-8AC0-D69BFCB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825A-7DBF-4FE8-8087-A9AC3978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E8B1F-30F3-43F2-9251-1747490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77CA-994E-4DB7-BBAA-D8E29974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075-A8E4-4525-B27C-D5F40925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D8C5D-2C86-43F5-A9E7-DFCA0B8A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98B84-2999-4AE7-8B9F-6F43263E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6854-4776-4274-8629-5667F72D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B930-0CC9-417A-B405-BF33C346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F31D2-6FF8-417B-9128-5D56E01B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A063-0266-4653-B83B-3F0800BA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B29CE-4914-487D-A51D-21D68E30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09FC7-A381-4DBD-A599-09FB617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4461F-B75B-45E7-B10D-E4E2EF34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59AF-B336-4754-BB87-FE43CC3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4A6-94BD-49F6-B40D-78581A48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FD22-F171-4CB0-8207-64FB01EA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E48B8-A15F-46C3-9266-7C6FF79F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A2D68-413B-444D-A445-22C63CE2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E4A43-F785-4709-9955-73D114C8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5E658-1855-4FA0-8F38-4B90E096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A802-17B3-478B-99ED-EA064430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CD1F-FD33-47C7-8821-A96D47C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2B94-5BAD-4C54-837A-2B34DD82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18852-C54D-4C4D-AF1B-8B4F035F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EC6B9-CFBC-4575-8E38-3396E5D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70F-6943-4908-A739-789D74C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EE959-5307-4FC7-8AA7-C59D5D9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89F9-0EAC-4993-8BDE-CC068C24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EEEA5-BAA2-4FF9-8461-A9C78C2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5DB12-139F-49F9-9EAB-6CA6F930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93A43-727D-42D7-9DCA-12504A37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AE8AB-5C3E-40A3-9A94-33066B3D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0B98-9D15-4F2E-9573-55D54308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2EE89-31B0-4239-86CB-406EF061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830D2-E5A2-44A0-9E4A-A9E52124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D1F98-FCA9-43BA-B290-5CA12683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462-47B7-4D8A-B519-6C645DD0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29434-880D-4CA4-A89E-CE1093A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101C9-CBA8-449B-879C-EFFD3259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9E9E3-B705-4E64-9BE1-1586F1CC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BD24-A0B0-46AB-80BE-FF1456F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93D2B-74CD-4D87-BBD9-61DFDFF4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AAD40-408B-48E5-BB58-16AC0064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EA13-80E7-4390-B9B5-834473EF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95CE2-6A5C-4B9A-8BFE-BF7C4FAA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D1515-6F93-4DE0-8A9B-2F92F7B6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4AAC7-5076-49F1-B6BB-2FB8DD34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D26D-26AD-4C0F-839D-A52637731A2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B6F8-FF12-4311-8724-742475759E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3598-5C24-48B9-ADEB-8FFBFB2B89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510A-109E-4994-B38B-AE736634DB3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8C2-18CE-4297-941D-91BBC76CFC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F851-CB34-455E-8459-4B5C4B8D9F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2C68-A46F-4368-BCC3-229B8AE5EF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45D6-65EF-4FF6-BE4B-557048EF3C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CB2D-067A-4531-B67C-3F5E7C183BF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F97F-52C5-481F-A7F2-A9226C383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C7EA-A378-4454-88C0-A89E3E946C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5D6B-A5EF-4DD3-BB43-EE6D8F5BEBC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A4F4-1EBA-4402-BC02-E06FC45367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2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  <p:sp>
        <p:nvSpPr>
          <p:cNvPr id="7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4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  <p:sp>
        <p:nvSpPr>
          <p:cNvPr id="8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8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2:31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