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5.gif" ContentType="image/gif"/>
  <Override PartName="/ppt/media/image9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4BCA-E758-4A11-A7F7-61DE431141C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Муниципальное бюджетное образовательное учреждение Тогучинского района Горновская начальная общеобразовательн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00080"/>
                </a:solidFill>
                <a:latin typeface="DejaVu Serif"/>
              </a:rPr>
              <a:t>урок математики в 4 класс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DejaVu Serif"/>
              </a:rPr>
              <a:t>Тема</a:t>
            </a:r>
            <a:r>
              <a:rPr b="0" lang="ru-RU" sz="3200" spc="-1" strike="noStrike">
                <a:solidFill>
                  <a:srgbClr val="800080"/>
                </a:solidFill>
                <a:latin typeface="DejaVu Serif"/>
              </a:rPr>
              <a:t> </a:t>
            </a:r>
            <a:r>
              <a:rPr b="1" i="1" lang="ru-RU" sz="3200" spc="-1" strike="noStrike">
                <a:solidFill>
                  <a:srgbClr val="1f497d"/>
                </a:solidFill>
                <a:latin typeface="DejaVu Serif"/>
              </a:rPr>
              <a:t>«График движен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учитель высшей квалификационной категории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DejaVu Serif"/>
              </a:rPr>
              <a:t>С.В.Мостовенк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7570-2F2C-4405-9DF0-9472248AB76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Georgia"/>
              </a:rPr>
              <a:t>Начинается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Georgia"/>
              </a:rPr>
              <a:t>Он пойдёт ребятам впро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Georgia"/>
              </a:rPr>
              <a:t>Постарайтесь всё поня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Georgia"/>
              </a:rPr>
              <a:t>Да и правильно счита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CA87-6842-4D75-AA90-9272DB5E16C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Georgia"/>
              </a:rPr>
              <a:t>Движение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диться в движении, перемещаться, направля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мещение кого (чего)-нибудь  в определённом направл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положения тела или его ча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нее побуждение, вызванное каким-нибудь чувством, пережива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зда, ходьба в разных направл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ая деятельность  многих людей, направленная на достижение общ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6264-FB7C-4657-B0C3-FE38A6C8C88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Блиц-турнир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тояние между двумя замками 168 км. Посыльный 4 часа мчался на лошади со скоростью 36 км/ч, а остальной путь вынужден был бежать со скоростью 8 км/ч. Сколько часов посыльный добирался до зам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(168 – 36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∙ 4)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: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 8 + 4 = 7 (ч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поезда вышли одновременно навстречу друг другу из двух городов, расстояние между которыми 600 км. Скорость первого поезда 70 км/ч, а второго – 80 км/ч. Какое расстояние было между поездами через 3 часа после выхо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600 – (70 + 80)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∙ 3 = 150 (к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нец прошёл по долине 100 км, а по горной дороге – лишь 24 % этого пути. С какой скоростью шёл гонец по горной дороге, если прошёл её за 3 час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100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: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 100 ∙ 24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: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 3 = 8 (км/ч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C5B0-FF28-44E0-BB3D-CDD83D2AEC6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Georgia"/>
              </a:rPr>
              <a:t>Что позволяет определить график движ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F6ED-F8E3-4389-8742-55174AC08B6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3A75-D231-4442-B511-3F2916FFB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F9AC-3A26-4FDA-840E-92DAAF18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78701-E947-4D80-AA45-C3B0D3F3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D2C77-36B0-40AE-BCD6-D70701D3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21FC1-1AA9-492A-B733-B08E105C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562FD-751F-40A8-A953-CB7B1467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63531-EDEB-4C79-B8C8-BE187A66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E1B1C-AFEC-4C83-A47E-DA288E7A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70640-49E9-4875-B9EA-F3C75C7B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C5103-6CF8-4538-9576-2F5754771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77DA9-F112-4E1E-B204-237346C8E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68597-0514-4BC8-AF46-C5B93C22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0C76-8F6D-47F3-AA65-77C9E9029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44545-BF4B-4F9F-B4B6-2C3887F7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FAD63-17DF-4D80-833D-2B95CBF6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02C9E7-F887-4FA0-B863-3DADBF63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3094B-9F8B-4B3A-B0FB-17333C85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9D5983-D33A-4FB7-AA0D-51E49A9E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47260-B967-4622-B240-2F5EF9DA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9465E-391B-45E9-ADD3-A5ABE44D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5A92F-4C97-4D9A-A8CC-D71EC428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350CF-461C-4581-ACDA-37156DCE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9852D-0D27-4689-A8B0-2D3CBFBD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AD59-610D-4C7C-8BA1-8F6A2692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587C4-C557-46D2-9075-7F972E1F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359A7-3DF9-4942-A6CC-53338D41F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063B6-26E8-4A16-B651-1C3E897F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53B58-D151-42D1-98EC-49015FC5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9788A-3E13-4BBF-9C75-09FF57F6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4C1B1-E8C1-4EBF-B2E6-B28605EF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43BAE-D02A-4805-8B34-1F760F7B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AD9C0-8F0C-4286-8FAF-5250EEDB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2E7D0-DC4F-4B9A-9E7A-9E975315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C8399-6976-4630-AEAE-226B74D6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4158F-358C-48A6-A7FA-C01FE8A9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1E4D2-EB31-456E-8A1C-EF1083A8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9BDB0-5FCB-4FFF-ACE0-CC52B4DAA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41820-3792-4F37-B7D1-1622006E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8DA59A-A38B-4F7F-A929-467F61CDE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C87209-445D-4787-A3B0-E822C194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0F6E60-F14D-4A51-A2CE-E88341EB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CD5E63-14F6-4AFC-B105-E3C29068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69065-CB18-43A4-AF58-34B53E6D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C3FE7-8B6D-4390-9CB8-8EEAB1C3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97D866-378F-4B20-9A2B-1E4A8F9D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BD6A6-8E0A-484A-844D-A435EBF4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8370C-F920-4734-BDAA-EE915E5A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A23093-A859-44D1-BA92-2784D49A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AB7937-3A0E-4A45-812D-605F50AF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A4B374-C1F8-4E85-A6DF-6CEC94E3D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3E3B4-9601-484B-830C-79AC1E0FE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499CB8-1B5A-4D64-8922-D18EF0B02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3FEAA7-2728-421B-ACEF-E457A6A6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05996D-CB2F-4AFD-884A-6B0A0087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E20B15-F6B6-4A5C-82F3-EEC801F0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B7B9DB-EB0C-4819-A89F-D677A487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9FB8F-5706-44FF-B20C-52780597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8E446E-2354-43D2-8743-44EA26AF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CEC50D-8925-4418-A83E-BE63AD15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350D04-D965-4F7A-8B38-25B6528F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A20E57-3A74-4BE7-9ACF-2DF9C7B3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6C967F-6050-49D9-91AF-46B1B82D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C174FF-DE88-4239-93CB-37F36C7B3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5257A3-B910-48EE-A673-9123D1357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F3539-80AD-453F-83B0-44C7AB71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3DDEE-3070-4637-9DBC-2938C7BD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76205-899A-47D4-8D25-994BAFC4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0A59D-F121-450E-B570-FFD518FB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4647-E33B-4889-BA35-1724B1DC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FF19E-E50C-4FAE-A756-E45F8659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84F83-13C8-4675-AAA6-12A0341A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261FC-5F7B-4F39-88B3-B07B6B26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17F3B-A2D6-4F19-BA51-51B2E395D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74C08-5D54-465B-8400-A3CA3BB3B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18613-CF19-4D9C-A47A-C44FC78AB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AAC1D-1053-44EC-B1C1-996EE064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8EDA2-4AA4-4454-B2EC-9803BC12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6CDBC-2897-46A7-9D3C-8A7D2302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60A19-8621-4F6D-BF90-E0C419B5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76AC-DD26-4D9B-8B59-FFBF2F38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85052-1F86-4122-9EFD-46D7AADF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E2868-5FAE-4706-8879-2ACA0A68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E2769-C428-47F9-8796-65CADC7A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4568B-657E-4675-82EE-DA12C543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EE4C8-D881-4605-A3A1-AA1E8A73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CB14C-7586-43B7-964E-2BBA14935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BBC46-50D3-4600-8931-5247F6A0E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32B86-9E83-429D-9544-1DB950B8F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FEBEE-F99B-4459-9A48-2C53B018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ED5B6-6762-4399-843E-2607774D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D1F0-61CA-4682-A590-4CCCE920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D7261-B3B8-4455-A3B6-4B114571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6C1B4-A573-44DF-9D0A-BEECA6D1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F23C8-240F-4CC1-8171-45B3E1FF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2C902-B849-42D5-99EE-DAFFBD0A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003B0-44E5-4639-8A0D-D5921B57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10A0F-9DC7-45C1-87FB-57CD2FFC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CD7FF-1771-4C7E-BFAF-83411559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BA0F9-F4DA-4023-AB35-EC4B3D35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1D0EF-C938-4957-A549-8FA23520F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038C3-BABB-444A-99FA-5564AE08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069F-FEB9-461F-ABD8-DBE74C28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F6803-0AF6-4BC6-BD47-6F9A7373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55D0D-70B3-42C2-BF26-05531EFB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BB424-7FA9-4E09-92D3-83FDB29B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8CD96-5260-48D1-9F55-E35B58D1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C10BC-552F-4D8B-AF59-9471F710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8ECF6-7999-4A0E-89BB-58E62478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8CEF7-EA90-4A7E-A024-6AD33E59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C4A85-2185-4CBB-87F1-EB5CA557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C41E2-C50D-4E41-8C31-FD0F2453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FAC8C-2E7F-4E9F-91E1-0B825A204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4DB8-0D05-4630-A88C-1EE85C07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8594A-8DD6-4E73-AAB5-1E343426E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A773B-08D1-4DA3-842B-24155CE8B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CE74C-62F3-428A-A70B-E3FCF3AE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94D8C-BEF3-4A4D-8F20-FA721B7A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8C70A-1887-4F4A-AD0D-DA89F2A7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61DA0-C80B-4445-9E3A-4AF0FC50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AD574-A208-4CED-902F-0A2E140D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E55E5-23F0-4011-A992-2C89E858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884D4-55A9-4BB4-9D83-7D1AB4F7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70251-1E48-4395-B8BE-3B273F8B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D899-7DAE-4138-92DB-F2D760C7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FFF70-94F0-458B-AAAB-7A1881FD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07A51-196D-4164-9C16-BAA9D442D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3EF03-FA31-4F01-8788-93520063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10C49-3D12-40C1-AB42-67E976565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8E1E1-C5E7-4D84-BCD6-63FB6EA0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990D3-23F4-49ED-A688-845B3CBA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E0C38-78A3-45B1-B72A-EC6C07B0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C594F-C5A9-4135-A055-1487891E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00B50-CC7C-4591-A42C-7677D42E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D093A-8998-45DF-966A-4888983A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75FA-A3FA-4A15-BC9C-BBF3ABC9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FF036-C35C-4D3B-BEA3-0C3366C6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F7F38-97E6-43AD-9B19-414650D0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9C57A-F59E-483B-9EF5-6BBF89F6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A5374-8AAE-46C2-8614-62400960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4C02F-B8B8-4B7D-AAE4-CB00E5B64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1534D-5A25-4161-8C71-D79264A7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8CC7D-AFD8-4772-BE80-CE6D3BDC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2AE25-300E-457C-B26C-DDACD06C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F6FE1-8250-4751-AA29-E23C5FA0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9D936-BF98-44B0-9363-60EF9551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6C6F-88C0-4FB5-889C-F552B4EE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9831C-DEC4-45C8-8B5F-CF47C301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97FCA-DC4E-4376-BB50-F44C8745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A24F7-0AA4-4AFC-BA9F-257F301A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D29CF-AA1D-482C-B19B-9A0E2E7E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CD1F9-6B48-4082-A9CD-2867ADB6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C2354-EF52-4575-87FD-777085CC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0C8DB-0BDE-4098-94C8-02DCD0DF9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A4969-16A3-44BE-99DE-64D796E5F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7FDB0-43AB-4815-8A9C-0B795D1A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6D31B-D578-4923-9B53-F445CFA9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FD61-B7C5-437A-9D45-7226CFC50D1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2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A9EC-93F8-44E8-B0B2-4533696B692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55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7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999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1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2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5902-16DE-407A-9E71-75DB1EF9693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603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6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7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8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9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0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15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616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7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8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9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0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1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2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3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4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5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6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7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8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9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0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1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2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3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4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5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6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7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8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9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0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4115-68E7-41A2-BA46-713F95F6FB4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68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8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68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8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68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3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3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824D-D1DB-473C-ADF3-AEC8443B95F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BBE9-33B6-4642-8385-8FBB8F9E573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D3DE-2DFC-4001-87FB-B0D2BDB8E15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8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999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2DB4-2D07-4379-A7E2-26B483E4390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27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9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40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9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2BE2-4952-4BAF-81D3-61250BF2141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7247-93C3-43DB-BF4D-D7F004A756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4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5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1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3473-2B2A-4E80-A4D3-61806DFB2E1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9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9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0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40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0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0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1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1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CB16-DC0F-42A8-A3CD-C4C7BBAA6D5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59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61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62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3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4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5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6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7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8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9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0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1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F15E-C125-4139-A9BA-738014B9EF9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200"/>
                </a:solidFill>
                <a:latin typeface="Comic Sans MS"/>
              </a:rPr>
              <a:t>Муниципальное бюджетное образовательное учреждение Тогучинского района Горновская начальная общеобразовательная школ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dff"/>
                </a:solidFill>
                <a:latin typeface="DejaVu Serif"/>
              </a:rPr>
              <a:t>урок математики в 4 класс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dff"/>
                </a:solidFill>
                <a:latin typeface="DejaVu Serif"/>
              </a:rPr>
              <a:t>Тема</a:t>
            </a:r>
            <a:r>
              <a:rPr b="0" lang="ru-RU" sz="4800" spc="-1" strike="noStrike">
                <a:solidFill>
                  <a:srgbClr val="703dff"/>
                </a:solidFill>
                <a:latin typeface="DejaVu Serif"/>
              </a:rPr>
              <a:t> </a:t>
            </a:r>
            <a:r>
              <a:rPr b="1" i="1" lang="ru-RU" sz="4800" spc="-1" strike="noStrike">
                <a:solidFill>
                  <a:srgbClr val="ff0000"/>
                </a:solidFill>
                <a:latin typeface="DejaVu Serif"/>
              </a:rPr>
              <a:t>«График движения»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omic Sans MS"/>
              </a:rPr>
              <a:t>учитель высшей квалификационной категории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DejaVu Serif"/>
              </a:rPr>
              <a:t>С.В.Мостовенк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19"/>
          <p:cNvSpPr/>
          <p:nvPr/>
        </p:nvSpPr>
        <p:spPr>
          <a:xfrm>
            <a:off x="609480" y="1371600"/>
            <a:ext cx="75438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Начинается уро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Он пойдёт ребятам впрок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Постарайтесь всё понять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Да и правильно считать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 Box 2"/>
          <p:cNvSpPr/>
          <p:nvPr/>
        </p:nvSpPr>
        <p:spPr>
          <a:xfrm>
            <a:off x="669960" y="457200"/>
            <a:ext cx="6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И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Text Box 3"/>
          <p:cNvSpPr/>
          <p:nvPr/>
        </p:nvSpPr>
        <p:spPr>
          <a:xfrm>
            <a:off x="1371600" y="341280"/>
            <a:ext cx="3124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00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Line 4"/>
          <p:cNvSpPr/>
          <p:nvPr/>
        </p:nvSpPr>
        <p:spPr>
          <a:xfrm>
            <a:off x="1447920" y="685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Line 5"/>
          <p:cNvSpPr/>
          <p:nvPr/>
        </p:nvSpPr>
        <p:spPr>
          <a:xfrm>
            <a:off x="2209680" y="609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Line 6"/>
          <p:cNvSpPr/>
          <p:nvPr/>
        </p:nvSpPr>
        <p:spPr>
          <a:xfrm>
            <a:off x="2209680" y="762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Text Box 7"/>
          <p:cNvSpPr/>
          <p:nvPr/>
        </p:nvSpPr>
        <p:spPr>
          <a:xfrm>
            <a:off x="685800" y="14112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Text Box 8"/>
          <p:cNvSpPr/>
          <p:nvPr/>
        </p:nvSpPr>
        <p:spPr>
          <a:xfrm>
            <a:off x="1660680" y="1407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Text Box 9"/>
          <p:cNvSpPr/>
          <p:nvPr/>
        </p:nvSpPr>
        <p:spPr>
          <a:xfrm>
            <a:off x="685800" y="22496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Text Box 10"/>
          <p:cNvSpPr/>
          <p:nvPr/>
        </p:nvSpPr>
        <p:spPr>
          <a:xfrm>
            <a:off x="1509120" y="2246400"/>
            <a:ext cx="42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Line 11"/>
          <p:cNvSpPr/>
          <p:nvPr/>
        </p:nvSpPr>
        <p:spPr>
          <a:xfrm>
            <a:off x="1523880" y="2590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Text Box 12"/>
          <p:cNvSpPr/>
          <p:nvPr/>
        </p:nvSpPr>
        <p:spPr>
          <a:xfrm>
            <a:off x="4876920" y="2057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Text Box 13"/>
          <p:cNvSpPr/>
          <p:nvPr/>
        </p:nvSpPr>
        <p:spPr>
          <a:xfrm>
            <a:off x="2666880" y="457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2 – 5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Text Box 14"/>
          <p:cNvSpPr/>
          <p:nvPr/>
        </p:nvSpPr>
        <p:spPr>
          <a:xfrm>
            <a:off x="1600200" y="68580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Text Box 15"/>
          <p:cNvSpPr/>
          <p:nvPr/>
        </p:nvSpPr>
        <p:spPr>
          <a:xfrm>
            <a:off x="1219320" y="1523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+ 54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Line 16"/>
          <p:cNvSpPr/>
          <p:nvPr/>
        </p:nvSpPr>
        <p:spPr>
          <a:xfrm>
            <a:off x="198108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Line 17"/>
          <p:cNvSpPr/>
          <p:nvPr/>
        </p:nvSpPr>
        <p:spPr>
          <a:xfrm>
            <a:off x="198108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Text Box 18"/>
          <p:cNvSpPr/>
          <p:nvPr/>
        </p:nvSpPr>
        <p:spPr>
          <a:xfrm>
            <a:off x="24404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0 – 45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Text Box 19"/>
          <p:cNvSpPr/>
          <p:nvPr/>
        </p:nvSpPr>
        <p:spPr>
          <a:xfrm>
            <a:off x="685800" y="308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Text Box 20"/>
          <p:cNvSpPr/>
          <p:nvPr/>
        </p:nvSpPr>
        <p:spPr>
          <a:xfrm>
            <a:off x="1356480" y="316080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27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Text Box 21"/>
          <p:cNvSpPr/>
          <p:nvPr/>
        </p:nvSpPr>
        <p:spPr>
          <a:xfrm>
            <a:off x="685800" y="380988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Text Box 22"/>
          <p:cNvSpPr/>
          <p:nvPr/>
        </p:nvSpPr>
        <p:spPr>
          <a:xfrm>
            <a:off x="1355760" y="3886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50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7 + 195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Text Box 23"/>
          <p:cNvSpPr/>
          <p:nvPr/>
        </p:nvSpPr>
        <p:spPr>
          <a:xfrm>
            <a:off x="762120" y="4572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Text Box 24"/>
          <p:cNvSpPr/>
          <p:nvPr/>
        </p:nvSpPr>
        <p:spPr>
          <a:xfrm>
            <a:off x="1508040" y="46483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27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с – 2) ∙ 30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7" name=""/>
          <p:cNvGraphicFramePr/>
          <p:nvPr/>
        </p:nvGraphicFramePr>
        <p:xfrm>
          <a:off x="1143000" y="5257800"/>
          <a:ext cx="6781680" cy="1050840"/>
        </p:xfrm>
        <a:graphic>
          <a:graphicData uri="http://schemas.openxmlformats.org/drawingml/2006/table">
            <a:tbl>
              <a:tblPr/>
              <a:tblGrid>
                <a:gridCol w="847800"/>
                <a:gridCol w="847800"/>
                <a:gridCol w="847440"/>
                <a:gridCol w="847800"/>
                <a:gridCol w="847800"/>
                <a:gridCol w="847800"/>
                <a:gridCol w="847800"/>
                <a:gridCol w="847440"/>
              </a:tblGrid>
              <a:tr h="532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8" name="Text Box 54"/>
          <p:cNvSpPr/>
          <p:nvPr/>
        </p:nvSpPr>
        <p:spPr>
          <a:xfrm>
            <a:off x="4938480" y="49356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= 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Text Box 55"/>
          <p:cNvSpPr/>
          <p:nvPr/>
        </p:nvSpPr>
        <p:spPr>
          <a:xfrm>
            <a:off x="4938840" y="133200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= 15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Text Box 56"/>
          <p:cNvSpPr/>
          <p:nvPr/>
        </p:nvSpPr>
        <p:spPr>
          <a:xfrm>
            <a:off x="4952880" y="22464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= 1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Text Box 57"/>
          <p:cNvSpPr/>
          <p:nvPr/>
        </p:nvSpPr>
        <p:spPr>
          <a:xfrm>
            <a:off x="5090400" y="3160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=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Text Box 58"/>
          <p:cNvSpPr/>
          <p:nvPr/>
        </p:nvSpPr>
        <p:spPr>
          <a:xfrm>
            <a:off x="5089680" y="39225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Text Box 59"/>
          <p:cNvSpPr/>
          <p:nvPr/>
        </p:nvSpPr>
        <p:spPr>
          <a:xfrm>
            <a:off x="5181480" y="4608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= 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Text Box 60"/>
          <p:cNvSpPr/>
          <p:nvPr/>
        </p:nvSpPr>
        <p:spPr>
          <a:xfrm>
            <a:off x="2500200" y="14842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Text Box 61"/>
          <p:cNvSpPr/>
          <p:nvPr/>
        </p:nvSpPr>
        <p:spPr>
          <a:xfrm>
            <a:off x="2438280" y="32004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3 - 2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Text Box 62"/>
          <p:cNvSpPr/>
          <p:nvPr/>
        </p:nvSpPr>
        <p:spPr>
          <a:xfrm>
            <a:off x="3581280" y="3809880"/>
            <a:ext cx="7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 ∙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Text Box 63"/>
          <p:cNvSpPr/>
          <p:nvPr/>
        </p:nvSpPr>
        <p:spPr>
          <a:xfrm>
            <a:off x="3659400" y="46483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∙ 12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Text Box 64"/>
          <p:cNvSpPr/>
          <p:nvPr/>
        </p:nvSpPr>
        <p:spPr>
          <a:xfrm>
            <a:off x="2743200" y="457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Text Box 65"/>
          <p:cNvSpPr/>
          <p:nvPr/>
        </p:nvSpPr>
        <p:spPr>
          <a:xfrm>
            <a:off x="2517120" y="1523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Text Box 66"/>
          <p:cNvSpPr/>
          <p:nvPr/>
        </p:nvSpPr>
        <p:spPr>
          <a:xfrm>
            <a:off x="2593080" y="2438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Text Box 67"/>
          <p:cNvSpPr/>
          <p:nvPr/>
        </p:nvSpPr>
        <p:spPr>
          <a:xfrm>
            <a:off x="2593080" y="3124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Text Box 68"/>
          <p:cNvSpPr/>
          <p:nvPr/>
        </p:nvSpPr>
        <p:spPr>
          <a:xfrm>
            <a:off x="3660120" y="3886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Text Box 69"/>
          <p:cNvSpPr/>
          <p:nvPr/>
        </p:nvSpPr>
        <p:spPr>
          <a:xfrm>
            <a:off x="3736440" y="46483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4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Rectangle 70"/>
          <p:cNvSpPr/>
          <p:nvPr/>
        </p:nvSpPr>
        <p:spPr>
          <a:xfrm>
            <a:off x="1373400" y="586728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Rectangle 71"/>
          <p:cNvSpPr/>
          <p:nvPr/>
        </p:nvSpPr>
        <p:spPr>
          <a:xfrm>
            <a:off x="2211480" y="5867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Rectangle 72"/>
          <p:cNvSpPr/>
          <p:nvPr/>
        </p:nvSpPr>
        <p:spPr>
          <a:xfrm>
            <a:off x="3049920" y="5867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Rectangle 73"/>
          <p:cNvSpPr/>
          <p:nvPr/>
        </p:nvSpPr>
        <p:spPr>
          <a:xfrm>
            <a:off x="3886200" y="5867280"/>
            <a:ext cx="3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Rectangle 74"/>
          <p:cNvSpPr/>
          <p:nvPr/>
        </p:nvSpPr>
        <p:spPr>
          <a:xfrm>
            <a:off x="7240680" y="5867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Rectangle 75"/>
          <p:cNvSpPr/>
          <p:nvPr/>
        </p:nvSpPr>
        <p:spPr>
          <a:xfrm>
            <a:off x="5640480" y="5867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Rectangle 76"/>
          <p:cNvSpPr/>
          <p:nvPr/>
        </p:nvSpPr>
        <p:spPr>
          <a:xfrm>
            <a:off x="6477120" y="586728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Rectangle 77"/>
          <p:cNvSpPr/>
          <p:nvPr/>
        </p:nvSpPr>
        <p:spPr>
          <a:xfrm>
            <a:off x="4726080" y="5867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5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7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6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6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4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4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4"/>
          <p:cNvSpPr/>
          <p:nvPr/>
        </p:nvSpPr>
        <p:spPr>
          <a:xfrm>
            <a:off x="2666880" y="304920"/>
            <a:ext cx="29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Движение -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Text Box 6"/>
          <p:cNvSpPr/>
          <p:nvPr/>
        </p:nvSpPr>
        <p:spPr>
          <a:xfrm>
            <a:off x="60120" y="1179360"/>
            <a:ext cx="8774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одиться в движении, перемещаться, направлятьс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щение кого (чего)-нибудь  в определённом направлени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ение положения тела или его часте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еннее побуждение, вызванное каким-нибудь чувством, переживание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зда, ходьба в разных направления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ая деятельность  многих людей, направленная на достижение общей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5" name="Picture 7" descr="AG00165_"/>
          <p:cNvPicPr/>
          <p:nvPr/>
        </p:nvPicPr>
        <p:blipFill>
          <a:blip r:embed="rId1"/>
          <a:stretch/>
        </p:blipFill>
        <p:spPr>
          <a:xfrm>
            <a:off x="6781680" y="380880"/>
            <a:ext cx="2362320" cy="1073160"/>
          </a:xfrm>
          <a:prstGeom prst="rect">
            <a:avLst/>
          </a:prstGeom>
          <a:ln w="0">
            <a:noFill/>
          </a:ln>
        </p:spPr>
      </p:pic>
      <p:sp>
        <p:nvSpPr>
          <p:cNvPr id="7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7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7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7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7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«Блиц-турнир»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асстояние между двумя замками 168 км. Посыльный 4 часа мчался на лошади со скоростью 36 км/ч, а остальной путь вынужден был бежать со скоростью 8 км/ч. Сколько часов посыльный добирался до замка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(168 – 36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∙ 4)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 8 + 4 = 7 (ч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ва поезда вышли одновременно навстречу друг другу из двух городов, расстояние между которыми 600 км. Скорость первого поезда 70 км/ч, а второго – 80 км/ч. Какое расстояние было между поездами через 3 часа после выхода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600 – (70 + 80)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∙ 3 = 150 (к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Гонец прошёл по долине 100 км, а по горной дороге – лишь 24 % этого пути. С какой скоростью шёл гонец по горной дороге, если прошёл её за 3 часа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100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 100 ∙ 24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  <a:ea typeface="Arial"/>
              </a:rPr>
              <a:t> 3 = 8 (км/ч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7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4"/>
          <p:cNvSpPr/>
          <p:nvPr/>
        </p:nvSpPr>
        <p:spPr>
          <a:xfrm>
            <a:off x="517680" y="420840"/>
            <a:ext cx="66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круче вверх поднимается график, те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Text Box 5"/>
          <p:cNvSpPr/>
          <p:nvPr/>
        </p:nvSpPr>
        <p:spPr>
          <a:xfrm>
            <a:off x="4816440" y="1170000"/>
            <a:ext cx="35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больше</a:t>
            </a:r>
            <a:r>
              <a:rPr b="1" lang="ru-RU" sz="28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корос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Text Box 6"/>
          <p:cNvSpPr/>
          <p:nvPr/>
        </p:nvSpPr>
        <p:spPr>
          <a:xfrm>
            <a:off x="745200" y="2935440"/>
            <a:ext cx="630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изонтальный график движения - эт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Text Box 7"/>
          <p:cNvSpPr/>
          <p:nvPr/>
        </p:nvSpPr>
        <p:spPr>
          <a:xfrm>
            <a:off x="4357800" y="380988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тсутствие движ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4" name="Picture 8" descr="AG00120_"/>
          <p:cNvPicPr/>
          <p:nvPr/>
        </p:nvPicPr>
        <p:blipFill>
          <a:blip r:embed="rId1"/>
          <a:stretch/>
        </p:blipFill>
        <p:spPr>
          <a:xfrm>
            <a:off x="1676520" y="1371600"/>
            <a:ext cx="1828800" cy="106668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10" descr="CAEIZNLK"/>
          <p:cNvPicPr/>
          <p:nvPr/>
        </p:nvPicPr>
        <p:blipFill>
          <a:blip r:embed="rId2"/>
          <a:stretch/>
        </p:blipFill>
        <p:spPr>
          <a:xfrm flipH="1" rot="21570600">
            <a:off x="2819160" y="4800240"/>
            <a:ext cx="1293840" cy="1143000"/>
          </a:xfrm>
          <a:prstGeom prst="rect">
            <a:avLst/>
          </a:prstGeom>
          <a:ln w="0">
            <a:noFill/>
          </a:ln>
        </p:spPr>
      </p:pic>
      <p:sp>
        <p:nvSpPr>
          <p:cNvPr id="8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9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9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4" descr=""/>
          <p:cNvPicPr/>
          <p:nvPr/>
        </p:nvPicPr>
        <p:blipFill>
          <a:blip r:embed="rId1"/>
          <a:stretch/>
        </p:blipFill>
        <p:spPr>
          <a:xfrm>
            <a:off x="30240" y="225360"/>
            <a:ext cx="9085320" cy="6408720"/>
          </a:xfrm>
          <a:prstGeom prst="rect">
            <a:avLst/>
          </a:prstGeom>
          <a:ln w="0">
            <a:noFill/>
          </a:ln>
        </p:spPr>
      </p:pic>
      <p:sp>
        <p:nvSpPr>
          <p:cNvPr id="8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4"/>
          <p:cNvSpPr/>
          <p:nvPr/>
        </p:nvSpPr>
        <p:spPr>
          <a:xfrm>
            <a:off x="2666880" y="384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Проверь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0" name="Picture 5" descr=""/>
          <p:cNvPicPr/>
          <p:nvPr/>
        </p:nvPicPr>
        <p:blipFill>
          <a:blip r:embed="rId1"/>
          <a:stretch/>
        </p:blipFill>
        <p:spPr>
          <a:xfrm>
            <a:off x="1371600" y="1039680"/>
            <a:ext cx="6858000" cy="5119920"/>
          </a:xfrm>
          <a:prstGeom prst="rect">
            <a:avLst/>
          </a:prstGeom>
          <a:ln w="0">
            <a:noFill/>
          </a:ln>
        </p:spPr>
      </p:pic>
      <p:sp>
        <p:nvSpPr>
          <p:cNvPr id="81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6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1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4"/>
          <p:cNvSpPr/>
          <p:nvPr/>
        </p:nvSpPr>
        <p:spPr>
          <a:xfrm>
            <a:off x="947880" y="192240"/>
            <a:ext cx="76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Georgia"/>
              </a:rPr>
              <a:t>Что позволяет определить график движения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13" name="Picture 5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8076960" cy="4698720"/>
          </a:xfrm>
          <a:prstGeom prst="rect">
            <a:avLst/>
          </a:prstGeom>
          <a:ln w="0">
            <a:noFill/>
          </a:ln>
        </p:spPr>
      </p:pic>
      <p:sp>
        <p:nvSpPr>
          <p:cNvPr id="814" name="Text Box 6"/>
          <p:cNvSpPr/>
          <p:nvPr/>
        </p:nvSpPr>
        <p:spPr>
          <a:xfrm>
            <a:off x="5486400" y="2286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0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6T12:31:0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