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9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26A1-DB13-4070-8739-A4E76AFCB25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униципальное бюджетное образовательное учреждение Тогучинского района Горновская начальная общеобразовате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DejaVu Serif"/>
              </a:rPr>
              <a:t>урок математики в 4 класс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DejaVu Serif"/>
              </a:rPr>
              <a:t>Тема</a:t>
            </a:r>
            <a:r>
              <a:rPr b="0" lang="ru-RU" sz="3200" spc="-1" strike="noStrike">
                <a:solidFill>
                  <a:srgbClr val="800080"/>
                </a:solidFill>
                <a:latin typeface="DejaVu Serif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DejaVu Serif"/>
              </a:rPr>
              <a:t>«График движ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учитель высшей квалификационной категори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DejaVu Serif"/>
              </a:rPr>
              <a:t>С.В.Мостовенк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4007-240B-490A-B363-439E9F8B329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Начинается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Он пойдёт ребятам впр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Постарайтесь всё поня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Да и правильно счит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6D41-8B81-4F24-99EA-414715030F0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Движение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иться в движении, перемещаться, направл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мещение кого (чего)-нибудь  в определённом направл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положения тела или его ча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ее побуждение, вызванное каким-нибудь чувством, пережи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зда, ходьба в разных направл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деятельность  многих людей, направленная на достижение общ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78F7-97CB-4FB2-9C9A-78323D43AA0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Блиц-турни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 между двумя замками 168 км. Посыльный 4 часа мчался на лошади со скоростью 36 км/ч, а остальной путь вынужден был бежать со скоростью 8 км/ч. Сколько часов посыльный добирался до зам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(168 – 36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∙ 4)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8 + 4 = 7 (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поезда вышли одновременно навстречу друг другу из двух городов, расстояние между которыми 600 км. Скорость первого поезда 70 км/ч, а второго – 80 км/ч. Какое расстояние было между поездами через 3 часа после вых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600 – (70 + 80)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∙ 3 = 150 (к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нец прошёл по долине 100 км, а по горной дороге – лишь 24 % этого пути. С какой скоростью шёл гонец по горной дороге, если прошёл её за 3 ча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00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100 ∙ 24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3 = 8 (км/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2BB8-7C1A-4F3F-9D4C-DD829BC4ECA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Что позволяет определить график движ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B48F-F8AC-4303-8C6D-1C018CC5194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1BF6-0B24-4578-87F3-78ADB0B5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C81-5F6B-4679-A650-B6A91D8E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42CB9-8782-4F47-AB61-245701EF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E92E6-79B2-422E-B658-AA9C0771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12487-139D-4568-AC57-D3B64D83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08971-C32D-4FCA-82C1-BB9725B9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D685E-19D1-446A-9AD9-78D333CA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575B3-192B-48DF-8EEB-A2C18996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0B31F-6493-4ACE-A377-08A9D0A6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02E4B-F072-4C53-9887-FBD3A73A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00411-F016-48D4-9264-95A5BC69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50F88-8D00-4D9E-9B48-8B2A95DC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DFD-10F5-4597-87DD-4F012DB3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78485-59A2-4859-9024-2025301D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570DA-0237-45C8-8741-63FD9BB4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66B18-2934-4641-92D9-A96778AD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655F3-7FB4-4D53-B19F-29F510A9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A0A10-F068-43CC-870A-7DA3DA0F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8F6B8-F22F-4843-8B16-7BF2C37E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9B8D8-603B-4CF2-8EED-70EA5CED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585B4-AA17-4D5B-A76F-00CEC776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94018-DBA5-4B57-A77B-08541BD2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10D87-A2DA-4D0C-B3DE-3E0A102D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80E1-D036-48DB-9B12-3F0530E4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ACE97-B588-40C7-AB07-060F7AE2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D14A4-D62C-41DD-B747-060305FE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37464-8682-4FAF-9256-9006F003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893D0-F983-4DC8-B831-E9D9F355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EE0C2-6A80-410C-8BC0-931B387B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DCBCC-13D4-43A7-90A8-8FD9FCD6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13434-D31B-44D1-AEBB-1A322862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7C5B8-7EE0-48B6-85FA-C97880AE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80D90-B0BB-493D-A152-3DA3E22A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E3E53-3638-4BDD-A14C-13092806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16644-CE3A-45AA-B26A-A7F83E35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57E84-67C7-4EB1-9B67-C27F02DE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C7D28-08A8-40B7-9D70-BC8077AC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172AA-9328-4D2D-A260-E345047A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F103D-276B-4DD2-91F9-2AEBAC64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35164-9A2E-4C14-AAB4-7160E1F5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CB67B-4874-49FB-90AF-8D655CFC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363E7-6338-4162-AE5C-585B28C8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D5271-125C-418C-8F8A-0826D165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10067-BFA4-41D6-BEEC-1102D6B9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FB207-D897-43AE-AA81-5DAE486F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56C22-0021-4840-A929-77F879E8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2567E-9456-4F3D-B092-01F7037C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D2E9A-2ABD-40C4-A3C7-05ACA335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740A5-493B-489E-A177-01D388E9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4C09A-ACF0-4F7C-9681-0540C375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2F31C-6E2B-48BA-BFFB-FB909196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DE1D1-9C8B-4CE6-A4BF-70D8908D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FE1E1-76EF-4EBD-A408-D78CA746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51480-DE28-464A-990F-79384FE3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D4044-739B-4420-BA33-36798E8D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9B631-2C99-4652-B55F-A609CE76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636AA-8752-49CA-A958-D8D0EEBC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28826B-13FF-4DFA-9149-4D58E63F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F450E-D6EE-4A3D-9E14-96EA64BD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0AFC83-BE9E-43C1-91EE-8356A0E3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D78DF-E910-436C-AA2A-8E00CE91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ACC9E-A1B3-404B-9A5E-481E5BA5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B3A07-108E-470D-BB2A-8BCE5AE5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EB06A-0808-428B-8A90-945E91DC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87619-ED4B-4FC3-B424-1BA51335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8AAC8-FA43-49D4-88BE-DA6A0E47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0AD37-BD1E-4E21-AC66-B1326130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3943F-5CCF-4DF9-87DE-833DC99C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DCA9-2F87-43AB-B9D3-A903C103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DB82F-73D9-4EF1-82C1-D2D15719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871CB-8A21-4CC6-AF19-4BB66067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6B813-656A-407E-AE03-31C60C62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57E37-CB89-424C-91E5-B37AFBAA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AC9C7-268A-47E0-AD20-0E7DFE54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13911-C533-4857-8D26-29C0424A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51D8C-54C3-443C-9F5F-0CD9BB18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0EFC3-51DF-46F1-BDA0-64D7B7D6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62F0E-2D72-4CB1-8A52-F47C60AF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39B82-83A7-4EBF-8DA0-1342F32D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FD4D-E320-4CAA-ADA1-AE9A04A0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0336E-BEB7-4BC1-ADC1-3F423EA2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0CC87-8B28-4CE3-84BF-DE0F5CC0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4A11E-0219-4FEC-A53A-75C07F08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A9AB5-FF21-482A-B246-62DAE9E5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E290-16AC-4797-951F-D947484F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BFC6B-903F-4DED-B546-96FB1383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B868F-03D5-4404-95D5-1C857C8C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064F9-F523-47EA-8BC0-CE500F93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740A9-3B77-44A1-A5A5-5C62D042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3D114-A8A8-46BD-BECB-AB990D35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A7A-E836-4058-A3C6-71A9AC34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C8052-C12D-4082-A744-25A4FC93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442D3-E98A-4078-B9CE-2DDAD207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F6B28-C171-408B-86F3-E33A26E9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114F5-152E-48B6-8512-D638EAFA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72E2A-5372-4526-ADB3-3F100234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3927A-2FC9-4693-8A73-E902BF39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64589-7E27-49DE-800D-B6985C9B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CCE69-F8AF-43EB-ABC7-4F8D3037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41DE8-ECBF-49DF-8380-64098908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2DA4C-05AF-47A1-858A-BD7440E0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253-671E-46E7-8A58-4CA6D43C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6A128-5E2F-4CDB-900F-B807734A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B5293-BB8E-4F3D-8ED2-1525FCE9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A9E3C-784E-4F90-94D8-63D3536C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45C9C-4762-4E7D-BD67-0C844B58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7044F-5577-42EE-AFFE-19E6E02A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BC191-846C-496E-B329-2BC9A141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E4B70-EDE9-459E-B154-B4BA3017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5E887-78E1-48EA-8175-176371AB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D92B6-A23F-409D-9110-43BD4DB6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B3829-5C5B-496E-9315-4C636AA3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613-978D-47D3-8954-52C964A3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23F0D-963B-4BC7-A462-4132E688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E887F-E230-4F52-AA79-466B1F82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9137E-90BC-4D3C-BF6C-A0295D13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1BB98-C2D9-4751-B152-8A18C3D4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307BE-F422-4A0F-9966-99539CDA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2808C-2A9C-4674-BC26-DC82D150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8545F-818A-404D-BE83-A34D4D43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FDB0D-2A24-43BB-898F-F9CC6A67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D1EBD-9C29-45C6-8F7E-3C6BBD51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4186A-E4A5-4466-BFC3-55B15A5C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BC2-C2BB-46B3-A8F2-952AE683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65788-788E-4343-BB89-D77B7BCD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4B6A9-4BDD-4AF5-939F-628AF7EC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BAFB7-CDEA-434E-8521-1DB7C63C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A193C-FACE-4776-ADEF-2EC5C9D9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C20D9-4DEA-4B32-8D7B-8BE1C8B5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861D8-0EA4-4D01-BBA9-F9326A18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239A7-5EAE-4754-B12C-B77D62CA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AC630-B9DF-4BFC-A867-72E594F4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AB307-40BE-46F3-AC40-2368F050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EAA3C-146F-4F80-854F-CA600485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46A-F3DB-47BB-A816-E5995326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BACDA-A701-4411-9490-2AB9D68F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65732-1B3B-43BB-A04F-8A5F66D6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39894-094B-43F0-A713-924223C3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CCFB9-AA4B-47A4-9E53-9E159F6C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2D315-1B37-4A5B-A6AC-0FA78C15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37811-DDB4-4273-80EC-E1A8D154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5B990-F92E-4ACB-8811-6B10395F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44899-A3D6-4921-AF4F-E00B6BB1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AB6FD-1881-41AB-9128-18D0C15A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D7DCF-B2A6-4D74-9110-746DC547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F18-013E-425C-ADC8-412ACAB5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A2D0C-6F8E-4284-9320-3D8D2BFD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D0BFC-5851-4C7A-ABF7-26DE59B6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21206-D142-43FE-A319-0F9E94D3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DA025-748E-41F6-AF4D-480DA796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8E0BE-2FC4-461D-8E10-C56A9D1E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D94D3-7B71-4280-BD76-7BE1D55E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CC25B-1C5F-4ADB-B23F-EA643B5A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3AABE-EF3A-41A2-8BAD-06308FF1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9A3C1-5C32-4135-BDE4-DB660B30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46D3C-D3D2-4BCB-9442-1EACA5FC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607B-7168-4FB5-B9D6-3756E75FD9B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E3FE-14D4-4E83-8944-F4F66250A74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5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E8A0-3EE5-4C5D-B87B-EBACC05C39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0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1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1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7E2B-7770-474C-B68E-8CAE4A59405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8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8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8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7EB0-479D-4C24-9FEF-3B94FA8694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2335-B78E-41FC-8F96-F4CE576796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84B8-D275-4E55-B36B-7BFB1813812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3A64-458F-418E-B252-94A8D4C4A05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2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4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8F2F-956B-4FF0-9E97-F0DBAF29632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23A2-1DD0-4727-81C5-44648A5584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2F53-0C21-4CE6-ACAE-7596E451D84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0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0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0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1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1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AA55-A991-45EF-BE0A-ACFBD6257BF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9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1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2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4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642F-FA91-469A-BF7D-34B9065FF1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Муниципальное бюджетное образовательное учреждение Тогучинского района Горновская начальная общеобразовательная школ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DejaVu Serif"/>
              </a:rPr>
              <a:t>урок математики в 4 класс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DejaVu Serif"/>
              </a:rPr>
              <a:t>Тема</a:t>
            </a:r>
            <a:r>
              <a:rPr b="0" lang="ru-RU" sz="4800" spc="-1" strike="noStrike">
                <a:solidFill>
                  <a:srgbClr val="703dff"/>
                </a:solidFill>
                <a:latin typeface="DejaVu Serif"/>
              </a:rPr>
              <a:t> </a:t>
            </a:r>
            <a:r>
              <a:rPr b="1" i="1" lang="ru-RU" sz="4800" spc="-1" strike="noStrike">
                <a:solidFill>
                  <a:srgbClr val="ff0000"/>
                </a:solidFill>
                <a:latin typeface="DejaVu Serif"/>
              </a:rPr>
              <a:t>«График движения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учитель высшей квалификационной категории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DejaVu Serif"/>
              </a:rPr>
              <a:t>С.В.Мостовенк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19"/>
          <p:cNvSpPr/>
          <p:nvPr/>
        </p:nvSpPr>
        <p:spPr>
          <a:xfrm>
            <a:off x="609480" y="1371600"/>
            <a:ext cx="7543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Начинается уро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Он пойдёт ребятам впрок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Постарайтесь всё понять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Да и правильно считать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2"/>
          <p:cNvSpPr/>
          <p:nvPr/>
        </p:nvSpPr>
        <p:spPr>
          <a:xfrm>
            <a:off x="669960" y="457200"/>
            <a:ext cx="6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 Box 3"/>
          <p:cNvSpPr/>
          <p:nvPr/>
        </p:nvSpPr>
        <p:spPr>
          <a:xfrm>
            <a:off x="1371600" y="341280"/>
            <a:ext cx="312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00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Line 4"/>
          <p:cNvSpPr/>
          <p:nvPr/>
        </p:nvSpPr>
        <p:spPr>
          <a:xfrm>
            <a:off x="1447920" y="685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Line 5"/>
          <p:cNvSpPr/>
          <p:nvPr/>
        </p:nvSpPr>
        <p:spPr>
          <a:xfrm>
            <a:off x="2209680" y="609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Line 6"/>
          <p:cNvSpPr/>
          <p:nvPr/>
        </p:nvSpPr>
        <p:spPr>
          <a:xfrm>
            <a:off x="2209680" y="762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5800" y="14112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Text Box 8"/>
          <p:cNvSpPr/>
          <p:nvPr/>
        </p:nvSpPr>
        <p:spPr>
          <a:xfrm>
            <a:off x="166068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Text Box 9"/>
          <p:cNvSpPr/>
          <p:nvPr/>
        </p:nvSpPr>
        <p:spPr>
          <a:xfrm>
            <a:off x="685800" y="2249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Text Box 10"/>
          <p:cNvSpPr/>
          <p:nvPr/>
        </p:nvSpPr>
        <p:spPr>
          <a:xfrm>
            <a:off x="1509120" y="224640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Line 11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12"/>
          <p:cNvSpPr/>
          <p:nvPr/>
        </p:nvSpPr>
        <p:spPr>
          <a:xfrm>
            <a:off x="4876920" y="2057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Text Box 13"/>
          <p:cNvSpPr/>
          <p:nvPr/>
        </p:nvSpPr>
        <p:spPr>
          <a:xfrm>
            <a:off x="2666880" y="457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2 – 5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600200" y="68580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15"/>
          <p:cNvSpPr/>
          <p:nvPr/>
        </p:nvSpPr>
        <p:spPr>
          <a:xfrm>
            <a:off x="1219320" y="1523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+ 54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Line 16"/>
          <p:cNvSpPr/>
          <p:nvPr/>
        </p:nvSpPr>
        <p:spPr>
          <a:xfrm>
            <a:off x="19810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17"/>
          <p:cNvSpPr/>
          <p:nvPr/>
        </p:nvSpPr>
        <p:spPr>
          <a:xfrm>
            <a:off x="198108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 Box 18"/>
          <p:cNvSpPr/>
          <p:nvPr/>
        </p:nvSpPr>
        <p:spPr>
          <a:xfrm>
            <a:off x="24404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 – 45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 Box 19"/>
          <p:cNvSpPr/>
          <p:nvPr/>
        </p:nvSpPr>
        <p:spPr>
          <a:xfrm>
            <a:off x="685800" y="308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20"/>
          <p:cNvSpPr/>
          <p:nvPr/>
        </p:nvSpPr>
        <p:spPr>
          <a:xfrm>
            <a:off x="1356480" y="31608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7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21"/>
          <p:cNvSpPr/>
          <p:nvPr/>
        </p:nvSpPr>
        <p:spPr>
          <a:xfrm>
            <a:off x="685800" y="380988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22"/>
          <p:cNvSpPr/>
          <p:nvPr/>
        </p:nvSpPr>
        <p:spPr>
          <a:xfrm>
            <a:off x="1355760" y="3886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50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7 + 195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Text Box 23"/>
          <p:cNvSpPr/>
          <p:nvPr/>
        </p:nvSpPr>
        <p:spPr>
          <a:xfrm>
            <a:off x="7621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Text Box 24"/>
          <p:cNvSpPr/>
          <p:nvPr/>
        </p:nvSpPr>
        <p:spPr>
          <a:xfrm>
            <a:off x="1508040" y="46483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7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 – 2) ∙ 30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1143000" y="5257800"/>
          <a:ext cx="6781680" cy="1050840"/>
        </p:xfrm>
        <a:graphic>
          <a:graphicData uri="http://schemas.openxmlformats.org/drawingml/2006/table">
            <a:tbl>
              <a:tblPr/>
              <a:tblGrid>
                <a:gridCol w="847800"/>
                <a:gridCol w="847800"/>
                <a:gridCol w="847440"/>
                <a:gridCol w="847800"/>
                <a:gridCol w="847800"/>
                <a:gridCol w="847800"/>
                <a:gridCol w="847800"/>
                <a:gridCol w="847440"/>
              </a:tblGrid>
              <a:tr h="53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8" name="Text Box 54"/>
          <p:cNvSpPr/>
          <p:nvPr/>
        </p:nvSpPr>
        <p:spPr>
          <a:xfrm>
            <a:off x="4938480" y="4935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= 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Text Box 55"/>
          <p:cNvSpPr/>
          <p:nvPr/>
        </p:nvSpPr>
        <p:spPr>
          <a:xfrm>
            <a:off x="4938840" y="13320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= 15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Text Box 56"/>
          <p:cNvSpPr/>
          <p:nvPr/>
        </p:nvSpPr>
        <p:spPr>
          <a:xfrm>
            <a:off x="4952880" y="2246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= 1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 Box 57"/>
          <p:cNvSpPr/>
          <p:nvPr/>
        </p:nvSpPr>
        <p:spPr>
          <a:xfrm>
            <a:off x="5090400" y="3160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=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58"/>
          <p:cNvSpPr/>
          <p:nvPr/>
        </p:nvSpPr>
        <p:spPr>
          <a:xfrm>
            <a:off x="5089680" y="39225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59"/>
          <p:cNvSpPr/>
          <p:nvPr/>
        </p:nvSpPr>
        <p:spPr>
          <a:xfrm>
            <a:off x="5181480" y="4608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= 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60"/>
          <p:cNvSpPr/>
          <p:nvPr/>
        </p:nvSpPr>
        <p:spPr>
          <a:xfrm>
            <a:off x="2500200" y="1484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Text Box 61"/>
          <p:cNvSpPr/>
          <p:nvPr/>
        </p:nvSpPr>
        <p:spPr>
          <a:xfrm>
            <a:off x="2438280" y="3200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3 - 2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62"/>
          <p:cNvSpPr/>
          <p:nvPr/>
        </p:nvSpPr>
        <p:spPr>
          <a:xfrm>
            <a:off x="3581280" y="380988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 ∙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 Box 63"/>
          <p:cNvSpPr/>
          <p:nvPr/>
        </p:nvSpPr>
        <p:spPr>
          <a:xfrm>
            <a:off x="3659400" y="46483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∙ 1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64"/>
          <p:cNvSpPr/>
          <p:nvPr/>
        </p:nvSpPr>
        <p:spPr>
          <a:xfrm>
            <a:off x="2743200" y="45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65"/>
          <p:cNvSpPr/>
          <p:nvPr/>
        </p:nvSpPr>
        <p:spPr>
          <a:xfrm>
            <a:off x="2517120" y="1523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66"/>
          <p:cNvSpPr/>
          <p:nvPr/>
        </p:nvSpPr>
        <p:spPr>
          <a:xfrm>
            <a:off x="2593080" y="243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67"/>
          <p:cNvSpPr/>
          <p:nvPr/>
        </p:nvSpPr>
        <p:spPr>
          <a:xfrm>
            <a:off x="2593080" y="3124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68"/>
          <p:cNvSpPr/>
          <p:nvPr/>
        </p:nvSpPr>
        <p:spPr>
          <a:xfrm>
            <a:off x="3660120" y="3886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69"/>
          <p:cNvSpPr/>
          <p:nvPr/>
        </p:nvSpPr>
        <p:spPr>
          <a:xfrm>
            <a:off x="3736440" y="46483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Rectangle 70"/>
          <p:cNvSpPr/>
          <p:nvPr/>
        </p:nvSpPr>
        <p:spPr>
          <a:xfrm>
            <a:off x="1373400" y="58672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Rectangle 71"/>
          <p:cNvSpPr/>
          <p:nvPr/>
        </p:nvSpPr>
        <p:spPr>
          <a:xfrm>
            <a:off x="221148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Rectangle 72"/>
          <p:cNvSpPr/>
          <p:nvPr/>
        </p:nvSpPr>
        <p:spPr>
          <a:xfrm>
            <a:off x="304992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Rectangle 73"/>
          <p:cNvSpPr/>
          <p:nvPr/>
        </p:nvSpPr>
        <p:spPr>
          <a:xfrm>
            <a:off x="3886200" y="58672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Rectangle 74"/>
          <p:cNvSpPr/>
          <p:nvPr/>
        </p:nvSpPr>
        <p:spPr>
          <a:xfrm>
            <a:off x="724068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Rectangle 75"/>
          <p:cNvSpPr/>
          <p:nvPr/>
        </p:nvSpPr>
        <p:spPr>
          <a:xfrm>
            <a:off x="564048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Rectangle 76"/>
          <p:cNvSpPr/>
          <p:nvPr/>
        </p:nvSpPr>
        <p:spPr>
          <a:xfrm>
            <a:off x="6477120" y="58672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Rectangle 77"/>
          <p:cNvSpPr/>
          <p:nvPr/>
        </p:nvSpPr>
        <p:spPr>
          <a:xfrm>
            <a:off x="472608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5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4"/>
          <p:cNvSpPr/>
          <p:nvPr/>
        </p:nvSpPr>
        <p:spPr>
          <a:xfrm>
            <a:off x="2666880" y="30492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Движение -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6"/>
          <p:cNvSpPr/>
          <p:nvPr/>
        </p:nvSpPr>
        <p:spPr>
          <a:xfrm>
            <a:off x="60120" y="1179360"/>
            <a:ext cx="877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ться в движении, перемещаться, направлять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ение кого (чего)-нибудь  в определённом направлен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положения тела или его част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ее побуждение, вызванное каким-нибудь чувством, пережива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зда, ходьба в разных направления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ая деятельность  многих людей, направленная на достижение обще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5" name="Picture 7" descr="AG00165_"/>
          <p:cNvPicPr/>
          <p:nvPr/>
        </p:nvPicPr>
        <p:blipFill>
          <a:blip r:embed="rId1"/>
          <a:stretch/>
        </p:blipFill>
        <p:spPr>
          <a:xfrm>
            <a:off x="6781680" y="380880"/>
            <a:ext cx="2362320" cy="1073160"/>
          </a:xfrm>
          <a:prstGeom prst="rect">
            <a:avLst/>
          </a:prstGeom>
          <a:ln w="0">
            <a:noFill/>
          </a:ln>
        </p:spPr>
      </p:pic>
      <p:sp>
        <p:nvSpPr>
          <p:cNvPr id="7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«Блиц-турнир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стояние между двумя замками 168 км. Посыльный 4 часа мчался на лошади со скоростью 36 км/ч, а остальной путь вынужден был бежать со скоростью 8 км/ч. Сколько часов посыльный добирался до замк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(168 – 36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∙ 4)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8 + 4 = 7 (ч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ва поезда вышли одновременно навстречу друг другу из двух городов, расстояние между которыми 600 км. Скорость первого поезда 70 км/ч, а второго – 80 км/ч. Какое расстояние было между поездами через 3 часа после выход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600 – (70 + 80)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∙ 3 = 150 (к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онец прошёл по долине 100 км, а по горной дороге – лишь 24 % этого пути. С какой скоростью шёл гонец по горной дороге, если прошёл её за 3 час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100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100 ∙ 24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3 = 8 (км/ч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517680" y="420840"/>
            <a:ext cx="66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круче вверх поднимается график, т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4816440" y="1170000"/>
            <a:ext cx="35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ольше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кор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745200" y="2935440"/>
            <a:ext cx="63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изонтальный график движения - эт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Text Box 7"/>
          <p:cNvSpPr/>
          <p:nvPr/>
        </p:nvSpPr>
        <p:spPr>
          <a:xfrm>
            <a:off x="4357800" y="380988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тсутствие движ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4" name="Picture 8" descr="AG00120_"/>
          <p:cNvPicPr/>
          <p:nvPr/>
        </p:nvPicPr>
        <p:blipFill>
          <a:blip r:embed="rId1"/>
          <a:stretch/>
        </p:blipFill>
        <p:spPr>
          <a:xfrm>
            <a:off x="1676520" y="1371600"/>
            <a:ext cx="1828800" cy="106668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0" descr="CAEIZNLK"/>
          <p:cNvPicPr/>
          <p:nvPr/>
        </p:nvPicPr>
        <p:blipFill>
          <a:blip r:embed="rId2"/>
          <a:stretch/>
        </p:blipFill>
        <p:spPr>
          <a:xfrm flipH="1" rot="21570600">
            <a:off x="2819160" y="4800240"/>
            <a:ext cx="1293840" cy="1143000"/>
          </a:xfrm>
          <a:prstGeom prst="rect">
            <a:avLst/>
          </a:prstGeom>
          <a:ln w="0">
            <a:noFill/>
          </a:ln>
        </p:spPr>
      </p:pic>
      <p:sp>
        <p:nvSpPr>
          <p:cNvPr id="8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9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4" descr=""/>
          <p:cNvPicPr/>
          <p:nvPr/>
        </p:nvPicPr>
        <p:blipFill>
          <a:blip r:embed="rId1"/>
          <a:stretch/>
        </p:blipFill>
        <p:spPr>
          <a:xfrm>
            <a:off x="30240" y="225360"/>
            <a:ext cx="9085320" cy="6408720"/>
          </a:xfrm>
          <a:prstGeom prst="rect">
            <a:avLst/>
          </a:prstGeom>
          <a:ln w="0">
            <a:noFill/>
          </a:ln>
        </p:spPr>
      </p:pic>
      <p:sp>
        <p:nvSpPr>
          <p:cNvPr id="8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4"/>
          <p:cNvSpPr/>
          <p:nvPr/>
        </p:nvSpPr>
        <p:spPr>
          <a:xfrm>
            <a:off x="2666880" y="38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роверь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0" name="Picture 5" descr=""/>
          <p:cNvPicPr/>
          <p:nvPr/>
        </p:nvPicPr>
        <p:blipFill>
          <a:blip r:embed="rId1"/>
          <a:stretch/>
        </p:blipFill>
        <p:spPr>
          <a:xfrm>
            <a:off x="1371600" y="1039680"/>
            <a:ext cx="6858000" cy="5119920"/>
          </a:xfrm>
          <a:prstGeom prst="rect">
            <a:avLst/>
          </a:prstGeom>
          <a:ln w="0">
            <a:noFill/>
          </a:ln>
        </p:spPr>
      </p:pic>
      <p:sp>
        <p:nvSpPr>
          <p:cNvPr id="8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5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4"/>
          <p:cNvSpPr/>
          <p:nvPr/>
        </p:nvSpPr>
        <p:spPr>
          <a:xfrm>
            <a:off x="947880" y="192240"/>
            <a:ext cx="76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Что позволяет определить график движ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3" name="Picture 5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8076960" cy="469872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6"/>
          <p:cNvSpPr/>
          <p:nvPr/>
        </p:nvSpPr>
        <p:spPr>
          <a:xfrm>
            <a:off x="548640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6T12:31:0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