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0B31-9537-45CB-B354-EAA2474207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еометрия 8 класс </a:t>
            </a:r>
            <a:br>
              <a:rPr sz="1100"/>
            </a:br>
            <a:r>
              <a:rPr b="0" i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Второй и третий признаки подобия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015E-FEDF-456B-912E-407F724AA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C7F1-B7AB-4F9F-A062-86FE67840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9C9B-71F5-4D7C-80FC-F36E0CF8E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2486-DC99-4ACB-9A2E-03F6D2E84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248D-C468-4303-A5A8-720968510E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7CD-9353-41F1-8768-614EE0AE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90A-075F-4AF7-9FCA-FD8F4916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642-A077-4435-A234-FE5D69BB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C1C-99CA-4154-AB71-0E7F0C89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FE30-C12D-425C-A0D8-CE0CED0D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D1F3-1F4E-4B3E-B807-47BD2292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4027-E5E1-4A6D-9805-439ABC9E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F56E-14AC-48C0-BC5D-924110AD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27B8-AE66-4494-AAF9-F2615EE5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712E-25A2-4120-802D-58AF90B5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E082-CECD-4C76-92B0-E3FDDA4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FAB-0D92-45AC-9D89-4227D9A9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A653-FEC8-4559-99AA-771C2DDC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5CBC-0687-4CC0-83D4-9756E854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776C-9FD4-4ACA-96DB-175CCBF1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7741-37E6-4563-9FBC-8F45F8E4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DBB7-90F3-465F-B250-34CDA9BF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994B-453F-443B-907D-1F9927D2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230D-1802-4B09-BB22-D953B707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4E27-EA42-4227-B1FD-95099A8E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1F59A-C55D-439E-86E5-37E23963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692B-2CA5-4FB2-88AE-1446F05F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713-50A3-4540-B5CD-2D2551D2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1FC6-843B-4193-A55F-73FAAED9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DAA0-1F9F-4BFC-B1E8-4DDC2F9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8431-7938-4515-A5DF-5125E3AF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8F7A-6F71-44EC-8ABD-D8FFFFFA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8A08A-DC04-435F-B4EB-8B44AF71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3168-6B7C-49A0-BE60-38BB37A8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4FBE-2B63-46F8-AD2D-982AE55D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EC05-187C-45F2-AA44-15A1256F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7C1B-4628-4ED3-AA5D-E3B57E74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D40D-D2F1-4760-9C1E-678B26E9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24B-EA83-4513-8024-1C8C5F1C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F6684-2E30-465B-B970-10D9B323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2671-19B0-431C-A05C-08A71BF7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3F40-6D22-4750-8833-53269347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5F83-5E23-440E-ABAA-3113F4A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12429-6B4F-4F46-B5F0-1636F36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4CC6-54A5-4F8A-9B0F-F0EF27C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6902-598A-4601-A761-FBFE832E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B24F-D78B-4434-850E-DFE842BD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4D50-7890-4729-8014-6CCB8B40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A22-8B53-4AAE-A62A-DBB96D48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97E-BB4B-4DA0-BAA5-146147F7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B2F-CA60-4276-81DE-857FE8A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23C-400F-46B2-93AC-0DACFBE3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51A-ED6D-458D-B13E-B995761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472E-76FB-4BE7-984D-D6DA4029433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2690-C468-4045-963E-B465C7B7C20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46AE-0258-4835-96ED-C046442221E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B384-51C1-48E9-AFA6-31A4A118719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57240" y="4876560"/>
            <a:ext cx="48006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Ладанова И.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МКОУ «Верх-Жилинская ООШ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31840" y="1719360"/>
            <a:ext cx="8577360" cy="2852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95480" y="35812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    и примен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4952880" y="3540240"/>
                <a:ext cx="1613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6" name="Group 4"/>
          <p:cNvGrpSpPr/>
          <p:nvPr/>
        </p:nvGrpSpPr>
        <p:grpSpPr>
          <a:xfrm>
            <a:off x="380880" y="4724280"/>
            <a:ext cx="3200040" cy="1447920"/>
            <a:chOff x="380880" y="4724280"/>
            <a:chExt cx="3200040" cy="1447920"/>
          </a:xfrm>
        </p:grpSpPr>
        <p:sp>
          <p:nvSpPr>
            <p:cNvPr id="227" name="Freeform 5"/>
            <p:cNvSpPr/>
            <p:nvPr/>
          </p:nvSpPr>
          <p:spPr>
            <a:xfrm>
              <a:off x="380880" y="53139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380880" y="47242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7"/>
          <p:cNvSpPr/>
          <p:nvPr/>
        </p:nvSpPr>
        <p:spPr>
          <a:xfrm>
            <a:off x="41166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72388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8460000" y="59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288600" y="61722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320" y="-12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"/>
          <p:cNvGrpSpPr/>
          <p:nvPr/>
        </p:nvGrpSpPr>
        <p:grpSpPr>
          <a:xfrm>
            <a:off x="1600200" y="2971800"/>
            <a:ext cx="5095800" cy="579600"/>
            <a:chOff x="1600200" y="2971800"/>
            <a:chExt cx="5095800" cy="579600"/>
          </a:xfrm>
        </p:grpSpPr>
        <p:grpSp>
          <p:nvGrpSpPr>
            <p:cNvPr id="237" name="Group 15"/>
            <p:cNvGrpSpPr/>
            <p:nvPr/>
          </p:nvGrpSpPr>
          <p:grpSpPr>
            <a:xfrm>
              <a:off x="3353040" y="2971800"/>
              <a:ext cx="3342960" cy="579600"/>
              <a:chOff x="3353040" y="2971800"/>
              <a:chExt cx="3342960" cy="579600"/>
            </a:xfrm>
          </p:grpSpPr>
          <mc:AlternateContent>
            <mc:Choice xmlns:a14="http://schemas.microsoft.com/office/drawing/2010/main" Requires="a14">
              <p:sp>
                <p:nvSpPr>
                  <p:cNvPr id="238" name="Object 16"/>
                  <p:cNvSpPr txBox="1"/>
                  <p:nvPr/>
                </p:nvSpPr>
                <p:spPr>
                  <a:xfrm>
                    <a:off x="335304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Text Box 17"/>
              <p:cNvSpPr/>
              <p:nvPr/>
            </p:nvSpPr>
            <p:spPr>
              <a:xfrm>
                <a:off x="3660120" y="297180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 rot="205800">
                <a:off x="4644720" y="3122280"/>
                <a:ext cx="46044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Object 19"/>
                  <p:cNvSpPr txBox="1"/>
                  <p:nvPr/>
                </p:nvSpPr>
                <p:spPr>
                  <a:xfrm>
                    <a:off x="510552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20"/>
              <p:cNvSpPr/>
              <p:nvPr/>
            </p:nvSpPr>
            <p:spPr>
              <a:xfrm>
                <a:off x="5443560" y="297180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21"/>
            <p:cNvSpPr/>
            <p:nvPr/>
          </p:nvSpPr>
          <p:spPr>
            <a:xfrm>
              <a:off x="1600200" y="2971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2"/>
          <p:cNvSpPr/>
          <p:nvPr/>
        </p:nvSpPr>
        <p:spPr>
          <a:xfrm>
            <a:off x="3049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1983600" y="1730520"/>
            <a:ext cx="6931800" cy="1012680"/>
            <a:chOff x="1983600" y="1730520"/>
            <a:chExt cx="6931800" cy="1012680"/>
          </a:xfrm>
        </p:grpSpPr>
        <mc:AlternateContent>
          <mc:Choice xmlns:a14="http://schemas.microsoft.com/office/drawing/2010/main" Requires="a14">
            <p:sp>
              <p:nvSpPr>
                <p:cNvPr id="246" name="Object 24"/>
                <p:cNvSpPr txBox="1"/>
                <p:nvPr/>
              </p:nvSpPr>
              <p:spPr>
                <a:xfrm>
                  <a:off x="5334120" y="1940040"/>
                  <a:ext cx="163980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25"/>
            <p:cNvSpPr/>
            <p:nvPr/>
          </p:nvSpPr>
          <p:spPr>
            <a:xfrm>
              <a:off x="1983600" y="19810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6"/>
            <p:cNvGrpSpPr/>
            <p:nvPr/>
          </p:nvGrpSpPr>
          <p:grpSpPr>
            <a:xfrm>
              <a:off x="2895480" y="1954080"/>
              <a:ext cx="1121760" cy="486720"/>
              <a:chOff x="2895480" y="195408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249" name="Object 27"/>
                  <p:cNvSpPr txBox="1"/>
                  <p:nvPr/>
                </p:nvSpPr>
                <p:spPr>
                  <a:xfrm>
                    <a:off x="289548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0" name="Text Box 28"/>
              <p:cNvSpPr/>
              <p:nvPr/>
            </p:nvSpPr>
            <p:spPr>
              <a:xfrm>
                <a:off x="3126240" y="198108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9"/>
            <p:cNvGrpSpPr/>
            <p:nvPr/>
          </p:nvGrpSpPr>
          <p:grpSpPr>
            <a:xfrm>
              <a:off x="3962520" y="1954080"/>
              <a:ext cx="1426680" cy="537120"/>
              <a:chOff x="3962520" y="195408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252" name="Object 30"/>
                  <p:cNvSpPr txBox="1"/>
                  <p:nvPr/>
                </p:nvSpPr>
                <p:spPr>
                  <a:xfrm>
                    <a:off x="396252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3" name="Text Box 31"/>
              <p:cNvSpPr/>
              <p:nvPr/>
            </p:nvSpPr>
            <p:spPr>
              <a:xfrm>
                <a:off x="4201200" y="198108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32"/>
                <p:cNvSpPr txBox="1"/>
                <p:nvPr/>
              </p:nvSpPr>
              <p:spPr>
                <a:xfrm>
                  <a:off x="7040520" y="173052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33"/>
          <p:cNvGrpSpPr/>
          <p:nvPr/>
        </p:nvGrpSpPr>
        <p:grpSpPr>
          <a:xfrm>
            <a:off x="4419720" y="4572000"/>
            <a:ext cx="4190400" cy="1904760"/>
            <a:chOff x="4419720" y="4572000"/>
            <a:chExt cx="4190400" cy="1904760"/>
          </a:xfrm>
        </p:grpSpPr>
        <p:sp>
          <p:nvSpPr>
            <p:cNvPr id="256" name="Freeform 34"/>
            <p:cNvSpPr/>
            <p:nvPr/>
          </p:nvSpPr>
          <p:spPr>
            <a:xfrm>
              <a:off x="4419720" y="53478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35"/>
            <p:cNvSpPr/>
            <p:nvPr/>
          </p:nvSpPr>
          <p:spPr>
            <a:xfrm>
              <a:off x="4419720" y="4572000"/>
              <a:ext cx="419040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26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26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27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27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27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28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28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28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28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291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3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294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6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300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301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0"/>
          <p:cNvGrpSpPr/>
          <p:nvPr/>
        </p:nvGrpSpPr>
        <p:grpSpPr>
          <a:xfrm>
            <a:off x="2287800" y="4572000"/>
            <a:ext cx="2939760" cy="1012680"/>
            <a:chOff x="2287800" y="4572000"/>
            <a:chExt cx="2939760" cy="1012680"/>
          </a:xfrm>
        </p:grpSpPr>
        <p:sp>
          <p:nvSpPr>
            <p:cNvPr id="308" name="Text Box 51"/>
            <p:cNvSpPr/>
            <p:nvPr/>
          </p:nvSpPr>
          <p:spPr>
            <a:xfrm>
              <a:off x="2287800" y="48765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52"/>
                <p:cNvSpPr txBox="1"/>
                <p:nvPr/>
              </p:nvSpPr>
              <p:spPr>
                <a:xfrm>
                  <a:off x="3352680" y="457200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53"/>
          <p:cNvGrpSpPr/>
          <p:nvPr/>
        </p:nvGrpSpPr>
        <p:grpSpPr>
          <a:xfrm>
            <a:off x="1676520" y="5638680"/>
            <a:ext cx="3703680" cy="1013040"/>
            <a:chOff x="1676520" y="5638680"/>
            <a:chExt cx="3703680" cy="1013040"/>
          </a:xfrm>
        </p:grpSpPr>
        <mc:AlternateContent>
          <mc:Choice xmlns:a14="http://schemas.microsoft.com/office/drawing/2010/main" Requires="a14">
            <p:sp>
              <p:nvSpPr>
                <p:cNvPr id="311" name="Object 54"/>
                <p:cNvSpPr txBox="1"/>
                <p:nvPr/>
              </p:nvSpPr>
              <p:spPr>
                <a:xfrm>
                  <a:off x="3505320" y="5638680"/>
                  <a:ext cx="187488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55"/>
            <p:cNvSpPr/>
            <p:nvPr/>
          </p:nvSpPr>
          <p:spPr>
            <a:xfrm>
              <a:off x="167652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56"/>
          <p:cNvSpPr/>
          <p:nvPr/>
        </p:nvSpPr>
        <p:spPr>
          <a:xfrm>
            <a:off x="60958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16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32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32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33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33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33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33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34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34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34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34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52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228600" y="4038480"/>
            <a:ext cx="6552720" cy="825480"/>
            <a:chOff x="228600" y="4038480"/>
            <a:chExt cx="6552720" cy="825480"/>
          </a:xfrm>
        </p:grpSpPr>
        <p:grpSp>
          <p:nvGrpSpPr>
            <p:cNvPr id="355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356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8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43"/>
            <p:cNvSpPr/>
            <p:nvPr/>
          </p:nvSpPr>
          <p:spPr>
            <a:xfrm>
              <a:off x="2895480" y="4038480"/>
              <a:ext cx="38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сторонам и углу между 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5"/>
          <p:cNvSpPr/>
          <p:nvPr/>
        </p:nvSpPr>
        <p:spPr>
          <a:xfrm>
            <a:off x="4943520" y="2041560"/>
            <a:ext cx="14760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80" y="200"/>
                </a:moveTo>
                <a:cubicBezTo>
                  <a:pt x="81" y="199"/>
                  <a:pt x="80" y="215"/>
                  <a:pt x="80" y="196"/>
                </a:cubicBezTo>
                <a:cubicBezTo>
                  <a:pt x="80" y="177"/>
                  <a:pt x="93" y="117"/>
                  <a:pt x="80" y="84"/>
                </a:cubicBezTo>
                <a:cubicBezTo>
                  <a:pt x="67" y="51"/>
                  <a:pt x="17" y="1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364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=   2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368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37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16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6"/>
          <p:cNvSpPr/>
          <p:nvPr/>
        </p:nvSpPr>
        <p:spPr>
          <a:xfrm>
            <a:off x="2895480" y="32925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и 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4815000" y="3276720"/>
                <a:ext cx="158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AutoShape 5"/>
          <p:cNvSpPr/>
          <p:nvPr/>
        </p:nvSpPr>
        <p:spPr>
          <a:xfrm>
            <a:off x="380880" y="47242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3452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72410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853632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66948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76320" y="-1206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304920" y="2590920"/>
            <a:ext cx="5095080" cy="579600"/>
            <a:chOff x="304920" y="2590920"/>
            <a:chExt cx="5095080" cy="579600"/>
          </a:xfrm>
        </p:grpSpPr>
        <p:grpSp>
          <p:nvGrpSpPr>
            <p:cNvPr id="389" name="Group 14"/>
            <p:cNvGrpSpPr/>
            <p:nvPr/>
          </p:nvGrpSpPr>
          <p:grpSpPr>
            <a:xfrm>
              <a:off x="2057400" y="2590920"/>
              <a:ext cx="3342600" cy="579600"/>
              <a:chOff x="2057400" y="2590920"/>
              <a:chExt cx="3342600" cy="579600"/>
            </a:xfrm>
          </p:grpSpPr>
          <mc:AlternateContent>
            <mc:Choice xmlns:a14="http://schemas.microsoft.com/office/drawing/2010/main" Requires="a14">
              <p:sp>
                <p:nvSpPr>
                  <p:cNvPr id="390" name="Object 15"/>
                  <p:cNvSpPr txBox="1"/>
                  <p:nvPr/>
                </p:nvSpPr>
                <p:spPr>
                  <a:xfrm>
                    <a:off x="205740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1" name="Text Box 16"/>
              <p:cNvSpPr/>
              <p:nvPr/>
            </p:nvSpPr>
            <p:spPr>
              <a:xfrm>
                <a:off x="2363760" y="259092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 rot="205800">
                <a:off x="3348720" y="2741400"/>
                <a:ext cx="46008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18"/>
                  <p:cNvSpPr txBox="1"/>
                  <p:nvPr/>
                </p:nvSpPr>
                <p:spPr>
                  <a:xfrm>
                    <a:off x="380952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Text Box 19"/>
              <p:cNvSpPr/>
              <p:nvPr/>
            </p:nvSpPr>
            <p:spPr>
              <a:xfrm>
                <a:off x="4147560" y="259092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20"/>
            <p:cNvSpPr/>
            <p:nvPr/>
          </p:nvSpPr>
          <p:spPr>
            <a:xfrm>
              <a:off x="304920" y="2590920"/>
              <a:ext cx="184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21"/>
          <p:cNvSpPr/>
          <p:nvPr/>
        </p:nvSpPr>
        <p:spPr>
          <a:xfrm>
            <a:off x="22860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7"/>
          <p:cNvGrpSpPr/>
          <p:nvPr/>
        </p:nvGrpSpPr>
        <p:grpSpPr>
          <a:xfrm>
            <a:off x="459720" y="1371600"/>
            <a:ext cx="6723720" cy="1012680"/>
            <a:chOff x="459720" y="1371600"/>
            <a:chExt cx="6723720" cy="1012680"/>
          </a:xfrm>
        </p:grpSpPr>
        <p:sp>
          <p:nvSpPr>
            <p:cNvPr id="398" name="Text Box 24"/>
            <p:cNvSpPr/>
            <p:nvPr/>
          </p:nvSpPr>
          <p:spPr>
            <a:xfrm>
              <a:off x="459720" y="1622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5"/>
            <p:cNvGrpSpPr/>
            <p:nvPr/>
          </p:nvGrpSpPr>
          <p:grpSpPr>
            <a:xfrm>
              <a:off x="1371600" y="1595520"/>
              <a:ext cx="1121760" cy="486720"/>
              <a:chOff x="1371600" y="159552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400" name="Object 26"/>
                  <p:cNvSpPr txBox="1"/>
                  <p:nvPr/>
                </p:nvSpPr>
                <p:spPr>
                  <a:xfrm>
                    <a:off x="137160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1" name="Text Box 27"/>
              <p:cNvSpPr/>
              <p:nvPr/>
            </p:nvSpPr>
            <p:spPr>
              <a:xfrm>
                <a:off x="1602360" y="162252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438280" y="1595520"/>
              <a:ext cx="1426680" cy="537120"/>
              <a:chOff x="2438280" y="159552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403" name="Object 29"/>
                  <p:cNvSpPr txBox="1"/>
                  <p:nvPr/>
                </p:nvSpPr>
                <p:spPr>
                  <a:xfrm>
                    <a:off x="243828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4" name="Text Box 30"/>
              <p:cNvSpPr/>
              <p:nvPr/>
            </p:nvSpPr>
            <p:spPr>
              <a:xfrm>
                <a:off x="2676960" y="162252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31"/>
                <p:cNvSpPr txBox="1"/>
                <p:nvPr/>
              </p:nvSpPr>
              <p:spPr>
                <a:xfrm>
                  <a:off x="4267080" y="1371600"/>
                  <a:ext cx="291636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AutoShape 34"/>
          <p:cNvSpPr/>
          <p:nvPr/>
        </p:nvSpPr>
        <p:spPr>
          <a:xfrm>
            <a:off x="4495680" y="4191120"/>
            <a:ext cx="4191120" cy="190476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9"/>
          <p:cNvGrpSpPr/>
          <p:nvPr/>
        </p:nvGrpSpPr>
        <p:grpSpPr>
          <a:xfrm>
            <a:off x="380880" y="1198440"/>
            <a:ext cx="6348600" cy="2292120"/>
            <a:chOff x="380880" y="1198440"/>
            <a:chExt cx="6348600" cy="2292120"/>
          </a:xfrm>
        </p:grpSpPr>
        <p:sp>
          <p:nvSpPr>
            <p:cNvPr id="409" name="Freeform 3"/>
            <p:cNvSpPr/>
            <p:nvPr/>
          </p:nvSpPr>
          <p:spPr>
            <a:xfrm>
              <a:off x="380880" y="1198440"/>
              <a:ext cx="1706760" cy="85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 flipV="1">
              <a:off x="4495680" y="2361600"/>
              <a:ext cx="2233800" cy="112860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73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12" name="Freeform 72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1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4"/>
          <p:cNvSpPr/>
          <p:nvPr/>
        </p:nvSpPr>
        <p:spPr>
          <a:xfrm>
            <a:off x="380880" y="6094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8"/>
          <p:cNvGrpSpPr/>
          <p:nvPr/>
        </p:nvGrpSpPr>
        <p:grpSpPr>
          <a:xfrm>
            <a:off x="4495680" y="2361960"/>
            <a:ext cx="4191120" cy="2332440"/>
            <a:chOff x="4495680" y="2361960"/>
            <a:chExt cx="4191120" cy="2332440"/>
          </a:xfrm>
        </p:grpSpPr>
        <p:sp>
          <p:nvSpPr>
            <p:cNvPr id="423" name="AutoShape 17"/>
            <p:cNvSpPr/>
            <p:nvPr/>
          </p:nvSpPr>
          <p:spPr>
            <a:xfrm flipV="1">
              <a:off x="4495680" y="2361240"/>
              <a:ext cx="419112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426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427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429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432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435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440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43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4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5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449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50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1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4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382680" y="4572000"/>
            <a:ext cx="4209840" cy="1012680"/>
            <a:chOff x="382680" y="4572000"/>
            <a:chExt cx="4209840" cy="1012680"/>
          </a:xfrm>
        </p:grpSpPr>
        <p:sp>
          <p:nvSpPr>
            <p:cNvPr id="457" name="Text Box 51"/>
            <p:cNvSpPr/>
            <p:nvPr/>
          </p:nvSpPr>
          <p:spPr>
            <a:xfrm>
              <a:off x="382680" y="4876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52"/>
                <p:cNvSpPr txBox="1"/>
                <p:nvPr/>
              </p:nvSpPr>
              <p:spPr>
                <a:xfrm>
                  <a:off x="1676520" y="4572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62"/>
          <p:cNvGrpSpPr/>
          <p:nvPr/>
        </p:nvGrpSpPr>
        <p:grpSpPr>
          <a:xfrm>
            <a:off x="304920" y="5715000"/>
            <a:ext cx="4744800" cy="1012680"/>
            <a:chOff x="304920" y="5715000"/>
            <a:chExt cx="4744800" cy="1012680"/>
          </a:xfrm>
        </p:grpSpPr>
        <mc:AlternateContent>
          <mc:Choice xmlns:a14="http://schemas.microsoft.com/office/drawing/2010/main" Requires="a14">
            <p:sp>
              <p:nvSpPr>
                <p:cNvPr id="460" name="Object 54"/>
                <p:cNvSpPr txBox="1"/>
                <p:nvPr/>
              </p:nvSpPr>
              <p:spPr>
                <a:xfrm>
                  <a:off x="2133720" y="5715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1" name="Text Box 55"/>
            <p:cNvSpPr/>
            <p:nvPr/>
          </p:nvSpPr>
          <p:spPr>
            <a:xfrm>
              <a:off x="304920" y="6019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56"/>
          <p:cNvSpPr/>
          <p:nvPr/>
        </p:nvSpPr>
        <p:spPr>
          <a:xfrm>
            <a:off x="56386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465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3"/>
          <p:cNvSpPr/>
          <p:nvPr/>
        </p:nvSpPr>
        <p:spPr>
          <a:xfrm>
            <a:off x="7315200" y="5334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= В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469" name="Group 66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470" name="Line 64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65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7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473" name="Line 68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69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67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77" name="Freeform 68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480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486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2"/>
          <p:cNvSpPr/>
          <p:nvPr/>
        </p:nvSpPr>
        <p:spPr>
          <a:xfrm>
            <a:off x="4495680" y="1233360"/>
            <a:ext cx="2233800" cy="1128960"/>
          </a:xfrm>
          <a:custGeom>
            <a:avLst/>
            <a:gdLst/>
            <a:ahLst/>
            <a:rect l="l" t="t" r="r" b="b"/>
            <a:pathLst>
              <a:path w="864" h="640">
                <a:moveTo>
                  <a:pt x="0" y="640"/>
                </a:moveTo>
                <a:lnTo>
                  <a:pt x="816" y="640"/>
                </a:lnTo>
                <a:lnTo>
                  <a:pt x="864" y="400"/>
                </a:lnTo>
                <a:lnTo>
                  <a:pt x="816" y="208"/>
                </a:lnTo>
                <a:lnTo>
                  <a:pt x="752" y="80"/>
                </a:lnTo>
                <a:lnTo>
                  <a:pt x="608" y="0"/>
                </a:lnTo>
                <a:lnTo>
                  <a:pt x="0" y="64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497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498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502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503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505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508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511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512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517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228600" y="4038480"/>
            <a:ext cx="6552720" cy="537120"/>
            <a:chOff x="228600" y="4038480"/>
            <a:chExt cx="6552720" cy="537120"/>
          </a:xfrm>
        </p:grpSpPr>
        <p:grpSp>
          <p:nvGrpSpPr>
            <p:cNvPr id="520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521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3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4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43"/>
            <p:cNvSpPr/>
            <p:nvPr/>
          </p:nvSpPr>
          <p:spPr>
            <a:xfrm>
              <a:off x="2895480" y="40384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528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 =   1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53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" name="Group 6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536" name="Group 61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537" name="Line 62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4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540" name="Line 65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343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345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LEGION</cp:lastModifiedBy>
  <dcterms:modified xsi:type="dcterms:W3CDTF">2015-01-26T12:31:42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