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B7C0-4364-4325-825C-5EF91AA95B4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ение двузначных чисел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рок - сказка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0A7F-305B-43B0-8F51-43B6DE51A2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акие геометрические фигуры вы здесь видит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считайте только треуг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A805-7633-4206-B2AA-47CD8B5753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лагодарим за помощ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8A12-791B-458A-9D15-849FF42C2A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,  9,  10,  6,  3,  8,  3,  7,  9,  7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993C-278F-4F38-A05B-CB85585A82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       53        39      75     56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-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4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AA84-2F6E-42AE-8664-5E418D3B16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,     80,     74,     43,    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5C86-2841-41FE-8D6F-ADBB28AEFA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екла я нынче 13 пирожков. Прискакал ко мне Зайка и съел 4 пирожка, а потом прибежал Волк и съел еще 5 пирожков. Сколько пирожков у меня осталось? А по сколько достанется в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33F6-30D1-4074-A902-7F85E066C8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4 пирожка, по 2 пирож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F050-44F8-47E5-A6BC-FE68764291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 см   …   4 дм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 см   …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 см   …  2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 см   …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A4AD-BA83-4854-870D-62C777FE74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см    &lt;   4 дм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 см    &lt; 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 см    &gt;   2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 см    = 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ADA9-AA42-4F61-98CB-98F0BD7AE3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921-A638-4F7E-9DE5-8049F035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AD7-258C-406D-88E2-BB52E427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91E-B1DF-4404-BE39-7A940030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5CC-43DE-4914-8652-19944673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5650B-7DF7-47FC-BC56-9E1D016D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7F4EE-E799-4149-A16C-7C60DB71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6F054-2DFD-4AE4-8DB9-95D9AA28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F455B-AC38-4132-B3AD-1409002B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41C91-5A4F-4B36-BB9A-8A2766DE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B3BC7-EF2C-4DE0-85A2-DD6DA08F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5EBA5-0538-461A-806B-1132D386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3FD-8864-4C7A-AEA2-54F74A0A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6EC49-4245-421D-9DA8-B19DF53F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3BAFB-E8A2-40ED-96B2-946BCBEB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CACDA-3A5A-4279-BF19-7EEA37CA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E6AA0-B3F2-480C-8F51-B5EFF735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E3A49-12ED-4930-B570-75B19622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96C57-4D07-43B4-B8F0-B55655F3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F195E-7530-4692-8B48-B5C1BCF0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380A1-848E-4C11-8612-5DC3A225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83085-8E33-4AED-991C-F7369E12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A1F6C-9B14-4697-A13D-E541F876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B47-EACF-419C-8E3F-F42D442B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6DFB3-33DB-4F96-8C2E-9B0DDD7C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82C2D-A86D-4BA5-BD5F-A5EFF383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D23A1-54A6-4102-A258-E5292117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E1DAE-F094-4AD8-AB3D-C5463118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6CF21-78AC-4E5B-9C24-10E6527D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FF615-7B91-4178-86CA-7414BA09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3B747-0654-467B-BEF1-4C3B9548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AB3D2-C309-426E-962C-4666D951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75B8A-C5BF-4D00-99D3-FF4984C4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D019AF-84DE-4C18-A6D5-7DF455DA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5A6-1F7C-4114-993D-316A9918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B8630-E1B8-4FF3-9A1E-B13AD652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70A197-CDFF-4E02-96CD-70111487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94B19-FD76-46EE-9996-E21BE595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D70D7-FDA2-4B0C-9156-213F4EBD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1E223-B523-4B07-B2C2-B89076AA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B1CF6-1388-48B9-8DF6-F3377B88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5FECAE-B745-4E8E-9278-05F641AD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07F92-AD16-4613-8331-4DEEE9B8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840B2-3647-48D9-92CC-7C3C46FE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B960B-0E0D-42A3-BE72-5F6700B5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563-DAC6-49AD-989F-228D1725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46C87-E80B-4648-8B26-FA8A23FB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3CC63-63F2-4437-BB21-FCF6F3B7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B8117-8D26-4E10-A65C-5FF873AC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4CA16-4F03-4102-A3CF-78908C29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713CB-F9FC-4C80-9B54-426A66BA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CE29A-7446-4DED-A8BF-DDE84EBF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22743B-BFB2-4E9B-AC16-2C7EFBC8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A2593-2AEF-4D2D-9729-5482CB9C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AB9EA-3B13-4C6F-9C8C-3EE42508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E1B3C-1D0D-4C82-AAC9-C257D01D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EB4-36D7-4940-B540-D6614CC3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0E19EC-3E40-4E61-B895-BF0C6370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EABA77-D826-4CDF-8B8B-C5BC3D9E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2862F-5875-48F3-AF66-39F28AE5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1DB56-F4E3-4651-A1C0-AAE8094F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3DC32F-1DD1-4882-98B6-F60749F7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69EBD6-4A1C-4D35-8498-DA82F28B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B73DD-3402-45E7-9268-0B9E86BE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CB57E-8F82-42FE-9356-D92955E0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218AC-4D0C-4CB4-A698-54C92CCA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25D562-4FF4-4609-AA8D-399584EF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401-75E2-46B0-98AE-BA6C2BC1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4E0E2-86D7-4FA9-966B-D1FC392C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18C57-D82C-4ECA-857B-491AB55E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0DA1E-D687-4FB6-A07B-2457C4EB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716-E652-4056-9C71-F7F79712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2E9-E339-4639-BAE1-97AD2D20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E493-2CBA-46E8-ADBF-FB33EA1F57A4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12C2-2F3E-416B-B37A-72B03D7E95A9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25CF-9878-4432-BCBF-342B6B03CB4D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2E7E-64D1-4225-8DBA-B619FB62A608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836D-90AF-444E-92A4-36407C7A5DD0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BFED-146C-4E50-8B3E-77B4F862701D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4CF8-5C2F-4C77-A2C2-B964E98ECB03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C5D7-271C-4895-A82F-B5B853A5E0F7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1B4C-AD65-4D18-8B4F-778D75B3C431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664B-5E50-41C2-BFF0-878CB57C2E47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8032-DF06-458D-B8FC-B07514F59B0F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09B7-083B-4012-9E6D-D545A4FB938E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7120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Сложение двузначных чисел</a:t>
            </a:r>
            <a:br>
              <a:rPr sz="4900"/>
            </a:br>
            <a:r>
              <a:rPr b="0" lang="ru-RU" sz="2500" spc="-1" strike="noStrike">
                <a:solidFill>
                  <a:srgbClr val="ffffff"/>
                </a:solidFill>
                <a:latin typeface="Palatino Linotype"/>
              </a:rPr>
              <a:t>урок - сказка </a:t>
            </a:r>
            <a:endParaRPr b="0" lang="en-US" sz="2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23640" y="2145960"/>
            <a:ext cx="215640" cy="42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508200" cy="2617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2232000" cy="26179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3"/>
          <p:cNvSpPr/>
          <p:nvPr/>
        </p:nvSpPr>
        <p:spPr>
          <a:xfrm>
            <a:off x="3832200" y="1700280"/>
            <a:ext cx="48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резентацию подготов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БОУ СОШ № 4 г.Радужный ХМАО-Ю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ртовенко Наталия Анато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Місце для нижнього колонтитула 3" descr=""/>
          <p:cNvPicPr/>
          <p:nvPr/>
        </p:nvPicPr>
        <p:blipFill>
          <a:blip r:embed="rId3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-Какие геометрические фигуры вы здесь видите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- Сосчитайте только треугольников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105080" cy="3486240"/>
          </a:xfrm>
          <a:prstGeom prst="rect">
            <a:avLst/>
          </a:prstGeom>
          <a:ln w="0">
            <a:noFill/>
          </a:ln>
        </p:spPr>
      </p:pic>
      <p:pic>
        <p:nvPicPr>
          <p:cNvPr id="355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3765600" cy="27352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-Благодарим за помощь!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8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16920" cy="5400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2133720" y="4292280"/>
            <a:ext cx="4959360" cy="50760"/>
          </a:xfrm>
          <a:prstGeom prst="rect">
            <a:avLst/>
          </a:prstGeom>
          <a:noFill/>
          <a:ln w="0">
            <a:noFill/>
          </a:ln>
        </p:spPr>
        <p:txBody>
          <a:bodyPr tIns="5040" bIns="5040" anchor="ctr">
            <a:normAutofit/>
          </a:bodyPr>
          <a:p>
            <a:pPr marL="272880" indent="-255240">
              <a:lnSpc>
                <a:spcPct val="80000"/>
              </a:lnSpc>
              <a:spcBef>
                <a:spcPts val="125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8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2727360" cy="302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4508640"/>
            <a:ext cx="8137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9,  9,  10,  6,  3,  8,  3,  7,  9,  7к.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1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360960" cy="25210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280" y="407664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28       53        39      75     56</a:t>
            </a:r>
            <a:br>
              <a:rPr sz="4900"/>
            </a:b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3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27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5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- 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2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-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24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4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248360" cy="40989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280" y="5229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61,     80,     74,     43,     32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7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4157640" cy="29512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77600" y="3715920"/>
            <a:ext cx="754380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Испекла я нынче 13 пирожков. Прискакал ко мне Зайка и съел 4 пирожка, а потом прибежал Волк и съел еще 5 пирожков. Сколько пирожков у меня осталось? А по сколько достанется вам?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248000" cy="30877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4292280"/>
            <a:ext cx="828036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Ответ: 4 пирожка, по 2 пирожка.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3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539280" y="476280"/>
            <a:ext cx="7689960" cy="386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0 см   …   4 дм 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5 см   …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2 см   …  2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60 см   …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5435640" y="2347920"/>
            <a:ext cx="3163680" cy="3798720"/>
          </a:xfrm>
          <a:prstGeom prst="rect">
            <a:avLst/>
          </a:prstGeom>
          <a:ln w="0">
            <a:noFill/>
          </a:ln>
        </p:spPr>
      </p:pic>
      <p:pic>
        <p:nvPicPr>
          <p:cNvPr id="347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3168720" cy="3802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611280" y="404280"/>
            <a:ext cx="5184720" cy="393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40 см    &lt;   4 дм 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55 см    &lt; 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52 см    &gt;   2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60 см    = 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Місце для нижнього колонтитула 1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27:49Z</dcterms:created>
  <dc:creator>User</dc:creator>
  <dc:description/>
  <dc:language>en-US</dc:language>
  <cp:lastModifiedBy>LEGION</cp:lastModifiedBy>
  <dcterms:modified xsi:type="dcterms:W3CDTF">2015-01-26T12:32:13Z</dcterms:modified>
  <cp:revision>22</cp:revision>
  <dc:subject/>
  <dc:title>Сложение двузначных чисел по мотиву сказки «Гуси-Лебеди»</dc:title>
</cp:coreProperties>
</file>