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move the slide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DDAB3-F8CC-4D35-BA6B-28B87795A1F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жение двузначных чисел</a:t>
            </a:r>
            <a:br>
              <a:rPr sz="1200"/>
            </a:b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урок - сказка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BC288-2FAB-4773-B8C1-9FF20C98655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Какие геометрические фигуры вы здесь видите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осчитайте только треугольн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9D1B4-D5FD-4289-9D02-2A4D1549CD1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Благодарим за помощь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2817E-BF1F-471E-A4B1-F0EDFB01539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,  9,  10,  6,  3,  8,  3,  7,  9,  7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EFF48-592F-4FFC-8306-63D94BE52D7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8       53        39      75     56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33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+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27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+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35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-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3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-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24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08A37-5CA7-48A2-861C-6613209A4E3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1,     80,     74,     43,     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77184-D9D6-48DE-9D10-997305AAA4E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екла я нынче 13 пирожков. Прискакал ко мне Зайка и съел 4 пирожка, а потом прибежал Волк и съел еще 5 пирожков. Сколько пирожков у меня осталось? А по сколько достанется ва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8A3F9-4BBC-4A99-B8A8-95109DC77D6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4 пирожка, по 2 пирож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F5CA6-C51B-4F17-9098-0E4494E245E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0 см   …   4 дм 5 с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5 см   …  6 д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2 см   …  25 с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0 см   …  6 д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056D2-9AB6-4BAA-B85A-397FE0FBE65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0 см    &lt;   4 дм 5 с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5 см    &lt;   6 д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2 см    &gt;   25 с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0 см    =   6 д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DD631-C2F1-4935-ABCE-94B32C78636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AEF9-7828-4FD1-B957-4D982BE57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A1F0-1358-426C-9171-B534E2679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0335-AEFC-4A63-A3BC-4939BBECB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1FA7-DAAC-4E05-830C-9839E8CD2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1CFB44-9F47-4E75-8B71-DC0688158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57C5F7-7682-4F52-9EC8-BE049C17A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C0A89D-E751-45D7-A0FA-2DFF02B0D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FEF4D5-5391-4C64-A403-A47F8563A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1401D3-CDBC-4425-894D-91B6BC85A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E2C59E-3F15-4154-A955-3AB642034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B4C043-5F3E-44C6-9BEF-D71BCF9CE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D5EA-37CE-4EAF-8296-62B4625FC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3E33B3-888C-4649-98E8-FA85DBDA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A986DB-F1C0-41AF-BD72-15C00D530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264542-CAA6-4601-BCFF-081CF4D9F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C2F1AA-003C-45D5-8F69-00A849F5F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D7164F-29DF-4042-9A9A-BD9F3B48E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140878-3D9E-4092-8CE6-80D0EB1DA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E927A0-9D4E-4B2F-9504-AFE5DE275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E80000-122A-4DF0-B1D4-4601AC1AE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A308DC-C278-47C1-9748-6A09C9922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2B608B-1844-4443-B6C5-8C7619A54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D227-3501-4144-A8BD-D9289EDE0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6398C3-120C-4C7E-9CB0-A013C2B6C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3DAB4E-C7BB-423A-AF5E-C77441A1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623CA0-EB06-4FF9-BBBC-95A48256A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EC6DB3-CF59-4BDA-B4B8-4C46B3B7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DBE112-E551-4E56-9F7D-48A0960D0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4E3A58-B9ED-4D6D-A1F4-0A4C9D4F0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4712C4-C076-4436-B400-6A987ADFE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7761CD-D0D0-431D-96D4-831341B2C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E6561A-2D96-4227-8087-D3D253BDC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BEAEA9-3C3F-419F-B0C8-9B0181E01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00BE-85C8-4394-8ECA-747CCFDF9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ABBDA3-53C8-442E-BAFB-F155FA204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23CA6E-9876-41BE-8F54-6612A6AA4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2A534A-0227-4C12-AB8E-9443FD8F8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07F46A-C75B-4908-BCAE-00EDCCD81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025685-3B7A-4669-A55A-15EB6C544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FD7B5F-5359-4D85-B8D3-7EB01B88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C73DFB-0C90-41C7-A41F-E0D10CB06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30AC3E-2936-4D65-8881-3B3162FAC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F833C5-5259-410F-A701-FFBFD6FAC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69FA0C-D4F2-406B-B8FE-529F72F7A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72D4-E979-4408-84AC-297F89062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BC9F20-883A-4016-8748-2D2CB69EB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62BEEA-B0D5-426E-9A22-B406B64EC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CEB5C4-5021-42D5-9359-E0B67D96A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0001F4-5120-414C-878F-B518B787E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C0D7A3-3CEF-4C28-86F5-1452BB67F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65DEAA-2D1D-4FC0-86F8-EAC2522C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A489AB-326B-4DC6-8CE6-704CCD5D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F66F93-A604-4082-A6A1-AD11A8DF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2FAC2A-14C0-48BF-8BF5-63CB641C1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536781-39CC-4A8D-BEC6-9F9629987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A42D-79BD-43EC-9591-C8E58E06C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44247B-9CCB-47C3-9BC9-5DE15055A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C0324A-8FA5-4FF9-BA86-2DABC6630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B50DD9-86C1-4D97-B382-F2C431AA6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8D926C-D414-4D11-913D-D1ACB194C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3136BD-5D57-4126-A01E-DF509DFD7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DB8A3D-CA8B-4C68-9A76-D048F69AB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DF1B46-6AF9-486A-847D-29A1B03E9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347DE2-392F-4EDF-8080-C1932745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838DCE-97C4-4988-9F36-8BBF4429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748E2B-75FE-4382-8577-51CCB23F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047C-3577-46EC-B3C7-444776031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76F240-A164-4A80-BD76-D1EEFAF33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1D8D7C-5E2B-40DA-9293-325F0EA8C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35934D-7887-44FB-970A-BA269A16A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BE6D-B8BD-4804-A36F-648DD253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6F31-4FA0-4562-AACE-727824FE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3EF8C-D701-439C-96F3-F0BD5310E714}" type="datetime">
              <a:rPr b="0" lang="ru-RU" sz="1100" spc="-1" strike="noStrike">
                <a:solidFill>
                  <a:srgbClr val="ffffff"/>
                </a:solidFill>
                <a:latin typeface="Palatino Linotype"/>
              </a:rPr>
              <a:t>28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Palatino Linotype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54E5F-679C-417D-8589-CB9705B8E0BF}" type="slidenum">
              <a:rPr b="0" lang="ru-RU" sz="16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53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56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" name="TextBox 7"/>
          <p:cNvSpPr/>
          <p:nvPr/>
        </p:nvSpPr>
        <p:spPr>
          <a:xfrm>
            <a:off x="1828800" y="3164400"/>
            <a:ext cx="4572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55F26-6A65-4AAA-950B-50B4687D39D7}" type="datetime">
              <a:rPr b="0" lang="ru-RU" sz="1100" spc="-1" strike="noStrike">
                <a:solidFill>
                  <a:srgbClr val="ffffff"/>
                </a:solidFill>
                <a:latin typeface="Palatino Linotype"/>
              </a:rPr>
              <a:t>28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5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758EF-EC93-47CD-B097-C447743B3208}" type="slidenum">
              <a:rPr b="0" lang="ru-RU" sz="16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ftr" idx="6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Palatino Linotype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105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108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0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111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" name="TextBox 7"/>
          <p:cNvSpPr/>
          <p:nvPr/>
        </p:nvSpPr>
        <p:spPr>
          <a:xfrm>
            <a:off x="4267080" y="4075200"/>
            <a:ext cx="45720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D2EF5-F107-4B8F-8ED6-8E5A035D9DFD}" type="datetime">
              <a:rPr b="0" lang="ru-RU" sz="1100" spc="-1" strike="noStrike">
                <a:solidFill>
                  <a:srgbClr val="ffffff"/>
                </a:solidFill>
                <a:latin typeface="Palatino Linotype"/>
              </a:rPr>
              <a:t>28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sldNum" idx="8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DBCA5-8CAD-4DA8-9604-D7A324CB1C9E}" type="slidenum">
              <a:rPr b="0" lang="ru-RU" sz="16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9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Palatino Linotype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157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9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160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2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163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" name="TextBox 12"/>
          <p:cNvSpPr/>
          <p:nvPr/>
        </p:nvSpPr>
        <p:spPr>
          <a:xfrm>
            <a:off x="105732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Box 17"/>
          <p:cNvSpPr/>
          <p:nvPr/>
        </p:nvSpPr>
        <p:spPr>
          <a:xfrm>
            <a:off x="478008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D0448-13EA-4DD1-8C24-AE5C82DB9521}" type="datetime">
              <a:rPr b="0" lang="ru-RU" sz="1100" spc="-1" strike="noStrike">
                <a:solidFill>
                  <a:srgbClr val="ffffff"/>
                </a:solidFill>
                <a:latin typeface="Palatino Linotype"/>
              </a:rPr>
              <a:t>28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1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68443-38BA-40E8-AA8B-E44B74F206FD}" type="slidenum">
              <a:rPr b="0" lang="ru-RU" sz="16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Palatino Linotype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10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2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213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5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216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8" name="TextBox 8"/>
          <p:cNvSpPr/>
          <p:nvPr/>
        </p:nvSpPr>
        <p:spPr>
          <a:xfrm>
            <a:off x="5329080" y="1774800"/>
            <a:ext cx="457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3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80FA2-4FD3-48AD-A146-8C32EF8D743A}" type="datetime">
              <a:rPr b="0" lang="ru-RU" sz="1100" spc="-1" strike="noStrike">
                <a:solidFill>
                  <a:srgbClr val="ffffff"/>
                </a:solidFill>
                <a:latin typeface="Palatino Linotype"/>
              </a:rPr>
              <a:t>28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sldNum" idx="14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847DC-C03D-41C5-BE8C-2BE1729784D2}" type="slidenum">
              <a:rPr b="0" lang="ru-RU" sz="16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ftr" idx="15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Palatino Linotype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62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4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26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7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26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0" name="TextBox 8"/>
          <p:cNvSpPr/>
          <p:nvPr/>
        </p:nvSpPr>
        <p:spPr>
          <a:xfrm>
            <a:off x="2435400" y="33321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6C952-771E-42D9-8DE5-1F8D8083874C}" type="datetime">
              <a:rPr b="0" lang="ru-RU" sz="1100" spc="-1" strike="noStrike">
                <a:solidFill>
                  <a:srgbClr val="ffffff"/>
                </a:solidFill>
                <a:latin typeface="Palatino Linotype"/>
              </a:rPr>
              <a:t>28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sldNum" idx="17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881EE-99C0-4BAA-AA29-537B82A40D80}" type="slidenum">
              <a:rPr b="0" lang="ru-RU" sz="16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ftr" idx="18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Palatino Linotype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712000" cy="11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Сложение двузначных чисел</a:t>
            </a:r>
            <a:br>
              <a:rPr sz="4900"/>
            </a:br>
            <a:r>
              <a:rPr b="0" lang="ru-RU" sz="2500" spc="-1" strike="noStrike">
                <a:solidFill>
                  <a:srgbClr val="ffffff"/>
                </a:solidFill>
                <a:latin typeface="Palatino Linotype"/>
              </a:rPr>
              <a:t>урок - сказка </a:t>
            </a:r>
            <a:endParaRPr b="0" lang="en-US" sz="25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23640" y="2145960"/>
            <a:ext cx="215640" cy="423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Palatino Linotype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21" name="Picture 2" descr=""/>
          <p:cNvPicPr/>
          <p:nvPr/>
        </p:nvPicPr>
        <p:blipFill>
          <a:blip r:embed="rId1"/>
          <a:stretch/>
        </p:blipFill>
        <p:spPr>
          <a:xfrm>
            <a:off x="324000" y="3213000"/>
            <a:ext cx="3508200" cy="26179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" descr=""/>
          <p:cNvPicPr/>
          <p:nvPr/>
        </p:nvPicPr>
        <p:blipFill>
          <a:blip r:embed="rId2"/>
          <a:stretch/>
        </p:blipFill>
        <p:spPr>
          <a:xfrm>
            <a:off x="4427640" y="3213000"/>
            <a:ext cx="2232000" cy="2617920"/>
          </a:xfrm>
          <a:prstGeom prst="rect">
            <a:avLst/>
          </a:prstGeom>
          <a:ln w="0">
            <a:noFill/>
          </a:ln>
        </p:spPr>
      </p:pic>
      <p:sp>
        <p:nvSpPr>
          <p:cNvPr id="323" name="Прямоугольник 3"/>
          <p:cNvSpPr/>
          <p:nvPr/>
        </p:nvSpPr>
        <p:spPr>
          <a:xfrm>
            <a:off x="3832200" y="1700280"/>
            <a:ext cx="488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Презентацию подготовил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МБОУ СОШ № 4 г.Радужный ХМАО-Юг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уртовенко Наталия Анатоль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4" name="Місце для нижнього колонтитула 3" descr=""/>
          <p:cNvPicPr/>
          <p:nvPr/>
        </p:nvPicPr>
        <p:blipFill>
          <a:blip r:embed="rId3"/>
          <a:stretch/>
        </p:blipFill>
        <p:spPr>
          <a:xfrm>
            <a:off x="822240" y="6151680"/>
            <a:ext cx="457200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Palatino Linotype"/>
              </a:rPr>
              <a:t>-Какие геометрические фигуры вы здесь видите?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Palatino Linotype"/>
              </a:rPr>
              <a:t>- Сосчитайте только треугольников.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2195640" y="333360"/>
            <a:ext cx="4105080" cy="3486240"/>
          </a:xfrm>
          <a:prstGeom prst="rect">
            <a:avLst/>
          </a:prstGeom>
          <a:ln w="0">
            <a:noFill/>
          </a:ln>
        </p:spPr>
      </p:pic>
      <p:pic>
        <p:nvPicPr>
          <p:cNvPr id="355" name="Місце для нижнього колонтитула 3" descr=""/>
          <p:cNvPicPr/>
          <p:nvPr/>
        </p:nvPicPr>
        <p:blipFill>
          <a:blip r:embed="rId2"/>
          <a:stretch/>
        </p:blipFill>
        <p:spPr>
          <a:xfrm>
            <a:off x="822240" y="6151680"/>
            <a:ext cx="457200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3765600" cy="273528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-Благодарим за помощь!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58" name="Місце для нижнього колонтитула 2" descr=""/>
          <p:cNvPicPr/>
          <p:nvPr/>
        </p:nvPicPr>
        <p:blipFill>
          <a:blip r:embed="rId2"/>
          <a:stretch/>
        </p:blipFill>
        <p:spPr>
          <a:xfrm>
            <a:off x="822240" y="6151680"/>
            <a:ext cx="457200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26" name="Picture 2" descr=""/>
          <p:cNvPicPr/>
          <p:nvPr/>
        </p:nvPicPr>
        <p:blipFill>
          <a:blip r:embed="rId1"/>
          <a:stretch/>
        </p:blipFill>
        <p:spPr>
          <a:xfrm>
            <a:off x="900000" y="620640"/>
            <a:ext cx="7216920" cy="5400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2133720" y="4292280"/>
            <a:ext cx="4959360" cy="50760"/>
          </a:xfrm>
          <a:prstGeom prst="rect">
            <a:avLst/>
          </a:prstGeom>
          <a:noFill/>
          <a:ln w="0">
            <a:noFill/>
          </a:ln>
        </p:spPr>
        <p:txBody>
          <a:bodyPr tIns="5040" bIns="5040" anchor="ctr">
            <a:normAutofit/>
          </a:bodyPr>
          <a:p>
            <a:pPr marL="272880" indent="-255240">
              <a:lnSpc>
                <a:spcPct val="80000"/>
              </a:lnSpc>
              <a:spcBef>
                <a:spcPts val="125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28" name="Місце для нижнього колонтитула 3" descr=""/>
          <p:cNvPicPr/>
          <p:nvPr/>
        </p:nvPicPr>
        <p:blipFill>
          <a:blip r:embed="rId2"/>
          <a:stretch/>
        </p:blipFill>
        <p:spPr>
          <a:xfrm>
            <a:off x="822240" y="6151680"/>
            <a:ext cx="457200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"/>
          <p:cNvPicPr/>
          <p:nvPr/>
        </p:nvPicPr>
        <p:blipFill>
          <a:blip r:embed="rId1"/>
          <a:stretch/>
        </p:blipFill>
        <p:spPr>
          <a:xfrm>
            <a:off x="2987640" y="692280"/>
            <a:ext cx="2727360" cy="302580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11280" y="4508640"/>
            <a:ext cx="813744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Palatino Linotype"/>
              </a:rPr>
              <a:t>    </a:t>
            </a:r>
            <a:r>
              <a:rPr b="0" lang="ru-RU" sz="4400" spc="-1" strike="noStrike">
                <a:solidFill>
                  <a:srgbClr val="ffffff"/>
                </a:solidFill>
                <a:latin typeface="Palatino Linotype"/>
              </a:rPr>
              <a:t>9,  9,  10,  6,  3,  8,  3,  7,  9,  7к.</a:t>
            </a: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31" name="Місце для нижнього колонтитула 2" descr=""/>
          <p:cNvPicPr/>
          <p:nvPr/>
        </p:nvPicPr>
        <p:blipFill>
          <a:blip r:embed="rId2"/>
          <a:stretch/>
        </p:blipFill>
        <p:spPr>
          <a:xfrm>
            <a:off x="822240" y="6151680"/>
            <a:ext cx="457200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"/>
          <p:cNvPicPr/>
          <p:nvPr/>
        </p:nvPicPr>
        <p:blipFill>
          <a:blip r:embed="rId1"/>
          <a:stretch/>
        </p:blipFill>
        <p:spPr>
          <a:xfrm>
            <a:off x="2771640" y="476280"/>
            <a:ext cx="3360960" cy="252108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9280" y="4076640"/>
            <a:ext cx="7993080" cy="24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  </a:t>
            </a: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28       53        39      75     56</a:t>
            </a:r>
            <a:br>
              <a:rPr sz="4900"/>
            </a:b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+</a:t>
            </a:r>
            <a:r>
              <a:rPr b="0" lang="ru-RU" sz="4900" spc="-1" strike="noStrike" u="sng">
                <a:solidFill>
                  <a:srgbClr val="ffffff"/>
                </a:solidFill>
                <a:uFillTx/>
                <a:latin typeface="Palatino Linotype"/>
              </a:rPr>
              <a:t>33 </a:t>
            </a: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    +</a:t>
            </a:r>
            <a:r>
              <a:rPr b="0" lang="ru-RU" sz="4900" spc="-1" strike="noStrike" u="sng">
                <a:solidFill>
                  <a:srgbClr val="ffffff"/>
                </a:solidFill>
                <a:uFillTx/>
                <a:latin typeface="Palatino Linotype"/>
              </a:rPr>
              <a:t>27</a:t>
            </a: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      +</a:t>
            </a:r>
            <a:r>
              <a:rPr b="0" lang="ru-RU" sz="4900" spc="-1" strike="noStrike" u="sng">
                <a:solidFill>
                  <a:srgbClr val="ffffff"/>
                </a:solidFill>
                <a:uFillTx/>
                <a:latin typeface="Palatino Linotype"/>
              </a:rPr>
              <a:t>35</a:t>
            </a: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    - </a:t>
            </a:r>
            <a:r>
              <a:rPr b="0" lang="ru-RU" sz="4900" spc="-1" strike="noStrike" u="sng">
                <a:solidFill>
                  <a:srgbClr val="ffffff"/>
                </a:solidFill>
                <a:uFillTx/>
                <a:latin typeface="Palatino Linotype"/>
              </a:rPr>
              <a:t>32</a:t>
            </a: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    -</a:t>
            </a:r>
            <a:r>
              <a:rPr b="0" lang="ru-RU" sz="4900" spc="-1" strike="noStrike" u="sng">
                <a:solidFill>
                  <a:srgbClr val="ffffff"/>
                </a:solidFill>
                <a:uFillTx/>
                <a:latin typeface="Palatino Linotype"/>
              </a:rPr>
              <a:t>24</a:t>
            </a:r>
            <a:br>
              <a:rPr sz="4900"/>
            </a:b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34" name="Місце для нижнього колонтитула 2" descr=""/>
          <p:cNvPicPr/>
          <p:nvPr/>
        </p:nvPicPr>
        <p:blipFill>
          <a:blip r:embed="rId2"/>
          <a:stretch/>
        </p:blipFill>
        <p:spPr>
          <a:xfrm>
            <a:off x="822240" y="6151680"/>
            <a:ext cx="457200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"/>
          <p:cNvPicPr/>
          <p:nvPr/>
        </p:nvPicPr>
        <p:blipFill>
          <a:blip r:embed="rId1"/>
          <a:stretch/>
        </p:blipFill>
        <p:spPr>
          <a:xfrm>
            <a:off x="2124000" y="476280"/>
            <a:ext cx="4248360" cy="409896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55280" y="522936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61,     80,     74,     43,     32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37" name="Місце для нижнього колонтитула 2" descr=""/>
          <p:cNvPicPr/>
          <p:nvPr/>
        </p:nvPicPr>
        <p:blipFill>
          <a:blip r:embed="rId2"/>
          <a:stretch/>
        </p:blipFill>
        <p:spPr>
          <a:xfrm>
            <a:off x="822240" y="6151680"/>
            <a:ext cx="457200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"/>
          <p:cNvPicPr/>
          <p:nvPr/>
        </p:nvPicPr>
        <p:blipFill>
          <a:blip r:embed="rId1"/>
          <a:stretch/>
        </p:blipFill>
        <p:spPr>
          <a:xfrm>
            <a:off x="2627280" y="333360"/>
            <a:ext cx="4157640" cy="295128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777600" y="3715920"/>
            <a:ext cx="7543800" cy="273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Palatino Linotype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Palatino Linotype"/>
              </a:rPr>
              <a:t>Испекла я нынче 13 пирожков. Прискакал ко мне Зайка и съел 4 пирожка, а потом прибежал Волк и съел еще 5 пирожков. Сколько пирожков у меня осталось? А по сколько достанется вам?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40" name="Місце для нижнього колонтитула 2" descr=""/>
          <p:cNvPicPr/>
          <p:nvPr/>
        </p:nvPicPr>
        <p:blipFill>
          <a:blip r:embed="rId2"/>
          <a:stretch/>
        </p:blipFill>
        <p:spPr>
          <a:xfrm>
            <a:off x="822240" y="6151680"/>
            <a:ext cx="457200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2" descr=""/>
          <p:cNvPicPr/>
          <p:nvPr/>
        </p:nvPicPr>
        <p:blipFill>
          <a:blip r:embed="rId1"/>
          <a:stretch/>
        </p:blipFill>
        <p:spPr>
          <a:xfrm>
            <a:off x="2340000" y="260280"/>
            <a:ext cx="4248000" cy="308772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280" y="4292280"/>
            <a:ext cx="8280360" cy="149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Palatino Linotype"/>
              </a:rPr>
              <a:t>Ответ: 4 пирожка, по 2 пирожка.</a:t>
            </a:r>
            <a:endParaRPr b="0" lang="en-US" sz="40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43" name="Місце для нижнього колонтитула 2" descr=""/>
          <p:cNvPicPr/>
          <p:nvPr/>
        </p:nvPicPr>
        <p:blipFill>
          <a:blip r:embed="rId2"/>
          <a:stretch/>
        </p:blipFill>
        <p:spPr>
          <a:xfrm>
            <a:off x="822240" y="6151680"/>
            <a:ext cx="457200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539280" y="476280"/>
            <a:ext cx="7689960" cy="386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76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40 см   …   4 дм 5 см</a:t>
            </a: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55 см   …  6 дм</a:t>
            </a: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52 см   …  25 см</a:t>
            </a: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60 см   …  6 дм</a:t>
            </a: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46" name="Picture 2" descr=""/>
          <p:cNvPicPr/>
          <p:nvPr/>
        </p:nvPicPr>
        <p:blipFill>
          <a:blip r:embed="rId1"/>
          <a:stretch/>
        </p:blipFill>
        <p:spPr>
          <a:xfrm>
            <a:off x="5435640" y="2347920"/>
            <a:ext cx="3163680" cy="3798720"/>
          </a:xfrm>
          <a:prstGeom prst="rect">
            <a:avLst/>
          </a:prstGeom>
          <a:ln w="0">
            <a:noFill/>
          </a:ln>
        </p:spPr>
      </p:pic>
      <p:pic>
        <p:nvPicPr>
          <p:cNvPr id="347" name="Місце для нижнього колонтитула 3" descr=""/>
          <p:cNvPicPr/>
          <p:nvPr/>
        </p:nvPicPr>
        <p:blipFill>
          <a:blip r:embed="rId2"/>
          <a:stretch/>
        </p:blipFill>
        <p:spPr>
          <a:xfrm>
            <a:off x="822240" y="6151680"/>
            <a:ext cx="457200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49" name="Picture 2" descr=""/>
          <p:cNvPicPr/>
          <p:nvPr/>
        </p:nvPicPr>
        <p:blipFill>
          <a:blip r:embed="rId1"/>
          <a:stretch/>
        </p:blipFill>
        <p:spPr>
          <a:xfrm>
            <a:off x="5435640" y="2349360"/>
            <a:ext cx="3168720" cy="380232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 txBox="1"/>
          <p:nvPr/>
        </p:nvSpPr>
        <p:spPr>
          <a:xfrm>
            <a:off x="611280" y="404280"/>
            <a:ext cx="5184720" cy="393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58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Palatino Linotype"/>
              </a:rPr>
              <a:t>40 см    &lt;   4 дм 5 см</a:t>
            </a: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  <a:p>
            <a:pPr marL="158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Palatino Linotype"/>
              </a:rPr>
              <a:t>55 см    &lt;   6 дм</a:t>
            </a: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  <a:p>
            <a:pPr marL="158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Palatino Linotype"/>
              </a:rPr>
              <a:t>52 см    &gt;   25 см</a:t>
            </a: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  <a:p>
            <a:pPr marL="158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Palatino Linotype"/>
              </a:rPr>
              <a:t>60 см    =   6 дм</a:t>
            </a: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  <a:p>
            <a:pPr marL="15840">
              <a:spcBef>
                <a:spcPts val="1100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51" name="Місце для нижнього колонтитула 1" descr=""/>
          <p:cNvPicPr/>
          <p:nvPr/>
        </p:nvPicPr>
        <p:blipFill>
          <a:blip r:embed="rId2"/>
          <a:stretch/>
        </p:blipFill>
        <p:spPr>
          <a:xfrm>
            <a:off x="822240" y="6151680"/>
            <a:ext cx="457200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8T11:27:49Z</dcterms:created>
  <dc:creator>User</dc:creator>
  <dc:description/>
  <dc:language>en-US</dc:language>
  <cp:lastModifiedBy>LEGION</cp:lastModifiedBy>
  <dcterms:modified xsi:type="dcterms:W3CDTF">2015-01-26T12:32:13Z</dcterms:modified>
  <cp:revision>22</cp:revision>
  <dc:subject/>
  <dc:title>Сложение двузначных чисел по мотиву сказки «Гуси-Лебеди»</dc:title>
</cp:coreProperties>
</file>