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D823-5456-4F8A-9ED4-6849527993F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ение двузначных чисел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рок - сказка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76CE-D681-4ADC-87E7-B5C6C6BC67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акие геометрические фигуры вы здесь видит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считайте только треуг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182C-1D23-4CCC-949E-47E2CFC4EA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лагодарим за помощ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AFD1-3507-4FFA-BDBA-CA3902EE57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,  9,  10,  6,  3,  8,  3,  7,  9,  7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EE5B-8E23-4491-BB44-E6005CCB19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       53        39      75     56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+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+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-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4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010F-5E6F-46FD-9148-153142EEFF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,     80,     74,     43,    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9B25-703A-4408-B428-4608AA8935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екла я нынче 13 пирожков. Прискакал ко мне Зайка и съел 4 пирожка, а потом прибежал Волк и съел еще 5 пирожков. Сколько пирожков у меня осталось? А по сколько достанется в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BBB8-541A-49FD-BFDA-FE4610D561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4 пирожка, по 2 пирож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5075-D403-4486-8BCA-5E16746722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 см   …   4 дм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 см   …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2 см   …  2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0 см   …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2001-D965-4B59-8BAA-4A1D01A427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 см    &lt;   4 дм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5 см    &lt; 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 см    &gt;   2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 см    = 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BC22-3053-4B45-A516-7A3B275FBB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C87-96BC-49BF-9596-8EB194B9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1EE-8866-499F-983F-01C9006C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275F-ECBC-4F5F-9331-B32A9004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B23-E3A7-4CCE-8A99-19F2BA47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9081E-F679-4FAE-B463-E962E15D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BF602-F039-464B-B100-EB39074D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992FE-888F-4E2B-8B3B-1699A347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D158F-893F-42EA-928A-223F1771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78EDB-343E-42CC-8ABA-C1DE34FD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0C795-5386-4993-A278-CDB277DA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D1C53-E7B3-4A2D-9333-7FD48CB7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33F-55F8-48D9-AA4A-0DE346AD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08EEE-C257-4DD7-9465-4AEDF0A0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07A06-4710-42FB-8B7F-A36E2AE7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EB5DC-4C67-4117-AF67-C956856A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3E68C-7DE7-43BE-A2AA-43C1CD41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D78BB-5490-4F1E-B144-2D31E216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2E812-5422-4620-AE9E-F33DA434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0CD3A-A4C0-4CDA-B064-4104B3B8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9D2CA-E0AB-4112-A8F2-6894183D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7724A-DE78-427D-9A93-49571F86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CA8AF-4AED-4D4F-8A5D-91682A2B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2F70-A36C-4592-BCCC-01C9106F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F87BD-05AC-46C9-A17E-DAF6DDB1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C3241-FB91-416A-8A01-9E734CD2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0C5383-8278-4A84-8F0B-75154370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C6320-82D0-4650-8A54-F770D7FD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7988E-74B4-4384-98AD-DCB981F0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9F748-D4BD-4508-AB82-29E328F6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38735-D710-4B66-8F79-37CAFBA4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330B86-BC99-4687-9284-1D605375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EADA51-603C-4675-BBCF-A84FE328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909DD7-EEA6-4001-BE53-E00281B1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28E8-92A8-46AC-9677-D7E180C2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3BF2D1-36D0-4145-A6C0-15426D07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448AB0-63EA-4861-AEE5-15013ABC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761815-468E-412F-BCF3-6713F294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D0B4A4-ED7D-42A8-8DBE-70D44823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C2C439-5E3C-49B7-BED6-938A6A08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E1D7BF-457C-481B-BA62-3B183472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E3A14F-7B88-40EF-9C60-F4E3D2F6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6B1B29-E1D7-4FC0-AD5E-3551E9C3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A3FFC-16D1-4DB2-A030-0670B49D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EB5B2D-2A5D-4037-B029-FA290E4F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3111-6541-46DC-8B07-00DAD351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3A9B8A-917F-4CAC-96D8-D3DA12C7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1B3A3C-8F8C-47AF-8ED0-D43AEC73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4869C-6C8C-4C54-A13D-30742482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5B66FC-4498-4FA9-AF28-1E103143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0926F-29F6-428E-B517-0B2C6A64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F6576-0D0D-4177-8248-610F6820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547E9F-0378-481D-A5BB-7213ABEF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A19EAA-D38A-4EA1-97B3-780AD9EC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BBBC5D-0DF7-41F8-A930-1D93F271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3A93E-F56D-4081-AED0-4F67A1C8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678-36A0-4F35-91CE-9F6FB366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8A7A73-3A95-413A-A6AD-1A634DAA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4B684D-5F98-4979-8225-9CAD8603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74B766-240C-4C4B-AB8C-4DA691E9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0E5BD-8A24-4E9C-8A54-686717D9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02F612-40CA-40E7-9CE4-09A9B273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0F2234-1024-4293-B1AB-5F260050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C82A16-47B0-4BB0-AFA3-1AB3740D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15829-9AD5-4B3E-98A2-77398739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A21713-CCB1-4567-84A1-65B4456C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4CAF98-F95B-44B8-B471-C6FD9ADE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141-814F-46C7-A2BA-FEC7E984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F9B5A7-BFEF-4A0C-A91F-60E8F5E8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4D05C7-46A4-4ADC-8FA2-73AA0B4D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764B4-F04D-4175-892E-B61B8843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A96-CBE9-4BF9-8F6B-67546EC0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BB1-643F-47A9-B9B0-38EB9542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16C6-D7B1-4CD5-83DC-50A86344784F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07BB-4640-40FF-9FD5-5B316549A9EF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7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0602-914A-4E7D-9A97-4585B46B444C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D82C-02D6-4164-8889-BA3248AEE465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55B9-F6C2-49BE-B271-01E113CB530F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AA6D-9B9D-439D-9872-540C3020C4EF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2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A62B-ADA2-4367-9EB0-67A25FB198BC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3C86-DA74-41A4-98A2-963FC19587B4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8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00D3-7DC2-4218-824C-4B2E26FF46E2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98AC-23C9-4625-B76B-643240DB43AC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8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F4F4-7C8C-4BA8-9FEE-5F7866F3D9A3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4F90-2595-45F5-9E8D-53D4F8D03EBE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7120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Сложение двузначных чисел</a:t>
            </a:r>
            <a:br>
              <a:rPr sz="4900"/>
            </a:br>
            <a:r>
              <a:rPr b="0" lang="ru-RU" sz="2500" spc="-1" strike="noStrike">
                <a:solidFill>
                  <a:srgbClr val="ffffff"/>
                </a:solidFill>
                <a:latin typeface="Palatino Linotype"/>
              </a:rPr>
              <a:t>урок - сказка </a:t>
            </a:r>
            <a:endParaRPr b="0" lang="en-US" sz="2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23640" y="2145960"/>
            <a:ext cx="215640" cy="42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3508200" cy="26179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2232000" cy="26179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3"/>
          <p:cNvSpPr/>
          <p:nvPr/>
        </p:nvSpPr>
        <p:spPr>
          <a:xfrm>
            <a:off x="3832200" y="1700280"/>
            <a:ext cx="48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резентацию подготов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МБОУ СОШ № 4 г.Радужный ХМАО-Юг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ртовенко Наталия Анато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Місце для нижнього колонтитула 3" descr=""/>
          <p:cNvPicPr/>
          <p:nvPr/>
        </p:nvPicPr>
        <p:blipFill>
          <a:blip r:embed="rId3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-Какие геометрические фигуры вы здесь видите?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- Сосчитайте только треугольников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105080" cy="3486240"/>
          </a:xfrm>
          <a:prstGeom prst="rect">
            <a:avLst/>
          </a:prstGeom>
          <a:ln w="0">
            <a:noFill/>
          </a:ln>
        </p:spPr>
      </p:pic>
      <p:pic>
        <p:nvPicPr>
          <p:cNvPr id="355" name="Місце для нижнього колонтитула 3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3765600" cy="27352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-Благодарим за помощь!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8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216920" cy="5400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2133720" y="4292280"/>
            <a:ext cx="4959360" cy="50760"/>
          </a:xfrm>
          <a:prstGeom prst="rect">
            <a:avLst/>
          </a:prstGeom>
          <a:noFill/>
          <a:ln w="0">
            <a:noFill/>
          </a:ln>
        </p:spPr>
        <p:txBody>
          <a:bodyPr tIns="5040" bIns="5040" anchor="ctr">
            <a:normAutofit/>
          </a:bodyPr>
          <a:p>
            <a:pPr marL="272880" indent="-255240">
              <a:lnSpc>
                <a:spcPct val="80000"/>
              </a:lnSpc>
              <a:spcBef>
                <a:spcPts val="125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8" name="Місце для нижнього колонтитула 3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2727360" cy="302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4508640"/>
            <a:ext cx="8137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9,  9,  10,  6,  3,  8,  3,  7,  9,  7к.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1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3360960" cy="25210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280" y="407664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28       53        39      75     56</a:t>
            </a:r>
            <a:br>
              <a:rPr sz="4900"/>
            </a:b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+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33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+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27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+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35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- 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32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-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24</a:t>
            </a:r>
            <a:br>
              <a:rPr sz="4900"/>
            </a:b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4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4248360" cy="40989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280" y="5229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61,     80,     74,     43,     32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7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4157640" cy="29512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77600" y="3715920"/>
            <a:ext cx="7543800" cy="27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Испекла я нынче 13 пирожков. Прискакал ко мне Зайка и съел 4 пирожка, а потом прибежал Волк и съел еще 5 пирожков. Сколько пирожков у меня осталось? А по сколько достанется вам?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0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248000" cy="30877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280" y="4292280"/>
            <a:ext cx="828036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Palatino Linotype"/>
              </a:rPr>
              <a:t>Ответ: 4 пирожка, по 2 пирожка.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3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539280" y="476280"/>
            <a:ext cx="7689960" cy="386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40 см   …   4 дм 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5 см   …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2 см   …  2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60 см   …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5435640" y="2347920"/>
            <a:ext cx="3163680" cy="3798720"/>
          </a:xfrm>
          <a:prstGeom prst="rect">
            <a:avLst/>
          </a:prstGeom>
          <a:ln w="0">
            <a:noFill/>
          </a:ln>
        </p:spPr>
      </p:pic>
      <p:pic>
        <p:nvPicPr>
          <p:cNvPr id="347" name="Місце для нижнього колонтитула 3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3168720" cy="3802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611280" y="404280"/>
            <a:ext cx="5184720" cy="393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40 см    &lt;   4 дм 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55 см    &lt; 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52 см    &gt;   2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60 см    = 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1" name="Місце для нижнього колонтитула 1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27:49Z</dcterms:created>
  <dc:creator>User</dc:creator>
  <dc:description/>
  <dc:language>en-US</dc:language>
  <cp:lastModifiedBy>LEGION</cp:lastModifiedBy>
  <dcterms:modified xsi:type="dcterms:W3CDTF">2015-01-26T12:32:13Z</dcterms:modified>
  <cp:revision>22</cp:revision>
  <dc:subject/>
  <dc:title>Сложение двузначных чисел по мотиву сказки «Гуси-Лебеди»</dc:title>
</cp:coreProperties>
</file>