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B954-8016-4DA3-BA8C-E11B3718AE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Линей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EC67-067C-4961-ACD9-945EDE286EB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При решении уравнения вида </a:t>
            </a:r>
            <a:r>
              <a:rPr b="0" lang="ru-RU" sz="900" spc="-1" strike="noStrike" u="sng">
                <a:solidFill>
                  <a:srgbClr val="800080"/>
                </a:solidFill>
                <a:uFillTx/>
                <a:latin typeface="Calibri"/>
              </a:rPr>
              <a:t>ах = в</a:t>
            </a: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возможны следующие три случа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х=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12EF-D189-4952-9923-AD0F47220EF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3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  1=4  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едём подобные слагаемы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этом уравнении а=2 и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дин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ень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EA35-AEDB-4569-A6F4-61A5ADBEA1A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+3)-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1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2х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=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-14, или 0х=0 (где а=0, в=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верное числовое равенство 0=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любое число является корнем этого уравнения (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бесконечно много кор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7275-BE9B-46B8-B202-2EEB368DF28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)+2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12 или 0х=14 (где а=0,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 корней не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85AF-AB08-4F38-ABCC-1A4B3F38012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еши са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)5х-7=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) 2(3х-1)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)3х-(10+5х)=54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) 0,5(4-2х)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F93B-E56B-4951-AE8D-4DA62BED683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-2+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6х-2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х-7х=5+2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3х-10-5х=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54+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64:(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2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2-х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-х=-1,8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-3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1,9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Ответ: х=1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A9B7-52BA-4F96-9670-B9AEDEB2964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 ответив на вопросы предложенные компью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7DB4-21F1-4FCA-9B90-2D396948989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3860-2AFC-4A44-9C5C-4ABC7170DBB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C550-D087-4FF3-858D-558EFF456EB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171C-38B8-4939-A389-93174CBE22F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лектронный 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ла: учитель математики-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ерегул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«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0136-8144-46F3-B78C-769DD105C3B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F1C1-EC7E-4352-B1B5-CE241517527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орогой друг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          </a:t>
            </a: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97C2-48B1-4790-8138-F0DECE8FEE8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м с одной неизвестной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нем урав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ешить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найти все его корни или доказать, что корне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имеют одни и те же корни, называются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авносильными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не имеют корней, также                             считаются равно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229C-69A8-4394-BFDA-398A1A24264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пределе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равнение вид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а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х = в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(где х – переменная, а и в – некоторые числа) называет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линейным уравнением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 одной переменн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ая особенность такого уравнен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еременная 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ход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уравнение обязательно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первой степ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F226-BC36-4ABF-9C76-E41A9FCBAB8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являются линейными, так как имеют вид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3  х=7   (где а=3, в=7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-2 х=5 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0х=-3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0х=0  (где а=?, в=?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нейные уравнения приводятся к виду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тождественных преобраз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EE9-05D5-4754-82BA-AFE7AB17D67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равнении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3х-5)=х-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34D6-CB5D-4FEF-860C-4A575C77703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и решении уравнений не забудь следующие свойст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7681-F304-4C6E-A4B2-900258AD99D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не являются линей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х+7=0 (так как содержит переменную х во второй сте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5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(х-3)=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5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8DA4-B0BE-4196-A78D-4FE687EEE9E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5E2-9C5A-44EC-AB64-6B4835A9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215-2DC9-4D63-9367-69F0C0CE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779-CA0F-4922-8574-725CD123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DBF-BB9F-4239-B025-C7E86375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2268-80F2-4808-908E-16028249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7C4B-7E6E-44F7-BDC8-E2387E4A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24E3-7DC3-4907-A554-D6A2E04C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7625-6DD9-4CBC-BA58-DEA8BD5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58D2-0E6B-4612-A6EE-0304CB0C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E1E9-D695-4768-A34D-9E27F4AE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8FB7-FF60-4FB9-96D3-8CDBBF07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936-7FF2-466D-9BD6-E9285EDF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960A-B9AD-4B53-83C4-E4D605FC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AC21-B34A-42F5-BCBD-C74DAB2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E87E-95F9-450E-8C7A-5CE2C999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88E1-6B54-492F-93FF-6C777B1B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FCA2-1FD1-4405-B703-6098AECD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230-4D3F-409C-923F-F3B126CA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3FB-AF21-4BF7-8C99-5637C83C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922-7E8C-499E-8BEA-254732FC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40D-1C03-49EA-BD16-4A40AB6C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015-F6F2-4285-A7FA-22B90AE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6BA-1DD9-4B07-A442-6E649562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C2B-DAEB-4258-B662-A0BDAD5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83AF-3BD7-42E9-BE87-CFECE48D82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0842-2AEA-4EF6-B298-2CA6919CC5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yarsky"/>
              </a:rPr>
              <a:t>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Выбери меня"/>
          <p:cNvPicPr/>
          <p:nvPr/>
        </p:nvPicPr>
        <p:blipFill>
          <a:blip r:embed="rId1"/>
          <a:stretch/>
        </p:blipFill>
        <p:spPr>
          <a:xfrm>
            <a:off x="7236000" y="40464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ах=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76720" y="4221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кор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2050920" y="335772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08360" y="31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 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1763640" y="3500280"/>
            <a:ext cx="158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132000" y="191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ножество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1692360" y="234936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5076720" y="3213000"/>
            <a:ext cx="14472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5"/>
          <p:cNvSpPr/>
          <p:nvPr/>
        </p:nvSpPr>
        <p:spPr>
          <a:xfrm flipH="1">
            <a:off x="3635280" y="4365720"/>
            <a:ext cx="21600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826920" y="18900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При решении уравнения вида </a:t>
            </a:r>
            <a:r>
              <a:rPr b="0" lang="ru-RU" sz="3600" spc="-1" strike="noStrike" u="sng">
                <a:solidFill>
                  <a:srgbClr val="703dff"/>
                </a:solidFill>
                <a:uFillTx/>
                <a:latin typeface="Comic Sans MS"/>
              </a:rPr>
              <a:t>ах = в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 возможны следующие три случа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6822360" y="42926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7596360" y="3933720"/>
                <a:ext cx="519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eqArr>
                      <m:e>
                        <m:f>
                          <m:num>
                            <m:r>
                              <m:t xml:space="preserve">а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3)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  1=4  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Приведём подобные слагаемы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 этом уравнении а=2 и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д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ень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44364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4932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730872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7"/>
              <p:cNvSpPr txBox="1"/>
              <p:nvPr/>
            </p:nvSpPr>
            <p:spPr>
              <a:xfrm>
                <a:off x="579600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8"/>
              <p:cNvSpPr txBox="1"/>
              <p:nvPr/>
            </p:nvSpPr>
            <p:spPr>
              <a:xfrm>
                <a:off x="485928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0"/>
              <p:cNvSpPr txBox="1"/>
              <p:nvPr/>
            </p:nvSpPr>
            <p:spPr>
              <a:xfrm>
                <a:off x="4427640" y="4869000"/>
                <a:ext cx="30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9"/>
              <p:cNvSpPr txBox="1"/>
              <p:nvPr/>
            </p:nvSpPr>
            <p:spPr>
              <a:xfrm>
                <a:off x="0" y="657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3"/>
              <p:cNvSpPr txBox="1"/>
              <p:nvPr/>
            </p:nvSpPr>
            <p:spPr>
              <a:xfrm>
                <a:off x="0" y="3892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Rectangle 26"/>
          <p:cNvSpPr/>
          <p:nvPr/>
        </p:nvSpPr>
        <p:spPr>
          <a:xfrm>
            <a:off x="4717440" y="4941360"/>
            <a:ext cx="62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7" descr="42r1"/>
          <p:cNvPicPr/>
          <p:nvPr/>
        </p:nvPicPr>
        <p:blipFill>
          <a:blip r:embed="rId1"/>
          <a:stretch/>
        </p:blipFill>
        <p:spPr>
          <a:xfrm>
            <a:off x="5435640" y="5157720"/>
            <a:ext cx="157176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+3)-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1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2х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=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-14, или 0х=0 (где а=0, в=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верное числовое равенство 0=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любое число является корнем этого уравнения (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бесконечно много корн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46r3"/>
          <p:cNvPicPr/>
          <p:nvPr/>
        </p:nvPicPr>
        <p:blipFill>
          <a:blip r:embed="rId1"/>
          <a:stretch/>
        </p:blipFill>
        <p:spPr>
          <a:xfrm>
            <a:off x="6227640" y="5157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)+2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12 или 0х=14 (где а=0,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4" descr="17r2"/>
          <p:cNvPicPr/>
          <p:nvPr/>
        </p:nvPicPr>
        <p:blipFill>
          <a:blip r:embed="rId1"/>
          <a:stretch/>
        </p:blipFill>
        <p:spPr>
          <a:xfrm>
            <a:off x="5796000" y="5084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еши сам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а)5х-7=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б) 2(3х-1)+4=7х+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)3х-(10+5х)=54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) 0,5(4-2х)=х-1,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star54[1]"/>
          <p:cNvPicPr/>
          <p:nvPr/>
        </p:nvPicPr>
        <p:blipFill>
          <a:blip r:embed="rId1"/>
          <a:stretch/>
        </p:blipFill>
        <p:spPr>
          <a:xfrm>
            <a:off x="6732720" y="90792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star54[1]"/>
          <p:cNvPicPr/>
          <p:nvPr/>
        </p:nvPicPr>
        <p:blipFill>
          <a:blip r:embed="rId2"/>
          <a:stretch/>
        </p:blipFill>
        <p:spPr>
          <a:xfrm>
            <a:off x="2987640" y="5516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star54[1]"/>
          <p:cNvPicPr/>
          <p:nvPr/>
        </p:nvPicPr>
        <p:blipFill>
          <a:blip r:embed="rId3"/>
          <a:stretch/>
        </p:blipFill>
        <p:spPr>
          <a:xfrm>
            <a:off x="1979640" y="620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tar54[1]"/>
          <p:cNvPicPr/>
          <p:nvPr/>
        </p:nvPicPr>
        <p:blipFill>
          <a:blip r:embed="rId4"/>
          <a:stretch/>
        </p:blipFill>
        <p:spPr>
          <a:xfrm>
            <a:off x="7020000" y="292428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star54[1]"/>
          <p:cNvPicPr/>
          <p:nvPr/>
        </p:nvPicPr>
        <p:blipFill>
          <a:blip r:embed="rId5"/>
          <a:stretch/>
        </p:blipFill>
        <p:spPr>
          <a:xfrm>
            <a:off x="7380360" y="5084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tar54[1]"/>
          <p:cNvPicPr/>
          <p:nvPr/>
        </p:nvPicPr>
        <p:blipFill>
          <a:blip r:embed="rId6"/>
          <a:stretch/>
        </p:blipFill>
        <p:spPr>
          <a:xfrm>
            <a:off x="684360" y="3933720"/>
            <a:ext cx="863280" cy="763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-2+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: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х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6х-2+4=7х+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х-7х=5+2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3х-10-5х=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54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6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64:(-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2 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2-х=х-1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-х=-1,8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-3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1,9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Ответ: х=1,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357336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ь свои знания ответив на вопросы предложенные компьютер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14m4"/>
          <p:cNvPicPr/>
          <p:nvPr/>
        </p:nvPicPr>
        <p:blipFill>
          <a:blip r:embed="rId2"/>
          <a:stretch/>
        </p:blipFill>
        <p:spPr>
          <a:xfrm>
            <a:off x="324000" y="765000"/>
            <a:ext cx="1800000" cy="1403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4" descr="255"/>
          <p:cNvPicPr/>
          <p:nvPr/>
        </p:nvPicPr>
        <p:blipFill>
          <a:blip r:embed="rId2"/>
          <a:stretch/>
        </p:blipFill>
        <p:spPr>
          <a:xfrm>
            <a:off x="5435640" y="3716280"/>
            <a:ext cx="1123920" cy="138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ar3[1]"/>
          <p:cNvPicPr/>
          <p:nvPr/>
        </p:nvPicPr>
        <p:blipFill>
          <a:blip r:embed="rId3"/>
          <a:stretch/>
        </p:blipFill>
        <p:spPr>
          <a:xfrm rot="19750200">
            <a:off x="539640" y="691920"/>
            <a:ext cx="1224000" cy="8650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6870600" cy="38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6" descr="people1[1]"/>
          <p:cNvPicPr/>
          <p:nvPr/>
        </p:nvPicPr>
        <p:blipFill>
          <a:blip r:embed="rId1"/>
          <a:stretch/>
        </p:blipFill>
        <p:spPr>
          <a:xfrm>
            <a:off x="395280" y="189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f72[1]"/>
          <p:cNvPicPr/>
          <p:nvPr/>
        </p:nvPicPr>
        <p:blipFill>
          <a:blip r:embed="rId2"/>
          <a:stretch/>
        </p:blipFill>
        <p:spPr>
          <a:xfrm>
            <a:off x="6877080" y="4941720"/>
            <a:ext cx="1224000" cy="1162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555920" y="3087360"/>
            <a:ext cx="604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Реши уравнение: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|3х + 8|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Найди значение параметра 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котором уравнение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(3а + 1) х = 2а+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ет корень х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059280" y="4941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6"/>
          <p:cNvSpPr/>
          <p:nvPr/>
        </p:nvSpPr>
        <p:spPr>
          <a:xfrm rot="20629200">
            <a:off x="4081680" y="51526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200"/>
                </a:solidFill>
                <a:latin typeface="Comic Sans MS"/>
              </a:rPr>
              <a:t>Удачи тебе</a:t>
            </a: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лектронный  учеб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оставила: учитель математики-инфор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ерегулова И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СОШ №1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008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35"/>
          <p:cNvPicPr/>
          <p:nvPr/>
        </p:nvPicPr>
        <p:blipFill>
          <a:blip r:embed="rId1"/>
          <a:stretch/>
        </p:blipFill>
        <p:spPr>
          <a:xfrm>
            <a:off x="4067280" y="1773360"/>
            <a:ext cx="1511280" cy="13096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4"/>
          <p:cNvSpPr txBox="1"/>
          <p:nvPr/>
        </p:nvSpPr>
        <p:spPr>
          <a:xfrm rot="20243400">
            <a:off x="1560240" y="1696680"/>
            <a:ext cx="597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2" name="Picture 6" descr="dis2[1]"/>
          <p:cNvPicPr/>
          <p:nvPr/>
        </p:nvPicPr>
        <p:blipFill>
          <a:blip r:embed="rId1"/>
          <a:stretch/>
        </p:blipFill>
        <p:spPr>
          <a:xfrm>
            <a:off x="539640" y="69228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newy25"/>
          <p:cNvPicPr/>
          <p:nvPr/>
        </p:nvPicPr>
        <p:blipFill>
          <a:blip r:embed="rId2"/>
          <a:stretch/>
        </p:blipFill>
        <p:spPr>
          <a:xfrm>
            <a:off x="6588000" y="4005360"/>
            <a:ext cx="1349640" cy="16556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70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          </a:t>
            </a: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eople12[1]"/>
          <p:cNvPicPr/>
          <p:nvPr/>
        </p:nvPicPr>
        <p:blipFill>
          <a:blip r:embed="rId1"/>
          <a:stretch/>
        </p:blipFill>
        <p:spPr>
          <a:xfrm>
            <a:off x="7380360" y="4724280"/>
            <a:ext cx="936720" cy="1479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eddy37"/>
          <p:cNvPicPr/>
          <p:nvPr/>
        </p:nvPicPr>
        <p:blipFill>
          <a:blip r:embed="rId2"/>
          <a:stretch/>
        </p:blipFill>
        <p:spPr>
          <a:xfrm>
            <a:off x="395280" y="40464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м с одной неизвестно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нем уравн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ешить 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значает найти все его корни или доказать, что корней 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имеют одни и те же корни, называются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авносильными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не имеют корней, также                             считаются равноси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6364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17r1"/>
          <p:cNvPicPr/>
          <p:nvPr/>
        </p:nvPicPr>
        <p:blipFill>
          <a:blip r:embed="rId1"/>
          <a:stretch/>
        </p:blipFill>
        <p:spPr>
          <a:xfrm>
            <a:off x="7093080" y="5157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уравнение вида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а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х = в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(где х – переменная, а и в – некоторые числа) называется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линейным уравнение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с одной переменн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личительная особенность такого уравнения –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еременная 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ходи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уравнение обязательно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первой степ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ar12[1]"/>
          <p:cNvPicPr/>
          <p:nvPr/>
        </p:nvPicPr>
        <p:blipFill>
          <a:blip r:embed="rId1"/>
          <a:stretch/>
        </p:blipFill>
        <p:spPr>
          <a:xfrm>
            <a:off x="7093080" y="119700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8m5"/>
          <p:cNvPicPr/>
          <p:nvPr/>
        </p:nvPicPr>
        <p:blipFill>
          <a:blip r:embed="rId2"/>
          <a:stretch/>
        </p:blipFill>
        <p:spPr>
          <a:xfrm>
            <a:off x="1476360" y="2852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5508720" y="1197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численные уравнения являются линейными, так как имеют вид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3  х=7   (где а=3, в=7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-2 х=5 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0х=-3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)0х=0  (где а=?, в=?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линейные уравнения приводятся к виду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 помощью тождественных преобразо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835280" y="270828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6948360" y="2349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908000" y="314172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1835280" y="3645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1763640" y="400536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1332000" y="479736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5" name="Picture 15" descr="пёсик"/>
          <p:cNvPicPr/>
          <p:nvPr/>
        </p:nvPicPr>
        <p:blipFill>
          <a:blip r:embed="rId1"/>
          <a:stretch/>
        </p:blipFill>
        <p:spPr>
          <a:xfrm>
            <a:off x="6012000" y="5229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уравнении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3х-5)=х-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44364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716436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Picture 8" descr="33"/>
          <p:cNvPicPr/>
          <p:nvPr/>
        </p:nvPicPr>
        <p:blipFill>
          <a:blip r:embed="rId1"/>
          <a:stretch/>
        </p:blipFill>
        <p:spPr>
          <a:xfrm>
            <a:off x="6156360" y="544500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 решении уравнений не забудь следующие свой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2"/>
          <p:cNvPicPr/>
          <p:nvPr/>
        </p:nvPicPr>
        <p:blipFill>
          <a:blip r:embed="rId3"/>
          <a:stretch/>
        </p:blipFill>
        <p:spPr>
          <a:xfrm>
            <a:off x="-10800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3c6"/>
          <p:cNvPicPr/>
          <p:nvPr/>
        </p:nvPicPr>
        <p:blipFill>
          <a:blip r:embed="rId4"/>
          <a:stretch/>
        </p:blipFill>
        <p:spPr>
          <a:xfrm>
            <a:off x="6588000" y="501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численные уравнения не являются линейны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6х+7=0 (так как содержит переменную х во второй степен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(х-3)=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5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43r1"/>
          <p:cNvPicPr/>
          <p:nvPr/>
        </p:nvPicPr>
        <p:blipFill>
          <a:blip r:embed="rId1"/>
          <a:stretch/>
        </p:blipFill>
        <p:spPr>
          <a:xfrm>
            <a:off x="611280" y="83664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04:24Z</dcterms:created>
  <dc:creator>User</dc:creator>
  <dc:description/>
  <dc:language>en-US</dc:language>
  <cp:lastModifiedBy>LEGION</cp:lastModifiedBy>
  <dcterms:modified xsi:type="dcterms:W3CDTF">2015-01-26T12:32:59Z</dcterms:modified>
  <cp:revision>24</cp:revision>
  <dc:subject/>
  <dc:title>Линейные уравнения</dc:title>
</cp:coreProperties>
</file>