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5.gif" ContentType="image/gif"/>
  <Override PartName="/ppt/media/image4.gif" ContentType="image/gif"/>
  <Override PartName="/ppt/media/image3.gif" ContentType="image/gif"/>
  <Override PartName="/ppt/media/image2.gif" ContentType="image/gif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10.png" ContentType="image/png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.gif" ContentType="image/gif"/>
  <Override PartName="/ppt/media/image2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8B7A-183F-4EFD-B5B9-5786953E999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hyperlink" Target="file:///&#1058;&#1077;&#1089;&#1058;.EXE" TargetMode="External"/><Relationship Id="rId2" Type="http://schemas.openxmlformats.org/officeDocument/2006/relationships/slide" Target="../slides/slide16.xml"/><Relationship Id="rId3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hyperlink" Target="file:///&#1050;&#1085;&#1080;&#1075;&#1072;1,%20&#1082;%20&#1086;&#1090;&#1082;&#1088;&#1099;&#1090;&#1086;&#1084;&#1091;%20&#1091;&#1088;&#1086;&#1082;&#1091;.xls" TargetMode="External"/><Relationship Id="rId2" Type="http://schemas.openxmlformats.org/officeDocument/2006/relationships/slide" Target="../slides/slide17.xml"/><Relationship Id="rId3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" Target="../slides/slide8.xml"/><Relationship Id="rId4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yarsky"/>
              </a:rPr>
              <a:t>Линейные урав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yarsky"/>
              </a:rPr>
              <a:t>(Алгебра – 7 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2F39-5F37-4A52-8CBB-81B686AE797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Calibri"/>
              </a:rPr>
              <a:t>При решении уравнения вида </a:t>
            </a:r>
            <a:r>
              <a:rPr b="0" lang="ru-RU" sz="900" spc="-1" strike="noStrike" u="sng">
                <a:solidFill>
                  <a:srgbClr val="800080"/>
                </a:solidFill>
                <a:uFillTx/>
                <a:latin typeface="Calibri"/>
              </a:rPr>
              <a:t>ах = в</a:t>
            </a:r>
            <a:r>
              <a:rPr b="0" lang="ru-RU" sz="900" spc="-1" strike="noStrike">
                <a:solidFill>
                  <a:srgbClr val="0000ff"/>
                </a:solidFill>
                <a:latin typeface="Calibri"/>
              </a:rPr>
              <a:t> возможны следующие три случая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х=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2DD9-0E39-4460-ADAE-796C1788055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ример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им уравнение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2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(3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х-1)=4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(х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+3)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ведём это уравнение к стандартному виду. Раскроем скобки в обеих частях уравнения:2 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-2  1=4  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Слагаемые, зависящие от х, перенесём в левую часть уравнения; числа – в правую, изменяя их знаки на противоположные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х 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Приведём подобные слагаемы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х 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этом уравнении а=2 и в=1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Уравнение имеет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один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корень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3A14-DE92-4316-B327-DCBF6312D32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ример 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им уравнение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2(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3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х-1)=4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(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х+3)-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14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+2х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одим это уравнение к стандартному виду: 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2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 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х=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-14, или 0х=0 (где а=0, в=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видно, что при подстановке любого значения х получаем верное числовое равенство 0=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любое число является корнем этого уравнения (уравнение имеет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бесконечно много корн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F2C6-12BF-4592-8E9C-4028B0F8053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ример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им уравнение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2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(3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х-1)=4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(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х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+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3)+2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одим это уравнение к стандартному виду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 или 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-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+12 или 0х=14 (где а=0, в=1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видно, что при подстановке любого значения х получаем неверное числовое равенство 0=1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уравнение корней не име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9DE6-704E-4ACD-AFD6-DDE3ED29234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Реши сам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а)5х-7=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Ответ:х=?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б) 2(3х-1)+4=7х+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Ответ:х=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в)3х-(10+5х)=54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           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Ответ:х=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                       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г) 0,5(4-2х)=х-1,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                            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Ответ:х=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9695-D8EA-440E-848C-0006A706BE7A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=-2+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=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тв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: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х=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6х-2+4=7х+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х-7х=5+2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х=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=-3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твет:х=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3х-10-5х=5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2х=54+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2х=6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=64:(-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=-32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твет:х=-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2-х=х-1,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х-х=-1,8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2х=-3,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=1,9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Ответ: х=1,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EF67-BBAE-4C3F-85A6-C4D2862C432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Тестов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ь свои знания ответив на вопросы предложенные компьюте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6BDC-281D-4AF4-962F-D7C6C85724F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Самостоятельная рабо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и уравнения и компьютер оценит твою работ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C9A8-851E-47C6-9EB6-324C27C873B8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Не расстраивайся, если компьютер тебя не оценил. Вернись к слайду №4, попробуй начать всё сначала и у тебя обязательно всё получитс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155C-A4A4-4590-AF7D-CAB320C45008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Если ты прошёл тест, решил самостоятельную работу и учитель тебя похвалил, попробуй свои силы при решении следующих уравнени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D9E0-7013-476F-A44F-EFC9D27AD6E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Электронный  учеб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оставила: учитель математики-инфор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ерегулова И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   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МОУ «СОШ №1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       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2008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1AE2-FB14-4D4F-A5FD-4805FA343F8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Желаю удач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AE76-2F08-4DF2-81AE-E165A5E3F0F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Дорогой друг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Boyarsky"/>
              </a:rPr>
              <a:t>Твоему вниманию представлен электронный учебник, где ты можешь найти необходимые сведенья для решения линейных уравнений. Освоив способы решения, ты можешь проверить свои знания, решив тестовые задания и самостоятельную работу, после чего компьютер поставит тебе оцен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Boyarsky"/>
              </a:rPr>
              <a:t>          </a:t>
            </a:r>
            <a:r>
              <a:rPr b="0" lang="ru-RU" sz="1200" spc="-1" strike="noStrike">
                <a:solidFill>
                  <a:srgbClr val="800080"/>
                </a:solidFill>
                <a:latin typeface="Boyarsky"/>
              </a:rPr>
              <a:t>Желаю удач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A46F-BB87-485A-8372-BE0443BCE15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енство между двумя алгебраическими выражениями с одной переменной называют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уравнением с одной неизвестной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Корнем уравн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зывают значение переменной , при котором уравнение обращается в верное числовое равен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Решить уравн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значает найти все его корни или доказать, что корней 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авнения, которые имеют одни и те же корни, называются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равносильными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авнения, которые не имеют корней, также                             считаются равносиль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FC4C-724D-4E11-B3FA-0471D7622D4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Определение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уравнение вида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а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х = в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(где х – переменная, а и в – некоторые числа) называется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линейным уравнением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с одной переменно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тельная особенность такого уравнения –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еременная 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входи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уравнение обязательно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в первой степ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E2BB-3580-46A4-8112-19B2AE1C58DA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имер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енные уравнения являются линейными, так как имеют вид 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а х = 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3  х=7   (где а=3, в=7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-2 х=5  (где а=?, в=?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0х=-3 (где а=?, в=?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0х=0  (где а=?, в=?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линейные уравнения приводятся к виду 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а  х = 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помощью тождественных преобразо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4E3C-F6B1-4249-A11A-74117AAC6AD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ример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равнении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2(3х-5)=х-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еременная х входит в первой степени. Поэтому это уравнение является линейным. Приведём это уравнение к стандартному виду. В левой части раскроем скобки: 2 3х-2 5=х-3 или 6х-10=х-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несём слагаемые, содержащие х, в левую часть уравнения; числа – в правую. Приведём подобные слагаемые. Получаем: 6х-х=10-3 или 5х=7. Линейное уравнение имеет вид ах=в (где а=5, в=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0545-C483-4324-B2C3-8EEB0E5F49F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При решении уравнений не забудь следующие свойств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 уравнении перенести слагаемые из одной части в другую, изменив его знак, то получится уравнение, равносильное данном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обе части уравнения умножить или разделить на одно и то же отличное от нуля число, то получится уравнение равносильное данн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4416-6718-4686-AB2C-F3B4C0F9581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ример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енные уравнения не являются линейны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6х+7=0 (так как содержит переменную х во второй степен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5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3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(объясни са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(х-3)=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5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(объясни са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BA54-A010-4D06-B4EB-CD7801AFE804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7C2A-1FDC-4C92-9EA4-81AD3E6A4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0142-265C-46E9-B956-5507D08B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2E88-378E-409C-B512-9933B74E5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E438-C762-4578-9302-DC187E44F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6837-415A-40AE-81E7-99EF5A7B9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D1CBC-C3D2-482B-B32F-5FBADCD7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B3FCF-FE89-405B-AF3D-0AA4B280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3D09-D114-4FD2-9E72-BFE9B4AF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A903-8B73-4213-B97F-8EA587C2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E32E-7A4C-455F-8461-503A3FDB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57A4-B55C-47B0-9389-C49FEEE1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440E-2D8F-4EC6-A1C1-34A973FD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3BC6-FE52-4815-9362-11DB274E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0AFA-1467-4BE7-AA6E-859B967A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B16A2-CE3C-423B-ADF7-94C274E1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CE8A-1B2E-4F3D-B74A-CF5562CEC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56C6-2C92-4C53-9A5D-C6CDB59C7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B177-A226-49C2-B2FB-0A694ABE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FD98-9D28-4321-8A63-8EF010FA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2DFF-63EE-4D7E-B0BC-DB8DC129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BE8D-3F6D-4735-B6D6-FE173775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EC6E-CE4A-4F46-9FC1-C1B262B2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A292-A55C-4E6C-A4A7-72AFAC47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9B1C-3954-40E7-A9A0-F932D75E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30EC-727C-495D-B2F0-68EBB09C5C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8DC8-522A-484F-B69B-1D0275901E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1058;&#1077;&#1089;&#1058;.EXE" TargetMode="External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&#1050;&#1085;&#1080;&#1075;&#1072;1,%20&#1082;%20&#1086;&#1090;&#1082;&#1088;&#1099;&#1090;&#1086;&#1084;&#1091;%20&#1091;&#1088;&#1086;&#1082;&#1091;.xls" TargetMode="External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Boyarsky"/>
              </a:rPr>
              <a:t>Линейные уравн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yarsky"/>
              </a:rPr>
              <a:t>(Алгебра – 7 класс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4" descr="Выбери меня"/>
          <p:cNvPicPr/>
          <p:nvPr/>
        </p:nvPicPr>
        <p:blipFill>
          <a:blip r:embed="rId1"/>
          <a:stretch/>
        </p:blipFill>
        <p:spPr>
          <a:xfrm>
            <a:off x="7236000" y="404640"/>
            <a:ext cx="1523880" cy="152424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956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200"/>
                </a:solidFill>
                <a:latin typeface="Comic Sans MS"/>
              </a:rPr>
              <a:t>ах=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3276720" y="4221000"/>
            <a:ext cx="51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а = 0 –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дин корен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Line 9"/>
          <p:cNvSpPr/>
          <p:nvPr/>
        </p:nvSpPr>
        <p:spPr>
          <a:xfrm>
            <a:off x="2050920" y="3357720"/>
            <a:ext cx="158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3708360" y="314172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а = 0, в = 0 -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т корн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Line 11"/>
          <p:cNvSpPr/>
          <p:nvPr/>
        </p:nvSpPr>
        <p:spPr>
          <a:xfrm>
            <a:off x="1763640" y="3500280"/>
            <a:ext cx="15829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3132000" y="191628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а = 0, в = 0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множество корн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Line 13"/>
          <p:cNvSpPr/>
          <p:nvPr/>
        </p:nvSpPr>
        <p:spPr>
          <a:xfrm flipV="1">
            <a:off x="1692360" y="2349360"/>
            <a:ext cx="165564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14"/>
          <p:cNvSpPr/>
          <p:nvPr/>
        </p:nvSpPr>
        <p:spPr>
          <a:xfrm flipH="1">
            <a:off x="5076720" y="3213000"/>
            <a:ext cx="14472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Line 15"/>
          <p:cNvSpPr/>
          <p:nvPr/>
        </p:nvSpPr>
        <p:spPr>
          <a:xfrm flipH="1">
            <a:off x="3635280" y="4365720"/>
            <a:ext cx="216000" cy="2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Rectangle 17"/>
          <p:cNvSpPr/>
          <p:nvPr/>
        </p:nvSpPr>
        <p:spPr>
          <a:xfrm>
            <a:off x="826920" y="189000"/>
            <a:ext cx="676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200"/>
                </a:solidFill>
                <a:latin typeface="Comic Sans MS"/>
              </a:rPr>
              <a:t>При решении уравнения вида </a:t>
            </a:r>
            <a:r>
              <a:rPr b="0" lang="ru-RU" sz="3600" spc="-1" strike="noStrike" u="sng">
                <a:solidFill>
                  <a:srgbClr val="703dff"/>
                </a:solidFill>
                <a:uFillTx/>
                <a:latin typeface="Comic Sans MS"/>
              </a:rPr>
              <a:t>ах = в</a:t>
            </a:r>
            <a:r>
              <a:rPr b="0" lang="ru-RU" sz="3600" spc="-1" strike="noStrike">
                <a:solidFill>
                  <a:srgbClr val="00b200"/>
                </a:solidFill>
                <a:latin typeface="Comic Sans MS"/>
              </a:rPr>
              <a:t> возможны следующие три случая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Rectangle 18"/>
          <p:cNvSpPr/>
          <p:nvPr/>
        </p:nvSpPr>
        <p:spPr>
          <a:xfrm>
            <a:off x="6822360" y="429264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  =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23"/>
              <p:cNvSpPr txBox="1"/>
              <p:nvPr/>
            </p:nvSpPr>
            <p:spPr>
              <a:xfrm>
                <a:off x="7596360" y="3933720"/>
                <a:ext cx="51912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eqArr>
                      <m:e>
                        <m:f>
                          <m:num>
                            <m:r>
                              <m:t xml:space="preserve">а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060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Пример 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8207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им уравнение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2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(3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х-1)=4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(х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+3)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Приведём это уравнение к стандартному виду. Раскроем скобки в обеих частях уравнения:2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-2  1=4  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 ил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2. Слагаемые, зависящие от х, перенесём в левую часть уравнения; числа – в правую, изменяя их знаки на противоположные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х 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2. Приведём подобные слагаемые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х 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В этом уравнении а=2 и в=1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Уравнение имеет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один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корень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4"/>
              <p:cNvSpPr txBox="1"/>
              <p:nvPr/>
            </p:nvSpPr>
            <p:spPr>
              <a:xfrm>
                <a:off x="6443640" y="2637000"/>
                <a:ext cx="187200" cy="1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6"/>
              <p:cNvSpPr txBox="1"/>
              <p:nvPr/>
            </p:nvSpPr>
            <p:spPr>
              <a:xfrm>
                <a:off x="0" y="0"/>
                <a:ext cx="114480" cy="1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8"/>
              <p:cNvSpPr txBox="1"/>
              <p:nvPr/>
            </p:nvSpPr>
            <p:spPr>
              <a:xfrm>
                <a:off x="0" y="0"/>
                <a:ext cx="114480" cy="1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10"/>
              <p:cNvSpPr txBox="1"/>
              <p:nvPr/>
            </p:nvSpPr>
            <p:spPr>
              <a:xfrm>
                <a:off x="0" y="0"/>
                <a:ext cx="114480" cy="1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12"/>
              <p:cNvSpPr txBox="1"/>
              <p:nvPr/>
            </p:nvSpPr>
            <p:spPr>
              <a:xfrm>
                <a:off x="0" y="0"/>
                <a:ext cx="114480" cy="1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0" name="Rectangle 15"/>
          <p:cNvSpPr/>
          <p:nvPr/>
        </p:nvSpPr>
        <p:spPr>
          <a:xfrm>
            <a:off x="493236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16"/>
              <p:cNvSpPr txBox="1"/>
              <p:nvPr/>
            </p:nvSpPr>
            <p:spPr>
              <a:xfrm>
                <a:off x="7308720" y="2637000"/>
                <a:ext cx="187560" cy="1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17"/>
              <p:cNvSpPr txBox="1"/>
              <p:nvPr/>
            </p:nvSpPr>
            <p:spPr>
              <a:xfrm>
                <a:off x="5796000" y="2637000"/>
                <a:ext cx="187200" cy="1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18"/>
              <p:cNvSpPr txBox="1"/>
              <p:nvPr/>
            </p:nvSpPr>
            <p:spPr>
              <a:xfrm>
                <a:off x="4859280" y="2637000"/>
                <a:ext cx="187560" cy="1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20"/>
              <p:cNvSpPr txBox="1"/>
              <p:nvPr/>
            </p:nvSpPr>
            <p:spPr>
              <a:xfrm>
                <a:off x="4427640" y="4869000"/>
                <a:ext cx="3063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eqAr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19"/>
              <p:cNvSpPr txBox="1"/>
              <p:nvPr/>
            </p:nvSpPr>
            <p:spPr>
              <a:xfrm>
                <a:off x="0" y="65736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6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Rectangle 22"/>
          <p:cNvSpPr/>
          <p:nvPr/>
        </p:nvSpPr>
        <p:spPr>
          <a:xfrm>
            <a:off x="0" y="6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23"/>
              <p:cNvSpPr txBox="1"/>
              <p:nvPr/>
            </p:nvSpPr>
            <p:spPr>
              <a:xfrm>
                <a:off x="0" y="389268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9" name="Rectangle 26"/>
          <p:cNvSpPr/>
          <p:nvPr/>
        </p:nvSpPr>
        <p:spPr>
          <a:xfrm>
            <a:off x="4717440" y="4941360"/>
            <a:ext cx="621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0" name="Picture 27" descr="42r1"/>
          <p:cNvPicPr/>
          <p:nvPr/>
        </p:nvPicPr>
        <p:blipFill>
          <a:blip r:embed="rId1"/>
          <a:stretch/>
        </p:blipFill>
        <p:spPr>
          <a:xfrm>
            <a:off x="5435640" y="5157720"/>
            <a:ext cx="1571760" cy="100008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Пример 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им уравнени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2(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3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х-1)=4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(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х+3)-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14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+2х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водим это уравнение к стандартному виду: 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2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 ил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х=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2-14, или 0х=0 (где а=0, в=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чевидно, что при подстановке любого значения х получаем верное числовое равенство 0=0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этому любое число является корнем этого уравнения (уравнение имеет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бесконечно много корней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4" name="Picture 4" descr="46r3"/>
          <p:cNvPicPr/>
          <p:nvPr/>
        </p:nvPicPr>
        <p:blipFill>
          <a:blip r:embed="rId1"/>
          <a:stretch/>
        </p:blipFill>
        <p:spPr>
          <a:xfrm>
            <a:off x="6227640" y="515772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Пример 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им уравнение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2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(3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х-1)=4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(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х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+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3)+2х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водим это уравнение к стандартному виду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2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 или 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-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+12 или 0х=14 (где а=0, в=1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чевидно, что при подстановке любого значения х получаем неверное числовое равенство 0=14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этому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уравнение корней не имее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8" name="Picture 4" descr="17r2"/>
          <p:cNvPicPr/>
          <p:nvPr/>
        </p:nvPicPr>
        <p:blipFill>
          <a:blip r:embed="rId1"/>
          <a:stretch/>
        </p:blipFill>
        <p:spPr>
          <a:xfrm>
            <a:off x="5796000" y="508464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Реши сам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а)5х-7=-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Ответ:х=?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        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б) 2(3х-1)+4=7х+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        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Ответ:х=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                       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в)3х-(10+5х)=54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                      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Ответ:х=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                                        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г) 0,5(4-2х)=х-1,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                                       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Ответ:х=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2" name="Picture 5" descr="star54[1]"/>
          <p:cNvPicPr/>
          <p:nvPr/>
        </p:nvPicPr>
        <p:blipFill>
          <a:blip r:embed="rId1"/>
          <a:stretch/>
        </p:blipFill>
        <p:spPr>
          <a:xfrm>
            <a:off x="6732720" y="907920"/>
            <a:ext cx="863640" cy="7635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star54[1]"/>
          <p:cNvPicPr/>
          <p:nvPr/>
        </p:nvPicPr>
        <p:blipFill>
          <a:blip r:embed="rId2"/>
          <a:stretch/>
        </p:blipFill>
        <p:spPr>
          <a:xfrm>
            <a:off x="2987640" y="5516640"/>
            <a:ext cx="863640" cy="7635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star54[1]"/>
          <p:cNvPicPr/>
          <p:nvPr/>
        </p:nvPicPr>
        <p:blipFill>
          <a:blip r:embed="rId3"/>
          <a:stretch/>
        </p:blipFill>
        <p:spPr>
          <a:xfrm>
            <a:off x="1979640" y="620640"/>
            <a:ext cx="863640" cy="7635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" descr="star54[1]"/>
          <p:cNvPicPr/>
          <p:nvPr/>
        </p:nvPicPr>
        <p:blipFill>
          <a:blip r:embed="rId4"/>
          <a:stretch/>
        </p:blipFill>
        <p:spPr>
          <a:xfrm>
            <a:off x="7020000" y="2924280"/>
            <a:ext cx="863640" cy="7635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0" descr="star54[1]"/>
          <p:cNvPicPr/>
          <p:nvPr/>
        </p:nvPicPr>
        <p:blipFill>
          <a:blip r:embed="rId5"/>
          <a:stretch/>
        </p:blipFill>
        <p:spPr>
          <a:xfrm>
            <a:off x="7380360" y="5084640"/>
            <a:ext cx="863640" cy="7635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1" descr="star54[1]"/>
          <p:cNvPicPr/>
          <p:nvPr/>
        </p:nvPicPr>
        <p:blipFill>
          <a:blip r:embed="rId6"/>
          <a:stretch/>
        </p:blipFill>
        <p:spPr>
          <a:xfrm>
            <a:off x="684360" y="3933720"/>
            <a:ext cx="863280" cy="76356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51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764640"/>
            <a:ext cx="76960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x=-2+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x=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1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Отве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т:</a:t>
            </a: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х=1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) 6х-2+4=7х+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6х-7х=5+2-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х=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=-3 </a:t>
            </a: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Ответ:х=-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)3х-10-5х=5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2х=54+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2х=6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=64:(-2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=-32  </a:t>
            </a: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Ответ:х=-3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) 2-х=х-1,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х-х=-1,8-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2х=-3,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=1,9</a:t>
            </a: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   Ответ: х=1,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Тестовая рабо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0920" y="3573360"/>
            <a:ext cx="8424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верь свои знания ответив на вопросы предложенные компьютер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4" name="Picture 4" descr="14m4"/>
          <p:cNvPicPr/>
          <p:nvPr/>
        </p:nvPicPr>
        <p:blipFill>
          <a:blip r:embed="rId2"/>
          <a:stretch/>
        </p:blipFill>
        <p:spPr>
          <a:xfrm>
            <a:off x="324000" y="765000"/>
            <a:ext cx="1800000" cy="140364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Самостоятельная рабо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8920" y="234936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и уравнения и компьютер оценит твою работ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8" name="Picture 4" descr="255"/>
          <p:cNvPicPr/>
          <p:nvPr/>
        </p:nvPicPr>
        <p:blipFill>
          <a:blip r:embed="rId2"/>
          <a:stretch/>
        </p:blipFill>
        <p:spPr>
          <a:xfrm>
            <a:off x="5435640" y="3716280"/>
            <a:ext cx="1123920" cy="13813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star3[1]"/>
          <p:cNvPicPr/>
          <p:nvPr/>
        </p:nvPicPr>
        <p:blipFill>
          <a:blip r:embed="rId3"/>
          <a:stretch/>
        </p:blipFill>
        <p:spPr>
          <a:xfrm rot="19750200">
            <a:off x="539640" y="691920"/>
            <a:ext cx="1224000" cy="86508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71280" y="1197000"/>
            <a:ext cx="6870600" cy="38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Не расстраивайся, если компьютер тебя не оценил. Вернись к слайду №4, попробуй начать всё сначала и у тебя обязательно всё получится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2" name="Picture 6" descr="people1[1]"/>
          <p:cNvPicPr/>
          <p:nvPr/>
        </p:nvPicPr>
        <p:blipFill>
          <a:blip r:embed="rId1"/>
          <a:stretch/>
        </p:blipFill>
        <p:spPr>
          <a:xfrm>
            <a:off x="395280" y="189000"/>
            <a:ext cx="1352520" cy="15127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f72[1]"/>
          <p:cNvPicPr/>
          <p:nvPr/>
        </p:nvPicPr>
        <p:blipFill>
          <a:blip r:embed="rId2"/>
          <a:stretch/>
        </p:blipFill>
        <p:spPr>
          <a:xfrm>
            <a:off x="6877080" y="4941720"/>
            <a:ext cx="1224000" cy="1162080"/>
          </a:xfrm>
          <a:prstGeom prst="rect">
            <a:avLst/>
          </a:prstGeom>
          <a:ln w="0">
            <a:noFill/>
          </a:ln>
        </p:spPr>
      </p:pic>
      <p:sp>
        <p:nvSpPr>
          <p:cNvPr id="28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15640" y="476280"/>
            <a:ext cx="67690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uk-UA" sz="4400" spc="-1" strike="noStrike">
              <a:solidFill>
                <a:srgbClr val="00b2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569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Если ты прошёл тест, решил самостоятельную работу и учитель тебя похвалил, попробуй свои силы при решении следующих уравнений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1555920" y="3087360"/>
            <a:ext cx="6040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1. Реши уравнение: </a:t>
            </a:r>
            <a:r>
              <a:rPr b="1" lang="ru-RU" sz="2000" spc="-1" strike="noStrike">
                <a:solidFill>
                  <a:srgbClr val="00b200"/>
                </a:solidFill>
                <a:latin typeface="Comic Sans MS"/>
              </a:rPr>
              <a:t>|3х + 8|=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2. Найди значение параметра а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и котором уравнение </a:t>
            </a:r>
            <a:r>
              <a:rPr b="1" lang="ru-RU" sz="2000" spc="-1" strike="noStrike">
                <a:solidFill>
                  <a:srgbClr val="00b200"/>
                </a:solidFill>
                <a:latin typeface="Comic Sans MS"/>
              </a:rPr>
              <a:t>(3а + 1) х = 2а+6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меет корень х=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3059280" y="4941720"/>
            <a:ext cx="45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Text Box 6"/>
          <p:cNvSpPr/>
          <p:nvPr/>
        </p:nvSpPr>
        <p:spPr>
          <a:xfrm rot="20629200">
            <a:off x="4081680" y="515268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b200"/>
                </a:solidFill>
                <a:latin typeface="Comic Sans MS"/>
              </a:rPr>
              <a:t>Удачи тебе</a:t>
            </a:r>
            <a:r>
              <a:rPr b="0" i="1" lang="ru-RU" sz="3200" spc="-1" strike="noStrike">
                <a:solidFill>
                  <a:srgbClr val="00b20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Электронный  учебни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Составила: учитель математики-информатик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                  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Терегулова И.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                    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МОУ «СОШ №1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     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                        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2008 год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4" descr="35"/>
          <p:cNvPicPr/>
          <p:nvPr/>
        </p:nvPicPr>
        <p:blipFill>
          <a:blip r:embed="rId1"/>
          <a:stretch/>
        </p:blipFill>
        <p:spPr>
          <a:xfrm>
            <a:off x="4067280" y="1773360"/>
            <a:ext cx="1511280" cy="130968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WordArt 4"/>
          <p:cNvSpPr txBox="1"/>
          <p:nvPr/>
        </p:nvSpPr>
        <p:spPr>
          <a:xfrm rot="20243400">
            <a:off x="1560240" y="1696680"/>
            <a:ext cx="5976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елаю удачи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92" name="Picture 6" descr="dis2[1]"/>
          <p:cNvPicPr/>
          <p:nvPr/>
        </p:nvPicPr>
        <p:blipFill>
          <a:blip r:embed="rId1"/>
          <a:stretch/>
        </p:blipFill>
        <p:spPr>
          <a:xfrm>
            <a:off x="539640" y="692280"/>
            <a:ext cx="1224000" cy="15127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newy25"/>
          <p:cNvPicPr/>
          <p:nvPr/>
        </p:nvPicPr>
        <p:blipFill>
          <a:blip r:embed="rId2"/>
          <a:stretch/>
        </p:blipFill>
        <p:spPr>
          <a:xfrm>
            <a:off x="6588000" y="4005360"/>
            <a:ext cx="1349640" cy="1655640"/>
          </a:xfrm>
          <a:prstGeom prst="rect">
            <a:avLst/>
          </a:prstGeom>
          <a:ln w="0">
            <a:noFill/>
          </a:ln>
        </p:spPr>
      </p:pic>
      <p:sp>
        <p:nvSpPr>
          <p:cNvPr id="29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000" y="-800280"/>
            <a:ext cx="6870600" cy="16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Дорогой друг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7704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Boyarsky"/>
              </a:rPr>
              <a:t>Твоему вниманию представлен электронный учебник, где ты можешь найти необходимые сведенья для решения линейных уравнений. Освоив способы решения, ты можешь проверить свои знания, решив тестовые задания и самостоятельную работу, после чего компьютер поставит тебе оценку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Boyarsky"/>
              </a:rPr>
              <a:t>          </a:t>
            </a:r>
            <a:r>
              <a:rPr b="0" lang="ru-RU" sz="2800" spc="-1" strike="noStrike">
                <a:solidFill>
                  <a:srgbClr val="703dff"/>
                </a:solidFill>
                <a:latin typeface="Boyarsky"/>
              </a:rPr>
              <a:t>Желаю удачи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4" descr="people12[1]"/>
          <p:cNvPicPr/>
          <p:nvPr/>
        </p:nvPicPr>
        <p:blipFill>
          <a:blip r:embed="rId1"/>
          <a:stretch/>
        </p:blipFill>
        <p:spPr>
          <a:xfrm>
            <a:off x="7380360" y="4724280"/>
            <a:ext cx="936720" cy="14796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teddy37"/>
          <p:cNvPicPr/>
          <p:nvPr/>
        </p:nvPicPr>
        <p:blipFill>
          <a:blip r:embed="rId2"/>
          <a:stretch/>
        </p:blipFill>
        <p:spPr>
          <a:xfrm>
            <a:off x="395280" y="404640"/>
            <a:ext cx="581040" cy="70488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венство между двумя алгебраическими выражениями с одной переменной называют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уравнением с одной неизвестной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7986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Корнем уравнения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называют значение переменной , при котором уравнение обращается в верное числовое равенств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Решить уравнени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означает найти все его корни или доказать, что корней не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равнения, которые имеют одни и те же корни, называются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равносильными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равнения, которые не имеют корней, также                             считаются равносильны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763640" y="18900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Основные понятия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5" descr="17r1"/>
          <p:cNvPicPr/>
          <p:nvPr/>
        </p:nvPicPr>
        <p:blipFill>
          <a:blip r:embed="rId1"/>
          <a:stretch/>
        </p:blipFill>
        <p:spPr>
          <a:xfrm>
            <a:off x="7093080" y="5157720"/>
            <a:ext cx="952200" cy="95256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Определение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уравнение вида </a:t>
            </a:r>
            <a:r>
              <a:rPr b="0" lang="ru-RU" sz="2400" spc="-1" strike="noStrike" u="sng">
                <a:solidFill>
                  <a:srgbClr val="00b200"/>
                </a:solidFill>
                <a:uFillTx/>
                <a:latin typeface="Comic Sans MS"/>
              </a:rPr>
              <a:t>а  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00b200"/>
                </a:solidFill>
                <a:uFillTx/>
                <a:latin typeface="Comic Sans MS"/>
              </a:rPr>
              <a:t>х = в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(где х – переменная, а и в – некоторые числа) называется </a:t>
            </a:r>
            <a:r>
              <a:rPr b="0" lang="ru-RU" sz="2400" spc="-1" strike="noStrike" u="sng">
                <a:solidFill>
                  <a:srgbClr val="00b200"/>
                </a:solidFill>
                <a:uFillTx/>
                <a:latin typeface="Comic Sans MS"/>
              </a:rPr>
              <a:t>линейным уравнением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с одной переменно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3200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личительная особенность такого уравнения – 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переменная х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входит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в уравнение обязательно 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в первой степен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4" descr="ar12[1]"/>
          <p:cNvPicPr/>
          <p:nvPr/>
        </p:nvPicPr>
        <p:blipFill>
          <a:blip r:embed="rId1"/>
          <a:stretch/>
        </p:blipFill>
        <p:spPr>
          <a:xfrm>
            <a:off x="7093080" y="1197000"/>
            <a:ext cx="1295280" cy="68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18m5"/>
          <p:cNvPicPr/>
          <p:nvPr/>
        </p:nvPicPr>
        <p:blipFill>
          <a:blip r:embed="rId2"/>
          <a:stretch/>
        </p:blipFill>
        <p:spPr>
          <a:xfrm>
            <a:off x="1476360" y="2852640"/>
            <a:ext cx="1371600" cy="133344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8"/>
              <p:cNvSpPr txBox="1"/>
              <p:nvPr/>
            </p:nvSpPr>
            <p:spPr>
              <a:xfrm>
                <a:off x="5508720" y="1197000"/>
                <a:ext cx="11412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200"/>
                </a:solidFill>
                <a:latin typeface="Comic Sans MS"/>
              </a:rPr>
              <a:t>Пример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9898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еречисленные уравнения являются линейными, так как имеют вид  </a:t>
            </a:r>
            <a:r>
              <a:rPr b="0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а х = в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) 3  х=7   (где а=3, в=7)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) -2 х=5  (где а=?, в=?)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) 0х=-3 (где а=?, в=?)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)0х=0  (где а=?, в=?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се линейные уравнения приводятся к виду  </a:t>
            </a:r>
            <a:r>
              <a:rPr b="0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а  х = в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с помощью тождественных преобразован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17928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5"/>
              <p:cNvSpPr txBox="1"/>
              <p:nvPr/>
            </p:nvSpPr>
            <p:spPr>
              <a:xfrm>
                <a:off x="1835280" y="2708280"/>
                <a:ext cx="11412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8"/>
              <p:cNvSpPr txBox="1"/>
              <p:nvPr/>
            </p:nvSpPr>
            <p:spPr>
              <a:xfrm>
                <a:off x="6948360" y="2349360"/>
                <a:ext cx="114480" cy="1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10"/>
              <p:cNvSpPr txBox="1"/>
              <p:nvPr/>
            </p:nvSpPr>
            <p:spPr>
              <a:xfrm>
                <a:off x="1908000" y="3141720"/>
                <a:ext cx="11448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12"/>
              <p:cNvSpPr txBox="1"/>
              <p:nvPr/>
            </p:nvSpPr>
            <p:spPr>
              <a:xfrm>
                <a:off x="1835280" y="3645000"/>
                <a:ext cx="11412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13"/>
              <p:cNvSpPr txBox="1"/>
              <p:nvPr/>
            </p:nvSpPr>
            <p:spPr>
              <a:xfrm>
                <a:off x="1763640" y="4005360"/>
                <a:ext cx="11448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14"/>
              <p:cNvSpPr txBox="1"/>
              <p:nvPr/>
            </p:nvSpPr>
            <p:spPr>
              <a:xfrm>
                <a:off x="1332000" y="4797360"/>
                <a:ext cx="114120" cy="1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95" name="Picture 15" descr="пёсик"/>
          <p:cNvPicPr/>
          <p:nvPr/>
        </p:nvPicPr>
        <p:blipFill>
          <a:blip r:embed="rId1"/>
          <a:stretch/>
        </p:blipFill>
        <p:spPr>
          <a:xfrm>
            <a:off x="6012000" y="522936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Пример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425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уравнении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2(3х-5)=х-3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переменная х входит в первой степени. Поэтому это уравнение является линейным. Приведём это уравнение к стандартному виду. В левой части раскроем скобки: 2 3х-2 5=х-3 или 6х-10=х-3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еренесём слагаемые, содержащие х, в левую часть уравнения; числа – в правую. Приведём подобные слагаемые. Получаем: 6х-х=10-3 или 5х=7. Линейное уравнение имеет вид ах=в (где а=5, в=7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4"/>
              <p:cNvSpPr txBox="1"/>
              <p:nvPr/>
            </p:nvSpPr>
            <p:spPr>
              <a:xfrm>
                <a:off x="6443640" y="3068640"/>
                <a:ext cx="11448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6"/>
              <p:cNvSpPr txBox="1"/>
              <p:nvPr/>
            </p:nvSpPr>
            <p:spPr>
              <a:xfrm>
                <a:off x="7164360" y="3068640"/>
                <a:ext cx="11448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03" name="Picture 8" descr="33"/>
          <p:cNvPicPr/>
          <p:nvPr/>
        </p:nvPicPr>
        <p:blipFill>
          <a:blip r:embed="rId1"/>
          <a:stretch/>
        </p:blipFill>
        <p:spPr>
          <a:xfrm>
            <a:off x="6156360" y="5445000"/>
            <a:ext cx="1066680" cy="100008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При решении уравнений не забудь следующие свойства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62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сли в уравнении перенести слагаемые из одной части в другую, изменив его знак, то получится уравнение, равносильное данному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сли обе части уравнения умножить или разделить на одно и то же отличное от нуля число, то получится уравнение равносильное данном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4" descr="2"/>
          <p:cNvPicPr/>
          <p:nvPr/>
        </p:nvPicPr>
        <p:blipFill>
          <a:blip r:embed="rId3"/>
          <a:stretch/>
        </p:blipFill>
        <p:spPr>
          <a:xfrm>
            <a:off x="-108000" y="0"/>
            <a:ext cx="1495440" cy="1781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3c6"/>
          <p:cNvPicPr/>
          <p:nvPr/>
        </p:nvPicPr>
        <p:blipFill>
          <a:blip r:embed="rId4"/>
          <a:stretch/>
        </p:blipFill>
        <p:spPr>
          <a:xfrm>
            <a:off x="6588000" y="5013360"/>
            <a:ext cx="1428840" cy="143820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4000" y="-3164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Пример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4360" y="2637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еречисленные уравнения не являются линейными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+6х+7=0 (так как содержит переменную х во второй степени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5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= 3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(объясни сам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(х-3)=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mic Sans MS"/>
              </a:rPr>
              <a:t>5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(объясни сам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Picture 4" descr="43r1"/>
          <p:cNvPicPr/>
          <p:nvPr/>
        </p:nvPicPr>
        <p:blipFill>
          <a:blip r:embed="rId1"/>
          <a:stretch/>
        </p:blipFill>
        <p:spPr>
          <a:xfrm>
            <a:off x="611280" y="836640"/>
            <a:ext cx="1495440" cy="166680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4:04:24Z</dcterms:created>
  <dc:creator>User</dc:creator>
  <dc:description/>
  <dc:language>en-US</dc:language>
  <cp:lastModifiedBy>LEGION</cp:lastModifiedBy>
  <dcterms:modified xsi:type="dcterms:W3CDTF">2015-01-26T12:32:59Z</dcterms:modified>
  <cp:revision>24</cp:revision>
  <dc:subject/>
  <dc:title>Линейные уравнения</dc:title>
</cp:coreProperties>
</file>