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0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3A5A-F23C-4FE8-BBD5-A2DFEAFA35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Линейные урав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1CBD-2AA2-4152-ACB8-B13EBC63E45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При решении уравнения вида </a:t>
            </a:r>
            <a:r>
              <a:rPr b="0" lang="ru-RU" sz="900" spc="-1" strike="noStrike" u="sng">
                <a:solidFill>
                  <a:srgbClr val="800080"/>
                </a:solidFill>
                <a:uFillTx/>
                <a:latin typeface="Calibri"/>
              </a:rPr>
              <a:t>ах = в</a:t>
            </a: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 возможны следующие три случая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х=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A5C0-47AC-43FA-B849-A983AB8AAD6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3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  1=4  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едём подобные слагаемы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этом уравнении а=2 и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дин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ень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C691-4165-4BD9-85B8-8177C36FA33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+3)-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1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2х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=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-14, или 0х=0 (где а=0, в=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верное числовое равенство 0=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любое число является корнем этого уравнения (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бесконечно много кор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9FDC-2820-4A2A-B62A-A05CEBC6399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)+2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12 или 0х=14 (где а=0,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 корней не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FC7D-6569-4464-8DE4-BB064D59672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еши сам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)5х-7=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) 2(3х-1)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)3х-(10+5х)=54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) 0,5(4-2х)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AF83-EEDB-47DF-A763-7016B99400E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-2+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6х-2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х-7х=5+2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3х-10-5х=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54+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64:(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2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2-х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-х=-1,8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-3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1,9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Ответ: х=1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4538-D176-4E8D-9FF2-280178F73DF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 ответив на вопросы предложенные компью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4FB5-6E31-451A-BCD2-D752EEB958C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0AA5-5972-4533-9462-7D2D633F9E6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CE19-0206-4780-9462-AFCF0FD214A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CDE6-DFC6-451B-B6A3-39A36D37B40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лектронный 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ла: учитель математики-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ерегул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«СОШ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008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8629-A072-43A7-BBE0-C014F654FA4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8230-BB5A-4F7E-B59D-1483CE2745A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орогой друг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          </a:t>
            </a: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CD6-8D4A-4F01-94E6-8AE7C5EEEDF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м с одной неизвестной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нем урав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ешить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найти все его корни или доказать, что корне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имеют одни и те же корни, называются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авносильными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не имеют корней, также                             считаются равно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B366-EBDF-4366-800D-46D8A56B707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пределе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равнение вид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а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х = в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(где х – переменная, а и в – некоторые числа) называетс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линейным уравнением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 одной переменн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ая особенность такого уравнен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еременная 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ход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уравнение обязательно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первой степ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243D-18FE-4A38-A241-CB96BA1426E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являются линейными, так как имеют вид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3  х=7   (где а=3, в=7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-2 х=5 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0х=-3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0х=0  (где а=?, в=?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нейные уравнения приводятся к виду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тождественных преобраз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E53A-B6CC-4EF6-855E-9C52F531A1A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равнении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3х-5)=х-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D02D-BAEC-4040-AC1A-8A025552F23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и решении уравнений не забудь следующие свойст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648D-8DB2-43E4-B388-3CE39131E98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не являются линей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х+7=0 (так как содержит переменную х во второй сте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5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(х-3)=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5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95E1-C679-437D-8E67-71394B0AB90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66F-8253-4687-BCD3-AB5C0B7E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81E-5BB7-4FA4-A995-A97DE967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45D-B2AB-4F29-951B-59592D07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D99-0209-4731-A5A1-7013B876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960D-2FAF-48AD-98D5-3D9A26F9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4C6E-B9EE-416D-BFA5-46858740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6BEF-66AC-4AF2-AD8E-0F0CD7AC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92E1-789F-4872-B302-65ABE6E1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5EC9-E5D7-4362-8051-157A3100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EE56-397A-4832-924E-13B20984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A5C8-DC98-4A2C-96A9-79EA81D6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073-764F-4103-A820-4F96EF14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5A7B-33BE-4885-8E24-7D8A5F88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9FBB-A092-43D3-B35E-62B9EEFF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DCB3-076A-44BA-9494-782FCC02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F2C1-70F5-4AE0-9EBB-1BFAF836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F324-1022-4598-AFEE-6532D9B5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B2F-A1ED-4F4E-B3BE-CF29DB9E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07C-D58F-4CDD-9184-03B71893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49E-46C3-4AA5-BD33-2AE63055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E92-52B7-404A-9BB1-C9916109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1A7-3973-4290-AD2A-5FD2339C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629-DBB8-478B-B94A-9A4E398D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935-EBCE-4FFC-B01B-B53A1B45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F119-E0A9-4D46-A57A-2830CDBC81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0FD3-1D6B-4850-90D4-E98D4D6160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yarsky"/>
              </a:rPr>
              <a:t>Линейны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Выбери меня"/>
          <p:cNvPicPr/>
          <p:nvPr/>
        </p:nvPicPr>
        <p:blipFill>
          <a:blip r:embed="rId1"/>
          <a:stretch/>
        </p:blipFill>
        <p:spPr>
          <a:xfrm>
            <a:off x="7236000" y="40464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ах=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76720" y="4221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кор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2050920" y="335772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708360" y="3141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 -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1763640" y="3500280"/>
            <a:ext cx="158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132000" y="1916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ножество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 flipV="1">
            <a:off x="1692360" y="2349360"/>
            <a:ext cx="1655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5076720" y="3213000"/>
            <a:ext cx="14472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5"/>
          <p:cNvSpPr/>
          <p:nvPr/>
        </p:nvSpPr>
        <p:spPr>
          <a:xfrm flipH="1">
            <a:off x="3635280" y="4365720"/>
            <a:ext cx="21600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826920" y="18900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При решении уравнения вида </a:t>
            </a:r>
            <a:r>
              <a:rPr b="0" lang="ru-RU" sz="3600" spc="-1" strike="noStrike" u="sng">
                <a:solidFill>
                  <a:srgbClr val="703dff"/>
                </a:solidFill>
                <a:uFillTx/>
                <a:latin typeface="Comic Sans MS"/>
              </a:rPr>
              <a:t>ах = в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 возможны следующие три случа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6822360" y="42926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7596360" y="3933720"/>
                <a:ext cx="5191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eqArr>
                      <m:e>
                        <m:f>
                          <m:num>
                            <m:r>
                              <m:t xml:space="preserve">а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3)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  1=4  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Приведём подобные слагаемые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 этом уравнении а=2 и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ди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ень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44364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0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2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Rectangle 15"/>
          <p:cNvSpPr/>
          <p:nvPr/>
        </p:nvSpPr>
        <p:spPr>
          <a:xfrm>
            <a:off x="4932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"/>
              <p:cNvSpPr txBox="1"/>
              <p:nvPr/>
            </p:nvSpPr>
            <p:spPr>
              <a:xfrm>
                <a:off x="730872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7"/>
              <p:cNvSpPr txBox="1"/>
              <p:nvPr/>
            </p:nvSpPr>
            <p:spPr>
              <a:xfrm>
                <a:off x="579600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8"/>
              <p:cNvSpPr txBox="1"/>
              <p:nvPr/>
            </p:nvSpPr>
            <p:spPr>
              <a:xfrm>
                <a:off x="485928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0"/>
              <p:cNvSpPr txBox="1"/>
              <p:nvPr/>
            </p:nvSpPr>
            <p:spPr>
              <a:xfrm>
                <a:off x="4427640" y="4869000"/>
                <a:ext cx="30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9"/>
              <p:cNvSpPr txBox="1"/>
              <p:nvPr/>
            </p:nvSpPr>
            <p:spPr>
              <a:xfrm>
                <a:off x="0" y="6573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3"/>
              <p:cNvSpPr txBox="1"/>
              <p:nvPr/>
            </p:nvSpPr>
            <p:spPr>
              <a:xfrm>
                <a:off x="0" y="38926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Rectangle 26"/>
          <p:cNvSpPr/>
          <p:nvPr/>
        </p:nvSpPr>
        <p:spPr>
          <a:xfrm>
            <a:off x="4717440" y="4941360"/>
            <a:ext cx="62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27" descr="42r1"/>
          <p:cNvPicPr/>
          <p:nvPr/>
        </p:nvPicPr>
        <p:blipFill>
          <a:blip r:embed="rId1"/>
          <a:stretch/>
        </p:blipFill>
        <p:spPr>
          <a:xfrm>
            <a:off x="5435640" y="5157720"/>
            <a:ext cx="157176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+3)-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1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2х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=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-14, или 0х=0 (где а=0, в=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верное числовое равенство 0=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любое число является корнем этого уравнения (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бесконечно много корне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4" descr="46r3"/>
          <p:cNvPicPr/>
          <p:nvPr/>
        </p:nvPicPr>
        <p:blipFill>
          <a:blip r:embed="rId1"/>
          <a:stretch/>
        </p:blipFill>
        <p:spPr>
          <a:xfrm>
            <a:off x="6227640" y="5157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)+2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12 или 0х=14 (где а=0,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 корней не име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4" descr="17r2"/>
          <p:cNvPicPr/>
          <p:nvPr/>
        </p:nvPicPr>
        <p:blipFill>
          <a:blip r:embed="rId1"/>
          <a:stretch/>
        </p:blipFill>
        <p:spPr>
          <a:xfrm>
            <a:off x="5796000" y="50846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Реши сам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а)5х-7=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б) 2(3х-1)+4=7х+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)3х-(10+5х)=54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) 0,5(4-2х)=х-1,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5" descr="star54[1]"/>
          <p:cNvPicPr/>
          <p:nvPr/>
        </p:nvPicPr>
        <p:blipFill>
          <a:blip r:embed="rId1"/>
          <a:stretch/>
        </p:blipFill>
        <p:spPr>
          <a:xfrm>
            <a:off x="6732720" y="90792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star54[1]"/>
          <p:cNvPicPr/>
          <p:nvPr/>
        </p:nvPicPr>
        <p:blipFill>
          <a:blip r:embed="rId2"/>
          <a:stretch/>
        </p:blipFill>
        <p:spPr>
          <a:xfrm>
            <a:off x="2987640" y="5516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star54[1]"/>
          <p:cNvPicPr/>
          <p:nvPr/>
        </p:nvPicPr>
        <p:blipFill>
          <a:blip r:embed="rId3"/>
          <a:stretch/>
        </p:blipFill>
        <p:spPr>
          <a:xfrm>
            <a:off x="1979640" y="620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tar54[1]"/>
          <p:cNvPicPr/>
          <p:nvPr/>
        </p:nvPicPr>
        <p:blipFill>
          <a:blip r:embed="rId4"/>
          <a:stretch/>
        </p:blipFill>
        <p:spPr>
          <a:xfrm>
            <a:off x="7020000" y="292428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star54[1]"/>
          <p:cNvPicPr/>
          <p:nvPr/>
        </p:nvPicPr>
        <p:blipFill>
          <a:blip r:embed="rId5"/>
          <a:stretch/>
        </p:blipFill>
        <p:spPr>
          <a:xfrm>
            <a:off x="7380360" y="5084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star54[1]"/>
          <p:cNvPicPr/>
          <p:nvPr/>
        </p:nvPicPr>
        <p:blipFill>
          <a:blip r:embed="rId6"/>
          <a:stretch/>
        </p:blipFill>
        <p:spPr>
          <a:xfrm>
            <a:off x="684360" y="3933720"/>
            <a:ext cx="863280" cy="763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-2+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: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х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6х-2+4=7х+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х-7х=5+2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=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3х-10-5х=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54+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6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64:(-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2 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) 2-х=х-1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-х=-1,8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-3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1,9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Ответ: х=1,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357336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ь свои знания ответив на вопросы предложенные компьютер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14m4"/>
          <p:cNvPicPr/>
          <p:nvPr/>
        </p:nvPicPr>
        <p:blipFill>
          <a:blip r:embed="rId2"/>
          <a:stretch/>
        </p:blipFill>
        <p:spPr>
          <a:xfrm>
            <a:off x="324000" y="765000"/>
            <a:ext cx="1800000" cy="1403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8920" y="2349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4" descr="255"/>
          <p:cNvPicPr/>
          <p:nvPr/>
        </p:nvPicPr>
        <p:blipFill>
          <a:blip r:embed="rId2"/>
          <a:stretch/>
        </p:blipFill>
        <p:spPr>
          <a:xfrm>
            <a:off x="5435640" y="3716280"/>
            <a:ext cx="1123920" cy="1381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ar3[1]"/>
          <p:cNvPicPr/>
          <p:nvPr/>
        </p:nvPicPr>
        <p:blipFill>
          <a:blip r:embed="rId3"/>
          <a:stretch/>
        </p:blipFill>
        <p:spPr>
          <a:xfrm rot="19750200">
            <a:off x="539640" y="691920"/>
            <a:ext cx="1224000" cy="8650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6870600" cy="38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6" descr="people1[1]"/>
          <p:cNvPicPr/>
          <p:nvPr/>
        </p:nvPicPr>
        <p:blipFill>
          <a:blip r:embed="rId1"/>
          <a:stretch/>
        </p:blipFill>
        <p:spPr>
          <a:xfrm>
            <a:off x="395280" y="189000"/>
            <a:ext cx="1352520" cy="151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f72[1]"/>
          <p:cNvPicPr/>
          <p:nvPr/>
        </p:nvPicPr>
        <p:blipFill>
          <a:blip r:embed="rId2"/>
          <a:stretch/>
        </p:blipFill>
        <p:spPr>
          <a:xfrm>
            <a:off x="6877080" y="4941720"/>
            <a:ext cx="1224000" cy="1162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555920" y="3087360"/>
            <a:ext cx="6040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 Реши уравнение: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|3х + 8|=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Найди значение параметра 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 котором уравнение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(3а + 1) х = 2а+6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еет корень х=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059280" y="4941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6"/>
          <p:cNvSpPr/>
          <p:nvPr/>
        </p:nvSpPr>
        <p:spPr>
          <a:xfrm rot="20629200">
            <a:off x="4081680" y="51526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200"/>
                </a:solidFill>
                <a:latin typeface="Comic Sans MS"/>
              </a:rPr>
              <a:t>Удачи тебе</a:t>
            </a:r>
            <a:r>
              <a:rPr b="0" i="1" lang="ru-RU" sz="3200" spc="-1" strike="noStrike">
                <a:solidFill>
                  <a:srgbClr val="00b2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лектронный  учеб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Составила: учитель математики-информат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ерегулова И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МОУ «СОШ №1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008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35"/>
          <p:cNvPicPr/>
          <p:nvPr/>
        </p:nvPicPr>
        <p:blipFill>
          <a:blip r:embed="rId1"/>
          <a:stretch/>
        </p:blipFill>
        <p:spPr>
          <a:xfrm>
            <a:off x="4067280" y="1773360"/>
            <a:ext cx="1511280" cy="13096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4"/>
          <p:cNvSpPr txBox="1"/>
          <p:nvPr/>
        </p:nvSpPr>
        <p:spPr>
          <a:xfrm rot="20243400">
            <a:off x="1560240" y="1696680"/>
            <a:ext cx="597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удач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2" name="Picture 6" descr="dis2[1]"/>
          <p:cNvPicPr/>
          <p:nvPr/>
        </p:nvPicPr>
        <p:blipFill>
          <a:blip r:embed="rId1"/>
          <a:stretch/>
        </p:blipFill>
        <p:spPr>
          <a:xfrm>
            <a:off x="539640" y="69228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newy25"/>
          <p:cNvPicPr/>
          <p:nvPr/>
        </p:nvPicPr>
        <p:blipFill>
          <a:blip r:embed="rId2"/>
          <a:stretch/>
        </p:blipFill>
        <p:spPr>
          <a:xfrm>
            <a:off x="6588000" y="4005360"/>
            <a:ext cx="1349640" cy="16556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70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          </a:t>
            </a: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people12[1]"/>
          <p:cNvPicPr/>
          <p:nvPr/>
        </p:nvPicPr>
        <p:blipFill>
          <a:blip r:embed="rId1"/>
          <a:stretch/>
        </p:blipFill>
        <p:spPr>
          <a:xfrm>
            <a:off x="7380360" y="4724280"/>
            <a:ext cx="936720" cy="1479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teddy37"/>
          <p:cNvPicPr/>
          <p:nvPr/>
        </p:nvPicPr>
        <p:blipFill>
          <a:blip r:embed="rId2"/>
          <a:stretch/>
        </p:blipFill>
        <p:spPr>
          <a:xfrm>
            <a:off x="395280" y="404640"/>
            <a:ext cx="581040" cy="704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м с одной неизвестной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нем уравн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ешить уравне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значает найти все его корни или доказать, что корней н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имеют одни и те же корни, называются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авносильными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не имеют корней, также                             считаются равносиль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763640" y="189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Основные понят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17r1"/>
          <p:cNvPicPr/>
          <p:nvPr/>
        </p:nvPicPr>
        <p:blipFill>
          <a:blip r:embed="rId1"/>
          <a:stretch/>
        </p:blipFill>
        <p:spPr>
          <a:xfrm>
            <a:off x="7093080" y="515772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уравнение вида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а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х = в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(где х – переменная, а и в – некоторые числа) называется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линейным уравнением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с одной переменн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личительная особенность такого уравнения –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еременная 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ходи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 уравнение обязательно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 первой степ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ar12[1]"/>
          <p:cNvPicPr/>
          <p:nvPr/>
        </p:nvPicPr>
        <p:blipFill>
          <a:blip r:embed="rId1"/>
          <a:stretch/>
        </p:blipFill>
        <p:spPr>
          <a:xfrm>
            <a:off x="7093080" y="1197000"/>
            <a:ext cx="129528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18m5"/>
          <p:cNvPicPr/>
          <p:nvPr/>
        </p:nvPicPr>
        <p:blipFill>
          <a:blip r:embed="rId2"/>
          <a:stretch/>
        </p:blipFill>
        <p:spPr>
          <a:xfrm>
            <a:off x="1476360" y="285264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5508720" y="1197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численные уравнения являются линейными, так как имеют вид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3  х=7   (где а=3, в=7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-2 х=5 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0х=-3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)0х=0  (где а=?, в=?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линейные уравнения приводятся к виду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 помощью тождественных преобразов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835280" y="270828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6948360" y="2349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908000" y="314172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1835280" y="3645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3"/>
              <p:cNvSpPr txBox="1"/>
              <p:nvPr/>
            </p:nvSpPr>
            <p:spPr>
              <a:xfrm>
                <a:off x="1763640" y="400536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4"/>
              <p:cNvSpPr txBox="1"/>
              <p:nvPr/>
            </p:nvSpPr>
            <p:spPr>
              <a:xfrm>
                <a:off x="1332000" y="479736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5" name="Picture 15" descr="пёсик"/>
          <p:cNvPicPr/>
          <p:nvPr/>
        </p:nvPicPr>
        <p:blipFill>
          <a:blip r:embed="rId1"/>
          <a:stretch/>
        </p:blipFill>
        <p:spPr>
          <a:xfrm>
            <a:off x="6012000" y="5229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2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уравнении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3х-5)=х-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644364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716436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3" name="Picture 8" descr="33"/>
          <p:cNvPicPr/>
          <p:nvPr/>
        </p:nvPicPr>
        <p:blipFill>
          <a:blip r:embed="rId1"/>
          <a:stretch/>
        </p:blipFill>
        <p:spPr>
          <a:xfrm>
            <a:off x="6156360" y="5445000"/>
            <a:ext cx="1066680" cy="10000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и решении уравнений не забудь следующие свойст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2"/>
          <p:cNvPicPr/>
          <p:nvPr/>
        </p:nvPicPr>
        <p:blipFill>
          <a:blip r:embed="rId3"/>
          <a:stretch/>
        </p:blipFill>
        <p:spPr>
          <a:xfrm>
            <a:off x="-108000" y="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3c6"/>
          <p:cNvPicPr/>
          <p:nvPr/>
        </p:nvPicPr>
        <p:blipFill>
          <a:blip r:embed="rId4"/>
          <a:stretch/>
        </p:blipFill>
        <p:spPr>
          <a:xfrm>
            <a:off x="6588000" y="501336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численные уравнения не являются линейным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6х+7=0 (так как содержит переменную х во второй степен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5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 3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(х-3)=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5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43r1"/>
          <p:cNvPicPr/>
          <p:nvPr/>
        </p:nvPicPr>
        <p:blipFill>
          <a:blip r:embed="rId1"/>
          <a:stretch/>
        </p:blipFill>
        <p:spPr>
          <a:xfrm>
            <a:off x="611280" y="836640"/>
            <a:ext cx="1495440" cy="16668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04:24Z</dcterms:created>
  <dc:creator>User</dc:creator>
  <dc:description/>
  <dc:language>en-US</dc:language>
  <cp:lastModifiedBy>LEGION</cp:lastModifiedBy>
  <dcterms:modified xsi:type="dcterms:W3CDTF">2015-01-26T12:32:59Z</dcterms:modified>
  <cp:revision>24</cp:revision>
  <dc:subject/>
  <dc:title>Линейные уравнения</dc:title>
</cp:coreProperties>
</file>