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0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4206-90FE-42AA-A3C5-FCBB2C40C9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Линейные урав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EBF0-5F98-47B0-868E-9B9B275237F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При решении уравнения вида </a:t>
            </a:r>
            <a:r>
              <a:rPr b="0" lang="ru-RU" sz="900" spc="-1" strike="noStrike" u="sng">
                <a:solidFill>
                  <a:srgbClr val="800080"/>
                </a:solidFill>
                <a:uFillTx/>
                <a:latin typeface="Calibri"/>
              </a:rPr>
              <a:t>ах = в</a:t>
            </a: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 возможны следующие три случая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х=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DFF8-0E70-452A-AF6F-AD2EB453D24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3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  1=4  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едём подобные слагаемы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этом уравнении а=2 и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дин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ень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098-0AE2-481D-9DEE-D12917CB05C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+3)-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1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2х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=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-14, или 0х=0 (где а=0, в=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верное числовое равенство 0=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любое число является корнем этого уравнения (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бесконечно много кор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95D3-4940-41F6-9143-6A726EBAB73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)+2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12 или 0х=14 (где а=0,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 корней не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9DF4-6A11-4A83-AAA1-55E4849AB38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еши са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)5х-7=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) 2(3х-1)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)3х-(10+5х)=54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) 0,5(4-2х)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61D9-58BA-474B-A742-63DF4C6CB27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-2+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6х-2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х-7х=5+2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3х-10-5х=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54+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64:(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2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2-х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-х=-1,8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-3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1,9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Ответ: х=1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7CA0-3564-4EA9-A9EF-DCEBDBBDC16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 ответив на вопросы предложенные компью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F50A-F3AF-4EEA-85F9-4AB1A5C2AFA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DE05-8B9F-4E75-9E6B-09030FF6AAF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EE91-B216-4A99-AB4E-9E2AA3D017E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4758-5726-4BB5-8FB3-E2B453FC3B2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лектронный 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ла: учитель математики-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ерегул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«СОШ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008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B9C3-87BE-4E00-8A47-C6B11D27621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7A4C-9EFF-43F2-ABDD-D1CE8D50DFE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орогой друг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          </a:t>
            </a: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9AC8-CC94-44E4-8A93-4C7DFE73920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м с одной неизвестной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нем урав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ешить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найти все его корни или доказать, что корне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имеют одни и те же корни, называются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авносильными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не имеют корней, также                             считаются равно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5B9C-C8DE-4A9C-ABA1-D1FB2223E13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пределе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равнение вид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а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х = в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(где х – переменная, а и в – некоторые числа) называетс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линейным уравнением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 одной переменн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ая особенность такого уравнен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еременная 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ход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уравнение обязательно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первой степ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BC15-1EE2-4B2E-B3CA-5884EED97A8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являются линейными, так как имеют вид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3  х=7   (где а=3, в=7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-2 х=5 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0х=-3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0х=0  (где а=?, в=?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нейные уравнения приводятся к виду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тождественных преобраз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5C71-1034-4733-927A-751B23240BB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равнении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3х-5)=х-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2C44-2C3F-40E6-9CCA-91C84F55DE0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и решении уравнений не забудь следующие свойст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ECB5-4E4A-4164-94AD-27815DE2FD7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не являются линей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х+7=0 (так как содержит переменную х во второй сте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5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(х-3)=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5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FC2D-607F-4B9A-8B9B-82B831D85BF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E7D-7C99-46BD-BB84-C10346AF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B96-CBB7-4BD1-A638-DB1EEB6B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415-D168-46E8-99DD-0F0B9BF5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37F-0327-4002-B61F-DD118807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72C7-3009-4635-892C-E2FC08F4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7BEA-B1AF-4081-917B-BA711333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7F90-2E93-4074-A2D6-AD998FD3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B2E5-5442-41EF-8A01-A0FCB44C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2A3D-3A30-460B-BD54-2EA0B905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32BB-DF49-419F-8431-75B5C465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5742-B347-425A-81EE-5A3C7D2F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341-FAEA-4B7D-9F46-F53E63F2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24E0-2764-45C9-BA77-779744F3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5741-B03E-4603-BA50-2D2CB85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15F7-0A34-4213-90AD-F3A8579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1F79-FE31-4472-AE36-BECCF57B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D21E-4CEB-4404-8132-80028D14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031-16D2-484D-92E1-47ECB4C9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E04-6F55-4696-9049-C85AD6CD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9F9-1123-473D-A4DD-3585FA1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32E-F02A-42B5-B4B0-D776A62B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C37-8EB6-4FAE-9212-17F1706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914-0043-4621-B777-579D807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D34-0824-4EB7-97D8-E605F482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A36E-4585-4610-9860-8F47DC498B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C31-C42A-45C8-AB29-58DB9393B2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yarsky"/>
              </a:rPr>
              <a:t>Линейны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Выбери меня"/>
          <p:cNvPicPr/>
          <p:nvPr/>
        </p:nvPicPr>
        <p:blipFill>
          <a:blip r:embed="rId1"/>
          <a:stretch/>
        </p:blipFill>
        <p:spPr>
          <a:xfrm>
            <a:off x="7236000" y="40464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ах=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76720" y="4221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кор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2050920" y="335772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708360" y="3141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 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1763640" y="3500280"/>
            <a:ext cx="158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132000" y="1916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ножество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1692360" y="2349360"/>
            <a:ext cx="1655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5076720" y="3213000"/>
            <a:ext cx="14472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5"/>
          <p:cNvSpPr/>
          <p:nvPr/>
        </p:nvSpPr>
        <p:spPr>
          <a:xfrm flipH="1">
            <a:off x="3635280" y="4365720"/>
            <a:ext cx="21600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826920" y="18900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При решении уравнения вида </a:t>
            </a:r>
            <a:r>
              <a:rPr b="0" lang="ru-RU" sz="3600" spc="-1" strike="noStrike" u="sng">
                <a:solidFill>
                  <a:srgbClr val="703dff"/>
                </a:solidFill>
                <a:uFillTx/>
                <a:latin typeface="Comic Sans MS"/>
              </a:rPr>
              <a:t>ах = в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 возможны следующие три случа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6822360" y="42926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7596360" y="3933720"/>
                <a:ext cx="5191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eqArr>
                      <m:e>
                        <m:f>
                          <m:num>
                            <m:r>
                              <m:t xml:space="preserve">а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3)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  1=4  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Приведём подобные слагаемые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 этом уравнении а=2 и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ди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ень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44364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0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Rectangle 15"/>
          <p:cNvSpPr/>
          <p:nvPr/>
        </p:nvSpPr>
        <p:spPr>
          <a:xfrm>
            <a:off x="4932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"/>
              <p:cNvSpPr txBox="1"/>
              <p:nvPr/>
            </p:nvSpPr>
            <p:spPr>
              <a:xfrm>
                <a:off x="730872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7"/>
              <p:cNvSpPr txBox="1"/>
              <p:nvPr/>
            </p:nvSpPr>
            <p:spPr>
              <a:xfrm>
                <a:off x="579600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8"/>
              <p:cNvSpPr txBox="1"/>
              <p:nvPr/>
            </p:nvSpPr>
            <p:spPr>
              <a:xfrm>
                <a:off x="485928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0"/>
              <p:cNvSpPr txBox="1"/>
              <p:nvPr/>
            </p:nvSpPr>
            <p:spPr>
              <a:xfrm>
                <a:off x="4427640" y="4869000"/>
                <a:ext cx="30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9"/>
              <p:cNvSpPr txBox="1"/>
              <p:nvPr/>
            </p:nvSpPr>
            <p:spPr>
              <a:xfrm>
                <a:off x="0" y="657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3"/>
              <p:cNvSpPr txBox="1"/>
              <p:nvPr/>
            </p:nvSpPr>
            <p:spPr>
              <a:xfrm>
                <a:off x="0" y="38926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Rectangle 26"/>
          <p:cNvSpPr/>
          <p:nvPr/>
        </p:nvSpPr>
        <p:spPr>
          <a:xfrm>
            <a:off x="4717440" y="4941360"/>
            <a:ext cx="62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27" descr="42r1"/>
          <p:cNvPicPr/>
          <p:nvPr/>
        </p:nvPicPr>
        <p:blipFill>
          <a:blip r:embed="rId1"/>
          <a:stretch/>
        </p:blipFill>
        <p:spPr>
          <a:xfrm>
            <a:off x="5435640" y="5157720"/>
            <a:ext cx="157176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+3)-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1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2х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=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-14, или 0х=0 (где а=0, в=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верное числовое равенство 0=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любое число является корнем этого уравнения (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бесконечно много корне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4" descr="46r3"/>
          <p:cNvPicPr/>
          <p:nvPr/>
        </p:nvPicPr>
        <p:blipFill>
          <a:blip r:embed="rId1"/>
          <a:stretch/>
        </p:blipFill>
        <p:spPr>
          <a:xfrm>
            <a:off x="6227640" y="5157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)+2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12 или 0х=14 (где а=0,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4" descr="17r2"/>
          <p:cNvPicPr/>
          <p:nvPr/>
        </p:nvPicPr>
        <p:blipFill>
          <a:blip r:embed="rId1"/>
          <a:stretch/>
        </p:blipFill>
        <p:spPr>
          <a:xfrm>
            <a:off x="5796000" y="5084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Реши сам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а)5х-7=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б) 2(3х-1)+4=7х+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)3х-(10+5х)=54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) 0,5(4-2х)=х-1,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star54[1]"/>
          <p:cNvPicPr/>
          <p:nvPr/>
        </p:nvPicPr>
        <p:blipFill>
          <a:blip r:embed="rId1"/>
          <a:stretch/>
        </p:blipFill>
        <p:spPr>
          <a:xfrm>
            <a:off x="6732720" y="90792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star54[1]"/>
          <p:cNvPicPr/>
          <p:nvPr/>
        </p:nvPicPr>
        <p:blipFill>
          <a:blip r:embed="rId2"/>
          <a:stretch/>
        </p:blipFill>
        <p:spPr>
          <a:xfrm>
            <a:off x="2987640" y="5516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star54[1]"/>
          <p:cNvPicPr/>
          <p:nvPr/>
        </p:nvPicPr>
        <p:blipFill>
          <a:blip r:embed="rId3"/>
          <a:stretch/>
        </p:blipFill>
        <p:spPr>
          <a:xfrm>
            <a:off x="1979640" y="620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tar54[1]"/>
          <p:cNvPicPr/>
          <p:nvPr/>
        </p:nvPicPr>
        <p:blipFill>
          <a:blip r:embed="rId4"/>
          <a:stretch/>
        </p:blipFill>
        <p:spPr>
          <a:xfrm>
            <a:off x="7020000" y="292428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star54[1]"/>
          <p:cNvPicPr/>
          <p:nvPr/>
        </p:nvPicPr>
        <p:blipFill>
          <a:blip r:embed="rId5"/>
          <a:stretch/>
        </p:blipFill>
        <p:spPr>
          <a:xfrm>
            <a:off x="7380360" y="5084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star54[1]"/>
          <p:cNvPicPr/>
          <p:nvPr/>
        </p:nvPicPr>
        <p:blipFill>
          <a:blip r:embed="rId6"/>
          <a:stretch/>
        </p:blipFill>
        <p:spPr>
          <a:xfrm>
            <a:off x="684360" y="3933720"/>
            <a:ext cx="863280" cy="763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-2+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: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х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6х-2+4=7х+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х-7х=5+2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=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3х-10-5х=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54+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6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64:(-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2 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2-х=х-1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-х=-1,8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-3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1,9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Ответ: х=1,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357336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ь свои знания ответив на вопросы предложенные компьютер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14m4"/>
          <p:cNvPicPr/>
          <p:nvPr/>
        </p:nvPicPr>
        <p:blipFill>
          <a:blip r:embed="rId2"/>
          <a:stretch/>
        </p:blipFill>
        <p:spPr>
          <a:xfrm>
            <a:off x="324000" y="765000"/>
            <a:ext cx="1800000" cy="1403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23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4" descr="255"/>
          <p:cNvPicPr/>
          <p:nvPr/>
        </p:nvPicPr>
        <p:blipFill>
          <a:blip r:embed="rId2"/>
          <a:stretch/>
        </p:blipFill>
        <p:spPr>
          <a:xfrm>
            <a:off x="5435640" y="3716280"/>
            <a:ext cx="1123920" cy="138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ar3[1]"/>
          <p:cNvPicPr/>
          <p:nvPr/>
        </p:nvPicPr>
        <p:blipFill>
          <a:blip r:embed="rId3"/>
          <a:stretch/>
        </p:blipFill>
        <p:spPr>
          <a:xfrm rot="19750200">
            <a:off x="539640" y="691920"/>
            <a:ext cx="1224000" cy="8650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6870600" cy="38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6" descr="people1[1]"/>
          <p:cNvPicPr/>
          <p:nvPr/>
        </p:nvPicPr>
        <p:blipFill>
          <a:blip r:embed="rId1"/>
          <a:stretch/>
        </p:blipFill>
        <p:spPr>
          <a:xfrm>
            <a:off x="395280" y="18900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f72[1]"/>
          <p:cNvPicPr/>
          <p:nvPr/>
        </p:nvPicPr>
        <p:blipFill>
          <a:blip r:embed="rId2"/>
          <a:stretch/>
        </p:blipFill>
        <p:spPr>
          <a:xfrm>
            <a:off x="6877080" y="4941720"/>
            <a:ext cx="1224000" cy="1162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555920" y="3087360"/>
            <a:ext cx="604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 Реши уравнение: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|3х + 8|=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Найди значение параметра 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 котором уравнение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(3а + 1) х = 2а+6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еет корень х=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059280" y="4941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6"/>
          <p:cNvSpPr/>
          <p:nvPr/>
        </p:nvSpPr>
        <p:spPr>
          <a:xfrm rot="20629200">
            <a:off x="4081680" y="51526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200"/>
                </a:solidFill>
                <a:latin typeface="Comic Sans MS"/>
              </a:rPr>
              <a:t>Удачи тебе</a:t>
            </a:r>
            <a:r>
              <a:rPr b="0" i="1" lang="ru-RU" sz="3200" spc="-1" strike="noStrike">
                <a:solidFill>
                  <a:srgbClr val="00b2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лектронный  учеб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Составила: учитель математики-информат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ерегулова И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МОУ «СОШ №1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008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35"/>
          <p:cNvPicPr/>
          <p:nvPr/>
        </p:nvPicPr>
        <p:blipFill>
          <a:blip r:embed="rId1"/>
          <a:stretch/>
        </p:blipFill>
        <p:spPr>
          <a:xfrm>
            <a:off x="4067280" y="1773360"/>
            <a:ext cx="1511280" cy="13096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4"/>
          <p:cNvSpPr txBox="1"/>
          <p:nvPr/>
        </p:nvSpPr>
        <p:spPr>
          <a:xfrm rot="20243400">
            <a:off x="1560240" y="1696680"/>
            <a:ext cx="597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удач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2" name="Picture 6" descr="dis2[1]"/>
          <p:cNvPicPr/>
          <p:nvPr/>
        </p:nvPicPr>
        <p:blipFill>
          <a:blip r:embed="rId1"/>
          <a:stretch/>
        </p:blipFill>
        <p:spPr>
          <a:xfrm>
            <a:off x="539640" y="69228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newy25"/>
          <p:cNvPicPr/>
          <p:nvPr/>
        </p:nvPicPr>
        <p:blipFill>
          <a:blip r:embed="rId2"/>
          <a:stretch/>
        </p:blipFill>
        <p:spPr>
          <a:xfrm>
            <a:off x="6588000" y="4005360"/>
            <a:ext cx="1349640" cy="16556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70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          </a:t>
            </a: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people12[1]"/>
          <p:cNvPicPr/>
          <p:nvPr/>
        </p:nvPicPr>
        <p:blipFill>
          <a:blip r:embed="rId1"/>
          <a:stretch/>
        </p:blipFill>
        <p:spPr>
          <a:xfrm>
            <a:off x="7380360" y="4724280"/>
            <a:ext cx="936720" cy="1479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teddy37"/>
          <p:cNvPicPr/>
          <p:nvPr/>
        </p:nvPicPr>
        <p:blipFill>
          <a:blip r:embed="rId2"/>
          <a:stretch/>
        </p:blipFill>
        <p:spPr>
          <a:xfrm>
            <a:off x="395280" y="404640"/>
            <a:ext cx="581040" cy="704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м с одной неизвестной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нем уравн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ешить 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значает найти все его корни или доказать, что корней н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имеют одни и те же корни, называются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авносильными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не имеют корней, также                             считаются равносиль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763640" y="189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Основные понят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17r1"/>
          <p:cNvPicPr/>
          <p:nvPr/>
        </p:nvPicPr>
        <p:blipFill>
          <a:blip r:embed="rId1"/>
          <a:stretch/>
        </p:blipFill>
        <p:spPr>
          <a:xfrm>
            <a:off x="7093080" y="5157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уравнение вида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а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х = в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(где х – переменная, а и в – некоторые числа) называется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линейным уравнением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с одной переменн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личительная особенность такого уравнения –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еременная 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ходи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уравнение обязательно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 первой степ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ar12[1]"/>
          <p:cNvPicPr/>
          <p:nvPr/>
        </p:nvPicPr>
        <p:blipFill>
          <a:blip r:embed="rId1"/>
          <a:stretch/>
        </p:blipFill>
        <p:spPr>
          <a:xfrm>
            <a:off x="7093080" y="1197000"/>
            <a:ext cx="129528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18m5"/>
          <p:cNvPicPr/>
          <p:nvPr/>
        </p:nvPicPr>
        <p:blipFill>
          <a:blip r:embed="rId2"/>
          <a:stretch/>
        </p:blipFill>
        <p:spPr>
          <a:xfrm>
            <a:off x="1476360" y="285264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5508720" y="1197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численные уравнения являются линейными, так как имеют вид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3  х=7   (где а=3, в=7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-2 х=5 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0х=-3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)0х=0  (где а=?, в=?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линейные уравнения приводятся к виду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 помощью тождественных преобразов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835280" y="270828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6948360" y="2349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908000" y="314172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1835280" y="3645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1763640" y="400536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4"/>
              <p:cNvSpPr txBox="1"/>
              <p:nvPr/>
            </p:nvSpPr>
            <p:spPr>
              <a:xfrm>
                <a:off x="1332000" y="479736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5" name="Picture 15" descr="пёсик"/>
          <p:cNvPicPr/>
          <p:nvPr/>
        </p:nvPicPr>
        <p:blipFill>
          <a:blip r:embed="rId1"/>
          <a:stretch/>
        </p:blipFill>
        <p:spPr>
          <a:xfrm>
            <a:off x="6012000" y="5229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2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уравнении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3х-5)=х-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644364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716436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Picture 8" descr="33"/>
          <p:cNvPicPr/>
          <p:nvPr/>
        </p:nvPicPr>
        <p:blipFill>
          <a:blip r:embed="rId1"/>
          <a:stretch/>
        </p:blipFill>
        <p:spPr>
          <a:xfrm>
            <a:off x="6156360" y="5445000"/>
            <a:ext cx="1066680" cy="10000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и решении уравнений не забудь следующие свойст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2"/>
          <p:cNvPicPr/>
          <p:nvPr/>
        </p:nvPicPr>
        <p:blipFill>
          <a:blip r:embed="rId3"/>
          <a:stretch/>
        </p:blipFill>
        <p:spPr>
          <a:xfrm>
            <a:off x="-108000" y="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3c6"/>
          <p:cNvPicPr/>
          <p:nvPr/>
        </p:nvPicPr>
        <p:blipFill>
          <a:blip r:embed="rId4"/>
          <a:stretch/>
        </p:blipFill>
        <p:spPr>
          <a:xfrm>
            <a:off x="6588000" y="501336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численные уравнения не являются линейным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6х+7=0 (так как содержит переменную х во второй степен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 3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(х-3)=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5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43r1"/>
          <p:cNvPicPr/>
          <p:nvPr/>
        </p:nvPicPr>
        <p:blipFill>
          <a:blip r:embed="rId1"/>
          <a:stretch/>
        </p:blipFill>
        <p:spPr>
          <a:xfrm>
            <a:off x="611280" y="836640"/>
            <a:ext cx="1495440" cy="16668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04:24Z</dcterms:created>
  <dc:creator>User</dc:creator>
  <dc:description/>
  <dc:language>en-US</dc:language>
  <cp:lastModifiedBy>LEGION</cp:lastModifiedBy>
  <dcterms:modified xsi:type="dcterms:W3CDTF">2015-01-26T12:32:59Z</dcterms:modified>
  <cp:revision>24</cp:revision>
  <dc:subject/>
  <dc:title>Линейные уравнения</dc:title>
</cp:coreProperties>
</file>