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B332-69C2-480A-8A18-A56DBF13E9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4C1F-21F6-4D59-A71E-C99B56FCA0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A1F-6936-4DD9-9D0B-6CE83A2AB6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A5E3-C90D-4BBA-AC63-E85BD59032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CA81-20C0-4499-B6D0-D86555F4F5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CBB7-F3D2-42D5-B768-7337D887B4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19C6-D5CF-46B9-BAB7-059106739B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22C3-37F6-4F97-AE3C-589FCAB0A9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3D76-8A3F-4063-8446-FA316C7640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F258-040E-4AC9-B3CF-51E655CB03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3AA0-F773-4579-9BFC-9DD15EE7B5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E91-E198-4B45-BC87-A5E8903B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506-33E2-4D98-929F-5F397DA1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E19-7305-4C33-AC7B-CE67A2E3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8E5-7E7C-4670-A6D6-9ABA88A6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A850-5BC4-4429-809E-CE97A5A1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53B7-4278-43B7-97FC-CE1BFEC9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66D7-F4B4-48E5-BE39-22B25810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EF11-5CFE-44CF-A4EF-5F74442D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7EC1-3310-4011-8371-908AD0B1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3D1A-17BA-44BC-B718-05965A13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104-E06A-464F-9C25-D25AFA41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84C-2569-4FC7-8BBF-8998B072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EFDB-D018-443A-A20B-EBC870C9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C01A-5473-460B-A8D4-388B787E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6753-240A-448D-A3C0-DBE0348F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7CC3-1D87-49EF-96B7-4C2E2CEC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D8B7-30A9-4B0A-A889-98163E70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F1B-2C72-4DE7-BBAC-7AF4CF57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317-59E5-4162-AD28-1C6E233D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EE7-6E01-4973-B24F-567DEDD2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3BA-22A3-4FD1-91A5-7EFDD11C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BA6-8496-423C-8E7F-BD537C80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1A3-D692-4C0B-844F-2D5E96F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57C-2CEB-4B10-800F-00F4FE08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1DD9-B878-481F-A0AE-96E7E87A64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61A2-AA73-4153-BF2B-4B11C58527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9:00:56Z</dcterms:modified>
  <cp:revision>6</cp:revision>
  <dc:subject/>
  <dc:title>PowerPoint Presentation</dc:title>
</cp:coreProperties>
</file>