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7F2BC-5748-4467-9E00-F5089A5D53AD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е отношения и валютные сист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водная лек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41438-167C-4286-91FF-43F59394FE15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е системы: мировая, международная, национальна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0E302-6795-4351-9C72-0F4447C85982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н лек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е отношения в системе международных экономических отнош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е системы: мировая, международная, национальная. Основные структурные элемен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циональная валютная система Российской Федер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AB604-4E9C-433B-8F70-7029A7F1ACC7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е отношения в системе международных экономических отношений.</a:t>
            </a:r>
            <a:br>
              <a:rPr sz="18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овы основные формы международных экономических связей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BB92F-E1FC-4EB6-A291-17EFB5929CD8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Валютные отношения в системе международных экономических отношений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е валютные отношения – совокупность экономических отношений, складывающихся при функционировании валюты в мировом хозяйстве и обслуживающих взаимный обмен результатами деятельности национальных хозяйст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ни производны по отношению к основным формам международных экономических отнош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ни оказывают активное обратное воздействие на функционирование всех форм международных экономических отношений и мирового хозяйства как целостной систе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C13F7-47FC-4C7C-AEE6-3A981DEF6F20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алютные системы: мировая, международная, национальна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ая систе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экономической точки зрения – исторически конкретная совокупность валютных отношений, сложившаяся на основе интернационализации хозяйственных связ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организационно-юридической точки зрения – конкретная государственно-правовая форма организации валютных отнош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FEA9A-931A-4FCC-8332-C52D0DEBF926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алютные системы: мировая, международная, национальная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овая валютная систе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ая (региональная) валютная систе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циональная валютная систе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B50C3-C5DC-4643-83A0-A6BA1645153E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е системы: мировая, международная, национальна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AFF1D-D097-49AF-A663-7C3FCAB3563C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е системы: мировая, международная, национальна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CC812-C3FF-453B-9AA6-975881C7E3C9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е системы: мировая, международная, национальна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AE8D8-1D3B-48EA-9E21-29EB207E6B2B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48AA7-F84B-4921-9AF9-919590A79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9FB8F-02F5-489E-BDD3-F9E5D5C66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23BBD-6A31-4514-8593-554171E31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DEEFD-FF07-4CE9-8608-46ED96FFC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55722-FA20-4C81-996F-A23AAEAFE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53DDE-FBDC-445D-891D-EF1D8DE14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72253-5048-4C73-9A0D-E7FDE0366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5142C-7185-4479-AA97-E7868999D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F427D-E7A0-4E38-91ED-869168E42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79245-2F1F-4BC5-BE92-B9ED9EB21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9CD2A-FF41-4C5C-96C3-C5BA958CA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42758-C602-42F1-A718-7AD519D86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826B6-7F93-418D-A83F-E1E6AE211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FBBE8-DE0D-47E8-8543-0D5FA0DF8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6DF97-9129-4B97-9D5C-47D9E0D21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4A738-F555-43A3-9836-F6D73A9DC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AC8A5-DC81-473D-A101-EB8C6C9EE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A1644-B642-4EF7-8117-2927108A9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558CB-3692-4F89-BAAD-58F565829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6B658-F83C-400F-BF9D-D64F5E696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26FA7-C48A-45E6-8D2E-09DB7E645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102F5-0766-4018-97B0-E6B7BB975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9C3F5-57A8-4192-B057-45CE3F5A9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CDC86-FF69-41DA-8C0D-603515C34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969D0-5CF7-44BE-8D6A-E19FD147B5B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E53C4-7083-4BCA-AE61-67BE67FA9121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dbbd71"/>
                </a:solidFill>
                <a:latin typeface="Arial"/>
              </a:rPr>
              <a:t>Валютные отношения и валютные системы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водная лекц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Валютные системы: мировая, международная, национальная.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457200" y="1600200"/>
          <a:ext cx="8229600" cy="49165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2024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Режим национального валютного рынка и рынка золот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Режим мировых валютных рынков и рынков золот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990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ациональные органы, обслуживающие и регламентирующие валютные отношения стран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Международные организации, осуществляющие межгосударственное валютное регулировани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6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План лекции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алютные отношения в системе международных экономических отношени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алютные системы: мировая, международная, национальная. Основные структурные элемент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циональная валютная система Российской Федерац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bbd71"/>
                </a:solidFill>
                <a:latin typeface="Arial"/>
              </a:rPr>
              <a:t>Валютные отношения в системе международных экономических отношений.</a:t>
            </a:r>
            <a:br>
              <a:rPr sz="4000"/>
            </a:br>
            <a:endParaRPr b="0" lang="en-US" sz="2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6" name="Oval 4"/>
          <p:cNvSpPr/>
          <p:nvPr/>
        </p:nvSpPr>
        <p:spPr>
          <a:xfrm rot="21468600">
            <a:off x="826560" y="2349360"/>
            <a:ext cx="2508480" cy="2735280"/>
          </a:xfrm>
          <a:prstGeom prst="ellipse">
            <a:avLst/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ационально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хозяйство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аковы основные формы международных экономических связей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Oval 8"/>
          <p:cNvSpPr/>
          <p:nvPr/>
        </p:nvSpPr>
        <p:spPr>
          <a:xfrm>
            <a:off x="5148360" y="2492280"/>
            <a:ext cx="2736720" cy="3097440"/>
          </a:xfrm>
          <a:prstGeom prst="ellipse">
            <a:avLst/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ационально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хозяйство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Oval 9"/>
          <p:cNvSpPr/>
          <p:nvPr/>
        </p:nvSpPr>
        <p:spPr>
          <a:xfrm rot="21468600">
            <a:off x="1042560" y="2565360"/>
            <a:ext cx="2508480" cy="2735280"/>
          </a:xfrm>
          <a:prstGeom prst="ellipse">
            <a:avLst/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ационально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хозяйство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Line 10"/>
          <p:cNvSpPr/>
          <p:nvPr/>
        </p:nvSpPr>
        <p:spPr>
          <a:xfrm flipV="1">
            <a:off x="2916360" y="2565000"/>
            <a:ext cx="3240000" cy="142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Line 11"/>
          <p:cNvSpPr/>
          <p:nvPr/>
        </p:nvSpPr>
        <p:spPr>
          <a:xfrm flipV="1">
            <a:off x="3348000" y="3068280"/>
            <a:ext cx="2160720" cy="144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Line 12"/>
          <p:cNvSpPr/>
          <p:nvPr/>
        </p:nvSpPr>
        <p:spPr>
          <a:xfrm flipV="1">
            <a:off x="3564000" y="3645000"/>
            <a:ext cx="1584360" cy="71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Line 13"/>
          <p:cNvSpPr/>
          <p:nvPr/>
        </p:nvSpPr>
        <p:spPr>
          <a:xfrm flipV="1">
            <a:off x="3564000" y="4220640"/>
            <a:ext cx="1584360" cy="7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Line 14"/>
          <p:cNvSpPr/>
          <p:nvPr/>
        </p:nvSpPr>
        <p:spPr>
          <a:xfrm>
            <a:off x="3276720" y="4869000"/>
            <a:ext cx="2087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bbd71"/>
                </a:solidFill>
                <a:latin typeface="Arial"/>
              </a:rPr>
              <a:t>Валютные отношения в системе международных экономических отношений.</a:t>
            </a:r>
            <a:endParaRPr b="0" lang="en-US" sz="2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Международные валютные отношения – совокупность экономических отношений, складывающихся при функционировании валюты в мировом хозяйстве и обслуживающих взаимный обмен результатами деятельности национальных хозяйств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ни производны по отношению к основным формам международных экономических отношени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ни оказывают активное обратное воздействие на функционирование всех форм международных экономических отношений и мирового хозяйства как целостной систем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Валютные системы: мировая, международная, национальная.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алютная систем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 экономической точки зрения – исторически конкретная совокупность валютных отношений, сложившаяся на основе интернационализации хозяйственных связе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 организационно-юридической точки зрения – конкретная государственно-правовая форма организации валютных отношени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Валютные системы: мировая, международная, национальная.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ировая валютная систем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еждународная (региональная) валютная систем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циональная валютная систем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Валютные системы: мировая, международная, национальная.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457200" y="1600200"/>
          <a:ext cx="8229600" cy="45306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6322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СНОВНЫЕ СТРУКТУРНЫЕ ЭЛЕМЕНТЫ ВАЛЮТНОЙ СИСТЕМ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АЦИОНАЛЬНАЯ                    МИРОВА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5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ациональная валют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Резервные валюты, международные счетные денежные единицы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4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тепень конвертируемости национальной валюты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Условия взаимной конвертируемости валют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7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Валютные системы: мировая, международная, национальная.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457200" y="1600200"/>
          <a:ext cx="8229600" cy="48196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541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аритет национальной валют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Унифицированный режим валютных паритето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41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Режим курса национальной валют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Регламентация режимов валютных курсо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507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Международная валютная ликвидность стран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Межгосударственное регулирование международной валютной ликвидност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0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Валютные системы: мировая, международная, национальная.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457200" y="1600200"/>
          <a:ext cx="8229600" cy="50925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2024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алютные ограничени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Межгосударственное регулирование валютных ограничени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347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Международные кредитные средства обращения, регламентация правил их использовани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Унификация правил использования международных кредитных средств обращения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024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Регламентация форм международных расчето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Унификация основных форм международных расчето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3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EGION</dc:creator>
  <dc:description/>
  <dc:language>en-US</dc:language>
  <cp:lastModifiedBy>LEGION</cp:lastModifiedBy>
  <dcterms:modified xsi:type="dcterms:W3CDTF">2014-11-10T09:00:56Z</dcterms:modified>
  <cp:revision>6</cp:revision>
  <dc:subject/>
  <dc:title>PowerPoint Presentation</dc:title>
</cp:coreProperties>
</file>