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BC5A-E071-4A5B-8F11-98130E8B179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и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одная л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34AA-89B8-4871-A68E-3B4B1A87869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EBE4-D2B0-424F-9BB3-AFAD33EC9D4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л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в системе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 Основные структурные эле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F3B1-3401-4C03-983F-D8EB171BF9B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в системе международных экономических отношений.</a:t>
            </a:r>
            <a:br>
              <a:rPr sz="18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основные формы международных экономических связ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AA40-F812-4601-B018-4EF878FA131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алютные отношения в системе международных экономических отношени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тношения – совокупность экономически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производны по отношению к основным формам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оказывают активное обратное воздействие на функционирование всех форм международных экономических отношений и мирового хозяйства как целост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F0B3-F21F-4597-ABCB-B1D087A1C49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экономической точки зрения – исторически конкретная совокупность валютных отношений, сложившаяся на основе интернационализации хозяйственных связ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организационно-юридической точки зрения – конкретная государственно-правовая форма организации валют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EEA2-28DF-4AA2-A6AF-F2A81FEBB51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(региональная)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08BB-C200-4725-92E1-BC08F03B9C9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5D33-0BF9-47AE-AA48-7A8186620B8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AD6C-405C-4E85-8E12-039CEAF57CC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D48A-BC60-4619-BFC9-E207DA56A0C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9A5C-289F-4324-8DE6-151E33A31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715B-AF59-4052-B197-D7F22B23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1A52-3FE9-4428-B5DE-AB3E3C8A3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CDA2-362C-4083-B050-D47F2CE0D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7CBA-BD45-4178-92D7-B368ADF64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CA20-F215-45D5-8D38-CE21D31E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814C-3BFE-45F4-9A17-41F5D44A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4B9C-BC99-47CA-B664-3181F4E6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2E00-E8E2-4E03-9CD9-5391F902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0227-50A7-4AEA-965A-444EA9B0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27B1-3ECA-4023-9E7E-3C05046F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5F64-0CB5-4B18-9C90-CB9681C5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D329F-CE90-446C-8D83-311B53DD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E747-6014-494B-814E-D9D49EB3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DF74-4A90-407A-B060-BF10714C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A552-589C-4127-9325-4A76CD1ED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7D39-9782-4DFF-B38A-DA73B8778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66E9-C47F-4E97-B6FE-CB7199DE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C604-35ED-4B24-8D3B-5FF709F7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9818-6486-498F-A629-F057F695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8AB3-58BD-42BE-AB3D-2C09E756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A0ED-EF2F-40C9-8813-79C134CA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53F4-A815-45A3-883B-EE59EAC5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2475-C77E-421D-B733-5A0A63AC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B702-CBC9-4B81-92EC-F62E75B63B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BEA7-8CD3-447B-B4A6-D84B64DFC0C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Валютные отношения и валютные системы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водная лек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57200" y="1600200"/>
          <a:ext cx="8229600" cy="4916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02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жим национального валютного рынка и рынка золо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жим мировых валютных рынков и рынков золо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90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циональные органы, обслуживающие и регламентирующие валютные отношения стра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дународные организации, осуществляющие межгосударственное валютное регулиров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лан лек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лютные отношения в системе международных экономических отнош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 Основные структурные элемен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циональная валютная система Российской Федер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Валютные отношения в системе международных экономических отношений.</a:t>
            </a:r>
            <a:br>
              <a:rPr sz="4000"/>
            </a:b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Oval 4"/>
          <p:cNvSpPr/>
          <p:nvPr/>
        </p:nvSpPr>
        <p:spPr>
          <a:xfrm rot="21468600">
            <a:off x="826560" y="2349360"/>
            <a:ext cx="2508480" cy="273528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вы основные формы международных экономических связе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Oval 8"/>
          <p:cNvSpPr/>
          <p:nvPr/>
        </p:nvSpPr>
        <p:spPr>
          <a:xfrm>
            <a:off x="5148360" y="2492280"/>
            <a:ext cx="2736720" cy="30974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Oval 9"/>
          <p:cNvSpPr/>
          <p:nvPr/>
        </p:nvSpPr>
        <p:spPr>
          <a:xfrm rot="21468600">
            <a:off x="1042560" y="2565360"/>
            <a:ext cx="2508480" cy="273528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Line 10"/>
          <p:cNvSpPr/>
          <p:nvPr/>
        </p:nvSpPr>
        <p:spPr>
          <a:xfrm flipV="1">
            <a:off x="2916360" y="2565000"/>
            <a:ext cx="324000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Line 11"/>
          <p:cNvSpPr/>
          <p:nvPr/>
        </p:nvSpPr>
        <p:spPr>
          <a:xfrm flipV="1">
            <a:off x="3348000" y="3068280"/>
            <a:ext cx="216072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Line 12"/>
          <p:cNvSpPr/>
          <p:nvPr/>
        </p:nvSpPr>
        <p:spPr>
          <a:xfrm flipV="1">
            <a:off x="3564000" y="3645000"/>
            <a:ext cx="158436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13"/>
          <p:cNvSpPr/>
          <p:nvPr/>
        </p:nvSpPr>
        <p:spPr>
          <a:xfrm flipV="1">
            <a:off x="3564000" y="4220640"/>
            <a:ext cx="158436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Line 14"/>
          <p:cNvSpPr/>
          <p:nvPr/>
        </p:nvSpPr>
        <p:spPr>
          <a:xfrm>
            <a:off x="3276720" y="4869000"/>
            <a:ext cx="20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Валютные отношения в системе международных экономических отношений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ждународные валютные отношения – совокупность экономически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и производны по отношению к основным формам международных экономических отнош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и оказывают активное обратное воздействие на функционирование всех форм международных экономических отношений и мирового хозяйства как целостной систе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лютная систе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экономической точки зрения – исторически конкретная совокупность валютных отношений, сложившаяся на основе интернационализации хозяйственных связ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организационно-юридической точки зрения – конкретная государственно-правовая форма организации валютных отнош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ировая валютная сист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ждународная (региональная) валютная сист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циональная валютная сист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32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НОВНЫЕ СТРУКТУРНЫЕ ЭЛЕМЕНТЫ ВАЛЮТНОЙ СИСТЕМ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ЦИОНАЛЬНАЯ                    МИРОВ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циональная валю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зервные валюты, международные счетные денежные единиц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епень конвертируемости национальной валю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словия взаимной конвертируемости валю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1600200"/>
          <a:ext cx="8229600" cy="4819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аритет национальной валю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нифицированный режим валютных парит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жим курса национальной валю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гламентация режимов валютных курс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07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дународная валютная ликвидность стра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государственное регулирование международной валютной ликвид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57200" y="1600200"/>
          <a:ext cx="8229600" cy="5092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02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алютные огранич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государственное регулирование валютных ограниче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дународные кредитные средства обращения, регламентация правил их использов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нификация правил использования международных кредитных средств обращения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2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гламентация форм международных расч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нификация основных форм международных расч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0T09:00:56Z</dcterms:modified>
  <cp:revision>6</cp:revision>
  <dc:subject/>
  <dc:title>PowerPoint Presentation</dc:title>
</cp:coreProperties>
</file>