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03B1-A5EE-41F7-A7A8-8A799E957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езок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ина 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FC3-85D2-4C15-84D0-45F361CB4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E9E4-EA39-42D4-9445-AA74826D2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81CD-8355-443D-908A-69BE7CD77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BEE1-9602-4640-B603-F52AF80EE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E583-B86E-4B09-9CE6-66729A867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зи длины отрез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№№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8;  7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862C-84D9-493D-A07A-D5835EB5B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Кос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248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D0AE-5D02-4D94-AF5D-B41546B36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Махов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</a:t>
            </a: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176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A80B-E432-4F78-BCFC-922E3DA7F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Лок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45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2BDE-C1FF-42C1-A187-FC1CFA44C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92F2-AA4A-4109-A0D7-290DEB6D6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Найдите правильные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5DDB-BCB1-46A6-8041-3260FA0BB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рсия дво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 зависит от условия  задачи. В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чертеж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7B2-110E-42C9-8395-4346FD04C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асть прямой, ограниченная двумя точ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чки М и К- концы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Запись МК или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6528-0976-4408-A3FA-0702C6542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4C98-A2B1-4A3D-BB6C-7900CF727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B5EF-A38C-4D82-B2C9-FEE0A0896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79C1-CB79-4FB8-A040-71E88A09D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менты, необходимы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7CE-AE72-44E6-AE3E-BA3325668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Единицы измерения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0F4F-096F-4249-988E-1CDEF3769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ертите отрез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6 см 8 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на нем точку А так, чтоб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 = 4 см 3 мм. Чему равна длина отрезка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B325-A95F-4D9C-8333-422CB2EA0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19B-6AAA-48F1-9C10-1BC9CFC5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C0F-57DE-4EA0-A8E1-086D763C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FFA-A554-4ECF-B71E-BB76F51C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3C8-8EF0-44B1-A232-F10199D9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BEA4-8D53-474B-80EC-A7F99B80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CADA-67D6-4FA9-88B4-8AE8657C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F400-86BA-49A4-BAB1-1DFBBB0E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A929-79AD-4240-9FFE-2F567344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6CED-C2EE-471D-B0BA-DEB500CC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E91-B1BA-47C3-87A8-4D0F801B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1FB9-1F40-4C71-A6CB-DB876AD5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F49-52A8-4165-B265-0C621987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3090-9141-4623-8244-D374EED4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2BB4-F712-48B6-B906-9637ED6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8922-1B88-40BC-B911-49AF9356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8DA3-62B1-4211-B921-04E9E718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2A7D-CE72-47CE-AD50-CD6F9BA3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AD5-92FA-4021-8172-69EDFEB4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253-87A7-4618-AC6D-2BD88F18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EBC-8F63-4687-8EE1-FACFF6ED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765-C4D1-4359-BF1D-37125AA5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BEE-5B1E-4725-BEE7-1F0EA30A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6F1-24AA-4BC8-A0DA-3C476B4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B2B-040C-45EA-954F-B7B588E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D68E-937F-4A2E-8259-773B8B7418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C7FB-129D-4F49-9932-BCE0670C97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DRAFTSMN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5" name="Picture 4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14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1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22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8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9" name="Picture 4" descr="SHFTY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3080"/>
                <a:gridCol w="3852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AG00317_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803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802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801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54" name="Rectangle 5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icture 8" descr="BOY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3521160" y="5227560"/>
            <a:ext cx="2849400" cy="604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>
              <a:gd name="textAreaLeft" fmla="*/ 0 w 4540320"/>
              <a:gd name="textAreaRight" fmla="*/ 4540320 w 454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>
              <a:gd name="textAreaLeft" fmla="*/ 0 w 640080"/>
              <a:gd name="textAreaRight" fmla="*/ 640440 w 640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AG00317_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4"/>
          <p:cNvCxnSpPr>
            <a:stCxn id="116" idx="4"/>
            <a:endCxn id="117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26" name="Freeform 15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4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3" name="Picture 4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4" name="Line 5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PINCBOX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OMPSSS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806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LANDS093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LANDS079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LANDS043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LANDS063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4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LEGION</cp:lastModifiedBy>
  <dcterms:modified xsi:type="dcterms:W3CDTF">2015-01-26T12:34:44Z</dcterms:modified>
  <cp:revision>11</cp:revision>
  <dc:subject/>
  <dc:title>Отрезок. Длина  отрезка.</dc:title>
</cp:coreProperties>
</file>