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BBF9-63DD-415D-91B8-F245EE6D5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езок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ина 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D246-D551-42FF-A72C-409AE7DA0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1953-E1E4-4735-A79C-B3B2C3674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88A-B421-4B16-89DF-10682386D2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391B-BEBE-4F3B-8013-D73D79671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2DE1-F05F-4325-97EE-9893DADCD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зи длины отрез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№№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8;  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8FB8-A7B1-4966-9656-14CDF3AE4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Кос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248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2893-FA30-47CC-BF5D-5742A9E2B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Махов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</a:t>
            </a: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176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A644-E814-47F2-9A91-E275A230D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Лок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45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CCE-FEE5-493C-8BB2-75469D7A6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9055-5395-48D7-8BA5-9FDBB88CDE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Найдите правильные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0C76-4D0D-4C4C-B723-BF57AFE82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рсия дво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 зависит от условия  задачи. В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чертеж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3559-E143-4646-BE70-BEE8EC727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асть прямой, ограниченная двумя точ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чки М и К- концы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Запись МК или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5C61-0501-4ECF-9FA3-0510ED17F9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EC4D-4EF4-41C6-A55C-08A10A7A4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FF76-BAB1-4A97-A72D-3B345FDA31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C639-5AA0-4971-9C4D-9DC7A8E40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менты, необходимы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14A6-E584-42BE-B52A-2DB2BBEE5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Единицы измерения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6D15-CA8C-4B35-ABC9-02AC6D2A3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ертите отрез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6 см 8 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на нем точку А так, чтоб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 = 4 см 3 мм. Чему равна длина отрезка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E130-1990-48DB-820E-D56050B6C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B49-F5E1-4CF7-BE6A-E3C10378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6BB-0F68-4297-875D-E1B064D8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52C-9460-4831-8149-5B769FCE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27B-F769-4CE3-AE9A-715E9EDB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9C3-1C09-4B21-8D07-2BEB1EB0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3FD5-9993-413B-8DAF-CCE9BEF1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5432-752E-46C7-A733-F8493CB1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10C6-F9DF-4F22-80D0-61DBB6AB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3AD-AC8E-45F1-A6DE-89E07C99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F4F2-27F8-4289-8E78-F528FD6A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9B65-0AA9-4B12-A4A6-5862028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29F-0806-44DC-95E3-EB38F25F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2759-01F4-4D52-ABEC-5345DEA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ED12-DF66-4B0A-85B2-3595F46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8111-777E-454C-9F23-DC16EFFA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F5A5-182D-4671-A454-0BC33FC9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62E-873A-44A4-9226-04901842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616-71AA-4271-A9B2-F04DDD9E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22D-6D49-45FC-A003-98BF5B76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81F-D317-4F95-999D-4160B782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3EB-1EE9-40E5-BC54-820485D9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978-6057-4412-BB4B-A62AC707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C43-7989-4F6F-99C4-ED20BC20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2B5-1B71-41BE-A219-895988B5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0519-4F47-4C5F-848F-20A2BBAE43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01DE-70AF-44AD-A0AA-803F9AD636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DRAFTSMN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5" name="Picture 4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14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1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22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8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9" name="Picture 4" descr="SHFTY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G00317_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803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802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801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54" name="Rectangle 5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8" descr="BOY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3521160" y="5227560"/>
            <a:ext cx="2849400" cy="604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>
              <a:gd name="textAreaLeft" fmla="*/ 0 w 4540320"/>
              <a:gd name="textAreaRight" fmla="*/ 4540320 w 454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>
              <a:gd name="textAreaLeft" fmla="*/ 0 w 640080"/>
              <a:gd name="textAreaRight" fmla="*/ 640440 w 640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AG00317_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4"/>
          <p:cNvCxnSpPr>
            <a:stCxn id="116" idx="4"/>
            <a:endCxn id="117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26" name="Freeform 15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4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3" name="Picture 4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4" name="Line 5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PINCBOX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OMPSSS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80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LANDS093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LANDS079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LANDS043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LANDS063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4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LEGION</cp:lastModifiedBy>
  <dcterms:modified xsi:type="dcterms:W3CDTF">2015-01-26T12:34:44Z</dcterms:modified>
  <cp:revision>11</cp:revision>
  <dc:subject/>
  <dc:title>Отрезок. Длина  отрезка.</dc:title>
</cp:coreProperties>
</file>