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2.gif" ContentType="image/gif"/>
  <Override PartName="/ppt/media/image12.wmf" ContentType="image/x-wmf"/>
  <Override PartName="/ppt/media/image7.wmf" ContentType="image/x-wmf"/>
  <Override PartName="/ppt/media/image18.jpeg" ContentType="image/jpeg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5.wmf" ContentType="image/x-wmf"/>
  <Override PartName="/ppt/media/image10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11.wmf" ContentType="image/x-wmf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10AC-AA6E-40D5-B936-65D4116C27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резок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лина  отрез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D679-F733-4FAA-9BBC-4C2CE1C2FA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бери и укажи правильный вариант от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00C0-553E-441D-8795-5C59BCAC99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бери и укажи правильный вариант от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5CED-A618-4791-A98C-A6EBFE369B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бери и укажи правильный вариант от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F8E7-D936-4A28-A145-733A24968A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211C-B3B8-4A42-9058-AF6D85A92A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рази длины отрез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омашнее 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№№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68;  7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8341-198D-423F-B537-51DCF5E00E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Старинные меры д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Косая сажен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(248 см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83BF-9ADB-4E2B-91BA-1ACE876FB6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Старинные меры д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Маховая сажен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( </a:t>
            </a: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176</a:t>
            </a: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 см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2C74-F443-43F3-A060-B14955266C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Старинные меры д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Локо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( 45 см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0EFF-78A9-4267-8100-EB3C99E1D0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Вопросы для повто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Выразите высоту терема , равную 3 косым сажен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Длину отреза полотна , равную 15 лок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Ширину горницы , равную 2 маховым саженям 3 лок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3DFD-7C26-4A8A-9181-FDB168BD46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Arial"/>
              </a:rPr>
              <a:t>Найдите правильные отве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F4C1-DFDA-42E5-9D16-F63094D8E8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ерсия двоеч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Отрезок – это геометрическая фигура. Он  состоит из двух  сторон А и В.  Он может быть бесконечным, может быть конечным. Его длина всегда одинакова и равна 5 сантиметрам.  Толщина  ж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    </a:t>
            </a: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его  зависит от условия  задачи. Во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    </a:t>
            </a: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его чертеж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7A22-571B-4DCD-A8D7-BBA9E169AB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996633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Часть прямой, ограниченная двумя точ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Точки М и К- концы отрез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Запись МК или К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3CFB-1A0F-499C-988E-A891124A9E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пределите, какие из точек лежат на отрезке АВ, а какие не леж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524F-FAE0-4E68-A8EA-4B5622B8B8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колько на рисунке отрезков?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апишите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7FCD-9A88-4FBB-BB1E-38C700A4F6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колько на рисунке отрезков?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апишите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AC4B-891A-4DF4-B942-8A5679D4C1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нструменты, необходимые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на уро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030D-34FA-477F-AABB-02184FA404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Единицы измерения д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EA68-2398-43F3-8298-DAC4D204B6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ертите отрезо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6 см 8 м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тьте на нем точку А так, чтобы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 = 4 см 3 мм. Чему равна длина отрезка 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BD1C-91D9-4A5D-B053-3B3773DB98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A3B1-EE32-43EB-87F8-2B698795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4A44-0E89-4B81-BD43-3739462E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7FE3-EFCE-43D0-9FD0-ED7E07E3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2E28-8C08-45C6-8D4B-107F8697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68B4-6ED3-4704-B502-A4E150F3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E6C7-E81A-43DC-A93F-351E1B9F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D7F7-7C0D-488F-A2DD-C4361444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D240-ADF0-4984-A87C-609EB6F2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D777-0E56-404E-A23F-594E5B2E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35DF-DE70-4B76-8946-7339F97C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722D-CD29-4090-9AD7-5BA4B54B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C369-66C0-41BB-8491-EBD60CC9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94C5-050F-4C57-962B-72D0349F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0AEF-0929-448B-B31A-0BA499CD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0153-C485-4D01-81EC-5A78DE88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B588-5F92-4B2E-88B2-B5D6260B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DDE5-F5A3-4072-843B-D393DF68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041E-E794-454E-81A2-5A0C4DB3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664E-3ADF-4D7E-AD10-BC76B336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D097-F8B5-4E06-B7DC-E1728EA1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AB21-626F-4E62-AB73-AF1AF39B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845B-95D4-4A9D-9F07-E82167D9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7890-B323-4DD2-9E7F-E8F48A8F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2DB7-5CEB-4C95-9460-E5F4C592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52D3-6CEB-4581-AC4F-699FAAECCF0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1E39-696D-4540-A5E8-DDED8E52E59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20000"/>
                </a:solidFill>
                <a:latin typeface="Times New Roman"/>
              </a:rPr>
              <a:t>Отрезок.</a:t>
            </a:r>
            <a:br>
              <a:rPr sz="5400"/>
            </a:br>
            <a:r>
              <a:rPr b="1" i="1" lang="ru-RU" sz="5400" spc="-1" strike="noStrike">
                <a:solidFill>
                  <a:srgbClr val="420000"/>
                </a:solidFill>
                <a:latin typeface="Times New Roman"/>
              </a:rPr>
              <a:t>Длина  отрезка.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4" name="Picture 4" descr="DRAFTSMN"/>
          <p:cNvPicPr/>
          <p:nvPr/>
        </p:nvPicPr>
        <p:blipFill>
          <a:blip r:embed="rId1"/>
          <a:stretch/>
        </p:blipFill>
        <p:spPr>
          <a:xfrm>
            <a:off x="5651640" y="1844640"/>
            <a:ext cx="3103560" cy="4218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1309680" y="4935600"/>
            <a:ext cx="333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МОУ СОШ №256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г. Фокино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5" name="Picture 4" descr="CRTN054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206" name="Oval 5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0 км 15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10015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1015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8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10150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9"/>
          <p:cNvSpPr/>
          <p:nvPr/>
        </p:nvSpPr>
        <p:spPr>
          <a:xfrm rot="20804400">
            <a:off x="4284360" y="4292640"/>
            <a:ext cx="2376360" cy="287280"/>
          </a:xfrm>
          <a:custGeom>
            <a:avLst/>
            <a:gdLst>
              <a:gd name="textAreaLeft" fmla="*/ 297000 w 2376360"/>
              <a:gd name="textAreaRight" fmla="*/ 2079360 w 2376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13" name="Picture 3" descr="CRTN054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214" name="Oval 4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км 7 д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070 д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0070 д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0007 д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8"/>
          <p:cNvSpPr/>
          <p:nvPr/>
        </p:nvSpPr>
        <p:spPr>
          <a:xfrm rot="777000">
            <a:off x="3708000" y="5300640"/>
            <a:ext cx="2376360" cy="287280"/>
          </a:xfrm>
          <a:custGeom>
            <a:avLst/>
            <a:gdLst>
              <a:gd name="textAreaLeft" fmla="*/ 297000 w 2376360"/>
              <a:gd name="textAreaRight" fmla="*/ 2079360 w 2376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21" name="Picture 3" descr="CRTN054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222" name="Oval 4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 м 2 дм 4 с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5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240 м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024 м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204 м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8"/>
          <p:cNvSpPr/>
          <p:nvPr/>
        </p:nvSpPr>
        <p:spPr>
          <a:xfrm rot="19248000">
            <a:off x="3132000" y="3789000"/>
            <a:ext cx="2376720" cy="287280"/>
          </a:xfrm>
          <a:custGeom>
            <a:avLst/>
            <a:gdLst>
              <a:gd name="textAreaLeft" fmla="*/ 297000 w 2376720"/>
              <a:gd name="textAreaRight" fmla="*/ 2079720 w 2376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0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Вырази длины отрезков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29" name="Picture 4" descr="SHFTY"/>
          <p:cNvPicPr/>
          <p:nvPr/>
        </p:nvPicPr>
        <p:blipFill>
          <a:blip r:embed="rId1"/>
          <a:stretch/>
        </p:blipFill>
        <p:spPr>
          <a:xfrm>
            <a:off x="7210440" y="620640"/>
            <a:ext cx="1933560" cy="24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"/>
          <p:cNvGraphicFramePr/>
          <p:nvPr/>
        </p:nvGraphicFramePr>
        <p:xfrm>
          <a:off x="179280" y="2133720"/>
          <a:ext cx="7705800" cy="4537080"/>
        </p:xfrm>
        <a:graphic>
          <a:graphicData uri="http://schemas.openxmlformats.org/drawingml/2006/table">
            <a:tbl>
              <a:tblPr/>
              <a:tblGrid>
                <a:gridCol w="3853080"/>
                <a:gridCol w="385272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  метрах.</a:t>
                      </a: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в  сантиметрах.</a:t>
                      </a: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риант.</a:t>
                      </a: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ариант</a:t>
                      </a: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 к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500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 км 250 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8920 д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7 км 5 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9 км 600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 м 3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010 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 км 100 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17 дм 5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9 м 8 д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7 км 7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0000"/>
                </a:solidFill>
                <a:latin typeface="Times New Roman"/>
              </a:rPr>
              <a:t>Домашнее  задание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26560" y="2924280"/>
            <a:ext cx="3754440" cy="101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№№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68;  7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AG00317_"/>
          <p:cNvPicPr/>
          <p:nvPr/>
        </p:nvPicPr>
        <p:blipFill>
          <a:blip r:embed="rId1"/>
          <a:stretch/>
        </p:blipFill>
        <p:spPr>
          <a:xfrm>
            <a:off x="4859280" y="1916280"/>
            <a:ext cx="3159360" cy="49417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0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withEffect" fill="hold" presetClass="entr" presetID="27">
                                  <p:stCondLst>
                                    <p:cond delay="1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725"/>
                            </p:stCondLst>
                            <p:childTnLst>
                              <p:par>
                                <p:cTn id="8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24000" y="2492280"/>
            <a:ext cx="388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Косая сажень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(248 см 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" descr="803"/>
          <p:cNvPicPr/>
          <p:nvPr/>
        </p:nvPicPr>
        <p:blipFill>
          <a:blip r:embed="rId1"/>
          <a:stretch/>
        </p:blipFill>
        <p:spPr>
          <a:xfrm>
            <a:off x="5219640" y="1484280"/>
            <a:ext cx="3246480" cy="514512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0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8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68360" y="2349360"/>
            <a:ext cx="4390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Маховая сажень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( </a:t>
            </a:r>
            <a:r>
              <a:rPr b="1" i="1" lang="en-US" sz="4400" spc="-1" strike="noStrike">
                <a:solidFill>
                  <a:srgbClr val="3366ff"/>
                </a:solidFill>
                <a:latin typeface="Times New Roman"/>
              </a:rPr>
              <a:t>176</a:t>
            </a: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 см 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7" descr="802"/>
          <p:cNvPicPr/>
          <p:nvPr/>
        </p:nvPicPr>
        <p:blipFill>
          <a:blip r:embed="rId1"/>
          <a:stretch/>
        </p:blipFill>
        <p:spPr>
          <a:xfrm>
            <a:off x="5037120" y="1916280"/>
            <a:ext cx="4106880" cy="49417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nodeType="clickEffect" fill="hold">
                      <p:stCondLst>
                        <p:cond delay="0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5" descr="801"/>
          <p:cNvPicPr/>
          <p:nvPr/>
        </p:nvPicPr>
        <p:blipFill>
          <a:blip r:embed="rId1"/>
          <a:stretch/>
        </p:blipFill>
        <p:spPr>
          <a:xfrm>
            <a:off x="5508720" y="1484280"/>
            <a:ext cx="3095640" cy="53737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1116000" y="2637000"/>
            <a:ext cx="3421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Локоть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( 45 см 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0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295280" y="9907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00"/>
                </a:solidFill>
                <a:latin typeface="Times New Roman"/>
              </a:rPr>
              <a:t>Вопросы для повторения.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533520" y="2209680"/>
            <a:ext cx="83055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Выразите высоту терема , равную 3 косым саженя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Длину отреза полотна , равную 15 локтя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Ширину горницы , равную 2 маховым саженям 3 локтя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0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3419640" y="2286000"/>
            <a:ext cx="52671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496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744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487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675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644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81840" y="765000"/>
            <a:ext cx="790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Найдите правильные ответы: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4572000" y="3068640"/>
            <a:ext cx="2743200" cy="2361960"/>
            <a:chOff x="4572000" y="3068640"/>
            <a:chExt cx="2743200" cy="2361960"/>
          </a:xfrm>
        </p:grpSpPr>
        <p:sp>
          <p:nvSpPr>
            <p:cNvPr id="254" name="Rectangle 5"/>
            <p:cNvSpPr/>
            <p:nvPr/>
          </p:nvSpPr>
          <p:spPr>
            <a:xfrm>
              <a:off x="4572000" y="306864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6"/>
            <p:cNvSpPr/>
            <p:nvPr/>
          </p:nvSpPr>
          <p:spPr>
            <a:xfrm>
              <a:off x="4572000" y="390672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7"/>
            <p:cNvSpPr/>
            <p:nvPr/>
          </p:nvSpPr>
          <p:spPr>
            <a:xfrm>
              <a:off x="4572000" y="474480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7" name="Picture 8" descr="BOY"/>
          <p:cNvPicPr/>
          <p:nvPr/>
        </p:nvPicPr>
        <p:blipFill>
          <a:blip r:embed="rId1"/>
          <a:stretch/>
        </p:blipFill>
        <p:spPr>
          <a:xfrm>
            <a:off x="228600" y="1844640"/>
            <a:ext cx="3078000" cy="47084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ерсия двоечника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-39924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Отрезок – это геометрическая фигура. Он  состоит из двух  сторон А и В.  Он может быть бесконечным, может быть конечным. Его длина всегда одинакова и равна 5 сантиметрам.  Толщина  же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    </a:t>
            </a: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его  зависит от условия  задачи. Во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    </a:t>
            </a: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его чертеж: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4"/>
          <p:cNvSpPr/>
          <p:nvPr/>
        </p:nvSpPr>
        <p:spPr>
          <a:xfrm>
            <a:off x="3521160" y="5227560"/>
            <a:ext cx="2849400" cy="60480"/>
          </a:xfrm>
          <a:custGeom>
            <a:avLst/>
            <a:gdLst>
              <a:gd name="textAreaLeft" fmla="*/ 0 w 2849400"/>
              <a:gd name="textAreaRight" fmla="*/ 2849760 w 284940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795" h="38">
                <a:moveTo>
                  <a:pt x="0" y="0"/>
                </a:moveTo>
                <a:lnTo>
                  <a:pt x="1795" y="38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reeform 5"/>
          <p:cNvSpPr/>
          <p:nvPr/>
        </p:nvSpPr>
        <p:spPr>
          <a:xfrm>
            <a:off x="6354720" y="5273640"/>
            <a:ext cx="1112760" cy="1096920"/>
          </a:xfrm>
          <a:custGeom>
            <a:avLst/>
            <a:gdLst>
              <a:gd name="textAreaLeft" fmla="*/ 0 w 1112760"/>
              <a:gd name="textAreaRight" fmla="*/ 1113120 w 111276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01" h="691">
                <a:moveTo>
                  <a:pt x="701" y="69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6"/>
          <p:cNvSpPr/>
          <p:nvPr/>
        </p:nvSpPr>
        <p:spPr>
          <a:xfrm>
            <a:off x="2911320" y="6384960"/>
            <a:ext cx="4540320" cy="198360"/>
          </a:xfrm>
          <a:custGeom>
            <a:avLst/>
            <a:gdLst>
              <a:gd name="textAreaLeft" fmla="*/ 0 w 4540320"/>
              <a:gd name="textAreaRight" fmla="*/ 4540320 w 454032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860" h="125">
                <a:moveTo>
                  <a:pt x="0" y="125"/>
                </a:moveTo>
                <a:lnTo>
                  <a:pt x="2860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7"/>
          <p:cNvSpPr/>
          <p:nvPr/>
        </p:nvSpPr>
        <p:spPr>
          <a:xfrm>
            <a:off x="2911320" y="5211720"/>
            <a:ext cx="640080" cy="1371600"/>
          </a:xfrm>
          <a:custGeom>
            <a:avLst/>
            <a:gdLst>
              <a:gd name="textAreaLeft" fmla="*/ 0 w 640080"/>
              <a:gd name="textAreaRight" fmla="*/ 640440 w 6400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403" h="864">
                <a:moveTo>
                  <a:pt x="403" y="0"/>
                </a:moveTo>
                <a:lnTo>
                  <a:pt x="0" y="864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8" descr="AG00317_"/>
          <p:cNvPicPr/>
          <p:nvPr/>
        </p:nvPicPr>
        <p:blipFill>
          <a:blip r:embed="rId1"/>
          <a:stretch/>
        </p:blipFill>
        <p:spPr>
          <a:xfrm>
            <a:off x="7256520" y="3905280"/>
            <a:ext cx="1887480" cy="29527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225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0000"/>
                </a:solidFill>
                <a:latin typeface="Times New Roman"/>
              </a:rPr>
              <a:t>Повторение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Oval 4"/>
          <p:cNvSpPr/>
          <p:nvPr/>
        </p:nvSpPr>
        <p:spPr>
          <a:xfrm flipV="1">
            <a:off x="4211640" y="4796640"/>
            <a:ext cx="144360" cy="120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5"/>
          <p:cNvSpPr/>
          <p:nvPr/>
        </p:nvSpPr>
        <p:spPr>
          <a:xfrm flipV="1">
            <a:off x="6948360" y="5299920"/>
            <a:ext cx="144720" cy="120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44080" y="1844640"/>
            <a:ext cx="66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1. Нарисуйте в тетради две точки.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46960" y="2349360"/>
            <a:ext cx="61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2. Обозначьте их буквами М и К.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637080" y="4437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7166160" y="508464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44440" y="2781360"/>
            <a:ext cx="88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3. Соедините точки М и К разными способами.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12"/>
          <p:cNvSpPr/>
          <p:nvPr/>
        </p:nvSpPr>
        <p:spPr>
          <a:xfrm>
            <a:off x="4282920" y="3581280"/>
            <a:ext cx="2438640" cy="1249560"/>
          </a:xfrm>
          <a:custGeom>
            <a:avLst/>
            <a:gdLst>
              <a:gd name="textAreaLeft" fmla="*/ 0 w 2438640"/>
              <a:gd name="textAreaRight" fmla="*/ 2439000 w 2438640"/>
              <a:gd name="textAreaTop" fmla="*/ 0 h 1249560"/>
              <a:gd name="textAreaBottom" fmla="*/ 1249920 h 1249560"/>
            </a:gdLst>
            <a:ahLst/>
            <a:rect l="textAreaLeft" t="textAreaTop" r="textAreaRight" b="textAreaBottom"/>
            <a:pathLst>
              <a:path w="1536" h="787">
                <a:moveTo>
                  <a:pt x="0" y="787"/>
                </a:moveTo>
                <a:lnTo>
                  <a:pt x="153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13"/>
          <p:cNvSpPr/>
          <p:nvPr/>
        </p:nvSpPr>
        <p:spPr>
          <a:xfrm>
            <a:off x="6705720" y="3565440"/>
            <a:ext cx="320400" cy="1752840"/>
          </a:xfrm>
          <a:custGeom>
            <a:avLst/>
            <a:gdLst>
              <a:gd name="textAreaLeft" fmla="*/ 0 w 320400"/>
              <a:gd name="textAreaRight" fmla="*/ 320760 w 32040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02" h="1104">
                <a:moveTo>
                  <a:pt x="202" y="110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14"/>
          <p:cNvCxnSpPr>
            <a:stCxn id="116" idx="4"/>
            <a:endCxn id="117" idx="4"/>
          </p:cNvCxnSpPr>
          <p:nvPr/>
        </p:nvCxnSpPr>
        <p:spPr>
          <a:xfrm flipH="1" rot="16200000">
            <a:off x="5399640" y="3680280"/>
            <a:ext cx="504000" cy="2737800"/>
          </a:xfrm>
          <a:prstGeom prst="curvedConnector5">
            <a:avLst>
              <a:gd name="adj1" fmla="val 302501"/>
              <a:gd name="adj2" fmla="val 50000"/>
              <a:gd name="adj3" fmla="val 302501"/>
            </a:avLst>
          </a:prstGeom>
          <a:ln w="38160">
            <a:solidFill>
              <a:srgbClr val="0000ff"/>
            </a:solidFill>
            <a:miter/>
          </a:ln>
        </p:spPr>
      </p:cxnSp>
      <p:sp>
        <p:nvSpPr>
          <p:cNvPr id="126" name="Freeform 15"/>
          <p:cNvSpPr/>
          <p:nvPr/>
        </p:nvSpPr>
        <p:spPr>
          <a:xfrm>
            <a:off x="4284720" y="4869000"/>
            <a:ext cx="2819520" cy="11649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1164960"/>
              <a:gd name="textAreaBottom" fmla="*/ 1165320 h 1164960"/>
            </a:gdLst>
            <a:ahLst/>
            <a:rect l="textAreaLeft" t="textAreaTop" r="textAreaRight" b="textAreaBottom"/>
            <a:pathLst>
              <a:path w="1776" h="734">
                <a:moveTo>
                  <a:pt x="0" y="0"/>
                </a:moveTo>
                <a:cubicBezTo>
                  <a:pt x="45" y="109"/>
                  <a:pt x="91" y="219"/>
                  <a:pt x="136" y="272"/>
                </a:cubicBezTo>
                <a:cubicBezTo>
                  <a:pt x="181" y="325"/>
                  <a:pt x="234" y="310"/>
                  <a:pt x="272" y="318"/>
                </a:cubicBezTo>
                <a:cubicBezTo>
                  <a:pt x="310" y="326"/>
                  <a:pt x="324" y="288"/>
                  <a:pt x="362" y="318"/>
                </a:cubicBezTo>
                <a:cubicBezTo>
                  <a:pt x="400" y="348"/>
                  <a:pt x="476" y="454"/>
                  <a:pt x="499" y="499"/>
                </a:cubicBezTo>
                <a:cubicBezTo>
                  <a:pt x="522" y="544"/>
                  <a:pt x="492" y="560"/>
                  <a:pt x="499" y="590"/>
                </a:cubicBezTo>
                <a:cubicBezTo>
                  <a:pt x="506" y="620"/>
                  <a:pt x="514" y="658"/>
                  <a:pt x="544" y="681"/>
                </a:cubicBezTo>
                <a:cubicBezTo>
                  <a:pt x="574" y="704"/>
                  <a:pt x="642" y="734"/>
                  <a:pt x="680" y="726"/>
                </a:cubicBezTo>
                <a:cubicBezTo>
                  <a:pt x="718" y="718"/>
                  <a:pt x="748" y="665"/>
                  <a:pt x="771" y="635"/>
                </a:cubicBezTo>
                <a:cubicBezTo>
                  <a:pt x="794" y="605"/>
                  <a:pt x="778" y="545"/>
                  <a:pt x="816" y="545"/>
                </a:cubicBezTo>
                <a:cubicBezTo>
                  <a:pt x="854" y="545"/>
                  <a:pt x="929" y="612"/>
                  <a:pt x="997" y="635"/>
                </a:cubicBezTo>
                <a:cubicBezTo>
                  <a:pt x="1065" y="658"/>
                  <a:pt x="1156" y="688"/>
                  <a:pt x="1224" y="681"/>
                </a:cubicBezTo>
                <a:cubicBezTo>
                  <a:pt x="1292" y="674"/>
                  <a:pt x="1323" y="598"/>
                  <a:pt x="1406" y="590"/>
                </a:cubicBezTo>
                <a:cubicBezTo>
                  <a:pt x="1489" y="582"/>
                  <a:pt x="1670" y="680"/>
                  <a:pt x="1723" y="635"/>
                </a:cubicBezTo>
                <a:cubicBezTo>
                  <a:pt x="1776" y="590"/>
                  <a:pt x="1715" y="378"/>
                  <a:pt x="1723" y="318"/>
                </a:cubicBezTo>
                <a:cubicBezTo>
                  <a:pt x="1731" y="258"/>
                  <a:pt x="1769" y="280"/>
                  <a:pt x="1769" y="272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16"/>
          <p:cNvSpPr/>
          <p:nvPr/>
        </p:nvSpPr>
        <p:spPr>
          <a:xfrm>
            <a:off x="4343400" y="4861080"/>
            <a:ext cx="2697120" cy="488880"/>
          </a:xfrm>
          <a:custGeom>
            <a:avLst/>
            <a:gdLst>
              <a:gd name="textAreaLeft" fmla="*/ 0 w 2697120"/>
              <a:gd name="textAreaRight" fmla="*/ 2697120 w 269712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1699" h="308">
                <a:moveTo>
                  <a:pt x="0" y="0"/>
                </a:moveTo>
                <a:lnTo>
                  <a:pt x="1699" y="308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5003640" y="3429000"/>
            <a:ext cx="367200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К - отрезок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8" descr="LINE_PT"/>
          <p:cNvPicPr/>
          <p:nvPr/>
        </p:nvPicPr>
        <p:blipFill>
          <a:blip r:embed="rId1"/>
          <a:stretch/>
        </p:blipFill>
        <p:spPr>
          <a:xfrm>
            <a:off x="6705720" y="1557360"/>
            <a:ext cx="2438280" cy="1447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9"/>
          <p:cNvSpPr/>
          <p:nvPr/>
        </p:nvSpPr>
        <p:spPr>
          <a:xfrm>
            <a:off x="0" y="3500280"/>
            <a:ext cx="46483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Часть прямой, ограниченная двумя точками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Точки М и К- концы отрезка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Запись МК или КМ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Определите, какие из точек лежат на отрезке АВ, а какие не лежат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3" name="Picture 4" descr="GROUNDHO"/>
          <p:cNvPicPr/>
          <p:nvPr/>
        </p:nvPicPr>
        <p:blipFill>
          <a:blip r:embed="rId1"/>
          <a:stretch/>
        </p:blipFill>
        <p:spPr>
          <a:xfrm>
            <a:off x="0" y="3154320"/>
            <a:ext cx="4140360" cy="3703680"/>
          </a:xfrm>
          <a:prstGeom prst="rect">
            <a:avLst/>
          </a:prstGeom>
          <a:ln w="0">
            <a:noFill/>
          </a:ln>
        </p:spPr>
      </p:pic>
      <p:sp>
        <p:nvSpPr>
          <p:cNvPr id="134" name="Line 5"/>
          <p:cNvSpPr/>
          <p:nvPr/>
        </p:nvSpPr>
        <p:spPr>
          <a:xfrm flipV="1">
            <a:off x="3708360" y="3068280"/>
            <a:ext cx="5040360" cy="18730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3635280" y="4869000"/>
            <a:ext cx="144720" cy="12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8675640" y="2997360"/>
            <a:ext cx="144360" cy="12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3421080" y="429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846144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4067280" y="321300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1"/>
          <p:cNvSpPr/>
          <p:nvPr/>
        </p:nvSpPr>
        <p:spPr>
          <a:xfrm>
            <a:off x="5003640" y="436572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12"/>
          <p:cNvSpPr/>
          <p:nvPr/>
        </p:nvSpPr>
        <p:spPr>
          <a:xfrm>
            <a:off x="8388360" y="378936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13"/>
          <p:cNvSpPr/>
          <p:nvPr/>
        </p:nvSpPr>
        <p:spPr>
          <a:xfrm>
            <a:off x="7885080" y="3284640"/>
            <a:ext cx="14436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14"/>
          <p:cNvSpPr/>
          <p:nvPr/>
        </p:nvSpPr>
        <p:spPr>
          <a:xfrm>
            <a:off x="6588000" y="558972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15"/>
          <p:cNvSpPr/>
          <p:nvPr/>
        </p:nvSpPr>
        <p:spPr>
          <a:xfrm>
            <a:off x="7093080" y="357336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06908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С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5005800" y="3789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М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7669800" y="278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О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6950160" y="306864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К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6518880" y="501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8319240" y="400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Сколько на рисунке отрезков?</a:t>
            </a:r>
            <a:br>
              <a:rPr sz="3600"/>
            </a:b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Запишите их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3" name="Picture 4" descr="SCRIBECO"/>
          <p:cNvPicPr/>
          <p:nvPr/>
        </p:nvPicPr>
        <p:blipFill>
          <a:blip r:embed="rId1"/>
          <a:stretch/>
        </p:blipFill>
        <p:spPr>
          <a:xfrm>
            <a:off x="0" y="1930320"/>
            <a:ext cx="3370320" cy="4927680"/>
          </a:xfrm>
          <a:prstGeom prst="rect">
            <a:avLst/>
          </a:prstGeom>
          <a:ln w="0">
            <a:noFill/>
          </a:ln>
        </p:spPr>
      </p:pic>
      <p:sp>
        <p:nvSpPr>
          <p:cNvPr id="154" name="Line 5"/>
          <p:cNvSpPr/>
          <p:nvPr/>
        </p:nvSpPr>
        <p:spPr>
          <a:xfrm flipV="1">
            <a:off x="4284720" y="3573360"/>
            <a:ext cx="3889440" cy="503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6"/>
          <p:cNvSpPr/>
          <p:nvPr/>
        </p:nvSpPr>
        <p:spPr>
          <a:xfrm>
            <a:off x="4206960" y="2438280"/>
            <a:ext cx="1614240" cy="3413160"/>
          </a:xfrm>
          <a:custGeom>
            <a:avLst/>
            <a:gdLst>
              <a:gd name="textAreaLeft" fmla="*/ 0 w 1614240"/>
              <a:gd name="textAreaRight" fmla="*/ 1614600 w 1614240"/>
              <a:gd name="textAreaTop" fmla="*/ 0 h 3413160"/>
              <a:gd name="textAreaBottom" fmla="*/ 3413520 h 3413160"/>
            </a:gdLst>
            <a:ahLst/>
            <a:rect l="textAreaLeft" t="textAreaTop" r="textAreaRight" b="textAreaBottom"/>
            <a:pathLst>
              <a:path w="1017" h="2150">
                <a:moveTo>
                  <a:pt x="0" y="2150"/>
                </a:moveTo>
                <a:lnTo>
                  <a:pt x="101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7"/>
          <p:cNvSpPr/>
          <p:nvPr/>
        </p:nvSpPr>
        <p:spPr>
          <a:xfrm>
            <a:off x="6904080" y="2743200"/>
            <a:ext cx="1325520" cy="3230640"/>
          </a:xfrm>
          <a:custGeom>
            <a:avLst/>
            <a:gdLst>
              <a:gd name="textAreaLeft" fmla="*/ 0 w 1325520"/>
              <a:gd name="textAreaRight" fmla="*/ 1325880 w 1325520"/>
              <a:gd name="textAreaTop" fmla="*/ 0 h 3230640"/>
              <a:gd name="textAreaBottom" fmla="*/ 3231000 h 3230640"/>
            </a:gdLst>
            <a:ahLst/>
            <a:rect l="textAreaLeft" t="textAreaTop" r="textAreaRight" b="textAreaBottom"/>
            <a:pathLst>
              <a:path w="835" h="2035">
                <a:moveTo>
                  <a:pt x="835" y="203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416560" y="4575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5294160" y="198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N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4213440" y="558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K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3853080" y="37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F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8102520" y="3068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D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500544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6879240" y="22766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M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8245440" y="54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Q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6878880" y="37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C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7"/>
          <p:cNvSpPr/>
          <p:nvPr/>
        </p:nvSpPr>
        <p:spPr>
          <a:xfrm>
            <a:off x="4788000" y="4724280"/>
            <a:ext cx="2879640" cy="192420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12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Сколько на рисунке отрезков?</a:t>
            </a:r>
            <a:br>
              <a:rPr sz="3600"/>
            </a:b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Запишите их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9" name="Picture 3" descr="SCRIBECO"/>
          <p:cNvPicPr/>
          <p:nvPr/>
        </p:nvPicPr>
        <p:blipFill>
          <a:blip r:embed="rId1"/>
          <a:stretch/>
        </p:blipFill>
        <p:spPr>
          <a:xfrm>
            <a:off x="0" y="1930320"/>
            <a:ext cx="3370320" cy="4927680"/>
          </a:xfrm>
          <a:prstGeom prst="rect">
            <a:avLst/>
          </a:prstGeom>
          <a:ln w="0">
            <a:noFill/>
          </a:ln>
        </p:spPr>
      </p:pic>
      <p:sp>
        <p:nvSpPr>
          <p:cNvPr id="170" name="Freeform 4"/>
          <p:cNvSpPr/>
          <p:nvPr/>
        </p:nvSpPr>
        <p:spPr>
          <a:xfrm>
            <a:off x="6888240" y="2073240"/>
            <a:ext cx="1844640" cy="2300400"/>
          </a:xfrm>
          <a:custGeom>
            <a:avLst/>
            <a:gdLst>
              <a:gd name="textAreaLeft" fmla="*/ 0 w 1844640"/>
              <a:gd name="textAreaRight" fmla="*/ 1845000 w 1844640"/>
              <a:gd name="textAreaTop" fmla="*/ 0 h 2300400"/>
              <a:gd name="textAreaBottom" fmla="*/ 2300760 h 2300400"/>
            </a:gdLst>
            <a:ahLst/>
            <a:rect l="textAreaLeft" t="textAreaTop" r="textAreaRight" b="textAreaBottom"/>
            <a:pathLst>
              <a:path w="1162" h="1449">
                <a:moveTo>
                  <a:pt x="0" y="0"/>
                </a:moveTo>
                <a:lnTo>
                  <a:pt x="1162" y="1449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5"/>
          <p:cNvSpPr/>
          <p:nvPr/>
        </p:nvSpPr>
        <p:spPr>
          <a:xfrm>
            <a:off x="4678200" y="3535200"/>
            <a:ext cx="2103480" cy="2468880"/>
          </a:xfrm>
          <a:custGeom>
            <a:avLst/>
            <a:gdLst>
              <a:gd name="textAreaLeft" fmla="*/ 0 w 2103480"/>
              <a:gd name="textAreaRight" fmla="*/ 2103840 w 2103480"/>
              <a:gd name="textAreaTop" fmla="*/ 0 h 2468880"/>
              <a:gd name="textAreaBottom" fmla="*/ 2469240 h 2468880"/>
            </a:gdLst>
            <a:ahLst/>
            <a:rect l="textAreaLeft" t="textAreaTop" r="textAreaRight" b="textAreaBottom"/>
            <a:pathLst>
              <a:path w="1325" h="1555">
                <a:moveTo>
                  <a:pt x="0" y="0"/>
                </a:moveTo>
                <a:lnTo>
                  <a:pt x="1325" y="1555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6"/>
          <p:cNvSpPr/>
          <p:nvPr/>
        </p:nvSpPr>
        <p:spPr>
          <a:xfrm>
            <a:off x="3995640" y="4373640"/>
            <a:ext cx="4721400" cy="855720"/>
          </a:xfrm>
          <a:custGeom>
            <a:avLst/>
            <a:gdLst>
              <a:gd name="textAreaLeft" fmla="*/ 0 w 4721400"/>
              <a:gd name="textAreaRight" fmla="*/ 4721760 w 4721400"/>
              <a:gd name="textAreaTop" fmla="*/ 0 h 855720"/>
              <a:gd name="textAreaBottom" fmla="*/ 856080 h 855720"/>
            </a:gdLst>
            <a:ahLst/>
            <a:rect l="textAreaLeft" t="textAreaTop" r="textAreaRight" b="textAreaBottom"/>
            <a:pathLst>
              <a:path w="2974" h="539">
                <a:moveTo>
                  <a:pt x="0" y="539"/>
                </a:moveTo>
                <a:lnTo>
                  <a:pt x="297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3978360" y="3551400"/>
            <a:ext cx="685800" cy="1676160"/>
          </a:xfrm>
          <a:custGeom>
            <a:avLst/>
            <a:gdLst>
              <a:gd name="textAreaLeft" fmla="*/ 0 w 685800"/>
              <a:gd name="textAreaRight" fmla="*/ 686160 w 68580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432" h="1056">
                <a:moveTo>
                  <a:pt x="0" y="1056"/>
                </a:moveTo>
                <a:lnTo>
                  <a:pt x="43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8"/>
          <p:cNvSpPr/>
          <p:nvPr/>
        </p:nvSpPr>
        <p:spPr>
          <a:xfrm>
            <a:off x="6765840" y="2103480"/>
            <a:ext cx="138240" cy="3870360"/>
          </a:xfrm>
          <a:custGeom>
            <a:avLst/>
            <a:gdLst>
              <a:gd name="textAreaLeft" fmla="*/ 0 w 138240"/>
              <a:gd name="textAreaRight" fmla="*/ 138240 w 138240"/>
              <a:gd name="textAreaTop" fmla="*/ 0 h 3870360"/>
              <a:gd name="textAreaBottom" fmla="*/ 3870720 h 3870360"/>
            </a:gdLst>
            <a:ahLst/>
            <a:rect l="textAreaLeft" t="textAreaTop" r="textAreaRight" b="textAreaBottom"/>
            <a:pathLst>
              <a:path w="87" h="2438">
                <a:moveTo>
                  <a:pt x="87" y="0"/>
                </a:moveTo>
                <a:lnTo>
                  <a:pt x="0" y="2438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6734160" y="580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6948360" y="177336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5653080" y="429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846108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6733800" y="4653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4285800" y="2997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3493800" y="501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6"/>
          <p:cNvSpPr/>
          <p:nvPr/>
        </p:nvSpPr>
        <p:spPr>
          <a:xfrm>
            <a:off x="3780000" y="1700280"/>
            <a:ext cx="2879640" cy="1923840"/>
          </a:xfrm>
          <a:prstGeom prst="irregularSeal1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14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20000"/>
                </a:solidFill>
                <a:latin typeface="Times New Roman"/>
              </a:rPr>
              <a:t>Инструменты, необходимые</a:t>
            </a:r>
            <a:br>
              <a:rPr sz="4000"/>
            </a:br>
            <a:r>
              <a:rPr b="1" i="1" lang="ru-RU" sz="4000" spc="-1" strike="noStrike">
                <a:solidFill>
                  <a:srgbClr val="420000"/>
                </a:solidFill>
                <a:latin typeface="Times New Roman"/>
              </a:rPr>
              <a:t> на уроке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85" name="Picture 4" descr="PINCBOX"/>
          <p:cNvPicPr/>
          <p:nvPr/>
        </p:nvPicPr>
        <p:blipFill>
          <a:blip r:embed="rId1"/>
          <a:stretch/>
        </p:blipFill>
        <p:spPr>
          <a:xfrm>
            <a:off x="826920" y="1989000"/>
            <a:ext cx="3938760" cy="4302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COMPSSS"/>
          <p:cNvPicPr/>
          <p:nvPr/>
        </p:nvPicPr>
        <p:blipFill>
          <a:blip r:embed="rId2"/>
          <a:stretch/>
        </p:blipFill>
        <p:spPr>
          <a:xfrm>
            <a:off x="5580000" y="1341360"/>
            <a:ext cx="2743200" cy="52578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826920" y="620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Единицы измерения длины.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659640" y="2637000"/>
            <a:ext cx="2286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с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м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к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д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806"/>
          <p:cNvPicPr/>
          <p:nvPr/>
        </p:nvPicPr>
        <p:blipFill>
          <a:blip r:embed="rId1"/>
          <a:stretch/>
        </p:blipFill>
        <p:spPr>
          <a:xfrm>
            <a:off x="0" y="1413000"/>
            <a:ext cx="4572000" cy="5445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1859040" cy="2286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6"/>
          <p:cNvSpPr/>
          <p:nvPr/>
        </p:nvSpPr>
        <p:spPr>
          <a:xfrm>
            <a:off x="6780960" y="1844640"/>
            <a:ext cx="130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 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5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7" descr="LANDS093"/>
          <p:cNvPicPr/>
          <p:nvPr/>
        </p:nvPicPr>
        <p:blipFill>
          <a:blip r:embed="rId1"/>
          <a:stretch/>
        </p:blipFill>
        <p:spPr>
          <a:xfrm>
            <a:off x="395280" y="404640"/>
            <a:ext cx="2808360" cy="2660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LANDS079"/>
          <p:cNvPicPr/>
          <p:nvPr/>
        </p:nvPicPr>
        <p:blipFill>
          <a:blip r:embed="rId2"/>
          <a:stretch/>
        </p:blipFill>
        <p:spPr>
          <a:xfrm>
            <a:off x="1979640" y="1484280"/>
            <a:ext cx="2952720" cy="2693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LANDS043"/>
          <p:cNvPicPr/>
          <p:nvPr/>
        </p:nvPicPr>
        <p:blipFill>
          <a:blip r:embed="rId3"/>
          <a:stretch/>
        </p:blipFill>
        <p:spPr>
          <a:xfrm>
            <a:off x="0" y="3068640"/>
            <a:ext cx="3348000" cy="3259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LANDS063"/>
          <p:cNvPicPr/>
          <p:nvPr/>
        </p:nvPicPr>
        <p:blipFill>
          <a:blip r:embed="rId4"/>
          <a:stretch/>
        </p:blipFill>
        <p:spPr>
          <a:xfrm>
            <a:off x="4284720" y="0"/>
            <a:ext cx="3273480" cy="28432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4"/>
          <p:cNvSpPr/>
          <p:nvPr/>
        </p:nvSpPr>
        <p:spPr>
          <a:xfrm>
            <a:off x="4788000" y="98100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км = 1000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4788000" y="177336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м = 10 дм = 100 с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4788000" y="256536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дм = 10 с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4788000" y="335772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см = 10 м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0" y="4437000"/>
            <a:ext cx="9144000" cy="208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чертите отрезок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= 6 см 8 мм.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метьте на нем точку А так, чтобы 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С = 4 см 3 мм. Чему равна длина отрезка 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6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7:27:52Z</dcterms:created>
  <dc:creator>Марина</dc:creator>
  <dc:description/>
  <dc:language>en-US</dc:language>
  <cp:lastModifiedBy>LEGION</cp:lastModifiedBy>
  <dcterms:modified xsi:type="dcterms:W3CDTF">2015-01-26T12:34:44Z</dcterms:modified>
  <cp:revision>11</cp:revision>
  <dc:subject/>
  <dc:title>Отрезок. Длина  отрезка.</dc:title>
</cp:coreProperties>
</file>